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EC7-BF21-4D88-92DF-9018869947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2F0E-3E5C-4537-80C5-AD901F7F24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753-EED2-4707-8870-9B481F0F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858-4AE1-4C0B-95C0-9BE07BD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0BF-72CA-4B53-A4A2-C852C1B6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501-81C1-4432-9394-66352C52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675C-A034-4D89-B478-DB74EFF2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2675-71C1-491F-A013-BE57B2AF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206D-0440-4A0A-B360-E612F0F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A53D-7C24-48EC-9B4D-A68ABEE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F9D-2C18-4DF1-95D8-8841836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E97-505C-474D-B195-B35EF022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DCF8-1DBE-48BC-B1F0-2CD3833D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2D2-7D71-4862-9D5F-40EA22D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D488-D7A3-4C47-B74D-BAF9A6A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2BFD-0B19-4E7B-803E-EEEE850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260C-AD78-4A29-A879-02CE171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BC3-8CF5-4CB8-A545-5F2DE89B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F22C-55AB-4F2C-96C8-1A4E2CB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72E-CD3E-45FF-B5CF-35206C41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C81-AADB-4596-8BBE-DED30F6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0EC-71AA-47FE-90CF-0F768E92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CD0-0319-4C15-8BEE-163519B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A2E-2E6D-494A-A1F4-E3FC8AA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C10-406E-4C0F-9FC1-4F4E001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685-08AD-4023-B351-46ED91B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CA16-6389-4489-9604-38A86F22B8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8D1-615E-48F9-8175-0DD236B2A04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Новые требования к структуре основной образовательной программы начального общего образова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5640" y="465264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 января 2010 года в действие вступил федеральный государственный образовательный стандарт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конкретизация общих целей начального общего образования с учётом специфики учебного предмет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еста учебного предмета в учебном пла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учебного 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ные, метапредметные, предметные результаты освоения конкретного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ое тематическое планирование с определением основных видов учебной деятельности обучаю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атериально-технического обеспечения для преподавания учебного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должна быть направлена на обеспечение духовно-нравственного развития в единстве урочной, внеурочной, внешкольной  деятельности, в совместной педагогической работе образовательного учреждения, семьи и других институтов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и урочной и внеурочной деятельности, направленные на расширение кругозора, развитие обще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ю с общечеловеческими ценностями мировой культуры, духовными ценностями отечественной культуры, нравственно-этическими ценностями многонационального народа России и народов других стр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ю у обучающихся ценностных ориентаций, гуманистического мировозрения, активной жизненной позиции, потребности в самореализации в твор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ю коммуникативных навыков, навыков самоорганиз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ю и расширению опыта позитивного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ю экологической куль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представляет собой комплексную программу формирования знаний, установок, личностных ориентиров и норм поведения, обеспечивающих сохранение и укрепление физического, психологического и социального здоровья обучающихся как одной из ценностных составляющих способствующих познавательному  и эмоциональному развитию ребёнка, достижению планируемых результатов освоения основной образовательной програ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установки на использование здорового пит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двигательных режимов для детей с учётом их возрастных, психологических и иных особ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рекомендуемого врачами режима дн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знаний негативных факторов риска здоровья детей (сниженная двигательная активность, курение, алкоголь, другие веще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овление навыков противостояния вовлечению в табакокурение и употребление алкоголя, других вещест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требности ребёнка безбоязненно обращаться к врачу по любым вопросам, связанным с особенностями роста и развития, состояния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основные направления  и цели оценочной деятельности, описание объекта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ть образовательный процесс на духовно-нравственное развитие и воспитание обучающихся, достижение планируемых результатов освоения содержания учебных предметов начального общего образования и формирование универсальных учебных действ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комплексный подход к оценке результатов освоения основной образовательной программы, позволяющий вести оценку предметных, метапредметных и личностных результатов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ть оценку достижений обучающихся (итоговая оценка обучающихся, освоивших основную образовательную программу) и оценку эффективности деятельности школ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ть вести оценку динамики учебных достижений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азделы основной образовательной программы начального общего образова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зисный учебный план начального обще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формирования универсальных учебных действий  у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е программы отдельных учебных предметов, курс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   Программа духовно-нравственного развития и воспитания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   Программа формирования  ценности здоровья и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   Система оценки достижения планируемых результатов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731520"/>
            <a:ext cx="818352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0000"/>
                </a:solidFill>
                <a:latin typeface="Times New Roman"/>
              </a:rPr>
              <a:t>Вариативные системы образования в начальной школе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38980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адиционная (инновационная)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Росс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развивающее образование младших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ическ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жизни, готовность к усвоению постоянно обновляющегося потока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ьная школа 21 ве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сновных компоненто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21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разование (комплекс цел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пективн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ое  развитие ребенка на основе поддержки его индивидуа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рмо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комфортных условий для развития ребенка в процессе усвоения знаний, умений и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715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азвивающее обучение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9816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Л.В. Занк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а  на  общее развитие ребенка через формирование общей картины ми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Д.Б. Эльконина-В.В. Давыд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школьников основы теоретического мышления, способности к самоизменению и саморазви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77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правления внеурочной деятельности, програм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612720" y="2491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835280" y="2565360"/>
            <a:ext cx="216036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культур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5148360" y="2565360"/>
            <a:ext cx="215892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ортивно-оздоров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6"/>
          <p:cNvSpPr/>
          <p:nvPr/>
        </p:nvSpPr>
        <p:spPr>
          <a:xfrm>
            <a:off x="6443640" y="1557360"/>
            <a:ext cx="216072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интеллекту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3348000" y="1557360"/>
            <a:ext cx="208764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ци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8"/>
          <p:cNvSpPr/>
          <p:nvPr/>
        </p:nvSpPr>
        <p:spPr>
          <a:xfrm>
            <a:off x="179280" y="1557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уховно-нравст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есятиугольник 14"/>
          <p:cNvSpPr/>
          <p:nvPr/>
        </p:nvSpPr>
        <p:spPr>
          <a:xfrm>
            <a:off x="-181080" y="2997360"/>
            <a:ext cx="2592360" cy="1944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Живая эти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есятиугольник 15"/>
          <p:cNvSpPr/>
          <p:nvPr/>
        </p:nvSpPr>
        <p:spPr>
          <a:xfrm>
            <a:off x="1403280" y="4508640"/>
            <a:ext cx="2592360" cy="201600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Чудеса апплика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Театральная студ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Мир вокального искусст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есятиугольник 17"/>
          <p:cNvSpPr/>
          <p:nvPr/>
        </p:nvSpPr>
        <p:spPr>
          <a:xfrm>
            <a:off x="3203640" y="3141720"/>
            <a:ext cx="2592360" cy="194292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Общественно-полезный тру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Умелые руч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есятиугольник 18"/>
          <p:cNvSpPr/>
          <p:nvPr/>
        </p:nvSpPr>
        <p:spPr>
          <a:xfrm>
            <a:off x="4932360" y="4653000"/>
            <a:ext cx="2592360" cy="194472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Подвижные игр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Разговор о правильном питан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Жизненные навы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Десятиугольник 19"/>
          <p:cNvSpPr/>
          <p:nvPr/>
        </p:nvSpPr>
        <p:spPr>
          <a:xfrm>
            <a:off x="6551640" y="3213000"/>
            <a:ext cx="2592360" cy="2016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Введение в мир професс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омпьютерное Лег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рай в котором я жив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Прямая со стрелкой 21"/>
          <p:cNvCxnSpPr/>
          <p:nvPr/>
        </p:nvCxnSpPr>
        <p:spPr>
          <a:xfrm flipH="1">
            <a:off x="1115280" y="242064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59" name="Прямая со стрелкой 25"/>
          <p:cNvCxnSpPr/>
          <p:nvPr/>
        </p:nvCxnSpPr>
        <p:spPr>
          <a:xfrm flipH="1">
            <a:off x="2700000" y="3573360"/>
            <a:ext cx="2160" cy="72144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/>
          <p:nvPr/>
        </p:nvCxnSpPr>
        <p:spPr>
          <a:xfrm flipH="1">
            <a:off x="4427280" y="2491920"/>
            <a:ext cx="2160" cy="578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/>
          <p:nvPr/>
        </p:nvCxnSpPr>
        <p:spPr>
          <a:xfrm flipH="1">
            <a:off x="6226920" y="3573000"/>
            <a:ext cx="2520" cy="794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2" name="Прямая со стрелкой 28"/>
          <p:cNvCxnSpPr/>
          <p:nvPr/>
        </p:nvCxnSpPr>
        <p:spPr>
          <a:xfrm flipH="1">
            <a:off x="7740000" y="256500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163" name="TextBox 31"/>
          <p:cNvSpPr/>
          <p:nvPr/>
        </p:nvSpPr>
        <p:spPr>
          <a:xfrm>
            <a:off x="108000" y="3357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Юный патрио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ребования к написанию пояснительной записки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 реализации основной образовательной программы, конкретизированные в соответствии с требованиями Стандарта к результатам освоения обучающимися основ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ы и подходы к формированию основной образовательной программы и состава участников образовательного процесса конкретного 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 характеристика основной образовательной программы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должны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0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связь между требованиями стандарта, образовательным процессом и системой оценок при промежуточной аттес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основой для разработки основных образовательных программ О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содержательной и критериальной основой  для разработки рабочих программ учебных предметов и учебно-методической литературы, а также для системы оценки качества освоения обучающимися основной образовательной программы в соответствии с требованиями Станда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труктура учебного плана образовательного учрежд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язательная ча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асть учебного плана, формируемая участниками образовательного процесс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бязательная часть учебного план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логия (русский язык, литературное чтение, иностранный язы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 (математика, информати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знание и естествознание (Окружающий м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религиозных культур и светской этики (православие, буддизм, иудаизм, основы культуры религий народов России, основы светской этики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о (музыка, изобразительное искусст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(технолог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ая культура (физическая культу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Часть учебного плана, формируемая участниками образовательного процесс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, отводимое на данную часть, может быть использов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величение учебных часов, отводимых на изучение отдельных учебных предметов обязательной ча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 учебных курсов, обеспечивающих различные интересы обучающихся, в том числе этнокультур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урочную дея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неурочная деятельност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я развития лич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о-нравств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интеллекту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культур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ы занят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ии, кружки, секции, круглые столы, конференции, диспуты, школьные научные общества, олимпиады, научные исследовани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универсальных учебных действий (УУД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образовани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универсальных учебных действий с содержанием учебных предм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личностных, регулятивных, познавательных, коммуникативных  УУД обуча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вые задачи формирования личностных, регулятивных, познавательных, коммуникативных  УУ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преемственности программы формирования УУД при переходе от дошкольного к начальному общему 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56:30Z</dcterms:created>
  <dc:creator>remih</dc:creator>
  <dc:description/>
  <dc:language>en-US</dc:language>
  <cp:lastModifiedBy>IGOR</cp:lastModifiedBy>
  <dcterms:modified xsi:type="dcterms:W3CDTF">2010-10-20T17:02:24Z</dcterms:modified>
  <cp:revision>51</cp:revision>
  <dc:subject/>
  <dc:title>Новые требования к структуре основной образовательной программы начального обще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