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DCE4-932E-4D4B-829E-C251E739A9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F660-2060-48C4-B980-8652CB669CC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5D7-3D96-4332-B388-D2C9CA34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4AC-3935-46D3-9976-69822EF4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A71-FCE4-4E0E-B205-EA28C497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F895-5FF2-4E6F-A023-068C419B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F6FA-2FE8-4171-B98B-5A26D9BC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FB82-7025-43ED-B183-538A3933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B26C-27D0-401F-AC7B-2DDFE7BE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6CE4-7830-43C6-8B04-BAF9B57A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3381-346B-4513-9775-B5A996BC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5484-7903-4DCF-916C-51FF3122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5A76-B985-4293-901D-9FA43DFE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F3C-12CA-4B05-A8EA-15D1FFE0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30F4-8E40-4DE7-AC88-860E4882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3948-4DE3-4330-8130-EC893C94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45AF-16AC-4ABA-BC72-1047C23A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299C-1185-47FB-A979-D976E56B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ED8E-B6FB-4E4B-A07A-094AC857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1862-DD30-4203-9D31-CB9C41BC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DF2F-5953-4649-84C4-DD9BC6BB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57CD-A0B9-429D-91C1-8DE9F39E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0B80-9CDE-4DFF-B8EE-23ADA9F2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BB8C-F4CF-493B-A1FD-E0FCDCE0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A37-5D0F-48EA-BF3D-170B52EB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4AE7-29C4-4699-99E8-46771537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BD87-22B3-4FFF-A7CF-AF8275FEE9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D7B2-BDF0-443B-BC91-74DCB0F04577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Новые требования к структуре основной образовательной программы начального общего образовани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55640" y="4652640"/>
            <a:ext cx="7696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 января 2010 года в действие вступил федеральный государственный образовательный стандарт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одержание рабочих программ учебных предметов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яснительная запис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конкретизация общих целей начального общего образования с учётом специфики учебного предмет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щая характеристика учебного предме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места учебного предмета в учебном план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ценностных ориентиров содержания учебного  предме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одержание рабочих программ учебных предметов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85200" indent="-3852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чностные, метапредметные, предметные результаты освоения конкретного учебного предме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держание учебного предме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ое тематическое планирование с определением основных видов учебной деятельности обучающихс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материально-технического обеспечения для преподавания учебного предме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Программа духовно-нравственного развития и воспитания обучающихся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а должна быть направлена на обеспечение духовно-нравственного развития в единстве урочной, внеурочной, внешкольной  деятельности, в совместной педагогической работе образовательного учреждения, семьи и других институтов обще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Программа духовно-нравственного развития и воспитания обучающихся должна содержать рекомендации по: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и урочной и внеурочной деятельности, направленные на расширение кругозора, развитие общей культур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знакомлению с общечеловеческими ценностями мировой культуры, духовными ценностями отечественной культуры, нравственно-этическими ценностями многонационального народа России и народов других стран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ю у обучающихся ценностных ориентаций, гуманистического мировозрения, активной жизненной позиции, потребности в самореализации в творческой деятельност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Программа духовно-нравственного развития и воспитания обучающихся должна содержать рекомендации по: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ю коммуникативных навыков, навыков самоорганизац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ю и расширению опыта позитивного взаимодействия с окружающим мир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анию экологической культу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Программа формирования ценности здоровья и здорового образа жизн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а представляет собой комплексную программу формирования знаний, установок, личностных ориентиров и норм поведения, обеспечивающих сохранение и укрепление физического, психологического и социального здоровья обучающихся как одной из ценностных составляющих способствующих познавательному  и эмоциональному развитию ребёнка, достижению планируемых результатов освоения основной образовательной программ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Программа формирования ценности здоровья и здорового образа жизни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установки на использование здорового пит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оптимальных двигательных режимов для детей с учётом их возрастных, психологических и иных особ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рекомендуемого врачами режима дня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Программа формирования ценности здоровья и здорового образа жизни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знаний негативных факторов риска здоровья детей (сниженная двигательная активность, курение, алкоголь, другие вещест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новление навыков противостояния вовлечению в табакокурение и употребление алкоголя, других вещест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потребности ребёнка безбоязненно обращаться к врачу по любым вопросам, связанным с особенностями роста и развития, состояния здоров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Оценка достижения планируемых результатов освоения основной образовательной программы должна: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реплять основные направления  и цели оценочной деятельности, описание объекта и содержание оценки, критерии, процедуры и состав инструментария оценивания, формы представления результатов, условия и границы применения системы оцен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иентировать образовательный процесс на духовно-нравственное развитие и воспитание обучающихся, достижение планируемых результатов освоения содержания учебных предметов начального общего образования и формирование универсальных учебных действ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Оценка достижения планируемых результатов освоения основной образовательной программы должна: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вать комплексный подход к оценке результатов освоения основной образовательной программы, позволяющий вести оценку предметных, метапредметных и личностных результатов начального общего образ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сматривать оценку достижений обучающихся (итоговая оценка обучающихся, освоивших основную образовательную программу) и оценку эффективности деятельности школ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волять вести оценку динамики учебных достижений обучающих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Разделы основной образовательной программы начального общего образовани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362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снительная запис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нируемые результаты освоения обучающимися основной образовательной программы началь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зисный учебный план начального общего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.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а формирования универсальных учебных действий  у обучающихся на ступени началь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.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чие программы отдельных учебных предметов, курс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   Программа духовно-нравственного развития и воспитания обучающихся на ступени началь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   Программа формирования  ценности здоровья и здорового образа жизн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   Система оценки достижения планируемых результатов освоения обучающимися основной образовательной программы началь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731520"/>
            <a:ext cx="8183520" cy="7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20000"/>
                </a:solidFill>
                <a:latin typeface="Times New Roman"/>
              </a:rPr>
              <a:t>Вариативные системы образования в начальной школе</a:t>
            </a:r>
            <a:endParaRPr b="0" lang="en-US" sz="3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389800" cy="5040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радиционная (инновационная) шко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а Росс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развивающее образование младших школь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ассическая начальная школ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ка к жизни, готовность к усвоению постоянно обновляющегося потока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альная школа 21 век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основных компонентов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а 210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ое образование (комплекс целе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спективная начальная школ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мальное  развитие ребенка на основе поддержки его индивидуа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армо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комфортных условий для развития ребенка в процессе усвоения знаний, умений и навы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77151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Развивающее обучение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198160"/>
            <a:ext cx="8229600" cy="3932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тельная система Л.В. Занкова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авлена  на  общее развитие ребенка через формирование общей картины ми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тельная система Д.Б. Эльконина-В.В. Давыдова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ть у школьников основы теоретического мышления, способности к самоизменению и саморазвит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77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Направления внеурочной деятельности, программ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612720" y="249192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Скругленный прямоугольник 4"/>
          <p:cNvSpPr/>
          <p:nvPr/>
        </p:nvSpPr>
        <p:spPr>
          <a:xfrm>
            <a:off x="1835280" y="2565360"/>
            <a:ext cx="2160360" cy="8650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щекультур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Скругленный прямоугольник 5"/>
          <p:cNvSpPr/>
          <p:nvPr/>
        </p:nvSpPr>
        <p:spPr>
          <a:xfrm>
            <a:off x="5148360" y="2565360"/>
            <a:ext cx="2158920" cy="8650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портивно-оздоровите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Скругленный прямоугольник 6"/>
          <p:cNvSpPr/>
          <p:nvPr/>
        </p:nvSpPr>
        <p:spPr>
          <a:xfrm>
            <a:off x="6443640" y="1557360"/>
            <a:ext cx="2160720" cy="86364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щеинтеллектуа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Скругленный прямоугольник 7"/>
          <p:cNvSpPr/>
          <p:nvPr/>
        </p:nvSpPr>
        <p:spPr>
          <a:xfrm>
            <a:off x="3348000" y="1557360"/>
            <a:ext cx="2087640" cy="86364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циа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Скругленный прямоугольник 8"/>
          <p:cNvSpPr/>
          <p:nvPr/>
        </p:nvSpPr>
        <p:spPr>
          <a:xfrm>
            <a:off x="179280" y="1557360"/>
            <a:ext cx="2089080" cy="86364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уховно-нравствен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Десятиугольник 14"/>
          <p:cNvSpPr/>
          <p:nvPr/>
        </p:nvSpPr>
        <p:spPr>
          <a:xfrm>
            <a:off x="-181080" y="2997360"/>
            <a:ext cx="2592360" cy="1944360"/>
          </a:xfrm>
          <a:prstGeom prst="pie">
            <a:avLst/>
          </a:prstGeom>
          <a:solidFill>
            <a:srgbClr val="cc66ff">
              <a:alpha val="59000"/>
            </a:srgbClr>
          </a:solidFill>
          <a:ln w="28440">
            <a:solidFill>
              <a:srgbClr val="953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Живая эти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Десятиугольник 15"/>
          <p:cNvSpPr/>
          <p:nvPr/>
        </p:nvSpPr>
        <p:spPr>
          <a:xfrm>
            <a:off x="1403280" y="4508640"/>
            <a:ext cx="2592360" cy="2016000"/>
          </a:xfrm>
          <a:prstGeom prst="pie">
            <a:avLst/>
          </a:prstGeom>
          <a:solidFill>
            <a:srgbClr val="006600">
              <a:alpha val="59000"/>
            </a:srgbClr>
          </a:solidFill>
          <a:ln w="28440">
            <a:solidFill>
              <a:srgbClr val="953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«Чудеса аппликаци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«Театральная студия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«Мир вокального искусств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Десятиугольник 17"/>
          <p:cNvSpPr/>
          <p:nvPr/>
        </p:nvSpPr>
        <p:spPr>
          <a:xfrm>
            <a:off x="3203640" y="3141720"/>
            <a:ext cx="2592360" cy="1942920"/>
          </a:xfrm>
          <a:prstGeom prst="pie">
            <a:avLst/>
          </a:prstGeom>
          <a:solidFill>
            <a:srgbClr val="cc66ff">
              <a:alpha val="59000"/>
            </a:srgbClr>
          </a:solidFill>
          <a:ln w="28440">
            <a:solidFill>
              <a:srgbClr val="953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Общественно-полезный труд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Умелые ручк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Десятиугольник 18"/>
          <p:cNvSpPr/>
          <p:nvPr/>
        </p:nvSpPr>
        <p:spPr>
          <a:xfrm>
            <a:off x="4932360" y="4653000"/>
            <a:ext cx="2592360" cy="1944720"/>
          </a:xfrm>
          <a:prstGeom prst="pie">
            <a:avLst/>
          </a:prstGeom>
          <a:solidFill>
            <a:srgbClr val="006600">
              <a:alpha val="59000"/>
            </a:srgbClr>
          </a:solidFill>
          <a:ln w="28440">
            <a:solidFill>
              <a:srgbClr val="953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ctr">
            <a:noAutofit/>
          </a:bodyPr>
          <a:p>
            <a:pPr algn="ctr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«Подвижные игр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«Разговор о правильном питани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«Жизненные навык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Десятиугольник 19"/>
          <p:cNvSpPr/>
          <p:nvPr/>
        </p:nvSpPr>
        <p:spPr>
          <a:xfrm>
            <a:off x="6551640" y="3213000"/>
            <a:ext cx="2592360" cy="2016360"/>
          </a:xfrm>
          <a:prstGeom prst="pie">
            <a:avLst/>
          </a:prstGeom>
          <a:solidFill>
            <a:srgbClr val="cc66ff">
              <a:alpha val="59000"/>
            </a:srgbClr>
          </a:solidFill>
          <a:ln w="28440">
            <a:solidFill>
              <a:srgbClr val="953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Введение в мир профессий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Компьютерное Лег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Край в котором я живу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Прямая со стрелкой 21"/>
          <p:cNvCxnSpPr/>
          <p:nvPr/>
        </p:nvCxnSpPr>
        <p:spPr>
          <a:xfrm flipH="1">
            <a:off x="1115280" y="2420640"/>
            <a:ext cx="1080" cy="577080"/>
          </a:xfrm>
          <a:prstGeom prst="straightConnector1">
            <a:avLst/>
          </a:prstGeom>
          <a:ln w="63360">
            <a:solidFill>
              <a:srgbClr val="9900cc"/>
            </a:solidFill>
            <a:miter/>
            <a:tailEnd len="med" type="arrow" w="med"/>
          </a:ln>
        </p:spPr>
      </p:cxnSp>
      <p:cxnSp>
        <p:nvCxnSpPr>
          <p:cNvPr id="159" name="Прямая со стрелкой 25"/>
          <p:cNvCxnSpPr/>
          <p:nvPr/>
        </p:nvCxnSpPr>
        <p:spPr>
          <a:xfrm flipH="1">
            <a:off x="2700000" y="3573360"/>
            <a:ext cx="2160" cy="721440"/>
          </a:xfrm>
          <a:prstGeom prst="straightConnector1">
            <a:avLst/>
          </a:prstGeom>
          <a:ln w="63360">
            <a:solidFill>
              <a:srgbClr val="9900cc"/>
            </a:solidFill>
            <a:miter/>
            <a:tailEnd len="med" type="arrow" w="med"/>
          </a:ln>
        </p:spPr>
      </p:cxnSp>
      <p:cxnSp>
        <p:nvCxnSpPr>
          <p:cNvPr id="160" name="Прямая со стрелкой 26"/>
          <p:cNvCxnSpPr/>
          <p:nvPr/>
        </p:nvCxnSpPr>
        <p:spPr>
          <a:xfrm flipH="1">
            <a:off x="4427280" y="2491920"/>
            <a:ext cx="2160" cy="578520"/>
          </a:xfrm>
          <a:prstGeom prst="straightConnector1">
            <a:avLst/>
          </a:prstGeom>
          <a:ln w="63360">
            <a:solidFill>
              <a:srgbClr val="9900cc"/>
            </a:solidFill>
            <a:miter/>
            <a:tailEnd len="med" type="arrow" w="med"/>
          </a:ln>
        </p:spPr>
      </p:cxnSp>
      <p:cxnSp>
        <p:nvCxnSpPr>
          <p:cNvPr id="161" name="Прямая со стрелкой 27"/>
          <p:cNvCxnSpPr/>
          <p:nvPr/>
        </p:nvCxnSpPr>
        <p:spPr>
          <a:xfrm flipH="1">
            <a:off x="6226920" y="3573000"/>
            <a:ext cx="2520" cy="794520"/>
          </a:xfrm>
          <a:prstGeom prst="straightConnector1">
            <a:avLst/>
          </a:prstGeom>
          <a:ln w="63360">
            <a:solidFill>
              <a:srgbClr val="9900cc"/>
            </a:solidFill>
            <a:miter/>
            <a:tailEnd len="med" type="arrow" w="med"/>
          </a:ln>
        </p:spPr>
      </p:cxnSp>
      <p:cxnSp>
        <p:nvCxnSpPr>
          <p:cNvPr id="162" name="Прямая со стрелкой 28"/>
          <p:cNvCxnSpPr/>
          <p:nvPr/>
        </p:nvCxnSpPr>
        <p:spPr>
          <a:xfrm flipH="1">
            <a:off x="7740000" y="2565000"/>
            <a:ext cx="1080" cy="577080"/>
          </a:xfrm>
          <a:prstGeom prst="straightConnector1">
            <a:avLst/>
          </a:prstGeom>
          <a:ln w="63360">
            <a:solidFill>
              <a:srgbClr val="9900cc"/>
            </a:solidFill>
            <a:miter/>
            <a:tailEnd len="med" type="arrow" w="med"/>
          </a:ln>
        </p:spPr>
      </p:cxnSp>
      <p:sp>
        <p:nvSpPr>
          <p:cNvPr id="163" name="TextBox 31"/>
          <p:cNvSpPr/>
          <p:nvPr/>
        </p:nvSpPr>
        <p:spPr>
          <a:xfrm>
            <a:off x="108000" y="335772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Юный патриот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Требования к написанию пояснительной записки 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и реализации основной образовательной программы, конкретизированные в соответствии с требованиями Стандарта к результатам освоения обучающимися основной образовательной програм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ипы и подходы к формированию основной образовательной программы и состава участников образовательного процесса конкретного образовательного учрежд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ая характеристика основной образовательной программы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Планируемые результаты освоения обучающимися основной образовательной программы должны: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50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вать связь между требованиями стандарта, образовательным процессом и системой оценок при промежуточной аттест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ться основой для разработки основных образовательных программ О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ться содержательной и критериальной основой  для разработки рабочих программ учебных предметов и учебно-методической литературы, а также для системы оценки качества освоения обучающимися основной образовательной программы в соответствии с требованиями Стандар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труктура учебного плана образовательного учреждени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язательная час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асть учебного плана, формируемая участниками образовательного процесс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Обязательная часть учебного план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лология (русский язык, литературное чтение, иностранный язык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матика (математика, информати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ознание и естествознание (Окружающий ми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ы религиозных культур и светской этики (православие, буддизм, иудаизм, основы культуры религий народов России, основы светской этики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усство (музыка, изобразительное искусств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(технолог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ая культура (физическая культур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Часть учебного плана, формируемая участниками образовательного процесса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я, отводимое на данную часть, может быть использован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увеличение учебных часов, отводимых на изучение отдельных учебных предметов обязательной ча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ние учебных курсов, обеспечивающих различные интересы обучающихся, в том числе этнокультурны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урочную деятель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неурочная деятельность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правления развития лич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уховно-нравствен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иаль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еинтеллектуаль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екультур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ы занят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курсии, кружки, секции, круглые столы, конференции, диспуты, школьные научные общества, олимпиады, научные исследовани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Программа формирования универсальных учебных действий (УУД)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ценностных ориентиров содержания образования на ступени началь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язь универсальных учебных действий с содержанием учебных предм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истики личностных, регулятивных, познавательных, коммуникативных  УУД обучаю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овые задачи формирования личностных, регулятивных, познавательных, коммуникативных  УУ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преемственности программы формирования УУД при переходе от дошкольного к начальному общему образова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06:56:30Z</dcterms:created>
  <dc:creator>remih</dc:creator>
  <dc:description/>
  <dc:language>en-US</dc:language>
  <cp:lastModifiedBy>IGOR</cp:lastModifiedBy>
  <dcterms:modified xsi:type="dcterms:W3CDTF">2010-10-20T17:02:24Z</dcterms:modified>
  <cp:revision>51</cp:revision>
  <dc:subject/>
  <dc:title>Новые требования к структуре основной образовательной программы начального общего образов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