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1C1-C49F-4E50-9EA4-77CDE48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6E2-51FC-477F-BA84-FA3CBEB5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B58-4F2B-416A-A3B7-AE2F2CDC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49E-E742-46A9-B3E9-D78B7AD7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A11-BC83-4216-9D66-5FFD3414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CC4-CD78-45C8-8A2D-36D8491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539C-7292-4534-ADD8-00CDB3E1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7773-9A01-4901-A0A1-21A82BE6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005-A1CF-4FAB-BC1E-FBCD36A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284B-8DED-42D4-90EC-B384FA4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9A09-09A6-4939-8D5F-0395BC2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A55-8480-4C86-8A17-709A294C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4193-26DD-4C21-AE0B-5B40AE5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915-11BE-42A8-B4F2-D2F2429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3482-4ED3-4A61-B65A-847A723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B26F-6EB7-4860-AAD0-71B7FEC8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E245-A3AA-480A-929A-FA971DF2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07A-D589-4934-89EA-768F772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0A5-7C84-41C2-A441-8A92D29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7E3-C215-4D2F-90AC-51A1F671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766-31AA-417B-8FF0-B71D89FC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7B8-CCED-40FD-AFFB-A45445E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912-A4CC-4BDD-88BD-6A84D3C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0B3-DB24-4CC9-B4E9-894C792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58E-F4CA-4812-95B9-4FA870265BE7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0D4-7258-46FE-9572-DB92F0F5EC2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B259-179F-49C9-A874-7D29069F5989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958-0378-41EF-B87B-E935744D737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PromtImperial"/>
              </a:rPr>
              <a:t>Мои первые кни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Советы малыш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B687-7619-486F-8F94-4FACE4E9EF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олоб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598920" cy="3962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Жили-были дед да баба. Испекли они однажды колобок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DF0-AC2F-471A-A88E-053BE8DBB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бабушки ушел, от дедушки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т тебя, Заяц, тоже уйд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554-5357-4BDE-9A08-61287C3570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зайц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зайца уш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Волк, уй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ьше покатился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21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8AA-AD04-48C5-AFFD-B7F5B84AF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волк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От тебя, медведь, подавно уйду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339084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72C-B03E-4B70-A96E-41B367B931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медведя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от медведя уш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лиса уйду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06B-1ACC-4FD5-B21B-E2FCCBF985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лисы ушел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Лиса ему и говор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Что-то я тебя совсем не слышу, сядь ко мне на нос и спой ешё раз. Так Колобок и сделал. Только он петь начал, а Лиса его – ам! – и съ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2A9-27BD-4628-B9CB-6A95643A2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самые любимые стихи были написаны такими замечательными авторами, как С.Я Маршак, С.С. Михалков, И.П. Токмакова, В.В. Маяковский, К.И. Чуков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AA1-B1BA-4933-8A30-CC486E6BBA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Я. Марша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Взгляни на маленьких совят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лютки рядышком си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не спят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е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едят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не сп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C22-BB45-4BBE-A72F-3811C8C33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С. Михалк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у вас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лавочке сид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улицу глядел, Толя пел, Борис молч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ногой качал. Дело было вечером, Делать было нече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264-6C33-4DE2-9A2F-B61BBD0873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И.П. Токмако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ичья кошк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мени нет у не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выбитого окош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ое ей тут жить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лодно ей и сыр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кошки лапа бо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А взять ее в кварти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едка мне не ве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BBF-1D14-4FBF-B225-512740E10D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ие бывают документ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в мире существует множество различных документов. Среди них: книги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VD-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 (или дис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7371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B88-DE4C-47C8-86AD-903666D36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.В. Мая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ошка-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 отцу при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спросила крох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рош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лох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B25-98F1-402B-83A4-5FE418E5CC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.И. Чу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раканищ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хали медвед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елосипед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ко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ом наперёд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 комар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оздушном шари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ра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хромой соба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AE1-8384-484A-84DE-65015FA28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ассказ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когда ты стал немного постарше, тебе стали читать (или даже уже ты сам себе читал) рассказы про забавных животных и про своих ровесни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F97-9C1E-47BA-A8FB-306A8A2263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Н.Н. Нос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яка ты успел прочесть такие книжки автора, как «Приключения Незнайки и его друзей», «Незнайка на Луне» и «Незнайка в Солнечном город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5CC-DC57-4A50-BC21-5B1B3CCFC5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М.М. Пришви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автор в своих книгах «В краю напуганных птиц» и рассказах «Зверь-бурундук» и «Лисичкин хлеб» пишет, как ты догадался, про наших меньших братьев – звер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B0F-275F-4362-ADA8-8BBAB19483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Э.Н. Успен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339732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рена, ты не раз смотрел мультфильмы «Дядя Фёдор, Пёс и Кот», «Чебурашка и его друзья», «Крокодил Гена в отпуске». А ведь именно Э.Успенский написал книжки и сценарии к ни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FF6-9CD5-4A04-BF4B-F0A5AC7E3F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Любимые книжки на дисках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ты можешь прочитать любые рассказы, сказки и даже стихи на дисках. Они очень легкие и не занимают много м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пом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очень долго за компьютером сидеть нельзя – надо давать передышку своим глаз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98B-2760-40E3-A9FF-58C399FF30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удь бережливым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для того, чтобы книжки и диски смог читать не только ты, нужно бережно к ним относ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535B-1D9A-4EF3-BB25-270FFFDC189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книгу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рисуй в книж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ырывай и не мни странич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загибай уголки страниц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для того, чтобы вспомнить, где ты закончил читать, используй закладку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Испорченная%20книга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1073160" cy="1752480"/>
          </a:xfrm>
          <a:prstGeom prst="rect">
            <a:avLst/>
          </a:prstGeom>
          <a:ln w="0">
            <a:noFill/>
          </a:ln>
        </p:spPr>
      </p:pic>
      <p:pic>
        <p:nvPicPr>
          <p:cNvPr id="191" name="Восстановленная%20книга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084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6BF-1117-486E-BED9-638D8AF8475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2743200" cy="170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1981080"/>
            <a:ext cx="2327400" cy="1676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гни и не ломай дис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царапай ег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, чтобы диск прослужил тебе долго, храни его в специальной коробке или конвер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680-18ED-483C-868E-10E489BCB83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ниг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а – это печатное издание в виде переплетённых вместе листов с каким-либо текс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S00554_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3276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8E9-BFB4-48D5-8BA0-BE6DA54B5B9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елись с другом!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я этим несложным правилам, ты дашь возможность своим друзьям прочесть твои любимые кни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86200" y="3657600"/>
            <a:ext cx="1968480" cy="2286000"/>
            <a:chOff x="3886200" y="3657600"/>
            <a:chExt cx="1968480" cy="22860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886200" y="3657600"/>
              <a:ext cx="1968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3886200" y="3657600"/>
              <a:ext cx="19684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533520" indent="-533520" algn="ctr">
                <a:spcBef>
                  <a:spcPts val="700"/>
                </a:spcBef>
                <a:buClr>
                  <a:srgbClr val="996633"/>
                </a:buClr>
                <a:buSzPct val="95000"/>
                <a:buFont typeface="Wingdings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E04-B239-419B-8192-23EC75698A61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 – это носитель данных, записываемых и воспроизводимых с помощью компьютеров и лазерных проигрыв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33526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BCA-6106-4BA7-B301-3FB1F26F91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, рассказы, сказк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4114440"/>
            <a:ext cx="7626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окументах хранится разная информация, в том числе тексты ваших любимых сказок, рассказов, стихотво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TL_Barto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536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1905120"/>
            <a:ext cx="1592280" cy="2400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327672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B52-5E0B-4B46-8946-66A34D5D0D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6633"/>
                </a:solidFill>
                <a:latin typeface="Times New Roman"/>
              </a:rPr>
              <a:t>Сказки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мнишь, какие сказки читала тебе мама, когда укладывала тебя сп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D17-EA8F-458F-BAC0-AAC0B54ED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еп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садил дед репку. Выросла Репка большая-пребольшая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шь, кто помог вытащить Реп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7846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387-9E58-4899-8908-0EEB6F439D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урочка Ряб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Снесла Курочка яичко. Но не простое,  а золотое. Бил дед, бил, да не разбил. Била баба – не разбила»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 чем закончилась эта сказка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255-ED51-4BD8-9CE8-56BA4AAA1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ерем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Ехал мужик с горшками и потерял один горшок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, кто поселился в том Теремке и почему он все-таки разрушил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908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0D5-207A-4CC0-8135-71977513E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Акулич</cp:lastModifiedBy>
  <dcterms:modified xsi:type="dcterms:W3CDTF">2006-12-13T21:11:13Z</dcterms:modified>
  <cp:revision>21</cp:revision>
  <dc:subject/>
  <dc:title>Презентация PowerPoint</dc:title>
</cp:coreProperties>
</file>