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7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0A9-AC2A-4CAE-A57B-0318FE85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870-C0C1-4747-85E4-6CADDC31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775-0693-479C-A7EB-8CBF3C95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D4C-1BF7-455A-B511-CE81A9D0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29D5-677A-42B2-A0A6-DD471106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5710-9771-41D5-BB7D-F13DE61D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1E1A-1534-413A-A418-33045AAF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8BDD-C84C-4B39-B231-13708EBB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A6AB-EAE7-4131-B109-9DC047B7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FB39-0E5C-48DE-BB30-8BD37EA9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F413-52EB-4DB2-B8DE-B617E059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781-4AA1-441E-83EA-78835CBB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A101-7A3C-4380-BBDA-3B5A7319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93B0-85AC-4E04-9EE7-ED53C04D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5B72-B090-4130-AA68-F57C1749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8450-7E15-4D19-894A-BCBAD917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9C09-00EB-42D4-8CAB-CF10D039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B2C-9D0B-4BD1-8235-371A6C4D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AB5-C4C0-498A-8E59-C522977B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FB8-7B95-4365-903C-0F313852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6F6-04D2-4F8F-B5A2-9FF2FF34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6D2-6ED4-4FFC-A0E8-E81FC551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704-FB9A-4C97-946E-6419830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165-572F-4CD1-98E1-E40DB424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9633-67A7-4485-8547-2A01D0A3722F}" type="datetime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D94C-E298-4200-B622-5B8726E087B1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6461-9046-40DE-986F-A5DE3359FB7D}" type="datetime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D318-A66A-434C-BD5C-B01096A9C16C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PromtImperial"/>
              </a:rPr>
              <a:t>Мои первые книг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imes New Roman"/>
              </a:rPr>
              <a:t>Советы малыш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9D8E-07FD-49DB-8A6C-D488AFD3D5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олобо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3598920" cy="39625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Жили-были дед да баба. Испекли они однажды колобок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колобок, колобок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по коробу скребен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По сусеку метен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На сметане мешон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Да в масле пряжон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На окошке стужон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611-1F76-47D4-A961-F9B7B8692F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бабушки ушел, от дедушки уше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колобок, колоб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по коробу скребе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По сусеку мете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На сметане меш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Да в масле пряжо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На окошке стуж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дедушки уше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бабушки уше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от тебя, Заяц, тоже уйду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C22-701B-49A3-B6C0-7C643202AC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зайца уше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Я от дед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Я от баб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Я от зайца уше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 тебя, Волк, уй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дальше покатился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321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26C-87BD-4CC8-AC08-229EC606A2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волка уше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дед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баб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зайца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волка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От тебя, медведь, подавно уйду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486400" y="2362320"/>
            <a:ext cx="3390840" cy="32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71F-5FC9-482D-8CC4-F27E36DA3F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медведя уше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дед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бабушки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зайца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Я от волка у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от медведя уш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 тебя, лиса уйду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0BB-3C57-4EEA-B3F8-A426A90EAC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От лисы ушел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Лиса ему и говор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Что-то я тебя совсем не слышу, сядь ко мне на нос и спой ешё раз. Так Колобок и сделал. Только он петь начал, а Лиса его – ам! – и съ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C5F-AB2D-47C8-AFA6-49F31389C1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тих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и самые любимые стихи были написаны такими замечательными авторами, как С.Я Маршак, С.С. Михалков, И.П. Токмакова, В.В. Маяковский, К.И. Чуковск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856-BE39-4558-9B6B-04CCD5BAD7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.Я. Марша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Взгляни на маленьких совят -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лютки рядышком сидят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гда не спят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Они едят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гда едят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Они не спят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880-4219-458D-B13A-78E705B8E5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.С. Михалк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то у вас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 лавочке сид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 улицу глядел, Толя пел, Борис молча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ногой качал. Дело было вечером, Делать было нечег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4FA-9E33-4E68-A926-9D2C3C1175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И.П. Токмаков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ничья кошка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мени нет у не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У выбитого окошк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кое ей тут жить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Холодно ей и сыр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У кошки лапа болит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А взять ее в квартир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седка мне не велит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8DD-99C6-4612-9A20-5D419D1380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ие бывают документ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годня в мире существует множество различных документов. Среди них: книги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VD-RO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 (или диск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73716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5E0-B0AB-458E-A746-7D9DDBB9DB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.В. Маяковский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Крошка-сы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к отцу прише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и спросила крох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- Что так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хорош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и что так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лох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5CD-FBFC-47E0-9C05-BC0CD96715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.И. Чуковский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раканище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хали медвед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велосипед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за ними ко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ом наперёд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за ним комари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воздушном шарик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за ними ра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хромой соба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174-C07C-4F5B-8610-0D7910D11C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Рассказ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когда ты стал немного постарше, тебе стали читать (или даже уже ты сам себе читал) рассказы про забавных животных и про своих ровесник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5CC-C854-401A-AA42-090F2B55B6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Н.Н. Нос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верняка ты успел прочесть такие книжки автора, как «Приключения Незнайки и его друзей», «Незнайка на Луне» и «Незнайка в Солнечном городе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84E-8184-440E-B737-D7FD72EDA5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М.М. Пришвин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т автор в своих книгах «В краю напуганных птиц» и рассказах «Зверь-бурундук» и «Лисичкин хлеб» пишет, как ты догадался, про наших меньших братьев – звер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55C-A98E-4D45-90FC-0061C4B2CE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Э.Н. Успенский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3397320" cy="4114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рена, ты не раз смотрел мультфильмы «Дядя Фёдор, Пёс и Кот», «Чебурашка и его друзья», «Крокодил Гена в отпуске». А ведь именно Э.Успенский написал книжки и сценарии к ни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16E-0B66-458F-AFE0-A02AEDD177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Любимые книжки на дисках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годня ты можешь прочитать любые рассказы, сказки и даже стихи на дисках. Они очень легкие и не занимают много ме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лько пом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очень долго за компьютером сидеть нельзя – надо давать передышку своим глаз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BBB-8B43-489B-B233-8B53EBFF29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Будь бережливым!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для того, чтобы книжки и диски смог читать не только ты, нужно бережно к ним относитьс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ACFE-0E2E-43A7-92E4-7910078F59D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 беречь книгу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79600" y="3809880"/>
            <a:ext cx="76262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рисуй в книжк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вырывай и не мни странич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загибай уголки страниц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для того, чтобы вспомнить, где ты закончил читать, используй закладку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Испорченная%20книга" descr=""/>
          <p:cNvPicPr/>
          <p:nvPr/>
        </p:nvPicPr>
        <p:blipFill>
          <a:blip r:embed="rId2"/>
          <a:stretch/>
        </p:blipFill>
        <p:spPr>
          <a:xfrm>
            <a:off x="2743200" y="1905120"/>
            <a:ext cx="1073160" cy="1752480"/>
          </a:xfrm>
          <a:prstGeom prst="rect">
            <a:avLst/>
          </a:prstGeom>
          <a:ln w="0">
            <a:noFill/>
          </a:ln>
        </p:spPr>
      </p:pic>
      <p:pic>
        <p:nvPicPr>
          <p:cNvPr id="191" name="Восстановленная%20книга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10843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D99-9EB7-4043-B6F9-BD4735620AA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ак беречь дис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2743200" cy="1704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715000" y="1981080"/>
            <a:ext cx="2327400" cy="16765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79600" y="3809880"/>
            <a:ext cx="76262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гни и не ломай диск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царапай ег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того, чтобы диск прослужил тебе долго, храни его в специальной коробке или конверт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914-30CC-4F98-87CA-BED59BC135E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ниг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га – это печатное издание в виде переплетённых вместе листов с каким-либо текс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S00554_" descr=""/>
          <p:cNvPicPr/>
          <p:nvPr/>
        </p:nvPicPr>
        <p:blipFill>
          <a:blip r:embed="rId2"/>
          <a:stretch/>
        </p:blipFill>
        <p:spPr>
          <a:xfrm>
            <a:off x="1828800" y="2743200"/>
            <a:ext cx="327672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992-BDDA-4B7A-8D68-D01FB7AC60C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Делись с другом!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я этим несложным правилам, ты дашь возможность своим друзьям прочесть твои любимые кни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886200" y="3657600"/>
            <a:ext cx="1968480" cy="2286000"/>
            <a:chOff x="3886200" y="3657600"/>
            <a:chExt cx="1968480" cy="22860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3886200" y="3657600"/>
              <a:ext cx="19684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 txBox="1"/>
            <p:nvPr/>
          </p:nvSpPr>
          <p:spPr>
            <a:xfrm>
              <a:off x="3886200" y="3657600"/>
              <a:ext cx="196848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533520" indent="-533520" algn="ctr">
                <a:spcBef>
                  <a:spcPts val="700"/>
                </a:spcBef>
                <a:buClr>
                  <a:srgbClr val="996633"/>
                </a:buClr>
                <a:buSzPct val="95000"/>
                <a:buFont typeface="Wingdings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34B-F1B0-41E0-81CD-933A02A76F87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Дис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к – это носитель данных, записываемых и воспроизводимых с помощью компьютеров и лазерных проигрывате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3352680" cy="25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D85-3E48-470C-9889-68D6797795A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Стихи, рассказы, сказк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4114440"/>
            <a:ext cx="7626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документах хранится разная информация, в том числе тексты ваших любимых сказок, рассказов, стихотвор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TL_Barto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153684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162920" y="1905120"/>
            <a:ext cx="1592280" cy="2400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581280" y="2362320"/>
            <a:ext cx="327672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A485-7BE7-40FC-AC08-C442FB54A2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6633"/>
                </a:solidFill>
                <a:latin typeface="Times New Roman"/>
              </a:rPr>
              <a:t>Сказки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мнишь, какие сказки читала тебе мама, когда укладывала тебя сп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DBE-1E11-438A-89AF-63D1C6D136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Репк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садил дед репку. Выросла Репка большая-пребольшая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ишь, кто помог вытащить Репк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27846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763-7826-40FD-A97B-FFC607B088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урочка Ряб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Снесла Курочка яичко. Но не простое,  а золотое. Бил дед, бил, да не разбил. Била баба – не разбила»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 чем закончилась эта сказка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4E4-664C-43ED-AB73-B1498035F8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Теремо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Ехал мужик с горшками и потерял один горшок»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помни, кто поселился в том Теремке и почему он все-таки разрушил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69040" y="1981080"/>
            <a:ext cx="33908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3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2BA-E478-4A99-B3AB-37848FA111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 Акулич</cp:lastModifiedBy>
  <dcterms:modified xsi:type="dcterms:W3CDTF">2006-12-13T21:11:13Z</dcterms:modified>
  <cp:revision>21</cp:revision>
  <dc:subject/>
  <dc:title>Презентация PowerPoint</dc:title>
</cp:coreProperties>
</file>