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2F1-324C-4392-9E1C-6DBCFB4D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8A7-0894-4257-BA23-59AE2F71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82A-5C4C-4733-A30C-E75D6D30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682-4EEF-4267-9A1C-F1FC7972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6431-D5E5-40FA-9679-BD3F26A5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57A3-8256-41EB-BF7A-E30F40D1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B19F-9582-4C3F-B7D5-41C6C0A1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4BA9-AD53-4507-BC17-F2A331E0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3A72-963E-42B4-B2C5-C6654A9E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87AF-9365-4C5D-A89C-49FB430E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5E25-AEB2-48E3-9134-D9CF89B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603-652E-4CE4-8D66-FCD3C4C1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88E9-3C8F-4F06-A7AF-0E9142BE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40A-2241-4305-B834-1E08F6D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FA02-0001-4C21-9248-FDB7C735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3B6A-3CF5-4501-86BA-DCB51242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FE3B-0931-4891-A4EC-B71D17E8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8C2-7716-449F-9E1D-D22FB315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BE6-4DF1-4355-A78A-71F68A60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EB4-E5FC-4830-B811-71476C84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653-CFA0-4571-B81D-D2D34289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4F6-734D-49D7-99E7-6A8422B0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7DD-E196-4174-8365-47073CA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E5C-B138-4B47-A104-09546F5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13C3-2314-4122-B00C-BD63EB67CA80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F1EC-6A29-4288-BE24-F8A93E2C94E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243-7751-4265-AAD1-7D34EF352DC1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0C4D-5709-4A46-9BCD-66512867B21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PromtImperial"/>
              </a:rPr>
              <a:t>Мои первые книг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Советы малыш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4451-49A6-4143-B215-9E3B33BF1B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олобо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598920" cy="39625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Жили-были дед да баба. Испекли они однажды колобок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колобок, колобок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по коробу скребе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По сусеку мете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сметане мешон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Да в масле пряжо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окошке стужон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4FA-8DA7-4097-B296-97FC67205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бабушки ушел, от дедушки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колобок, колоб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по коробу скребе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По сусеку мете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сметане меш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Да в масле пряжо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окошке стуж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от тебя, Заяц, тоже уйду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8E2-F114-4C8C-849B-63F5E1B2AF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зайца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зайца уше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 тебя, Волк, уй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альше покатился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321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448-82AA-46B0-ABE3-69097BABB1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волка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зайц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волк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От тебя, медведь, подавно уйду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86400" y="2362320"/>
            <a:ext cx="3390840" cy="32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AE8-2D69-4706-8728-B67AA370F6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медведя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зайц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волк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от медведя уш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 тебя, лиса уйду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8B6-1623-46C1-A5C1-7C49242B7D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лисы ушел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Лиса ему и говор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Что-то я тебя совсем не слышу, сядь ко мне на нос и спой ешё раз. Так Колобок и сделал. Только он петь начал, а Лиса его – ам! – и съ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D37-B0C0-4840-8C5B-0539C00A65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тих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и самые любимые стихи были написаны такими замечательными авторами, как С.Я Маршак, С.С. Михалков, И.П. Токмакова, В.В. Маяковский, К.И. Чуков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255-DC5A-4B47-8645-60F39A224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.Я. Марша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Взгляни на маленьких совят 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лютки рядышком сид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гда не спят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и ед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гда едят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и не сп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D35-61D0-47EB-ABB6-D2C2D4C7C0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.С. Михалк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то у вас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лавочке сид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улицу глядел, Толя пел, Борис молч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ногой качал. Дело было вечером, Делать было нечег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839-623A-4FBE-8E2A-91C759921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И.П. Токмако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ичья кошка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мени нет у не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У выбитого окошк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ое ей тут жить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Холодно ей и сыр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У кошки лапа боли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А взять ее в кварти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седка мне не вели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51C-24F7-4F8B-ABD8-9C6A7B5A31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ие бывают документ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годня в мире существует множество различных документов. Среди них: книги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VD-R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 (или диск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7371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1FB-965D-4030-BC44-B83A77479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.В. Маяков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ошка-сы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к отцу при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спросила крох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Что так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хорош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что так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лох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9B2-CF74-4E94-80CD-ACCC73D2C0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.И. Чуков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раканищ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хали медвед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елосипед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и ко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ом наперёд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 комар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оздушном шари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и ра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хромой соба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A56-5571-4F21-83AE-E90EC6B96C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Рассказ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когда ты стал немного постарше, тебе стали читать (или даже уже ты сам себе читал) рассказы про забавных животных и про своих ровесник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04C-C2B2-4809-8DE3-7E37C1BBE8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Н.Н. Нос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ерняка ты успел прочесть такие книжки автора, как «Приключения Незнайки и его друзей», «Незнайка на Луне» и «Незнайка в Солнечном город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53A-7B6A-48BD-A6C0-8F22147CD5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М.М. Пришвин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автор в своих книгах «В краю напуганных птиц» и рассказах «Зверь-бурундук» и «Лисичкин хлеб» пишет, как ты догадался, про наших меньших братьев – звер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AA2-436E-411F-8E15-24E3A3CD1F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Э.Н. Успен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3397320" cy="4114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рена, ты не раз смотрел мультфильмы «Дядя Фёдор, Пёс и Кот», «Чебурашка и его друзья», «Крокодил Гена в отпуске». А ведь именно Э.Успенский написал книжки и сценарии к ни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F3C-3DF4-4DDF-8A03-62F360E636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Любимые книжки на дисках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ты можешь прочитать любые рассказы, сказки и даже стихи на дисках. Они очень легкие и не занимают много ме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ько пом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очень долго за компьютером сидеть нельзя – надо давать передышку своим глаз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A34-0AC8-4B5C-8406-B43F5B7208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Будь бережливым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для того, чтобы книжки и диски смог читать не только ты, нужно бережно к ним относить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4786-CAC0-4C7E-B4FF-D91EA989B23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беречь книгу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79600" y="3809880"/>
            <a:ext cx="7626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рисуй в книжк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ырывай и не мни странич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загибай уголки страниц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для того, чтобы вспомнить, где ты закончил читать, используй закладку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Испорченная%20книга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1073160" cy="1752480"/>
          </a:xfrm>
          <a:prstGeom prst="rect">
            <a:avLst/>
          </a:prstGeom>
          <a:ln w="0">
            <a:noFill/>
          </a:ln>
        </p:spPr>
      </p:pic>
      <p:pic>
        <p:nvPicPr>
          <p:cNvPr id="191" name="Восстановленная%20книга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0843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526-50D4-4C1B-9AFA-D04D7DD492C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беречь дис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2743200" cy="1704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715000" y="1981080"/>
            <a:ext cx="2327400" cy="1676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79600" y="3809880"/>
            <a:ext cx="7626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гни и не ломай диск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царапай ег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ого, чтобы диск прослужил тебе долго, храни его в специальной коробке или конверт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9D4-B3C1-45CB-BE46-96CABFAB294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ниг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а – это печатное издание в виде переплетённых вместе листов с каким-либо текс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S00554_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3276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749-714D-4509-80AA-5BDD18487AB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Делись с другом!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я этим несложным правилам, ты дашь возможность своим друзьям прочесть твои любимые кни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886200" y="3657600"/>
            <a:ext cx="1968480" cy="2286000"/>
            <a:chOff x="3886200" y="3657600"/>
            <a:chExt cx="1968480" cy="22860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3886200" y="3657600"/>
              <a:ext cx="19684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 txBox="1"/>
            <p:nvPr/>
          </p:nvSpPr>
          <p:spPr>
            <a:xfrm>
              <a:off x="3886200" y="3657600"/>
              <a:ext cx="196848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533520" indent="-533520" algn="ctr">
                <a:spcBef>
                  <a:spcPts val="700"/>
                </a:spcBef>
                <a:buClr>
                  <a:srgbClr val="996633"/>
                </a:buClr>
                <a:buSzPct val="95000"/>
                <a:buFont typeface="Wingdings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47B-2FC7-4DBF-99EE-27C4707A388C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Дис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 – это носитель данных, записываемых и воспроизводимых с помощью компьютеров и лазерных проигрыв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3352680" cy="25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38E-CB09-419E-BDD8-30B1F755B8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тихи, рассказы, сказк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4114440"/>
            <a:ext cx="7626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окументах хранится разная информация, в том числе тексты ваших любимых сказок, рассказов, стихотвор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TL_Barto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15368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62920" y="1905120"/>
            <a:ext cx="1592280" cy="2400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327672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84E-EF94-4801-BBF4-047B023160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6633"/>
                </a:solidFill>
                <a:latin typeface="Times New Roman"/>
              </a:rPr>
              <a:t>Сказки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мнишь, какие сказки читала тебе мама, когда укладывала тебя сп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F31-8103-45E7-B375-6EE259D0DA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Реп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садил дед репку. Выросла Репка большая-пребольшая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шь, кто помог вытащить Репк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7846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CC8-6CEB-4E23-BD9B-323D919EDC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урочка Ряб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Снесла Курочка яичко. Но не простое,  а золотое. Бил дед, бил, да не разбил. Била баба – не разбила»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 чем закончилась эта сказка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263-F29E-4995-86D0-B2B83BF7CA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Теремо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Ехал мужик с горшками и потерял один горшок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помни, кто поселился в том Теремке и почему он все-таки разрушил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3908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D8B-0D79-4FD7-B562-6705503713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 Акулич</cp:lastModifiedBy>
  <dcterms:modified xsi:type="dcterms:W3CDTF">2006-12-13T21:11:13Z</dcterms:modified>
  <cp:revision>21</cp:revision>
  <dc:subject/>
  <dc:title>Презентация PowerPoint</dc:title>
</cp:coreProperties>
</file>