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EAF-5E4C-493A-AA14-F268ACFA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E19-B7E7-4BFC-965B-442749E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662-0D6A-4BF1-95BC-0E6917CC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15E-EAFE-4E2C-ACAB-0087DF10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20B-7BFE-4ACB-891E-385E1D28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312-4CC0-42B4-BEEE-4A89CBE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ABF4-712A-40EF-9A80-1C5C28B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E499-9B11-40EB-B00B-F98A2CEE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C37F-E8BC-4470-8C08-4A5FF86E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85D-1405-449D-B60F-40AC896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40E0-B59F-4F45-AB99-A23D188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0F4-06BA-40A1-8C01-C1953740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1038-FF5F-4B36-A2FF-38991C4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D34C-5860-4F8D-A364-A0811EFB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0664-277E-48D6-A6E1-0BDADD3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C4D1-E027-4F7F-ADB8-497284B2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3933-38D2-4FCD-8436-3E82C7DF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AFA-97E2-4210-9876-9EF40FD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384-A6D5-4F84-BB71-AD2A9FA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175-1DBA-4F81-97B9-DEE0681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913-E823-425A-BAC0-A51A3EA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535-BDB3-4297-8F73-7D257CE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2DD-E9A8-43C1-AB69-C2201671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DB2-FE19-4E0F-8A58-B465F4C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A3F2-C23F-4AA8-AB9F-AC2406DF2C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C7C-84EC-48A2-9339-2BA18ED547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Доклад на тему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«Вневписанная окружность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72392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минация: матема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полни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ляда Валент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фонина Екатер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ы 9м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мназии № 2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ысшей категор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еснявых Елена Асланов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3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всех попарных произведений радиусов вневписанных окружностей равна квадрату полупериметра треугольника, т. е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9214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 ранее доказанных радиусов через стороны и площадь треугольни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став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формулы Герона следу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 – a)(p – b)(p – c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7640" y="2651040"/>
                <a:ext cx="325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43280" y="2724120"/>
                <a:ext cx="5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211640" y="2698920"/>
                <a:ext cx="5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2717640"/>
                <a:ext cx="7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95480" y="3639960"/>
                <a:ext cx="641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4403880"/>
                <a:ext cx="712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059280" y="5361120"/>
                <a:ext cx="50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87720" y="5997600"/>
                <a:ext cx="25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4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оизведение всех трех радиусов вневписанных окружностей равно произведению радиуса вписанной окружности на квадрат полупериметра треугольника,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ранее доказанных формул для радиусов и формулы Гер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97964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63528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92720" y="3073320"/>
                <a:ext cx="649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72360" y="3141720"/>
                <a:ext cx="24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47640" y="4653000"/>
                <a:ext cx="6337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отношению произведения всех трех радиусов вневписанных окружностей к полупериметру треугольника, т.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rp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 = Sp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ледовательно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32360" y="868320"/>
                <a:ext cx="1082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14800" y="3811680"/>
                <a:ext cx="1285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квадратному корню из произведения всех трех радиусов вневписанных окружностей и радиуса вписанной окружности, т.е.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ледствия 1, ч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и равенс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= p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ем, перемножая их почлен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Значи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55920" y="1050840"/>
                <a:ext cx="144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138560" y="23320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3480" y="3768840"/>
                <a:ext cx="230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51640" y="390528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 5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Величина, обратная высоте треугольника, опущенной на его данную сторону, равна полусумме величин, обратных радиусам вневписанных окружностей, касающихся двух других сторон треугольника, т.е</a:t>
            </a:r>
            <a:r>
              <a:rPr b="0" lang="ru-RU" sz="15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15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                                         ,                            ,  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952640" y="91440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46440" y="907920"/>
                <a:ext cx="115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81760" y="885960"/>
                <a:ext cx="122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132000" y="281448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580000" y="2781360"/>
                <a:ext cx="100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19280" y="4076640"/>
                <a:ext cx="604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92360" y="515772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356000" y="5084640"/>
                <a:ext cx="23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нные свойства позволили установить связь между радиусами вписанной и вневписанной окружностями, между радиусами вневписанной окружностью и площадью треугольника, между радиусами вневписанных окружностей и периметром треугольника. Данный материал выходит за рамки школьной программы и будет полезен учащимся увлеченным математи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3. Заключ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ведение.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1. Определение вневписанной окружности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Центр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асательная к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2. Формулы для вычисления радиусов вневписанных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Соотношение между радиусом вневписанной окружности 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Соотношение между радиусом вневписанной окружности, площадью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3. Некоторые соотношения с радиусами вневписанных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Выражение суммы радиусов вневписанных окружностей через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радиус вписанной окружности и радиус описанной окружност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Выражение суммы величин, обратных радиусам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, через величину обратную радиусу вписанных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3. Выражение суммы всех попарных произведений радиусов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невписанных окружностей через квадрат полупериметр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4. Выражение произведения радиусов вневписанных окружностей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через произведение радиуса вписанной окружности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вадрат полупериметра 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5. Выражение высоты треугольника через радиусы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ключение.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Библиография.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8000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Глава 1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кружность называетс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невписанной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в треугольник, если она касается одной из сторон треугольника и продолжений двух других сторон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1196360" y="6858000"/>
            <a:ext cx="755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23640" y="2205000"/>
            <a:ext cx="4824720" cy="3992400"/>
            <a:chOff x="2123640" y="2205000"/>
            <a:chExt cx="4824720" cy="3992400"/>
          </a:xfrm>
        </p:grpSpPr>
        <p:sp>
          <p:nvSpPr>
            <p:cNvPr id="97" name=""/>
            <p:cNvSpPr/>
            <p:nvPr/>
          </p:nvSpPr>
          <p:spPr>
            <a:xfrm>
              <a:off x="3068640" y="3317760"/>
              <a:ext cx="2879640" cy="2879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3640" y="2496960"/>
              <a:ext cx="221292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6280" y="2487240"/>
              <a:ext cx="260208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0280" y="3308040"/>
              <a:ext cx="1368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317760"/>
              <a:ext cx="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10080" y="3822120"/>
              <a:ext cx="107928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357360" y="3893400"/>
              <a:ext cx="1152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400000">
              <a:off x="3368160" y="385092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5040" y="332388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400000">
              <a:off x="5504400" y="3774960"/>
              <a:ext cx="71640" cy="7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7600" y="4662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7440" y="3024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4600" y="22050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800" y="3004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8764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29494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нтр вневписанной окружности в треугольник есть точка пересечения биссектрисы внутреннего угла треугольника, противолежащего той стороне треугольника, которой окружность касается, и биссектрис двух внешних углов треугольника (1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р. (О;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точки кас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 (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к. окружность касается сторон угла САК, то центр окружности О равноудален от сторон этого угла, следовательно, он лежит на биссектрисе угла САК. Аналогично, точка О лежит на биссектрисе угла А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Т. к. окружность касается прямых ВА и ВС, то она вписана в угол АВС, а значит её центр лежит на биссектрисе угла АВС. Ч.т. 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9440" y="2378160"/>
            <a:ext cx="72720" cy="73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49640" y="1920960"/>
            <a:ext cx="2376720" cy="2303280"/>
            <a:chOff x="4949640" y="1920960"/>
            <a:chExt cx="2376720" cy="2303280"/>
          </a:xfrm>
        </p:grpSpPr>
        <p:sp>
          <p:nvSpPr>
            <p:cNvPr id="119" name=""/>
            <p:cNvSpPr/>
            <p:nvPr/>
          </p:nvSpPr>
          <p:spPr>
            <a:xfrm flipH="1">
              <a:off x="4949640" y="2208240"/>
              <a:ext cx="99828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8000" y="2208240"/>
              <a:ext cx="1368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2560" y="27846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10360" y="2784600"/>
              <a:ext cx="1439640" cy="1439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1080" y="278460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031080" y="3138120"/>
              <a:ext cx="6109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300000">
              <a:off x="6558840" y="3090240"/>
              <a:ext cx="71280" cy="7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0000">
              <a:off x="5430600" y="3090600"/>
              <a:ext cx="71280" cy="7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410080" y="3134880"/>
              <a:ext cx="61128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2320" y="254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1920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7040" y="25700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6360" y="3449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4360" y="29289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3680" y="2911320"/>
              <a:ext cx="2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520" y="280260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029640" y="280548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0080" y="2205000"/>
              <a:ext cx="71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сстояние от вершины угла треугольника до точек касания вневписанной окружности со сторонами этого угла равны полупериметру данного треугольни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, чт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центр вневписа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. Касательные, прове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ные к окружности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точки, равны между соб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С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С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p = (AC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(AC + C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B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rot="20771400">
            <a:off x="5661000" y="298584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47760" y="1927080"/>
            <a:ext cx="3557880" cy="302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48120" y="4916880"/>
            <a:ext cx="5180400" cy="4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2840" y="3599640"/>
            <a:ext cx="3261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98440" y="4001760"/>
            <a:ext cx="907920" cy="22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7080" y="4002480"/>
            <a:ext cx="154080" cy="92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2720" y="3160800"/>
            <a:ext cx="502560" cy="84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772000">
            <a:off x="6048360" y="3164400"/>
            <a:ext cx="7272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171400">
            <a:off x="6669000" y="484740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771400">
            <a:off x="5703840" y="420696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48480" y="4003200"/>
            <a:ext cx="2658600" cy="94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9800" y="4002480"/>
            <a:ext cx="736560" cy="923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280" y="3597480"/>
            <a:ext cx="1062360" cy="405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2760" y="3335760"/>
            <a:ext cx="121320" cy="19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89640" y="392688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40680" y="4856760"/>
            <a:ext cx="105480" cy="17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92880" y="4880880"/>
            <a:ext cx="105840" cy="17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6080" y="448740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53080" y="453024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3200" y="3745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70828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771400">
            <a:off x="6243480" y="328536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71400">
            <a:off x="6559200" y="414252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71400">
            <a:off x="5843160" y="397584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4773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7160" y="3314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490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10887000">
            <a:off x="6586920" y="486864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407052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349360"/>
            <a:ext cx="71640" cy="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581360"/>
            <a:ext cx="647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45846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4734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2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. Касающейся сторон данного внутреннего угла треугольника, равен произведению полупериметра треугольника на тангенс половины этого угла, т. е.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длины катетов, уго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вен    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, поэтому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pt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    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77080" y="2421000"/>
            <a:ext cx="194292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0364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6592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7080" y="3429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4000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3600000">
            <a:off x="656136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000000">
            <a:off x="676296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7080" y="34210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364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77080" y="3429000"/>
            <a:ext cx="93492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2781360"/>
            <a:ext cx="934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272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236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0836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53000" y="425592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189000">
            <a:off x="521676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844800">
            <a:off x="5061240" y="1460880"/>
            <a:ext cx="433440" cy="2737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0384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7044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9600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472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27664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032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2480" y="4308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805800">
            <a:off x="511128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7368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556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964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13372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24360" y="1052640"/>
                <a:ext cx="287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48360" y="1052640"/>
                <a:ext cx="174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1052640"/>
                <a:ext cx="1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9480" y="4797360"/>
                <a:ext cx="27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28920" y="4749840"/>
                <a:ext cx="220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2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, касающейся данной стороны треугольника, равен отношению площади треугольника к разности полупериметра и этой стороны.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(3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мее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B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+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× (b + c – a) =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(p – a)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т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2100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5128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356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42900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8764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00000">
            <a:off x="630900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000000">
            <a:off x="651060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4210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5128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24360" y="3429000"/>
            <a:ext cx="935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781360"/>
            <a:ext cx="93528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15600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200640" y="4255920"/>
            <a:ext cx="14472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584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6189000">
            <a:off x="496440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844800">
            <a:off x="4808880" y="1460880"/>
            <a:ext cx="433440" cy="273672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5148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808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276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50120" y="4308480"/>
            <a:ext cx="576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805800">
            <a:off x="485892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2320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63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92360" y="108108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1081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0360" y="11066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8440" y="482616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67280" y="537372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3.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радиусов вневписанных окружностей равна сумме радиуса вписанной окружности и удвоенного диаметра описанной окружности, т. 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 + 4R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разим все радиусы через стороны, площадь и полупериметр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, 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r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+            +           -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                                       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=        =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79640" y="3141720"/>
                <a:ext cx="288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046320" y="3094200"/>
                <a:ext cx="57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389480" y="3078000"/>
                <a:ext cx="43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651640" y="3087720"/>
                <a:ext cx="57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20000" y="3065400"/>
                <a:ext cx="576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67280" y="4111560"/>
                <a:ext cx="72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48440" y="40831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4111560"/>
                <a:ext cx="647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51640" y="4121280"/>
                <a:ext cx="43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35280" y="4797360"/>
                <a:ext cx="482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3880" y="546588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62360" y="550692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 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умма величин, обратных радиусам вневписанных окружностей, равна величине, обратной радиусу вписанной окружности, т. е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пользуем выражения радиусов через стороны и площадь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       , R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42920" y="3284640"/>
                <a:ext cx="2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40000" y="3241800"/>
                <a:ext cx="5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95560" y="328464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3274920"/>
                <a:ext cx="574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2720" y="3274920"/>
                <a:ext cx="503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70400" y="836640"/>
                <a:ext cx="16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87280" y="4653000"/>
                <a:ext cx="640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7:51:47Z</dcterms:created>
  <dc:creator>Валя</dc:creator>
  <dc:description/>
  <dc:language>en-US</dc:language>
  <cp:lastModifiedBy>Валя</cp:lastModifiedBy>
  <dcterms:modified xsi:type="dcterms:W3CDTF">2008-04-22T08:12:13Z</dcterms:modified>
  <cp:revision>29</cp:revision>
  <dc:subject/>
  <dc:title>Вневписанная окружность</dc:title>
</cp:coreProperties>
</file>