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756-FD9F-4D2B-9171-00EED030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9C8-8A5A-4EF5-81E6-615B790D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3D0-452C-4D6F-841C-AF9CCD65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DFA-6A51-414A-B7DC-FBABF128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8CFD-D7D2-4C25-9589-CE470F6E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38B8-AAB0-4410-B85B-E18215CE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45DF-6795-4974-B5D8-0A1C9ED6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74AC-D038-469F-BDEE-24AB5719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64E5-D3A1-4E02-8D88-540030BD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E647-9499-4F58-B660-6DEF35E7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9154-78FB-41EE-A1B3-AEFAFF1D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802-13B2-43E1-B2B6-931AC4D9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8A51-2AF6-4015-9B94-5A554B09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5288-C489-42F3-BF5A-503C14F1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4206-FC70-4301-9459-4A3F2060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E66B-BA9A-450D-9C63-43E516D0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E66D-71D5-4316-962C-5AE303C5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F24-E2FF-4B77-99E9-1E1AD6A3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2E8-C44B-47A3-AAFA-275005F9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8905-8882-4E6E-A7EB-AE867A06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981-5930-4D05-AE26-D921DCE6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312-5937-46DA-886B-44CE9495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CBA-81CE-4CC4-98D1-E4AEF9B8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9E6-8532-4B3A-AE7E-3B8C075C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402F-8851-4C47-9B09-A0093F7BEE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1058-4C13-42F0-8E31-E9D6E38025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Доклад на тему: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«Вневписанная окружность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2920" y="2923920"/>
            <a:ext cx="7239240" cy="34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оминация: математи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ыполнил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оляда Валенти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Афонина Екатери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ченицы 9м класс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гимназии № 2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учный руководител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учитель высшей категор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леснявых Елена Асланов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6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3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умма всех попарных произведений радиусов вневписанных окружностей равна квадрату полупериметра треугольника, т. е.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71640" y="1827000"/>
            <a:ext cx="792144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спользуемся формулами ранее доказанных радиусов через стороны и площадь треугольник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 =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=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дстави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формулы Герона следу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p – a)(p – b)(p – c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этом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547640" y="2651040"/>
                <a:ext cx="3254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43280" y="2724120"/>
                <a:ext cx="576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211640" y="2698920"/>
                <a:ext cx="576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580000" y="2717640"/>
                <a:ext cx="719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095480" y="3639960"/>
                <a:ext cx="6416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87280" y="4403880"/>
                <a:ext cx="71298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3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059280" y="5361120"/>
                <a:ext cx="5029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087720" y="5997600"/>
                <a:ext cx="25923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4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роизведение всех трех радиусов вневписанных окружностей равно произведению радиуса вписанной окружности на квадрат полупериметра треугольника, т.е.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r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59456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 ранее доказанных формул для радиусов и формулы Геро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,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Тог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979640" y="306864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635280" y="306864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292720" y="3073320"/>
                <a:ext cx="64944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372360" y="3141720"/>
                <a:ext cx="244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47640" y="4653000"/>
                <a:ext cx="6337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едствие 1.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 Площадь треугольника равна отношению произведения всех трех радиусов вневписанных окружностей к полупериметру треугольника, т.е.</a:t>
            </a:r>
            <a:br>
              <a:rPr sz="1600"/>
            </a:b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                                           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ru-RU" sz="19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0" lang="en-US" sz="19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rp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×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 = Sp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ледовательно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032360" y="868320"/>
                <a:ext cx="10825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014800" y="3811680"/>
                <a:ext cx="12859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ледствие 2.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</a:rPr>
              <a:t> Площадь треугольника равна квадратному корню из произведения всех трех радиусов вневписанных окружностей и радиуса вписанной окружности, т.е.</a:t>
            </a:r>
            <a:br>
              <a:rPr sz="1600"/>
            </a:b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следствия 1, чт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и равенств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= pr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учаем, перемножая их почленн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Значи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255920" y="1050840"/>
                <a:ext cx="14400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138560" y="2332080"/>
                <a:ext cx="11509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833480" y="3768840"/>
                <a:ext cx="23068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651640" y="3905280"/>
                <a:ext cx="1368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600" spc="-1" strike="noStrike">
                <a:solidFill>
                  <a:srgbClr val="006666"/>
                </a:solidFill>
                <a:latin typeface="Arial"/>
                <a:ea typeface="Arial"/>
              </a:rPr>
              <a:t> 5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Величина, обратная высоте треугольника, опущенной на его данную сторону, равна полусумме величин, обратных радиусам вневписанных окружностей, касающихся двух других сторон треугольника, т.е</a:t>
            </a:r>
            <a:r>
              <a:rPr b="0" lang="ru-RU" sz="1500" spc="-1" strike="noStrike">
                <a:solidFill>
                  <a:srgbClr val="006666"/>
                </a:solidFill>
                <a:latin typeface="Arial"/>
              </a:rPr>
              <a:t>.</a:t>
            </a:r>
            <a:br>
              <a:rPr sz="1500"/>
            </a:br>
            <a:br>
              <a:rPr sz="1400"/>
            </a:br>
            <a:r>
              <a:rPr b="0" lang="ru-RU" sz="1400" spc="-1" strike="noStrike">
                <a:solidFill>
                  <a:srgbClr val="006666"/>
                </a:solidFill>
                <a:latin typeface="Arial"/>
              </a:rPr>
              <a:t>                                         ,                            ,   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спользуемся формул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начит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952640" y="914400"/>
                <a:ext cx="1440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3646440" y="907920"/>
                <a:ext cx="1152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5081760" y="885960"/>
                <a:ext cx="1223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с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3132000" y="2814480"/>
                <a:ext cx="1368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5580000" y="2781360"/>
                <a:ext cx="1009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619280" y="4076640"/>
                <a:ext cx="6048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92360" y="5157720"/>
                <a:ext cx="194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356000" y="5084640"/>
                <a:ext cx="2305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смотренные свойства позволили установить связь между радиусами вписанной и вневписанной окружностями, между радиусами вневписанной окружностью и площадью треугольника, между радиусами вневписанных окружностей и периметром треугольника. Данный материал выходит за рамки школьной программы и будет полезен учащимся увлеченным математик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3. Заключение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1640" y="1557000"/>
            <a:ext cx="7313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Введение.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сновная часть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Глава 1. Определение вневписанной окружности.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Центр вневписанной окружности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Касательная к вневписанной окружности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Глава 2. Формулы для вычисления радиусов вневписанных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1. Соотношение между радиусом вневписанной окружности и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периметром треугольник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2. Соотношение между радиусом вневписанной окружности, площадью и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периметром треугольник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Глава 3. Некоторые соотношения с радиусами вневписанных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1. Выражение суммы радиусов вневписанных окружностей через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радиус вписанной окружности и радиус описанной окружности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2. Выражение суммы величин, обратных радиусам вневписанных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, через величину обратную радиусу вписанных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3. Выражение суммы всех попарных произведений радиусов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вневписанных окружностей через квадрат полупериметра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треугольника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4. Выражение произведения радиусов вневписанных окружностей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через произведение радиуса вписанной окружности и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квадрат полупериметра треугольника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§ 5. Выражение высоты треугольника через радиусы вневписанных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окружностей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Заключение.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Библиография.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8000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9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9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5945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Глава 1.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Окружность называется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невписанной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в треугольник, если она касается одной из сторон треугольника и продолжений двух других сторон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1196360" y="6858000"/>
            <a:ext cx="755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23640" y="2205000"/>
            <a:ext cx="4824720" cy="3992400"/>
            <a:chOff x="2123640" y="2205000"/>
            <a:chExt cx="4824720" cy="3992400"/>
          </a:xfrm>
        </p:grpSpPr>
        <p:sp>
          <p:nvSpPr>
            <p:cNvPr id="97" name=""/>
            <p:cNvSpPr/>
            <p:nvPr/>
          </p:nvSpPr>
          <p:spPr>
            <a:xfrm>
              <a:off x="3068640" y="3317760"/>
              <a:ext cx="2879640" cy="2879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123640" y="2496960"/>
              <a:ext cx="2212920" cy="30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6280" y="2487240"/>
              <a:ext cx="2602080" cy="273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70280" y="3308040"/>
              <a:ext cx="136836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10080" y="3317760"/>
              <a:ext cx="0" cy="14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510080" y="3822120"/>
              <a:ext cx="1079280" cy="9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3357360" y="3893400"/>
              <a:ext cx="115272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400000">
              <a:off x="3368160" y="3850920"/>
              <a:ext cx="7128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5040" y="3323880"/>
              <a:ext cx="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8400000">
              <a:off x="5504400" y="3774960"/>
              <a:ext cx="71640" cy="7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87600" y="4662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57440" y="3024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14600" y="2205000"/>
              <a:ext cx="4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95800" y="30049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987640" y="3500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3160" y="29494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092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Центр вневписанной окружности в треугольник есть точка пересечения биссектрисы внутреннего угла треугольника, противолежащего той стороне треугольника, которой окружность касается, и биссектрис двух внешних углов треугольника (1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кр. (О;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,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 К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точки касан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ь (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. к. окружность касается сторон угла САК, то центр окружности О равноудален от сторон этого угла, следовательно, он лежит на биссектрисе угла САК. Аналогично, точка О лежит на биссектрисе угла АС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. Т. к. окружность касается прямых ВА и ВС, то она вписана в угол АВС, а значит её центр лежит на биссектрисе угла АВС. Ч.т. д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49440" y="2378160"/>
            <a:ext cx="72720" cy="730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284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949640" y="1920960"/>
            <a:ext cx="2376720" cy="2303280"/>
            <a:chOff x="4949640" y="1920960"/>
            <a:chExt cx="2376720" cy="2303280"/>
          </a:xfrm>
        </p:grpSpPr>
        <p:sp>
          <p:nvSpPr>
            <p:cNvPr id="119" name=""/>
            <p:cNvSpPr/>
            <p:nvPr/>
          </p:nvSpPr>
          <p:spPr>
            <a:xfrm flipH="1">
              <a:off x="4949640" y="2208240"/>
              <a:ext cx="998280" cy="172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58000" y="2208240"/>
              <a:ext cx="1368360" cy="180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2560" y="2784600"/>
              <a:ext cx="7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10360" y="2784600"/>
              <a:ext cx="1439640" cy="1439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31080" y="2784600"/>
              <a:ext cx="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6031080" y="3138120"/>
              <a:ext cx="61092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3300000">
              <a:off x="6558840" y="3090240"/>
              <a:ext cx="71280" cy="72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100000">
              <a:off x="5430600" y="3090600"/>
              <a:ext cx="71280" cy="73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5410080" y="3134880"/>
              <a:ext cx="61128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2320" y="254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84840" y="19209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77040" y="25700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86360" y="34495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94360" y="29289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67280" y="24922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73680" y="2911320"/>
              <a:ext cx="2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18520" y="2802600"/>
              <a:ext cx="396000" cy="68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029640" y="2805480"/>
              <a:ext cx="396000" cy="68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50080" y="2205000"/>
              <a:ext cx="7128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Расстояние от вершины угла треугольника до точек касания вневписанной окружности со сторонами этого угла равны полупериметру данного треугольника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8066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невписанная окр.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оказать, что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.к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центр вневписанно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ужности. Касательные, прове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нные к окружности из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ой точки, равны между собой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этому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ВА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, СА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С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, А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p = (AC 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+ (AB 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А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= (AC + CC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+ (AB + BB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= AC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AB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2AC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2AB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.е.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В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АС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 rot="20771400">
            <a:off x="5661000" y="2985840"/>
            <a:ext cx="1943280" cy="194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947760" y="1927080"/>
            <a:ext cx="3557880" cy="302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948120" y="4916880"/>
            <a:ext cx="5180400" cy="4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32840" y="3599640"/>
            <a:ext cx="326160" cy="132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698440" y="4001760"/>
            <a:ext cx="907920" cy="22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07080" y="4002480"/>
            <a:ext cx="154080" cy="92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02720" y="3160800"/>
            <a:ext cx="502560" cy="84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2772000">
            <a:off x="6048360" y="3164400"/>
            <a:ext cx="72720" cy="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5171400">
            <a:off x="6669000" y="4847400"/>
            <a:ext cx="71640" cy="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0771400">
            <a:off x="5703840" y="4206960"/>
            <a:ext cx="71640" cy="7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948480" y="4003200"/>
            <a:ext cx="2658600" cy="948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869800" y="4002480"/>
            <a:ext cx="736560" cy="923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43280" y="3597480"/>
            <a:ext cx="1062360" cy="405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02760" y="3335760"/>
            <a:ext cx="121320" cy="192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489640" y="3926880"/>
            <a:ext cx="209520" cy="51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340680" y="4856760"/>
            <a:ext cx="105480" cy="174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92880" y="4880880"/>
            <a:ext cx="105840" cy="174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626080" y="4487400"/>
            <a:ext cx="209520" cy="51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653080" y="4530240"/>
            <a:ext cx="209520" cy="51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23200" y="3745080"/>
            <a:ext cx="504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2708280"/>
            <a:ext cx="505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771400">
            <a:off x="6243480" y="328536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771400">
            <a:off x="6559200" y="414252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0771400">
            <a:off x="5843160" y="397584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47736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67160" y="33148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95920" y="4903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 rot="10887000">
            <a:off x="6586920" y="4868640"/>
            <a:ext cx="576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64000" y="4070520"/>
            <a:ext cx="576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349360"/>
            <a:ext cx="71640" cy="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29242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4581360"/>
            <a:ext cx="647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72040" y="45846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73560" y="47340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Глава 2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1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Радиус вневписанной окружности. Касающейся сторон данного внутреннего угла треугольника, равен произведению полупериметра треугольника на тангенс половины этого угла, т. е.</a:t>
            </a:r>
            <a:br>
              <a:rPr sz="1800"/>
            </a:b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ptg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ptg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ptg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 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(2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невписанная окр. (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оказать (2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А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С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– длины катетов, угол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А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С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авен    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Arial"/>
              </a:rPr>
              <a:t>, поэтому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ptg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Arial"/>
              </a:rPr>
              <a:t>    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5977080" y="2421000"/>
            <a:ext cx="1942920" cy="194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103640" y="1628640"/>
            <a:ext cx="417672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03640" y="3720960"/>
            <a:ext cx="5040360" cy="11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65920" y="278136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77080" y="342900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40000" y="3429000"/>
            <a:ext cx="7164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24720" y="2492280"/>
            <a:ext cx="28728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rot="3600000">
            <a:off x="6561360" y="248940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6000000">
            <a:off x="6762960" y="427104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77080" y="342108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03640" y="3429000"/>
            <a:ext cx="2808360" cy="28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977080" y="3429000"/>
            <a:ext cx="93492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77080" y="2781360"/>
            <a:ext cx="934920" cy="64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92720" y="2565360"/>
            <a:ext cx="7164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2360" y="313992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408360" y="4221000"/>
            <a:ext cx="14436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453000" y="4255920"/>
            <a:ext cx="14436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32360" y="371628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48200" y="376560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6189000">
            <a:off x="5216760" y="2935800"/>
            <a:ext cx="358560" cy="2808360"/>
          </a:xfrm>
          <a:custGeom>
            <a:avLst/>
            <a:gdLst>
              <a:gd name="textAreaLeft" fmla="*/ 0 w 358560"/>
              <a:gd name="textAreaRight" fmla="*/ 129600 w 35856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3844800">
            <a:off x="5061240" y="1460880"/>
            <a:ext cx="433440" cy="2737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6360" y="35114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03840" y="25322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70440" y="41022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0360" y="3213000"/>
            <a:ext cx="505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96000" y="220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84720" y="450864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2276640"/>
            <a:ext cx="6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10320" y="2278080"/>
            <a:ext cx="504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02480" y="4308480"/>
            <a:ext cx="576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805800">
            <a:off x="5111280" y="3684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11640" y="3043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73680" y="270036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75560" y="360828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9640" y="327492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2133720"/>
            <a:ext cx="73080" cy="712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2708280"/>
            <a:ext cx="20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924360" y="1052640"/>
                <a:ext cx="287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148360" y="1052640"/>
                <a:ext cx="1746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300720" y="1052640"/>
                <a:ext cx="1526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149480" y="4797360"/>
                <a:ext cx="272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328920" y="4749840"/>
                <a:ext cx="220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2.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Радиус вневписанной окружности, касающейся данной стороны треугольника, равен отношению площади треугольника к разности полупериметра и этой стороны. т.е.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        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          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          (3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ано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ВС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невписанная окр. (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  <a:ea typeface="Times New Roman"/>
              </a:rPr>
              <a:t>О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0" lang="ru-RU" sz="17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оказать (3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меем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S =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BC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=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OaC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+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OaC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– S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OaC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=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  × (b + c – a) = r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×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(p – a),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т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е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5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ru-RU" sz="1500" spc="-1" strike="noStrike" baseline="-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=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5724360" y="2421000"/>
            <a:ext cx="1943280" cy="1942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851280" y="1628640"/>
            <a:ext cx="4176720" cy="208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1280" y="3720960"/>
            <a:ext cx="5040360" cy="119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13560" y="2781360"/>
            <a:ext cx="0" cy="136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24360" y="342900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587640" y="3429000"/>
            <a:ext cx="7164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72360" y="2492280"/>
            <a:ext cx="28728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rot="3600000">
            <a:off x="6309000" y="248940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6000000">
            <a:off x="6510600" y="4271040"/>
            <a:ext cx="7128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24360" y="3421080"/>
            <a:ext cx="71640" cy="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851280" y="3429000"/>
            <a:ext cx="2808360" cy="28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724360" y="3429000"/>
            <a:ext cx="93528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2781360"/>
            <a:ext cx="935280" cy="64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0360" y="2565360"/>
            <a:ext cx="7164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80000" y="313992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156000" y="4221000"/>
            <a:ext cx="14436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200640" y="4255920"/>
            <a:ext cx="144720" cy="144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80000" y="371628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95840" y="3765600"/>
            <a:ext cx="21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6189000">
            <a:off x="4964400" y="2935800"/>
            <a:ext cx="358560" cy="2808360"/>
          </a:xfrm>
          <a:custGeom>
            <a:avLst/>
            <a:gdLst>
              <a:gd name="textAreaLeft" fmla="*/ 0 w 358560"/>
              <a:gd name="textAreaRight" fmla="*/ 129600 w 35856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3844800">
            <a:off x="4808880" y="1460880"/>
            <a:ext cx="433440" cy="2736720"/>
          </a:xfrm>
          <a:custGeom>
            <a:avLst/>
            <a:gdLst>
              <a:gd name="textAreaLeft" fmla="*/ 276840 w 433440"/>
              <a:gd name="textAreaRight" fmla="*/ 433800 w 43344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64000" y="35114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51480" y="25322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18080" y="41022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88000" y="3213000"/>
            <a:ext cx="505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43280" y="220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32360" y="450864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00720" y="227664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57960" y="2278080"/>
            <a:ext cx="504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50120" y="4308480"/>
            <a:ext cx="576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805800">
            <a:off x="4858920" y="36846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3043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21320" y="270036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23200" y="3608280"/>
            <a:ext cx="504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3274920"/>
            <a:ext cx="505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2060640"/>
            <a:ext cx="73080" cy="712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2637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92360" y="1081080"/>
                <a:ext cx="503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716360" y="1081080"/>
                <a:ext cx="381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940360" y="1106640"/>
                <a:ext cx="381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808440" y="4826160"/>
                <a:ext cx="43164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067280" y="5373720"/>
                <a:ext cx="504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-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Глава 3. </a:t>
            </a:r>
            <a:r>
              <a:rPr b="1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 1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умма радиусов вневписанных окружностей равна сумме радиуса вписанной окружности и удвоенного диаметра описанной окружности, т. е.</a:t>
            </a:r>
            <a:br>
              <a:rPr sz="1800"/>
            </a:b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r + 4R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разим все радиусы через стороны, площадь и полупериметр треугольника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 =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, R =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Значит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+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+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– r =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+            +           -          =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                                                           =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=           =        =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979640" y="3141720"/>
                <a:ext cx="288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046320" y="3094200"/>
                <a:ext cx="576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389480" y="3078000"/>
                <a:ext cx="431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651640" y="3087720"/>
                <a:ext cx="5760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020000" y="3065400"/>
                <a:ext cx="576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067280" y="4111560"/>
                <a:ext cx="72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248440" y="408312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16720" y="4111560"/>
                <a:ext cx="6476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451640" y="4121280"/>
                <a:ext cx="4334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835280" y="4797360"/>
                <a:ext cx="4824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793880" y="546588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862360" y="5506920"/>
                <a:ext cx="504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§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  <a:ea typeface="Arial"/>
              </a:rPr>
              <a:t> 2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  <a:ea typeface="Arial"/>
              </a:rPr>
              <a:t>.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Сумма величин, обратных радиусам вневписанных окружностей, равна величине, обратной радиусу вписанной окружности, т. е. 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спользуем выражения радиусов через стороны и площадь треугольника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r =        , R =          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        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       , r</a:t>
            </a:r>
            <a:r>
              <a:rPr b="0" lang="en-US" sz="19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=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Значит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42920" y="3284640"/>
                <a:ext cx="28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340000" y="3241800"/>
                <a:ext cx="503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895560" y="3284640"/>
                <a:ext cx="4683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5292720" y="3274920"/>
                <a:ext cx="574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732720" y="3274920"/>
                <a:ext cx="503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270400" y="836640"/>
                <a:ext cx="1656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187280" y="4653000"/>
                <a:ext cx="6409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7:51:47Z</dcterms:created>
  <dc:creator>Валя</dc:creator>
  <dc:description/>
  <dc:language>en-US</dc:language>
  <cp:lastModifiedBy>Валя</cp:lastModifiedBy>
  <dcterms:modified xsi:type="dcterms:W3CDTF">2008-04-22T08:12:13Z</dcterms:modified>
  <cp:revision>29</cp:revision>
  <dc:subject/>
  <dc:title>Вневписанная окружность</dc:title>
</cp:coreProperties>
</file>