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3B1-F8AD-4BF6-B26E-F80AFFCD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E65-384F-4946-AF66-478432C3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F7B-C03B-4F78-BD21-58C9CC36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2FD-2258-4FDF-9872-2B7E5B92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C373-C2AC-44E8-8E14-3A84BCC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E9B-5953-4E46-B39B-1B23377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EC8-A2A5-4F62-9F0C-0842D5B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B6E4-2A32-40B8-B308-A0876DC6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E265-0B30-4ECF-AF2D-0CEB24FB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D7DD-D4CD-4CEB-B06B-5FBEA895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3AC-7BC3-415B-B32D-ADC2949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F56-0EC6-46E9-8737-0C740A4A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E1C2-D250-48A2-837A-CA163D5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B65-E037-4E63-91AB-9786AB96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988A-B862-483C-A771-C060AD3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6B25-F0FD-4DE2-8A9B-EC70C0C0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C3E8-80AC-4C8E-82A4-F3F35B4C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7AB6-B72D-44C7-9049-6C91C69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59B3-E588-4692-9D48-60EE056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4FAA0-943A-4041-8B0B-26FD499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3A29-7BBF-45FF-91A2-9AD08AC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F866A-B327-4FBF-98FB-D4A023C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AB2F-DAB3-4AC2-BBFB-B142E71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BD39-EE6A-4959-B2ED-B1DCF70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C722-C02B-4D2E-B86E-1D13BD12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06A4-49A9-4A89-A7ED-28B61B2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297B-C2D4-4B95-A239-C1D9059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D27F-0DA0-4561-8907-AAA626E3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9852-E745-474F-8080-FB0A558B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8D94-B205-4D43-92DC-79E49D13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FD80C-B05C-4ADE-989F-9AD1CC4D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742A-0B4E-4610-BC0E-D67BB71B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808EE-6305-43A3-99F9-1D49E892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C26-6924-4228-9F0E-234AD42C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2CCBF-93F6-4264-B193-21EA509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EC25-7EB1-4238-A5E7-F5F63A1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46B7-B0CC-4C40-8D74-EE8DF7FE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FD32-6C43-461F-A94B-88CF4E7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55D4-C6D9-42DC-891B-3BC6824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9DEA-AB5F-42EB-BDF4-A6AC4304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7B66-C3CB-42D5-93CE-54DBACE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D316-3C73-4D3E-BB6C-DA63F70F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12C9D-802C-4B3B-92A8-DC2C56B2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907A-B8E0-4AC8-BBFD-AED599C8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FADB-ABDC-4231-8246-22A0906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5769-D8CB-4437-8A1C-29E76412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3B648-A65D-41B9-932C-D9B9C057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8A81E-F9D4-4154-A8F5-EFB6333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70D4-3F14-45D5-B543-0681166E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36D4-287A-474C-A723-9C41495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B8A3-A000-4257-8BE9-F95C0C1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91C5-CAB7-43AB-A318-3A9DAEF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0595A-40F0-40AC-9300-BDACF73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D93BC-F355-4E93-BEC3-3D40B3AF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0844-5BB3-46E2-905E-D1DA81DB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BAC-8585-404A-825B-29FD7519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1A8D-58C5-457C-86D5-CF27D0ED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266-2014-4133-8430-0F4BE43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560-9FAD-4D96-A2B7-5E6AF1E7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C48E-2A8C-4F52-87CC-CB8BF2E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6C3A-78BB-4737-AFF2-22E7E632835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09D-B922-431B-A3BD-6C1301A101D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40A-19FA-4048-9850-FBCC9735F5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1B4B-5FB1-404E-BC17-74FBAC78FB2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530E-0FA2-4A76-82AE-5BCBA9CE1E9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71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В здоровом теле - здоровый дух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213920" y="5357880"/>
            <a:ext cx="6201000" cy="900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Учитель: Махнёв А.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Целями  являются:</a:t>
            </a: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изировать тему здоровья, здорового образа жизни, ответственного повед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зация творческого потенциала учащихся как субъекта самостоятельной учебной деятельнос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ция межпредметных зна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150012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Форма проведения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42960" y="3642840"/>
            <a:ext cx="7772400" cy="267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Конкурс презентаций (ученик выбирает проблему, составляет презентацию, защищает свою работу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766f"/>
                </a:solidFill>
                <a:latin typeface="Verdana"/>
              </a:rPr>
              <a:t>Создание стенгазеты (работа в группах, поиск информации, развитие творческих способносте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60480" y="4785840"/>
            <a:ext cx="81835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за здоровый образ жизн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4" descr="WSFLCA0JEMVICA03J3LLCAZ4CXHXCAMN0MGOCAWMX4L1CAV6GLP0CAHWC2WLCAO5VOO6CA8KV615CA6VCRW6CA6ADGKDCAZQRIPACACGANJQCA0GC2QRCA6UIKU2CAY5MBMCCAD2WAABCAUSMXDOCAH69XLH.jpg"/>
          <p:cNvPicPr/>
          <p:nvPr/>
        </p:nvPicPr>
        <p:blipFill>
          <a:blip r:embed="rId1"/>
          <a:stretch/>
        </p:blipFill>
        <p:spPr>
          <a:xfrm>
            <a:off x="1863720" y="530280"/>
            <a:ext cx="54626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Проблемные вопросы темы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476712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вредные привычки вы знает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нужно делать, чтобы быть здоровы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ужно ли заниматься спортом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правильное питание и ожирение – это проблем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изическая неактивность  - это плохая привыч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акие экологические проблемы существуют в мире, которые влияют на здоровье человека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д курения табака для здоровь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циональное пит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лияние алкоголя на здоровье челове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Содержимое 10" descr="Рисунок1.jpg"/>
          <p:cNvPicPr/>
          <p:nvPr/>
        </p:nvPicPr>
        <p:blipFill>
          <a:blip r:embed="rId1"/>
          <a:stretch/>
        </p:blipFill>
        <p:spPr>
          <a:xfrm>
            <a:off x="762120" y="1731960"/>
            <a:ext cx="4626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лохие и хорошие привыч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840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плох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2920" y="1571760"/>
            <a:ext cx="39322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хорош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Содержимое 14" descr="53EQCA2WRTFECAPYYJYJCAGM3UXOCAWL63BJCAFXFWIICA7JGR8FCANYGL5RCAV524ITCA2YHTY9CA003CJZCAO5G68NCAVACLRCCAX1KN38CAM5G4OECAO3GRA6CAQ837ZVCAU4KQC5CA1IGRU3CAB5JYBY.jpg"/>
          <p:cNvPicPr/>
          <p:nvPr/>
        </p:nvPicPr>
        <p:blipFill>
          <a:blip r:embed="rId1"/>
          <a:stretch/>
        </p:blipFill>
        <p:spPr>
          <a:xfrm>
            <a:off x="571680" y="4357800"/>
            <a:ext cx="2071440" cy="1430280"/>
          </a:xfrm>
          <a:prstGeom prst="rect">
            <a:avLst/>
          </a:prstGeom>
          <a:ln w="0">
            <a:noFill/>
          </a:ln>
        </p:spPr>
      </p:pic>
      <p:pic>
        <p:nvPicPr>
          <p:cNvPr id="235" name="Содержимое 10" descr="6b0ab84c6070.jpg"/>
          <p:cNvPicPr/>
          <p:nvPr/>
        </p:nvPicPr>
        <p:blipFill>
          <a:blip r:embed="rId2"/>
          <a:stretch/>
        </p:blipFill>
        <p:spPr>
          <a:xfrm>
            <a:off x="4643280" y="2643120"/>
            <a:ext cx="2133720" cy="15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Documents and Settings\uchenik\Рабочий стол\Махнёв А.С\картинки\9cd4599940ce.jpg"/>
          <p:cNvPicPr/>
          <p:nvPr/>
        </p:nvPicPr>
        <p:blipFill>
          <a:blip r:embed="rId3"/>
          <a:stretch/>
        </p:blipFill>
        <p:spPr>
          <a:xfrm>
            <a:off x="6500880" y="4286160"/>
            <a:ext cx="2071800" cy="1573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uchenik\Рабочий стол\Махнёв А.С\картинки\Рисунок2.jpg"/>
          <p:cNvPicPr/>
          <p:nvPr/>
        </p:nvPicPr>
        <p:blipFill>
          <a:blip r:embed="rId4"/>
          <a:stretch/>
        </p:blipFill>
        <p:spPr>
          <a:xfrm>
            <a:off x="2000160" y="2571840"/>
            <a:ext cx="22878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Основополагающи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е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вопрос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ы.</a:t>
            </a: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71680" y="385740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е бы вы приняли меры по борьбе с вредными привычкам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Что хорошо, а что плох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Verdana"/>
              </a:rPr>
              <a:t>Каким спортом вы бы хотели заниматься или уже занимаетесь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9766f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бота в группах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57176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 работы в группах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раз вспомнить все проблемные вопросы по те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ить материал для создания стенгаз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нужную информаци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ь роли в групп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роделанную работу и сформулировать выв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Желаю творческих успехов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7:13:55Z</dcterms:created>
  <dc:creator>uchenik</dc:creator>
  <dc:description/>
  <dc:language>en-US</dc:language>
  <cp:lastModifiedBy>ZooM</cp:lastModifiedBy>
  <dcterms:modified xsi:type="dcterms:W3CDTF">2013-12-03T20:23:11Z</dcterms:modified>
  <cp:revision>22</cp:revision>
  <dc:subject/>
  <dc:title>Здоровый образ жизни. Спорт в нашей жизни.</dc:title>
</cp:coreProperties>
</file>