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349-E936-4490-877B-84BDB989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6AB-4CA4-41AA-908C-CC194C89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8CF-70BD-41F4-A3C5-6A03313C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999-13F7-4B64-9F92-B7E79DFF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7B8C-14E8-4797-B05B-B3296EC0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617A-FF03-49D8-A178-D5992D75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2EE8-DB87-4FFE-95EC-A95A9F8C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1F7B-EE77-4962-9562-BFF5A420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DA6B-4F19-431B-A500-432AC94F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5B47-0092-463A-961A-403A7977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1454-5FE7-4205-8502-434F32AE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EC3-2DE4-4175-B2F8-A870335C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5510-B66F-4D78-9978-BA48A56B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1AF6-8F79-4C39-BEA2-2E60488B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DF5A-B765-42CF-A02D-53324162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CF30-080F-4E26-8ECE-9A0F7CA5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39B3-9E48-41A8-95A5-2191B873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65E4-716D-4454-9166-F7093B79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E85E-4DD5-4A8A-88D3-91BEDD07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7C0D-7407-4BDF-B9FB-ADFFF8D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D7092-B235-43F7-9203-3AB81E79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7011-3776-4189-86E7-5F753673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415-E79A-4AD4-A764-A30DBBE7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C48F-D9E4-45F0-ACB7-6B811D54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722E-0DFE-481D-8BBC-A5D8AB6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CE97-5756-4F1A-AFB1-C94DAAD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ACB7-F826-4C4C-B9E0-D915CA7E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D777-5DDA-4045-9672-3800C596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58E5-7341-41DB-A18F-61C9EFB7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B201-A8A5-4CDD-9537-445C8914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6A16-BB25-4E6A-905E-77F29176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E415-825F-4C50-B398-10D1D69A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8BA3-51CD-4AC5-A089-BCB5FD5E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881-BD4C-495B-A1CC-4306433B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9859-8568-4E09-BA1B-77648DF8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D5B4-F4F7-4146-8104-C0FB12D6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8E1D7-7224-48FE-ADD7-816C26C0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0F7E-94E0-4ACC-8F7F-A2788770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26AED-EA7B-4FA1-A627-E18A97B6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4286-4B22-4A14-8C79-617BBE7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8E97-E937-4F9E-AF7B-71574FBA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BA98B-CEBD-442E-9651-FC8E5F6D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2AC4-F7DB-4CF3-A4DE-B874B36E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DD997-9B74-415A-B044-78143E91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841-0CEA-4CB7-98C4-E609CF37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E479-3C25-4554-AC4D-92221B56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8E300-99B5-4B63-8109-6959C08D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1FAD-50A3-4238-80FE-DAC977B1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CA36-948B-4FBA-9231-CB52884A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ADFA8-4A87-4C5B-9EB0-487C34FE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0040-8BA1-4CBF-97E0-06B1F734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57E7-F683-40A3-8FBD-0B1C4CF8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1011-5963-4CCD-9FF8-CB498C61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0E2F7-39CF-4326-9603-29DBD1C1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1FA8-63A0-4E13-8D28-6575B6A3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679-3155-41E5-ADF6-7271F35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88CF-41AF-48C4-8FAA-12966A58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ACD-8F5B-4510-A0C8-174AA87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016-FC6F-49BB-A72F-2465A661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2A1-8161-4B4F-BD06-49B7C8F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5F34-77D0-4D13-A689-146D1BFA667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83AE-ED04-4D18-8C07-4263BDCEE5A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0860-6C97-4E2E-ACC3-9B523F0AE52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EA5C-90CA-4DA0-89E9-2AFF993099A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C2F0-F520-45F4-80B4-482630D0E03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717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В здоровом теле - здоровый дух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13920" y="5357880"/>
            <a:ext cx="6201000" cy="900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читель: Махнёв А.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Целями  являются:</a:t>
            </a: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21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уализировать тему здоровья, здорового образа жизни, ответственного повед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зация творческого потенциала учащихся как субъекта самостоятельной учебной деятельнос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ция межпредметных зна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4200" y="150012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Форма проведения: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42960" y="3642840"/>
            <a:ext cx="7772400" cy="2670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Конкурс презентаций (ученик выбирает проблему, составляет презентацию, защищает свою работу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Создание стенгазеты (работа в группах, поиск информации, развитие творческих способносте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60480" y="4785840"/>
            <a:ext cx="81835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ы за здоровый образ жизни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4" descr="WSFLCA0JEMVICA03J3LLCAZ4CXHXCAMN0MGOCAWMX4L1CAV6GLP0CAHWC2WLCAO5VOO6CA8KV615CA6VCRW6CA6ADGKDCAZQRIPACACGANJQCA0GC2QRCA6UIKU2CAY5MBMCCAD2WAABCAUSMXDOCAH69XLH.jpg"/>
          <p:cNvPicPr/>
          <p:nvPr/>
        </p:nvPicPr>
        <p:blipFill>
          <a:blip r:embed="rId1"/>
          <a:stretch/>
        </p:blipFill>
        <p:spPr>
          <a:xfrm>
            <a:off x="1863720" y="530280"/>
            <a:ext cx="54626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Проблемные вопросы темы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538600" y="1447920"/>
            <a:ext cx="2971800" cy="47671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акие вредные привычки вы знает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нужно делать, чтобы быть здоровы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ужно ли заниматься спорто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правильное питание и ожирение – это проблема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Физическая неактивность  - это плохая привычка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акие экологические проблемы существуют в мире, которые влияют на здоровье человека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ред курения табака для здоровь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циональное пита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лияние алкоголя на здоровье челове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Содержимое 10" descr="Рисунок1.jpg"/>
          <p:cNvPicPr/>
          <p:nvPr/>
        </p:nvPicPr>
        <p:blipFill>
          <a:blip r:embed="rId1"/>
          <a:stretch/>
        </p:blipFill>
        <p:spPr>
          <a:xfrm>
            <a:off x="762120" y="1731960"/>
            <a:ext cx="4626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лохие и хорошие привычк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8400" y="1571760"/>
            <a:ext cx="39322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плох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2920" y="1571760"/>
            <a:ext cx="39322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хорош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Содержимое 14" descr="53EQCA2WRTFECAPYYJYJCAGM3UXOCAWL63BJCAFXFWIICA7JGR8FCANYGL5RCAV524ITCA2YHTY9CA003CJZCAO5G68NCAVACLRCCAX1KN38CAM5G4OECAO3GRA6CAQ837ZVCAU4KQC5CA1IGRU3CAB5JYBY.jpg"/>
          <p:cNvPicPr/>
          <p:nvPr/>
        </p:nvPicPr>
        <p:blipFill>
          <a:blip r:embed="rId1"/>
          <a:stretch/>
        </p:blipFill>
        <p:spPr>
          <a:xfrm>
            <a:off x="571680" y="4357800"/>
            <a:ext cx="2071440" cy="143028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10" descr="6b0ab84c6070.jpg"/>
          <p:cNvPicPr/>
          <p:nvPr/>
        </p:nvPicPr>
        <p:blipFill>
          <a:blip r:embed="rId2"/>
          <a:stretch/>
        </p:blipFill>
        <p:spPr>
          <a:xfrm>
            <a:off x="4643280" y="2643120"/>
            <a:ext cx="2133720" cy="152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Documents and Settings\uchenik\Рабочий стол\Махнёв А.С\картинки\9cd4599940ce.jpg"/>
          <p:cNvPicPr/>
          <p:nvPr/>
        </p:nvPicPr>
        <p:blipFill>
          <a:blip r:embed="rId3"/>
          <a:stretch/>
        </p:blipFill>
        <p:spPr>
          <a:xfrm>
            <a:off x="6500880" y="4286160"/>
            <a:ext cx="2071800" cy="1573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uchenik\Рабочий стол\Махнёв А.С\картинки\Рисунок2.jpg"/>
          <p:cNvPicPr/>
          <p:nvPr/>
        </p:nvPicPr>
        <p:blipFill>
          <a:blip r:embed="rId4"/>
          <a:stretch/>
        </p:blipFill>
        <p:spPr>
          <a:xfrm>
            <a:off x="2000160" y="2571840"/>
            <a:ext cx="2287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Основополагающи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е</a:t>
            </a: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 вопрос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ы.</a:t>
            </a: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680" y="3857400"/>
            <a:ext cx="7772400" cy="2571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Какие бы вы приняли меры по борьбе с вредными привычкам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Что хорошо, а что плох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Каким спортом вы бы хотели заниматься или уже занимаетесь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9766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бота в группах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157176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 работы в группах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раз вспомнить все проблемные вопросы по те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ить материал для создания стенгазе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нужную информац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ь роли в групп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роделанную работу и сформулировать выв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Желаю творческих успехов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7:13:55Z</dcterms:created>
  <dc:creator>uchenik</dc:creator>
  <dc:description/>
  <dc:language>en-US</dc:language>
  <cp:lastModifiedBy>ZooM</cp:lastModifiedBy>
  <dcterms:modified xsi:type="dcterms:W3CDTF">2013-12-03T20:23:11Z</dcterms:modified>
  <cp:revision>22</cp:revision>
  <dc:subject/>
  <dc:title>Здоровый образ жизни. Спорт в нашей жизни.</dc:title>
</cp:coreProperties>
</file>