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EA6-050D-42AA-87C7-EAAFC20A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426-16F7-4D48-9092-ABF2FA8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B30-5C95-487F-BC77-4D553907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485-FCE9-40F1-A6AA-E3492C0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34D6-EB7F-4379-B2C0-CA951C24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52D2-49F5-4F66-B4A3-E853CB3C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44A-FBE4-4D27-96DD-3C29C0E7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890-E2AD-491A-9929-1212EEC9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E0D-5690-41EC-8817-BF88631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43C9-7BD1-4914-BEC3-1E48EA31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881-71F4-4B78-84EB-383C265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900-69C0-4B03-804C-6C5387D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8221-98A1-4169-98CB-282193D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7816-5936-466A-A5F1-8E070F2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0E9-06FF-4F55-BF51-4BE8205E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192D-9528-445C-BA40-927ABCE7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1B1B-1B8E-4436-9A06-B99BC26B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C2E9-45C8-43A1-A7D7-C943123F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30AF-7DE4-450C-B7AD-66ADF507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48DD-07D9-4262-AAEF-6A9CF267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36E2-9FF8-423A-8D4E-5153625C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9E58-CCA8-4014-B215-2EA5361F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8A6-5450-44BE-A588-8A16ACA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99AA-ABB5-42B8-A221-1D60BF1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2434-24D5-4233-8C7B-DD448A8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66FA-226F-4BB5-BDB4-3C2DBCE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E8C4-8037-4B66-A705-C6FFA900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1ADA-1A88-4D6C-8553-FB8E8ED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B6CC-07C1-4B9D-9C5E-EA872407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3406-1345-4EDE-8BEA-B7955516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4CEB-FA68-4FA6-8DA4-1E0A2329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C0CC2-5C3E-4703-ADC9-8F0FED3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9500-461F-4273-990B-D5291727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1F2-5DB8-4066-8D98-C4CA305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C7EF-4485-46F6-8518-0A8418D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A42B-6237-4F07-86D8-2BA2ACC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AF00-BF64-4B4E-94EE-10B1362B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B11E-EAEB-41FF-8B65-520F4E4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F361-D6FB-48CE-839F-45A211F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775D0-BD91-4676-82D3-DDD1CE5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E211-AE2A-4354-859C-391DEFF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3121-91AE-449B-AAC8-2236876A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D4DD-27FA-4CC0-BAD9-FB5EDEF6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E94C-DEBA-4A41-8044-1FB7E1A3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9FD-9430-423B-A85A-5EA6A138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54B5-BEAA-4E87-99E1-0466278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81D47-427B-4542-A184-AE3BB9A5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F09E-E05D-4AD1-B60D-7A735A68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E523-CEAA-483F-886D-A3D80630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33AF-A17B-4440-A66A-202FF30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396F-B45E-4DB2-8E93-1BA7125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8B04-0A64-48ED-ABE4-7E2AB33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8383-3946-42AA-BD8C-9638BF2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BF72-5735-4423-A209-96B96DA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44BB-E73C-411B-ABA0-7460D6E9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520-D600-4FCA-B613-AD7403B5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44B89-E9DB-4920-821F-501B9FA1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93A-1FD7-4ABB-B433-5DE29D7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93C-3322-4D73-ADC4-59A97B5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FAE-A42A-4160-8683-425545DF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243-7EBA-4E43-B45A-FF50BBE097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B26-ABCD-482F-A562-81145D6432E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70F9-A104-4788-A717-5FDAA067C1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059-0330-406C-8FC0-8EA96A724B3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00B-63FA-465F-8C35-B7F771B748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В здоровом теле - здоровый дух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3920" y="5357880"/>
            <a:ext cx="6201000" cy="900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читель: Махнёв А.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Целями  являются: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изировать тему здоровья, здорового образа жизни, ответственного повед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зация творческого потенциала учащихся как субъекта самостоятельной учебной деятельнос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ция межпредметных зна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Форма проведения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42960" y="3642840"/>
            <a:ext cx="7772400" cy="267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Конкурс презентаций (ученик выбирает проблему, составляет презентацию, защищает свою работу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Создание стенгазеты (работа в группах, поиск информации, развитие творческих способност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60480" y="4785840"/>
            <a:ext cx="81835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за здоровый образ жизн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4" descr="WSFLCA0JEMVICA03J3LLCAZ4CXHXCAMN0MGOCAWMX4L1CAV6GLP0CAHWC2WLCAO5VOO6CA8KV615CA6VCRW6CA6ADGKDCAZQRIPACACGANJQCA0GC2QRCA6UIKU2CAY5MBMCCAD2WAABCAUSMXDOCAH69XLH.jpg"/>
          <p:cNvPicPr/>
          <p:nvPr/>
        </p:nvPicPr>
        <p:blipFill>
          <a:blip r:embed="rId1"/>
          <a:stretch/>
        </p:blipFill>
        <p:spPr>
          <a:xfrm>
            <a:off x="1863720" y="530280"/>
            <a:ext cx="5462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Проблемные вопросы темы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47671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вредные привычки вы знает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нужно делать, чтобы быть здоровы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ужно ли заниматься спорто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правильное питание и ожирение – это проблем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изическая неактивность  - это плохая привыч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экологические проблемы существуют в мире, которые влияют на здоровье челове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д курения табака для здоровь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циональное пит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лияние алкоголя на здоровье челове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Содержимое 10" descr="Рисунок1.jpg"/>
          <p:cNvPicPr/>
          <p:nvPr/>
        </p:nvPicPr>
        <p:blipFill>
          <a:blip r:embed="rId1"/>
          <a:stretch/>
        </p:blipFill>
        <p:spPr>
          <a:xfrm>
            <a:off x="762120" y="1731960"/>
            <a:ext cx="4626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хие и хорошие привыч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плох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хорош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4" descr="53EQCA2WRTFECAPYYJYJCAGM3UXOCAWL63BJCAFXFWIICA7JGR8FCANYGL5RCAV524ITCA2YHTY9CA003CJZCAO5G68NCAVACLRCCAX1KN38CAM5G4OECAO3GRA6CAQ837ZVCAU4KQC5CA1IGRU3CAB5JYBY.jpg"/>
          <p:cNvPicPr/>
          <p:nvPr/>
        </p:nvPicPr>
        <p:blipFill>
          <a:blip r:embed="rId1"/>
          <a:stretch/>
        </p:blipFill>
        <p:spPr>
          <a:xfrm>
            <a:off x="571680" y="4357800"/>
            <a:ext cx="2071440" cy="143028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0" descr="6b0ab84c6070.jpg"/>
          <p:cNvPicPr/>
          <p:nvPr/>
        </p:nvPicPr>
        <p:blipFill>
          <a:blip r:embed="rId2"/>
          <a:stretch/>
        </p:blipFill>
        <p:spPr>
          <a:xfrm>
            <a:off x="4643280" y="264312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uchenik\Рабочий стол\Махнёв А.С\картинки\9cd4599940ce.jpg"/>
          <p:cNvPicPr/>
          <p:nvPr/>
        </p:nvPicPr>
        <p:blipFill>
          <a:blip r:embed="rId3"/>
          <a:stretch/>
        </p:blipFill>
        <p:spPr>
          <a:xfrm>
            <a:off x="6500880" y="4286160"/>
            <a:ext cx="2071800" cy="157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uchenik\Рабочий стол\Махнёв А.С\картинки\Рисунок2.jpg"/>
          <p:cNvPicPr/>
          <p:nvPr/>
        </p:nvPicPr>
        <p:blipFill>
          <a:blip r:embed="rId4"/>
          <a:stretch/>
        </p:blipFill>
        <p:spPr>
          <a:xfrm>
            <a:off x="2000160" y="2571840"/>
            <a:ext cx="2287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Основополагающи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е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вопрос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ы.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680" y="385740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е бы вы приняли меры по борьбе с вредными привычкам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Что хорошо, а что плох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м спортом вы бы хотели заниматься или уже занимаетесь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бота в группах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 работы в группа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раз вспомнить все проблемные вопросы по те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материал для создания стенгаз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нужную информ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ь роли в групп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роделанную работу и сформулировать выв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Желаю творческих успехов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7:13:55Z</dcterms:created>
  <dc:creator>uchenik</dc:creator>
  <dc:description/>
  <dc:language>en-US</dc:language>
  <cp:lastModifiedBy>ZooM</cp:lastModifiedBy>
  <dcterms:modified xsi:type="dcterms:W3CDTF">2013-12-03T20:23:11Z</dcterms:modified>
  <cp:revision>22</cp:revision>
  <dc:subject/>
  <dc:title>Здоровый образ жизни. Спорт в нашей жизни.</dc:title>
</cp:coreProperties>
</file>