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2A3-51D3-4252-ADF8-D94842F5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231-2611-4C93-BC3E-A1111896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073-1090-4054-905A-19461D40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954-544F-4EE0-8D92-D32BB68F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FFF0-0E10-475E-AA4F-7E9A5992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A53D-0DA2-47CF-8457-88718526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39A2-6DC0-4D04-BDAC-48207E7B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532B-C1FE-4AE0-AB5C-ADDC5A82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9FF3-1EFD-4BD7-9DC7-5022993E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9800-D401-480C-A615-9E53D02C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4CB6-0AEB-4CE2-B31A-13EAFC3F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A3B-9958-4DA5-B7D5-077CA3B6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14BD-CCFC-4F01-B94A-D50E99DE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5103-9B9A-4FAD-B3DD-00E149F9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4609-3BE7-4E88-A996-84ADBCA4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23DA-46BA-445E-A487-9D0BA6AE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9600-3CCF-47FC-B82E-CE562247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8D2-2CEA-49AC-9F73-FEA9A951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DEE-B51F-4CC8-AA39-41D9AD1D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1EB-3AFA-4122-8AE4-EF0AD9E1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1B5-B605-4574-A312-2BE806BE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558-5C3D-4A53-9255-539D3130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4ED-795B-4F1E-96B2-301EE487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EE9-B1E5-45AB-BE66-C56D6C92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4957-04A4-4EE3-B5E4-04F15BF51B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33EC-99FF-4A04-B7F4-EDA1CA0681D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творчество педагога и школьника – создание ситуации успеха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ный руковод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Г класс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ушкина Елена Викторо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нь учител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 стенгазеты «Учитель! Перед именем твоим…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DSC02310"/>
          <p:cNvPicPr/>
          <p:nvPr/>
        </p:nvPicPr>
        <p:blipFill>
          <a:blip r:embed="rId1"/>
          <a:stretch/>
        </p:blipFill>
        <p:spPr>
          <a:xfrm>
            <a:off x="2987640" y="3429000"/>
            <a:ext cx="42339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лассный час «Лицом к здоровью». Влияние никотина на организм подрост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е отношение к проблем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ие в рабо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ицом к здоровь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Влияние никотина на организм подрост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томляем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лабевает памя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растает раздражите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Курение8"/>
          <p:cNvPicPr/>
          <p:nvPr/>
        </p:nvPicPr>
        <p:blipFill>
          <a:blip r:embed="rId1"/>
          <a:stretch/>
        </p:blipFill>
        <p:spPr>
          <a:xfrm>
            <a:off x="6156360" y="907920"/>
            <a:ext cx="24750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крытие Америки (1492г)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арок человечеств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ртоф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б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826920" y="3789360"/>
            <a:ext cx="77724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ртофель – благослов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бак – ка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5" descr="1200754213_4771"/>
          <p:cNvPicPr/>
          <p:nvPr/>
        </p:nvPicPr>
        <p:blipFill>
          <a:blip r:embed="rId1"/>
          <a:stretch/>
        </p:blipFill>
        <p:spPr>
          <a:xfrm>
            <a:off x="6084720" y="4508640"/>
            <a:ext cx="2737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росто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3" descr="P9082216"/>
          <p:cNvPicPr/>
          <p:nvPr/>
        </p:nvPicPr>
        <p:blipFill>
          <a:blip r:embed="rId1"/>
          <a:stretch/>
        </p:blipFill>
        <p:spPr>
          <a:xfrm>
            <a:off x="1692360" y="2017800"/>
            <a:ext cx="66960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росто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ыстрее, чем у взрослого, формируется непреодолимое влечение к наркотизации организм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Появляется зависим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здух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держит пы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хлопные га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довитые выбросы заводов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678"/>
          <p:cNvPicPr/>
          <p:nvPr/>
        </p:nvPicPr>
        <p:blipFill>
          <a:blip r:embed="rId1"/>
          <a:stretch/>
        </p:blipFill>
        <p:spPr>
          <a:xfrm>
            <a:off x="2484360" y="3573360"/>
            <a:ext cx="5327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следствия для подростк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томля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лабевает памя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растает раздражи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вочки и мальчики -  будущие родител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3" descr="1 002"/>
          <p:cNvPicPr/>
          <p:nvPr/>
        </p:nvPicPr>
        <p:blipFill>
          <a:blip r:embed="rId1"/>
          <a:stretch/>
        </p:blipFill>
        <p:spPr>
          <a:xfrm>
            <a:off x="468360" y="2492280"/>
            <a:ext cx="3959280" cy="304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1 003"/>
          <p:cNvPicPr/>
          <p:nvPr/>
        </p:nvPicPr>
        <p:blipFill>
          <a:blip r:embed="rId2"/>
          <a:stretch/>
        </p:blipFill>
        <p:spPr>
          <a:xfrm>
            <a:off x="4500720" y="4581360"/>
            <a:ext cx="3600360" cy="19227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autothumbs.jpeg"/>
          <p:cNvPicPr/>
          <p:nvPr/>
        </p:nvPicPr>
        <p:blipFill>
          <a:blip r:embed="rId3"/>
          <a:stretch/>
        </p:blipFill>
        <p:spPr>
          <a:xfrm>
            <a:off x="5508720" y="1916280"/>
            <a:ext cx="3240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удущий малыш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одства физическ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нервной системе (паралич, проблемы с дыханием, недоразвитие спинного мозга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абоум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овень интеллекта развивать невозмож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ервое сентября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ллектуально – познавательная игра «Ум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7" descr="P1010351"/>
          <p:cNvPicPr/>
          <p:nvPr/>
        </p:nvPicPr>
        <p:blipFill>
          <a:blip r:embed="rId1"/>
          <a:stretch/>
        </p:blipFill>
        <p:spPr>
          <a:xfrm>
            <a:off x="0" y="2492280"/>
            <a:ext cx="4716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шение проблем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ный отказ от курения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збавление от вредной привычки - победа каждого человека над своей слабостью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ческие фак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конце 16 века в Англии за курение казнили, а головы казнённых с трубкой во рту выставляли на площад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Турции курильщиков сажали на ко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ческие фак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чале 17 века в России за курение полагалась смертная казнь. У кого был найден табак, того надобно было пытать и бить кнутом, пока тот не признается, откуда взял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школах Пекина – изнурительная тренировка на велотренажере… Отучают от сигареты и приобщают к спорт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доровье – это классно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Picture 3" descr="Изображение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ой город – мой Томс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6" descr="P1010403"/>
          <p:cNvPicPr/>
          <p:nvPr/>
        </p:nvPicPr>
        <p:blipFill>
          <a:blip r:embed="rId1"/>
          <a:stretch/>
        </p:blipFill>
        <p:spPr>
          <a:xfrm>
            <a:off x="0" y="2408400"/>
            <a:ext cx="4500720" cy="3479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1010408"/>
          <p:cNvPicPr/>
          <p:nvPr/>
        </p:nvPicPr>
        <p:blipFill>
          <a:blip r:embed="rId2"/>
          <a:stretch/>
        </p:blipFill>
        <p:spPr>
          <a:xfrm>
            <a:off x="4761000" y="3500280"/>
            <a:ext cx="4383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ятное с полезным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7" descr="P1010438"/>
          <p:cNvPicPr/>
          <p:nvPr/>
        </p:nvPicPr>
        <p:blipFill>
          <a:blip r:embed="rId1"/>
          <a:stretch/>
        </p:blipFill>
        <p:spPr>
          <a:xfrm>
            <a:off x="179280" y="2349360"/>
            <a:ext cx="4429080" cy="360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P1010430"/>
          <p:cNvPicPr/>
          <p:nvPr/>
        </p:nvPicPr>
        <p:blipFill>
          <a:blip r:embed="rId2"/>
          <a:stretch/>
        </p:blipFill>
        <p:spPr>
          <a:xfrm>
            <a:off x="4761000" y="3357720"/>
            <a:ext cx="4383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езентация. Награждени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7" descr="P1010457"/>
          <p:cNvPicPr/>
          <p:nvPr/>
        </p:nvPicPr>
        <p:blipFill>
          <a:blip r:embed="rId1"/>
          <a:stretch/>
        </p:blipFill>
        <p:spPr>
          <a:xfrm>
            <a:off x="0" y="3357720"/>
            <a:ext cx="4608360" cy="350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1010461"/>
          <p:cNvPicPr/>
          <p:nvPr/>
        </p:nvPicPr>
        <p:blipFill>
          <a:blip r:embed="rId2"/>
          <a:stretch/>
        </p:blipFill>
        <p:spPr>
          <a:xfrm>
            <a:off x="5003640" y="2349360"/>
            <a:ext cx="414036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ятные воспоминания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6" descr="P1010463"/>
          <p:cNvPicPr/>
          <p:nvPr/>
        </p:nvPicPr>
        <p:blipFill>
          <a:blip r:embed="rId1"/>
          <a:stretch/>
        </p:blipFill>
        <p:spPr>
          <a:xfrm>
            <a:off x="2050920" y="2017800"/>
            <a:ext cx="61214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нь Здоровь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ие в спортивных мероприятиях. Личный зач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 плаката «Наше здоровье – в наших руках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9" descr="P1000586"/>
          <p:cNvPicPr/>
          <p:nvPr/>
        </p:nvPicPr>
        <p:blipFill>
          <a:blip r:embed="rId1"/>
          <a:stretch/>
        </p:blipFill>
        <p:spPr>
          <a:xfrm>
            <a:off x="0" y="0"/>
            <a:ext cx="5724360" cy="3716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P1000621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414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P1000620"/>
          <p:cNvPicPr/>
          <p:nvPr/>
        </p:nvPicPr>
        <p:blipFill>
          <a:blip r:embed="rId3"/>
          <a:stretch/>
        </p:blipFill>
        <p:spPr>
          <a:xfrm>
            <a:off x="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P1000566"/>
          <p:cNvPicPr/>
          <p:nvPr/>
        </p:nvPicPr>
        <p:blipFill>
          <a:blip r:embed="rId4"/>
          <a:stretch/>
        </p:blipFill>
        <p:spPr>
          <a:xfrm>
            <a:off x="4211640" y="3284640"/>
            <a:ext cx="4932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лассный час «Лицом к здоровью» (влияние алкоголя на организм подростка)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тория знаний об  алкого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алкоголь влияет на организм подростка? (эксперимен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организовать досуг подростк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ы выбира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7:23:01Z</dcterms:created>
  <dc:creator>XP GAME 2007</dc:creator>
  <dc:description/>
  <dc:language>en-US</dc:language>
  <cp:lastModifiedBy>ZooM</cp:lastModifiedBy>
  <dcterms:modified xsi:type="dcterms:W3CDTF">2013-12-03T20:16:39Z</dcterms:modified>
  <cp:revision>16</cp:revision>
  <dc:subject/>
  <dc:title>Анализ работы за  I полугодие, 2009 – 2010г.</dc:title>
</cp:coreProperties>
</file>