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D60-F7C9-4A29-B0F8-4BDDAB0A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4A6-212D-4C65-8741-0BB56200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DBA-85B8-463A-B29F-30580B02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8AD-C731-42AC-A991-69B0EEAE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AD3-DCC2-4305-B6B4-F491B93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D442-5CA4-4FEB-9782-0C819683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1B20-753E-4B96-AF12-056EBAF8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4208-04BA-4EB5-B72F-7E242898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6B3-2CF9-4CC6-9AF0-1465E1E5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6C96-53BE-4202-84D8-73DD8D4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1154-2ACE-4822-94C4-F3EA6FC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F9F-6B31-41C5-B779-98196DD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304D-7FBE-4C02-BABA-A8C4C09D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1E96-F8CF-4D25-84A6-F05CD3F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5496-60CD-4427-B08B-F957811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5122-636E-42F1-B519-272AC8BB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4D88-2D7D-4550-B31F-EDA62BEE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99D-1F1D-4D58-8984-DBFEDB51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88E-CBBB-4D5F-A732-D9CA6BF1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8C2-511B-4C75-8304-2A62870C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7C9-DAB7-4CA3-A55B-DF3C211B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37C-4979-46C4-BEC1-995476C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B50-CBF9-41DA-9E01-51EAB230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F52-B171-4EB7-9FF0-5597BF7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C0C-E7CC-47F5-8AC7-C34A79F4D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EB3D-BBCF-4EB5-BEC2-F83F222D0A3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творчество педагога и школьника – создание ситуации успеха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Г класс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ушкина Елена Викто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учител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стенгазеты «Учитель! Перед именем твоим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DSC02310"/>
          <p:cNvPicPr/>
          <p:nvPr/>
        </p:nvPicPr>
        <p:blipFill>
          <a:blip r:embed="rId1"/>
          <a:stretch/>
        </p:blipFill>
        <p:spPr>
          <a:xfrm>
            <a:off x="2987640" y="3429000"/>
            <a:ext cx="423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ный час «Лицом к здоровью». Влияние никотина на организм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е отношение к пробле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ие в рабо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цом к здоровь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Влияние никотина на организм подрост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омляем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лабевает памя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астает раздражи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Курение8"/>
          <p:cNvPicPr/>
          <p:nvPr/>
        </p:nvPicPr>
        <p:blipFill>
          <a:blip r:embed="rId1"/>
          <a:stretch/>
        </p:blipFill>
        <p:spPr>
          <a:xfrm>
            <a:off x="6156360" y="907920"/>
            <a:ext cx="2475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крытие Америки (1492г)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рок человечеств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26920" y="378936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тофель – благослов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ак – ка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1200754213_4771"/>
          <p:cNvPicPr/>
          <p:nvPr/>
        </p:nvPicPr>
        <p:blipFill>
          <a:blip r:embed="rId1"/>
          <a:stretch/>
        </p:blipFill>
        <p:spPr>
          <a:xfrm>
            <a:off x="6084720" y="4508640"/>
            <a:ext cx="2737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рост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3" descr="P9082216"/>
          <p:cNvPicPr/>
          <p:nvPr/>
        </p:nvPicPr>
        <p:blipFill>
          <a:blip r:embed="rId1"/>
          <a:stretch/>
        </p:blipFill>
        <p:spPr>
          <a:xfrm>
            <a:off x="1692360" y="2017800"/>
            <a:ext cx="66960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рост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стрее, чем у взрослого, формируется непреодолимое влечение к наркотизации организ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оявляется зависим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зду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держит пы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хлопные га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довитые выбросы заводов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678"/>
          <p:cNvPicPr/>
          <p:nvPr/>
        </p:nvPicPr>
        <p:blipFill>
          <a:blip r:embed="rId1"/>
          <a:stretch/>
        </p:blipFill>
        <p:spPr>
          <a:xfrm>
            <a:off x="2484360" y="3573360"/>
            <a:ext cx="5327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следствия для подрост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том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лабевает памя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астает раздражи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вочки и мальчики -  будущие родител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3" descr="1 002"/>
          <p:cNvPicPr/>
          <p:nvPr/>
        </p:nvPicPr>
        <p:blipFill>
          <a:blip r:embed="rId1"/>
          <a:stretch/>
        </p:blipFill>
        <p:spPr>
          <a:xfrm>
            <a:off x="468360" y="2492280"/>
            <a:ext cx="3959280" cy="304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1 003"/>
          <p:cNvPicPr/>
          <p:nvPr/>
        </p:nvPicPr>
        <p:blipFill>
          <a:blip r:embed="rId2"/>
          <a:stretch/>
        </p:blipFill>
        <p:spPr>
          <a:xfrm>
            <a:off x="4500720" y="4581360"/>
            <a:ext cx="3600360" cy="19227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autothumbs.jpeg"/>
          <p:cNvPicPr/>
          <p:nvPr/>
        </p:nvPicPr>
        <p:blipFill>
          <a:blip r:embed="rId3"/>
          <a:stretch/>
        </p:blipFill>
        <p:spPr>
          <a:xfrm>
            <a:off x="5508720" y="1916280"/>
            <a:ext cx="3240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удущий малыш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дства физическ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нервной системе (паралич, проблемы с дыханием, недоразвитие спинного мозг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боум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вень интеллекта развивать невозмож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вое сентябр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ллектуально – познавательная игра «Ум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7" descr="P1010351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 проблем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ный отказ от курени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збавление от вредной привычки - победа каждого человека над своей слабостью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ие фак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онце 16 века в Англии за курение казнили, а головы казнённых с трубкой во рту выставляли на площа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Турции курильщиков сажали на ко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чале 17 века в России за курение полагалась смертная казнь. У кого был найден табак, того надобно было пытать и бить кнутом, пока тот не признается, откуда взял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школах Пекина – изнурительная тренировка на велотренажере… Отучают от сигареты и приобщают к спор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 – это классно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3" descr="Изображение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й город – мой Томс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6" descr="P1010403"/>
          <p:cNvPicPr/>
          <p:nvPr/>
        </p:nvPicPr>
        <p:blipFill>
          <a:blip r:embed="rId1"/>
          <a:stretch/>
        </p:blipFill>
        <p:spPr>
          <a:xfrm>
            <a:off x="0" y="2408400"/>
            <a:ext cx="4500720" cy="3479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1010408"/>
          <p:cNvPicPr/>
          <p:nvPr/>
        </p:nvPicPr>
        <p:blipFill>
          <a:blip r:embed="rId2"/>
          <a:stretch/>
        </p:blipFill>
        <p:spPr>
          <a:xfrm>
            <a:off x="4761000" y="3500280"/>
            <a:ext cx="438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ятное с полезным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7" descr="P1010438"/>
          <p:cNvPicPr/>
          <p:nvPr/>
        </p:nvPicPr>
        <p:blipFill>
          <a:blip r:embed="rId1"/>
          <a:stretch/>
        </p:blipFill>
        <p:spPr>
          <a:xfrm>
            <a:off x="179280" y="2349360"/>
            <a:ext cx="4429080" cy="360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1010430"/>
          <p:cNvPicPr/>
          <p:nvPr/>
        </p:nvPicPr>
        <p:blipFill>
          <a:blip r:embed="rId2"/>
          <a:stretch/>
        </p:blipFill>
        <p:spPr>
          <a:xfrm>
            <a:off x="4761000" y="3357720"/>
            <a:ext cx="4383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езентация. Награжд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7" descr="P1010457"/>
          <p:cNvPicPr/>
          <p:nvPr/>
        </p:nvPicPr>
        <p:blipFill>
          <a:blip r:embed="rId1"/>
          <a:stretch/>
        </p:blipFill>
        <p:spPr>
          <a:xfrm>
            <a:off x="0" y="3357720"/>
            <a:ext cx="4608360" cy="350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1010461"/>
          <p:cNvPicPr/>
          <p:nvPr/>
        </p:nvPicPr>
        <p:blipFill>
          <a:blip r:embed="rId2"/>
          <a:stretch/>
        </p:blipFill>
        <p:spPr>
          <a:xfrm>
            <a:off x="5003640" y="2349360"/>
            <a:ext cx="4140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ятные воспоминан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6" descr="P1010463"/>
          <p:cNvPicPr/>
          <p:nvPr/>
        </p:nvPicPr>
        <p:blipFill>
          <a:blip r:embed="rId1"/>
          <a:stretch/>
        </p:blipFill>
        <p:spPr>
          <a:xfrm>
            <a:off x="2050920" y="2017800"/>
            <a:ext cx="6121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Здоровь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ие в спортивных мероприятиях. Личный зач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плаката «Наше здоровье – в наших руках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9" descr="P1000586"/>
          <p:cNvPicPr/>
          <p:nvPr/>
        </p:nvPicPr>
        <p:blipFill>
          <a:blip r:embed="rId1"/>
          <a:stretch/>
        </p:blipFill>
        <p:spPr>
          <a:xfrm>
            <a:off x="0" y="0"/>
            <a:ext cx="5724360" cy="37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P100062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414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P1000620"/>
          <p:cNvPicPr/>
          <p:nvPr/>
        </p:nvPicPr>
        <p:blipFill>
          <a:blip r:embed="rId3"/>
          <a:stretch/>
        </p:blipFill>
        <p:spPr>
          <a:xfrm>
            <a:off x="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P1000566"/>
          <p:cNvPicPr/>
          <p:nvPr/>
        </p:nvPicPr>
        <p:blipFill>
          <a:blip r:embed="rId4"/>
          <a:stretch/>
        </p:blipFill>
        <p:spPr>
          <a:xfrm>
            <a:off x="4211640" y="3284640"/>
            <a:ext cx="4932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ный час «Лицом к здоровью» (влияние алкоголя на организм подростка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я знаний об  алког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алкоголь влияет на организм подростка? (эксперимен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организовать досуг подрост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ы выбира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23:01Z</dcterms:created>
  <dc:creator>XP GAME 2007</dc:creator>
  <dc:description/>
  <dc:language>en-US</dc:language>
  <cp:lastModifiedBy>ZooM</cp:lastModifiedBy>
  <dcterms:modified xsi:type="dcterms:W3CDTF">2013-12-03T20:16:39Z</dcterms:modified>
  <cp:revision>16</cp:revision>
  <dc:subject/>
  <dc:title>Анализ работы за  I полугодие, 2009 – 2010г.</dc:title>
</cp:coreProperties>
</file>