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0B0-BAE7-4F1D-B681-2240DF37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4FD-C944-491C-B90D-8C65C66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94D-204D-4653-AD51-632A4926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BA1-79D5-4AEB-9DFC-6B7F2C08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9CB9-DE29-4ED9-8FE4-B62A99CC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67F-2663-4C30-BF1A-F9734EF4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C48F-3426-45AE-A575-D3802E71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12C0-D390-413A-8DEA-E37156A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7D2F-35CB-48DC-895A-304C9A3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15DB-F576-49D7-B43C-D21FDAE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0AAF-1DA7-4388-87F2-D1CEA748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E40-4E80-4828-8E10-466FF67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621-832E-4B81-9F44-382D4FB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8050-3B69-44FE-B1B8-BCE1310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3D5E-3CEF-4232-AB2F-3CAA0DF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650F-FBC3-4151-A8D5-747BCE65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C0A-BB96-4A3D-9CE6-8A5985B4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632-F17E-4636-B114-D916572E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8B9-4B42-4A47-A9D4-1C7B9C5C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A27-F18D-40FA-BC12-451AD16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17B-10EC-4007-A38D-C2EC640D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103-269D-4BE6-9A29-C0BD743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414-09A8-4053-B74B-9DA9912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739-144D-4CEF-9026-4A8A0BE3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24F-FE81-4712-B6F8-BECBECD5F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14B-8595-405C-AD69-287CEA188F7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творчество педагога и школьника – создание ситуации успеха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ный руковод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Г класс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ушкина Елена Викторо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учител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стенгазеты «Учитель! Перед именем твоим…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DSC02310"/>
          <p:cNvPicPr/>
          <p:nvPr/>
        </p:nvPicPr>
        <p:blipFill>
          <a:blip r:embed="rId1"/>
          <a:stretch/>
        </p:blipFill>
        <p:spPr>
          <a:xfrm>
            <a:off x="2987640" y="3429000"/>
            <a:ext cx="4233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. Влияние никотина на организм подрост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ое отношение к проблем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рабо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цом к здоровь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ahoma"/>
              </a:rPr>
              <a:t>Влияние никотина на организм подрост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4" descr="Курение8"/>
          <p:cNvPicPr/>
          <p:nvPr/>
        </p:nvPicPr>
        <p:blipFill>
          <a:blip r:embed="rId1"/>
          <a:stretch/>
        </p:blipFill>
        <p:spPr>
          <a:xfrm>
            <a:off x="6156360" y="907920"/>
            <a:ext cx="24750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крытие Америки (1492г)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рок человечеств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26920" y="3789360"/>
            <a:ext cx="77724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тофель – благослов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бак – ка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5" descr="1200754213_4771"/>
          <p:cNvPicPr/>
          <p:nvPr/>
        </p:nvPicPr>
        <p:blipFill>
          <a:blip r:embed="rId1"/>
          <a:stretch/>
        </p:blipFill>
        <p:spPr>
          <a:xfrm>
            <a:off x="6084720" y="4508640"/>
            <a:ext cx="2737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3" descr="P9082216"/>
          <p:cNvPicPr/>
          <p:nvPr/>
        </p:nvPicPr>
        <p:blipFill>
          <a:blip r:embed="rId1"/>
          <a:stretch/>
        </p:blipFill>
        <p:spPr>
          <a:xfrm>
            <a:off x="1692360" y="2017800"/>
            <a:ext cx="66960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росток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ыстрее, чем у взрослого, формируется непреодолимое влечение к наркотизации организ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Появляется зависим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здух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держит пы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хлопные га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довитые выбросы заводов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678"/>
          <p:cNvPicPr/>
          <p:nvPr/>
        </p:nvPicPr>
        <p:blipFill>
          <a:blip r:embed="rId1"/>
          <a:stretch/>
        </p:blipFill>
        <p:spPr>
          <a:xfrm>
            <a:off x="2484360" y="3573360"/>
            <a:ext cx="5327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ледствия для подрост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том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лабевает памя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астает раздражи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вочки и мальчики -  будущие родител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6" name="Picture 3" descr="1 002"/>
          <p:cNvPicPr/>
          <p:nvPr/>
        </p:nvPicPr>
        <p:blipFill>
          <a:blip r:embed="rId1"/>
          <a:stretch/>
        </p:blipFill>
        <p:spPr>
          <a:xfrm>
            <a:off x="468360" y="2492280"/>
            <a:ext cx="3959280" cy="304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1 003"/>
          <p:cNvPicPr/>
          <p:nvPr/>
        </p:nvPicPr>
        <p:blipFill>
          <a:blip r:embed="rId2"/>
          <a:stretch/>
        </p:blipFill>
        <p:spPr>
          <a:xfrm>
            <a:off x="4500720" y="4581360"/>
            <a:ext cx="3600360" cy="19227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autothumbs.jpeg"/>
          <p:cNvPicPr/>
          <p:nvPr/>
        </p:nvPicPr>
        <p:blipFill>
          <a:blip r:embed="rId3"/>
          <a:stretch/>
        </p:blipFill>
        <p:spPr>
          <a:xfrm>
            <a:off x="5508720" y="1916280"/>
            <a:ext cx="3240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удущий малыш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дства физическ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ения в нервной системе (паралич, проблемы с дыханием, недоразвитие спинного мозг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абоум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вень интеллекта развивать невозмож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ервое сентябр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теллектуально – познавательная игра «Ум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7" descr="P1010351"/>
          <p:cNvPicPr/>
          <p:nvPr/>
        </p:nvPicPr>
        <p:blipFill>
          <a:blip r:embed="rId1"/>
          <a:stretch/>
        </p:blipFill>
        <p:spPr>
          <a:xfrm>
            <a:off x="0" y="2492280"/>
            <a:ext cx="4716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проблем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ый отказ от курени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збавление от вредной привычки - победа каждого человека над своей слабостью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онце 16 века в Англии за курение казнили, а головы казнённых с трубкой во рту выставляли на площад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Турции курильщиков сажали на ко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чале 17 века в России за курение полагалась смертная казнь. У кого был найден табак, того надобно было пытать и бить кнутом, пока тот не признается, откуда взял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школах Пекина – изнурительная тренировка на велотренажере… Отучают от сигареты и приобщают к спор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доровье – это классно!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Изображение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й город – мой Томс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6" descr="P1010403"/>
          <p:cNvPicPr/>
          <p:nvPr/>
        </p:nvPicPr>
        <p:blipFill>
          <a:blip r:embed="rId1"/>
          <a:stretch/>
        </p:blipFill>
        <p:spPr>
          <a:xfrm>
            <a:off x="0" y="2408400"/>
            <a:ext cx="4500720" cy="3479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1010408"/>
          <p:cNvPicPr/>
          <p:nvPr/>
        </p:nvPicPr>
        <p:blipFill>
          <a:blip r:embed="rId2"/>
          <a:stretch/>
        </p:blipFill>
        <p:spPr>
          <a:xfrm>
            <a:off x="4761000" y="3500280"/>
            <a:ext cx="438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ое с полезным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7" descr="P1010438"/>
          <p:cNvPicPr/>
          <p:nvPr/>
        </p:nvPicPr>
        <p:blipFill>
          <a:blip r:embed="rId1"/>
          <a:stretch/>
        </p:blipFill>
        <p:spPr>
          <a:xfrm>
            <a:off x="179280" y="2349360"/>
            <a:ext cx="4429080" cy="360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1010430"/>
          <p:cNvPicPr/>
          <p:nvPr/>
        </p:nvPicPr>
        <p:blipFill>
          <a:blip r:embed="rId2"/>
          <a:stretch/>
        </p:blipFill>
        <p:spPr>
          <a:xfrm>
            <a:off x="4761000" y="3357720"/>
            <a:ext cx="4383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езентация. Награжде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7" descr="P1010457"/>
          <p:cNvPicPr/>
          <p:nvPr/>
        </p:nvPicPr>
        <p:blipFill>
          <a:blip r:embed="rId1"/>
          <a:stretch/>
        </p:blipFill>
        <p:spPr>
          <a:xfrm>
            <a:off x="0" y="3357720"/>
            <a:ext cx="4608360" cy="350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1010461"/>
          <p:cNvPicPr/>
          <p:nvPr/>
        </p:nvPicPr>
        <p:blipFill>
          <a:blip r:embed="rId2"/>
          <a:stretch/>
        </p:blipFill>
        <p:spPr>
          <a:xfrm>
            <a:off x="5003640" y="2349360"/>
            <a:ext cx="4140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ятные воспоминания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6" descr="P1010463"/>
          <p:cNvPicPr/>
          <p:nvPr/>
        </p:nvPicPr>
        <p:blipFill>
          <a:blip r:embed="rId1"/>
          <a:stretch/>
        </p:blipFill>
        <p:spPr>
          <a:xfrm>
            <a:off x="2050920" y="2017800"/>
            <a:ext cx="6121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нь Здоровь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ие в спортивных мероприятиях. Личный зач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 плаката «Наше здоровье – в наших руках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9" descr="P1000586"/>
          <p:cNvPicPr/>
          <p:nvPr/>
        </p:nvPicPr>
        <p:blipFill>
          <a:blip r:embed="rId1"/>
          <a:stretch/>
        </p:blipFill>
        <p:spPr>
          <a:xfrm>
            <a:off x="0" y="0"/>
            <a:ext cx="57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P1000621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414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P1000620"/>
          <p:cNvPicPr/>
          <p:nvPr/>
        </p:nvPicPr>
        <p:blipFill>
          <a:blip r:embed="rId3"/>
          <a:stretch/>
        </p:blipFill>
        <p:spPr>
          <a:xfrm>
            <a:off x="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P1000566"/>
          <p:cNvPicPr/>
          <p:nvPr/>
        </p:nvPicPr>
        <p:blipFill>
          <a:blip r:embed="rId4"/>
          <a:stretch/>
        </p:blipFill>
        <p:spPr>
          <a:xfrm>
            <a:off x="4211640" y="3284640"/>
            <a:ext cx="4932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лассный час «Лицом к здоровью» (влияние алкоголя на организм подростка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я знаний об  алкогол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алкоголь влияет на организм подростка? (эксперимен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организовать досуг подростк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ы выбира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7:23:01Z</dcterms:created>
  <dc:creator>XP GAME 2007</dc:creator>
  <dc:description/>
  <dc:language>en-US</dc:language>
  <cp:lastModifiedBy>ZooM</cp:lastModifiedBy>
  <dcterms:modified xsi:type="dcterms:W3CDTF">2013-12-03T20:16:39Z</dcterms:modified>
  <cp:revision>16</cp:revision>
  <dc:subject/>
  <dc:title>Анализ работы за  I полугодие, 2009 – 2010г.</dc:title>
</cp:coreProperties>
</file>