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2.wmf" ContentType="image/x-wmf"/>
  <Override PartName="/ppt/media/image29.gif" ContentType="image/gif"/>
  <Override PartName="/ppt/media/image28.gif" ContentType="image/gif"/>
  <Override PartName="/ppt/media/image30.gif" ContentType="image/gif"/>
  <Override PartName="/ppt/media/image8.wmf" ContentType="image/x-wmf"/>
  <Override PartName="/ppt/media/image5.gif" ContentType="image/gif"/>
  <Override PartName="/ppt/media/image35.gif" ContentType="image/gif"/>
  <Override PartName="/ppt/media/image9.wmf" ContentType="image/x-wmf"/>
  <Override PartName="/ppt/media/image6.gif" ContentType="image/gif"/>
  <Override PartName="/ppt/media/image36.gif" ContentType="image/gif"/>
  <Override PartName="/ppt/media/image7.gif" ContentType="image/gif"/>
  <Override PartName="/ppt/media/image13.gif" ContentType="image/gif"/>
  <Override PartName="/ppt/media/image31.gif" ContentType="image/gif"/>
  <Override PartName="/ppt/media/image1.gif" ContentType="image/gif"/>
  <Override PartName="/ppt/media/image24.gif" ContentType="image/gif"/>
  <Override PartName="/ppt/media/image34.gif" ContentType="image/gif"/>
  <Override PartName="/ppt/media/image4.gif" ContentType="image/gif"/>
  <Override PartName="/ppt/media/image27.gif" ContentType="image/gif"/>
  <Override PartName="/ppt/media/image23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22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10.wmf" ContentType="image/x-wmf"/>
  <Override PartName="/ppt/media/image14.gif" ContentType="image/gif"/>
  <Override PartName="/ppt/media/image11.wmf" ContentType="image/x-wmf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565-CC10-45A0-A0F2-F596C845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AE2-B548-4229-AECB-1D8B528E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6D7-B434-427D-9BC4-19D0A3BC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5AC-15B1-4B7E-8DD3-7EAD3B63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8CDF-FC8D-46FE-A466-5A06D8C6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4D11-B778-459B-80AB-3AAF31BC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D594-CE06-4E5D-BE55-5F851004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F78F-762D-41B8-A63F-AD499A22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8B53-EEEC-4589-9252-DF32CCB3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BD39-C02E-447F-90B2-F5A42F67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F3D2-455E-429F-932E-8925D64F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356-972A-445F-BC5C-06BBC7EB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5C89-109C-49A5-877E-B73905AC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9DE6-8988-46AF-A288-D923CEA7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24F7-2EE6-44F8-9B7D-E8350AA9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329C-1704-4958-8B3A-E83674C3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CCE6-6E61-412E-8673-E201E0DD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CBB-0574-48D8-94A7-75E91509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858-646E-43C1-BE52-235F4459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D48-8CAA-4A0A-8ED1-C923C02D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EE5-7BBE-44A6-AF54-955B4E13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2B6-52B4-463C-9FBB-435EB318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FA3-F081-4208-BF57-C1AECF7A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42D-C527-4C43-83A2-DD55CEBD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4BD-821A-45F0-8FED-48539457088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F3D7-5052-4CC7-A0FC-907C43FCC8E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4.gif"/><Relationship Id="rId3" Type="http://schemas.openxmlformats.org/officeDocument/2006/relationships/image" Target="../media/image21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791480" y="4905360"/>
            <a:ext cx="1352520" cy="195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252360" y="5229360"/>
            <a:ext cx="174312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Презентацию разработал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               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Волкова Н.В., учитель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МОУ «СОШ №1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 rot="20697000">
            <a:off x="468000" y="907560"/>
            <a:ext cx="77803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глийского языка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класс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547040" y="0"/>
            <a:ext cx="1596960" cy="191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366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frog is green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arrot is bright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fox is orang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hare is whit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195640" y="476280"/>
            <a:ext cx="57830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УЧИ СТИХОТВОР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1094040" cy="1152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1028880" cy="723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88596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908680" y="5157720"/>
            <a:ext cx="8240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Придумай рассказ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I have 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My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 is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My 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can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jump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908000" y="907920"/>
            <a:ext cx="576108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РАССКАЗКИН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96360" y="4869000"/>
            <a:ext cx="93636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1104840" cy="131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292720" y="4581360"/>
            <a:ext cx="1104840" cy="131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104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843280" y="476280"/>
            <a:ext cx="34797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 rot="559800">
            <a:off x="900000" y="1844280"/>
            <a:ext cx="609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 txBox="1"/>
          <p:nvPr/>
        </p:nvSpPr>
        <p:spPr>
          <a:xfrm rot="339000">
            <a:off x="3203280" y="1773360"/>
            <a:ext cx="113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wim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 rot="240000">
            <a:off x="1258560" y="3933360"/>
            <a:ext cx="84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un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580000" y="1916280"/>
            <a:ext cx="11048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ump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35280" y="4221000"/>
            <a:ext cx="1219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imb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84720" y="4292640"/>
            <a:ext cx="981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op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714240" cy="1019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093080" y="2205000"/>
            <a:ext cx="1285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68360" y="1125360"/>
            <a:ext cx="511344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СЧИТАЛКИН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8360" y="2708280"/>
          <a:ext cx="8229600" cy="2644920"/>
        </p:xfrm>
        <a:graphic>
          <a:graphicData uri="http://schemas.openxmlformats.org/drawingml/2006/table">
            <a:tbl>
              <a:tblPr/>
              <a:tblGrid>
                <a:gridCol w="1871640"/>
                <a:gridCol w="2448000"/>
                <a:gridCol w="2016000"/>
                <a:gridCol w="189396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 txBox="1"/>
          <p:nvPr/>
        </p:nvSpPr>
        <p:spPr>
          <a:xfrm>
            <a:off x="1258920" y="292428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435640" y="292428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87280" y="3860640"/>
            <a:ext cx="27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435640" y="3860640"/>
            <a:ext cx="276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258920" y="465300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435640" y="465300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67640" y="2924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67640" y="39337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67640" y="465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ИГРА «Делай и считай!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Verdana"/>
              </a:rPr>
              <a:t>Climb and count till five!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Jump and count till six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Swim and count till thre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457200" cy="619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308720" y="3357720"/>
            <a:ext cx="476280" cy="61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7380360" y="4581360"/>
            <a:ext cx="485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I have a..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340000" y="54936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ОЯ СЕМЬ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My family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2708280"/>
            <a:ext cx="0" cy="865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2637000"/>
            <a:ext cx="720720" cy="1008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637000"/>
            <a:ext cx="1440000" cy="504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258560" y="2637000"/>
            <a:ext cx="1800360" cy="64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700000" y="2637000"/>
            <a:ext cx="863640" cy="1079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148360" y="3716280"/>
            <a:ext cx="912600" cy="1297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588000" y="3357720"/>
            <a:ext cx="1152720" cy="1295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340000" y="3860640"/>
            <a:ext cx="863640" cy="1440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3448080" y="3933720"/>
            <a:ext cx="1139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Разуч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стихотворение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о животных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979640" y="333360"/>
            <a:ext cx="47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236000" y="4365720"/>
            <a:ext cx="1171440" cy="1114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1905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00000" y="2133720"/>
            <a:ext cx="73677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ЕСЁЛОЕ ПУТЕШЕСТВИЕ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987640" y="765000"/>
            <a:ext cx="362916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общающий урок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од урок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Организационный момен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Фонетическая заряд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Проверка зн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Физминут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 Закрепление изученного материа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6. Заключительный этап уро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ее зада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llo, boys and girls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w are you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w old are you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11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1559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r] – [r] – [r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d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t] – [d] – [t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b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p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b] – [p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v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f] – [v]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f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42920" y="836640"/>
            <a:ext cx="748980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онетическая заряд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2664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Verdana"/>
              </a:rPr>
              <a:t>Речевой образец: «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I can...</a:t>
            </a:r>
            <a:r>
              <a:rPr b="0" lang="ru-RU" sz="3200" spc="-1" strike="noStrike">
                <a:solidFill>
                  <a:srgbClr val="660066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56000" y="1052640"/>
            <a:ext cx="4392360" cy="83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г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"Умейкин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1224000" cy="1439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1271520" cy="1440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227640" y="2852640"/>
            <a:ext cx="1638360" cy="1363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050920" y="4292640"/>
            <a:ext cx="1619280" cy="1222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643280" y="4365720"/>
            <a:ext cx="1800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am green. I can jump. I can swi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am grey. I can swim. I cannot run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cannot g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am green. I cannot run. I cannot fl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47640" y="476280"/>
            <a:ext cx="633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ГАДАЙ ЗАГАД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140360" y="3860640"/>
            <a:ext cx="1511280" cy="1097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724360" y="5445000"/>
            <a:ext cx="3097440" cy="1295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азови жителей горо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68360" y="189000"/>
            <a:ext cx="489600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ЗВЕРЮШКИНО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627280" y="2997360"/>
            <a:ext cx="1285920" cy="115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1262160" cy="1227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1494000" cy="79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843280" y="47242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859280" y="458136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6516720" y="2997360"/>
            <a:ext cx="1428840" cy="97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877080" y="4653000"/>
            <a:ext cx="6667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спомни, как называютс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-английски цве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700360" y="404640"/>
            <a:ext cx="381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АДУГ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3429000"/>
            <a:ext cx="863640" cy="792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3429000"/>
            <a:ext cx="935280" cy="792000"/>
          </a:xfrm>
          <a:prstGeom prst="rect">
            <a:avLst/>
          </a:prstGeom>
          <a:solidFill>
            <a:srgbClr val="d1fbd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581360"/>
            <a:ext cx="93672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4581360"/>
            <a:ext cx="936360" cy="792360"/>
          </a:xfrm>
          <a:prstGeom prst="rect">
            <a:avLst/>
          </a:prstGeom>
          <a:solidFill>
            <a:srgbClr val="fffdf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08720" y="3429000"/>
            <a:ext cx="935280" cy="792000"/>
          </a:xfrm>
          <a:prstGeom prst="rect">
            <a:avLst/>
          </a:prstGeom>
          <a:solidFill>
            <a:srgbClr val="a5b19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3429000"/>
            <a:ext cx="863640" cy="792000"/>
          </a:xfrm>
          <a:prstGeom prst="rect">
            <a:avLst/>
          </a:prstGeom>
          <a:solidFill>
            <a:srgbClr val="930d0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0" y="4581360"/>
            <a:ext cx="936720" cy="792360"/>
          </a:xfrm>
          <a:prstGeom prst="rect">
            <a:avLst/>
          </a:prstGeom>
          <a:solidFill>
            <a:srgbClr val="1d2905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3429000"/>
            <a:ext cx="93492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7:51:34Z</dcterms:created>
  <dc:creator>student</dc:creator>
  <dc:description/>
  <dc:language>en-US</dc:language>
  <cp:lastModifiedBy>Сергей</cp:lastModifiedBy>
  <dcterms:modified xsi:type="dcterms:W3CDTF">2007-12-14T16:12:56Z</dcterms:modified>
  <cp:revision>38</cp:revision>
  <dc:subject/>
  <dc:title>Слайд 1</dc:title>
</cp:coreProperties>
</file>