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2.wmf" ContentType="image/x-wmf"/>
  <Override PartName="/ppt/media/image29.gif" ContentType="image/gif"/>
  <Override PartName="/ppt/media/image28.gif" ContentType="image/gif"/>
  <Override PartName="/ppt/media/image30.gif" ContentType="image/gif"/>
  <Override PartName="/ppt/media/image8.wmf" ContentType="image/x-wmf"/>
  <Override PartName="/ppt/media/image5.gif" ContentType="image/gif"/>
  <Override PartName="/ppt/media/image35.gif" ContentType="image/gif"/>
  <Override PartName="/ppt/media/image9.wmf" ContentType="image/x-wmf"/>
  <Override PartName="/ppt/media/image6.gif" ContentType="image/gif"/>
  <Override PartName="/ppt/media/image36.gif" ContentType="image/gif"/>
  <Override PartName="/ppt/media/image7.gif" ContentType="image/gif"/>
  <Override PartName="/ppt/media/image13.gif" ContentType="image/gif"/>
  <Override PartName="/ppt/media/image31.gif" ContentType="image/gif"/>
  <Override PartName="/ppt/media/image1.gif" ContentType="image/gif"/>
  <Override PartName="/ppt/media/image24.gif" ContentType="image/gif"/>
  <Override PartName="/ppt/media/image34.gif" ContentType="image/gif"/>
  <Override PartName="/ppt/media/image4.gif" ContentType="image/gif"/>
  <Override PartName="/ppt/media/image27.gif" ContentType="image/gif"/>
  <Override PartName="/ppt/media/image23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22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10.wmf" ContentType="image/x-wmf"/>
  <Override PartName="/ppt/media/image14.gif" ContentType="image/gif"/>
  <Override PartName="/ppt/media/image11.wmf" ContentType="image/x-wmf"/>
  <Override PartName="/ppt/media/image1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52F-9856-4E71-9A13-75134B04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5C09-9C3F-47A4-B146-AC1166AE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1478-8F34-4992-80F9-C617A213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4F3-9FFE-473C-8F82-23C14037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BDAC-D399-4E8F-B80F-5F6DD05F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226B-9BED-4F7A-9F28-8C2D9683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9ACF-B256-40FA-99F4-D124F483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697F-9896-4CAF-BD15-DC0D4C30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F6A4-9236-4F6D-BF96-A939F0EB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8A4A-A35D-4CBF-853B-C1EE5D0F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AB0C-270F-41AC-8A7A-286F6C61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637-1A51-43F2-B7BC-291421CD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0B56-5C92-4810-BFF2-913301C5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204A-2B95-44E4-8174-8C98D3BF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32B0-6F12-4F16-A211-59FABB0E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DCEE-EED7-450B-A70C-4B8F23E2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C628-0CB5-4512-8A8C-17542155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A85-8495-4B0A-93BB-AFE95456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885-4E29-43CF-896D-C9C20B7A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118-8527-4179-BC7A-E666178A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1B0F-56B0-4493-8657-C0AA5F71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A222-ECD1-4090-946F-B04FE4E1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015-4C91-4285-BC69-B33A8607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031-24BD-45FC-B8A6-9A2AEE8F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8C6F-AD23-4153-8DA9-47B0B60E01F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0E49-C3FB-42B7-B43B-BD6FE3B80C9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4.gif"/><Relationship Id="rId3" Type="http://schemas.openxmlformats.org/officeDocument/2006/relationships/image" Target="../media/image21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791480" y="4905360"/>
            <a:ext cx="1352520" cy="1952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-252360" y="5229360"/>
            <a:ext cx="1743120" cy="1628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Презентацию разработал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               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Волкова Н.В., учитель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МОУ «СОШ №1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 rot="20697000">
            <a:off x="468000" y="907560"/>
            <a:ext cx="778032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 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нглийского языка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класс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547040" y="0"/>
            <a:ext cx="1596960" cy="191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366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frog is green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parrot is bright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fox is orange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hare is white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195640" y="476280"/>
            <a:ext cx="57830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УЧИ СТИХОТВОР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1094040" cy="1152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940360" y="2708280"/>
            <a:ext cx="1028880" cy="723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572000" y="3645000"/>
            <a:ext cx="885960" cy="1143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5908680" y="5157720"/>
            <a:ext cx="8240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Verdana"/>
              </a:rPr>
              <a:t>Придумай рассказ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I have 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660033"/>
                </a:solidFill>
                <a:latin typeface="Verdana"/>
              </a:rPr>
              <a:t>               </a:t>
            </a: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           </a:t>
            </a: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My</a:t>
            </a:r>
            <a:r>
              <a:rPr b="0" lang="ru-RU" sz="3200" spc="-1" strike="noStrike">
                <a:solidFill>
                  <a:srgbClr val="660033"/>
                </a:solidFill>
                <a:latin typeface="Verdana"/>
              </a:rPr>
              <a:t>         </a:t>
            </a: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    is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My </a:t>
            </a:r>
            <a:r>
              <a:rPr b="0" lang="ru-RU" sz="3200" spc="-1" strike="noStrike">
                <a:solidFill>
                  <a:srgbClr val="660033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   can</a:t>
            </a:r>
            <a:r>
              <a:rPr b="0" lang="ru-RU" sz="32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jump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908000" y="907920"/>
            <a:ext cx="576108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РАССКАЗКИН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96360" y="4869000"/>
            <a:ext cx="936360" cy="863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627280" y="3357720"/>
            <a:ext cx="1104840" cy="1314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292720" y="4581360"/>
            <a:ext cx="1104840" cy="1314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1048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843280" y="476280"/>
            <a:ext cx="34797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зминут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"/>
          <p:cNvSpPr txBox="1"/>
          <p:nvPr/>
        </p:nvSpPr>
        <p:spPr>
          <a:xfrm rot="559800">
            <a:off x="900000" y="1844280"/>
            <a:ext cx="609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"/>
          <p:cNvSpPr txBox="1"/>
          <p:nvPr/>
        </p:nvSpPr>
        <p:spPr>
          <a:xfrm rot="339000">
            <a:off x="3203280" y="1773360"/>
            <a:ext cx="1133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wim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"/>
          <p:cNvSpPr txBox="1"/>
          <p:nvPr/>
        </p:nvSpPr>
        <p:spPr>
          <a:xfrm rot="240000">
            <a:off x="1258560" y="3933360"/>
            <a:ext cx="847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un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580000" y="1916280"/>
            <a:ext cx="11048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ump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635280" y="4221000"/>
            <a:ext cx="1219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limb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84720" y="4292640"/>
            <a:ext cx="981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top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714240" cy="1019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7093080" y="2205000"/>
            <a:ext cx="12859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268360" y="1125360"/>
            <a:ext cx="511344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СЧИТАЛКИН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68360" y="2708280"/>
          <a:ext cx="8229600" cy="2644920"/>
        </p:xfrm>
        <a:graphic>
          <a:graphicData uri="http://schemas.openxmlformats.org/drawingml/2006/table">
            <a:tbl>
              <a:tblPr/>
              <a:tblGrid>
                <a:gridCol w="1871640"/>
                <a:gridCol w="2448000"/>
                <a:gridCol w="2016000"/>
                <a:gridCol w="189396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 txBox="1"/>
          <p:nvPr/>
        </p:nvSpPr>
        <p:spPr>
          <a:xfrm>
            <a:off x="1258920" y="2924280"/>
            <a:ext cx="27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435640" y="2924280"/>
            <a:ext cx="27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187280" y="3860640"/>
            <a:ext cx="276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435640" y="3860640"/>
            <a:ext cx="276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258920" y="4653000"/>
            <a:ext cx="27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435640" y="4653000"/>
            <a:ext cx="27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667640" y="2924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67640" y="393372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667640" y="4653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ИГРА «Делай и считай!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Verdana"/>
              </a:rPr>
              <a:t>Climb and count till five!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Jump and count till six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Swim and count till three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236000" y="2205000"/>
            <a:ext cx="457200" cy="619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7308720" y="3357720"/>
            <a:ext cx="476280" cy="618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7380360" y="4581360"/>
            <a:ext cx="485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I have a..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340000" y="549360"/>
            <a:ext cx="439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МОЯ СЕМЬЯ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My family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/>
          <p:cNvSpPr/>
          <p:nvPr/>
        </p:nvSpPr>
        <p:spPr>
          <a:xfrm>
            <a:off x="4067280" y="2708280"/>
            <a:ext cx="0" cy="865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59280" y="2637000"/>
            <a:ext cx="720720" cy="1008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80000" y="2637000"/>
            <a:ext cx="1440000" cy="504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258560" y="2637000"/>
            <a:ext cx="1800360" cy="647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700000" y="2637000"/>
            <a:ext cx="863640" cy="1079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148360" y="3716280"/>
            <a:ext cx="912600" cy="1297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588000" y="3357720"/>
            <a:ext cx="1152720" cy="1295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2340000" y="3860640"/>
            <a:ext cx="863640" cy="1440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3448080" y="3933720"/>
            <a:ext cx="11397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Verdana"/>
              </a:rPr>
              <a:t>Разучит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660033"/>
                </a:solidFill>
                <a:latin typeface="Verdana"/>
              </a:rPr>
              <a:t>стихотворение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660033"/>
                </a:solidFill>
                <a:latin typeface="Verdana"/>
              </a:rPr>
              <a:t>о животных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979640" y="333360"/>
            <a:ext cx="478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236000" y="4365720"/>
            <a:ext cx="1171440" cy="1114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19051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900000" y="2133720"/>
            <a:ext cx="736776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ЕСЁЛОЕ ПУТЕШЕСТВИЕ"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987640" y="765000"/>
            <a:ext cx="3629160" cy="4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бобщающий урок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од урока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Организационный момен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Фонетическая заряд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Проверка зна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Физминут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. Закрепление изученного материал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6. Заключительный этап уро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машнее задан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4360" y="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ello, boys and girls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ow are you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ow old are you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11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15591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r] – [r] – [r]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d] 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t] – [d] – [t]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b] 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p] 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b] – [p]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v] 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f] – [v] 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f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42920" y="836640"/>
            <a:ext cx="748980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онетическая зарядк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348000" y="2060640"/>
            <a:ext cx="26640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11280" y="2205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Verdana"/>
              </a:rPr>
              <a:t>Речевой образец: « 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I can...</a:t>
            </a:r>
            <a:r>
              <a:rPr b="0" lang="ru-RU" sz="3200" spc="-1" strike="noStrike">
                <a:solidFill>
                  <a:srgbClr val="660066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556000" y="1052640"/>
            <a:ext cx="4392360" cy="83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го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"Умейкин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1224000" cy="1439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708360" y="2852640"/>
            <a:ext cx="1271520" cy="1440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227640" y="2852640"/>
            <a:ext cx="1638360" cy="1363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050920" y="4292640"/>
            <a:ext cx="1619280" cy="1222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4643280" y="4365720"/>
            <a:ext cx="18003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I am green. I can jump. I can swim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I am grey. I can swim. I cannot run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I cannot g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I am green. I cannot run. I cannot fl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547640" y="476280"/>
            <a:ext cx="633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ГАДАЙ ЗАГАД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140360" y="3860640"/>
            <a:ext cx="1511280" cy="1097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724360" y="5445000"/>
            <a:ext cx="3097440" cy="1295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411280" y="191628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Назови жителей горо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68360" y="189000"/>
            <a:ext cx="489600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РО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ЗВЕРЮШКИНО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627280" y="2997360"/>
            <a:ext cx="1285920" cy="1152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1262160" cy="1227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211640" y="3213000"/>
            <a:ext cx="1494000" cy="792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2843280" y="472428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4859280" y="4581360"/>
            <a:ext cx="100800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6516720" y="2997360"/>
            <a:ext cx="1428840" cy="97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6877080" y="4653000"/>
            <a:ext cx="6667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спомни, как называютс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-английски цвет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700360" y="404640"/>
            <a:ext cx="3816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РО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РАДУГА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3429000"/>
            <a:ext cx="863640" cy="792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3429000"/>
            <a:ext cx="935280" cy="792000"/>
          </a:xfrm>
          <a:prstGeom prst="rect">
            <a:avLst/>
          </a:prstGeom>
          <a:solidFill>
            <a:srgbClr val="d1fbd8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4581360"/>
            <a:ext cx="93672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40360" y="4581360"/>
            <a:ext cx="936360" cy="792360"/>
          </a:xfrm>
          <a:prstGeom prst="rect">
            <a:avLst/>
          </a:prstGeom>
          <a:solidFill>
            <a:srgbClr val="fffdf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08720" y="3429000"/>
            <a:ext cx="935280" cy="792000"/>
          </a:xfrm>
          <a:prstGeom prst="rect">
            <a:avLst/>
          </a:prstGeom>
          <a:solidFill>
            <a:srgbClr val="a5b19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6000" y="3429000"/>
            <a:ext cx="863640" cy="792000"/>
          </a:xfrm>
          <a:prstGeom prst="rect">
            <a:avLst/>
          </a:prstGeom>
          <a:solidFill>
            <a:srgbClr val="930d0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96000" y="4581360"/>
            <a:ext cx="936720" cy="792360"/>
          </a:xfrm>
          <a:prstGeom prst="rect">
            <a:avLst/>
          </a:prstGeom>
          <a:solidFill>
            <a:srgbClr val="1d2905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3429000"/>
            <a:ext cx="93492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7:51:34Z</dcterms:created>
  <dc:creator>student</dc:creator>
  <dc:description/>
  <dc:language>en-US</dc:language>
  <cp:lastModifiedBy>Сергей</cp:lastModifiedBy>
  <dcterms:modified xsi:type="dcterms:W3CDTF">2007-12-14T16:12:56Z</dcterms:modified>
  <cp:revision>38</cp:revision>
  <dc:subject/>
  <dc:title>Слайд 1</dc:title>
</cp:coreProperties>
</file>