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554B-1AA2-4493-BE0A-4C875FC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9B69-41F3-4F96-849B-B7A7989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0317-FD3F-4F33-BB53-E6FDC69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6DC0-4EDC-4192-84C7-2D4A4C7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9FE4-F2B7-43B6-9D82-3A980A62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935-5CF7-4202-A71D-88F2E85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AEC-57FE-458A-92F3-A6E4D2B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FDEE-BA8A-40C5-8D04-FA28844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67F4-08C8-4CE3-90C8-08043C6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9C4-017C-4DA2-9471-E110D451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5AB-EB5E-4A91-9BEE-14DB854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22BE-1377-448B-A521-BD824B53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D776-6299-409D-95D1-6BC85E7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02F4-EDEE-471C-AC79-46752AF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53D-85EF-41D3-9FDF-2A4E6ADC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23F9-EDC2-4B30-AEE9-FD1204A2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1B8C-5377-4D33-BD0F-01BE9C8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FAD9-1F76-4875-A7D6-0EFD665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01C8-60AB-4A4E-A84D-B27DC15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8D56-5C36-40C4-B559-D5EDD8A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2C82-1D85-493B-B4AA-DBBCB17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C928-E60A-41E9-861F-B755F73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1A19-D4BB-4CAF-830D-A3433AA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4361-6106-4649-ACDD-D8DDB45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384-5503-4229-8AA5-1FB29FE02C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ABD-2C7E-4943-8AB4-201E850AD0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75;&#1091;&#1073;&#1077;&#1088;&#1085;&#1080;&#1103;" TargetMode="External"/><Relationship Id="rId2" Type="http://schemas.openxmlformats.org/officeDocument/2006/relationships/hyperlink" Target="http://ru.wikipedia.org/wiki/&#1055;&#1077;&#1085;&#1079;&#1072;" TargetMode="External"/><Relationship Id="rId3" Type="http://schemas.openxmlformats.org/officeDocument/2006/relationships/hyperlink" Target="http://ru.wikipedia.org/wiki/&#1050;&#1091;&#1079;&#1085;&#1077;&#1094;&#1082;" TargetMode="External"/><Relationship Id="rId4" Type="http://schemas.openxmlformats.org/officeDocument/2006/relationships/hyperlink" Target="http://ru.wikipedia.org/wiki/&#1042;&#1086;&#1083;&#1086;&#1096;&#1080;&#1085;,_&#1052;&#1072;&#1082;&#1089;&#1080;&#1084;&#1080;&#1083;&#1080;&#1072;&#1085;_&#1040;&#1083;&#1077;&#1082;&#1089;&#1072;&#1085;&#1076;&#1088;&#1086;&#1074;&#1080;&#1095;" TargetMode="External"/><Relationship Id="rId5" Type="http://schemas.openxmlformats.org/officeDocument/2006/relationships/hyperlink" Target="http://ru.wikipedia.org/wiki/&#1062;&#1074;&#1077;&#1090;&#1072;&#1077;&#1074;&#1072;,_&#1052;&#1072;&#1088;&#1080;&#1085;&#1072;" TargetMode="External"/><Relationship Id="rId6" Type="http://schemas.openxmlformats.org/officeDocument/2006/relationships/hyperlink" Target="http://ru.wikipedia.org/wiki/&#1058;&#1072;&#1088;&#1082;&#1086;&#1074;&#1089;&#1082;&#1080;&#1081;,_&#1040;&#1088;&#1089;&#1077;&#1085;&#1080;&#1081;_&#1040;&#1083;&#1077;&#1082;&#1089;&#1072;&#1085;&#1076;&#1088;&#1086;&#1074;&#1080;&#1095;" TargetMode="External"/><Relationship Id="rId7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8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9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0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1" Type="http://schemas.openxmlformats.org/officeDocument/2006/relationships/hyperlink" Target="http://ru.wikipedia.org/wiki/&#1055;&#1091;&#1076;&#1086;&#1074;&#1082;&#1080;&#1085;" TargetMode="External"/><Relationship Id="rId12" Type="http://schemas.openxmlformats.org/officeDocument/2006/relationships/hyperlink" Target="http://ru.wikipedia.org/wiki/&#1056;&#1086;&#1097;&#1080;&#1085;&#1072;-&#1048;&#1085;&#1089;&#1072;&#1088;&#1086;&#1074;&#1072;,_&#1045;&#1082;&#1072;&#1090;&#1077;&#1088;&#1080;&#1085;&#1072;_&#1053;&#1080;&#1082;&#1086;&#1083;&#1072;&#1077;&#1074;&#1085;&#1072;" TargetMode="External"/><Relationship Id="rId13" Type="http://schemas.openxmlformats.org/officeDocument/2006/relationships/hyperlink" Target="http://ru.wikipedia.org/wiki/&#1041;&#1088;&#1102;&#1089;&#1086;&#1074;,_&#1042;&#1072;&#1083;&#1077;&#1088;&#1080;&#1081;" TargetMode="External"/><Relationship Id="rId14" Type="http://schemas.openxmlformats.org/officeDocument/2006/relationships/hyperlink" Target="http://ru.wikipedia.org/wiki/&#1055;&#1072;&#1089;&#1090;&#1077;&#1088;&#1085;&#1072;&#1082;,_&#1041;&#1086;&#1088;&#1080;&#1089;_&#1051;&#1077;&#1086;&#1085;&#1080;&#1076;&#1086;&#1074;&#1080;&#1095;" TargetMode="External"/><Relationship Id="rId15" Type="http://schemas.openxmlformats.org/officeDocument/2006/relationships/hyperlink" Target="http://ru.wikipedia.org/wiki/1917_&#1075;&#1086;&#1076;" TargetMode="External"/><Relationship Id="rId16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7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8" Type="http://schemas.openxmlformats.org/officeDocument/2006/relationships/hyperlink" Target="http://ru.wikipedia.org/wiki/1917" TargetMode="External"/><Relationship Id="rId19" Type="http://schemas.openxmlformats.org/officeDocument/2006/relationships/hyperlink" Target="http://ru.wikipedia.org/wiki/1922_&#1075;&#1086;&#1076;" TargetMode="External"/><Relationship Id="rId20" Type="http://schemas.openxmlformats.org/officeDocument/2006/relationships/hyperlink" Target="http://ru.wikipedia.org/wiki/&#1052;&#1077;&#1081;&#1077;&#1088;&#1093;&#1086;&#1083;&#1100;&#1076;" TargetMode="External"/><Relationship Id="rId21" Type="http://schemas.openxmlformats.org/officeDocument/2006/relationships/hyperlink" Target="http://ru.wikipedia.org/wiki/&#1056;&#1057;&#1060;&#1057;&#1056;" TargetMode="External"/><Relationship Id="rId22" Type="http://schemas.openxmlformats.org/officeDocument/2006/relationships/hyperlink" Target="http://ru.wikipedia.org/wiki/1922_&#1075;&#1086;&#1076;" TargetMode="External"/><Relationship Id="rId23" Type="http://schemas.openxmlformats.org/officeDocument/2006/relationships/hyperlink" Target="http://ru.wikipedia.org/wiki/1922" TargetMode="External"/><Relationship Id="rId24" Type="http://schemas.openxmlformats.org/officeDocument/2006/relationships/hyperlink" Target="http://ru.wikipedia.org/wiki/1926" TargetMode="External"/><Relationship Id="rId25" Type="http://schemas.openxmlformats.org/officeDocument/2006/relationships/hyperlink" Target="http://ru.wikipedia.org/wiki/&#1056;&#1091;&#1084;&#1080;" TargetMode="External"/><Relationship Id="rId26" Type="http://schemas.openxmlformats.org/officeDocument/2006/relationships/hyperlink" Target="http://ru.wikipedia.org/wiki/&#1044;&#1078;&#1072;&#1084;&#1080;" TargetMode="External"/><Relationship Id="rId27" Type="http://schemas.openxmlformats.org/officeDocument/2006/relationships/hyperlink" Target="http://ru.wikipedia.org/wiki/&#1058;&#1091;&#1084;&#1072;&#1085;&#1103;&#1085;,_&#1054;&#1074;&#1072;&#1085;&#1077;&#1089;" TargetMode="External"/><Relationship Id="rId28" Type="http://schemas.openxmlformats.org/officeDocument/2006/relationships/hyperlink" Target="http://ru.wikipedia.org/wiki/&#1053;&#1072;&#1083;&#1073;&#1072;&#1085;&#1076;&#1103;&#1085;" TargetMode="External"/><Relationship Id="rId29" Type="http://schemas.openxmlformats.org/officeDocument/2006/relationships/hyperlink" Target="http://ru.wikipedia.org/wiki/&#1048;&#1089;&#1072;&#1072;&#1082;&#1103;&#1085;,_&#1040;&#1074;&#1077;&#1090;&#1080;&#1082;" TargetMode="External"/><Relationship Id="rId30" Type="http://schemas.openxmlformats.org/officeDocument/2006/relationships/hyperlink" Target="http://ru.wikipedia.org/wiki/&#1048;&#1089;&#1072;&#1072;&#1082;&#1103;&#1085;,_&#1040;&#1074;&#1077;&#1090;&#1080;&#1082;" TargetMode="External"/><Relationship Id="rId31" Type="http://schemas.openxmlformats.org/officeDocument/2006/relationships/hyperlink" Target="http://ru.wikipedia.org/wiki/&#1041;&#1086;&#1088;&#1091;&#1090;&#1072;,_&#1050;&#1072;&#1079;&#1080;&#1089;" TargetMode="External"/><Relationship Id="rId32" Type="http://schemas.openxmlformats.org/officeDocument/2006/relationships/hyperlink" Target="http://ru.wikipedia.org/wiki/&#1041;&#1086;&#1088;&#1091;&#1090;&#1072;,_&#1050;&#1072;&#1079;&#1080;&#1089;" TargetMode="External"/><Relationship Id="rId33" Type="http://schemas.openxmlformats.org/officeDocument/2006/relationships/hyperlink" Target="http://ru.wikipedia.org/wiki/&#1041;&#1086;&#1088;&#1091;&#1090;&#1072;,_&#1050;&#1072;&#1079;&#1080;&#1089;" TargetMode="External"/><Relationship Id="rId34" Type="http://schemas.openxmlformats.org/officeDocument/2006/relationships/hyperlink" Target="http://ru.wikipedia.org/wiki/&#1043;&#1080;&#1088;&#1072;,_&#1051;&#1102;&#1076;&#1072;&#1089;" TargetMode="External"/><Relationship Id="rId35" Type="http://schemas.openxmlformats.org/officeDocument/2006/relationships/hyperlink" Target="http://ru.wikipedia.org/wiki/&#1043;&#1080;&#1088;&#1072;,_&#1051;&#1102;&#1076;&#1072;&#1089;" TargetMode="External"/><Relationship Id="rId36" Type="http://schemas.openxmlformats.org/officeDocument/2006/relationships/hyperlink" Target="http://ru.wikipedia.org/wiki/&#1043;&#1080;&#1088;&#1072;,_&#1051;&#1102;&#1076;&#1072;&#1089;" TargetMode="External"/><Relationship Id="rId37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8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9" Type="http://schemas.openxmlformats.org/officeDocument/2006/relationships/hyperlink" Target="http://ru.wikipedia.org/wiki/1964_&#1075;&#1086;&#1076;" TargetMode="External"/><Relationship Id="rId40" Type="http://schemas.openxmlformats.org/officeDocument/2006/relationships/hyperlink" Target="http://ru.wikipedia.org/wiki/&#1055;&#1077;&#1088;&#1077;&#1076;&#1077;&#1083;&#1082;&#1080;&#1085;&#1086;" TargetMode="External"/><Relationship Id="rId41" Type="http://schemas.openxmlformats.org/officeDocument/2006/relationships/hyperlink" Target="http://ru.wikipedia.org/wiki/1975" TargetMode="External"/><Relationship Id="rId42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3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4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5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4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2" Type="http://schemas.openxmlformats.org/officeDocument/2006/relationships/hyperlink" Target="http://ru.wikipedia.org/wiki/&#1052;&#1072;&#1072;&#1088;&#1080;,_&#1043;&#1091;&#1088;&#1075;&#1077;&#1085;" TargetMode="External"/><Relationship Id="rId3" Type="http://schemas.openxmlformats.org/officeDocument/2006/relationships/hyperlink" Target="http://ru.wikipedia.org/wiki/&#1052;&#1072;&#1072;&#1088;&#1080;,_&#1043;&#1091;&#1088;&#1075;&#1077;&#1085;" TargetMode="External"/><Relationship Id="rId4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ра Клавдиевна Звягинцева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(1894-1972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52720" y="1841400"/>
            <a:ext cx="323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детстве вера Звягинцева жила в с. Кунчерове Кузнецкого уезд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аратовской губерн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ыне Неверкинского района, училась в гимназиях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Пенз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узнец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Дружила с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аксимилианом Волош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Мариной Цветае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Арсением Тарков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Павло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Антоколь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ергее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Дурыл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рядом театральных людей. Её знакомство с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Пудовк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остоялось на рубеже 1910-х-1920-х годов во время участия в выездных спектаклях перед красноармейцами. Её воспоминания о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Екатерине Рощиной-Инсаро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Валерии Брюсов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Борисе Пастерна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других были частично опубликованы в советской печати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1917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на успешно окончила курсы сценического искусств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Е. Н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Музи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стала профессиональной актрисой.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191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1922 года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работала в профессиональных столичных труппах — в театре Комедии, затем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Мейерхоль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о Втором Советском передвижном театре,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РСФС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1922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Звягинцева навсегда ушла со сцены. Она выпустила в свет дебютный сборник стихов «На мосту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через несколько лет — «Московский ветер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Затем Звягинцева на несколько десятилетий погрузилась в переводы украинских, армянских, грузинских, белорусских, кабардинских и других поэтов СССР. Переводила также персидские газели и касыды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Ру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Джа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Особенно многочисленны её переводы с армянского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О. Туман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М.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Налбанд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А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Исаак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Публиковались также её переводы литовских поэто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Кази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Борут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4"/>
              </a:rPr>
              <a:t>Люда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5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6"/>
              </a:rPr>
              <a:t>Гир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7"/>
              </a:rPr>
              <a:t>Ванды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8"/>
              </a:rPr>
              <a:t>Диджюлит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9"/>
              </a:rPr>
              <a:t>1964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ера Клавдиевна снова начала писать собственные стихи. Основные произведения: «Саратовская земля», «Московский ветер», «По русским дорогам», «Зимняя звезда», «Вечерний день», «Исповедь», «Моя Армения», поэма «Радищев».Похоронена на кладбищ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0"/>
              </a:rPr>
              <a:t>Переделкин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её могил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1"/>
              </a:rPr>
              <a:t>197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установлен памятник работы известного армянского скульптор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2"/>
              </a:rPr>
              <a:t>Самвел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3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4"/>
              </a:rPr>
              <a:t>Казар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ту пору он был ещё студентом. Его нашёл профессор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5"/>
              </a:rPr>
              <a:t>Левон Мкртчя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вовлёк в проект изготовления памятника Звягинцев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очинен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мосту: Стихотворения / Обл. П. В. Сивкова. М., 1922. — 6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овский ветер: [Стихи]. М.: Узел, [1926]. — 3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усским дорогам: Стихи / Худ. М. Компанеец. [М.]: Сов. писатель, 1946. — 12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няя звезда: Стихи. М.: Сов. писатель, 1958. — 127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черний день: [Стихи]. [М.: Сов. писатель, 1963]. — 11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Сост. и авт. предисл Л. Мкртчян]. Ереван: Айпетрат, 1964. — 16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ведь: Стихи. М.: Сов. писатель, 1967. — 99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р. стихи / [Вступит. статья Л. Озерова]. М.: Худ. лит., 1968. — 271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Предисл. К. Чуковского; Сост. и вступит. статья Л. М. Мкртчяна]. Ереван: Айастан, 1969. — 18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евон Мкртчя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дейность и мастерство, Лит. Армения, 1958, № 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ари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 Г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нига признательности, Лит. Армения, 1961, № 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а Звягинцева. Моя Армения: Составление, предисловие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Левона Мкртчя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Ереван: Армгосиздат, 1964; Второе изд. Ереван: Айастан, 196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еров Л. Поэзия Веры Звягинцевой // Звягинцева В. Избр. стихи. М., 1968. С. 3—2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ткая литературн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он Мкртчян. Поэт Армении. Ереван: Айастан, 1974, 144 стр. (на арм.яз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уша, открытая людям. Воспоминания, статьи, очерки о Вере Звягинцевой: составление Е. К. Дейч. Ереван: Советакан грох, 1981, 28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. М. Мкртчян у памятника Звягинцевой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7353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асибо за внимание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2-06T16:10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