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0A12-D547-49A1-B976-010E2F46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880E-52B0-4ABA-BCCA-C5CE0168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40EE-F4FE-4D60-B3FC-C33E5DD0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941D-E9BC-4F27-97D0-A318F045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2452-88ED-494D-A228-DD14785D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2084-25E7-4AB5-BC72-F970127C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24B2-3B28-4CC8-BA3A-88DD43B8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CB9D-CB1F-44DE-A7FE-B6244086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BF0B-53DD-434C-911C-BA3F8BAB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6BE8-E02F-4216-B6EC-CD00E19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E53A-2469-4657-ADE8-CD0503D1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8A87-2A9B-41A4-B510-1CCB5AF2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4A5F-6C14-4117-8559-443EE3A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3CD8-DFEB-4B5C-AE71-6210264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C217-335E-4091-8278-3A2A47B3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D769-F5B0-4FC4-AFC1-2062DD5E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D7A2-88C8-4C48-9BA3-5A07FC37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4CA8-690B-46C2-884D-4E389BA8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6A02-1486-4FD7-810B-D1DD172E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6F4C-E53F-4146-80A1-49F0FB4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3980-AA07-453B-94E8-82BC7EE3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9F84-4E32-4281-B77B-BEAF47C2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96F4-4C46-4486-85EB-874F7DF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E72B-BFAF-4FBF-BFCE-C4D762A9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BD1F-5629-42E8-B060-3EA8AC0B1C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207-9979-486B-BA2C-0F3A2DD7AB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8;&#1072;&#1090;&#1086;&#1074;&#1089;&#1082;&#1072;&#1103;_&#1075;&#1091;&#1073;&#1077;&#1088;&#1085;&#1080;&#1103;" TargetMode="External"/><Relationship Id="rId2" Type="http://schemas.openxmlformats.org/officeDocument/2006/relationships/hyperlink" Target="http://ru.wikipedia.org/wiki/&#1055;&#1077;&#1085;&#1079;&#1072;" TargetMode="External"/><Relationship Id="rId3" Type="http://schemas.openxmlformats.org/officeDocument/2006/relationships/hyperlink" Target="http://ru.wikipedia.org/wiki/&#1050;&#1091;&#1079;&#1085;&#1077;&#1094;&#1082;" TargetMode="External"/><Relationship Id="rId4" Type="http://schemas.openxmlformats.org/officeDocument/2006/relationships/hyperlink" Target="http://ru.wikipedia.org/wiki/&#1042;&#1086;&#1083;&#1086;&#1096;&#1080;&#1085;,_&#1052;&#1072;&#1082;&#1089;&#1080;&#1084;&#1080;&#1083;&#1080;&#1072;&#1085;_&#1040;&#1083;&#1077;&#1082;&#1089;&#1072;&#1085;&#1076;&#1088;&#1086;&#1074;&#1080;&#1095;" TargetMode="External"/><Relationship Id="rId5" Type="http://schemas.openxmlformats.org/officeDocument/2006/relationships/hyperlink" Target="http://ru.wikipedia.org/wiki/&#1062;&#1074;&#1077;&#1090;&#1072;&#1077;&#1074;&#1072;,_&#1052;&#1072;&#1088;&#1080;&#1085;&#1072;" TargetMode="External"/><Relationship Id="rId6" Type="http://schemas.openxmlformats.org/officeDocument/2006/relationships/hyperlink" Target="http://ru.wikipedia.org/wiki/&#1058;&#1072;&#1088;&#1082;&#1086;&#1074;&#1089;&#1082;&#1080;&#1081;,_&#1040;&#1088;&#1089;&#1077;&#1085;&#1080;&#1081;_&#1040;&#1083;&#1077;&#1082;&#1089;&#1072;&#1085;&#1076;&#1088;&#1086;&#1074;&#1080;&#1095;" TargetMode="External"/><Relationship Id="rId7" Type="http://schemas.openxmlformats.org/officeDocument/2006/relationships/hyperlink" Target="http://ru.wikipedia.org/wiki/&#1040;&#1085;&#1090;&#1086;&#1082;&#1086;&#1083;&#1100;&#1089;&#1082;&#1080;&#1081;,_&#1055;&#1072;&#1074;&#1077;&#1083;_&#1043;&#1088;&#1080;&#1075;&#1086;&#1088;&#1100;&#1077;&#1074;&#1080;&#1095;" TargetMode="External"/><Relationship Id="rId8" Type="http://schemas.openxmlformats.org/officeDocument/2006/relationships/hyperlink" Target="http://ru.wikipedia.org/wiki/&#1040;&#1085;&#1090;&#1086;&#1082;&#1086;&#1083;&#1100;&#1089;&#1082;&#1080;&#1081;,_&#1055;&#1072;&#1074;&#1077;&#1083;_&#1043;&#1088;&#1080;&#1075;&#1086;&#1088;&#1100;&#1077;&#1074;&#1080;&#1095;" TargetMode="External"/><Relationship Id="rId9" Type="http://schemas.openxmlformats.org/officeDocument/2006/relationships/hyperlink" Target="http://ru.wikipedia.org/wiki/&#1044;&#1091;&#1088;&#1099;&#1083;&#1080;&#1085;,_&#1057;&#1077;&#1088;&#1075;&#1077;&#1081;_&#1053;&#1080;&#1082;&#1086;&#1083;&#1072;&#1077;&#1074;&#1080;&#1095;" TargetMode="External"/><Relationship Id="rId10" Type="http://schemas.openxmlformats.org/officeDocument/2006/relationships/hyperlink" Target="http://ru.wikipedia.org/wiki/&#1044;&#1091;&#1088;&#1099;&#1083;&#1080;&#1085;,_&#1057;&#1077;&#1088;&#1075;&#1077;&#1081;_&#1053;&#1080;&#1082;&#1086;&#1083;&#1072;&#1077;&#1074;&#1080;&#1095;" TargetMode="External"/><Relationship Id="rId11" Type="http://schemas.openxmlformats.org/officeDocument/2006/relationships/hyperlink" Target="http://ru.wikipedia.org/wiki/&#1055;&#1091;&#1076;&#1086;&#1074;&#1082;&#1080;&#1085;" TargetMode="External"/><Relationship Id="rId12" Type="http://schemas.openxmlformats.org/officeDocument/2006/relationships/hyperlink" Target="http://ru.wikipedia.org/wiki/&#1056;&#1086;&#1097;&#1080;&#1085;&#1072;-&#1048;&#1085;&#1089;&#1072;&#1088;&#1086;&#1074;&#1072;,_&#1045;&#1082;&#1072;&#1090;&#1077;&#1088;&#1080;&#1085;&#1072;_&#1053;&#1080;&#1082;&#1086;&#1083;&#1072;&#1077;&#1074;&#1085;&#1072;" TargetMode="External"/><Relationship Id="rId13" Type="http://schemas.openxmlformats.org/officeDocument/2006/relationships/hyperlink" Target="http://ru.wikipedia.org/wiki/&#1041;&#1088;&#1102;&#1089;&#1086;&#1074;,_&#1042;&#1072;&#1083;&#1077;&#1088;&#1080;&#1081;" TargetMode="External"/><Relationship Id="rId14" Type="http://schemas.openxmlformats.org/officeDocument/2006/relationships/hyperlink" Target="http://ru.wikipedia.org/wiki/&#1055;&#1072;&#1089;&#1090;&#1077;&#1088;&#1085;&#1072;&#1082;,_&#1041;&#1086;&#1088;&#1080;&#1089;_&#1051;&#1077;&#1086;&#1085;&#1080;&#1076;&#1086;&#1074;&#1080;&#1095;" TargetMode="External"/><Relationship Id="rId15" Type="http://schemas.openxmlformats.org/officeDocument/2006/relationships/hyperlink" Target="http://ru.wikipedia.org/wiki/1917_&#1075;&#1086;&#1076;" TargetMode="External"/><Relationship Id="rId16" Type="http://schemas.openxmlformats.org/officeDocument/2006/relationships/hyperlink" Target="http://ru.wikipedia.org/wiki/&#1052;&#1091;&#1079;&#1080;&#1083;&#1100;,_&#1045;&#1083;&#1077;&#1085;&#1072;_&#1053;&#1080;&#1082;&#1086;&#1083;&#1072;&#1077;&#1074;&#1085;&#1072;" TargetMode="External"/><Relationship Id="rId17" Type="http://schemas.openxmlformats.org/officeDocument/2006/relationships/hyperlink" Target="http://ru.wikipedia.org/wiki/&#1052;&#1091;&#1079;&#1080;&#1083;&#1100;,_&#1045;&#1083;&#1077;&#1085;&#1072;_&#1053;&#1080;&#1082;&#1086;&#1083;&#1072;&#1077;&#1074;&#1085;&#1072;" TargetMode="External"/><Relationship Id="rId18" Type="http://schemas.openxmlformats.org/officeDocument/2006/relationships/hyperlink" Target="http://ru.wikipedia.org/wiki/1917" TargetMode="External"/><Relationship Id="rId19" Type="http://schemas.openxmlformats.org/officeDocument/2006/relationships/hyperlink" Target="http://ru.wikipedia.org/wiki/1922_&#1075;&#1086;&#1076;" TargetMode="External"/><Relationship Id="rId20" Type="http://schemas.openxmlformats.org/officeDocument/2006/relationships/hyperlink" Target="http://ru.wikipedia.org/wiki/&#1052;&#1077;&#1081;&#1077;&#1088;&#1093;&#1086;&#1083;&#1100;&#1076;" TargetMode="External"/><Relationship Id="rId21" Type="http://schemas.openxmlformats.org/officeDocument/2006/relationships/hyperlink" Target="http://ru.wikipedia.org/wiki/&#1056;&#1057;&#1060;&#1057;&#1056;" TargetMode="External"/><Relationship Id="rId22" Type="http://schemas.openxmlformats.org/officeDocument/2006/relationships/hyperlink" Target="http://ru.wikipedia.org/wiki/1922_&#1075;&#1086;&#1076;" TargetMode="External"/><Relationship Id="rId23" Type="http://schemas.openxmlformats.org/officeDocument/2006/relationships/hyperlink" Target="http://ru.wikipedia.org/wiki/1922" TargetMode="External"/><Relationship Id="rId24" Type="http://schemas.openxmlformats.org/officeDocument/2006/relationships/hyperlink" Target="http://ru.wikipedia.org/wiki/1926" TargetMode="External"/><Relationship Id="rId25" Type="http://schemas.openxmlformats.org/officeDocument/2006/relationships/hyperlink" Target="http://ru.wikipedia.org/wiki/&#1056;&#1091;&#1084;&#1080;" TargetMode="External"/><Relationship Id="rId26" Type="http://schemas.openxmlformats.org/officeDocument/2006/relationships/hyperlink" Target="http://ru.wikipedia.org/wiki/&#1044;&#1078;&#1072;&#1084;&#1080;" TargetMode="External"/><Relationship Id="rId27" Type="http://schemas.openxmlformats.org/officeDocument/2006/relationships/hyperlink" Target="http://ru.wikipedia.org/wiki/&#1058;&#1091;&#1084;&#1072;&#1085;&#1103;&#1085;,_&#1054;&#1074;&#1072;&#1085;&#1077;&#1089;" TargetMode="External"/><Relationship Id="rId28" Type="http://schemas.openxmlformats.org/officeDocument/2006/relationships/hyperlink" Target="http://ru.wikipedia.org/wiki/&#1053;&#1072;&#1083;&#1073;&#1072;&#1085;&#1076;&#1103;&#1085;" TargetMode="External"/><Relationship Id="rId29" Type="http://schemas.openxmlformats.org/officeDocument/2006/relationships/hyperlink" Target="http://ru.wikipedia.org/wiki/&#1048;&#1089;&#1072;&#1072;&#1082;&#1103;&#1085;,_&#1040;&#1074;&#1077;&#1090;&#1080;&#1082;" TargetMode="External"/><Relationship Id="rId30" Type="http://schemas.openxmlformats.org/officeDocument/2006/relationships/hyperlink" Target="http://ru.wikipedia.org/wiki/&#1048;&#1089;&#1072;&#1072;&#1082;&#1103;&#1085;,_&#1040;&#1074;&#1077;&#1090;&#1080;&#1082;" TargetMode="External"/><Relationship Id="rId31" Type="http://schemas.openxmlformats.org/officeDocument/2006/relationships/hyperlink" Target="http://ru.wikipedia.org/wiki/&#1041;&#1086;&#1088;&#1091;&#1090;&#1072;,_&#1050;&#1072;&#1079;&#1080;&#1089;" TargetMode="External"/><Relationship Id="rId32" Type="http://schemas.openxmlformats.org/officeDocument/2006/relationships/hyperlink" Target="http://ru.wikipedia.org/wiki/&#1041;&#1086;&#1088;&#1091;&#1090;&#1072;,_&#1050;&#1072;&#1079;&#1080;&#1089;" TargetMode="External"/><Relationship Id="rId33" Type="http://schemas.openxmlformats.org/officeDocument/2006/relationships/hyperlink" Target="http://ru.wikipedia.org/wiki/&#1041;&#1086;&#1088;&#1091;&#1090;&#1072;,_&#1050;&#1072;&#1079;&#1080;&#1089;" TargetMode="External"/><Relationship Id="rId34" Type="http://schemas.openxmlformats.org/officeDocument/2006/relationships/hyperlink" Target="http://ru.wikipedia.org/wiki/&#1043;&#1080;&#1088;&#1072;,_&#1051;&#1102;&#1076;&#1072;&#1089;" TargetMode="External"/><Relationship Id="rId35" Type="http://schemas.openxmlformats.org/officeDocument/2006/relationships/hyperlink" Target="http://ru.wikipedia.org/wiki/&#1043;&#1080;&#1088;&#1072;,_&#1051;&#1102;&#1076;&#1072;&#1089;" TargetMode="External"/><Relationship Id="rId36" Type="http://schemas.openxmlformats.org/officeDocument/2006/relationships/hyperlink" Target="http://ru.wikipedia.org/wiki/&#1043;&#1080;&#1088;&#1072;,_&#1051;&#1102;&#1076;&#1072;&#1089;" TargetMode="External"/><Relationship Id="rId37" Type="http://schemas.openxmlformats.org/officeDocument/2006/relationships/hyperlink" Target="http://ru.wikipedia.org/w/index.php?title=&#1044;&#1080;&#1076;&#1078;&#1102;&#1083;&#1080;&#1090;&#1077;,_&#1042;&#1072;&#1085;&#1076;&#1072;&amp;action=edit&amp;redlink=1" TargetMode="External"/><Relationship Id="rId38" Type="http://schemas.openxmlformats.org/officeDocument/2006/relationships/hyperlink" Target="http://ru.wikipedia.org/w/index.php?title=&#1044;&#1080;&#1076;&#1078;&#1102;&#1083;&#1080;&#1090;&#1077;,_&#1042;&#1072;&#1085;&#1076;&#1072;&amp;action=edit&amp;redlink=1" TargetMode="External"/><Relationship Id="rId39" Type="http://schemas.openxmlformats.org/officeDocument/2006/relationships/hyperlink" Target="http://ru.wikipedia.org/wiki/1964_&#1075;&#1086;&#1076;" TargetMode="External"/><Relationship Id="rId40" Type="http://schemas.openxmlformats.org/officeDocument/2006/relationships/hyperlink" Target="http://ru.wikipedia.org/wiki/&#1055;&#1077;&#1088;&#1077;&#1076;&#1077;&#1083;&#1082;&#1080;&#1085;&#1086;" TargetMode="External"/><Relationship Id="rId41" Type="http://schemas.openxmlformats.org/officeDocument/2006/relationships/hyperlink" Target="http://ru.wikipedia.org/wiki/1975" TargetMode="External"/><Relationship Id="rId42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3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4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5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4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2" Type="http://schemas.openxmlformats.org/officeDocument/2006/relationships/hyperlink" Target="http://ru.wikipedia.org/wiki/&#1052;&#1072;&#1072;&#1088;&#1080;,_&#1043;&#1091;&#1088;&#1075;&#1077;&#1085;" TargetMode="External"/><Relationship Id="rId3" Type="http://schemas.openxmlformats.org/officeDocument/2006/relationships/hyperlink" Target="http://ru.wikipedia.org/wiki/&#1052;&#1072;&#1072;&#1088;&#1080;,_&#1043;&#1091;&#1088;&#1075;&#1077;&#1085;" TargetMode="External"/><Relationship Id="rId4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ера Клавдиевна Звягинцева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(1894-1972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52720" y="1841400"/>
            <a:ext cx="3238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Биограф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детстве вера Звягинцева жила в с. Кунчерове Кузнецкого уезд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аратовской губерн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ыне Неверкинского района, училась в гимназиях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Пенз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узнец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Дружила с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Максимилианом Волош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Мариной Цветаев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Арсением Тарковски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Павлом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Антокольски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Сергеем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Дурыл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рядом театральных людей. Её знакомство с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Пудовк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остоялось на рубеже 1910-х-1920-х годов во время участия в выездных спектаклях перед красноармейцами. Её воспоминания о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Екатерине Рощиной-Инсаров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Валерии Брюсов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Борисе Пастерна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других были частично опубликованы в советской печати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1917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она успешно окончила курсы сценического искусств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Е. Н.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Музил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стала профессиональной актрисой.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191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1922 года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работала в профессиональных столичных труппах — в театре Комедии, затем в театре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Мейерхоль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о Втором Советском передвижном театре, в Театре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РСФСР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1922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Звягинцева навсегда ушла со сцены. Она выпустила в свет дебютный сборник стихов «На мосту»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192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, через несколько лет — «Московский ветер»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19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Затем Звягинцева на несколько десятилетий погрузилась в переводы украинских, армянских, грузинских, белорусских, кабардинских и других поэтов СССР. Переводила также персидские газели и касыды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Рум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Джам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Особенно многочисленны её переводы с армянского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О. Туман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М.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8"/>
              </a:rPr>
              <a:t>Налбанд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9"/>
              </a:rPr>
              <a:t>А.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0"/>
              </a:rPr>
              <a:t>Исаак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Публиковались также её переводы литовских поэто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1"/>
              </a:rPr>
              <a:t>Казис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2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3"/>
              </a:rPr>
              <a:t>Борут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4"/>
              </a:rPr>
              <a:t>Людас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5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6"/>
              </a:rPr>
              <a:t>Гир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7"/>
              </a:rPr>
              <a:t>Ванды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8"/>
              </a:rPr>
              <a:t>Диджюлит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9"/>
              </a:rPr>
              <a:t>1964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ера Клавдиевна снова начала писать собственные стихи. Основные произведения: «Саратовская земля», «Московский ветер», «По русским дорогам», «Зимняя звезда», «Вечерний день», «Исповедь», «Моя Армения», поэма «Радищев».Похоронена на кладбище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0"/>
              </a:rPr>
              <a:t>Переделкин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её могиле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1"/>
              </a:rPr>
              <a:t>197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установлен памятник работы известного армянского скульптор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2"/>
              </a:rPr>
              <a:t>Самвел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3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4"/>
              </a:rPr>
              <a:t>Казар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 ту пору он был ещё студентом. Его нашёл профессор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5"/>
              </a:rPr>
              <a:t>Левон Мкртчя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вовлёк в проект изготовления памятника Звягинцев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очинен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мосту: Стихотворения / Обл. П. В. Сивкова. М., 1922. — 6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ковский ветер: [Стихи]. М.: Узел, [1926]. — 3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усским дорогам: Стихи / Худ. М. Компанеец. [М.]: Сов. писатель, 1946. — 12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няя звезда: Стихи. М.: Сов. писатель, 1958. — 127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черний день: [Стихи]. [М.: Сов. писатель, 1963]. — 11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Армения: [Стихи, избр. переводы] / [Сост. и авт. предисл Л. Мкртчян]. Ереван: Айпетрат, 1964. — 16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ведь: Стихи. М.: Сов. писатель, 1967. — 99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бр. стихи / [Вступит. статья Л. Озерова]. М.: Худ. лит., 1968. — 271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Армения: [Стихи, избр. переводы] / [Предисл. К. Чуковского; Сост. и вступит. статья Л. М. Мкртчяна]. Ереван: Айастан, 1969. — 18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евон Мкртчя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дейность и мастерство, Лит. Армения, 1958, № 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ари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 Г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нига признательности, Лит. Армения, 1961, № 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а Звягинцева. Моя Армения: Составление, предисловие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Левона Мкртчя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Ереван: Армгосиздат, 1964; Второе изд. Ереван: Айастан, 196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зеров Л. Поэзия Веры Звягинцевой // Звягинцева В. Избр. стихи. М., 1968. С. 3—2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ткая литературная энцикло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вон Мкртчян. Поэт Армении. Ереван: Айастан, 1974, 144 стр. (на арм.яз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уша, открытая людям. Воспоминания, статьи, очерки о Вере Звягинцевой: составление Е. К. Дейч. Ереван: Советакан грох, 1981, 28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. М. Мкртчян у памятника Звягинцевой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7353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асибо за внимание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2-06T16:10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