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EFD6-FA6C-47B9-90C8-19993D9C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6FBF-6796-4945-AE76-DB6C4B3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DBC0-507C-45B1-B08A-AC64641B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0771-DA8B-45E5-B13C-75D5AABB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85FC-468B-4F9D-A31E-60CC1B79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35AC-51F4-426A-BEB0-C7DC427A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BE7D-9011-4368-B93A-1EB8C0AB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180A-EAC4-4B8C-8DB1-98687D3D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CA6E-6CF1-4970-A3B0-40A02845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612D-D87D-493C-9BC9-B61D342F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839F-CC04-4646-8337-621F3844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CCE1-B3F8-44E8-9F81-CCA54E6E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F74F-0EC6-49A5-B08D-F347B51B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DE92-FC1D-4D54-88E6-7C426164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EA24-4285-45B3-ABD2-F8BE9976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20BD-63ED-4925-B781-401FD452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C334-0222-4265-8F08-8260B574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0102-CEDD-4934-BAEE-1BFC12BA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A211-DD4B-4378-AAC2-13D3E4BF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3EE9-5E23-4205-8481-2F1689E2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6196-94D8-474E-BF8B-D18C9642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D24F-043B-4998-9DB9-86A11F6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9907-5FB6-44B7-A67D-DA1ADE99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DBFB-E744-4974-828A-3497147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4017-5051-45E8-8B38-D2C94C3520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42C-7A56-4FE8-AFB9-6230277D64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8;&#1072;&#1090;&#1086;&#1074;&#1089;&#1082;&#1072;&#1103;_&#1075;&#1091;&#1073;&#1077;&#1088;&#1085;&#1080;&#1103;" TargetMode="External"/><Relationship Id="rId2" Type="http://schemas.openxmlformats.org/officeDocument/2006/relationships/hyperlink" Target="http://ru.wikipedia.org/wiki/&#1055;&#1077;&#1085;&#1079;&#1072;" TargetMode="External"/><Relationship Id="rId3" Type="http://schemas.openxmlformats.org/officeDocument/2006/relationships/hyperlink" Target="http://ru.wikipedia.org/wiki/&#1050;&#1091;&#1079;&#1085;&#1077;&#1094;&#1082;" TargetMode="External"/><Relationship Id="rId4" Type="http://schemas.openxmlformats.org/officeDocument/2006/relationships/hyperlink" Target="http://ru.wikipedia.org/wiki/&#1042;&#1086;&#1083;&#1086;&#1096;&#1080;&#1085;,_&#1052;&#1072;&#1082;&#1089;&#1080;&#1084;&#1080;&#1083;&#1080;&#1072;&#1085;_&#1040;&#1083;&#1077;&#1082;&#1089;&#1072;&#1085;&#1076;&#1088;&#1086;&#1074;&#1080;&#1095;" TargetMode="External"/><Relationship Id="rId5" Type="http://schemas.openxmlformats.org/officeDocument/2006/relationships/hyperlink" Target="http://ru.wikipedia.org/wiki/&#1062;&#1074;&#1077;&#1090;&#1072;&#1077;&#1074;&#1072;,_&#1052;&#1072;&#1088;&#1080;&#1085;&#1072;" TargetMode="External"/><Relationship Id="rId6" Type="http://schemas.openxmlformats.org/officeDocument/2006/relationships/hyperlink" Target="http://ru.wikipedia.org/wiki/&#1058;&#1072;&#1088;&#1082;&#1086;&#1074;&#1089;&#1082;&#1080;&#1081;,_&#1040;&#1088;&#1089;&#1077;&#1085;&#1080;&#1081;_&#1040;&#1083;&#1077;&#1082;&#1089;&#1072;&#1085;&#1076;&#1088;&#1086;&#1074;&#1080;&#1095;" TargetMode="External"/><Relationship Id="rId7" Type="http://schemas.openxmlformats.org/officeDocument/2006/relationships/hyperlink" Target="http://ru.wikipedia.org/wiki/&#1040;&#1085;&#1090;&#1086;&#1082;&#1086;&#1083;&#1100;&#1089;&#1082;&#1080;&#1081;,_&#1055;&#1072;&#1074;&#1077;&#1083;_&#1043;&#1088;&#1080;&#1075;&#1086;&#1088;&#1100;&#1077;&#1074;&#1080;&#1095;" TargetMode="External"/><Relationship Id="rId8" Type="http://schemas.openxmlformats.org/officeDocument/2006/relationships/hyperlink" Target="http://ru.wikipedia.org/wiki/&#1040;&#1085;&#1090;&#1086;&#1082;&#1086;&#1083;&#1100;&#1089;&#1082;&#1080;&#1081;,_&#1055;&#1072;&#1074;&#1077;&#1083;_&#1043;&#1088;&#1080;&#1075;&#1086;&#1088;&#1100;&#1077;&#1074;&#1080;&#1095;" TargetMode="External"/><Relationship Id="rId9" Type="http://schemas.openxmlformats.org/officeDocument/2006/relationships/hyperlink" Target="http://ru.wikipedia.org/wiki/&#1044;&#1091;&#1088;&#1099;&#1083;&#1080;&#1085;,_&#1057;&#1077;&#1088;&#1075;&#1077;&#1081;_&#1053;&#1080;&#1082;&#1086;&#1083;&#1072;&#1077;&#1074;&#1080;&#1095;" TargetMode="External"/><Relationship Id="rId10" Type="http://schemas.openxmlformats.org/officeDocument/2006/relationships/hyperlink" Target="http://ru.wikipedia.org/wiki/&#1044;&#1091;&#1088;&#1099;&#1083;&#1080;&#1085;,_&#1057;&#1077;&#1088;&#1075;&#1077;&#1081;_&#1053;&#1080;&#1082;&#1086;&#1083;&#1072;&#1077;&#1074;&#1080;&#1095;" TargetMode="External"/><Relationship Id="rId11" Type="http://schemas.openxmlformats.org/officeDocument/2006/relationships/hyperlink" Target="http://ru.wikipedia.org/wiki/&#1055;&#1091;&#1076;&#1086;&#1074;&#1082;&#1080;&#1085;" TargetMode="External"/><Relationship Id="rId12" Type="http://schemas.openxmlformats.org/officeDocument/2006/relationships/hyperlink" Target="http://ru.wikipedia.org/wiki/&#1056;&#1086;&#1097;&#1080;&#1085;&#1072;-&#1048;&#1085;&#1089;&#1072;&#1088;&#1086;&#1074;&#1072;,_&#1045;&#1082;&#1072;&#1090;&#1077;&#1088;&#1080;&#1085;&#1072;_&#1053;&#1080;&#1082;&#1086;&#1083;&#1072;&#1077;&#1074;&#1085;&#1072;" TargetMode="External"/><Relationship Id="rId13" Type="http://schemas.openxmlformats.org/officeDocument/2006/relationships/hyperlink" Target="http://ru.wikipedia.org/wiki/&#1041;&#1088;&#1102;&#1089;&#1086;&#1074;,_&#1042;&#1072;&#1083;&#1077;&#1088;&#1080;&#1081;" TargetMode="External"/><Relationship Id="rId14" Type="http://schemas.openxmlformats.org/officeDocument/2006/relationships/hyperlink" Target="http://ru.wikipedia.org/wiki/&#1055;&#1072;&#1089;&#1090;&#1077;&#1088;&#1085;&#1072;&#1082;,_&#1041;&#1086;&#1088;&#1080;&#1089;_&#1051;&#1077;&#1086;&#1085;&#1080;&#1076;&#1086;&#1074;&#1080;&#1095;" TargetMode="External"/><Relationship Id="rId15" Type="http://schemas.openxmlformats.org/officeDocument/2006/relationships/hyperlink" Target="http://ru.wikipedia.org/wiki/1917_&#1075;&#1086;&#1076;" TargetMode="External"/><Relationship Id="rId16" Type="http://schemas.openxmlformats.org/officeDocument/2006/relationships/hyperlink" Target="http://ru.wikipedia.org/wiki/&#1052;&#1091;&#1079;&#1080;&#1083;&#1100;,_&#1045;&#1083;&#1077;&#1085;&#1072;_&#1053;&#1080;&#1082;&#1086;&#1083;&#1072;&#1077;&#1074;&#1085;&#1072;" TargetMode="External"/><Relationship Id="rId17" Type="http://schemas.openxmlformats.org/officeDocument/2006/relationships/hyperlink" Target="http://ru.wikipedia.org/wiki/&#1052;&#1091;&#1079;&#1080;&#1083;&#1100;,_&#1045;&#1083;&#1077;&#1085;&#1072;_&#1053;&#1080;&#1082;&#1086;&#1083;&#1072;&#1077;&#1074;&#1085;&#1072;" TargetMode="External"/><Relationship Id="rId18" Type="http://schemas.openxmlformats.org/officeDocument/2006/relationships/hyperlink" Target="http://ru.wikipedia.org/wiki/1917" TargetMode="External"/><Relationship Id="rId19" Type="http://schemas.openxmlformats.org/officeDocument/2006/relationships/hyperlink" Target="http://ru.wikipedia.org/wiki/1922_&#1075;&#1086;&#1076;" TargetMode="External"/><Relationship Id="rId20" Type="http://schemas.openxmlformats.org/officeDocument/2006/relationships/hyperlink" Target="http://ru.wikipedia.org/wiki/&#1052;&#1077;&#1081;&#1077;&#1088;&#1093;&#1086;&#1083;&#1100;&#1076;" TargetMode="External"/><Relationship Id="rId21" Type="http://schemas.openxmlformats.org/officeDocument/2006/relationships/hyperlink" Target="http://ru.wikipedia.org/wiki/&#1056;&#1057;&#1060;&#1057;&#1056;" TargetMode="External"/><Relationship Id="rId22" Type="http://schemas.openxmlformats.org/officeDocument/2006/relationships/hyperlink" Target="http://ru.wikipedia.org/wiki/1922_&#1075;&#1086;&#1076;" TargetMode="External"/><Relationship Id="rId23" Type="http://schemas.openxmlformats.org/officeDocument/2006/relationships/hyperlink" Target="http://ru.wikipedia.org/wiki/1922" TargetMode="External"/><Relationship Id="rId24" Type="http://schemas.openxmlformats.org/officeDocument/2006/relationships/hyperlink" Target="http://ru.wikipedia.org/wiki/1926" TargetMode="External"/><Relationship Id="rId25" Type="http://schemas.openxmlformats.org/officeDocument/2006/relationships/hyperlink" Target="http://ru.wikipedia.org/wiki/&#1056;&#1091;&#1084;&#1080;" TargetMode="External"/><Relationship Id="rId26" Type="http://schemas.openxmlformats.org/officeDocument/2006/relationships/hyperlink" Target="http://ru.wikipedia.org/wiki/&#1044;&#1078;&#1072;&#1084;&#1080;" TargetMode="External"/><Relationship Id="rId27" Type="http://schemas.openxmlformats.org/officeDocument/2006/relationships/hyperlink" Target="http://ru.wikipedia.org/wiki/&#1058;&#1091;&#1084;&#1072;&#1085;&#1103;&#1085;,_&#1054;&#1074;&#1072;&#1085;&#1077;&#1089;" TargetMode="External"/><Relationship Id="rId28" Type="http://schemas.openxmlformats.org/officeDocument/2006/relationships/hyperlink" Target="http://ru.wikipedia.org/wiki/&#1053;&#1072;&#1083;&#1073;&#1072;&#1085;&#1076;&#1103;&#1085;" TargetMode="External"/><Relationship Id="rId29" Type="http://schemas.openxmlformats.org/officeDocument/2006/relationships/hyperlink" Target="http://ru.wikipedia.org/wiki/&#1048;&#1089;&#1072;&#1072;&#1082;&#1103;&#1085;,_&#1040;&#1074;&#1077;&#1090;&#1080;&#1082;" TargetMode="External"/><Relationship Id="rId30" Type="http://schemas.openxmlformats.org/officeDocument/2006/relationships/hyperlink" Target="http://ru.wikipedia.org/wiki/&#1048;&#1089;&#1072;&#1072;&#1082;&#1103;&#1085;,_&#1040;&#1074;&#1077;&#1090;&#1080;&#1082;" TargetMode="External"/><Relationship Id="rId31" Type="http://schemas.openxmlformats.org/officeDocument/2006/relationships/hyperlink" Target="http://ru.wikipedia.org/wiki/&#1041;&#1086;&#1088;&#1091;&#1090;&#1072;,_&#1050;&#1072;&#1079;&#1080;&#1089;" TargetMode="External"/><Relationship Id="rId32" Type="http://schemas.openxmlformats.org/officeDocument/2006/relationships/hyperlink" Target="http://ru.wikipedia.org/wiki/&#1041;&#1086;&#1088;&#1091;&#1090;&#1072;,_&#1050;&#1072;&#1079;&#1080;&#1089;" TargetMode="External"/><Relationship Id="rId33" Type="http://schemas.openxmlformats.org/officeDocument/2006/relationships/hyperlink" Target="http://ru.wikipedia.org/wiki/&#1041;&#1086;&#1088;&#1091;&#1090;&#1072;,_&#1050;&#1072;&#1079;&#1080;&#1089;" TargetMode="External"/><Relationship Id="rId34" Type="http://schemas.openxmlformats.org/officeDocument/2006/relationships/hyperlink" Target="http://ru.wikipedia.org/wiki/&#1043;&#1080;&#1088;&#1072;,_&#1051;&#1102;&#1076;&#1072;&#1089;" TargetMode="External"/><Relationship Id="rId35" Type="http://schemas.openxmlformats.org/officeDocument/2006/relationships/hyperlink" Target="http://ru.wikipedia.org/wiki/&#1043;&#1080;&#1088;&#1072;,_&#1051;&#1102;&#1076;&#1072;&#1089;" TargetMode="External"/><Relationship Id="rId36" Type="http://schemas.openxmlformats.org/officeDocument/2006/relationships/hyperlink" Target="http://ru.wikipedia.org/wiki/&#1043;&#1080;&#1088;&#1072;,_&#1051;&#1102;&#1076;&#1072;&#1089;" TargetMode="External"/><Relationship Id="rId37" Type="http://schemas.openxmlformats.org/officeDocument/2006/relationships/hyperlink" Target="http://ru.wikipedia.org/w/index.php?title=&#1044;&#1080;&#1076;&#1078;&#1102;&#1083;&#1080;&#1090;&#1077;,_&#1042;&#1072;&#1085;&#1076;&#1072;&amp;action=edit&amp;redlink=1" TargetMode="External"/><Relationship Id="rId38" Type="http://schemas.openxmlformats.org/officeDocument/2006/relationships/hyperlink" Target="http://ru.wikipedia.org/w/index.php?title=&#1044;&#1080;&#1076;&#1078;&#1102;&#1083;&#1080;&#1090;&#1077;,_&#1042;&#1072;&#1085;&#1076;&#1072;&amp;action=edit&amp;redlink=1" TargetMode="External"/><Relationship Id="rId39" Type="http://schemas.openxmlformats.org/officeDocument/2006/relationships/hyperlink" Target="http://ru.wikipedia.org/wiki/1964_&#1075;&#1086;&#1076;" TargetMode="External"/><Relationship Id="rId40" Type="http://schemas.openxmlformats.org/officeDocument/2006/relationships/hyperlink" Target="http://ru.wikipedia.org/wiki/&#1055;&#1077;&#1088;&#1077;&#1076;&#1077;&#1083;&#1082;&#1080;&#1085;&#1086;" TargetMode="External"/><Relationship Id="rId41" Type="http://schemas.openxmlformats.org/officeDocument/2006/relationships/hyperlink" Target="http://ru.wikipedia.org/wiki/1975" TargetMode="External"/><Relationship Id="rId42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3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4" Type="http://schemas.openxmlformats.org/officeDocument/2006/relationships/hyperlink" Target="http://ru.wikipedia.org/wiki/&#1050;&#1072;&#1079;&#1072;&#1088;&#1103;&#1085;,_&#1057;&#1072;&#1084;&#1074;&#1077;&#1083;_&#1040;&#1088;&#1084;&#1077;&#1085;&#1086;&#1074;&#1080;&#1095;" TargetMode="External"/><Relationship Id="rId45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4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2" Type="http://schemas.openxmlformats.org/officeDocument/2006/relationships/hyperlink" Target="http://ru.wikipedia.org/wiki/&#1052;&#1072;&#1072;&#1088;&#1080;,_&#1043;&#1091;&#1088;&#1075;&#1077;&#1085;" TargetMode="External"/><Relationship Id="rId3" Type="http://schemas.openxmlformats.org/officeDocument/2006/relationships/hyperlink" Target="http://ru.wikipedia.org/wiki/&#1052;&#1072;&#1072;&#1088;&#1080;,_&#1043;&#1091;&#1088;&#1075;&#1077;&#1085;" TargetMode="External"/><Relationship Id="rId4" Type="http://schemas.openxmlformats.org/officeDocument/2006/relationships/hyperlink" Target="http://ru.wikipedia.org/wiki/&#1052;&#1082;&#1088;&#1090;&#1095;&#1103;&#1085;,_&#1051;&#1077;&#1074;&#1086;&#1085;_&#1052;&#1082;&#1088;&#1090;&#1099;&#1095;&#1077;&#1074;&#1080;&#1095;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ера Клавдиевна Звягинцева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(1894-1972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52720" y="1841400"/>
            <a:ext cx="3238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Биограф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детстве вера Звягинцева жила в с. Кунчерове Кузнецкого уезд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аратовской губерн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ыне Неверкинского района, училась в гимназиях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Пенз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узнецк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Дружила с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Максимилианом Волош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Мариной Цветаев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Арсением Тарковски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Павлом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Антокольски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Сергеем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Дурыл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рядом театральных людей. Её знакомство с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Пудовкины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остоялось на рубеже 1910-х-1920-х годов во время участия в выездных спектаклях перед красноармейцами. Её воспоминания о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Екатерине Рощиной-Инсаров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Валерии Брюсов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Борисе Пастерна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других были частично опубликованы в советской печати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1917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она успешно окончила курсы сценического искусств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Е. Н.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Музил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стала профессиональной актрисой.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191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1922 года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работала в профессиональных столичных труппах — в театре Комедии, затем в театре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Мейерхоль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о Втором Советском передвижном театре, в Театре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РСФСР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1922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Звягинцева навсегда ушла со сцены. Она выпустила в свет дебютный сборник стихов «На мосту»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192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, через несколько лет — «Московский ветер»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19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Затем Звягинцева на несколько десятилетий погрузилась в переводы украинских, армянских, грузинских, белорусских, кабардинских и других поэтов СССР. Переводила также персидские газели и касыды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Рум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Джам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Особенно многочисленны её переводы с армянского (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О. Туман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М.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8"/>
              </a:rPr>
              <a:t>Налбанд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9"/>
              </a:rPr>
              <a:t>А.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0"/>
              </a:rPr>
              <a:t>Исаак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. Публиковались также её переводы литовских поэто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1"/>
              </a:rPr>
              <a:t>Казис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2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3"/>
              </a:rPr>
              <a:t>Борут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4"/>
              </a:rPr>
              <a:t>Людас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5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6"/>
              </a:rPr>
              <a:t>Гир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7"/>
              </a:rPr>
              <a:t>Ванды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8"/>
              </a:rPr>
              <a:t>Диджюлит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9"/>
              </a:rPr>
              <a:t>1964 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ера Клавдиевна снова начала писать собственные стихи. Основные произведения: «Саратовская земля», «Московский ветер», «По русским дорогам», «Зимняя звезда», «Вечерний день», «Исповедь», «Моя Армения», поэма «Радищев».Похоронена на кладбище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0"/>
              </a:rPr>
              <a:t>Переделкин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её могиле 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1"/>
              </a:rPr>
              <a:t>197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установлен памятник работы известного армянского скульптора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2"/>
              </a:rPr>
              <a:t>Самвела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3"/>
              </a:rPr>
              <a:t>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4"/>
              </a:rPr>
              <a:t>Казаря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 ту пору он был ещё студентом. Его нашёл профессор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5"/>
              </a:rPr>
              <a:t>Левон Мкртчя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 вовлёк в проект изготовления памятника Звягинцево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очинен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мосту: Стихотворения / Обл. П. В. Сивкова. М., 1922. — 6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ковский ветер: [Стихи]. М.: Узел, [1926]. — 3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усским дорогам: Стихи / Худ. М. Компанеец. [М.]: Сов. писатель, 1946. — 12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няя звезда: Стихи. М.: Сов. писатель, 1958. — 127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черний день: [Стихи]. [М.: Сов. писатель, 1963]. — 11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я Армения: [Стихи, избр. переводы] / [Сост. и авт. предисл Л. Мкртчян]. Ереван: Айпетрат, 1964. — 16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ведь: Стихи. М.: Сов. писатель, 1967. — 99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бр. стихи / [Вступит. статья Л. Озерова]. М.: Худ. лит., 1968. — 271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я Армения: [Стихи, избр. переводы] / [Предисл. К. Чуковского; Сост. и вступит. статья Л. М. Мкртчяна]. Ереван: Айастан, 1969. — 18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евон Мкртчя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дейность и мастерство, Лит. Армения, 1958, № 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ари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 Г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нига признательности, Лит. Армения, 1961, № 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а Звягинцева. Моя Армения: Составление, предисловие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Левона Мкртчя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Ереван: Армгосиздат, 1964; Второе изд. Ереван: Айастан, 196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зеров Л. Поэзия Веры Звягинцевой // Звягинцева В. Избр. стихи. М., 1968. С. 3—2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ткая литературная энцикло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вон Мкртчян. Поэт Армении. Ереван: Айастан, 1974, 144 стр. (на арм.яз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уша, открытая людям. Воспоминания, статьи, очерки о Вере Звягинцевой: составление Е. К. Дейч. Ереван: Советакан грох, 1981, 28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. М. Мкртчян у памятника Звягинцевой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7353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асибо за внимание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2-06T16:10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