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88B-DA1A-47D7-8F47-2D63F969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A6F-5F15-4A5E-A89A-FDACB223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8024A-9501-4855-B572-F0D7D754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8A0CD-494E-416C-AE5D-598CF81F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E8608-26F8-4A2C-BEDA-5821D9A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B116-20B8-4A87-BAD4-B77EF91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9801-4BE0-474B-AF67-9C77706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E145F-56C5-48E4-8CC7-3360A336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51AD7-99DA-4A5C-A8AE-B7775A6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91FFC-ABAF-4C8B-BA67-A1C1F39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76A1A-3A86-4650-86F5-24401D8B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70FBC-9C1F-45F3-BB27-7C7E047A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5A9-5486-426B-BCD1-A28DB24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89C2E0-3915-438D-9C18-80B6F4A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F0A924-8262-4245-A08C-5BF5ADFA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2E8E7A-3C50-4A6A-9051-FEA3C921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9F1EF9-B015-42A6-A197-ED5DC8B5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176A80-9FCD-4550-B7AC-4C09F390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EEE3DC-5AED-42EE-9F73-29C6950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892406-20D9-4307-BC17-2AB1F86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F434C-DD6E-4BBA-BBAB-8FC12C3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B2E75-C6D7-4635-B7D8-E4FB762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FF4944-D92C-4414-8FD8-6D13F22B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6DA-C061-44C6-A0F6-D9E12960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EA2CB2-D4F2-4A28-9E4A-E7196D95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8711-C6ED-4F50-B238-1507DF79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45254-8748-4C17-BB8D-9A95B22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82CE4-EB47-48CD-B9C2-DF5FD75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6C1D-6F03-4FBE-961E-44100AE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70E35-0ED1-400A-8160-EDB46250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E690-79ED-48A4-8187-B99C4067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9628-ED7A-4B0A-B9A6-E20980E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8B389-C747-4FAC-BD27-9F45B6AD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ACB74-6DFA-48BC-AC56-B8CEDE3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BD2-F213-4726-A5D1-CFBDED24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23C5-ACB2-470A-9A12-C69AB61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4D1C-99A1-42A4-9154-1F88F749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E0480-14C8-448E-8683-82F68CFC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ED838-B6BF-4B1A-864F-75DE2D65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21209-E407-47BD-A155-273D7E68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8B743-2534-4B57-9A0E-5803A35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54CBB-36F2-46BA-88BD-687BE353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CB068-2D95-4443-952E-CDAFA1FB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3DA0A-D985-45F7-9FB2-881B2CF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929DF-ED40-4313-BAF8-BA4C168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93A-00FF-4DC3-98EA-7BDC7E2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9219E-3DDD-4FDA-A516-58F1AEA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DB5DF-A87E-4D75-8ED2-E709A80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7D17B-E9CD-4CFB-9D93-946B23E8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6F188-E99F-4D04-BF74-7ED4114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56CDB-9C61-421C-9286-A203AED9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8AB1-E2E3-4BF9-96AE-10A7D1EE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5D68-0EB3-4495-AE77-801517E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4EA6-5C20-4DC6-A277-B3FACF3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4BDE-D62B-4277-BD6F-1A4EFDB0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D664-F6D9-446A-BAD1-F510B5AD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EA9-4F59-4D0B-9103-92C6A9D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130-9843-4EE8-B08D-EB32D1CB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04F-6C03-495E-AE20-1F2563C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571-B3AD-49B5-9815-684E5D6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C24-1D68-4ADE-9CB1-D619EF1B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0470-722F-4447-9A50-C9E4FB85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8D2D-418E-4D95-95E0-1A8B458F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6A4E-FA2D-4AD3-9BFD-A74AE82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7C65-0D69-40B8-A6C0-FB0D54B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5BC1-AA85-415A-8759-74DBA286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52A1-7B28-4EC0-8DB0-575CE70C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A63-B41A-4B5A-9055-8BC44F2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9DD1-00D3-4FE7-96A9-EC451B5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809A-1E60-4CFE-991C-0401BED0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4D92-7204-47F5-B22F-886848B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FE5A-0E2F-471F-A7BA-B4B4C1E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4F2D-3184-42BE-B3D7-E7A2C52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AD4C-27E2-4833-AEF2-8A0A1DAA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86E1-B104-42A3-8F9B-903DFA05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9302-5D93-4F9F-99B1-3BBD4EE7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C0CF-7F19-402E-A5C0-4FE5007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3CCF-DEE3-49D0-B361-59B5E6C1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1C4-8BAA-4F96-B7FD-B78E6C3F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C38BD-C5C2-4FEA-A427-5C59CD0E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71EB-EA74-47D9-A065-D153322E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7989-98B2-48E9-A5EE-CA60541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6061-30E5-4F02-B348-B003A0A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E81B-F28D-462A-83EB-68C646F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A1B4-F573-4209-9A48-E8F72AE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8334-85DC-4D07-BA48-A7933F9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D0C2-B2DC-4C13-80EE-15356000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7F31-16CD-478E-BE19-5BED90F8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DA37-7E70-4225-A2B5-5EDA6ECC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98A-0BD9-4307-BA6E-345B974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7E8B-32DE-4C1F-B5F8-7CE815D8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320F-A8E4-4804-8959-F0126BA2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93B6-E368-42EC-9284-6BAC552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1220-2028-47CE-A754-8AA8393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B13C-B2F9-4E45-8E79-AB041038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EDEF-4194-4609-9E43-D57D39E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93C3-76F4-4AA3-BA9E-5E82E6F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76AF-AA07-4601-BD9A-420ADF6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D160-86A9-452B-AD1A-F79DA74C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0989-A3A6-49F3-B5F7-E76A36DD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F38-A080-4561-959A-ADEF88B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5C5B-0336-483E-8C34-15476BBE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36BA-715D-416B-BC41-83F61173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954C-A767-48B5-81CA-47790E4F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73BF-53FC-4FA3-85EA-AE16973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2EAE-0137-49C2-9647-CCC8F74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9E64-3D76-4BDE-9105-DCBD277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C6E5-EAE2-4F30-93B8-14895B9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D1B6-99E0-450F-AAAD-294D78EA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B94B-3569-49C1-8BB2-D7FD86A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86B7-075D-4226-AEBA-0C9EFB0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B97-05A3-41F5-8E1E-C4FD613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D191-4482-4F39-99F8-5430803F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371D-4361-45B6-874B-2752D34C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A893-7057-43E1-8497-3ED38248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535CA-E76F-4E93-A074-195244D8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D6691-4A0A-4610-9A94-21A4038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A0183-2B92-4F6A-B6CE-A9355D0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B647-87FC-43E3-8DD2-0C9A0CC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D0E7-C6ED-485B-A3A9-DB8B09AF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763E-E176-4796-8CC1-E75C267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E3A0-FCC8-460B-A6E4-289B68C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858-BE23-40BA-A80C-5A2CB25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3BFD-1837-42E0-9457-D4DC9EA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C5F4-A3D9-4071-8238-480B361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6A53-CBC7-4017-9E85-BFE4347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EB5F-F0FA-4CCA-901D-1CCD35AF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AA4F-710C-4AED-BD3A-55AE135F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4882-8823-4AE1-9302-B20CEDC4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0513-95C0-49E6-BE15-DB204D64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AC73-BE11-4918-95C4-D0127288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226A-EBB8-4131-A178-FD4D1E1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94F7-39E0-4AAE-93C0-205238EE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EED-8857-4F47-937B-055731D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0CA0A-3FB2-4935-91C1-A3FD2CAE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3B17-18E7-47C4-A308-575330C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6233-6057-49A6-AFCE-A099EFA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E2246-696E-4026-BE82-9CA12925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F4A95-810C-45DB-96E6-014A398A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71FE7-46BB-4C05-9210-76C23683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7D99-2DAD-4C26-9D65-F6D835C5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3028B-0609-48A2-8E38-B3659C2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29D9-0FB3-445C-8C66-FECC29F0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F92BE-A810-4884-A956-AD522C74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1AC1-589F-4573-B1F2-FE6A22B540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F80-8EFC-4250-80E7-F8905F4037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64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4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DA7E-1B56-4023-94FD-A68A1ACB1F9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9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919-58F8-4173-B715-6F50722854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6D8-F06C-43DC-8459-8EF1205CE55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973-D1BC-48F8-A160-60625C8A69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E67-94E2-4BC0-AFD4-5284817723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09D-EE58-4FB7-A229-2B20526644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541A-7AC7-49C1-9CCD-FBE0015E39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260-BC88-4DEE-8DDD-86B1D010B2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DEF-3363-4762-95BF-8A02A6D10E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881F-B191-4A7C-BD99-2E3DA1B8E4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Урок – зачет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еме «Параллельность прямых и плоскостей»  (геометрия 10 клас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: Милашенко Лидия Алексе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. Чему равен   угол между параллельными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б)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) 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г) 18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. Как называется плоскость, по обе стороны от которой имеются точки тетраэдра (параллелепипе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б) сечение  в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г) не зна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Количество прямых, проходящих через две точ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  б) много     в) 1     г)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.Угол между пересекающимися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меньший   б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в) больший г)развернут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.Что является пересечением секущей плоскости и граней многогранника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точки  б) отрезки в) прямые г) лу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258920" y="2060640"/>
          <a:ext cx="3817800" cy="1560600"/>
        </p:xfrm>
        <a:graphic>
          <a:graphicData uri="http://schemas.openxmlformats.org/drawingml/2006/table">
            <a:tbl>
              <a:tblPr/>
              <a:tblGrid>
                <a:gridCol w="869760"/>
                <a:gridCol w="650880"/>
                <a:gridCol w="712800"/>
                <a:gridCol w="730440"/>
                <a:gridCol w="853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5076720" y="2017800"/>
          <a:ext cx="3878280" cy="1627200"/>
        </p:xfrm>
        <a:graphic>
          <a:graphicData uri="http://schemas.openxmlformats.org/drawingml/2006/table">
            <a:tbl>
              <a:tblPr/>
              <a:tblGrid>
                <a:gridCol w="885960"/>
                <a:gridCol w="749160"/>
                <a:gridCol w="747720"/>
                <a:gridCol w="747720"/>
                <a:gridCol w="7477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Тест №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1. Параллельные прямые АС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секаю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точках А и В. Точки С 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жат по одну сторону от плоскости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С=8 см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6 см, АВ=4 см. а)Докажите, что пряма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секае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некоторой точке Е. б)Найдите отрезок 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2. На ребр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, D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траэд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мечены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 так, ч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АВС параллельны. Найдите площадь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площадь треугольника АВС равна 1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2: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вопросы к г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задачи №104, №1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 теоретический материал главы «Параллельность прямых и плоскосте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ть усвоение темы в ходе зач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у учащихся потребности применения знаний в последую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уктура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становка цели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Буквенный дикта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дведение итогов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уквенны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Две непересекающиеся  прямые в пространстве и лежащие в одной плоск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Теорема, имеющая значение не столько сама по себе, сколько для дополнения друг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Любое множество точ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Количество прямых, проходящих через точку вне данной прямой, параллельно 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рямые, которые не пересекаются и не лежат в одной плос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Основная фигура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Раздел геометрии, в котором изучаются фигуры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Количество прямых, проходящих через одну точ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Поверхность, составленная из четырех треуг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Теорема, более полно характеризующая случаи взаимного расположения фигур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параллел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лем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фиг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од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.скрещивающие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.плоск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.стереомет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.м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9.тетраэд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.приз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459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акое число сторон может иметь сечение тетраэдр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     б) 4,5    в) 4      г)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Какое число сторон может иметь сечение параллелепипе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б) 4,5,6      в)5,6       г) 3,4,5,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Используя признак параллельности плоскостей в кубе, укажите число пар параллельных плоск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   б) 2        в) 1    г)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Каково взаимное расположение прямых в пространстве, если они лежат в одной плоскости и имеют одну общую точк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пересекаются  б) параллель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скрещиваются    г) совпада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Сколько пар ребер, лежащих на скрещивающихся прямых, имеет тетраэдр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     б) 1     в) 3       г)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8</cp:lastModifiedBy>
  <dcterms:modified xsi:type="dcterms:W3CDTF">2011-12-15T15:43:25Z</dcterms:modified>
  <cp:revision>37</cp:revision>
  <dc:subject/>
  <dc:title>PowerPoint Presentation</dc:title>
</cp:coreProperties>
</file>