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DB95-648C-4AF7-92B1-3FD59822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06B2-C25D-427E-B5B1-72F4CBEE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F3C00-2BEA-48F1-B904-D3AA8E83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3039B-6D50-4B13-AB00-3B5D7446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44CC4-5007-4AE8-B10C-93961F7D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CE8CF-71BE-4E9C-880B-E98C9ACC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E050E-A681-4186-8EBB-691CEF9E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0D47F-F495-48AB-9BAF-DC0F8F3C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CDEC3-6F7B-4931-B31E-39F1944A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C4701-92CD-4943-A576-EB3ECAB0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19D8A-692E-4115-B886-0434E45F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56E7CB-1E60-4B0B-AE57-92FBC286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BCE5-2697-437C-AB84-015F63931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1AB825-761E-49C0-A31D-F8912F70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0A5599-9C47-4205-994D-6E375C57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D495C4-5E1F-4228-847A-794762C7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9AFC09-34DB-4E89-BE75-C6BDA891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C2BD4B-8BA5-4ED8-8480-2C237B00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B6D926-069D-4830-9FEA-2AFB87EA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EA57AE-4FCF-4745-BD28-90C00FC6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F9E912-60A8-40F5-A0B4-C17F1B16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B59AD3-FF13-43B0-83DA-92242D45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640FD7-F254-4F5C-B645-E2E0C313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95E8-4924-41C8-8AD3-4ECA42B6C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3D7B50-12AE-4660-B192-A147A2029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21D3A-27C1-4ACC-85C2-D2ACF35EC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A8FBE-2176-4090-99D7-C5E77008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211D1-4017-4597-BABA-DBE02935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2963F-677E-4A65-AF8B-5A357705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E663E-21FE-4C31-B12A-8156B489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8D1B7-D768-47F4-AB21-7E5CBA9B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1C163-CC01-43F7-9611-3E77E736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55083-F817-491E-A3EB-35F2E72A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D44A4-6DE7-4485-B2B5-A88C48FF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5871-34C5-471E-84A0-EFD2D2914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56BF9-2C9B-452F-8E41-BC7C8EAF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C7E09-7439-4E62-8904-B3782843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78B52-E1C2-4B57-86AE-E77AF15C2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80FC7-D905-410D-AF68-10039083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B94EE-B599-4380-BCB7-1B9BC343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E7DB97-999E-467F-9605-6A59725C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D8D22-EB6C-4665-9558-791F5D51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22C166-CD32-45E8-8AFF-1C727120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91C190-B307-4966-A9C0-4402EC2D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3DB956-8B2E-44FD-8CFB-5F1B4534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E782-79AA-4235-84E3-DF7ED704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53E76-146A-4A54-877E-E1121104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FB3E1-083B-4B57-BC38-DD1095BB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195A80-E289-4B13-AFA7-DF240D93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FD6280-6C07-4916-BBBE-65DAB7C7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683CF9-961C-47BE-B479-7E176DC00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F83E-1540-408F-BCEE-9CF7FD10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93BE-9E81-4596-9CFD-F0249587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B772-73AF-4249-AA0D-83FFBE12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045C-555D-415E-950E-9B0256D9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EAE0-7952-4F91-8061-E85C9B8C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3FD5-E757-4C6A-9147-F41D458E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A43A-EF52-48AA-AB21-304CEF4F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81A3-DA5B-435B-B7C7-2BC74DFD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2D95-FBED-45AF-A8A4-381EF787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81F4-25F9-466A-BB26-D0CB30F6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497F-7F2F-4B4A-BDE8-06A07B03F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3E0C5-C389-48CB-B3A7-C7F9D1386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8CE02-4B87-431F-B292-C190A9A1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AB050-3382-401A-B3CB-307BEF52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5DE89-DB0E-4092-91CA-38B70A0A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DFA96-4FA2-4B93-8496-2EDD7527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916A-B27C-4C93-A2D0-307E5FE3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0E5F7-5887-4FB5-81E6-6FC354D9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C2EF5-0997-49D0-8E3C-260D9807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1D613-F399-459D-9F51-17603C1A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A9546-D567-4A9F-A74D-0EB5C04C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35331-B4B6-41C5-991E-65D50A9C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EBB13-AE7D-42C4-86BA-64121E6B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0EA2D-2474-47BA-8DE9-1A3BA9E0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8D713-941F-40D3-BBEC-41E6CC08B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FF37F-5152-4B95-9C97-942EABF4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75BCF-4A1A-41F8-9703-681B50A0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1121-D9E0-483C-95E6-CBB0DB89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254BF-DE8E-46D5-963C-1A3ECC2A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27D02-51D3-4CDB-899D-61DA08F1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8244C-B322-4ABC-A24A-DC3AF1F8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C28C1-C283-4DAC-81AC-5F77E81E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40DD0-54DA-49C8-A541-27D64083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9712E-A009-4C86-89F6-D6C095E1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B38A4-94CD-4F20-BB0B-C9D59C1E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FC2B6-9783-4CA0-A0F0-B6743949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D7B90-1C0C-4C67-B5A7-BA24BBB0F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DCE53-6ACA-4852-8240-D35A56E4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8680-A6DF-46F1-9FA8-0E1B587D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4565F-C14F-4E84-A75F-673F581E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F5AC4-18BE-41B0-B17F-886A1D53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17DC6-9736-4F03-BDAE-BDCE3236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5F39C-300C-4560-8076-DECB8943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3ABE4-CD51-4494-B468-DFF8FB33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60B58-9CAD-45E1-BA9D-D34C1E74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533CC-A087-4FA2-A5B9-7275A3F3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4F5C2-EA34-4C72-97BA-24CC4BCC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83EC9-6FFF-43AF-B9CD-3FABB7D5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AE901-2093-420E-891D-78987116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7FA0-3AE6-4CAC-849C-EF4A0A80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3921F-FAF3-4A5E-BD48-EF03103D7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F91B4-E37E-4B06-9958-532B6B55C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D72A1-9133-4109-8B95-C5664EEC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2F2CE-4679-4090-A25F-0DD3198E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BC558-9DC2-420B-9BCC-FFAA0F4D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8791C-D626-4A21-B652-3FD75BF2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05AE6-A3AC-4AFD-BE71-51148229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29615-E98D-416A-A74F-B7201E44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96B50-BE98-4550-BCC6-23A16659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11D58-CFEA-4511-8DB5-5B1F20FF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486C-F783-4CA8-A902-ADAA2E43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A6F26-2D55-4C8A-B91B-C9F215A6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0FE54-3E9A-4B0D-8E76-4BDA947BB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5B248-D732-4416-B41F-B17E0C39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47067-953C-482F-A8B9-90CCCC2B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32DF8-E3D0-4B86-80CB-049F79E0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34F7F-1DE7-4200-927D-E7BB10D7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16A98-C3E9-4A73-BE1D-D9C2D8FF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1BCA9-ABC6-4097-9A5D-910B2337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B6FCC-72C0-4189-8B43-89550592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7BD77-42A8-4A66-8990-BB17B321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94AF-B591-472D-A4F3-C8AC4D7D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D592F-521E-4171-80FD-F092F771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D8A37-CA72-4FF9-AD41-28EF3D4C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0C56F-469B-49E1-8888-7A47364A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DA0E4-FF4E-4CD1-A10B-E19C7A43D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2D1F9-65DB-401F-8CB9-93616B6DE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71444-C21B-48E2-BF84-3F4EA715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A3CDD-4A57-4E36-8733-CFCBF11F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A1A0A-1B69-4355-900F-DD19069B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99820-96D3-44C4-A150-F936E8F7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A3A71-C534-42C8-ADBF-BA1E0C6B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3345-AE20-4D4D-80D8-8A3F1B57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C65BB-7581-4791-B304-A46334EA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62260-DD0A-4604-B252-35A1B135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10CE4-6A0C-4E4A-9517-11F473AA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D2671-0D8D-47E1-9575-DB9C4346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788D4-27EC-4B86-B72E-DC4C3D6E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8D2AD-649A-4613-ABD3-091C74C45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557E3-0BA0-4E00-9208-5232D5B4C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27FEA-3039-4243-B20F-E621E32C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801F6-22C7-472E-8F2D-7ACCE1A8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A784F-A565-491A-ABE5-CE076FDA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97.xml"/><Relationship Id="rId35" Type="http://schemas.openxmlformats.org/officeDocument/2006/relationships/slideLayout" Target="../slideLayouts/slideLayout98.xml"/><Relationship Id="rId36" Type="http://schemas.openxmlformats.org/officeDocument/2006/relationships/slideLayout" Target="../slideLayouts/slideLayout99.xml"/><Relationship Id="rId37" Type="http://schemas.openxmlformats.org/officeDocument/2006/relationships/slideLayout" Target="../slideLayouts/slideLayout100.xml"/><Relationship Id="rId38" Type="http://schemas.openxmlformats.org/officeDocument/2006/relationships/slideLayout" Target="../slideLayouts/slideLayout101.xml"/><Relationship Id="rId39" Type="http://schemas.openxmlformats.org/officeDocument/2006/relationships/slideLayout" Target="../slideLayouts/slideLayout102.xml"/><Relationship Id="rId40" Type="http://schemas.openxmlformats.org/officeDocument/2006/relationships/slideLayout" Target="../slideLayouts/slideLayout103.xml"/><Relationship Id="rId41" Type="http://schemas.openxmlformats.org/officeDocument/2006/relationships/slideLayout" Target="../slideLayouts/slideLayout104.xml"/><Relationship Id="rId42" Type="http://schemas.openxmlformats.org/officeDocument/2006/relationships/slideLayout" Target="../slideLayouts/slideLayout105.xml"/><Relationship Id="rId43" Type="http://schemas.openxmlformats.org/officeDocument/2006/relationships/slideLayout" Target="../slideLayouts/slideLayout106.xml"/><Relationship Id="rId44" Type="http://schemas.openxmlformats.org/officeDocument/2006/relationships/slideLayout" Target="../slideLayouts/slideLayout107.xml"/><Relationship Id="rId4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1FE2-14F0-40D7-9A69-FD7C991EF8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F5E3-5A2E-4AD9-9C89-BC1F3D2F34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43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644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6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647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9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9DC8-44E3-44A8-9865-A89474512109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694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D79B-A510-4345-B03A-74B0F29D009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6878-CF12-49E8-8AE6-AC31BC6F85F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8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8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8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8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8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8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8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026B-E00A-4AD4-884A-84311AFA99F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0FBD-B28D-4BF3-B1AE-AD576AA707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3E32-6C8C-4465-A748-6FA16E8C1DB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2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17E1-E585-48F3-A191-D573B02CF08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6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12CB-ECF3-49BD-A0A7-8EDCECF9BE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8E0B-0A0E-47C8-A74D-81CF0B3B526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05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8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09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10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11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12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8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8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4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8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8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8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8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8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20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1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2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3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4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5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6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7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28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29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1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2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3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4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5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6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7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8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9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0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1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2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3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4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5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6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7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48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EA89-7E89-454B-BB1A-A18EC202D36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4"/>
    <p:sldLayoutId id="2147483754" r:id="rId35"/>
    <p:sldLayoutId id="2147483755" r:id="rId36"/>
    <p:sldLayoutId id="2147483756" r:id="rId37"/>
    <p:sldLayoutId id="2147483757" r:id="rId38"/>
    <p:sldLayoutId id="2147483758" r:id="rId39"/>
    <p:sldLayoutId id="2147483759" r:id="rId40"/>
    <p:sldLayoutId id="2147483760" r:id="rId41"/>
    <p:sldLayoutId id="2147483761" r:id="rId42"/>
    <p:sldLayoutId id="2147483762" r:id="rId43"/>
    <p:sldLayoutId id="2147483763" r:id="rId44"/>
    <p:sldLayoutId id="2147483764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Урок – зачет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теме «Параллельность прямых и плоскостей»  (геометрия 10 класс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втор: Милашенко Лидия Алексеев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/>
          </p:nvPr>
        </p:nvSpPr>
        <p:spPr>
          <a:xfrm>
            <a:off x="826920" y="83664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6. Чему равен   угол между параллельными прямым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б) 9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в) 45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г) 18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7. Как называется плоскость, по обе стороны от которой имеются точки тетраэдра (параллелепипеда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б) сечение  в)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г) не зна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8.Количество прямых, проходящих через две точк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2  б) много     в) 1     г) 0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9.Угол между пересекающимися прямым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меньший   б) 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в) больший г)развернуты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0.Что является пересечением секущей плоскости и граней многогранника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точки  б) отрезки в) прямые г) луч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1258920" y="2060640"/>
          <a:ext cx="3817800" cy="1560600"/>
        </p:xfrm>
        <a:graphic>
          <a:graphicData uri="http://schemas.openxmlformats.org/drawingml/2006/table">
            <a:tbl>
              <a:tblPr/>
              <a:tblGrid>
                <a:gridCol w="869760"/>
                <a:gridCol w="650880"/>
                <a:gridCol w="712800"/>
                <a:gridCol w="730440"/>
                <a:gridCol w="85392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8" name=""/>
          <p:cNvGraphicFramePr/>
          <p:nvPr/>
        </p:nvGraphicFramePr>
        <p:xfrm>
          <a:off x="5076720" y="2017800"/>
          <a:ext cx="3878280" cy="1627200"/>
        </p:xfrm>
        <a:graphic>
          <a:graphicData uri="http://schemas.openxmlformats.org/drawingml/2006/table">
            <a:tbl>
              <a:tblPr/>
              <a:tblGrid>
                <a:gridCol w="885960"/>
                <a:gridCol w="749160"/>
                <a:gridCol w="747720"/>
                <a:gridCol w="747720"/>
                <a:gridCol w="74772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Тест №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а №1. Параллельные прямые АС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ересекают плоскость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точках А и В. Точки С и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ежат по одну сторону от плоскости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АС=8 см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=6 см, АВ=4 см. а)Докажите, что прямая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D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есекает плоскость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некоторой точке Е. б)Найдите отрезок 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а №2. На ребра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, DB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траэдр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B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мечены точк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,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Р так, ч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МА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Докажите, что плоскост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АВС параллельны. Найдите площадь треугольни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N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если площадь треугольника АВС равна 10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МА=2: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вопросы к гл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р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задачи №104, №10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торить теоретический материал главы «Параллельность прямых и плоскостей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верить усвоение темы в ходе заче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ирование у учащихся потребности применения знаний в последующ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труктура урок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</a:rPr>
              <a:t>Постановка цели уро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</a:rPr>
              <a:t>Буквенный диктан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</a:rPr>
              <a:t>Тест №1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</a:rPr>
              <a:t>Тест №2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</a:rPr>
              <a:t>Подведение итогов уро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Буквенный диктан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lvl="4" marL="168696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. Две непересекающиеся  прямые в пространстве и лежащие в одной плоскос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168696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. Теорема, имеющая значение не столько сама по себе, сколько для дополнения други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168696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3. Любое множество точек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4" marL="1686960" indent="0"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Количество прямых, проходящих через точку вне данной прямой, параллельно 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Прямые, которые не пересекаются и не лежат в одной плоск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 Основная фигура в пространст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. Раздел геометрии, в котором изучаются фигуры в пространст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8. Количество прямых, проходящих через одну точк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. Поверхность, составленная из четырех треугольни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. Теорема, более полно характеризующая случаи взаимного расположения фигур в пространст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820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.параллелны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.лемм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3.фигур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4.од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5.скрещивающиес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6.плоск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7.стереометр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8.мног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9.тетраэд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0.призна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/>
          </p:nvPr>
        </p:nvSpPr>
        <p:spPr>
          <a:xfrm>
            <a:off x="394920" y="692280"/>
            <a:ext cx="845964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Какое число сторон может иметь сечение тетраэдр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3,4        б) 4,5    в) 4      г) 3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Какое число сторон может иметь сечение параллелепипед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3,4   б) 4,5,6      в)5,6       г) 3,4,5,6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 Используя признак параллельности плоскостей в кубе, укажите число пар параллельных плоскост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3   б) 2        в) 1    г) 4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92000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.Каково взаимное расположение прямых в пространстве, если они лежат в одной плоскости и имеют одну общую точку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пересекаются  б) параллельны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) скрещиваются    г) совпадаю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. Сколько пар ребер, лежащих на скрещивающихся прямых, имеет тетраэдр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0     б) 1     в) 3       г)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8</cp:lastModifiedBy>
  <dcterms:modified xsi:type="dcterms:W3CDTF">2011-12-15T15:43:25Z</dcterms:modified>
  <cp:revision>37</cp:revision>
  <dc:subject/>
  <dc:title>PowerPoint Presentation</dc:title>
</cp:coreProperties>
</file>