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519-70F8-4568-9F23-C551170A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91D-9698-4972-B80A-1F3B5324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D3683-FA5D-4A64-8750-B68ADACF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4E324-E5E9-4AA3-9DAC-A32664E2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EF21B-057F-4F23-A0E7-C45CC91A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951BC-BF19-40DB-820C-1859BA3B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4BC8A-3477-42E3-AB62-6D8980F7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5A6FC-5BE7-4054-A40E-AEF79310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0990B-3DAA-4102-A423-BC6E3058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73853-E454-4825-B99D-5D3BF751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33A1A-C09E-410A-B930-D41A3CF7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C7CCCC-DCDA-40A3-9BA9-BA702FE2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790-8C8D-4C86-8207-D3BB7D98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C9B4C3-AF6A-40D6-86B9-A61C21AD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F1090A-CBF1-4977-916D-F001C68F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739736-04B0-4729-98AC-AE425709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04187C-9532-48BE-A366-BA15EB6C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37C280-8167-4640-8F65-92556458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79A59A-ACA3-42D5-BAFE-259C4D15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8FFA37-C052-4727-86EA-4C9F20D1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0DB002-7E81-4C92-AAF1-AF6971EA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9F26B6-6924-48D7-A30E-281586BC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1BAC43-F948-47FA-B968-062F16CF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A3E-E896-481B-8A6A-BF3B8F64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5DF272-13D5-4C17-AAEC-F9313889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2237D-4112-4D0D-BA30-D8BCA58B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7ECCD-3DCA-4E02-ABF6-8D3FBBB8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52F2A-05A8-4727-AE52-655796A6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83892-48A0-465A-8348-8A55C206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4E99F-5437-4988-93E5-9F423083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5FE7D-67C6-4900-B080-08DD96C7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8FEA9-6D9F-40C4-91BF-E4BE7FCD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88A1F-227D-400F-85FF-83E96958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F1189-44B4-4389-9A73-188EDC0E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6B46-4EDA-4648-A0B8-D04F4DB9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405FA-9725-4BB1-979D-B410BB4D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2621-72E2-42CC-A1C7-25CC4C42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3C59C-4C39-478F-835D-37EF9C3F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6DD94-A9CA-480E-B094-C1A4ED17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EB59F-4EC0-49ED-B1D6-71AF468B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9EDB9-62E0-4D50-9B1B-F1C924B8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C99D3-8822-4245-B08E-2C49366C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382B1-67B6-475B-92AE-ECFC9DAB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34F75-FF6A-4E46-BF94-3C2E02B1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609FA-A849-4B79-8F75-3926316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16F-D4CE-4F53-9261-81E38FC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842AC-941B-4A3A-9AA5-E319CCA0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4CFDA-0327-49BE-83CE-82AE5497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A202B-CDA4-4415-9FD4-7ACD0036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31F92-5719-4D64-873E-96A776F1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85B0B-BE37-467F-9729-41DD07A6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DF13-F3E5-48FD-B143-05F0AF37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7621-8B78-49FF-A050-118E6FBD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CA16-34A4-457D-B286-CB6AFFFE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5544-FBDA-4ED3-B47E-5D6B0E06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A803-FD97-48F3-9041-5F28069F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0D1-74A0-4282-94B8-2DC028ED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62E2-DCE0-4CA6-AC35-B251F7C5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27B1-191A-4EC2-B0DF-F1F7AB0C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3928-C87E-446F-8A9C-C92DD028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F888-3488-40E0-A237-C7708895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0008-AAEC-4BED-9E9A-ED00C20B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9478-3EDD-4CB4-9186-900BBEC2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DD65-5244-4B2A-8B50-C24694D8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E3925-49D1-40C1-9C41-C2AD30CB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8818-FEAA-4B73-B457-76D859F5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1659-E991-4820-B276-C6CE2AE0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21D-35FC-4DB6-AA8A-5F30B258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8DE94-E212-41FF-9F7E-CC12EB6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787C-CE69-400A-AC30-8D8ADA2A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33B2-EACB-4820-A894-4DA6884C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1082B-A3F3-4F0B-A3FF-D9095AC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1466-715D-4634-B064-19142E6F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DBAC-A4DB-40D2-B93D-DDC47F91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9C02-C779-4C4F-B2D0-52BBF0A1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9D86-E5B3-401B-AA69-69A2B56F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5007-131A-47D1-9C64-C9D4F320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10F6-D11E-4590-9542-22FA58C5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D34-E224-4BD9-8D29-1A87AA8D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9F72-5333-436B-B3E8-EB5A206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B39CB-3722-4278-8EE8-A107BBC8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F2028-AC7B-4A95-A01B-D0A368E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57F68-598B-4852-9121-46F421B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6C1AD-4C53-49FD-A707-6BCB294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A749-3101-43AB-B4BE-28A994C9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2CFC-1CA2-4EA2-ABD0-68C021DF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833A-26F3-49CB-B8A9-A5BAE596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6BA70-8E14-4463-AAC1-E8F99107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B5861-DA7A-4C1B-97AE-75C792C5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8C3-91F6-4853-A2E3-C8D1F96D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0497B-8A00-45BC-827B-8CD5EBAC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05D17-7A89-41DE-B6E0-176E28D4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B6DAB-757A-4BAE-B041-4B56F868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3735-0FD5-410F-8E59-53FBAB5B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617A-6393-4211-96F0-95C21ED1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EDE0-A9AB-42A2-99AE-AF00549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31184-07B3-4974-9A17-6AA46A9A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19471-8B8D-4453-9ACB-1522CAAB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E798E-314F-4C4B-9DA5-769F5BF3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2CA7E-D5F5-46EB-89C6-91AB2E37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A05-4180-46A0-81FB-0516C5B9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AC01-83D5-4AE3-A303-5418E13D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7092A-7565-48E6-B7DA-A10C5A31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4B6BD-2A73-4CA5-BD5D-6E4F84B8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8B554-8AD4-4FF5-B86A-EA7F0ADE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3F859-C1DB-4C0A-8BE9-5F5B8476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A4FC-245F-425D-A02E-F334CDD1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DF028-07B7-4F34-AE8D-7F83E4AA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50FC9-2A55-44B1-9FAF-704E0C9F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356BF-403F-4554-801A-ED10132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D802A-A85A-4CB0-93BF-EF4B8063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952-307B-435B-9CD2-984FF8A3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1161A-B202-4C0D-9518-BF540117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24B02-CEA4-44B3-9102-D0FA40F9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0D16F-50B9-4C3A-9910-ADBD9B0D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224B8-BA1D-49D7-9C86-7F081D39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2FDB9-C12B-42A2-9096-F40D4382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4A03A-A949-4D8E-A5D6-0A7A93CC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194D-733D-4A3B-8E14-967F673D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6E726-206A-4FBB-90A8-C2EB721B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2BF48-8198-4E1D-A6D4-E4FD8833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20907-7FB2-44C6-B0CD-56A02C66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CF4-BCED-4630-91E3-0C730C1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D91E-5C26-461C-8DCD-FAE312B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D72CA-8B75-48E7-97E7-08D68F07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2643D-0F56-4700-9982-4BAEB124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2AB6B-BF33-4B87-B40C-E1FA9174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C14BE-CED1-4230-A1BC-D044713C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7E7AD-F529-4FD5-B6CF-D455FB4D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49328-ACEF-49A6-9C0A-9D667E57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666F9-0A72-42BD-98AA-4CF211A8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57874-3CA9-4C00-B3C4-53E55EC0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31198-3A7B-4641-A6A8-92657CB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6A6-D81E-474B-A9CD-10904D5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99645-3930-4AE3-A4DE-0200811B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8FCE2-2A0E-4DD4-BA1A-F1BCD363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2231A-F8D6-47A1-9ADE-9F15A32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5C5AE-8874-4B23-842F-1ACCF0C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7AE48-9EC9-4A8B-BB77-3CD62088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625ED-692B-4084-AD4D-DAA0BF5F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E0722-B3D8-478A-8DBF-5BBCDE71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25F83-B645-4668-BA3E-CC5F9057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D2F5A-30D3-40B4-9DF1-7992D22F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A243F-44DA-4034-949B-292F6FD1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C85-79F4-47F6-BD22-7A09A052B5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CF9D-03EF-49AA-B54E-8D0E46056B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4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64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4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FB0F-F3B6-4D28-ACA6-2C8F5CD405E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9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D041-6914-4382-8582-B3CDCAD8A7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2ADB-0C6D-4474-92B2-87C637D8F2C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3DC0-E893-4376-B9E5-E0717F539B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686D-D695-473F-BA08-14A8230FB3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EA4F-2A40-4D07-B8D3-3E2FD821700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0C2D-009E-4214-A0D6-844EECEE23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8828-887B-445E-879A-6BB8610447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8B89-538F-4D6F-8C6E-5255D4749DA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BEF8-3666-42A2-B2E9-C862F6E7EF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Урок – зачет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теме «Параллельность прямых и плоскостей»  (геометрия 10 класс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р: Милашенко Лидия Алексе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82692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. Чему равен   угол между параллельными прямы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б) 9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в) 4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г) 18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. Как называется плоскость, по обе стороны от которой имеются точки тетраэдра (параллелепипеда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б) сечение  в)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г) не зна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8.Количество прямых, проходящих через две точк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  б) много     в) 1     г) 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.Угол между пересекающимися прямы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меньший   б) 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в) больший г)развернуты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.Что является пересечением секущей плоскости и граней многогранника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точки  б) отрезки в) прямые г) луч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1258920" y="2060640"/>
          <a:ext cx="3817800" cy="1560600"/>
        </p:xfrm>
        <a:graphic>
          <a:graphicData uri="http://schemas.openxmlformats.org/drawingml/2006/table">
            <a:tbl>
              <a:tblPr/>
              <a:tblGrid>
                <a:gridCol w="869760"/>
                <a:gridCol w="650880"/>
                <a:gridCol w="712800"/>
                <a:gridCol w="730440"/>
                <a:gridCol w="8539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5076720" y="2017800"/>
          <a:ext cx="3878280" cy="1627200"/>
        </p:xfrm>
        <a:graphic>
          <a:graphicData uri="http://schemas.openxmlformats.org/drawingml/2006/table">
            <a:tbl>
              <a:tblPr/>
              <a:tblGrid>
                <a:gridCol w="885960"/>
                <a:gridCol w="749160"/>
                <a:gridCol w="747720"/>
                <a:gridCol w="747720"/>
                <a:gridCol w="7477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Тест №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№1. Параллельные прямые АС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есекают плоскость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точках А и В. Точки С 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жат по одну сторону от плоскости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АС=8 см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6 см, АВ=4 см. а)Докажите, что пряма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секает плоскость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некоторой точке Е. б)Найдите отрезок 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№2. На ребр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, D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траэд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мечены точ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,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 так, ч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МА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кажите, что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АВС параллельны. Найдите площадь треуг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N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площадь треугольника АВС равна 1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МА=2: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вопросы к г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задачи №104, №1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 теоретический материал главы «Параллельность прямых и плоскостей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ть усвоение темы в ходе зач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у учащихся потребности применения знаний в последующ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руктура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Постановка цели уро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Буквенный диктан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Тест №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Тест №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Подведение итогов уро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уквенны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4" marL="168696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Две непересекающиеся  прямые в пространстве и лежащие в одной плоск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Теорема, имеющая значение не столько сама по себе, сколько для дополнения други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Любое множество точ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Количество прямых, проходящих через точку вне данной прямой, параллельно 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Прямые, которые не пересекаются и не лежат в одной плос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Основная фигура в простран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 Раздел геометрии, в котором изучаются фигуры в простран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Количество прямых, проходящих через одну точ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. Поверхность, составленная из четырех треуголь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. Теорема, более полно характеризующая случаи взаимного расположения фигур в простран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параллел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лем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фигу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.од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.скрещивающие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.плоск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7.стереометр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.мн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9.тетраэд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0.призн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4596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Какое число сторон может иметь сечение тетраэдр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3,4        б) 4,5    в) 4      г)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Какое число сторон может иметь сечение параллелепипед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3,4   б) 4,5,6      в)5,6       г) 3,4,5,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Используя признак параллельности плоскостей в кубе, укажите число пар параллельных плоск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3   б) 2        в) 1    г)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9200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Каково взаимное расположение прямых в пространстве, если они лежат в одной плоскости и имеют одну общую точк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пересекаются  б) параллельн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скрещиваются    г) совпадаю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. Сколько пар ребер, лежащих на скрещивающихся прямых, имеет тетраэдр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0     б) 1     в) 3       г)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8</cp:lastModifiedBy>
  <dcterms:modified xsi:type="dcterms:W3CDTF">2011-12-15T15:43:25Z</dcterms:modified>
  <cp:revision>37</cp:revision>
  <dc:subject/>
  <dc:title>PowerPoint Presentation</dc:title>
</cp:coreProperties>
</file>