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.gif" ContentType="image/gif"/>
  <Override PartName="/ppt/media/image12.wmf" ContentType="image/x-wmf"/>
  <Override PartName="/ppt/media/image7.wmf" ContentType="image/x-wmf"/>
  <Override PartName="/ppt/media/image18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E5C-EF1A-4D72-B87D-3344E9CD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958-755F-4253-8D04-418029D7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2B5-668E-4BAC-919D-B3365A76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F93-31AB-4E3A-B195-D7DE6022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BCE7-F149-4696-A9AD-96E85E0E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3120-F233-4837-BD80-865D58CE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99CF-941D-486E-9970-ACF5E819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698D-A75F-42C2-8895-1CF00550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B136-BFDF-4745-9616-F37FFBAF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0E8D-8373-4691-9E17-5F202DD1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4B73-0216-410C-903E-018D447B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3234-5347-4FAD-8FB9-BE12C6C9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77B9-564C-45BC-B4B6-52EDA097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A3C4-686D-4FB5-8585-04C14F3B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DF6D-C28C-4C1D-B8BF-4C8B9F6A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BCFF-69CA-406C-9E87-FA46CED8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3349-9CC8-4E5A-83A0-5808313B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CF5-0442-4ADD-A5F3-AD6F55DC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F58-8760-4D7B-AFB6-A35A1141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61A-CD79-47A0-9B55-2F80707E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734-3DCE-4306-B474-73D4E58C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DB2-541C-4C96-B714-00D6762B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2FC0-DB7D-472B-8661-F64171AD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4CC-F91B-4D83-9D39-D06F133C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F9AC-B7A8-4A0C-B7AA-A69C1766F3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83D4-9975-4AB3-80A5-F72BEA0617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20000"/>
                </a:solidFill>
                <a:latin typeface="Times New Roman"/>
              </a:rPr>
              <a:t>Отрезок.</a:t>
            </a:r>
            <a:br>
              <a:rPr sz="5400"/>
            </a:br>
            <a:r>
              <a:rPr b="1" i="1" lang="en-US" sz="5400" spc="-1" strike="noStrike">
                <a:solidFill>
                  <a:srgbClr val="420000"/>
                </a:solidFill>
                <a:latin typeface="Times New Roman"/>
              </a:rPr>
              <a:t>Длина  отрезка.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3103560" cy="4218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309680" y="4935600"/>
            <a:ext cx="33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ОУ СОШ №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г. Фо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0 км 15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10015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1015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1015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20804400">
            <a:off x="4284360" y="4292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км 7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07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007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0007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777000">
            <a:off x="3708000" y="5300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 м 2 дм 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24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024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3204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9248000">
            <a:off x="3132000" y="3789000"/>
            <a:ext cx="2376720" cy="287280"/>
          </a:xfrm>
          <a:custGeom>
            <a:avLst/>
            <a:gdLst>
              <a:gd name="textAreaLeft" fmla="*/ 297000 w 2376720"/>
              <a:gd name="textAreaRight" fmla="*/ 2079720 w 237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Вырази длины отрезков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210440" y="620640"/>
            <a:ext cx="193356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9280" y="2133720"/>
          <a:ext cx="7705800" cy="4537080"/>
        </p:xfrm>
        <a:graphic>
          <a:graphicData uri="http://schemas.openxmlformats.org/drawingml/2006/table">
            <a:tbl>
              <a:tblPr/>
              <a:tblGrid>
                <a:gridCol w="3852720"/>
                <a:gridCol w="385308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 метрах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в  сантиметрах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ариа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 к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500 с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км 250 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920 д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7 км 5 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9 км 600 с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 м 3 с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010 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 км 100 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7 дм 5 с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 м 8 д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 км 7 см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20000"/>
                </a:solidFill>
                <a:latin typeface="Times New Roman"/>
              </a:rPr>
              <a:t>Домашнее  задани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375444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№№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68;  7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31593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725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2492280"/>
            <a:ext cx="388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Косая саж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248 см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2464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800"/>
                            </p:stCondLst>
                            <p:childTnLst>
                              <p:par>
                                <p:cTn id="8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8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349360"/>
            <a:ext cx="439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Маховая саж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</a:t>
            </a: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176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 см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037120" y="1916280"/>
            <a:ext cx="41068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3095640" cy="5373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16000" y="2637000"/>
            <a:ext cx="342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Локо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( 45 см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9907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00"/>
                </a:solidFill>
                <a:latin typeface="Times New Roman"/>
              </a:rPr>
              <a:t>Вопросы для повтор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2209680"/>
            <a:ext cx="8305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2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419640" y="2286000"/>
            <a:ext cx="5267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96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744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87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75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44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1840" y="765000"/>
            <a:ext cx="790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Найдите правильные 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572000" y="3068640"/>
            <a:ext cx="2743200" cy="2361960"/>
            <a:chOff x="4572000" y="3068640"/>
            <a:chExt cx="2743200" cy="2361960"/>
          </a:xfrm>
        </p:grpSpPr>
        <p:sp>
          <p:nvSpPr>
            <p:cNvPr id="229" name=""/>
            <p:cNvSpPr/>
            <p:nvPr/>
          </p:nvSpPr>
          <p:spPr>
            <a:xfrm>
              <a:off x="4572000" y="306864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0" y="390672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2000" y="474480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844640"/>
            <a:ext cx="3078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Версия двоечник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0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en-US" sz="3600" spc="-1" strike="noStrike">
                <a:solidFill>
                  <a:srgbClr val="660000"/>
                </a:solidFill>
                <a:latin typeface="Monotype Corsiva"/>
              </a:rPr>
              <a:t>его  зависит от условия  задачи. Во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en-US" sz="3600" spc="-1" strike="noStrike">
                <a:solidFill>
                  <a:srgbClr val="660000"/>
                </a:solidFill>
                <a:latin typeface="Monotype Corsiva"/>
              </a:rPr>
              <a:t>его чертеж: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21160" y="5227560"/>
            <a:ext cx="2849400" cy="60480"/>
          </a:xfrm>
          <a:custGeom>
            <a:avLst/>
            <a:gdLst/>
            <a:ahLst/>
            <a:rect l="l" t="t" r="r" b="b"/>
            <a:pathLst>
              <a:path w="1795" h="38">
                <a:moveTo>
                  <a:pt x="0" y="0"/>
                </a:moveTo>
                <a:lnTo>
                  <a:pt x="1795" y="38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54720" y="5273640"/>
            <a:ext cx="1112760" cy="1096920"/>
          </a:xfrm>
          <a:custGeom>
            <a:avLst/>
            <a:gdLst/>
            <a:ahLst/>
            <a:rect l="l" t="t" r="r" b="b"/>
            <a:pathLst>
              <a:path w="701" h="691">
                <a:moveTo>
                  <a:pt x="701" y="6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1320" y="6384960"/>
            <a:ext cx="4540320" cy="198360"/>
          </a:xfrm>
          <a:custGeom>
            <a:avLst/>
            <a:gdLst/>
            <a:ahLst/>
            <a:rect l="l" t="t" r="r" b="b"/>
            <a:pathLst>
              <a:path w="2860" h="125">
                <a:moveTo>
                  <a:pt x="0" y="125"/>
                </a:moveTo>
                <a:lnTo>
                  <a:pt x="286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1320" y="5211720"/>
            <a:ext cx="640080" cy="1371600"/>
          </a:xfrm>
          <a:custGeom>
            <a:avLst/>
            <a:gdLst/>
            <a:ahLst/>
            <a:rect l="l" t="t" r="r" b="b"/>
            <a:pathLst>
              <a:path w="403" h="864">
                <a:moveTo>
                  <a:pt x="403" y="0"/>
                </a:moveTo>
                <a:lnTo>
                  <a:pt x="0" y="864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256520" y="3905280"/>
            <a:ext cx="1887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4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3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25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20000"/>
                </a:solidFill>
                <a:latin typeface="Times New Roman"/>
              </a:rPr>
              <a:t>Повторение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11640" y="4796640"/>
            <a:ext cx="14436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948360" y="5299920"/>
            <a:ext cx="14472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4080" y="1844640"/>
            <a:ext cx="66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1. Нарисуйте в тетради две 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6960" y="234936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2. Обозначьте их буквами М и 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7080" y="4437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6160" y="5084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4440" y="2781360"/>
            <a:ext cx="88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3. Соедините точки М и К разными способ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82920" y="3581280"/>
            <a:ext cx="2438640" cy="1249560"/>
          </a:xfrm>
          <a:custGeom>
            <a:avLst/>
            <a:gdLst/>
            <a:ahLst/>
            <a:rect l="l" t="t" r="r" b="b"/>
            <a:pathLst>
              <a:path w="1536" h="787">
                <a:moveTo>
                  <a:pt x="0" y="787"/>
                </a:moveTo>
                <a:lnTo>
                  <a:pt x="15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3565440"/>
            <a:ext cx="320400" cy="1752840"/>
          </a:xfrm>
          <a:custGeom>
            <a:avLst/>
            <a:gdLst/>
            <a:ahLst/>
            <a:rect l="l" t="t" r="r" b="b"/>
            <a:pathLst>
              <a:path w="202" h="1104">
                <a:moveTo>
                  <a:pt x="202" y="110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7" idx="4"/>
            <a:endCxn id="108" idx="4"/>
          </p:cNvCxnSpPr>
          <p:nvPr/>
        </p:nvCxnSpPr>
        <p:spPr>
          <a:xfrm flipH="1" rot="16200000">
            <a:off x="5399640" y="3680280"/>
            <a:ext cx="504000" cy="2737800"/>
          </a:xfrm>
          <a:prstGeom prst="curvedConnector5">
            <a:avLst>
              <a:gd name="adj1" fmla="val 302501"/>
              <a:gd name="adj2" fmla="val 50000"/>
              <a:gd name="adj3" fmla="val 302501"/>
            </a:avLst>
          </a:prstGeom>
          <a:ln w="38160">
            <a:solidFill>
              <a:srgbClr val="0000ff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284720" y="4869000"/>
            <a:ext cx="2819520" cy="1164960"/>
          </a:xfrm>
          <a:custGeom>
            <a:avLst/>
            <a:gdLst/>
            <a:ahLst/>
            <a:rect l="l" t="t" r="r" b="b"/>
            <a:pathLst>
              <a:path w="1776" h="734">
                <a:moveTo>
                  <a:pt x="0" y="0"/>
                </a:moveTo>
                <a:cubicBezTo>
                  <a:pt x="45" y="109"/>
                  <a:pt x="91" y="219"/>
                  <a:pt x="136" y="272"/>
                </a:cubicBezTo>
                <a:cubicBezTo>
                  <a:pt x="181" y="325"/>
                  <a:pt x="234" y="310"/>
                  <a:pt x="272" y="318"/>
                </a:cubicBezTo>
                <a:cubicBezTo>
                  <a:pt x="310" y="326"/>
                  <a:pt x="324" y="288"/>
                  <a:pt x="362" y="318"/>
                </a:cubicBezTo>
                <a:cubicBezTo>
                  <a:pt x="400" y="348"/>
                  <a:pt x="476" y="454"/>
                  <a:pt x="499" y="499"/>
                </a:cubicBezTo>
                <a:cubicBezTo>
                  <a:pt x="522" y="544"/>
                  <a:pt x="492" y="560"/>
                  <a:pt x="499" y="590"/>
                </a:cubicBezTo>
                <a:cubicBezTo>
                  <a:pt x="506" y="620"/>
                  <a:pt x="514" y="658"/>
                  <a:pt x="544" y="681"/>
                </a:cubicBezTo>
                <a:cubicBezTo>
                  <a:pt x="574" y="704"/>
                  <a:pt x="642" y="734"/>
                  <a:pt x="680" y="726"/>
                </a:cubicBezTo>
                <a:cubicBezTo>
                  <a:pt x="718" y="718"/>
                  <a:pt x="748" y="665"/>
                  <a:pt x="771" y="635"/>
                </a:cubicBezTo>
                <a:cubicBezTo>
                  <a:pt x="794" y="605"/>
                  <a:pt x="778" y="545"/>
                  <a:pt x="816" y="545"/>
                </a:cubicBezTo>
                <a:cubicBezTo>
                  <a:pt x="854" y="545"/>
                  <a:pt x="929" y="612"/>
                  <a:pt x="997" y="635"/>
                </a:cubicBezTo>
                <a:cubicBezTo>
                  <a:pt x="1065" y="658"/>
                  <a:pt x="1156" y="688"/>
                  <a:pt x="1224" y="681"/>
                </a:cubicBezTo>
                <a:cubicBezTo>
                  <a:pt x="1292" y="674"/>
                  <a:pt x="1323" y="598"/>
                  <a:pt x="1406" y="590"/>
                </a:cubicBezTo>
                <a:cubicBezTo>
                  <a:pt x="1489" y="582"/>
                  <a:pt x="1670" y="680"/>
                  <a:pt x="1723" y="635"/>
                </a:cubicBezTo>
                <a:cubicBezTo>
                  <a:pt x="1776" y="590"/>
                  <a:pt x="1715" y="378"/>
                  <a:pt x="1723" y="318"/>
                </a:cubicBezTo>
                <a:cubicBezTo>
                  <a:pt x="1731" y="258"/>
                  <a:pt x="1769" y="280"/>
                  <a:pt x="1769" y="2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861080"/>
            <a:ext cx="2697120" cy="488880"/>
          </a:xfrm>
          <a:custGeom>
            <a:avLst/>
            <a:gdLst/>
            <a:ahLst/>
            <a:rect l="l" t="t" r="r" b="b"/>
            <a:pathLst>
              <a:path w="1699" h="308">
                <a:moveTo>
                  <a:pt x="0" y="0"/>
                </a:moveTo>
                <a:lnTo>
                  <a:pt x="1699" y="308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3429000"/>
            <a:ext cx="3672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МК - отре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705720" y="155736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3500280"/>
            <a:ext cx="4648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Часть прямой, ограниченная двумя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Точки М и К- концы отре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Запись МК или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4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Определите, какие из точек лежат на отрезке АВ, а какие не лежат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154320"/>
            <a:ext cx="4140360" cy="3703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3708360" y="3068280"/>
            <a:ext cx="5040360" cy="1873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4869000"/>
            <a:ext cx="14472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75640" y="2997360"/>
            <a:ext cx="14436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1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6144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3213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4365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8360" y="3789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85080" y="328464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5589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3080" y="3573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69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5800" y="3789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6980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50160" y="3068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1888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19240" y="40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V="1">
            <a:off x="4284720" y="3573360"/>
            <a:ext cx="388944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06960" y="2438280"/>
            <a:ext cx="1614240" cy="3413160"/>
          </a:xfrm>
          <a:custGeom>
            <a:avLst/>
            <a:gdLst/>
            <a:ahLst/>
            <a:rect l="l" t="t" r="r" b="b"/>
            <a:pathLst>
              <a:path w="1017" h="2150">
                <a:moveTo>
                  <a:pt x="0" y="2150"/>
                </a:moveTo>
                <a:lnTo>
                  <a:pt x="10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04080" y="2743200"/>
            <a:ext cx="1325520" cy="3230640"/>
          </a:xfrm>
          <a:custGeom>
            <a:avLst/>
            <a:gdLst/>
            <a:ahLst/>
            <a:rect l="l" t="t" r="r" b="b"/>
            <a:pathLst>
              <a:path w="835" h="2035">
                <a:moveTo>
                  <a:pt x="835" y="203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6560" y="4575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4160" y="198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3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30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02520" y="306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5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79240" y="2276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4544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88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724280"/>
            <a:ext cx="2879640" cy="19242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88240" y="2073240"/>
            <a:ext cx="1844640" cy="2300400"/>
          </a:xfrm>
          <a:custGeom>
            <a:avLst/>
            <a:gdLst/>
            <a:ahLst/>
            <a:rect l="l" t="t" r="r" b="b"/>
            <a:pathLst>
              <a:path w="1162" h="1449">
                <a:moveTo>
                  <a:pt x="0" y="0"/>
                </a:moveTo>
                <a:lnTo>
                  <a:pt x="1162" y="14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78200" y="3535200"/>
            <a:ext cx="2103480" cy="2468880"/>
          </a:xfrm>
          <a:custGeom>
            <a:avLst/>
            <a:gdLst/>
            <a:ahLst/>
            <a:rect l="l" t="t" r="r" b="b"/>
            <a:pathLst>
              <a:path w="1325" h="1555">
                <a:moveTo>
                  <a:pt x="0" y="0"/>
                </a:moveTo>
                <a:lnTo>
                  <a:pt x="1325" y="15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95640" y="4373640"/>
            <a:ext cx="4721400" cy="855720"/>
          </a:xfrm>
          <a:custGeom>
            <a:avLst/>
            <a:gdLst/>
            <a:ahLst/>
            <a:rect l="l" t="t" r="r" b="b"/>
            <a:pathLst>
              <a:path w="2974" h="539">
                <a:moveTo>
                  <a:pt x="0" y="539"/>
                </a:moveTo>
                <a:lnTo>
                  <a:pt x="297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78360" y="3551400"/>
            <a:ext cx="685800" cy="1676160"/>
          </a:xfrm>
          <a:custGeom>
            <a:avLst/>
            <a:gdLst/>
            <a:ahLst/>
            <a:rect l="l" t="t" r="r" b="b"/>
            <a:pathLst>
              <a:path w="432" h="1056">
                <a:moveTo>
                  <a:pt x="0" y="1056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65840" y="2103480"/>
            <a:ext cx="138240" cy="3870360"/>
          </a:xfrm>
          <a:custGeom>
            <a:avLst/>
            <a:gdLst/>
            <a:ahLst/>
            <a:rect l="l" t="t" r="r" b="b"/>
            <a:pathLst>
              <a:path w="87" h="2438">
                <a:moveTo>
                  <a:pt x="87" y="0"/>
                </a:moveTo>
                <a:lnTo>
                  <a:pt x="0" y="24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3416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48360" y="177336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3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6108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33800" y="465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5800" y="299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3800" y="501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0" y="1700280"/>
            <a:ext cx="2879640" cy="19238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20000"/>
                </a:solidFill>
                <a:latin typeface="Times New Roman"/>
              </a:rPr>
              <a:t>Инструменты, необходимые</a:t>
            </a:r>
            <a:br>
              <a:rPr sz="4000"/>
            </a:br>
            <a:r>
              <a:rPr b="1" i="1" lang="en-US" sz="4000" spc="-1" strike="noStrike">
                <a:solidFill>
                  <a:srgbClr val="420000"/>
                </a:solidFill>
                <a:latin typeface="Times New Roman"/>
              </a:rPr>
              <a:t> на уроке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938760" cy="4302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2743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2692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Единицы измерения дли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59640" y="2637000"/>
            <a:ext cx="2286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д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572000" cy="5445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185904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780960" y="1844640"/>
            <a:ext cx="13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1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92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808360" cy="2660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2952720" cy="2693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0" y="3068640"/>
            <a:ext cx="3348000" cy="3259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284720" y="0"/>
            <a:ext cx="3273480" cy="2843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788000" y="98100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 км = 10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88000" y="1773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 м = 10 дм = 1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8000" y="2565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 дм = 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88000" y="335772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 см = 10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437000"/>
            <a:ext cx="9144000" cy="20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чертите отрезок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6 см 8 м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метьте на нем точку А так, чтоб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С = 4 см 3 мм. Чему равна длина отрезка 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900"/>
                            </p:stCondLst>
                            <p:childTnLst>
                              <p:par>
                                <p:cTn id="6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850"/>
                            </p:stCondLst>
                            <p:childTnLst>
                              <p:par>
                                <p:cTn id="6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7:27:52Z</dcterms:created>
  <dc:creator>Марина</dc:creator>
  <dc:description/>
  <dc:language>en-US</dc:language>
  <cp:lastModifiedBy>Марина</cp:lastModifiedBy>
  <dcterms:modified xsi:type="dcterms:W3CDTF">2007-09-17T06:56:24Z</dcterms:modified>
  <cp:revision>7</cp:revision>
  <dc:subject/>
  <dc:title>Отрезок. Длина  отрезка.</dc:title>
</cp:coreProperties>
</file>