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2.gif" ContentType="image/gif"/>
  <Override PartName="/ppt/media/image12.wmf" ContentType="image/x-wmf"/>
  <Override PartName="/ppt/media/image7.wmf" ContentType="image/x-wmf"/>
  <Override PartName="/ppt/media/image18.jpeg" ContentType="image/jpeg"/>
  <Override PartName="/ppt/media/image16.jpeg" ContentType="image/jpeg"/>
  <Override PartName="/ppt/media/image15.wmf" ContentType="image/x-wmf"/>
  <Override PartName="/ppt/media/image14.wmf" ContentType="image/x-wmf"/>
  <Override PartName="/ppt/media/image1.wmf" ContentType="image/x-wmf"/>
  <Override PartName="/ppt/media/image9.jpeg" ContentType="image/jpeg"/>
  <Override PartName="/ppt/media/image5.wmf" ContentType="image/x-wmf"/>
  <Override PartName="/ppt/media/image10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11.wmf" ContentType="image/x-wmf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9B44-8EB0-42D4-A1F1-61C9395FF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0A2C-08FF-4807-9977-384139E5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1E1A-6219-4E22-8C23-95E21B8C6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700B-F0B9-497C-812B-9A21BF34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60F5-57DF-4B03-B6C9-2D1EF6D9C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42A2-88FE-49AF-B99D-41ADBB1C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2678-099F-44AE-99D1-DE7FBA5D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D82F-13DC-4D57-AAB8-686745FB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34E4-B551-4B97-811B-EE167F9C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54B5-8D1C-423E-A770-7E4D28E8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39F7-F8F3-4588-939D-23B749C8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1578-325F-4046-A970-5E2B9671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C833-1EC5-47D5-83AB-30F619E9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D785-0665-4873-A69D-652999A7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9BB6-455D-49CB-B595-032AD849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FBDC-5651-4CC1-ACAB-B1C6ED99A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863F-80A9-46F4-85DD-50AE8B9BB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2818-F746-48E8-8E36-B7CE11EE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247B-5F72-4DC7-8EB5-537F9515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3A38-4F7D-4BA1-B63C-E9A07CB5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FED1-7FD9-4F2E-8D79-E27C6FF0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9C41-F374-495A-8216-3F3F30DD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1704-C2C1-4CC1-8035-EFD4D0B5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5E08-1B0C-4AC5-8F86-732F67B3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E9CE-0454-4330-AC29-F833AC652F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E35D-0F23-4E89-B071-57211CE537A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420000"/>
                </a:solidFill>
                <a:latin typeface="Times New Roman"/>
              </a:rPr>
              <a:t>Отрезок.</a:t>
            </a:r>
            <a:br>
              <a:rPr sz="5400"/>
            </a:br>
            <a:r>
              <a:rPr b="1" i="1" lang="en-US" sz="5400" spc="-1" strike="noStrike">
                <a:solidFill>
                  <a:srgbClr val="420000"/>
                </a:solidFill>
                <a:latin typeface="Times New Roman"/>
              </a:rPr>
              <a:t>Длина  отрезка.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651640" y="1844640"/>
            <a:ext cx="3103560" cy="4218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309680" y="4935600"/>
            <a:ext cx="333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МОУ СОШ №2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г. Фоки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20000"/>
                </a:solidFill>
                <a:latin typeface="Times New Roman"/>
              </a:rPr>
              <a:t>Выбери и укажи правильный вариант ответа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3024360" cy="27306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11280" y="4292640"/>
            <a:ext cx="4248000" cy="15843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0 км 15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932360" y="2349360"/>
            <a:ext cx="22320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10015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59640" y="3500280"/>
            <a:ext cx="22320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1015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867280" y="5229360"/>
            <a:ext cx="22320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10150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20804400">
            <a:off x="4284360" y="4292640"/>
            <a:ext cx="2376360" cy="287280"/>
          </a:xfrm>
          <a:custGeom>
            <a:avLst/>
            <a:gdLst>
              <a:gd name="textAreaLeft" fmla="*/ 297000 w 2376360"/>
              <a:gd name="textAreaRight" fmla="*/ 2079360 w 2376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2000"/>
                            </p:stCondLst>
                            <p:childTnLst>
                              <p:par>
                                <p:cTn id="6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3000"/>
                            </p:stCondLst>
                            <p:childTnLst>
                              <p:par>
                                <p:cTn id="6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20000"/>
                </a:solidFill>
                <a:latin typeface="Times New Roman"/>
              </a:rPr>
              <a:t>Выбери и укажи правильный вариант ответа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3024360" cy="27306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11280" y="4292640"/>
            <a:ext cx="4248000" cy="1584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3км 7 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32360" y="2349360"/>
            <a:ext cx="223200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3070 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659640" y="3500280"/>
            <a:ext cx="223200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30070 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7280" y="5229360"/>
            <a:ext cx="223200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30007 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777000">
            <a:off x="3708000" y="5300640"/>
            <a:ext cx="2376360" cy="287280"/>
          </a:xfrm>
          <a:custGeom>
            <a:avLst/>
            <a:gdLst>
              <a:gd name="textAreaLeft" fmla="*/ 297000 w 2376360"/>
              <a:gd name="textAreaRight" fmla="*/ 2079360 w 2376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20000"/>
                </a:solidFill>
                <a:latin typeface="Times New Roman"/>
              </a:rPr>
              <a:t>Выбери и укажи правильный вариант ответа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3024360" cy="27306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11280" y="4292640"/>
            <a:ext cx="4248000" cy="1584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3 м 2 дм 4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32360" y="2349360"/>
            <a:ext cx="2232000" cy="9144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3240 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659640" y="3500280"/>
            <a:ext cx="2232000" cy="9144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3024 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867280" y="5229360"/>
            <a:ext cx="2232000" cy="9144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3204 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9248000">
            <a:off x="3132000" y="3789000"/>
            <a:ext cx="2376720" cy="287280"/>
          </a:xfrm>
          <a:custGeom>
            <a:avLst/>
            <a:gdLst>
              <a:gd name="textAreaLeft" fmla="*/ 297000 w 2376720"/>
              <a:gd name="textAreaRight" fmla="*/ 2079720 w 2376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0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20000"/>
                </a:solidFill>
                <a:latin typeface="Times New Roman"/>
              </a:rPr>
              <a:t>Вырази длины отрезков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210440" y="620640"/>
            <a:ext cx="1933560" cy="244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179280" y="2133720"/>
          <a:ext cx="7705800" cy="4537080"/>
        </p:xfrm>
        <a:graphic>
          <a:graphicData uri="http://schemas.openxmlformats.org/drawingml/2006/table">
            <a:tbl>
              <a:tblPr/>
              <a:tblGrid>
                <a:gridCol w="3852720"/>
                <a:gridCol w="3853080"/>
              </a:tblGrid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в  метрах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в  сантиметрах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риант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ариан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 км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500 см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 км 250 м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8920 дм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7 км 5 м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9 км 600 см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5 м 3 см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3010 м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 км 100 м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17 дм 5 см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9 м 8 дм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7 км 7 см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0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20000"/>
                </a:solidFill>
                <a:latin typeface="Times New Roman"/>
              </a:rPr>
              <a:t>Домашнее  задание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26560" y="2924280"/>
            <a:ext cx="375444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№№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68;  71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315936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0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withEffect" fill="hold" presetClass="entr" presetID="27">
                                  <p:stCondLst>
                                    <p:cond delay="1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725"/>
                            </p:stCondLst>
                            <p:childTnLst>
                              <p:par>
                                <p:cTn id="8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11280" y="549360"/>
            <a:ext cx="775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6600"/>
                </a:solidFill>
                <a:latin typeface="Times New Roman"/>
              </a:rPr>
              <a:t>Старинные меры длин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4000" y="2492280"/>
            <a:ext cx="3889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Косая сажен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(248 см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219640" y="1484280"/>
            <a:ext cx="324648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800"/>
                            </p:stCondLst>
                            <p:childTnLst>
                              <p:par>
                                <p:cTn id="8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800"/>
                            </p:stCondLst>
                            <p:childTnLst>
                              <p:par>
                                <p:cTn id="8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11280" y="549360"/>
            <a:ext cx="775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6600"/>
                </a:solidFill>
                <a:latin typeface="Times New Roman"/>
              </a:rPr>
              <a:t>Старинные меры длин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8360" y="2349360"/>
            <a:ext cx="4390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Маховая сажен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( </a:t>
            </a:r>
            <a:r>
              <a:rPr b="1" i="1" lang="en-US" sz="4400" spc="-1" strike="noStrike">
                <a:solidFill>
                  <a:srgbClr val="3366ff"/>
                </a:solidFill>
                <a:latin typeface="Times New Roman"/>
              </a:rPr>
              <a:t>176</a:t>
            </a: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 см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037120" y="1916280"/>
            <a:ext cx="410688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0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000"/>
                            </p:stCondLst>
                            <p:childTnLst>
                              <p:par>
                                <p:cTn id="8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11280" y="549360"/>
            <a:ext cx="775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6600"/>
                </a:solidFill>
                <a:latin typeface="Times New Roman"/>
              </a:rPr>
              <a:t>Старинные меры длин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508720" y="1484280"/>
            <a:ext cx="3095640" cy="5373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116000" y="2637000"/>
            <a:ext cx="3421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ff"/>
                </a:solidFill>
                <a:latin typeface="Times New Roman"/>
              </a:rPr>
              <a:t>Локо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ff"/>
                </a:solidFill>
                <a:latin typeface="Times New Roman"/>
              </a:rPr>
              <a:t>( 45 см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000"/>
                            </p:stCondLst>
                            <p:childTnLst>
                              <p:par>
                                <p:cTn id="86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295280" y="9907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00"/>
                </a:solidFill>
                <a:latin typeface="Times New Roman"/>
              </a:rPr>
              <a:t>Вопросы для повтор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2209680"/>
            <a:ext cx="830556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Arial Black"/>
              </a:rPr>
              <a:t>Выразите высоту терема , равную 3 косым сажен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Arial Black"/>
              </a:rPr>
              <a:t>Длину отреза полотна , равную 15 локт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Arial Black"/>
              </a:rPr>
              <a:t>Ширину горницы , равную 2 маховым саженям 3 локт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0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7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2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7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419640" y="2286000"/>
            <a:ext cx="52671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496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744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487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675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644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1840" y="765000"/>
            <a:ext cx="790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8000"/>
                </a:solidFill>
                <a:latin typeface="Times New Roman"/>
              </a:rPr>
              <a:t>Найдите правильные отве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572000" y="3068640"/>
            <a:ext cx="2743200" cy="2361960"/>
            <a:chOff x="4572000" y="3068640"/>
            <a:chExt cx="2743200" cy="2361960"/>
          </a:xfrm>
        </p:grpSpPr>
        <p:sp>
          <p:nvSpPr>
            <p:cNvPr id="229" name=""/>
            <p:cNvSpPr/>
            <p:nvPr/>
          </p:nvSpPr>
          <p:spPr>
            <a:xfrm>
              <a:off x="4572000" y="3068640"/>
              <a:ext cx="2743200" cy="685800"/>
            </a:xfrm>
            <a:prstGeom prst="rect">
              <a:avLst/>
            </a:prstGeom>
            <a:noFill/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2000" y="3906720"/>
              <a:ext cx="2743200" cy="685800"/>
            </a:xfrm>
            <a:prstGeom prst="rect">
              <a:avLst/>
            </a:prstGeom>
            <a:noFill/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72000" y="4744800"/>
              <a:ext cx="2743200" cy="685800"/>
            </a:xfrm>
            <a:prstGeom prst="rect">
              <a:avLst/>
            </a:prstGeom>
            <a:noFill/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28600" y="1844640"/>
            <a:ext cx="30780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0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1000"/>
                            </p:stCondLst>
                            <p:childTnLst>
                              <p:par>
                                <p:cTn id="9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Версия двоечника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99240" indent="-399240">
              <a:lnSpc>
                <a:spcPct val="10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00"/>
                </a:solidFill>
                <a:latin typeface="Monotype Corsiva"/>
              </a:rPr>
              <a:t>Отрезок – это геометрическая фигура. Он  состоит из двух  сторон А и В.  Он может быть бесконечным, может быть конечным. Его длина всегда одинакова и равна 5 сантиметрам.  Толщина  же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00"/>
                </a:solidFill>
                <a:latin typeface="Monotype Corsiva"/>
              </a:rPr>
              <a:t>    </a:t>
            </a:r>
            <a:r>
              <a:rPr b="1" i="1" lang="en-US" sz="3600" spc="-1" strike="noStrike">
                <a:solidFill>
                  <a:srgbClr val="660000"/>
                </a:solidFill>
                <a:latin typeface="Monotype Corsiva"/>
              </a:rPr>
              <a:t>его  зависит от условия  задачи. Во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00"/>
                </a:solidFill>
                <a:latin typeface="Monotype Corsiva"/>
              </a:rPr>
              <a:t>    </a:t>
            </a:r>
            <a:r>
              <a:rPr b="1" i="1" lang="en-US" sz="3600" spc="-1" strike="noStrike">
                <a:solidFill>
                  <a:srgbClr val="660000"/>
                </a:solidFill>
                <a:latin typeface="Monotype Corsiva"/>
              </a:rPr>
              <a:t>его чертеж: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21160" y="5227560"/>
            <a:ext cx="2849400" cy="60480"/>
          </a:xfrm>
          <a:custGeom>
            <a:avLst/>
            <a:gdLst/>
            <a:ahLst/>
            <a:rect l="l" t="t" r="r" b="b"/>
            <a:pathLst>
              <a:path w="1795" h="38">
                <a:moveTo>
                  <a:pt x="0" y="0"/>
                </a:moveTo>
                <a:lnTo>
                  <a:pt x="1795" y="38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54720" y="5273640"/>
            <a:ext cx="1112760" cy="1096920"/>
          </a:xfrm>
          <a:custGeom>
            <a:avLst/>
            <a:gdLst/>
            <a:ahLst/>
            <a:rect l="l" t="t" r="r" b="b"/>
            <a:pathLst>
              <a:path w="701" h="691">
                <a:moveTo>
                  <a:pt x="701" y="69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11320" y="6384960"/>
            <a:ext cx="4540320" cy="198360"/>
          </a:xfrm>
          <a:custGeom>
            <a:avLst/>
            <a:gdLst/>
            <a:ahLst/>
            <a:rect l="l" t="t" r="r" b="b"/>
            <a:pathLst>
              <a:path w="2860" h="125">
                <a:moveTo>
                  <a:pt x="0" y="125"/>
                </a:moveTo>
                <a:lnTo>
                  <a:pt x="2860" y="0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11320" y="5211720"/>
            <a:ext cx="640080" cy="1371600"/>
          </a:xfrm>
          <a:custGeom>
            <a:avLst/>
            <a:gdLst/>
            <a:ahLst/>
            <a:rect l="l" t="t" r="r" b="b"/>
            <a:pathLst>
              <a:path w="403" h="864">
                <a:moveTo>
                  <a:pt x="403" y="0"/>
                </a:moveTo>
                <a:lnTo>
                  <a:pt x="0" y="864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256520" y="3905280"/>
            <a:ext cx="18874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400"/>
                            </p:stCondLst>
                            <p:childTnLst>
                              <p:par>
                                <p:cTn id="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1300"/>
                            </p:stCondLst>
                            <p:childTnLst>
                              <p:par>
                                <p:cTn id="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25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20000"/>
                </a:solidFill>
                <a:latin typeface="Times New Roman"/>
              </a:rPr>
              <a:t>Повторение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211640" y="4796640"/>
            <a:ext cx="144360" cy="120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948360" y="5299920"/>
            <a:ext cx="144720" cy="120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4080" y="1844640"/>
            <a:ext cx="66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1. Нарисуйте в тетради две то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6960" y="2349360"/>
            <a:ext cx="616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2. Обозначьте их буквами М и 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37080" y="443700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6160" y="508464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4440" y="2781360"/>
            <a:ext cx="88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Times New Roman"/>
              </a:rPr>
              <a:t>3. Соедините точки М и К разными способ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82920" y="3581280"/>
            <a:ext cx="2438640" cy="1249560"/>
          </a:xfrm>
          <a:custGeom>
            <a:avLst/>
            <a:gdLst/>
            <a:ahLst/>
            <a:rect l="l" t="t" r="r" b="b"/>
            <a:pathLst>
              <a:path w="1536" h="787">
                <a:moveTo>
                  <a:pt x="0" y="787"/>
                </a:moveTo>
                <a:lnTo>
                  <a:pt x="153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05720" y="3565440"/>
            <a:ext cx="320400" cy="1752840"/>
          </a:xfrm>
          <a:custGeom>
            <a:avLst/>
            <a:gdLst/>
            <a:ahLst/>
            <a:rect l="l" t="t" r="r" b="b"/>
            <a:pathLst>
              <a:path w="202" h="1104">
                <a:moveTo>
                  <a:pt x="202" y="110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7" idx="4"/>
            <a:endCxn id="108" idx="4"/>
          </p:cNvCxnSpPr>
          <p:nvPr/>
        </p:nvCxnSpPr>
        <p:spPr>
          <a:xfrm flipH="1" rot="16200000">
            <a:off x="5399640" y="3680280"/>
            <a:ext cx="504000" cy="2737800"/>
          </a:xfrm>
          <a:prstGeom prst="curvedConnector5">
            <a:avLst>
              <a:gd name="adj1" fmla="val 302501"/>
              <a:gd name="adj2" fmla="val 50000"/>
              <a:gd name="adj3" fmla="val 302501"/>
            </a:avLst>
          </a:prstGeom>
          <a:ln w="38160">
            <a:solidFill>
              <a:srgbClr val="0000ff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284720" y="4869000"/>
            <a:ext cx="2819520" cy="1164960"/>
          </a:xfrm>
          <a:custGeom>
            <a:avLst/>
            <a:gdLst/>
            <a:ahLst/>
            <a:rect l="l" t="t" r="r" b="b"/>
            <a:pathLst>
              <a:path w="1776" h="734">
                <a:moveTo>
                  <a:pt x="0" y="0"/>
                </a:moveTo>
                <a:cubicBezTo>
                  <a:pt x="45" y="109"/>
                  <a:pt x="91" y="219"/>
                  <a:pt x="136" y="272"/>
                </a:cubicBezTo>
                <a:cubicBezTo>
                  <a:pt x="181" y="325"/>
                  <a:pt x="234" y="310"/>
                  <a:pt x="272" y="318"/>
                </a:cubicBezTo>
                <a:cubicBezTo>
                  <a:pt x="310" y="326"/>
                  <a:pt x="324" y="288"/>
                  <a:pt x="362" y="318"/>
                </a:cubicBezTo>
                <a:cubicBezTo>
                  <a:pt x="400" y="348"/>
                  <a:pt x="476" y="454"/>
                  <a:pt x="499" y="499"/>
                </a:cubicBezTo>
                <a:cubicBezTo>
                  <a:pt x="522" y="544"/>
                  <a:pt x="492" y="560"/>
                  <a:pt x="499" y="590"/>
                </a:cubicBezTo>
                <a:cubicBezTo>
                  <a:pt x="506" y="620"/>
                  <a:pt x="514" y="658"/>
                  <a:pt x="544" y="681"/>
                </a:cubicBezTo>
                <a:cubicBezTo>
                  <a:pt x="574" y="704"/>
                  <a:pt x="642" y="734"/>
                  <a:pt x="680" y="726"/>
                </a:cubicBezTo>
                <a:cubicBezTo>
                  <a:pt x="718" y="718"/>
                  <a:pt x="748" y="665"/>
                  <a:pt x="771" y="635"/>
                </a:cubicBezTo>
                <a:cubicBezTo>
                  <a:pt x="794" y="605"/>
                  <a:pt x="778" y="545"/>
                  <a:pt x="816" y="545"/>
                </a:cubicBezTo>
                <a:cubicBezTo>
                  <a:pt x="854" y="545"/>
                  <a:pt x="929" y="612"/>
                  <a:pt x="997" y="635"/>
                </a:cubicBezTo>
                <a:cubicBezTo>
                  <a:pt x="1065" y="658"/>
                  <a:pt x="1156" y="688"/>
                  <a:pt x="1224" y="681"/>
                </a:cubicBezTo>
                <a:cubicBezTo>
                  <a:pt x="1292" y="674"/>
                  <a:pt x="1323" y="598"/>
                  <a:pt x="1406" y="590"/>
                </a:cubicBezTo>
                <a:cubicBezTo>
                  <a:pt x="1489" y="582"/>
                  <a:pt x="1670" y="680"/>
                  <a:pt x="1723" y="635"/>
                </a:cubicBezTo>
                <a:cubicBezTo>
                  <a:pt x="1776" y="590"/>
                  <a:pt x="1715" y="378"/>
                  <a:pt x="1723" y="318"/>
                </a:cubicBezTo>
                <a:cubicBezTo>
                  <a:pt x="1731" y="258"/>
                  <a:pt x="1769" y="280"/>
                  <a:pt x="1769" y="272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4861080"/>
            <a:ext cx="2697120" cy="488880"/>
          </a:xfrm>
          <a:custGeom>
            <a:avLst/>
            <a:gdLst/>
            <a:ahLst/>
            <a:rect l="l" t="t" r="r" b="b"/>
            <a:pathLst>
              <a:path w="1699" h="308">
                <a:moveTo>
                  <a:pt x="0" y="0"/>
                </a:moveTo>
                <a:lnTo>
                  <a:pt x="1699" y="308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03640" y="3429000"/>
            <a:ext cx="367200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МК - отрез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705720" y="1557360"/>
            <a:ext cx="2438280" cy="1447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3500280"/>
            <a:ext cx="46483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Часть прямой, ограниченная двумя точ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Точки М и К- концы отрез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Запись МК или К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4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20000"/>
                </a:solidFill>
                <a:latin typeface="Times New Roman"/>
              </a:rPr>
              <a:t>Определите, какие из точек лежат на отрезке АВ, а какие не лежат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3154320"/>
            <a:ext cx="4140360" cy="37036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3708360" y="3068280"/>
            <a:ext cx="5040360" cy="187308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35280" y="4869000"/>
            <a:ext cx="144720" cy="122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675640" y="2997360"/>
            <a:ext cx="144360" cy="122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21080" y="4292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461440" y="24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67280" y="321300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03640" y="4365720"/>
            <a:ext cx="1447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8360" y="378936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885080" y="3284640"/>
            <a:ext cx="14436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88000" y="5589720"/>
            <a:ext cx="1447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93080" y="357336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69080" y="263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05800" y="378936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69800" y="278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950160" y="306864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18880" y="501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19240" y="4005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500"/>
                            </p:stCondLst>
                            <p:childTnLst>
                              <p:par>
                                <p:cTn id="2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6500"/>
                            </p:stCondLst>
                            <p:childTnLst>
                              <p:par>
                                <p:cTn id="2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8500"/>
                            </p:stCondLst>
                            <p:childTnLst>
                              <p:par>
                                <p:cTn id="35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20000"/>
                </a:solidFill>
                <a:latin typeface="Times New Roman"/>
              </a:rPr>
              <a:t>Сколько на рисунке отрезков?</a:t>
            </a:r>
            <a:br>
              <a:rPr sz="3600"/>
            </a:br>
            <a:r>
              <a:rPr b="1" i="1" lang="en-US" sz="3600" spc="-1" strike="noStrike">
                <a:solidFill>
                  <a:srgbClr val="420000"/>
                </a:solidFill>
                <a:latin typeface="Times New Roman"/>
              </a:rPr>
              <a:t>Запишите их.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930320"/>
            <a:ext cx="3370320" cy="49276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flipV="1">
            <a:off x="4284720" y="3573360"/>
            <a:ext cx="3889440" cy="503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06960" y="2438280"/>
            <a:ext cx="1614240" cy="3413160"/>
          </a:xfrm>
          <a:custGeom>
            <a:avLst/>
            <a:gdLst/>
            <a:ahLst/>
            <a:rect l="l" t="t" r="r" b="b"/>
            <a:pathLst>
              <a:path w="1017" h="2150">
                <a:moveTo>
                  <a:pt x="0" y="2150"/>
                </a:moveTo>
                <a:lnTo>
                  <a:pt x="101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904080" y="2743200"/>
            <a:ext cx="1325520" cy="3230640"/>
          </a:xfrm>
          <a:custGeom>
            <a:avLst/>
            <a:gdLst/>
            <a:ahLst/>
            <a:rect l="l" t="t" r="r" b="b"/>
            <a:pathLst>
              <a:path w="835" h="2035">
                <a:moveTo>
                  <a:pt x="835" y="203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16560" y="4575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4160" y="198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13440" y="558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53080" y="3716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02520" y="3068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544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79240" y="227664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45440" y="544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78880" y="3716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4724280"/>
            <a:ext cx="2879640" cy="1924200"/>
          </a:xfrm>
          <a:prstGeom prst="irregularSeal1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500"/>
                            </p:stCondLst>
                            <p:childTnLst>
                              <p:par>
                                <p:cTn id="39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4000"/>
                            </p:stCondLst>
                            <p:childTnLst>
                              <p:par>
                                <p:cTn id="3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500"/>
                            </p:stCondLst>
                            <p:childTnLst>
                              <p:par>
                                <p:cTn id="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20000"/>
                </a:solidFill>
                <a:latin typeface="Times New Roman"/>
              </a:rPr>
              <a:t>Сколько на рисунке отрезков?</a:t>
            </a:r>
            <a:br>
              <a:rPr sz="3600"/>
            </a:br>
            <a:r>
              <a:rPr b="1" i="1" lang="en-US" sz="3600" spc="-1" strike="noStrike">
                <a:solidFill>
                  <a:srgbClr val="420000"/>
                </a:solidFill>
                <a:latin typeface="Times New Roman"/>
              </a:rPr>
              <a:t>Запишите их.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1930320"/>
            <a:ext cx="3370320" cy="4927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888240" y="2073240"/>
            <a:ext cx="1844640" cy="2300400"/>
          </a:xfrm>
          <a:custGeom>
            <a:avLst/>
            <a:gdLst/>
            <a:ahLst/>
            <a:rect l="l" t="t" r="r" b="b"/>
            <a:pathLst>
              <a:path w="1162" h="1449">
                <a:moveTo>
                  <a:pt x="0" y="0"/>
                </a:moveTo>
                <a:lnTo>
                  <a:pt x="1162" y="1449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78200" y="3535200"/>
            <a:ext cx="2103480" cy="2468880"/>
          </a:xfrm>
          <a:custGeom>
            <a:avLst/>
            <a:gdLst/>
            <a:ahLst/>
            <a:rect l="l" t="t" r="r" b="b"/>
            <a:pathLst>
              <a:path w="1325" h="1555">
                <a:moveTo>
                  <a:pt x="0" y="0"/>
                </a:moveTo>
                <a:lnTo>
                  <a:pt x="1325" y="1555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95640" y="4373640"/>
            <a:ext cx="4721400" cy="855720"/>
          </a:xfrm>
          <a:custGeom>
            <a:avLst/>
            <a:gdLst/>
            <a:ahLst/>
            <a:rect l="l" t="t" r="r" b="b"/>
            <a:pathLst>
              <a:path w="2974" h="539">
                <a:moveTo>
                  <a:pt x="0" y="539"/>
                </a:moveTo>
                <a:lnTo>
                  <a:pt x="2974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78360" y="3551400"/>
            <a:ext cx="685800" cy="1676160"/>
          </a:xfrm>
          <a:custGeom>
            <a:avLst/>
            <a:gdLst/>
            <a:ahLst/>
            <a:rect l="l" t="t" r="r" b="b"/>
            <a:pathLst>
              <a:path w="432" h="1056">
                <a:moveTo>
                  <a:pt x="0" y="1056"/>
                </a:moveTo>
                <a:lnTo>
                  <a:pt x="43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765840" y="2103480"/>
            <a:ext cx="138240" cy="3870360"/>
          </a:xfrm>
          <a:custGeom>
            <a:avLst/>
            <a:gdLst/>
            <a:ahLst/>
            <a:rect l="l" t="t" r="r" b="b"/>
            <a:pathLst>
              <a:path w="87" h="2438">
                <a:moveTo>
                  <a:pt x="87" y="0"/>
                </a:moveTo>
                <a:lnTo>
                  <a:pt x="0" y="2438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34160" y="5805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948360" y="1773360"/>
            <a:ext cx="4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53080" y="4292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46108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33800" y="4653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85800" y="2997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3800" y="5013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0000" y="1700280"/>
            <a:ext cx="2879640" cy="1923840"/>
          </a:xfrm>
          <a:prstGeom prst="irregularSeal1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420000"/>
                </a:solidFill>
                <a:latin typeface="Times New Roman"/>
              </a:rPr>
              <a:t>Инструменты, необходимые</a:t>
            </a:r>
            <a:br>
              <a:rPr sz="4000"/>
            </a:br>
            <a:r>
              <a:rPr b="1" i="1" lang="en-US" sz="4000" spc="-1" strike="noStrike">
                <a:solidFill>
                  <a:srgbClr val="420000"/>
                </a:solidFill>
                <a:latin typeface="Times New Roman"/>
              </a:rPr>
              <a:t> на уроке.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3938760" cy="4302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580000" y="1341360"/>
            <a:ext cx="2743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26920" y="6206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ff"/>
                </a:solidFill>
                <a:latin typeface="Times New Roman"/>
              </a:rPr>
              <a:t>Единицы измерения длин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659640" y="2637000"/>
            <a:ext cx="2286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с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м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к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д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4572000" cy="5445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1859040" cy="2286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780960" y="1844640"/>
            <a:ext cx="130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6600"/>
                </a:solidFill>
                <a:latin typeface="Arial Black"/>
              </a:rPr>
              <a:t>1 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920"/>
                            </p:stCondLst>
                            <p:childTnLst>
                              <p:par>
                                <p:cTn id="5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2808360" cy="26607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979640" y="1484280"/>
            <a:ext cx="2952720" cy="2693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0" y="3068640"/>
            <a:ext cx="3348000" cy="3259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4284720" y="0"/>
            <a:ext cx="3273480" cy="28432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788000" y="981000"/>
            <a:ext cx="396072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 км = 1000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88000" y="1773360"/>
            <a:ext cx="396072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 м = 10 дм = 100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88000" y="2565360"/>
            <a:ext cx="396072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 дм = 10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88000" y="3357720"/>
            <a:ext cx="396072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 см = 10 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437000"/>
            <a:ext cx="9144000" cy="2087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чертите отрезок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= 6 см 8 м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метьте на нем точку А так, чтобы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С = 4 см 3 мм. Чему равна длина отрезка А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4000"/>
                            </p:stCondLst>
                            <p:childTnLst>
                              <p:par>
                                <p:cTn id="6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6000"/>
                            </p:stCondLst>
                            <p:childTnLst>
                              <p:par>
                                <p:cTn id="6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900"/>
                            </p:stCondLst>
                            <p:childTnLst>
                              <p:par>
                                <p:cTn id="6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850"/>
                            </p:stCondLst>
                            <p:childTnLst>
                              <p:par>
                                <p:cTn id="6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7:27:52Z</dcterms:created>
  <dc:creator>Марина</dc:creator>
  <dc:description/>
  <dc:language>en-US</dc:language>
  <cp:lastModifiedBy>Марина</cp:lastModifiedBy>
  <dcterms:modified xsi:type="dcterms:W3CDTF">2007-09-17T06:56:24Z</dcterms:modified>
  <cp:revision>7</cp:revision>
  <dc:subject/>
  <dc:title>Отрезок. Длина  отрезка.</dc:title>
</cp:coreProperties>
</file>