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E24-E792-42E8-9903-642692D3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3EE-925B-4117-A859-7AD8743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D4D-6BB2-468F-8111-97B4CAEF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D2D-EB1F-4D8C-931C-63B9C93C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D900-64CC-4A96-9D65-3CE44862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CA4-4258-4F52-943D-6152431D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1F2C-6C35-4A9F-A440-6317452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4A17-D72B-444D-8169-D8A75C6B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CCD-08F4-4409-83DD-D8F3BD6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9E6-05D4-4B7D-9E44-7D093265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A624-532A-4B73-A9BB-57BBAC7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5EE-0854-4354-B044-308A04E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DB3-1BA8-4839-BA7C-E2F2CD7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6793-4FC2-42AF-AF06-0B6BDAF1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CAC1-9FE9-4E85-9DE9-81ACCC29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C30A-DD29-4597-A2D6-A76887E1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3165-862C-4A15-BD5D-08A5D892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241-48B2-4175-9317-154D893E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82B-84E4-4DBF-8AAF-F42B19B0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56B-4267-4C9C-89F1-785E676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515-F225-47A3-B3EC-0968C41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436-521A-4E24-9A80-BE85AB5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849-4C34-41D7-88F7-51C02CA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DDB-DF0E-487C-AF68-86C19169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1D6F-9AB4-4261-9218-51E0CFDE8B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36FB-BCF3-496E-ADF9-4514BF6612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2720"/>
                <a:gridCol w="38530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29" name="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1160" y="5227560"/>
            <a:ext cx="2849400" cy="60480"/>
          </a:xfrm>
          <a:custGeom>
            <a:avLst/>
            <a:gdLst/>
            <a:ahLst/>
            <a:rect l="l" t="t" r="r" b="b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/>
            <a:ahLst/>
            <a:rect l="l" t="t" r="r" b="b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/>
            <a:ahLst/>
            <a:rect l="l" t="t" r="r" b="b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/>
            <a:ahLst/>
            <a:rect l="l" t="t" r="r" b="b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/>
            <a:ahLst/>
            <a:rect l="l" t="t" r="r" b="b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/>
            <a:ahLst/>
            <a:rect l="l" t="t" r="r" b="b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7" idx="4"/>
            <a:endCxn id="108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/>
            <a:ahLst/>
            <a:rect l="l" t="t" r="r" b="b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/>
            <a:ahLst/>
            <a:rect l="l" t="t" r="r" b="b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/>
            <a:ahLst/>
            <a:rect l="l" t="t" r="r" b="b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/>
            <a:ahLst/>
            <a:rect l="l" t="t" r="r" b="b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/>
            <a:ahLst/>
            <a:rect l="l" t="t" r="r" b="b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/>
            <a:ahLst/>
            <a:rect l="l" t="t" r="r" b="b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/>
            <a:ahLst/>
            <a:rect l="l" t="t" r="r" b="b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/>
            <a:ahLst/>
            <a:rect l="l" t="t" r="r" b="b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/>
            <a:ahLst/>
            <a:rect l="l" t="t" r="r" b="b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Марина</cp:lastModifiedBy>
  <dcterms:modified xsi:type="dcterms:W3CDTF">2007-09-17T06:56:24Z</dcterms:modified>
  <cp:revision>7</cp:revision>
  <dc:subject/>
  <dc:title>Отрезок. Длина  отрезка.</dc:title>
</cp:coreProperties>
</file>