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9BA2B-9E58-4F15-BD6A-3782B4B2D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EDA27-890B-4E76-82BA-922C9C37E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3D9C0-C12F-42F2-A2B5-52BF31052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71164-2B65-4B26-80AA-3005EB798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85794-2BEB-4D4E-AF20-5CD61EC3E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4C75D-DD61-4B28-93B4-AA08FA6A8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91650-1236-4565-B813-BBB37C93B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3542E-0819-49C7-A7B3-08522C5C6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97FC3-F2BE-4483-A320-897868948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BC1EC-1BF0-4921-B80F-316F8C82A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D9224-353D-4847-AF17-AC2AEB0BA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8DB78-AEDF-47F2-931A-16D31BF25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410A7-8A04-4C16-8747-143D081BCE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Урок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рехгранный уго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5508720" y="1484280"/>
                <a:ext cx="2365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c</m:t>
                        </m:r>
                      </m:e>
                      <m:lim>
                        <m:r>
                          <m:t xml:space="preserve">Ù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p:sp>
        <p:nvSpPr>
          <p:cNvPr id="91" name=""/>
          <p:cNvSpPr/>
          <p:nvPr/>
        </p:nvSpPr>
        <p:spPr>
          <a:xfrm>
            <a:off x="324000" y="189000"/>
            <a:ext cx="8208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I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усть 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 9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gt; 9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гда рассмотрим луч 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’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полнительный к 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соответствующий трехгранный угол Оаb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’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котором плоские углы 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острые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 плоский угол 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двугранный угол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те же самы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-183960" y="2205000"/>
            <a:ext cx="865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s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co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si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534680" y="2852640"/>
            <a:ext cx="564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os</a:t>
            </a: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= cos</a:t>
            </a: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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os</a:t>
            </a: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+ sin</a:t>
            </a: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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in</a:t>
            </a: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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5796000" y="3716280"/>
            <a:ext cx="2579760" cy="25797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8244000" y="2060640"/>
                <a:ext cx="23652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c</m:t>
                        </m:r>
                      </m:e>
                      <m:lim>
                        <m:r>
                          <m:t xml:space="preserve">Ù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7020000" y="2708280"/>
                <a:ext cx="2365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c</m:t>
                        </m:r>
                      </m:e>
                      <m:lim>
                        <m:r>
                          <m:t xml:space="preserve">Ù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-415800" y="1082520"/>
                <a:ext cx="261720" cy="58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c</m:t>
                        </m:r>
                      </m:e>
                      <m:lim>
                        <m:r>
                          <m:t xml:space="preserve">Ù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p:sp>
        <p:nvSpPr>
          <p:cNvPr id="98" name=""/>
          <p:cNvSpPr/>
          <p:nvPr/>
        </p:nvSpPr>
        <p:spPr>
          <a:xfrm>
            <a:off x="106560" y="333360"/>
            <a:ext cx="80992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II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усть 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 9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gt; 9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гда рассмотрим луч 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’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полнительный к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,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соответствующий трехгранный угол О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b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которо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лоские углы 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острые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ретий плоский угол – (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 противолежащий ему двугранный угол – (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-185760" y="3068640"/>
            <a:ext cx="891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cos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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sin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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  )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3240" y="3573360"/>
            <a:ext cx="564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os</a:t>
            </a: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= cos</a:t>
            </a: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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os</a:t>
            </a: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+ sin</a:t>
            </a: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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in</a:t>
            </a: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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6877080" y="2349360"/>
                <a:ext cx="2365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c</m:t>
                        </m:r>
                      </m:e>
                      <m:lim>
                        <m:r>
                          <m:t xml:space="preserve">Ù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8028000" y="2895480"/>
                <a:ext cx="2365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c</m:t>
                        </m:r>
                      </m:e>
                      <m:lim>
                        <m:r>
                          <m:t xml:space="preserve">Ù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5508720" y="3429000"/>
                <a:ext cx="2365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c</m:t>
                        </m:r>
                      </m:e>
                      <m:lim>
                        <m:r>
                          <m:t xml:space="preserve">Ù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4716360" y="4005360"/>
            <a:ext cx="2579760" cy="257976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 flipV="1">
            <a:off x="7093080" y="4005360"/>
            <a:ext cx="12240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936560" y="3787920"/>
            <a:ext cx="33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7" name=""/>
          <p:cNvGraphicFramePr/>
          <p:nvPr/>
        </p:nvGraphicFramePr>
        <p:xfrm>
          <a:off x="6229440" y="0"/>
          <a:ext cx="2334960" cy="252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29440" y="0"/>
                    <a:ext cx="2334960" cy="25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5435640" y="44280"/>
                <a:ext cx="25704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c</m:t>
                        </m:r>
                      </m:e>
                      <m:lim>
                        <m:r>
                          <m:t xml:space="preserve">Ù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3203640" y="4292640"/>
                <a:ext cx="26964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c</m:t>
                        </m:r>
                      </m:e>
                      <m:lim>
                        <m:r>
                          <m:t xml:space="preserve">Ù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-714240" y="2135880"/>
            <a:ext cx="22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-714240" y="3199680"/>
            <a:ext cx="22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8600" y="260280"/>
            <a:ext cx="507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V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усть 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9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9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гда 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95280" y="836640"/>
            <a:ext cx="5689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равенство, очевидно, выполняетс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же только один из этих углов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пример, 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9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 доказанная формула имеет вид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s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sin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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2627280" y="2492280"/>
                <a:ext cx="25704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c</m:t>
                        </m:r>
                      </m:e>
                      <m:lim>
                        <m:r>
                          <m:t xml:space="preserve">Ù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p:sp>
        <p:nvSpPr>
          <p:cNvPr id="116" name=""/>
          <p:cNvSpPr/>
          <p:nvPr/>
        </p:nvSpPr>
        <p:spPr>
          <a:xfrm>
            <a:off x="2952720" y="2637000"/>
            <a:ext cx="382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s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cos(9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6620040" y="2421000"/>
                <a:ext cx="25704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c</m:t>
                        </m:r>
                      </m:e>
                      <m:lim>
                        <m:r>
                          <m:t xml:space="preserve">Ù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540360" y="4508640"/>
            <a:ext cx="272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Следстви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Есл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510720" y="4484520"/>
            <a:ext cx="454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90</a:t>
            </a: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, то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os</a:t>
            </a: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= cos</a:t>
            </a: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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os</a:t>
            </a: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налог теоремы Пифагора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3760" y="330480"/>
            <a:ext cx="8516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Теорем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трехгранном угле сумма плоских углов меньше 360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 сумма любых двух из них больше третьег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Дано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 О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bc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– трехгранный угол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b; c) =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a; c) =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a; b) =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48720" y="260280"/>
            <a:ext cx="61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сновное свойство трехгранного уг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-81000" y="2565360"/>
            <a:ext cx="5029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Доказать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Symbol" charset="2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lt; 360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53640" y="2993400"/>
            <a:ext cx="92588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Доказательство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.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усть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lt; 90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&lt; 90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 (ABC)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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огда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ВС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90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&lt;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В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следствие из формулы трех косинусов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налогично,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АС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90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&lt;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AВ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ледовательно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180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– (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АB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B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&lt; 180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– ((90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+ (90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) =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Если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lt; 90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 то остальные два неравенства пункта 2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оказываются аналогично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 если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90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 то они – очевид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611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Дано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 О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bc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– трехгранный угол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b; c) =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a; c) =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a; b) =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423720" y="692280"/>
            <a:ext cx="5372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Доказать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5796000" y="0"/>
            <a:ext cx="3348000" cy="33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270160" y="548280"/>
            <a:ext cx="418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Формула трех косинусов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2700360" y="2060640"/>
                <a:ext cx="2346480" cy="118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j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β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2" name=""/>
          <p:cNvSpPr/>
          <p:nvPr/>
        </p:nvSpPr>
        <p:spPr>
          <a:xfrm>
            <a:off x="1506600" y="3637800"/>
            <a:ext cx="266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-3600" y="1197000"/>
            <a:ext cx="8232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Следстви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1)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Для вычисления угла между прямой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плоскостью применима формула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6400" y="3825720"/>
            <a:ext cx="710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Угол между прямой и плоскостью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наименьший из углов, которая эта прямая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образует с прямыми этой плоскости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-10080" y="2445120"/>
            <a:ext cx="92545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I.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 ребрах данного угла отложим точки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’, B’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’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ак, что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|OA’| = |OB’| = |OC’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огда треугольники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’OB’, B’OC’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 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OA’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внобедренные, а их углы при основаниях 1 – 6 – остры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ля трехгранных углов с вершинами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’, B’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’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мени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равенства, доказанные в пункте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&lt;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 +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;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C’ &lt;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 +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;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’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&lt;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 +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ложим эти неравенства почленно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огда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80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&lt; (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 +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) + (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 +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) + (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 +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)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180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+ (180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+ (180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lt; 360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5724360" y="192240"/>
            <a:ext cx="3024360" cy="23810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0" y="0"/>
            <a:ext cx="611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Дано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 О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bc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– трехгранный угол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b; c) =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a; c) =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a; b) =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-423720" y="692280"/>
            <a:ext cx="5372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Доказать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Symbol" charset="2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lt; 360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288360" y="3675600"/>
            <a:ext cx="9064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II.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ссмотрим луч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’ –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ополнительный лучу с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 для трехгранного угла О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bc’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спользуем неравенство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оказанное в пункте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I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ля произвольного трехгранног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гл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180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+ (180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+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lt; 360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&gt;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налогично доказываются и два остальных неравен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5580000" y="0"/>
            <a:ext cx="3348000" cy="334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0" y="433440"/>
            <a:ext cx="611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Дано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 О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bc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– трехгранный угол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b; c) =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a; c) =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a; b) =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-423720" y="1125360"/>
            <a:ext cx="5372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Доказать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Symbol" charset="2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lt; 360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8658000" y="-8100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79280" y="75960"/>
            <a:ext cx="8448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Следств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правильной треугольной пирамиде плоский уго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 вершине меньше 12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-2190600" y="2454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-2190600" y="3368520"/>
          <a:ext cx="182520" cy="51768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7" name=""/>
          <p:cNvGraphicFramePr/>
          <p:nvPr/>
        </p:nvGraphicFramePr>
        <p:xfrm>
          <a:off x="-2190600" y="3886200"/>
          <a:ext cx="584280" cy="244440"/>
        </p:xfrm>
        <a:graphic>
          <a:graphicData uri="http://schemas.openxmlformats.org/drawingml/2006/table">
            <a:tbl>
              <a:tblPr/>
              <a:tblGrid>
                <a:gridCol w="5842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ис. 4б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" name=""/>
          <p:cNvSpPr/>
          <p:nvPr/>
        </p:nvSpPr>
        <p:spPr>
          <a:xfrm>
            <a:off x="250920" y="404640"/>
            <a:ext cx="8675640" cy="32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Определени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Трехгранные углы называются равными если равны все их соответствующие плоские и двугранные углы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Признаки равенства трехгранных углов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Трехгранные углы равны, если у них соответственно равн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-96120" y="3213000"/>
            <a:ext cx="9007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два плоских угла и двугранный угол между ними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2) два двугранных угла и плоский угол между ними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3) три плоских угла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4) три двугранных уг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5364000" y="1317600"/>
                <a:ext cx="233640" cy="5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c</m:t>
                        </m:r>
                      </m:e>
                      <m:lim>
                        <m:r>
                          <m:t xml:space="preserve">Ù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p:sp>
        <p:nvSpPr>
          <p:cNvPr id="71" name=""/>
          <p:cNvSpPr/>
          <p:nvPr/>
        </p:nvSpPr>
        <p:spPr>
          <a:xfrm>
            <a:off x="-1946160" y="37393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79280" y="0"/>
            <a:ext cx="9577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н трехгранный угол 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c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усть 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 9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lt; 9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гда рассмотрим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ABC)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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теореме косинусов из 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CАВ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|AB|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|AC|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|BC|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2|AC|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|BC|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558160" y="0"/>
            <a:ext cx="402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налог теоремы косинус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08000" y="1871640"/>
            <a:ext cx="23248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налогично, из 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АВ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|AB|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|AO|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|BO|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2|AO|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|BO|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s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чтем из второго равенства первое и учтем, чт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|AO|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|AC|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|CO|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|BO|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|BC|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|CO|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2|AO|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|BO|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s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2|AC|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|BC|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0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6564240" y="4076640"/>
            <a:ext cx="2579760" cy="25797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2584440" y="1295280"/>
                <a:ext cx="47520" cy="25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c</m:t>
                        </m:r>
                      </m:e>
                      <m:lim>
                        <m:r>
                          <m:t xml:space="preserve">Ù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539640" y="3645000"/>
                <a:ext cx="4478400" cy="92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g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O</m:t>
                            </m:r>
                          </m:e>
                        </m:d>
                        <m:r>
                          <m:t xml:space="preserve">⋅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O</m:t>
                            </m:r>
                          </m:e>
                        </m:d>
                      </m:den>
                    </m:f>
                    <m:r>
                      <m:t xml:space="preserve">+</m:t>
                    </m:r>
                    <m:f>
                      <m:num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C</m:t>
                            </m:r>
                          </m:e>
                        </m:d>
                        <m:r>
                          <m:t xml:space="preserve">⋅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C</m:t>
                            </m:r>
                          </m:e>
                        </m:d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O</m:t>
                            </m:r>
                          </m:e>
                        </m:d>
                        <m:r>
                          <m:t xml:space="preserve">⋅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O</m:t>
                            </m:r>
                          </m:e>
                        </m:d>
                      </m:den>
                    </m:f>
                    <m:r>
                      <m:rPr>
                        <m:lit/>
                        <m:nor/>
                      </m:rPr>
                      <m:t xml:space="preserve">cos</m:t>
                    </m:r>
                    <m:limUpp>
                      <m:e>
                        <m:r>
                          <m:t xml:space="preserve">c</m:t>
                        </m:r>
                      </m:e>
                      <m:lim>
                        <m:r>
                          <m:t xml:space="preserve">Ù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5580000" y="4508640"/>
                <a:ext cx="1224000" cy="66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e>
                        </m:d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O</m:t>
                            </m:r>
                          </m:e>
                        </m:d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β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1332000" y="4508640"/>
                <a:ext cx="1293840" cy="70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e>
                        </m:d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O</m:t>
                            </m:r>
                          </m:e>
                        </m:d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4067280" y="4508640"/>
                <a:ext cx="12967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C</m:t>
                            </m:r>
                          </m:e>
                        </m:d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O</m:t>
                            </m:r>
                          </m:e>
                        </m:d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β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2771640" y="4508640"/>
                <a:ext cx="129564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C</m:t>
                            </m:r>
                          </m:e>
                        </m:d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O</m:t>
                            </m:r>
                          </m:e>
                        </m:d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5435640" y="3068640"/>
                <a:ext cx="285840" cy="64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c</m:t>
                        </m:r>
                      </m:e>
                      <m:lim>
                        <m:r>
                          <m:t xml:space="preserve">Ù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p:sp>
        <p:nvSpPr>
          <p:cNvPr id="83" name=""/>
          <p:cNvSpPr/>
          <p:nvPr/>
        </p:nvSpPr>
        <p:spPr>
          <a:xfrm>
            <a:off x="6302520" y="4365000"/>
            <a:ext cx="22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70160" y="6020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586240" y="29203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586240" y="36234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586240" y="43268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-174960" y="5300640"/>
            <a:ext cx="613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гда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os</a:t>
            </a: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= cos</a:t>
            </a: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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os</a:t>
            </a: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+ sin</a:t>
            </a: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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in</a:t>
            </a: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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-107640" y="4653000"/>
            <a:ext cx="163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аменим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9T14:27:32Z</dcterms:created>
  <dc:creator>Sveta</dc:creator>
  <dc:description/>
  <dc:language>en-US</dc:language>
  <cp:lastModifiedBy>Sveta</cp:lastModifiedBy>
  <dcterms:modified xsi:type="dcterms:W3CDTF">2008-01-29T16:56:29Z</dcterms:modified>
  <cp:revision>3</cp:revision>
  <dc:subject/>
  <dc:title>Урок 10</dc:title>
</cp:coreProperties>
</file>