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3661-C037-4FD4-A586-17725E62E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837F-601B-4F9E-8E05-B5435F02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0630-43A5-414D-837C-6C1B686E4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1D05-5ED4-422A-8E32-E3926F8D2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1C87-FE27-41EC-A4AB-02212537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484D-BBD9-40CA-9962-FA9BB067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6860-0617-435E-91CB-2AE0B51E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751B-A927-4A68-986C-912708A0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07F3-1208-4EC1-80E7-5869C039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6069-6927-4819-8E70-4438054D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F3A1-14CA-41F6-A787-90129F04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C0FB-B8AF-4AE3-9B72-E5225DD3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B752-9C6F-4909-8203-7EC68FEB1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ок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ехгранный 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508720" y="1484280"/>
                <a:ext cx="236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c</m:t>
                        </m:r>
                      </m:e>
                      <m:lim>
                        <m:r>
                          <m:t xml:space="preserve">Ù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324000" y="189000"/>
            <a:ext cx="820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9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9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гда рассмотрим луч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олнительный к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оответствующий трехгранный угол Оаb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отором плоские углы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стры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плоский угол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двугранный уго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те же сам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183960" y="2205000"/>
            <a:ext cx="865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o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si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34680" y="2852640"/>
            <a:ext cx="564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= cos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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+ sin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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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796000" y="3716280"/>
            <a:ext cx="2579760" cy="2579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8244000" y="2060640"/>
                <a:ext cx="2365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c</m:t>
                        </m:r>
                      </m:e>
                      <m:lim>
                        <m:r>
                          <m:t xml:space="preserve">Ù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7020000" y="2708280"/>
                <a:ext cx="236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c</m:t>
                        </m:r>
                      </m:e>
                      <m:lim>
                        <m:r>
                          <m:t xml:space="preserve">Ù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-415800" y="1082520"/>
                <a:ext cx="2617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c</m:t>
                        </m:r>
                      </m:e>
                      <m:lim>
                        <m:r>
                          <m:t xml:space="preserve">Ù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106560" y="333360"/>
            <a:ext cx="809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9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9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гда рассмотрим луч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олнительный 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оответствующий трехгранный угол О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b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отор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ские углы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стры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плоский угол – (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противолежащий ему двугранный угол – (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185760" y="3068640"/>
            <a:ext cx="891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co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si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  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3240" y="3573360"/>
            <a:ext cx="564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= cos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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+ sin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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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877080" y="2349360"/>
                <a:ext cx="236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c</m:t>
                        </m:r>
                      </m:e>
                      <m:lim>
                        <m:r>
                          <m:t xml:space="preserve">Ù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8028000" y="2895480"/>
                <a:ext cx="236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c</m:t>
                        </m:r>
                      </m:e>
                      <m:lim>
                        <m:r>
                          <m:t xml:space="preserve">Ù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508720" y="3429000"/>
                <a:ext cx="236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c</m:t>
                        </m:r>
                      </m:e>
                      <m:lim>
                        <m:r>
                          <m:t xml:space="preserve">Ù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716360" y="4005360"/>
            <a:ext cx="2579760" cy="257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flipV="1">
            <a:off x="7093080" y="4005360"/>
            <a:ext cx="12240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936560" y="3787920"/>
            <a:ext cx="3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6229440" y="0"/>
          <a:ext cx="2334960" cy="25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9440" y="0"/>
                    <a:ext cx="2334960" cy="25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435640" y="44280"/>
                <a:ext cx="2570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c</m:t>
                        </m:r>
                      </m:e>
                      <m:lim>
                        <m:r>
                          <m:t xml:space="preserve">Ù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203640" y="4292640"/>
                <a:ext cx="2696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c</m:t>
                        </m:r>
                      </m:e>
                      <m:lim>
                        <m:r>
                          <m:t xml:space="preserve">Ù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-714240" y="21358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714240" y="31996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8600" y="260280"/>
            <a:ext cx="507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V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9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9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гда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836640"/>
            <a:ext cx="568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равенство, очевидно, выполняе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же только один из этих угл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,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9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доказанная формула имеет вид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i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627280" y="2492280"/>
                <a:ext cx="2570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c</m:t>
                        </m:r>
                      </m:e>
                      <m:lim>
                        <m:r>
                          <m:t xml:space="preserve">Ù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2952720" y="2637000"/>
            <a:ext cx="382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os(9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6620040" y="2421000"/>
                <a:ext cx="2570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c</m:t>
                        </m:r>
                      </m:e>
                      <m:lim>
                        <m:r>
                          <m:t xml:space="preserve">Ù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540360" y="4508640"/>
            <a:ext cx="27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ледств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10720" y="4484520"/>
            <a:ext cx="454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т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= cos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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алог теоремы Пифагора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3760" y="330480"/>
            <a:ext cx="851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еорем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трехгранном угле сумма плоских углов меньше 360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сумма любых двух из них больше треть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ан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трехгранный угол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b; c)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; c)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; b)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48720" y="260280"/>
            <a:ext cx="61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новное свойство трехгранного уг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81000" y="256536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оказа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 36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640" y="2993400"/>
            <a:ext cx="9258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оказательств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 9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9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(ABC)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гда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ВС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9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следствие из формулы трех косинусов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алогично,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АС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9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A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едовательн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18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А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B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&lt; 18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((9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+ (9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) =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 9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то остальные два неравенства пункта 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казываются аналогичн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если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9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то они – очевид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1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ан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трехгранный угол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b; c)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; c)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; b)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423720" y="692280"/>
            <a:ext cx="53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оказа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70160" y="548280"/>
            <a:ext cx="41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Формула трех косинусо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700360" y="2060640"/>
                <a:ext cx="234648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j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1506600" y="3637800"/>
            <a:ext cx="26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3600" y="1197000"/>
            <a:ext cx="823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ледств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1)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Для вычисления угла между прямой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лоскостью применима формула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400" y="3825720"/>
            <a:ext cx="710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гол между прямой и плоскостью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именьший из углов, которая эта пряма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разует с прямыми этой плоскости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0080" y="2445120"/>
            <a:ext cx="9254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ребрах данного угла отложим точк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’, B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, чт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OA’| = |OB’| = |OC’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гда треугольник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’OB’, B’OC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OA’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внобедренные, а их углы при основаниях 1 – 6 – остр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трехгранных углов с вершинам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’, B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н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равенства, доказанные в пункт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&l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C’ &l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’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&l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ожим эти неравенства почленн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гд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+ (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) + (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18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+ (18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+ (18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 36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724360" y="192240"/>
            <a:ext cx="3024360" cy="2381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61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ан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трехгранный угол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b; c)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; c)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; b)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-423720" y="692280"/>
            <a:ext cx="53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оказа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 36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88360" y="3675600"/>
            <a:ext cx="9064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смотрим луч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’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полнительный лучу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для трехгранного угла 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уем неравенств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казанное в пункт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произвольного трехгран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гл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8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+ (18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 36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алогично доказываются и два остальных нераве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580000" y="0"/>
            <a:ext cx="3348000" cy="334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433440"/>
            <a:ext cx="61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ан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трехгранный угол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b; c)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; c)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; b)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423720" y="1125360"/>
            <a:ext cx="53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оказа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 36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658000" y="-81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79280" y="75960"/>
            <a:ext cx="844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ледств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авильной треугольной пирамиде плоский уго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вершине меньше 12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-2190600" y="245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-2190600" y="3368520"/>
          <a:ext cx="18252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-2190600" y="3886200"/>
          <a:ext cx="584280" cy="244440"/>
        </p:xfrm>
        <a:graphic>
          <a:graphicData uri="http://schemas.openxmlformats.org/drawingml/2006/table">
            <a:tbl>
              <a:tblPr/>
              <a:tblGrid>
                <a:gridCol w="5842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ис. 4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250920" y="404640"/>
            <a:ext cx="867564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Трехгранные углы называются равными если равны все их соответствующие плоские и двугранные угл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изнаки равенства трехгранных углов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Трехгранные углы равны, если у них соответственно рав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96120" y="3213000"/>
            <a:ext cx="900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два плоских угла и двугранный угол между ним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) два двугранных угла и плоский угол между ним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) три плоских угл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4) три двугранных уг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364000" y="1317600"/>
                <a:ext cx="2336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c</m:t>
                        </m:r>
                      </m:e>
                      <m:lim>
                        <m:r>
                          <m:t xml:space="preserve">Ù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-1946160" y="3739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0"/>
            <a:ext cx="957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 трехгранный угол 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9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9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гда рассмотри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BC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теореме косинусов из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А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AB|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|AC|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|BC|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|AC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BC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58160" y="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лог теоремы косину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8000" y="1871640"/>
            <a:ext cx="2324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огично, из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А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AB|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|AO|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|BO|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|AO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BO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чтем из второго равенства первое и учтем, ч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AO|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AC|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|CO|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|BO|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BC|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|CO|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|AO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BO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|AC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BC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564240" y="4076640"/>
            <a:ext cx="2579760" cy="2579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584440" y="1295280"/>
                <a:ext cx="47520" cy="2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c</m:t>
                        </m:r>
                      </m:e>
                      <m:lim>
                        <m:r>
                          <m:t xml:space="preserve">Ù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39640" y="3645000"/>
                <a:ext cx="447840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O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O</m:t>
                            </m:r>
                          </m:e>
                        </m:d>
                      </m:den>
                    </m:f>
                    <m:r>
                      <m:t xml:space="preserve">+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O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O</m:t>
                            </m:r>
                          </m:e>
                        </m:d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limUpp>
                      <m:e>
                        <m:r>
                          <m:t xml:space="preserve">c</m:t>
                        </m:r>
                      </m:e>
                      <m:lim>
                        <m:r>
                          <m:t xml:space="preserve">Ù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580000" y="4508640"/>
                <a:ext cx="122400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O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332000" y="4508640"/>
                <a:ext cx="129384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O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067280" y="4508640"/>
                <a:ext cx="12967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O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771640" y="4508640"/>
                <a:ext cx="12956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O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435640" y="3068640"/>
                <a:ext cx="28584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c</m:t>
                        </m:r>
                      </m:e>
                      <m:lim>
                        <m:r>
                          <m:t xml:space="preserve">Ù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6302520" y="43650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0160" y="6020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86240" y="2920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86240" y="3623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86240" y="4326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174960" y="5300640"/>
            <a:ext cx="61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гда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= cos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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+ sin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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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107640" y="4653000"/>
            <a:ext cx="16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меним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4:27:32Z</dcterms:created>
  <dc:creator>Sveta</dc:creator>
  <dc:description/>
  <dc:language>en-US</dc:language>
  <cp:lastModifiedBy>Sveta</cp:lastModifiedBy>
  <dcterms:modified xsi:type="dcterms:W3CDTF">2008-01-29T16:56:29Z</dcterms:modified>
  <cp:revision>3</cp:revision>
  <dc:subject/>
  <dc:title>Урок 10</dc:title>
</cp:coreProperties>
</file>