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16D-99C4-4F5A-B447-474688F1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43D-9008-4920-A8B2-6569959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134-862F-433C-ADE3-4E77ADC8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741-D582-45D3-A188-06E0FEE9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A59-A28A-41FE-9743-268CD856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7DE-A979-49F3-BB84-E5C98C5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336-09C6-499A-A86A-7265CCCD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6EC-A6F7-416C-B576-BA6CE95C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385-70C8-4C2A-B912-D56AEAF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847-7DED-4CA0-8A0C-2301E5AE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65D-9CCF-4EAA-AC0C-A5B7469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557-3C89-4A35-B6BE-14A120E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302C-722B-45DA-855F-20BA20F7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роизводство ткан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484280"/>
          <a:ext cx="914400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2a07"/>
                </a:solidFill>
                <a:latin typeface="Arial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яжа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ильная нить из скрученных воло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лучения пря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Тк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ереплетение нитей основы и 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вдоль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дет поперек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ч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лучения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тняное переплет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ити основы и 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етаются через од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ром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осыпающийся край 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Определение х/б и льняных тка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3827520"/>
                <a:gridCol w="1439640"/>
                <a:gridCol w="1511640"/>
                <a:gridCol w="145080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 ви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ка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щина ни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12a07"/>
                          </a:solidFill>
                          <a:latin typeface="Arial"/>
                        </a:rPr>
                        <a:t>Вид ткан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Устройство и работа ткацк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563840"/>
            <a:ext cx="6912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«Определение в ткани направления нитей основы и утка»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1844640"/>
          <a:ext cx="8362800" cy="4861080"/>
        </p:xfrm>
        <a:graphic>
          <a:graphicData uri="http://schemas.openxmlformats.org/drawingml/2006/table">
            <a:tbl>
              <a:tblPr/>
              <a:tblGrid>
                <a:gridCol w="1671480"/>
                <a:gridCol w="1673280"/>
                <a:gridCol w="1673280"/>
                <a:gridCol w="1673280"/>
                <a:gridCol w="1671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нити в тка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ром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растя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             П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у      толщи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 flipV="1">
            <a:off x="7020000" y="184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058840"/>
          <a:ext cx="91440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8840"/>
                    <a:ext cx="91440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39640" y="260280"/>
            <a:ext cx="8280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а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тделка ткани»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лучшение качества и внешнего вида ткан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Виды ткани по способу отд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4986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0360" cy="234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03600" y="1341360"/>
            <a:ext cx="4213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2a07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процесс получения пряжи, тка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ют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ТКАНЬ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КРОМ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способы определения нитей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СНОВЫ и У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знае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нить называют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ТОЧНО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  Что такое ткацкое переплет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 Что такое отделка ткани? Виды отд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 По каким признакам определить лицевую и изнаночную стороны тка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8:36:35Z</dcterms:created>
  <dc:creator>Irina</dc:creator>
  <dc:description/>
  <dc:language>en-US</dc:language>
  <cp:lastModifiedBy>Irina</cp:lastModifiedBy>
  <dcterms:modified xsi:type="dcterms:W3CDTF">2010-10-26T17:53:47Z</dcterms:modified>
  <cp:revision>5</cp:revision>
  <dc:subject/>
  <dc:title>Материаловедение. Тема 2 «Производство ткани»</dc:title>
</cp:coreProperties>
</file>