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97A6-78DD-488C-8C47-30A7558D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E660-473A-4758-9B9F-0AE4D46F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5A8D-5B85-4A70-890C-55203EF3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EE22-AD81-4F97-976D-FE5B0AC6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61FD-2FC5-4FA7-BAC0-5FCDA58F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148-8DD4-4700-9D63-E8978923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2808-92BC-40B6-9569-C5401F47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7A4-AF9D-47FA-819C-453BF821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8A20-7C96-48DA-A987-8741E26F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D35D-DB76-47AD-9EB6-99CD1F18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FADD-7270-4179-9481-46395D76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503-92BB-4E99-89AE-58DF9468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76B5-25E9-4281-B9E3-F57544026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«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Производство ткан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1484280"/>
          <a:ext cx="914400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12a07"/>
                </a:solidFill>
                <a:latin typeface="Arial"/>
              </a:rPr>
              <a:t>Запомн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813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яжа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ильная нить из скрученных воло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д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цесс получения пря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Тка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ереплетение нитей основы и 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т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нов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дет вдоль 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т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дет поперек 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каче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цесс получения 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тняное переплет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нити основы и 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плетаются через од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ром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осыпающийся край  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ктическая работа </a:t>
            </a:r>
            <a:br>
              <a:rPr sz="3600"/>
            </a:b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«Определение х/б и льняных ткан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4826160"/>
        </p:xfrm>
        <a:graphic>
          <a:graphicData uri="http://schemas.openxmlformats.org/drawingml/2006/table">
            <a:tbl>
              <a:tblPr/>
              <a:tblGrid>
                <a:gridCol w="3827520"/>
                <a:gridCol w="1439640"/>
                <a:gridCol w="1511640"/>
                <a:gridCol w="1450800"/>
              </a:tblGrid>
              <a:tr h="581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 вид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кан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ц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поверх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щина ни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2a07"/>
                          </a:solidFill>
                          <a:latin typeface="Arial"/>
                        </a:rPr>
                        <a:t>Вид ткан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Устройство и работа ткацкого ста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16000" y="1563840"/>
            <a:ext cx="6912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br>
              <a:rPr sz="3600"/>
            </a:b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«Определение в ткани направления нитей основы и утка»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4000" y="1844640"/>
          <a:ext cx="8362800" cy="4861080"/>
        </p:xfrm>
        <a:graphic>
          <a:graphicData uri="http://schemas.openxmlformats.org/drawingml/2006/table">
            <a:tbl>
              <a:tblPr/>
              <a:tblGrid>
                <a:gridCol w="1671480"/>
                <a:gridCol w="1673280"/>
                <a:gridCol w="1673280"/>
                <a:gridCol w="1673280"/>
                <a:gridCol w="167148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 нити в тка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кром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степени растя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             П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у      толщи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 flipV="1">
            <a:off x="7020000" y="1844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2058840"/>
          <a:ext cx="91440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8840"/>
                    <a:ext cx="91440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539640" y="260280"/>
            <a:ext cx="82803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ма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Отделка ткани»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лучшение качества и внешнего вида ткан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Виды ткани по способу отде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149868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6920" y="4076640"/>
            <a:ext cx="3240360" cy="2349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503600" y="1341360"/>
            <a:ext cx="4213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2a07"/>
                </a:solidFill>
                <a:latin typeface="Arial"/>
              </a:rPr>
              <a:t>Проверь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называется процесс получения пряжи, тка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называют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ТКАНЬ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КРОМК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способы определения нитей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СНОВЫ и УТ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 знает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ую нить называют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УТОЧНО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   Что такое ткацкое переплет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  Что такое отделка ткани? Виды отде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  По каким признакам определить лицевую и изнаночную стороны тка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8:36:35Z</dcterms:created>
  <dc:creator>Irina</dc:creator>
  <dc:description/>
  <dc:language>en-US</dc:language>
  <cp:lastModifiedBy>Irina</cp:lastModifiedBy>
  <dcterms:modified xsi:type="dcterms:W3CDTF">2010-10-26T17:53:47Z</dcterms:modified>
  <cp:revision>5</cp:revision>
  <dc:subject/>
  <dc:title>Материаловедение. Тема 2 «Производство ткани»</dc:title>
</cp:coreProperties>
</file>