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FD5-0D7D-4EA4-B4A8-FE439BC1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604-983E-4857-9EA3-F0018756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857-141A-4678-9184-45B9023A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D87-307F-45BA-BDDB-392BAA45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020-D162-4A1D-8AFA-A2829C91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B60-5244-4854-8C58-596D5EA5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81A-8BA1-4686-8D37-DC6E39B9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68D-F49D-43A9-B3FF-3044DD29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8AF-26E3-4D5F-812A-E3B6BFA2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7D5-87AA-43FF-9648-88889BE2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676-F877-41DC-9EB5-84A53408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9A4-1F3D-4C9C-A1FF-0884E47D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4F8C-9F80-4C83-9DAA-3C185D1EE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роизводство ткан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2a07"/>
                </a:solidFill>
                <a:latin typeface="Arial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яжа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ильная нить из скрученных воло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лучения пря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Тка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ереплетение нитей основы и 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дет вдоль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дет поперек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че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лучения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тняное переплет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ити основы и 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летаются через од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ром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осыпающийся край 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36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«Определение х/б и льняных тка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3827520"/>
                <a:gridCol w="1439640"/>
                <a:gridCol w="1511640"/>
                <a:gridCol w="145080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ви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щина ни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2a07"/>
                          </a:solidFill>
                          <a:latin typeface="Arial"/>
                        </a:rPr>
                        <a:t>Вид тка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Устройство и работа ткацк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563840"/>
            <a:ext cx="6912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36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«Определение в ткани направления нитей основы и утка»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1844640"/>
          <a:ext cx="8362800" cy="4861080"/>
        </p:xfrm>
        <a:graphic>
          <a:graphicData uri="http://schemas.openxmlformats.org/drawingml/2006/table">
            <a:tbl>
              <a:tblPr/>
              <a:tblGrid>
                <a:gridCol w="1671480"/>
                <a:gridCol w="1673280"/>
                <a:gridCol w="1673280"/>
                <a:gridCol w="1673280"/>
                <a:gridCol w="16714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нити в тк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ром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растя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             П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у      толщи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 flipV="1">
            <a:off x="7020000" y="1844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058840"/>
          <a:ext cx="91440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8840"/>
                    <a:ext cx="91440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39640" y="260280"/>
            <a:ext cx="8280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а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тделка ткани»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лучшение качества и внешнего вида ткан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Виды ткани по способу отде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49868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240360" cy="234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03600" y="1341360"/>
            <a:ext cx="421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2a07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процесс получения пряжи, тка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называют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ТКАНЬ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КРОМ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способы определения нитей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СНОВЫ и УТ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знает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нить называют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ТОЧНО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  Что такое ткацкое переплет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 Что такое отделка ткани? Виды отд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 По каким признакам определить лицевую и изнаночную стороны тка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8:36:35Z</dcterms:created>
  <dc:creator>Irina</dc:creator>
  <dc:description/>
  <dc:language>en-US</dc:language>
  <cp:lastModifiedBy>Irina</cp:lastModifiedBy>
  <dcterms:modified xsi:type="dcterms:W3CDTF">2010-10-26T17:53:47Z</dcterms:modified>
  <cp:revision>5</cp:revision>
  <dc:subject/>
  <dc:title>Материаловедение. Тема 2 «Производство ткани»</dc:title>
</cp:coreProperties>
</file>