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5F72-5F24-4A12-A66D-C42EFFA1D4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6BDE-7779-4672-BE56-0BE4501F8C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77D-124A-4AB5-BF97-CAA5A37E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810-7307-47CF-899F-187B337E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50A-4D38-4C2F-8BFC-A55A1203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E22-F30B-49AA-AE08-7E900C63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F3F3-55A6-43F0-A086-3E84199A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D650-2742-4F7F-B22A-687FEDB1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4683-0B37-463A-A2DE-2B3D930F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51B3-1C69-4BF1-BCD9-6A709757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1453-0D19-42BC-918A-A0D6D72D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BE1D-2AB7-4467-8D75-673385AA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28E3-D20E-44C8-BD99-1B1911A7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AFD-4B1B-4EED-A780-58CD0833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6C47-E3A9-45C7-AF38-F63D7B21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D181-DCDF-4616-9C80-A373F36D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9C3F-BCB7-48A5-8C29-2D9076FB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F260-E5B7-4DB0-A5A4-3751C329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4A52-AD05-4732-AEBF-0B6DDC43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6253-DF8D-46BD-BCE0-FEBE6BA0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6F39-1195-493A-B9B9-EF35093B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D6227-2F75-4B7B-A0D2-E1204887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78C7-B666-4723-B6F8-16426DC4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9FE8-0A7C-4E7E-B1D7-93FC3DE2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AE5-AF9C-44DB-A936-C7658A65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2393-41FC-452D-8917-EA0ECD72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3B6B3-CF14-4530-90DF-D37ED80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B556-5391-43FC-9EF6-0023E97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39596-9ECF-4A04-B5AB-178AEFBD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73FE-9CDE-4B1D-8AF8-D0FDB223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4FDA1-C41D-403F-9F4D-5EF7AE93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91A9-2159-4B5F-9DAF-D6842A3D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B6A-5AF3-4BDB-9C2C-BE96F178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172-6A80-43C8-8080-44610C1F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2F2-7FE0-4E82-90ED-C70F3C03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934-67CB-45EE-B985-CBC8D68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449-3BA6-42A3-B19A-9305DFC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4FA-C586-4EC6-A84D-EC245839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8BBD-261B-4394-A1D2-A75F428620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5E9A-40D7-4605-AFD7-98833825295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39F9-1CF8-47A0-B801-4AAFC439A3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urist.bazarov.net/b9.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01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Аннотация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00040" y="857160"/>
          <a:ext cx="8229600" cy="4965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«Славное море – священный Байка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рубина Лариса Александровна,        п. Каменск, учитель музыки, Каменский лиц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идактическая направ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тегрированный урок:                                         Байкаловедение. Музы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ормат и порядок чтения доку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rubina L.A. p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хнологии и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wer Point, Wor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rn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одические рекоменд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анная работа может быть использована на заседании МО, на уроке музыки и во внеклассной рабо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уд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ъём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слай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Брусничный дух, черемухи дыханье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Лилового багульника наст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Я не дышу, а пью благоухань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емли моей равнинной и степн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" name="Picture 5" descr="Озеро Байкал / Следующая фотография..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484280"/>
            <a:ext cx="41688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34640"/>
            <a:ext cx="8507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Прими, земля, сыновнее спасибо,                                                   Святой водой Аршана угости.                                                                                       Чтоб я обрёл невиданную силу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Для дальнего нелёгкого пу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, мать Земля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" name="Picture 5" descr="волны"/>
          <p:cNvPicPr/>
          <p:nvPr/>
        </p:nvPicPr>
        <p:blipFill>
          <a:blip r:embed="rId2"/>
          <a:stretch/>
        </p:blipFill>
        <p:spPr>
          <a:xfrm>
            <a:off x="4859280" y="1700280"/>
            <a:ext cx="403848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9680" y="1142640"/>
            <a:ext cx="8186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b5395"/>
                </a:solidFill>
                <a:latin typeface="Arial Black"/>
              </a:rPr>
              <a:t>Интегрированный урок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nstantia"/>
              </a:rPr>
              <a:t>Байкаловедение</a:t>
            </a: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 - </a:t>
            </a:r>
            <a:r>
              <a:rPr b="0" lang="ru-RU" sz="4400" spc="-1" strike="noStrike">
                <a:solidFill>
                  <a:srgbClr val="00b050"/>
                </a:solidFill>
                <a:latin typeface="Constantia"/>
              </a:rPr>
              <a:t>Музы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5" descr="закат"/>
          <p:cNvPicPr/>
          <p:nvPr/>
        </p:nvPicPr>
        <p:blipFill>
          <a:blip r:embed="rId2"/>
          <a:stretch/>
        </p:blipFill>
        <p:spPr>
          <a:xfrm>
            <a:off x="785880" y="2465280"/>
            <a:ext cx="698508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1341360"/>
            <a:ext cx="8778960" cy="2803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10920" y="1052640"/>
            <a:ext cx="7970760" cy="59277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82480" indent="-514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2303e"/>
                </a:solidFill>
                <a:latin typeface="Constantia"/>
              </a:rPr>
              <a:t>         </a:t>
            </a:r>
            <a:r>
              <a:rPr b="0" lang="ru-RU" sz="4200" spc="-1" strike="noStrike">
                <a:solidFill>
                  <a:srgbClr val="02303e"/>
                </a:solidFill>
                <a:latin typeface="Arial"/>
              </a:rPr>
              <a:t>Тест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Автор балета «Красавица Ангара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А. Андр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Б. Ямпил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Б. Бату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мпозитор, автор гимна Бурят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 А..Александр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Д. Аюш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А. Андр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 Из какой песни эти слова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Бродяга к Байкалу подходит, рыбацкую лодку берёт …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«Славное море – священный Байкал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«По диким  степям Забайкалья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«На Байкале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4.) Бурятский струнно-смычковый инструмент          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иочин                                                                                                                                                                           б) чанза                                                                                                                                                                       в) ху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5. Бурятский народный танец                              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ёхор                                                                                                                                                         б) халлинг                                                                                                                                                      в) ганга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907920"/>
            <a:ext cx="8291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 Авторы  балета «Красавица Ангара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М. Фролов, Д. Аюшеев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б) Л.Книппер, Б. Ямпил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Б.Майзель, Б. Бату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мпозитор, автор гимна Бурят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 А..Александр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Д. Аюш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) А. Андр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 Из какой песни эти слова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Бродяга к Байкалу подходит, рыбацкую лодку берёт …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«Славное море – священный Байкал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б) «По диким  степям Забайкалья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«На Байкале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4. Бурятский струнно-смычковый инструмент          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иочин                                                                                                                                                                           б) чанза                                                                                                                                                                     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) ху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5. Бурятский народный танец                                                                                                                              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) ёхор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б) халлинг                                                                                                                                                                                       в) ганга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Picture 5" descr="7484"/>
          <p:cNvPicPr/>
          <p:nvPr/>
        </p:nvPicPr>
        <p:blipFill>
          <a:blip r:embed="rId2"/>
          <a:stretch/>
        </p:blipFill>
        <p:spPr>
          <a:xfrm>
            <a:off x="4824360" y="1341360"/>
            <a:ext cx="43196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7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1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5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9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3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7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1" dur="2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5" dur="2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9" dur="2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3" dur="2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1" dur="2000" fill="hold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5" dur="2000" fill="hold"/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9" dur="2000" fill="hold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3" dur="2000" fill="hold"/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7" dur="2000" fill="hold"/>
                                        <p:tgtEl>
                                          <p:spTgt spid="1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1" dur="2000" fill="hold"/>
                                        <p:tgtEl>
                                          <p:spTgt spid="1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5" dur="2000" fill="hold"/>
                                        <p:tgtEl>
                                          <p:spTgt spid="1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356760" y="785880"/>
            <a:ext cx="7844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Arial"/>
              </a:rPr>
              <a:t>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Arial"/>
              </a:rPr>
              <a:t>                    </a:t>
            </a:r>
            <a:r>
              <a:rPr b="0" lang="ru-RU" sz="2600" spc="-1" strike="noStrike">
                <a:solidFill>
                  <a:srgbClr val="009dd9"/>
                </a:solidFill>
                <a:latin typeface="Arial"/>
              </a:rPr>
              <a:t>Б.Б.Ямпилов</a:t>
            </a: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                              </a:t>
            </a: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553440" cy="496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. Ямпилов «Красавица Ангара» 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рагмент из балет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9" name="Рисунок 3" descr="untitled.bmp"/>
          <p:cNvPicPr/>
          <p:nvPr/>
        </p:nvPicPr>
        <p:blipFill>
          <a:blip r:embed="rId2"/>
          <a:stretch/>
        </p:blipFill>
        <p:spPr>
          <a:xfrm>
            <a:off x="857160" y="1071720"/>
            <a:ext cx="7531200" cy="471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85520" y="500040"/>
            <a:ext cx="790092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303e"/>
                </a:solidFill>
                <a:latin typeface="Arial"/>
                <a:ea typeface="Arial"/>
              </a:rPr>
              <a:t>Лев Книппе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1898 -1974)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усский композитор, ученик Р.Глиэ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 40-е годы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ека жил и работал в Бурятии.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втор песен «Почему медведь зимой спит», «Полюшко-поле»,  опер: «На Байкале», «Северный ветер», «Маленький принц» и д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8920" y="1699920"/>
            <a:ext cx="81867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лова Д. Жалсараева, музыка А. Андреева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имн  Бурят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ёжная, озёрная, степ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ы  добрым светом солнечным пол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ветущая от края и до кра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удь счастлива родная стор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" name="Picture 5" descr="Байкал"/>
          <p:cNvPicPr/>
          <p:nvPr/>
        </p:nvPicPr>
        <p:blipFill>
          <a:blip r:embed="rId2"/>
          <a:stretch/>
        </p:blipFill>
        <p:spPr>
          <a:xfrm>
            <a:off x="5508720" y="1341360"/>
            <a:ext cx="343224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2:59:13Z</dcterms:created>
  <dc:creator>Гость</dc:creator>
  <dc:description/>
  <dc:language>en-US</dc:language>
  <cp:lastModifiedBy>Зарубина</cp:lastModifiedBy>
  <dcterms:modified xsi:type="dcterms:W3CDTF">2007-11-29T05:33:38Z</dcterms:modified>
  <cp:revision>65</cp:revision>
  <dc:subject/>
  <dc:title> Байкал</dc:title>
</cp:coreProperties>
</file>