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E448-B679-46CF-9B61-8C880C9081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8A22-0DF2-46B6-9A08-4D87EA56DF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CA5-4169-4EB9-8A25-419C3F9F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8FB-6A01-4B6D-80A1-89953EF6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687-1A66-4878-BFD9-07F66711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6CF-1218-42DA-8A72-283CC085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DB30-07F0-4D9D-B21A-E4019A1C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CCD9-6E8C-42ED-AD3D-5A820368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0C13-EA43-45E7-9FCD-075611F1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BC21-B820-4118-B663-40C0FA5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AE8C-18E6-4F6E-9B73-7545EE42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D0F3-B6F0-4923-AE79-A0076BA7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AA8F-8204-4289-830A-2E366CBE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297-08CE-4993-9D1B-96C2D2C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7409-6460-45E6-99BF-1617554F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09DF-A6B8-4E98-8F22-CE26A711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FD7F-DEED-4633-9A32-7F6C7003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DC1B-0A74-406A-90C1-4B8EDDD4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0174-4CE5-493F-B76E-6442DE71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F5287-F0CE-43BA-A7F8-3C27C1A8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051F-5662-4F36-8762-E8D2E13F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082A-F208-41E8-B33A-A0A494D8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A0890-1FFE-45B1-B3AB-B6449001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0D4F-775E-4587-A53D-6C107D8A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E65-1691-4D04-AF76-7140B369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0D6A-011D-4DAF-8734-F0A20B68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0B18-8B16-4CEF-BAF8-8915692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DBF6-A7C7-4E81-9D93-7C05B267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B06C-6901-45D6-8A53-60780311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CAF8-D568-4229-A8B9-0F9DCDBC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49D2-E790-4B4A-B4A6-024A987F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A9C4-7811-4147-A894-8C8C385D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FCA-F007-4886-BA94-5A5F5A5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E9C-8C98-4352-9384-A23DF0FA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20D-CAA0-43E5-B59E-F749BDCD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57E-B736-44C7-903D-4951B79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42C-0770-4169-A453-384E79D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709-47C5-48A0-ABCB-03787A27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FB8C-3A69-4976-B8B7-737AF84A7F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1335-85F4-4285-922E-A79C0955A5B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0E4D-552C-4F03-87FC-8FBAA5E433E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urist.bazarov.net/b9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01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Аннотация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0040" y="857160"/>
          <a:ext cx="8229600" cy="4965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«Славное море – священный Байка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рубина Лариса Александровна,        п. Каменск, учитель музыки, Каменский лиц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идактическая направ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тегрированный урок:                                         Байкаловедение. Музы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ат и порядок чтения доку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rubina L.A. 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хнологии и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wer Point, Wor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n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одические рекоменд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анная работа может быть использована на заседании МО, на уроке музыки и во внеклассной рабо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уд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ъём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слай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Брусничный дух, черемухи дыханье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Лилового багульника наст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Я не дышу, а пью благоухань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емли моей равнинной и степн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" name="Picture 5" descr="Озеро Байкал / Следующая фотография..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484280"/>
            <a:ext cx="41688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34640"/>
            <a:ext cx="8507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Прими, земля, сыновнее спасибо,                                                   Святой водой Аршана угости.                                                                                       Чтоб я обрёл невиданную силу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ля дальнего нелёгкого пу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, мать Земля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" name="Picture 5" descr="волны"/>
          <p:cNvPicPr/>
          <p:nvPr/>
        </p:nvPicPr>
        <p:blipFill>
          <a:blip r:embed="rId2"/>
          <a:stretch/>
        </p:blipFill>
        <p:spPr>
          <a:xfrm>
            <a:off x="4859280" y="1700280"/>
            <a:ext cx="403848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9680" y="1142640"/>
            <a:ext cx="8186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b5395"/>
                </a:solidFill>
                <a:latin typeface="Arial Black"/>
              </a:rPr>
              <a:t>Интегрированный уро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nstantia"/>
              </a:rPr>
              <a:t>Байкаловедение</a:t>
            </a: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 - </a:t>
            </a:r>
            <a:r>
              <a:rPr b="0" lang="ru-RU" sz="4400" spc="-1" strike="noStrike">
                <a:solidFill>
                  <a:srgbClr val="00b050"/>
                </a:solidFill>
                <a:latin typeface="Constantia"/>
              </a:rPr>
              <a:t>Музы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5" descr="закат"/>
          <p:cNvPicPr/>
          <p:nvPr/>
        </p:nvPicPr>
        <p:blipFill>
          <a:blip r:embed="rId2"/>
          <a:stretch/>
        </p:blipFill>
        <p:spPr>
          <a:xfrm>
            <a:off x="785880" y="2465280"/>
            <a:ext cx="698508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1341360"/>
            <a:ext cx="8778960" cy="2803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10920" y="1052640"/>
            <a:ext cx="7970760" cy="59277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82480" indent="-514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2303e"/>
                </a:solidFill>
                <a:latin typeface="Constantia"/>
              </a:rPr>
              <a:t>         </a:t>
            </a:r>
            <a:r>
              <a:rPr b="0" lang="ru-RU" sz="4200" spc="-1" strike="noStrike">
                <a:solidFill>
                  <a:srgbClr val="02303e"/>
                </a:solidFill>
                <a:latin typeface="Arial"/>
              </a:rPr>
              <a:t>Тест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Автор балета «Красавица Ангара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А. Андр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Б. Ямпил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Б. Бату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мпозитор, автор гимна Бурят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 А..Александр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Д. Аюш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А. Андр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 Из какой песни эти слова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Бродяга к Байкалу подходит, рыбацкую лодку берёт …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«Славное море – священный Байкал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«По диким  степям Забайкалья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«На Байкале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4.) Бурятский струнно-смычковый инструмент          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иочин                                                                                                                                                                           б) чанза                                                                                                                                                                       в) ху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5. Бурятский народный танец                              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ёхор                                                                                                                                                         б) халлинг                                                                                                                                                      в) ганга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907920"/>
            <a:ext cx="8291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Авторы  балета «Красавица Ангара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М. Фролов, Д. Аюшеев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б) Л.Книппер, Б. Ямпил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Б.Майзель, Б. Бату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мпозитор, автор гимна Бурят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 А..Александр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Д. Аюш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) А. Андр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 Из какой песни эти слова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Бродяга к Байкалу подходит, рыбацкую лодку берёт …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«Славное море – священный Байкал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б) «По диким  степям Забайкалья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«На Байкале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4. Бурятский струнно-смычковый инструмент          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иочин                                                                                                                                                                           б) чанза                                                                                                                                                                     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) ху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5. Бурятский народный танец                                                                                                                              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) ёхор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б) халлинг                                                                                                                                                                                       в) ганга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Picture 5" descr="7484"/>
          <p:cNvPicPr/>
          <p:nvPr/>
        </p:nvPicPr>
        <p:blipFill>
          <a:blip r:embed="rId2"/>
          <a:stretch/>
        </p:blipFill>
        <p:spPr>
          <a:xfrm>
            <a:off x="4824360" y="1341360"/>
            <a:ext cx="43196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7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1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5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9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3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7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1" dur="2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5" dur="2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9" dur="2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3" dur="2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1" dur="2000" fill="hold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5" dur="2000" fill="hold"/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9" dur="2000" fill="hold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3" dur="2000" fill="hold"/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7" dur="2000" fill="hold"/>
                                        <p:tgtEl>
                                          <p:spTgt spid="1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1" dur="2000" fill="hold"/>
                                        <p:tgtEl>
                                          <p:spTgt spid="1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5" dur="2000" fill="hold"/>
                                        <p:tgtEl>
                                          <p:spTgt spid="1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356760" y="785880"/>
            <a:ext cx="7844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Arial"/>
              </a:rPr>
              <a:t>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Arial"/>
              </a:rPr>
              <a:t>                    </a:t>
            </a:r>
            <a:r>
              <a:rPr b="0" lang="ru-RU" sz="2600" spc="-1" strike="noStrike">
                <a:solidFill>
                  <a:srgbClr val="009dd9"/>
                </a:solidFill>
                <a:latin typeface="Arial"/>
              </a:rPr>
              <a:t>Б.Б.Ямпилов</a:t>
            </a: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                              </a:t>
            </a: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553440" cy="496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. Ямпилов «Красавица Ангара» 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рагмент из балет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9" name="Рисунок 3" descr="untitled.bmp"/>
          <p:cNvPicPr/>
          <p:nvPr/>
        </p:nvPicPr>
        <p:blipFill>
          <a:blip r:embed="rId2"/>
          <a:stretch/>
        </p:blipFill>
        <p:spPr>
          <a:xfrm>
            <a:off x="857160" y="1071720"/>
            <a:ext cx="7531200" cy="471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85520" y="500040"/>
            <a:ext cx="790092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303e"/>
                </a:solidFill>
                <a:latin typeface="Arial"/>
                <a:ea typeface="Arial"/>
              </a:rPr>
              <a:t>Лев Книппе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1898 -1974)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усский композитор, ученик Р.Глиэ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 40-е годы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ека жил и работал в Бурятии.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втор песен «Почему медведь зимой спит», «Полюшко-поле»,  опер: «На Байкале», «Северный ветер», «Маленький принц» и д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8920" y="1699920"/>
            <a:ext cx="81867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лова Д. Жалсараева, музыка А. Андреева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имн  Бурят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ёжная, озёрная, степ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ы  добрым светом солнечным пол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ветущая от края и до кра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удь счастлива родная стор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" name="Picture 5" descr="Байкал"/>
          <p:cNvPicPr/>
          <p:nvPr/>
        </p:nvPicPr>
        <p:blipFill>
          <a:blip r:embed="rId2"/>
          <a:stretch/>
        </p:blipFill>
        <p:spPr>
          <a:xfrm>
            <a:off x="5508720" y="1341360"/>
            <a:ext cx="343224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2:59:13Z</dcterms:created>
  <dc:creator>Гость</dc:creator>
  <dc:description/>
  <dc:language>en-US</dc:language>
  <cp:lastModifiedBy>Зарубина</cp:lastModifiedBy>
  <dcterms:modified xsi:type="dcterms:W3CDTF">2007-11-29T05:33:38Z</dcterms:modified>
  <cp:revision>65</cp:revision>
  <dc:subject/>
  <dc:title> Байкал</dc:title>
</cp:coreProperties>
</file>