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F320-E81C-4467-966C-2092FF216D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C568-2DBA-4795-9B6F-F1963303A9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07C7-A0D3-42F8-8D1D-8568D98DE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A257-6A07-4C78-A600-8203D935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8EC2-115C-4E5B-A783-D6ED49E34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3B10-35AA-4907-9CC5-8A5A0069B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CB06F-FDD8-4158-A880-7869F2496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FF96-3602-45BB-8625-58D4B607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67A1-AD6D-4272-A8CB-45A038A6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8B98-2B3F-4F1B-8E64-86D6CD90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2276-7AAA-4663-A8C0-00345ACC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04A9-EE41-4A70-BA3D-2DC8369C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40E2-49F5-425C-B22A-2A6EC11B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1EAC-983F-488F-B8BE-1DA14708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DD433-8124-4273-86AB-F1FB9750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B6CE-0A06-4A62-A578-DD47EC6C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762D-3720-4692-A3C5-2C1CADC8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747A-42A2-44BE-8559-383C9DBFD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5C76-417D-4AE3-B835-A622BBE7A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98C85-C1C6-4FF0-869E-80A84246F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69B90-0726-4661-867C-D63EFE3E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50415-DD8B-4EAE-B5B2-F0D9F5B6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610DE-19AA-4815-A05C-8F817CC9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30862-686A-413E-A92A-AAFFC951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59A4-C568-4824-B510-E9B43431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63298-B04D-490D-8B81-D0DC9592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6E999-70E2-48B8-8CFB-67AA202D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3516E-01FF-4CFE-8886-0449307D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F7F6F-50E0-4241-9EBC-87262F22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70770-1956-47E4-B4B9-5D396FD3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AD1DA-5AF3-49BD-9AFB-7E25E8313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E1D75-7B3C-407F-9DE2-07E50C139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45F8-FFFE-42FD-BC8F-00DA71E1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A269-6C77-49B6-868E-47FEC15C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C84E-0BF3-4156-9863-A985C745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7F73-5BDF-45B4-A594-05C04975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7F31-84FC-4565-83A6-61CF25B6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C130-1660-4995-9404-50120E7A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1393-E349-4B0D-86D5-540B0611457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4548-FF16-42E7-95C5-4AA7C00909B5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7FE6-857C-4BEF-9266-756A4CF90C2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urist.bazarov.net/b9.html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4013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Аннотация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00040" y="857160"/>
          <a:ext cx="8229600" cy="4965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«Славное море – священный Байкал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И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арубина Лариса Александровна,        п. Каменск, учитель музыки, Каменский лиц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идактическая направл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нтегрированный урок:                                         Байкаловедение. Музык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ормат и порядок чтения докум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rubina L.A. p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ехнологии и програм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wer Point, Wor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terne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3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тодические рекоменд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анная работа может быть использована на заседании МО, на уроке музыки и во внеклассной работ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удито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бъём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 слай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Брусничный дух, черемухи дыханье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Лилового багульника насто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Я не дышу, а пью благоухань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Земли моей равнинной и степно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7" name="Picture 5" descr="Озеро Байкал / Следующая фотография..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88000" y="1484280"/>
            <a:ext cx="4168800" cy="4824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934640"/>
            <a:ext cx="850752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Прими, земля, сыновнее спасибо,                                                   Святой водой Аршана угости.                                                                                       Чтоб я обрёл невиданную силу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Для дальнего нелёгкого пут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О, мать Земля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0" name="Picture 5" descr="волны"/>
          <p:cNvPicPr/>
          <p:nvPr/>
        </p:nvPicPr>
        <p:blipFill>
          <a:blip r:embed="rId2"/>
          <a:stretch/>
        </p:blipFill>
        <p:spPr>
          <a:xfrm>
            <a:off x="4859280" y="1700280"/>
            <a:ext cx="4038480" cy="4681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99680" y="1142640"/>
            <a:ext cx="81867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b5395"/>
                </a:solidFill>
                <a:latin typeface="Arial Black"/>
              </a:rPr>
              <a:t>Интегрированный урок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50"/>
                </a:solidFill>
                <a:latin typeface="Constantia"/>
              </a:rPr>
              <a:t>Байкаловедение</a:t>
            </a:r>
            <a:r>
              <a:rPr b="0" lang="ru-RU" sz="4800" spc="-1" strike="noStrike">
                <a:solidFill>
                  <a:srgbClr val="00b050"/>
                </a:solidFill>
                <a:latin typeface="Arial"/>
              </a:rPr>
              <a:t> - </a:t>
            </a:r>
            <a:r>
              <a:rPr b="0" lang="ru-RU" sz="4400" spc="-1" strike="noStrike">
                <a:solidFill>
                  <a:srgbClr val="00b050"/>
                </a:solidFill>
                <a:latin typeface="Constantia"/>
              </a:rPr>
              <a:t>Музык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7" name="Picture 5" descr="закат"/>
          <p:cNvPicPr/>
          <p:nvPr/>
        </p:nvPicPr>
        <p:blipFill>
          <a:blip r:embed="rId2"/>
          <a:stretch/>
        </p:blipFill>
        <p:spPr>
          <a:xfrm>
            <a:off x="785880" y="2465280"/>
            <a:ext cx="6985080" cy="4392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Прямоугольник 3" descr=""/>
          <p:cNvPicPr/>
          <p:nvPr/>
        </p:nvPicPr>
        <p:blipFill>
          <a:blip r:embed="rId2"/>
          <a:stretch/>
        </p:blipFill>
        <p:spPr>
          <a:xfrm>
            <a:off x="365040" y="1341360"/>
            <a:ext cx="8778960" cy="28036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10920" y="1052640"/>
            <a:ext cx="7970760" cy="5927760"/>
          </a:xfrm>
          <a:prstGeom prst="rect">
            <a:avLst/>
          </a:prstGeom>
          <a:noFill/>
          <a:ln w="9360">
            <a:solidFill>
              <a:srgbClr val="00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82480" indent="-51408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2303e"/>
                </a:solidFill>
                <a:latin typeface="Constantia"/>
              </a:rPr>
              <a:t>         </a:t>
            </a:r>
            <a:r>
              <a:rPr b="0" lang="ru-RU" sz="4200" spc="-1" strike="noStrike">
                <a:solidFill>
                  <a:srgbClr val="02303e"/>
                </a:solidFill>
                <a:latin typeface="Arial"/>
              </a:rPr>
              <a:t>Тест</a:t>
            </a:r>
            <a:endParaRPr b="0" lang="en-US" sz="42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.Автор балета «Красавица Ангара»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) А. Андреев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) Б. Ямпилов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) Б. Батуев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. Композитор, автор гимна Бурятии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)  А..Александров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) Д. Аюшеев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) А. Андреев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3. Из какой песни эти слова?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Бродяга к Байкалу подходит, рыбацкую лодку берёт …»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) «Славное море – священный Байкал»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) «По диким  степям Забайкалья»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) «На Байкале»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4.) Бурятский струнно-смычковый инструмент                                                             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) иочин                                                                                                                                                                           б) чанза                                                                                                                                                                       в) хур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5. Бурятский народный танец                                                                                 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) ёхор                                                                                                                                                         б) халлинг                                                                                                                                                      в) гангар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95280" y="907920"/>
            <a:ext cx="829152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168840" indent="-168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. Авторы  балета «Красавица Ангара»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) М. Фролов, Д. Аюшеев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б) Л.Книппер, Б. Ямпилов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) Б.Майзель, Б. Батуев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. Композитор, автор гимна Бурятии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)  А..Александров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) Д. Аюшеев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) А. Андреев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3. Из какой песни эти слова?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Бродяга к Байкалу подходит, рыбацкую лодку берёт …»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) «Славное море – священный Байкал»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б) «По диким  степям Забайкалья»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) «На Байкале»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4. Бурятский струнно-смычковый инструмент                                                             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) иочин                                                                                                                                                                           б) чанза                                                                                                                                                                      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) хур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5. Бурятский народный танец                                                                                                                               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а) ёхор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б) халлинг                                                                                                                                                                                       в) гангар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4" name="Picture 5" descr="7484"/>
          <p:cNvPicPr/>
          <p:nvPr/>
        </p:nvPicPr>
        <p:blipFill>
          <a:blip r:embed="rId2"/>
          <a:stretch/>
        </p:blipFill>
        <p:spPr>
          <a:xfrm>
            <a:off x="4824360" y="1341360"/>
            <a:ext cx="4319640" cy="4535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9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23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27" dur="2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31" dur="2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35" dur="2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39" dur="2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43" dur="2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47" dur="20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51" dur="2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55" dur="20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59" dur="2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63" dur="2000" fill="hold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67" dur="2000" fill="hold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71" dur="2000" fill="hold"/>
                                        <p:tgtEl>
                                          <p:spTgt spid="1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75" dur="2000" fill="hold"/>
                                        <p:tgtEl>
                                          <p:spTgt spid="1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79" dur="2000" fill="hold"/>
                                        <p:tgtEl>
                                          <p:spTgt spid="1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83" dur="2000" fill="hold"/>
                                        <p:tgtEl>
                                          <p:spTgt spid="1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87" dur="2000" fill="hold"/>
                                        <p:tgtEl>
                                          <p:spTgt spid="1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91" dur="2000" fill="hold"/>
                                        <p:tgtEl>
                                          <p:spTgt spid="1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95" dur="2000" fill="hold"/>
                                        <p:tgtEl>
                                          <p:spTgt spid="15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356760" y="785880"/>
            <a:ext cx="78440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dd9"/>
                </a:solidFill>
                <a:latin typeface="Constanti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9dd9"/>
                </a:solidFill>
                <a:latin typeface="Arial"/>
              </a:rPr>
              <a:t>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9dd9"/>
                </a:solidFill>
                <a:latin typeface="Arial"/>
              </a:rPr>
              <a:t>                    </a:t>
            </a:r>
            <a:r>
              <a:rPr b="0" lang="ru-RU" sz="2600" spc="-1" strike="noStrike">
                <a:solidFill>
                  <a:srgbClr val="009dd9"/>
                </a:solidFill>
                <a:latin typeface="Arial"/>
              </a:rPr>
              <a:t>Б.Б.Ямпилов</a:t>
            </a:r>
            <a:r>
              <a:rPr b="0" lang="ru-RU" sz="2600" spc="-1" strike="noStrike">
                <a:solidFill>
                  <a:srgbClr val="009dd9"/>
                </a:solidFill>
                <a:latin typeface="Constantia"/>
              </a:rPr>
              <a:t>                              </a:t>
            </a:r>
            <a:r>
              <a:rPr b="0" lang="ru-RU" sz="26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b0f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1042920" y="765000"/>
            <a:ext cx="6553440" cy="4965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. Ямпилов «Красавица Ангара» (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фрагмент из балета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9" name="Рисунок 3" descr="untitled.bmp"/>
          <p:cNvPicPr/>
          <p:nvPr/>
        </p:nvPicPr>
        <p:blipFill>
          <a:blip r:embed="rId2"/>
          <a:stretch/>
        </p:blipFill>
        <p:spPr>
          <a:xfrm>
            <a:off x="857160" y="1071720"/>
            <a:ext cx="7531200" cy="4714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4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85520" y="500040"/>
            <a:ext cx="7900920" cy="585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2303e"/>
                </a:solidFill>
                <a:latin typeface="Arial"/>
                <a:ea typeface="Arial"/>
              </a:rPr>
              <a:t>Лев Книппер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1898 -1974)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Русский композитор, ученик Р.Глиэр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  40-е годы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X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века жил и работал в Бурятии.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Автор песен «Почему медведь зимой спит», «Полюшко-поле»,  опер: «На Байкале», «Северный ветер», «Маленький принц» и д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78920" y="1699920"/>
            <a:ext cx="81867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Слова Д. Жалсараева, музыка А. Андреева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Гимн  Бурятии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аёжная, озёрная, степ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ы  добрым светом солнечным полн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Цветущая от края и до края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удь счастлива родная сторон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4" name="Picture 5" descr="Байкал"/>
          <p:cNvPicPr/>
          <p:nvPr/>
        </p:nvPicPr>
        <p:blipFill>
          <a:blip r:embed="rId2"/>
          <a:stretch/>
        </p:blipFill>
        <p:spPr>
          <a:xfrm>
            <a:off x="5508720" y="1341360"/>
            <a:ext cx="3432240" cy="5184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3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3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3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3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02:59:13Z</dcterms:created>
  <dc:creator>Гость</dc:creator>
  <dc:description/>
  <dc:language>en-US</dc:language>
  <cp:lastModifiedBy>Зарубина</cp:lastModifiedBy>
  <dcterms:modified xsi:type="dcterms:W3CDTF">2007-11-29T05:33:38Z</dcterms:modified>
  <cp:revision>65</cp:revision>
  <dc:subject/>
  <dc:title> Байкал</dc:title>
</cp:coreProperties>
</file>