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EA9-7F16-4886-BA82-78C6B3B6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4F7-0BA4-4AEA-BC20-1036680D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30F-6C21-4785-8B2D-11325E72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07C-3C3E-4F08-A56C-2ABC4658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18CA-D75D-41F9-9FD6-720CBF95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6A7A-05A0-4D44-A179-463C7342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6E30-5508-4020-940A-C3D63B99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5ED6-DA5A-4352-991F-D36F9A4C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499A-0636-45CA-B2B9-0F114A2B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7825-FD59-4C6B-84C5-FAB4D6FB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8602-61DC-4A56-A17A-8277C9CA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A31-83AD-4E8B-8569-7394F5C1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777D-B7E2-4632-93B3-97C62A47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E738-D223-481D-809D-3E7EEEAC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9BFC-779E-46E3-BB84-FC413347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36C4-AC79-4C6B-839C-9B12C1FF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6A13-10E7-4C12-AA4F-F808DE39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BB0B-AAE0-47F2-AE4D-F3989CC0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AA6E-32F7-4481-A54C-1560F4C8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DE6A-F794-45FF-84DE-50463EAA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9CC5-9DB1-4BAC-A697-F3AE0007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9B1F7-D7F5-4064-AB7F-C64D2939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6B6-571E-4525-8023-18E7A710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4882-DE15-468C-968B-6FB3422E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39EA-A38E-4F70-BD4C-9989A522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010A-8AC9-4706-A9C7-20733BBB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6497-AF7E-4C1C-AAB6-802A69EE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FD730-C75E-4A81-8564-E3708BD5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65DF-E9D7-40F9-8188-F12CA6BA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FBCB3-546F-4561-B384-7FBF8D84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85651-4171-40D0-BEDF-22511793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A0410-EE8F-4B74-867E-80F59428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58C3-86E3-42C1-AD62-F7CDF288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E1F-71E9-4740-BEC5-F65C3968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8E0D-5A81-42D1-83CC-267F31FA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A088-01C3-4079-922B-D2F30830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4046A-378A-45D9-A4E0-2921104C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49C18-3A02-44B0-B67C-C2AE1D5D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16BB8-2A22-4C13-95EF-B9CC94C9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4359-DDD7-46D8-AEEE-C590F5A4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50534-C7FC-45F7-8EF8-B4383724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D2D6-FFB0-444A-AF2E-1DEEE38E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9E4B8-2BBA-498C-B7CB-3E0AE49B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5D995-598B-4A5A-B399-D84F6C00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CD5-21F3-4517-988D-5675A977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93C9C-1262-4852-B556-35C9DB5A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C4CED-8C30-496F-8240-7E8B4196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EC082-1629-44CE-BE11-E76F41B2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6827A-49AD-4C8E-B1F6-A1A4324A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18FB3-661C-45C2-8E0C-1967658B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C1472-A281-42C0-A1BF-F19FAE6E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0402D-DCAC-42B6-9937-82E41D9D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35E34-0163-41CA-8E36-CA6C1DDD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14A5A-DC3A-4372-8B13-49E312FA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A289CD-43BA-44D6-8E81-15598D6B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6F8-A0EC-496F-96BC-6EF9E671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14180-0252-4A6B-B3CE-ABD37DC0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0BE-348E-45A6-9E7A-4B8CBAB2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92F-5A40-47F9-9604-ABDF416D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4EF-81F7-4B57-8FE5-1055F95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C649-E3DB-4228-A5B8-2FAE2E9993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9661-50DE-4227-8F67-FB7538D5FE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A62E-F33A-444E-BBB0-A61FE67406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A703-C83B-46BE-A478-ACAA8E555E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3A8A-C02A-4B87-BA42-57898D3C1F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онкурс мультимедийных уроков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минация: «Начальная школ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ок: литературное чт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а: А.С. Пушкин «Сказка о золотом петушке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клас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средняя общеобразовательная школа № 3 станицы Динской Краснодарского кр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 проекта: Павлова Светлана Федоровна, учитель начальных кла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picture"/>
          <p:cNvPicPr/>
          <p:nvPr/>
        </p:nvPicPr>
        <p:blipFill>
          <a:blip r:embed="rId1"/>
          <a:stretch/>
        </p:blipFill>
        <p:spPr>
          <a:xfrm>
            <a:off x="1187280" y="1628640"/>
            <a:ext cx="3456000" cy="448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61" name="Picture 7" descr="picture"/>
          <p:cNvPicPr/>
          <p:nvPr/>
        </p:nvPicPr>
        <p:blipFill>
          <a:blip r:embed="rId2"/>
          <a:stretch/>
        </p:blipFill>
        <p:spPr>
          <a:xfrm>
            <a:off x="4643280" y="1628640"/>
            <a:ext cx="3457800" cy="448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picture"/>
          <p:cNvPicPr/>
          <p:nvPr/>
        </p:nvPicPr>
        <p:blipFill>
          <a:blip r:embed="rId1"/>
          <a:stretch/>
        </p:blipFill>
        <p:spPr>
          <a:xfrm>
            <a:off x="4716360" y="1125360"/>
            <a:ext cx="3313080" cy="518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63" name="Picture 7" descr="picture"/>
          <p:cNvPicPr/>
          <p:nvPr/>
        </p:nvPicPr>
        <p:blipFill>
          <a:blip r:embed="rId2"/>
          <a:stretch/>
        </p:blipFill>
        <p:spPr>
          <a:xfrm>
            <a:off x="1763640" y="1125360"/>
            <a:ext cx="2952720" cy="518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казки А.С. Пушкина 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Сказка о царе Салтане, о сыне его славном и могучем богатыре Гвидоне Салтановиче и прекрасной царевне Лебед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831 г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picture"/>
          <p:cNvPicPr/>
          <p:nvPr/>
        </p:nvPicPr>
        <p:blipFill>
          <a:blip r:embed="rId1"/>
          <a:stretch/>
        </p:blipFill>
        <p:spPr>
          <a:xfrm>
            <a:off x="900000" y="476280"/>
            <a:ext cx="4032360" cy="554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1033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й эпизод сказки изображен на иллюстрац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picture"/>
          <p:cNvPicPr/>
          <p:nvPr/>
        </p:nvPicPr>
        <p:blipFill>
          <a:blip r:embed="rId1"/>
          <a:stretch/>
        </p:blipFill>
        <p:spPr>
          <a:xfrm>
            <a:off x="4284720" y="260280"/>
            <a:ext cx="4464000" cy="6121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4103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д кем смеется Бал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казки А.С. Пушкина 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Сказка о попе и работнике его Балде» - 183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picture"/>
          <p:cNvPicPr/>
          <p:nvPr/>
        </p:nvPicPr>
        <p:blipFill>
          <a:blip r:embed="rId1"/>
          <a:stretch/>
        </p:blipFill>
        <p:spPr>
          <a:xfrm>
            <a:off x="4859280" y="1557360"/>
            <a:ext cx="3600360" cy="4392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3960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какой сказки иллюстрац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picture"/>
          <p:cNvPicPr/>
          <p:nvPr/>
        </p:nvPicPr>
        <p:blipFill>
          <a:blip r:embed="rId1"/>
          <a:stretch/>
        </p:blipFill>
        <p:spPr>
          <a:xfrm>
            <a:off x="4643280" y="981000"/>
            <a:ext cx="4104000" cy="4465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58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баба осталась у разбитого коры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5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казки А.С. Пушкин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Сказка о рыбаке и рыбке»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1833 г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43280" y="1844280"/>
            <a:ext cx="45007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в этой сказке является олицетворением добра, а кто олицетворением з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9495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eec94"/>
                </a:solidFill>
                <a:latin typeface="Times New Roman"/>
              </a:rPr>
              <a:t>Что за прелесть эти сказки!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1033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му еще обращался королевич Елисей за помощью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425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казки А.С. Пушкина 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Сказка о мертвой царевне и о семи богатырях» - 183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picture"/>
          <p:cNvPicPr/>
          <p:nvPr/>
        </p:nvPicPr>
        <p:blipFill>
          <a:blip r:embed="rId1"/>
          <a:stretch/>
        </p:blipFill>
        <p:spPr>
          <a:xfrm>
            <a:off x="1908000" y="1052640"/>
            <a:ext cx="339732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84" name="Picture 7" descr="picture"/>
          <p:cNvPicPr/>
          <p:nvPr/>
        </p:nvPicPr>
        <p:blipFill>
          <a:blip r:embed="rId2"/>
          <a:stretch/>
        </p:blipFill>
        <p:spPr>
          <a:xfrm>
            <a:off x="5219640" y="1052640"/>
            <a:ext cx="334476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picture"/>
          <p:cNvPicPr/>
          <p:nvPr/>
        </p:nvPicPr>
        <p:blipFill>
          <a:blip r:embed="rId1"/>
          <a:stretch/>
        </p:blipFill>
        <p:spPr>
          <a:xfrm>
            <a:off x="1258920" y="1413000"/>
            <a:ext cx="342900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86" name="Picture 5" descr="picture"/>
          <p:cNvPicPr/>
          <p:nvPr/>
        </p:nvPicPr>
        <p:blipFill>
          <a:blip r:embed="rId2"/>
          <a:stretch/>
        </p:blipFill>
        <p:spPr>
          <a:xfrm>
            <a:off x="4643280" y="1413000"/>
            <a:ext cx="332748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казки А.С. Пушкина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Сказка о золотом петушке»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834 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ар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84000" y="1412640"/>
            <a:ext cx="62024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ирист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сто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оз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спомощ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ад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п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военрав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ссердеч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амоду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8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8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8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8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8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8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800" fill="hold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800" fill="hold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эпитет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Художественное определение, придающее предмету эмоциональную окрас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петушок: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08000" y="19162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ерны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праведливы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ословицы и поговор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рой другому яму – сам в нее попадеш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 правде и си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ка жареный петух в голову не клюнет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авда суда не боит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«Сказка – ложь, да в ней намек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обрым молодцам урок!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.С. Пушк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Назовите автора семи волшебных сказок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. А. Крыл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. Н. Тол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. С. Пушк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. Е. Измайл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. А. Жуковс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Назовите сказку</a:t>
            </a:r>
            <a:br>
              <a:rPr sz="5400"/>
            </a:b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А. С. Пушкин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Кот, петух и лис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Кукушка и Петух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Петушок–золотой гребешо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Петух и собак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Имя героя «Сказки о золотом петушке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ь Салт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нязь Гвидо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ь Дадо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ь Матв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ь Беренд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ec94"/>
                </a:solidFill>
                <a:latin typeface="Times New Roman"/>
              </a:rPr>
              <a:t>А.С. Пушкин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Цели урока: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ь анализировать поступки герое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учать грамотному, выразительному чтению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интерес к художественной литературе, желание читать кни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icture"/>
          <p:cNvPicPr/>
          <p:nvPr/>
        </p:nvPicPr>
        <p:blipFill>
          <a:blip r:embed="rId1"/>
          <a:srcRect l="0" t="0" r="0" b="11299"/>
          <a:stretch/>
        </p:blipFill>
        <p:spPr>
          <a:xfrm>
            <a:off x="1692360" y="189000"/>
            <a:ext cx="5905440" cy="5832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58" name="WordArt 6"/>
          <p:cNvSpPr txBox="1"/>
          <p:nvPr/>
        </p:nvSpPr>
        <p:spPr>
          <a:xfrm>
            <a:off x="2771640" y="5084640"/>
            <a:ext cx="388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99 -1837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1800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5:28:04Z</dcterms:created>
  <dc:creator>Мамик</dc:creator>
  <dc:description/>
  <dc:language>en-US</dc:language>
  <cp:lastModifiedBy>Коля</cp:lastModifiedBy>
  <dcterms:modified xsi:type="dcterms:W3CDTF">2013-05-03T06:17:47Z</dcterms:modified>
  <cp:revision>43</cp:revision>
  <dc:subject/>
  <dc:title>А.С. Пушкин</dc:title>
</cp:coreProperties>
</file>