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6128-F2F3-4B82-A80D-65682B0A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1C0D-E63A-426F-92E9-747CFA12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8F10-9C3E-43B2-87C1-4F1B93A1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A8D8-50C0-4874-9011-D9CB76D4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ACCE-6338-441B-AAF8-9FFE4AC8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8EB3-CBA7-4E59-8DCF-0A20AA94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474B-37A1-4C16-B8F4-35AB5C1E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52A8-84FB-4EE0-BB8B-DD7E2E0B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3239-5A23-4617-A75B-606245F6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7B9A-A719-4794-9F9C-549F05BD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C851-3A5F-4669-9FD5-36F06B32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B1E0-13E9-478E-9DDD-A623BB8C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5A65-72EF-41A3-A69E-7D40425A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7B76-61A8-45F8-A9E3-4276C117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D2A4-B7B9-4DB3-85C8-3FC8676B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BC11-60EC-4BDC-9348-1FC4306A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A538-B900-4CDE-B53C-9CF424FC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D1807-EBE7-44EE-8B6D-1848AF0E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BDFE4-BFD7-402F-A242-95C3C24B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007CD-D3C5-4A35-AF15-04375191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E8EFF-0FAD-4334-8DBB-94F02036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C31A0-3A6E-4CD7-AA7F-B631B2E2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442E-C31E-4490-9EB0-C6D2AD93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150F0-9EEF-4B8A-A089-59202E10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B3D59-5D5B-40C0-8C5B-9115CB33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3FE58-D285-46D6-BD8D-5D596BA4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D7F31-8DEF-4039-A86D-D76E46EE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A2018-CAD5-4346-9460-5F5C6212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F157F-B1E7-4D1F-BF6A-EF5AB946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79CB3-4E8D-4EE9-B556-B779EC67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106DD-B02F-4E7F-B77C-60346C45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BAA6D-E8B9-4A2A-A77B-BF7B3E5A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98028-C844-424A-9194-797F3842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108F-4C33-4FEB-BF91-8EE465CE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790A0-7D3D-4B28-907D-2A2A61CD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9047B-92A8-45F5-BA29-983C7FCA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3E9BE-4E4A-4430-8B88-EBEA6D06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9A548-B48D-4041-8E0E-EFE74AC8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EA8E2-B7D6-4782-8E25-BA07BFD7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66D8B-695C-4AEF-89F1-8289524F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B6AA2-1C40-4DAB-B0C3-117C89DD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6D564-BF8D-463F-B4A9-DA4D2C5F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29340-4DF6-4E4E-AA2D-7BD80F43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DC9279-C873-4C44-85C9-DA528C34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10CB-46AE-40B1-8D1F-1975C596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5BAC93-8A72-4D7A-AE41-DBCC2036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88178E-40F2-452D-8F8B-1BEA3070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1F14E0-6605-41A7-9AB1-08B2B4E2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6A7D7E-846C-43DD-9946-51E69228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E8A471-D424-4F97-844C-4932FAC5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C55EF4-1199-4BBA-AE8C-1E4993E7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2AF887-4569-470A-8BAE-06B6EEEA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26B737-649C-4FBB-A951-5423B093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551ECF-BAF4-44B1-B46C-63F4AE44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463B63-CE86-42B3-A5B3-C2F807DA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DF18-01E0-4910-A6EE-F95D604B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1CF43D-2213-4AF5-B4B8-E3EB8125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D66E-F635-4C19-95C2-5441220B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FE32-D721-460D-8598-97017345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07C3-0190-4436-8C10-A5D38AD8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31DD-529C-48F6-9B23-A133CD78CE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78F2-0C63-47AC-8C82-B926D22538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BAB4-30DB-46DD-9023-6975F9097B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F4A5-D068-4CC9-9F4B-40C0BAABEA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5DEB-4794-4182-94F5-5F5220222E3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Конкурс мультимедийных уроков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минация: «Начальная школа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рок: литературное чт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а: А.С. Пушкин «Сказка о золотом петушке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клас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униципальное общеобразовательное учреждение средняя общеобразовательная школа № 3 станицы Динской Краснодарского кра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втор проекта: Павлова Светлана Федоровна, учитель начальных класс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picture"/>
          <p:cNvPicPr/>
          <p:nvPr/>
        </p:nvPicPr>
        <p:blipFill>
          <a:blip r:embed="rId1"/>
          <a:stretch/>
        </p:blipFill>
        <p:spPr>
          <a:xfrm>
            <a:off x="1187280" y="1628640"/>
            <a:ext cx="3456000" cy="4483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61" name="Picture 7" descr="picture"/>
          <p:cNvPicPr/>
          <p:nvPr/>
        </p:nvPicPr>
        <p:blipFill>
          <a:blip r:embed="rId2"/>
          <a:stretch/>
        </p:blipFill>
        <p:spPr>
          <a:xfrm>
            <a:off x="4643280" y="1628640"/>
            <a:ext cx="3457800" cy="4483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6" descr="picture"/>
          <p:cNvPicPr/>
          <p:nvPr/>
        </p:nvPicPr>
        <p:blipFill>
          <a:blip r:embed="rId1"/>
          <a:stretch/>
        </p:blipFill>
        <p:spPr>
          <a:xfrm>
            <a:off x="4716360" y="1125360"/>
            <a:ext cx="3313080" cy="5185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63" name="Picture 7" descr="picture"/>
          <p:cNvPicPr/>
          <p:nvPr/>
        </p:nvPicPr>
        <p:blipFill>
          <a:blip r:embed="rId2"/>
          <a:stretch/>
        </p:blipFill>
        <p:spPr>
          <a:xfrm>
            <a:off x="1763640" y="1125360"/>
            <a:ext cx="2952720" cy="5185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Сказки А.С. Пушкина 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Сказка о царе Салтане, о сыне его славном и могучем богатыре Гвидоне Салтановиче и прекрасной царевне Лебеди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831 го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6" descr="picture"/>
          <p:cNvPicPr/>
          <p:nvPr/>
        </p:nvPicPr>
        <p:blipFill>
          <a:blip r:embed="rId1"/>
          <a:stretch/>
        </p:blipFill>
        <p:spPr>
          <a:xfrm>
            <a:off x="900000" y="476280"/>
            <a:ext cx="4032360" cy="5545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510336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ой эпизод сказки изображен на иллюстраци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picture"/>
          <p:cNvPicPr/>
          <p:nvPr/>
        </p:nvPicPr>
        <p:blipFill>
          <a:blip r:embed="rId1"/>
          <a:stretch/>
        </p:blipFill>
        <p:spPr>
          <a:xfrm>
            <a:off x="4284720" y="260280"/>
            <a:ext cx="4464000" cy="61214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41036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д кем смеется Балд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Сказки А.С. Пушкина 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Сказка о попе и работнике его Балде» - 183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" descr="picture"/>
          <p:cNvPicPr/>
          <p:nvPr/>
        </p:nvPicPr>
        <p:blipFill>
          <a:blip r:embed="rId1"/>
          <a:stretch/>
        </p:blipFill>
        <p:spPr>
          <a:xfrm>
            <a:off x="4859280" y="1557360"/>
            <a:ext cx="3600360" cy="4392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3960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какой сказки иллюстрац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5" descr="picture"/>
          <p:cNvPicPr/>
          <p:nvPr/>
        </p:nvPicPr>
        <p:blipFill>
          <a:blip r:embed="rId1"/>
          <a:stretch/>
        </p:blipFill>
        <p:spPr>
          <a:xfrm>
            <a:off x="4643280" y="981000"/>
            <a:ext cx="4104000" cy="4465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5580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чему баба осталась у разбитого корыт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5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казки А.С. Пушкина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«Сказка о рыбаке и рыбке»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1833 г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643280" y="1844280"/>
            <a:ext cx="450072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в этой сказке является олицетворением добра, а кто олицетворением зл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39495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148428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eec94"/>
                </a:solidFill>
                <a:latin typeface="Times New Roman"/>
              </a:rPr>
              <a:t>Что за прелесть эти сказки!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510336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кому еще обращался королевич Елисей за помощью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4425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Сказки А.С. Пушкина 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Сказка о мертвой царевне и о семи богатырях» - 183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picture"/>
          <p:cNvPicPr/>
          <p:nvPr/>
        </p:nvPicPr>
        <p:blipFill>
          <a:blip r:embed="rId1"/>
          <a:stretch/>
        </p:blipFill>
        <p:spPr>
          <a:xfrm>
            <a:off x="1908000" y="1052640"/>
            <a:ext cx="3397320" cy="4530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84" name="Picture 7" descr="picture"/>
          <p:cNvPicPr/>
          <p:nvPr/>
        </p:nvPicPr>
        <p:blipFill>
          <a:blip r:embed="rId2"/>
          <a:stretch/>
        </p:blipFill>
        <p:spPr>
          <a:xfrm>
            <a:off x="5219640" y="1052640"/>
            <a:ext cx="3344760" cy="4530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3" descr="picture"/>
          <p:cNvPicPr/>
          <p:nvPr/>
        </p:nvPicPr>
        <p:blipFill>
          <a:blip r:embed="rId1"/>
          <a:stretch/>
        </p:blipFill>
        <p:spPr>
          <a:xfrm>
            <a:off x="1258920" y="1413000"/>
            <a:ext cx="3429000" cy="4530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86" name="Picture 5" descr="picture"/>
          <p:cNvPicPr/>
          <p:nvPr/>
        </p:nvPicPr>
        <p:blipFill>
          <a:blip r:embed="rId2"/>
          <a:stretch/>
        </p:blipFill>
        <p:spPr>
          <a:xfrm>
            <a:off x="4643280" y="1413000"/>
            <a:ext cx="3327480" cy="4530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Сказки А.С. Пушкина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«Сказка о золотом петушке»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834 г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арь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484000" y="1412640"/>
            <a:ext cx="62024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л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дирист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жесто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роз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еспомощ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жад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луп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военрав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ессердечны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амодур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8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8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8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8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8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8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8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8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800" fill="hold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800" fill="hold"/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эпитет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Художественное определение, придающее предмету эмоциональную окраску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петушок: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908000" y="1916280"/>
            <a:ext cx="540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верны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справедливы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77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770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9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Пословицы и поговорк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е рой другому яму – сам в нее попадеш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о правде и сил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ока жареный петух в голову не клюнет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равда суда не боитс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77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770" fill="hold"/>
                                        <p:tgtEl>
                                          <p:spTgt spid="2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1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3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«Сказка – ложь, да в ней намек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Добрым молодцам урок!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.С. Пушк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7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7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77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1" dur="77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3" dur="77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77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77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2" dur="77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Назовите автора семи волшебных сказок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И. А. Крыл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. Н. Толсто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. С. Пушки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. Е. Измайл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. А. Жуковски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2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Назовите сказку</a:t>
            </a:r>
            <a:br>
              <a:rPr sz="5400"/>
            </a:b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 А. С. Пушкина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Кот, петух и лис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Кукушка и Петух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Сказка о золотом петушке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Петушок–золотой гребешок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Петух и собак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2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Имя героя «Сказки о золотом петушке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арь Салта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нязь Гвидо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арь Дадо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арь Матве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арь Беренде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eec94"/>
                </a:solidFill>
                <a:latin typeface="Times New Roman"/>
              </a:rPr>
              <a:t>А.С. Пушкин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«Сказка о золотом петушке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Цели урока: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ить анализировать поступки героев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учать грамотному, выразительному чтению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ывать интерес к художественной литературе, желание читать книг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picture"/>
          <p:cNvPicPr/>
          <p:nvPr/>
        </p:nvPicPr>
        <p:blipFill>
          <a:blip r:embed="rId1"/>
          <a:srcRect l="0" t="0" r="0" b="11299"/>
          <a:stretch/>
        </p:blipFill>
        <p:spPr>
          <a:xfrm>
            <a:off x="1692360" y="189000"/>
            <a:ext cx="5905440" cy="5832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58" name="WordArt 6"/>
          <p:cNvSpPr txBox="1"/>
          <p:nvPr/>
        </p:nvSpPr>
        <p:spPr>
          <a:xfrm>
            <a:off x="2771640" y="5084640"/>
            <a:ext cx="3888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799 -1837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2050920" y="620640"/>
            <a:ext cx="518004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5:28:04Z</dcterms:created>
  <dc:creator>Мамик</dc:creator>
  <dc:description/>
  <dc:language>en-US</dc:language>
  <cp:lastModifiedBy>Коля</cp:lastModifiedBy>
  <dcterms:modified xsi:type="dcterms:W3CDTF">2013-05-03T06:17:47Z</dcterms:modified>
  <cp:revision>43</cp:revision>
  <dc:subject/>
  <dc:title>А.С. Пушкин</dc:title>
</cp:coreProperties>
</file>