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E5F-5EEE-49C5-A6A2-06BCF0EF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DB8-C41C-44FF-BB95-AE2F0F6D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FCC-AD33-4AB4-97F3-8709FE39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E7A-0D3B-4262-8774-CFEBE318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FC16-8B80-4CE9-8993-23188BC2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1739-EEF8-4B1D-83E0-02D8FD6B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EBF3-4D57-43E5-A646-C6012D0E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B28E-DFB4-4E6A-B9FE-AEDE2FAD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B274-D63C-4BDC-A1D5-EF4D1178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6D17-FD07-4957-843F-A2C09C71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9720-8B20-4441-A702-5355A0A5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4B3-920E-437A-BE2A-42024BD2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6B1D-3421-43F6-BAFD-9C2EFF17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969A-04A0-4B6A-BDED-FD27D45B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16CD-A221-4C07-AAC9-A0D88EF1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926B-BF74-4D33-9756-9F8E5B60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3AAD-3B34-4F71-85DB-68119ACE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DF467-E695-482E-ADDC-8B68A171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29DCD-F1A1-4FFC-91B1-B0747632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42E4-3EAE-40F4-A5CC-F2096F06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EE9A-C20E-460D-9C35-530A33ED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EF08-9978-45B8-A58B-B02835BC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BA9-1126-4CA7-B931-01290588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631C5-3B7B-48E4-A259-018590D8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E5E97-367A-4D66-8770-F0637E12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0DFF-1A59-462F-B4B1-CD06DEFE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D3ED6-6B85-41B0-B509-59876F07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F8FD-50FE-494D-9FC9-616DDF62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E6BC2-8DFC-4972-9F77-05F88C47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E255-BFF7-4407-89F7-2016C02A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8DE3A-9C1D-4683-999B-0E625CAB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64BC8-CA28-4BFC-850F-C4EF3476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047D4-A393-4836-B8BC-0BBC2C2F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3D1-83F9-4967-9FFB-31AC783F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E3050-364D-4C95-9D7A-A57DA9F7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62B41-22AB-4386-AFFB-616616C7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28C05-8D69-47F6-9767-E8A382CC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B9423-78D2-4685-B4A6-2E5929DD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A3B1-13C5-4ECD-814D-9D1DE45D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F8A2F-AB90-4BDD-8525-08B3F481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7A4F6-A6DB-4744-A6CB-43620C2C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CAE61-29CA-4FDD-92C6-DFE4D7ED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97999-0CCF-446F-9582-34D57390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5CA43-05AB-4EDE-A6C5-7EB4A035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725-8154-428F-836B-4375875F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771BD-6B59-4BC0-B780-81E89184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AD93C-2BA7-4E9D-9FEA-24FDBC46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12FAA-86C8-43C9-9E59-ECA6F241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3F693F-8163-44CC-A212-95D99149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D39ED-CAB3-4B8F-979C-14B14264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45467-B30F-450B-8F28-32A40F68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A5D0D-778C-4F39-8157-9E446A4C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FF837-3320-4042-9D5B-3CF8B664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02342-6B31-4365-87C4-6640F9EA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AB226-1A78-4A54-93BC-4BEE2902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6165-C6F2-4DF2-9997-C0A3955A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EF0094-4022-434A-8889-9671B254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843-6C32-4BD2-805E-20BE2184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1D59-938C-4326-9243-BB74A97A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684-0831-4D2F-ABFE-DEAF3841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CB2F-95BA-4923-B01D-2555D8B016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083B-AE36-466C-A5F5-9CC6910DBD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53F5-8EA7-4B45-897C-FE87C93F31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F517-72F2-4DDA-8ADD-24E31D6E69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B08E-062D-402B-BCA6-BA50DB816B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Конкурс мультимедийных уроков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минация: «Начальная школ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ок: литературное чт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а: А.С. Пушкин «Сказка о золотом петушке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клас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ниципальное общеобразовательное учреждение средняя общеобразовательная школа № 3 станицы Динской Краснодарского кр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 проекта: Павлова Светлана Федоровна, учитель начальных клас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picture"/>
          <p:cNvPicPr/>
          <p:nvPr/>
        </p:nvPicPr>
        <p:blipFill>
          <a:blip r:embed="rId1"/>
          <a:stretch/>
        </p:blipFill>
        <p:spPr>
          <a:xfrm>
            <a:off x="1187280" y="1628640"/>
            <a:ext cx="3456000" cy="448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61" name="Picture 7" descr="picture"/>
          <p:cNvPicPr/>
          <p:nvPr/>
        </p:nvPicPr>
        <p:blipFill>
          <a:blip r:embed="rId2"/>
          <a:stretch/>
        </p:blipFill>
        <p:spPr>
          <a:xfrm>
            <a:off x="4643280" y="1628640"/>
            <a:ext cx="3457800" cy="448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picture"/>
          <p:cNvPicPr/>
          <p:nvPr/>
        </p:nvPicPr>
        <p:blipFill>
          <a:blip r:embed="rId1"/>
          <a:stretch/>
        </p:blipFill>
        <p:spPr>
          <a:xfrm>
            <a:off x="4716360" y="1125360"/>
            <a:ext cx="3313080" cy="5185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63" name="Picture 7" descr="picture"/>
          <p:cNvPicPr/>
          <p:nvPr/>
        </p:nvPicPr>
        <p:blipFill>
          <a:blip r:embed="rId2"/>
          <a:stretch/>
        </p:blipFill>
        <p:spPr>
          <a:xfrm>
            <a:off x="1763640" y="1125360"/>
            <a:ext cx="2952720" cy="5185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Сказки А.С. Пушкина 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Сказка о царе Салтане, о сыне его славном и могучем богатыре Гвидоне Салтановиче и прекрасной царевне Лебеди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831 го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picture"/>
          <p:cNvPicPr/>
          <p:nvPr/>
        </p:nvPicPr>
        <p:blipFill>
          <a:blip r:embed="rId1"/>
          <a:stretch/>
        </p:blipFill>
        <p:spPr>
          <a:xfrm>
            <a:off x="900000" y="476280"/>
            <a:ext cx="4032360" cy="5545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1033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й эпизод сказки изображен на иллюстраци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picture"/>
          <p:cNvPicPr/>
          <p:nvPr/>
        </p:nvPicPr>
        <p:blipFill>
          <a:blip r:embed="rId1"/>
          <a:stretch/>
        </p:blipFill>
        <p:spPr>
          <a:xfrm>
            <a:off x="4284720" y="260280"/>
            <a:ext cx="4464000" cy="61214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4103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д кем смеется Бал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Сказки А.С. Пушкина 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Сказка о попе и работнике его Балде» - 183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picture"/>
          <p:cNvPicPr/>
          <p:nvPr/>
        </p:nvPicPr>
        <p:blipFill>
          <a:blip r:embed="rId1"/>
          <a:stretch/>
        </p:blipFill>
        <p:spPr>
          <a:xfrm>
            <a:off x="4859280" y="1557360"/>
            <a:ext cx="3600360" cy="4392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3960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какой сказки иллюстрац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5" descr="picture"/>
          <p:cNvPicPr/>
          <p:nvPr/>
        </p:nvPicPr>
        <p:blipFill>
          <a:blip r:embed="rId1"/>
          <a:stretch/>
        </p:blipFill>
        <p:spPr>
          <a:xfrm>
            <a:off x="4643280" y="981000"/>
            <a:ext cx="4104000" cy="4465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558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баба осталась у разбитого коры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5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казки А.С. Пушкин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Сказка о рыбаке и рыбке»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1833 г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43280" y="1844280"/>
            <a:ext cx="450072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в этой сказке является олицетворением добра, а кто олицетворением з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39495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eec94"/>
                </a:solidFill>
                <a:latin typeface="Times New Roman"/>
              </a:rPr>
              <a:t>Что за прелесть эти сказки!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1033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кому еще обращался королевич Елисей за помощью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4425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Сказки А.С. Пушкина 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Сказка о мертвой царевне и о семи богатырях» - 183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picture"/>
          <p:cNvPicPr/>
          <p:nvPr/>
        </p:nvPicPr>
        <p:blipFill>
          <a:blip r:embed="rId1"/>
          <a:stretch/>
        </p:blipFill>
        <p:spPr>
          <a:xfrm>
            <a:off x="1908000" y="1052640"/>
            <a:ext cx="3397320" cy="4530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84" name="Picture 7" descr="picture"/>
          <p:cNvPicPr/>
          <p:nvPr/>
        </p:nvPicPr>
        <p:blipFill>
          <a:blip r:embed="rId2"/>
          <a:stretch/>
        </p:blipFill>
        <p:spPr>
          <a:xfrm>
            <a:off x="5219640" y="1052640"/>
            <a:ext cx="3344760" cy="4530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picture"/>
          <p:cNvPicPr/>
          <p:nvPr/>
        </p:nvPicPr>
        <p:blipFill>
          <a:blip r:embed="rId1"/>
          <a:stretch/>
        </p:blipFill>
        <p:spPr>
          <a:xfrm>
            <a:off x="1258920" y="1413000"/>
            <a:ext cx="3429000" cy="4530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86" name="Picture 5" descr="picture"/>
          <p:cNvPicPr/>
          <p:nvPr/>
        </p:nvPicPr>
        <p:blipFill>
          <a:blip r:embed="rId2"/>
          <a:stretch/>
        </p:blipFill>
        <p:spPr>
          <a:xfrm>
            <a:off x="4643280" y="1413000"/>
            <a:ext cx="3327480" cy="4530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Сказки А.С. Пушкина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Сказка о золотом петушке»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834 г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ар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84000" y="1412640"/>
            <a:ext cx="62024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л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дирист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есто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оз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спомощ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ад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уп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военрав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ссердечн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амодур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8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8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8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8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8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8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8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800" fill="hold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800" fill="hold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эпитет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Художественное определение, придающее предмету эмоциональную окрас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петушок: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908000" y="191628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ерны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праведливы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ословицы и поговор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е рой другому яму – сам в нее попадеш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 правде и си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ка жареный петух в голову не клюнет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авда суда не боит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«Сказка – ложь, да в ней намек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обрым молодцам урок!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.С. Пушк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7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7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Назовите автора семи волшебных сказок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. А. Крыл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. Н. Толст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. С. Пушк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. Е. Измайл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. А. Жуковс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Назовите сказку</a:t>
            </a:r>
            <a:br>
              <a:rPr sz="5400"/>
            </a:b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А. С. Пушкин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Кот, петух и лис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Кукушка и Петух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Петушок–золотой гребешок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Петух и собак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Имя героя «Сказки о золотом петушке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арь Салта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нязь Гвидо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арь Дадо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арь Матве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арь Беренде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eec94"/>
                </a:solidFill>
                <a:latin typeface="Times New Roman"/>
              </a:rPr>
              <a:t>А.С. Пушкин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Цели урока: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ь анализировать поступки герое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учать грамотному, выразительному чтению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ывать интерес к художественной литературе, желание читать кни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picture"/>
          <p:cNvPicPr/>
          <p:nvPr/>
        </p:nvPicPr>
        <p:blipFill>
          <a:blip r:embed="rId1"/>
          <a:srcRect l="0" t="0" r="0" b="11299"/>
          <a:stretch/>
        </p:blipFill>
        <p:spPr>
          <a:xfrm>
            <a:off x="1692360" y="189000"/>
            <a:ext cx="5905440" cy="5832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58" name="WordArt 6"/>
          <p:cNvSpPr txBox="1"/>
          <p:nvPr/>
        </p:nvSpPr>
        <p:spPr>
          <a:xfrm>
            <a:off x="2771640" y="5084640"/>
            <a:ext cx="388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799 -1837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2050920" y="620640"/>
            <a:ext cx="51800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5:28:04Z</dcterms:created>
  <dc:creator>Мамик</dc:creator>
  <dc:description/>
  <dc:language>en-US</dc:language>
  <cp:lastModifiedBy>Коля</cp:lastModifiedBy>
  <dcterms:modified xsi:type="dcterms:W3CDTF">2013-05-03T06:17:47Z</dcterms:modified>
  <cp:revision>43</cp:revision>
  <dc:subject/>
  <dc:title>А.С. Пушкин</dc:title>
</cp:coreProperties>
</file>