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D65-1CE4-4030-88D0-0A5A4441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E4B8-A11E-40D8-B52F-998D3EDB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6896-4A3D-40EA-9463-BD6F84CF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7B9C-A4AE-4834-82FD-2226492E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21A7-B8DB-4F26-ABD6-5C459D14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320D-96EC-4442-9505-A0E42138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440D-0AA4-4316-A7E2-DDEE598B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D307-2415-4F94-BC65-8C982CEA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A39B-D494-467E-869F-39E848C2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2473-B5C7-4834-9BBD-8BBD3D6A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02BC-8E0B-4CEC-AF6B-71D8B4B3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32F-9C13-4EB8-A4DB-8865D6BC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4128-52F9-4B53-9BD6-EC087105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1A9A-F3AC-4C03-A98D-2C8EF26F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26A3-5A82-4968-80D2-5B3836A0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EB92-CBEC-4FCC-A460-B5AD11BA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0D16-B8F1-433C-8149-A7AA6274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31D49-578F-4A85-9C75-F0480C7A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399BB-2455-4BFA-8022-AB3FDFDC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11139-F70D-42E8-85E6-6BCB0DC9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8B4CD-B6B2-488C-A737-B7BB10F4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BD25E-E7B9-4DDD-9567-6836D32E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795C-0CF2-4B8D-BB95-263C0462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6D59B-1FC7-43C2-A24F-824C4AAA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EF557-8C5C-4033-B297-9EA92F67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B9F1E-FB1C-4F7F-B451-6503A3AE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EDD76-3E39-4E2C-A2D5-9E0EA26D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8045A-2DAF-47EA-95E9-33E77F8F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6381C-4346-44E3-8AA7-FEE06B4C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F4CAE-DDA6-46A0-B526-E844154C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9F4D0-3215-424D-965F-0A170A34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13E29-3707-46F9-8A27-619005DC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A529C-5D02-446F-9E16-BAE79C3E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C1AC-3483-4824-90B0-AFE54B3F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FA51B-764E-4063-9874-8B54F77A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ACCC4-F0F3-401F-A592-F0A6234F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4F03A-F104-4797-AACC-1E7B2932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3A842-0797-4124-A3E1-D4AF6609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23E53-921D-44AA-83A7-F8C6810B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3A465-5D13-422C-BAB1-B8E10290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2C123-ACE2-4F26-8F34-67E8A9C4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78E56-797B-465D-9904-EE02C5CA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60939-540A-44C9-B32C-F65ED934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951AF-171F-4CC5-8A3F-E0DF6F81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7738-6380-46B3-BC32-8324754E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7B49A-6249-444D-9996-82AC9DD0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393FB-D66B-4DE5-9770-A7319086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EDC9B-921A-4B2A-B845-5EBB82C1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67940-B6E2-46D6-B92B-595DF08D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BF922-A349-4AA8-B15B-04F1CEC4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C4743-A09B-4716-BCAF-6BCD60E4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A7E83-35F1-4049-A398-B9FC86E2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2E408-38D8-4091-A3CC-CE0AC6CF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E8F3E-E7BE-45BE-8D2C-AF5A9DA8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EA7D4-A926-48DA-BEFD-8051E03B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05A3-F10F-4873-8A0C-D696BC19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FF0F4-2062-42E6-8A5A-2967FAB0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2275-CECA-4834-9DB9-9E2CE4AB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5ED-F737-42C9-A98E-2F23688E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3E43-1731-49E2-9867-ECAA4B32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A436-1DC2-4BF4-B509-6ABF2105ED3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62E8-C8FA-4477-9F51-F8412176190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3E7E-AFA8-4B41-B0DC-47BEEBD29F7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2023-2F09-4EC0-887C-78F80EA28260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D8E2-88E6-4061-A5F7-A8F04B307F5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279600" y="281160"/>
            <a:ext cx="5121360" cy="28764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857760" y="442908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Подготовил Шульгин Евгений, ученик 6 «А»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стория оперы началась с «Поющих гитар». Художественный руководитель этого ансамбля Анатолий Васильев, впервые услышав рок-оперу Эндрю Ллойд-Уэббера «Jesus Christ Superstar» («Иисус Христос – суперзвезда»), по-настоящему влюбился в жанр и решил, что пришла пора для аналогичной постановки и в СССР. Он обратился к композитору Александру Журбину, а тот пригласил либреттиста и драматурга Юрия Димитрин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6840" y="58672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Анатолий Василье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Содержимое 8" descr="vasilieva.jpg"/>
          <p:cNvPicPr/>
          <p:nvPr/>
        </p:nvPicPr>
        <p:blipFill>
          <a:blip r:embed="rId2"/>
          <a:stretch/>
        </p:blipFill>
        <p:spPr>
          <a:xfrm>
            <a:off x="946080" y="1711440"/>
            <a:ext cx="2543400" cy="41148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77800" y="58672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rebuchet MS"/>
              </a:rPr>
              <a:t>Александр Журбин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Содержимое 9" descr="Gurbin_1.jpg"/>
          <p:cNvPicPr/>
          <p:nvPr/>
        </p:nvPicPr>
        <p:blipFill>
          <a:blip r:embed="rId3"/>
          <a:stretch/>
        </p:blipFill>
        <p:spPr>
          <a:xfrm>
            <a:off x="4714920" y="1857240"/>
            <a:ext cx="2500200" cy="3562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0" name="Содержимое 4" descr="logo_t.gif"/>
          <p:cNvPicPr/>
          <p:nvPr/>
        </p:nvPicPr>
        <p:blipFill>
          <a:blip r:embed="rId2"/>
          <a:stretch/>
        </p:blipFill>
        <p:spPr>
          <a:xfrm>
            <a:off x="4000680" y="1714680"/>
            <a:ext cx="3520800" cy="190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28760" y="1785960"/>
            <a:ext cx="352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овременная опера «Орфей и Эвридика» была поставлена в 1975 году в оперной студии при Ленинградской Консерватории. Поскольку термин «рок» вызывал негативные эмоции у руководства Министерства культуры СССР, постановка была названа «зонг-оперой» (от нем. der Song — «эстрадная песенка»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3" name="Содержимое 4" descr="1277581359_375f62ab5a93.jpg"/>
          <p:cNvPicPr/>
          <p:nvPr/>
        </p:nvPicPr>
        <p:blipFill>
          <a:blip r:embed="rId2"/>
          <a:stretch/>
        </p:blipFill>
        <p:spPr>
          <a:xfrm>
            <a:off x="357120" y="1714680"/>
            <a:ext cx="3664080" cy="3663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Это современная интерпретация мифа о любви. Возлюбленная Орфея, Эвридика умирает, душа ее направляется в подземный мир к Аиду, и Орфей, ведомый силой любви к своей возлюбленной, спускается за ней. Но когда цель уже, казалось бы, была достигнута, и он должен был соединиться с Эвридикой, его одолевают сомнения, побеждает жажда славы и он теряет самое ценное — любовь..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6" name="Содержимое 5" descr="s640x480.jpeg"/>
          <p:cNvPicPr/>
          <p:nvPr/>
        </p:nvPicPr>
        <p:blipFill>
          <a:blip r:embed="rId2"/>
          <a:stretch/>
        </p:blipFill>
        <p:spPr>
          <a:xfrm>
            <a:off x="3786120" y="1571760"/>
            <a:ext cx="4071960" cy="2709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285480" y="150012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а 36 лет со дня премьеры многое менялось: актеры, зрители, сцены театров, но сюжет понятен ценителям рок-оперы всех поколений. «Орфей и Эвридика» — это неустаревающая музыка, нетленные тексты, безупречная игра актер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9" name="Содержимое 4" descr="anarbor-music-week-panel.jpg"/>
          <p:cNvPicPr/>
          <p:nvPr/>
        </p:nvPicPr>
        <p:blipFill>
          <a:blip r:embed="rId2"/>
          <a:stretch/>
        </p:blipFill>
        <p:spPr>
          <a:xfrm>
            <a:off x="214200" y="2286000"/>
            <a:ext cx="4143600" cy="2717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вторы «Орфея и Эвридики» А.Журбин и Ю.Димитрин "за выдающийся вклад в рок-музыку" получили от английского журнала "Music Week" дипломы "Звезда 1975 года". В 2003 году опера вошла в книгу рекордов Гиннеса как мюзикл, максимальное количество раз сыгранный одним коллективом (на момент регистрации рекорда спектакль исполнялся 2350-й раз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146320" y="1566720"/>
            <a:ext cx="5742000" cy="28767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4:55:29Z</dcterms:created>
  <dc:creator>1</dc:creator>
  <dc:description/>
  <dc:language>en-US</dc:language>
  <cp:lastModifiedBy>202</cp:lastModifiedBy>
  <dcterms:modified xsi:type="dcterms:W3CDTF">2012-03-16T13:35:11Z</dcterms:modified>
  <cp:revision>5</cp:revision>
  <dc:subject/>
  <dc:title>Рок-опера «Орфей и Эвридика»</dc:title>
</cp:coreProperties>
</file>