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9C1B-D702-4863-8897-45D44053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7C17-152F-4CDA-961C-97CDD592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B9A5-B016-4504-BB04-7A814369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E33B-62B4-47B3-94C4-42E256D4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3EC0-5517-4855-B689-41834D61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9031-86D9-4344-BAEF-0D4DB4FA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8852-0297-4713-8E74-3E039FA1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5B4A-4920-4369-A0C1-92290DC4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DF70-4A81-4FC8-9AE1-56FEEB74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B1B9-E705-4B0E-AC1E-116AE276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6538-F1D8-4EDA-B561-455665B2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1E9F-A1F8-44FD-9D96-CE3034E5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FAF6-0916-48DE-A07F-9E720C77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76EA-6ADA-4007-BD4C-B2C20D1B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2397-26AB-4FB1-9C46-EB464B1F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154A-37C1-4E75-B426-838AD9E2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C963-75DF-4AA2-903B-8BF34541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95AC8-11C8-42DF-B04C-39506522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C2449-405B-41D0-8A9B-2A300599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7B4C3-E4BF-4984-8035-E510C68A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BD519-6E6C-4FD9-A8A8-423A4EE1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277A5-08DC-41F1-97BA-EA4C06EB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AAB-503F-4029-AC14-271D0EAD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86E11-C3A3-4C53-ABDB-C2E7D245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A750C-E263-46E8-864F-FE02B08D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63FE2-7075-48D1-98CF-7ED9605C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56821-BFF8-441B-9023-FB2662A0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5CD71-2258-46D9-8B01-B57B9192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C32E3-12ED-4B19-BE96-C7D9B4D4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819D2-31F1-4D52-8A9A-10DD7C4D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F7DAB-D20F-429C-9213-CBD6D952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19E32-6D04-46AB-94F1-2C4A4ADD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F8BE3-5A5C-4AAB-A0E4-BF5BF8AF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C621-EFAA-4049-AC2B-8DC90BFD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73460-9DBA-43E6-ADA6-DE8F946C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4100F-3BA2-4CC1-BE14-84165D33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D5D5E-2F97-49D4-93F4-2C534E9C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36CEA-D0E6-46AC-8311-2973E790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05452-9729-4B05-84EB-129D2BD4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C3AF2-46E3-40BE-B7AE-9CC1533B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B7CF0-AB5C-420F-8F51-27AAD162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2963C-927A-4F17-8320-1431D571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82A01-DECF-4CF6-BFE0-70DE1A6A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93864-501C-4513-B93E-8FC55E19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B21-1291-4CD3-99AC-7B2815F9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51BD2-6274-4946-B54C-804C62D5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AA19B-9F5C-43F3-8716-2E55F7FA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5E3A1-23D6-4FC5-866E-F1A6028B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C1B43-C993-4505-BC07-B8651EAD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CBC66-33B3-4969-947D-8D664E92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77B02-A051-4A34-9379-19DF5AB8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96D76-318A-43F9-B4A3-22CDE424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3EBBE-2B66-4EAA-84B5-019DDE05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25910-BE8E-46F5-9271-D680FCCF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1B5C7-6FA1-4C4E-BB6E-C1FEEF16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1BAF-A1A7-4A49-98E8-4A75CD09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B2E59-E410-4233-A833-FBB7AB8B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8383-C192-4067-9CB2-80E8C185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194-DB3E-4CA9-8DEA-9A83B1A2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4D88-1497-4335-804E-960E947E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FD36-C828-4DC3-AE60-EA52925E0A7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8815-7564-4E98-848B-6CC7217CE80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BCBC-23FC-4E17-A02A-60F3EA452C1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0BCC-46AE-499F-8394-ADCCA1974BF2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06DC-25A1-44D4-9BAA-5F55D5404D7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279600" y="281160"/>
            <a:ext cx="5121360" cy="28764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857760" y="442908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Подготовил Шульгин Евгений, ученик 6 «А»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стория оперы началась с «Поющих гитар». Художественный руководитель этого ансамбля Анатолий Васильев, впервые услышав рок-оперу Эндрю Ллойд-Уэббера «Jesus Christ Superstar» («Иисус Христос – суперзвезда»), по-настоящему влюбился в жанр и решил, что пришла пора для аналогичной постановки и в СССР. Он обратился к композитору Александру Журбину, а тот пригласил либреттиста и драматурга Юрия Димитрин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6840" y="58672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rebuchet MS"/>
              </a:rPr>
              <a:t>Анатолий Василье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Содержимое 8" descr="vasilieva.jpg"/>
          <p:cNvPicPr/>
          <p:nvPr/>
        </p:nvPicPr>
        <p:blipFill>
          <a:blip r:embed="rId2"/>
          <a:stretch/>
        </p:blipFill>
        <p:spPr>
          <a:xfrm>
            <a:off x="946080" y="1711440"/>
            <a:ext cx="2543400" cy="41148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177800" y="58672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rebuchet MS"/>
              </a:rPr>
              <a:t>Александр Журби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Содержимое 9" descr="Gurbin_1.jpg"/>
          <p:cNvPicPr/>
          <p:nvPr/>
        </p:nvPicPr>
        <p:blipFill>
          <a:blip r:embed="rId3"/>
          <a:stretch/>
        </p:blipFill>
        <p:spPr>
          <a:xfrm>
            <a:off x="4714920" y="1857240"/>
            <a:ext cx="2500200" cy="3562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0" name="Содержимое 4" descr="logo_t.gif"/>
          <p:cNvPicPr/>
          <p:nvPr/>
        </p:nvPicPr>
        <p:blipFill>
          <a:blip r:embed="rId2"/>
          <a:stretch/>
        </p:blipFill>
        <p:spPr>
          <a:xfrm>
            <a:off x="4000680" y="1714680"/>
            <a:ext cx="3520800" cy="190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28760" y="1785960"/>
            <a:ext cx="352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овременная опера «Орфей и Эвридика» была поставлена в 1975 году в оперной студии при Ленинградской Консерватории. Поскольку термин «рок» вызывал негативные эмоции у руководства Министерства культуры СССР, постановка была названа «зонг-оперой» (от нем. der Song — «эстрадная песенка»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3" name="Содержимое 4" descr="1277581359_375f62ab5a93.jpg"/>
          <p:cNvPicPr/>
          <p:nvPr/>
        </p:nvPicPr>
        <p:blipFill>
          <a:blip r:embed="rId2"/>
          <a:stretch/>
        </p:blipFill>
        <p:spPr>
          <a:xfrm>
            <a:off x="357120" y="1714680"/>
            <a:ext cx="3664080" cy="3663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Это современная интерпретация мифа о любви. Возлюбленная Орфея, Эвридика умирает, душа ее направляется в подземный мир к Аиду, и Орфей, ведомый силой любви к своей возлюбленной, спускается за ней. Но когда цель уже, казалось бы, была достигнута, и он должен был соединиться с Эвридикой, его одолевают сомнения, побеждает жажда славы и он теряет самое ценное — любовь..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6" name="Содержимое 5" descr="s640x480.jpeg"/>
          <p:cNvPicPr/>
          <p:nvPr/>
        </p:nvPicPr>
        <p:blipFill>
          <a:blip r:embed="rId2"/>
          <a:stretch/>
        </p:blipFill>
        <p:spPr>
          <a:xfrm>
            <a:off x="3786120" y="1571760"/>
            <a:ext cx="4071960" cy="2709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285480" y="150012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а 36 лет со дня премьеры многое менялось: актеры, зрители, сцены театров, но сюжет понятен ценителям рок-оперы всех поколений. «Орфей и Эвридика» — это неустаревающая музыка, нетленные тексты, безупречная игра актеро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9" name="Содержимое 4" descr="anarbor-music-week-panel.jpg"/>
          <p:cNvPicPr/>
          <p:nvPr/>
        </p:nvPicPr>
        <p:blipFill>
          <a:blip r:embed="rId2"/>
          <a:stretch/>
        </p:blipFill>
        <p:spPr>
          <a:xfrm>
            <a:off x="214200" y="2286000"/>
            <a:ext cx="4143600" cy="2717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вторы «Орфея и Эвридики» А.Журбин и Ю.Димитрин "за выдающийся вклад в рок-музыку" получили от английского журнала "Music Week" дипломы "Звезда 1975 года". В 2003 году опера вошла в книгу рекордов Гиннеса как мюзикл, максимальное количество раз сыгранный одним коллективом (на момент регистрации рекорда спектакль исполнялся 2350-й раз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146320" y="1566720"/>
            <a:ext cx="5742000" cy="28767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4:55:29Z</dcterms:created>
  <dc:creator>1</dc:creator>
  <dc:description/>
  <dc:language>en-US</dc:language>
  <cp:lastModifiedBy>202</cp:lastModifiedBy>
  <dcterms:modified xsi:type="dcterms:W3CDTF">2012-03-16T13:35:11Z</dcterms:modified>
  <cp:revision>5</cp:revision>
  <dc:subject/>
  <dc:title>Рок-опера «Орфей и Эвридика»</dc:title>
</cp:coreProperties>
</file>