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267-4759-4602-90EA-8FD03442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280-E8A2-4CBF-B2E1-E945183D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C9C-987A-49EC-913B-8B54A03B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108-FE9E-4B36-B0F9-64876AC7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DFFF-066D-4440-8B1E-6C5842A3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C9F6-9743-4E3E-8EE8-C361A2B3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09BC-CFC0-49EE-8CC8-6EE3081F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D367-BF2D-460E-848C-EBC3F2B9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97C5-43A8-40A2-9554-2F8609A1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4F40-857E-4D3F-9D9C-1F07DE46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77EC-2259-4EF2-B9F8-A695DA3B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ED6-5479-4A2C-99B5-5ACA842C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C3E8-841E-4CA4-8A7A-35B8D212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79C3-70FF-4EC7-B7A8-8D381F3A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32A7-F711-4D8E-9264-8467964E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AA07-FE16-4C1A-8F4E-3F060CB1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C0C8-B04D-4581-AB8C-D9B36181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9FC8-0154-4128-AA78-1EC99621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B56D-DD1B-456F-9422-B9E7223C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599F-6778-4A79-A153-39041F9A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3991-E54C-49E5-B1FB-32ED7047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C703-AD05-414A-BF0E-A4236088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705-B6B5-4AA0-89D7-78CE47AF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4512-7C92-43CD-9197-FD81EF0E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261C-3861-443F-B6FB-22799EF2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F41B-A96D-4ECF-ACA4-86CC29CB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CEB2-1FB2-4E65-AAA6-4384CAFC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8D93-FAB3-48D0-BE21-C4F7824D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87CC-1A12-4A9E-A873-D2A6805D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3CB3-032D-4C31-8D98-5216B0A8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2190-389D-49B0-A877-E1A83862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A171-40BA-4CE0-BF4B-3BA8C6C7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84F3B-8082-498C-9E9E-ACCB9420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C22-087D-40EB-ACFA-D202A8D6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F91FF-CF69-4445-B363-1D91D774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9CB9-303D-441F-BD73-D13AE4CB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E5F75-655C-433B-AB3C-08B9EA43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C632E-2240-48CE-858B-6B58599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8DE2-90E8-489A-B1DA-EEBBE8EC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4601-A098-45C7-BA2B-E8300174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BF310-A1B6-435C-B938-0A4D2FAE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CF067-34A9-44CC-84BD-F9840109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06E3-398A-48A1-8917-DD489F38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B9BB7-378E-498A-B011-A162D844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9EB-88E6-4670-95F8-4111EAC2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9A911-833A-4FA3-8D3C-819E549F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EE446-A55A-498B-ABB2-A6FE84C5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D5545-855F-475A-9966-3437F7ED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27330-2BB2-41A5-B560-C96581CE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9E859-5EF9-4A77-9918-F0A0D14F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5689D-C5C1-479A-94EE-FFCDA5CF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294D7-F109-4A56-8683-6B40E47F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70678-F31A-4E08-9BE3-92292AD8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848BD-B350-4979-B2FA-5521805F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5DF85-EF33-4D13-A0A6-FB8774B0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821-53CE-4198-8827-4CB6C265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3418F-0E6D-4C8D-B7E4-0DC3474C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8B9-98A0-4893-8F5C-5CCD4118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F1B-E4E8-4107-90DA-027DBB6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836-E394-4752-8C54-0B1E354D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71ED-6E7A-4922-84D5-6F7CF3561A9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CEF2-CCD1-4002-AB58-48630BD56A0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C994-91B2-4AFF-8A6A-775AFA613D8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4A5B-94B6-4BF9-A893-BEF3A148AC5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5B68-6F4E-49EB-8516-CD8C4B64EF4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279600" y="281160"/>
            <a:ext cx="5121360" cy="2876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857760" y="442908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дготовил Шульгин Евгений, ученик 6 «А»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тория оперы началась с «Поющих гитар». Художественный руководитель этого ансамбля Анатолий Васильев, впервые услышав рок-оперу Эндрю Ллойд-Уэббера «Jesus Christ Superstar» («Иисус Христос – суперзвезда»), по-настоящему влюбился в жанр и решил, что пришла пора для аналогичной постановки и в СССР. Он обратился к композитору Александру Журбину, а тот пригласил либреттиста и драматурга Юрия Димитри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Анатолий Василье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Содержимое 8" descr="vasilieva.jpg"/>
          <p:cNvPicPr/>
          <p:nvPr/>
        </p:nvPicPr>
        <p:blipFill>
          <a:blip r:embed="rId2"/>
          <a:stretch/>
        </p:blipFill>
        <p:spPr>
          <a:xfrm>
            <a:off x="946080" y="1711440"/>
            <a:ext cx="2543400" cy="41148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Александр Журби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Содержимое 9" descr="Gurbin_1.jpg"/>
          <p:cNvPicPr/>
          <p:nvPr/>
        </p:nvPicPr>
        <p:blipFill>
          <a:blip r:embed="rId3"/>
          <a:stretch/>
        </p:blipFill>
        <p:spPr>
          <a:xfrm>
            <a:off x="4714920" y="1857240"/>
            <a:ext cx="2500200" cy="356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4" descr="logo_t.gif"/>
          <p:cNvPicPr/>
          <p:nvPr/>
        </p:nvPicPr>
        <p:blipFill>
          <a:blip r:embed="rId2"/>
          <a:stretch/>
        </p:blipFill>
        <p:spPr>
          <a:xfrm>
            <a:off x="4000680" y="1714680"/>
            <a:ext cx="3520800" cy="190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28760" y="1785960"/>
            <a:ext cx="352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временная опера «Орфей и Эвридика» была поставлена в 1975 году в оперной студии при Ленинградской Консерватории. Поскольку термин «рок» вызывал негативные эмоции у руководства Министерства культуры СССР, постановка была названа «зонг-оперой» (от нем. der Song — «эстрадная песенка»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4" descr="1277581359_375f62ab5a93.jpg"/>
          <p:cNvPicPr/>
          <p:nvPr/>
        </p:nvPicPr>
        <p:blipFill>
          <a:blip r:embed="rId2"/>
          <a:stretch/>
        </p:blipFill>
        <p:spPr>
          <a:xfrm>
            <a:off x="357120" y="1714680"/>
            <a:ext cx="3664080" cy="3663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то современная интерпретация мифа о любви. Возлюбленная Орфея, Эвридика умирает, душа ее направляется в подземный мир к Аиду, и Орфей, ведомый силой любви к своей возлюбленной, спускается за ней. Но когда цель уже, казалось бы, была достигнута, и он должен был соединиться с Эвридикой, его одолевают сомнения, побеждает жажда славы и он теряет самое ценное — любовь.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5" descr="s640x480.jpeg"/>
          <p:cNvPicPr/>
          <p:nvPr/>
        </p:nvPicPr>
        <p:blipFill>
          <a:blip r:embed="rId2"/>
          <a:stretch/>
        </p:blipFill>
        <p:spPr>
          <a:xfrm>
            <a:off x="3786120" y="1571760"/>
            <a:ext cx="4071960" cy="2709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85480" y="150012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 36 лет со дня премьеры многое менялось: актеры, зрители, сцены театров, но сюжет понятен ценителям рок-оперы всех поколений. «Орфей и Эвридика» — это неустаревающая музыка, нетленные тексты, безупречная игра актер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4" descr="anarbor-music-week-panel.jpg"/>
          <p:cNvPicPr/>
          <p:nvPr/>
        </p:nvPicPr>
        <p:blipFill>
          <a:blip r:embed="rId2"/>
          <a:stretch/>
        </p:blipFill>
        <p:spPr>
          <a:xfrm>
            <a:off x="214200" y="2286000"/>
            <a:ext cx="4143600" cy="2717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вторы «Орфея и Эвридики» А.Журбин и Ю.Димитрин "за выдающийся вклад в рок-музыку" получили от английского журнала "Music Week" дипломы "Звезда 1975 года". В 2003 году опера вошла в книгу рекордов Гиннеса как мюзикл, максимальное количество раз сыгранный одним коллективом (на момент регистрации рекорда спектакль исполнялся 2350-й раз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146320" y="1566720"/>
            <a:ext cx="5742000" cy="28767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4:55:29Z</dcterms:created>
  <dc:creator>1</dc:creator>
  <dc:description/>
  <dc:language>en-US</dc:language>
  <cp:lastModifiedBy>202</cp:lastModifiedBy>
  <dcterms:modified xsi:type="dcterms:W3CDTF">2012-03-16T13:35:11Z</dcterms:modified>
  <cp:revision>5</cp:revision>
  <dc:subject/>
  <dc:title>Рок-опера «Орфей и Эвридика»</dc:title>
</cp:coreProperties>
</file>