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50A-B167-4E69-BEBB-117BC315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FCA8-91F2-477D-B804-0C1E612D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1D0-C454-4EA1-A05D-7F8AD751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37D-4317-491D-BBED-7BF946E5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0147-83EF-4F51-924F-CAD3A409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697C-0CAE-457B-B085-FB733E02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0075-C03F-40A5-B9C7-4623DA39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1DC3-177B-4C9D-9F64-53F9CC28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3BF5-C07E-4B08-853D-D9DDCAFC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AA27-EE50-4B23-912C-35CDAA5B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B2DD-575D-454E-B627-DBBB0C53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737-7380-4069-8A97-08E88729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484A-8C8E-443F-A2E3-137E1240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0E77-6C5B-40E8-9B0D-53D6665D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3E54-A049-41F3-A4DD-6D01C4F7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D62F-25A1-4120-A056-E1C0108E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CD74-FC2A-45C7-AC4A-87AC892E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834-66C9-4A8E-9807-F80C210B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923-23E4-420A-B330-3DD6FBFC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34C-0B1D-4085-AF8D-49480ABB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952A-B8D3-4958-8DA7-A50CD13A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37C-7641-4C14-B44D-B7041BAA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7C4-42AC-487B-8746-C8725E9F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73F-502A-41DF-B195-1E7BD0C2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B5E6-E0DB-40C3-8958-5FAD22769ED7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0ED2-DAD0-4209-8772-21F111476CE9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341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Georgia"/>
              </a:rPr>
              <a:t>Основные рекомендации к разработке и проведению здоровьесберегающего уро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105264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итается гигиенически рациональным использование 4-7 видов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учебной деятельности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, нерациональным – 1-2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мена различных видов должна проводиться через каждые 7-10 минут (нерациональная смена через 15-20 минут, когда у ребенка уже появляются признаки утомления).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1125360"/>
            <a:ext cx="7772400" cy="19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Оздоровительные </a:t>
            </a:r>
            <a:br>
              <a:rPr sz="4000"/>
            </a:b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моменты на уроке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7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физкультминутки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динамические паузы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минутки релаксации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дыхательная гимнастика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гимнастика для глаз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массаж активных точек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Цель </a:t>
            </a:r>
            <a:br>
              <a:rPr sz="4400"/>
            </a:b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оздоровительных момент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7280" y="32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тдых центральной нервной системы;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офилактик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утомления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офилактика нарушений осанки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офилактика ухудшения зрения.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Рекомендации по организации оздоровительных моментов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мплексы упражнений должны меняться раз в неделю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оводятся на 20-й и 35-й минуте урока (в период снижения работоспособности) по 1 минуте из 3-х легких упражнений с 3-4 повторениями каждого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Наличие эмоциональных разрядок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728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говорка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ысказывание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еселое четверостишие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юмористическая или поучительная картинка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Цель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эмоциональных разрядок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32842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еобходимы для снятия умственного напряжения, утомления.</a:t>
            </a:r>
            <a:r>
              <a:rPr b="0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 течение урока рационально использовать 2-3 разрядки.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авильная поза ученика во время занятий за столом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7724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лина сиденья стула должна соответствовать длине бедер ребенк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ысота ножек стула должна равняться длине голени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леностопный, коленный, тазобедренный суставы при сидении образуют прямой угол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м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жду краем стола и грудной клеткой сидящего ученика необходимо выдерживать расстояние равное ширине кисти ребенк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8728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сстояние от глаз до стола (тетради, книги) соответствует 30-35 см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традь при письме должна лежать на столе под углом 30 градусов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и письме сидеть нужно с одинаковой нагрузкой на обе ягодицы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звоночник опирается на спинку стула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едплечья лежат на поверхности стола симметрично и свободно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лечи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находятся на одном уровн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125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Рекомендац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7280" y="210456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бочая поза должна соответствовать виду учебной деятельности на уроке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е соблюдение и чередование во время занятий контролируется педагогом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продолжительные отклонения от указанных поз нужны для отдыха, расслабления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дагогам следует корректировать нарушения в рабочей позе учащихс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51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«Здоровьесберегающий урок должен:</a:t>
            </a: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 воспитывать, стимулировать у детей желание жить, быть здоровыми, учить их ощущать радость от каждого прожитого дня; показывать им, что жизнь - это прекрасно, вызывать у них позитивную самооценку»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2682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Положительные эмоци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создание у детей положительной эмоциональной настроенности является обязательным условием правильно организованного учебного процесса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оложительные эмоции способны полностью снимать последствия отрицательных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84000" y="1989000"/>
            <a:ext cx="50878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cc"/>
                </a:solidFill>
                <a:latin typeface="Times New Roman"/>
              </a:rPr>
              <a:t>Будьте здоровы!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360" y="1916280"/>
            <a:ext cx="60674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Отличительные особенности здоровьесберегающих образовательных технологи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3123720"/>
            <a:ext cx="77724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16000" y="1125360"/>
            <a:ext cx="8028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тсутствие назидательности и авторитарности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воспитание, а не изучение культуры здоровья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элементы индивидуализации обучения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наличие мотивации на здоровый образ жизни учителя и учеников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интерес к учебе, желание идти в школу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наличие физкультминуток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наличие гигиенического контрол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4920" y="4365360"/>
            <a:ext cx="6846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Основой  </a:t>
            </a:r>
            <a:br>
              <a:rPr sz="4400"/>
            </a:b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здоровьесберегающей технологии</a:t>
            </a:r>
            <a:r>
              <a:rPr b="0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является соблюдение </a:t>
            </a:r>
            <a:br>
              <a:rPr sz="4400"/>
            </a:br>
            <a:r>
              <a:rPr b="0" lang="ru-RU" sz="4400" spc="-1" strike="noStrike">
                <a:solidFill>
                  <a:srgbClr val="000080"/>
                </a:solidFill>
                <a:latin typeface="Times New Roman"/>
              </a:rPr>
              <a:t>следующих </a:t>
            </a:r>
            <a:r>
              <a:rPr b="0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инципов: 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87280" y="126828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чет возрастно-половых особенностей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чет состояния здоровья ученика и его индивидуальных психофизических особенностей при выборе форм, методов и средств обучения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труктурирование урока на три части в зависимости от уровня умственной работоспособности учащихся  (вводная часть, основная и заключительная)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спользование здоровьесберегающих действий для сохранения работоспособности и расширения функциона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ьных возможностей организма учащихся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Здоровьесберегающие действия:  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378900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тимальная плотность урока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ч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редование видов учебной деятельности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Оптимальная плотность урока предусматривае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7280" y="3381120"/>
            <a:ext cx="777240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оличество видов учебной деятельности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х смена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лительность и чередование;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твлечения от учебной работы.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7280" y="249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тение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исьмо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лушание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ссказ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ссматривание пособи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тветы на вопросы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амостоятельная работ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а</cp:lastModifiedBy>
  <dcterms:modified xsi:type="dcterms:W3CDTF">2009-12-01T05:14:33Z</dcterms:modified>
  <cp:revision>47</cp:revision>
  <dc:subject/>
  <dc:title>PowerPoint Presentation</dc:title>
</cp:coreProperties>
</file>