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695-0E45-46AF-9981-6150B0C4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5D8-6259-498C-A8B3-5C7AE316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73F-AFDB-4296-BF1C-FD06D16A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69C-2508-4122-AC55-76317CE3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AF6A-83D2-444A-A901-C9E22BB9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98D5-CA01-45A0-AD02-C8ACC22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5F4B-B8AF-4D36-9F09-434F3803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33EF-B470-4F6D-A05D-6F2F1937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D072-0E35-4CCA-8C1A-2C60BF7D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A68A-92B9-4A60-B778-2E0E8DC4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BBF1-DB82-4082-817E-E944C74B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F03-E599-4C49-B401-8E0A43C6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633A-744A-464A-8F2B-F12F4AD7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F521-A596-4C21-A22D-0DA9908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9620-5648-4DCA-BB1F-44045C2F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4657-C182-4A7D-A0CB-1EDF0D28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1505-5849-4BCD-9FAF-8187439A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54B-FE9E-4E93-87A4-B4E4BAA4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792-8BAB-4683-AA8B-ACCFBC6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037-554C-4E4A-A8AD-DA8265B8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A43-CF45-43A6-ACFC-9249A876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E4E-BFA9-4870-94C6-B3CCE66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96A-8A7D-45F2-99FD-1059AA9D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B3E-85F2-4439-9834-8110E4E6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24B8-A03C-49C4-AAB0-B01AEEB7B05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FA04-7474-42EF-BC5A-4D16A0AAA1C2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34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cc"/>
                </a:solidFill>
                <a:latin typeface="Georgia"/>
              </a:rPr>
              <a:t>Основные рекомендации к разработке и проведению здоровьесберегающего уро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10526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итается гигиенически рациональным использование 4-7 видов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учебной деятельност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, нерациональным – 1-2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мена различных видов должна проводиться через каждые 7-10 минут (нерациональная смена через 15-20 минут, когда у ребенка уже появляются признаки утомления).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12536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Оздоровительные </a:t>
            </a:r>
            <a:br>
              <a:rPr sz="4000"/>
            </a:b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моменты на уроке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физкультминутк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инамические паузы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минутки релаксаци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дыхательная гимнастик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гимнастика для глаз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массаж активных точек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Цель </a:t>
            </a:r>
            <a:br>
              <a:rPr sz="4400"/>
            </a:b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оздоровительных момент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32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дых центральной нервной системы;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филактик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утомления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филактика нарушений осанк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офилактика ухудшения зрения.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Рекомендации по организации оздоровительных моментов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мплексы упражнений должны меняться раз в неделю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оводятся на 20-й и 35-й минуте урока (в период снижения работоспособности) по 1 минуте из 3-х легких упражнений с 3-4 повторениями каждого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аличие эмоциональных разрядо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728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говорк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сказывание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еселое четверостишие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юмористическая или поучительная картинка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Цель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эмоциональных разрядок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3284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необходимы для снятия умственного напряжения, утомления.</a:t>
            </a:r>
            <a:r>
              <a:rPr b="0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 течение урока рационально использовать 2-3 разрядки.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ьная поза ученика во время занятий за столом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2204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ина сиденья стула должна соответствовать длине бедер ребенк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ысота ножек стула должна равняться длине голен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г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леностопный, коленный, тазобедренный суставы при сидении образуют прямой уго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жду краем стола и грудной клеткой сидящего ученика необходимо выдерживать расстояние равное ширине кисти ребенк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18728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сстояние от глаз до стола (тетради, книги) соответствует 30-35 см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традь при письме должна лежать на столе под углом 30 градусов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и письме сидеть нужно с одинаковой нагрузкой на обе ягодицы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звоночник опирается на спинку стула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едплечья лежат на поверхности стола симметрично и свободно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лечи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находятся на одном уровне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125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Рекомендац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0456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р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бочая поза должна соответствовать виду учебной деятельности на уроке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е соблюдение и чередование во время занятий контролируется педагогом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продолжительные отклонения от указанных поз нужны для отдыха, расслабления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дагогам следует корректировать нарушения в рабочей позе учащихс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51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«Здоровьесберегающий урок должен: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 воспитывать, стимулировать у детей желание жить, быть здоровыми, учить их ощущать радость от каждого прожитого дня; показывать им, что жизнь - это прекрасно, вызывать у них позитивную самооценку»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268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Положительные эмоци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создание у детей положительной эмоциональной настроенности является обязательным условием правильно организованного учебного процесса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оложительные эмоции способны полностью снимать последствия отрицательных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84000" y="1989000"/>
            <a:ext cx="50878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cc"/>
                </a:solidFill>
                <a:latin typeface="Times New Roman"/>
              </a:rPr>
              <a:t>Будьте здоровы!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360" y="1916280"/>
            <a:ext cx="6067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Отличительные особенности здоровьесберегающих образовательных технологи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16000" y="1125360"/>
            <a:ext cx="8028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тсутствие назидательности и авторитарности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воспитание, а не изучение культуры здоровь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элементы индивидуализации обучения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личие мотивации на здоровый образ жизни учителя и учеников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интерес к учебе, желание идти в школу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личие физкультминуток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наличие гигиенического контрол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4920" y="4365360"/>
            <a:ext cx="6846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сновой  </a:t>
            </a:r>
            <a:br>
              <a:rPr sz="4400"/>
            </a:b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доровьесберегающей технологии</a:t>
            </a: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является соблюдение 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Times New Roman"/>
              </a:rPr>
              <a:t>следующих </a:t>
            </a:r>
            <a:r>
              <a:rPr b="0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инципов: 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87280" y="126828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т возрастно-половых особенностей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чет состояния здоровья ученика и его индивидуальных психофизических особенностей при выборе форм, методов и средств обучения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труктурирование урока на три части в зависимости от уровня умственной работоспособности учащихся  (вводная часть, основная и заключительная)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спользование здоровьесберегающих действий для сохранения работоспособности и расширения функциона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л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ьных возможностей организма учащихся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доровьесберегающие действия: 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3789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тимальная плотность урок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ч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ередование видов учебной деятельности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птимальная плотность урока предусматривае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7280" y="3381120"/>
            <a:ext cx="777240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количество видов учебной деятельности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их смена;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ительность и чередование;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влечения от учебной работы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чтение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исьмо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лушание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сказ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сматривание пособи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тветы на вопросы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амостоятельная работ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09-12-01T05:14:33Z</dcterms:modified>
  <cp:revision>47</cp:revision>
  <dc:subject/>
  <dc:title>PowerPoint Presentation</dc:title>
</cp:coreProperties>
</file>