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1CE-8AEC-46CE-B659-810329DB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C90-D9ED-498D-B78E-C03C456E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052-9CFF-47ED-8C26-ECA37A20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E6D-D89B-493D-B512-528B579C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0AF9-EE1D-4136-A020-35BCD0EB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D125-D645-4D55-B165-36983599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D069-E692-447C-8ECC-9341687E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390B-D500-4E30-89E4-CB83F5A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DFE8-064A-4262-B7B7-493A8C18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A221-9CC9-43F0-B17B-C5A23BD6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C4EA-DA26-422A-9DA2-ADEF90E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3A3-C66A-4494-8D40-209FD6AD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7294-3894-4544-B94F-E8B8BA6D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69F9-B925-431F-A2B5-47D4AF3F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8786-0600-49C9-9B66-B0851F93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831B-E169-40DA-9BA4-A70E3BAC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45A-A52A-4B78-AF6A-53B464B2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D08-C23E-4B81-8FD1-DCD25B65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624-8D43-4CBA-B276-58071123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D8F-AAF4-4B98-A269-65329C06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B38-B782-44FC-9903-A84FA44F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C94-D8D7-4F89-8537-851396C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58E-4BD4-4376-A504-EC4ED6A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4FE-F2C7-4568-96D6-7ED81C73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80D2-00D5-4609-AD35-D5B5152554A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321C-0171-4D92-B11B-C1F222292C0A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34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Georgia"/>
              </a:rPr>
              <a:t>Основные рекомендации к разработке и проведению здоровьесберегающего уро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10526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итается гигиенически рациональным использование 4-7 видов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учебной деятельност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, нерациональным – 1-2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мена различных видов должна проводиться через каждые 7-10 минут (нерациональная смена через 15-20 минут, когда у ребенка уже появляются признаки утомления).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12536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Оздоровительные </a:t>
            </a:r>
            <a:br>
              <a:rPr sz="4000"/>
            </a:b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моменты на уроке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физкультминутк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динамические паузы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минутки релаксаци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дыхательная гимнастик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гимнастика для глаз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массаж активных точек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Цель </a:t>
            </a:r>
            <a:br>
              <a:rPr sz="4400"/>
            </a:b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оздоровительных момент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32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дых центральной нервной системы;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филактик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утомления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филактика нарушений осанк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филактика ухудшения зрения.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Рекомендации по организации оздоровительных моментов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мплексы упражнений должны меняться раз в неделю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оводятся на 20-й и 35-й минуте урока (в период снижения работоспособности) по 1 минуте из 3-х легких упражнений с 3-4 повторениями каждого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аличие эмоциональных разрядо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728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говорк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сказывание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еселое четверостишие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юмористическая или поучительная картинка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Цель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эмоциональных разрядо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32842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обходимы для снятия умственного напряжения, утомления.</a:t>
            </a:r>
            <a:r>
              <a:rPr b="0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течение урока рационально использовать 2-3 разрядки.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ьная поза ученика во время занятий за столо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ина сиденья стула должна соответствовать длине бедер ребенк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ысота ножек стула должна равняться длине голен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леностопный, коленный, тазобедренный суставы при сидении образуют прямой угол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м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жду краем стола и грудной клеткой сидящего ученика необходимо выдерживать расстояние равное ширине кисти ребенк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728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сстояние от глаз до стола (тетради, книги) соответствует 30-35 см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традь при письме должна лежать на столе под углом 30 градусов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и письме сидеть нужно с одинаковой нагрузкой на обе ягодицы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звоночник опирается на спинку стула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плечья лежат на поверхности стола симметрично и свободно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леч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находятся на одном уровн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125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Рекомендац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0456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бочая поза должна соответствовать виду учебной деятельности на уроке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е соблюдение и чередование во время занятий контролируется педагогом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продолжительные отклонения от указанных поз нужны для отдыха, расслабления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дагогам следует корректировать нарушения в рабочей позе учащихс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51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«Здоровьесберегающий урок должен: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 воспитывать, стимулировать у детей желание жить, быть здоровыми, учить их ощущать радость от каждого прожитого дня; показывать им, что жизнь - это прекрасно, вызывать у них позитивную самооценку»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268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Положительные эмо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оздание у детей положительной эмоциональной настроенности является обязательным условием правильно организованного учебного процесса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оложительные эмоции способны полностью снимать последствия отрицательных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84000" y="1989000"/>
            <a:ext cx="50878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cc"/>
                </a:solidFill>
                <a:latin typeface="Times New Roman"/>
              </a:rPr>
              <a:t>Будьте здоровы!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360" y="1916280"/>
            <a:ext cx="6067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Отличительные особенности здоровьесберегающих образовательных технологи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312372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16000" y="1125360"/>
            <a:ext cx="8028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тсутствие назидательности и авторитарности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воспитание, а не изучение культуры здоровья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элементы индивидуализации обучения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наличие мотивации на здоровый образ жизни учителя и учеников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интерес к учебе, желание идти в школу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наличие физкультминуток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наличие гигиенического контрол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4365360"/>
            <a:ext cx="6846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сновой  </a:t>
            </a:r>
            <a:br>
              <a:rPr sz="4400"/>
            </a:b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здоровьесберегающей технологии</a:t>
            </a:r>
            <a:r>
              <a:rPr b="0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является соблюдение </a:t>
            </a:r>
            <a:br>
              <a:rPr sz="4400"/>
            </a:br>
            <a:r>
              <a:rPr b="0" lang="ru-RU" sz="4400" spc="-1" strike="noStrike">
                <a:solidFill>
                  <a:srgbClr val="000080"/>
                </a:solidFill>
                <a:latin typeface="Times New Roman"/>
              </a:rPr>
              <a:t>следующих </a:t>
            </a:r>
            <a:r>
              <a:rPr b="0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инципов: 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87280" y="126828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т возрастно-половых особенностей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т состояния здоровья ученика и его индивидуальных психофизических особенностей при выборе форм, методов и средств обучения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труктурирование урока на три части в зависимости от уровня умственной работоспособности учащихся  (вводная часть, основная и заключительная)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спользование здоровьесберегающих действий для сохранения работоспособности и расширения функциона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ьных возможностей организма учащихс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Здоровьесберегающие действия: 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3789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тимальная плотность урок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ч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редование видов учебной деятельности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птимальная плотность урока предусматривае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7280" y="3381120"/>
            <a:ext cx="777240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оличество видов учебной деятельност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х смен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ительность и чередование;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влечения от учебной работы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тение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исьмо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лушание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сказ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сматривание пособи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веты на вопросы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остоятельная работ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09-12-01T05:14:33Z</dcterms:modified>
  <cp:revision>47</cp:revision>
  <dc:subject/>
  <dc:title>PowerPoint Presentation</dc:title>
</cp:coreProperties>
</file>