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2E5-26B9-4CFA-9A4C-BFFE8AC2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B48-F705-4E34-AA7C-A36A8BF2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AB6-688E-4FBE-960D-114E2280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C12-43F6-414F-8678-6C1C5ACA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E6C-7D24-48BB-B216-64C9D854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2E4-84DB-4551-8577-8B523A70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44B-6BEB-40CC-BD18-181BBBFF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99A-8DF8-4161-A365-6180766A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6ED-E059-4DD4-9480-F1DEF449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FAB-94AF-4598-8F48-F2E9B9DE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A91-8270-4877-8EFE-8A81E061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445-3C97-4CF7-B726-B9DD2635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CCE1-5971-4270-9F28-DF768A90AB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vorshud.unatlib.org.ru/index.php/&#1060;&#1072;&#1081;&#1083;:Polotenca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8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Применение параллелограмм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Шудегова С.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бушина Т.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Чернушинск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ая соединительная линия 149"/>
          <p:cNvSpPr/>
          <p:nvPr/>
        </p:nvSpPr>
        <p:spPr>
          <a:xfrm>
            <a:off x="5391000" y="2581200"/>
            <a:ext cx="222480" cy="160992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46"/>
          <p:cNvSpPr/>
          <p:nvPr/>
        </p:nvSpPr>
        <p:spPr>
          <a:xfrm>
            <a:off x="3203640" y="2608200"/>
            <a:ext cx="193680" cy="16668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32"/>
          <p:cNvSpPr/>
          <p:nvPr/>
        </p:nvSpPr>
        <p:spPr>
          <a:xfrm flipV="1">
            <a:off x="3394080" y="4238640"/>
            <a:ext cx="2300400" cy="396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21"/>
          <p:cNvSpPr/>
          <p:nvPr/>
        </p:nvSpPr>
        <p:spPr>
          <a:xfrm flipV="1">
            <a:off x="3232080" y="2553840"/>
            <a:ext cx="2087640" cy="270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Дуга 51"/>
          <p:cNvSpPr/>
          <p:nvPr/>
        </p:nvSpPr>
        <p:spPr>
          <a:xfrm rot="11689200">
            <a:off x="3212280" y="2785320"/>
            <a:ext cx="1838520" cy="1795320"/>
          </a:xfrm>
          <a:prstGeom prst="pie">
            <a:avLst/>
          </a:prstGeom>
          <a:noFill/>
          <a:ln w="19080">
            <a:solidFill>
              <a:srgbClr val="102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Дуга 90"/>
          <p:cNvSpPr/>
          <p:nvPr/>
        </p:nvSpPr>
        <p:spPr>
          <a:xfrm rot="4570800">
            <a:off x="3962520" y="2849400"/>
            <a:ext cx="1908360" cy="1727280"/>
          </a:xfrm>
          <a:prstGeom prst="pie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Дуга 30"/>
          <p:cNvSpPr/>
          <p:nvPr/>
        </p:nvSpPr>
        <p:spPr>
          <a:xfrm rot="195600">
            <a:off x="3745080" y="2289240"/>
            <a:ext cx="1863720" cy="1641240"/>
          </a:xfrm>
          <a:prstGeom prst="pie">
            <a:avLst/>
          </a:prstGeom>
          <a:noFill/>
          <a:ln w="19080">
            <a:solidFill>
              <a:srgbClr val="102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Дуга 91"/>
          <p:cNvSpPr/>
          <p:nvPr/>
        </p:nvSpPr>
        <p:spPr>
          <a:xfrm rot="15984600">
            <a:off x="2978640" y="2197800"/>
            <a:ext cx="1982880" cy="1727280"/>
          </a:xfrm>
          <a:prstGeom prst="pie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5"/>
          <p:cNvSpPr/>
          <p:nvPr/>
        </p:nvSpPr>
        <p:spPr>
          <a:xfrm flipH="1">
            <a:off x="2819520" y="1938240"/>
            <a:ext cx="3286080" cy="2857680"/>
          </a:xfrm>
          <a:prstGeom prst="line">
            <a:avLst/>
          </a:prstGeom>
          <a:ln w="19080">
            <a:solidFill>
              <a:srgbClr val="102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22"/>
          <p:cNvSpPr/>
          <p:nvPr/>
        </p:nvSpPr>
        <p:spPr>
          <a:xfrm>
            <a:off x="2747880" y="2295360"/>
            <a:ext cx="3429000" cy="2286000"/>
          </a:xfrm>
          <a:prstGeom prst="line">
            <a:avLst/>
          </a:prstGeom>
          <a:ln w="1908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319640" y="329580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49"/>
          <p:cNvGrpSpPr/>
          <p:nvPr/>
        </p:nvGrpSpPr>
        <p:grpSpPr>
          <a:xfrm>
            <a:off x="3080160" y="499320"/>
            <a:ext cx="2605680" cy="5844600"/>
            <a:chOff x="3080160" y="499320"/>
            <a:chExt cx="2605680" cy="5844600"/>
          </a:xfrm>
        </p:grpSpPr>
        <p:grpSp>
          <p:nvGrpSpPr>
            <p:cNvPr id="264" name="Group 50"/>
            <p:cNvGrpSpPr/>
            <p:nvPr/>
          </p:nvGrpSpPr>
          <p:grpSpPr>
            <a:xfrm>
              <a:off x="4412160" y="499320"/>
              <a:ext cx="1273680" cy="2905200"/>
              <a:chOff x="4412160" y="499320"/>
              <a:chExt cx="1273680" cy="2905200"/>
            </a:xfrm>
          </p:grpSpPr>
          <p:sp>
            <p:nvSpPr>
              <p:cNvPr id="265" name="Freeform 51"/>
              <p:cNvSpPr/>
              <p:nvPr/>
            </p:nvSpPr>
            <p:spPr>
              <a:xfrm rot="18000">
                <a:off x="4476600" y="502200"/>
                <a:ext cx="1201680" cy="2747880"/>
              </a:xfrm>
              <a:prstGeom prst="pie">
                <a:avLst/>
              </a:pr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2"/>
              <p:cNvSpPr/>
              <p:nvPr/>
            </p:nvSpPr>
            <p:spPr>
              <a:xfrm rot="18000">
                <a:off x="5375880" y="2738880"/>
                <a:ext cx="305280" cy="54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3"/>
              <p:cNvSpPr/>
              <p:nvPr/>
            </p:nvSpPr>
            <p:spPr>
              <a:xfrm rot="18000">
                <a:off x="5560560" y="3057480"/>
                <a:ext cx="117720" cy="20016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Group 54"/>
              <p:cNvGrpSpPr/>
              <p:nvPr/>
            </p:nvGrpSpPr>
            <p:grpSpPr>
              <a:xfrm>
                <a:off x="4412160" y="530280"/>
                <a:ext cx="1233000" cy="2874240"/>
                <a:chOff x="4412160" y="530280"/>
                <a:chExt cx="1233000" cy="2874240"/>
              </a:xfrm>
            </p:grpSpPr>
            <p:sp>
              <p:nvSpPr>
                <p:cNvPr id="269" name="Freeform 55"/>
                <p:cNvSpPr/>
                <p:nvPr/>
              </p:nvSpPr>
              <p:spPr>
                <a:xfrm rot="18000">
                  <a:off x="4586400" y="532800"/>
                  <a:ext cx="1052280" cy="2297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0" name="Group 56"/>
                <p:cNvGrpSpPr/>
                <p:nvPr/>
              </p:nvGrpSpPr>
              <p:grpSpPr>
                <a:xfrm>
                  <a:off x="4412160" y="727560"/>
                  <a:ext cx="556560" cy="2676960"/>
                  <a:chOff x="4412160" y="727560"/>
                  <a:chExt cx="556560" cy="2676960"/>
                </a:xfrm>
              </p:grpSpPr>
              <p:sp>
                <p:nvSpPr>
                  <p:cNvPr id="271" name="Freeform 57"/>
                  <p:cNvSpPr/>
                  <p:nvPr/>
                </p:nvSpPr>
                <p:spPr>
                  <a:xfrm rot="18000">
                    <a:off x="4419000" y="786600"/>
                    <a:ext cx="341640" cy="2616840"/>
                  </a:xfrm>
                  <a:prstGeom prst="pi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Oval 58"/>
                  <p:cNvSpPr/>
                  <p:nvPr/>
                </p:nvSpPr>
                <p:spPr>
                  <a:xfrm rot="18000">
                    <a:off x="4563360" y="728640"/>
                    <a:ext cx="404280" cy="38268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3" name="Group 59"/>
            <p:cNvGrpSpPr/>
            <p:nvPr/>
          </p:nvGrpSpPr>
          <p:grpSpPr>
            <a:xfrm>
              <a:off x="3080160" y="3426120"/>
              <a:ext cx="1305000" cy="2917800"/>
              <a:chOff x="3080160" y="3426120"/>
              <a:chExt cx="1305000" cy="2917800"/>
            </a:xfrm>
          </p:grpSpPr>
          <p:sp>
            <p:nvSpPr>
              <p:cNvPr id="274" name="Freeform 60"/>
              <p:cNvSpPr/>
              <p:nvPr/>
            </p:nvSpPr>
            <p:spPr>
              <a:xfrm rot="10759800">
                <a:off x="3113640" y="3572280"/>
                <a:ext cx="1185840" cy="2764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1"/>
              <p:cNvSpPr/>
              <p:nvPr/>
            </p:nvSpPr>
            <p:spPr>
              <a:xfrm rot="10759800">
                <a:off x="3083040" y="3556080"/>
                <a:ext cx="299160" cy="537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2"/>
              <p:cNvSpPr/>
              <p:nvPr/>
            </p:nvSpPr>
            <p:spPr>
              <a:xfrm rot="10759800">
                <a:off x="3087000" y="3571200"/>
                <a:ext cx="114480" cy="204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Group 63"/>
              <p:cNvGrpSpPr/>
              <p:nvPr/>
            </p:nvGrpSpPr>
            <p:grpSpPr>
              <a:xfrm>
                <a:off x="3162240" y="3426120"/>
                <a:ext cx="1222920" cy="2901600"/>
                <a:chOff x="3162240" y="3426120"/>
                <a:chExt cx="1222920" cy="2901600"/>
              </a:xfrm>
            </p:grpSpPr>
            <p:sp>
              <p:nvSpPr>
                <p:cNvPr id="278" name="Freeform 64"/>
                <p:cNvSpPr/>
                <p:nvPr/>
              </p:nvSpPr>
              <p:spPr>
                <a:xfrm rot="10759800">
                  <a:off x="3175560" y="4011840"/>
                  <a:ext cx="1035720" cy="23097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Group 65"/>
                <p:cNvGrpSpPr/>
                <p:nvPr/>
              </p:nvGrpSpPr>
              <p:grpSpPr>
                <a:xfrm>
                  <a:off x="3847320" y="3426120"/>
                  <a:ext cx="537840" cy="2695680"/>
                  <a:chOff x="3847320" y="3426120"/>
                  <a:chExt cx="537840" cy="2695680"/>
                </a:xfrm>
              </p:grpSpPr>
              <p:sp>
                <p:nvSpPr>
                  <p:cNvPr id="280" name="Freeform 66"/>
                  <p:cNvSpPr/>
                  <p:nvPr/>
                </p:nvSpPr>
                <p:spPr>
                  <a:xfrm rot="10759800">
                    <a:off x="4035960" y="3427920"/>
                    <a:ext cx="333720" cy="2625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67"/>
                  <p:cNvSpPr/>
                  <p:nvPr/>
                </p:nvSpPr>
                <p:spPr>
                  <a:xfrm rot="10759800">
                    <a:off x="3849120" y="5735160"/>
                    <a:ext cx="39996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82" name="Group 49"/>
          <p:cNvGrpSpPr/>
          <p:nvPr/>
        </p:nvGrpSpPr>
        <p:grpSpPr>
          <a:xfrm>
            <a:off x="3185280" y="272520"/>
            <a:ext cx="2505600" cy="6242040"/>
            <a:chOff x="3185280" y="272520"/>
            <a:chExt cx="2505600" cy="6242040"/>
          </a:xfrm>
        </p:grpSpPr>
        <p:grpSp>
          <p:nvGrpSpPr>
            <p:cNvPr id="283" name="Group 50"/>
            <p:cNvGrpSpPr/>
            <p:nvPr/>
          </p:nvGrpSpPr>
          <p:grpSpPr>
            <a:xfrm>
              <a:off x="3185280" y="3420000"/>
              <a:ext cx="1788480" cy="3094560"/>
              <a:chOff x="3185280" y="3420000"/>
              <a:chExt cx="1788480" cy="3094560"/>
            </a:xfrm>
          </p:grpSpPr>
          <p:sp>
            <p:nvSpPr>
              <p:cNvPr id="284" name="Freeform 51"/>
              <p:cNvSpPr/>
              <p:nvPr/>
            </p:nvSpPr>
            <p:spPr>
              <a:xfrm rot="10077000">
                <a:off x="3490200" y="3643920"/>
                <a:ext cx="1173960" cy="2778840"/>
              </a:xfrm>
              <a:prstGeom prst="pie">
                <a:avLst/>
              </a:pr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52"/>
              <p:cNvSpPr/>
              <p:nvPr/>
            </p:nvSpPr>
            <p:spPr>
              <a:xfrm rot="10077000">
                <a:off x="3238560" y="3739320"/>
                <a:ext cx="298080" cy="546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3"/>
              <p:cNvSpPr/>
              <p:nvPr/>
            </p:nvSpPr>
            <p:spPr>
              <a:xfrm rot="10077000">
                <a:off x="3214800" y="3780000"/>
                <a:ext cx="113400" cy="20052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54"/>
              <p:cNvGrpSpPr/>
              <p:nvPr/>
            </p:nvGrpSpPr>
            <p:grpSpPr>
              <a:xfrm>
                <a:off x="3379680" y="3420000"/>
                <a:ext cx="1594080" cy="3088440"/>
                <a:chOff x="3379680" y="3420000"/>
                <a:chExt cx="1594080" cy="3088440"/>
              </a:xfrm>
            </p:grpSpPr>
            <p:sp>
              <p:nvSpPr>
                <p:cNvPr id="288" name="Freeform 55"/>
                <p:cNvSpPr/>
                <p:nvPr/>
              </p:nvSpPr>
              <p:spPr>
                <a:xfrm rot="10077000">
                  <a:off x="3610440" y="4103640"/>
                  <a:ext cx="1027800" cy="2322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9" name="Group 56"/>
                <p:cNvGrpSpPr/>
                <p:nvPr/>
              </p:nvGrpSpPr>
              <p:grpSpPr>
                <a:xfrm>
                  <a:off x="4096800" y="3420000"/>
                  <a:ext cx="876960" cy="2755800"/>
                  <a:chOff x="4096800" y="3420000"/>
                  <a:chExt cx="876960" cy="2755800"/>
                </a:xfrm>
              </p:grpSpPr>
              <p:sp>
                <p:nvSpPr>
                  <p:cNvPr id="290" name="Freeform 57"/>
                  <p:cNvSpPr/>
                  <p:nvPr/>
                </p:nvSpPr>
                <p:spPr>
                  <a:xfrm rot="10077000">
                    <a:off x="4368600" y="3425400"/>
                    <a:ext cx="332640" cy="2645280"/>
                  </a:xfrm>
                  <a:prstGeom prst="pi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58"/>
                  <p:cNvSpPr/>
                  <p:nvPr/>
                </p:nvSpPr>
                <p:spPr>
                  <a:xfrm rot="10077000">
                    <a:off x="4422960" y="5752080"/>
                    <a:ext cx="394200" cy="38700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2" name="Group 59"/>
            <p:cNvGrpSpPr/>
            <p:nvPr/>
          </p:nvGrpSpPr>
          <p:grpSpPr>
            <a:xfrm>
              <a:off x="3881160" y="272520"/>
              <a:ext cx="1809720" cy="3112920"/>
              <a:chOff x="3881160" y="272520"/>
              <a:chExt cx="1809720" cy="3112920"/>
            </a:xfrm>
          </p:grpSpPr>
          <p:sp>
            <p:nvSpPr>
              <p:cNvPr id="293" name="Freeform 60"/>
              <p:cNvSpPr/>
              <p:nvPr/>
            </p:nvSpPr>
            <p:spPr>
              <a:xfrm rot="20818800">
                <a:off x="4185720" y="370440"/>
                <a:ext cx="1186920" cy="2764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61"/>
              <p:cNvSpPr/>
              <p:nvPr/>
            </p:nvSpPr>
            <p:spPr>
              <a:xfrm rot="20818800">
                <a:off x="5334480" y="2486880"/>
                <a:ext cx="299520" cy="537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62"/>
              <p:cNvSpPr/>
              <p:nvPr/>
            </p:nvSpPr>
            <p:spPr>
              <a:xfrm rot="20818800">
                <a:off x="5545440" y="2782080"/>
                <a:ext cx="114480" cy="204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63"/>
              <p:cNvGrpSpPr/>
              <p:nvPr/>
            </p:nvGrpSpPr>
            <p:grpSpPr>
              <a:xfrm>
                <a:off x="3881160" y="300960"/>
                <a:ext cx="1630800" cy="3084480"/>
                <a:chOff x="3881160" y="300960"/>
                <a:chExt cx="1630800" cy="3084480"/>
              </a:xfrm>
            </p:grpSpPr>
            <p:sp>
              <p:nvSpPr>
                <p:cNvPr id="297" name="Freeform 64"/>
                <p:cNvSpPr/>
                <p:nvPr/>
              </p:nvSpPr>
              <p:spPr>
                <a:xfrm rot="20818800">
                  <a:off x="4228200" y="388080"/>
                  <a:ext cx="1036800" cy="23097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Group 65"/>
                <p:cNvGrpSpPr/>
                <p:nvPr/>
              </p:nvGrpSpPr>
              <p:grpSpPr>
                <a:xfrm>
                  <a:off x="3881160" y="644040"/>
                  <a:ext cx="916920" cy="2741400"/>
                  <a:chOff x="3881160" y="644040"/>
                  <a:chExt cx="916920" cy="2741400"/>
                </a:xfrm>
              </p:grpSpPr>
              <p:sp>
                <p:nvSpPr>
                  <p:cNvPr id="299" name="Freeform 66"/>
                  <p:cNvSpPr/>
                  <p:nvPr/>
                </p:nvSpPr>
                <p:spPr>
                  <a:xfrm rot="20818800">
                    <a:off x="4172400" y="756000"/>
                    <a:ext cx="334080" cy="2625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Oval 67"/>
                  <p:cNvSpPr/>
                  <p:nvPr/>
                </p:nvSpPr>
                <p:spPr>
                  <a:xfrm rot="20818800">
                    <a:off x="4035240" y="684360"/>
                    <a:ext cx="40032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1" name="Group 11"/>
          <p:cNvGrpSpPr/>
          <p:nvPr/>
        </p:nvGrpSpPr>
        <p:grpSpPr>
          <a:xfrm>
            <a:off x="1029960" y="2016000"/>
            <a:ext cx="6788520" cy="2811240"/>
            <a:chOff x="1029960" y="2016000"/>
            <a:chExt cx="6788520" cy="2811240"/>
          </a:xfrm>
        </p:grpSpPr>
        <p:grpSp>
          <p:nvGrpSpPr>
            <p:cNvPr id="302" name="Group 12"/>
            <p:cNvGrpSpPr/>
            <p:nvPr/>
          </p:nvGrpSpPr>
          <p:grpSpPr>
            <a:xfrm>
              <a:off x="4453200" y="2939040"/>
              <a:ext cx="3365280" cy="1888200"/>
              <a:chOff x="4453200" y="2939040"/>
              <a:chExt cx="3365280" cy="1888200"/>
            </a:xfrm>
          </p:grpSpPr>
          <p:sp>
            <p:nvSpPr>
              <p:cNvPr id="303" name="Freeform 13"/>
              <p:cNvSpPr/>
              <p:nvPr/>
            </p:nvSpPr>
            <p:spPr>
              <a:xfrm rot="4853400">
                <a:off x="5517360" y="2357280"/>
                <a:ext cx="1375920" cy="3047400"/>
              </a:xfrm>
              <a:prstGeom prst="pie">
                <a:avLst/>
              </a:pr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4"/>
              <p:cNvSpPr/>
              <p:nvPr/>
            </p:nvSpPr>
            <p:spPr>
              <a:xfrm rot="4853400">
                <a:off x="4881960" y="4313160"/>
                <a:ext cx="346680" cy="592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5"/>
              <p:cNvSpPr/>
              <p:nvPr/>
            </p:nvSpPr>
            <p:spPr>
              <a:xfrm rot="4853400">
                <a:off x="4838040" y="4629960"/>
                <a:ext cx="132480" cy="22500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Group 16"/>
              <p:cNvGrpSpPr/>
              <p:nvPr/>
            </p:nvGrpSpPr>
            <p:grpSpPr>
              <a:xfrm>
                <a:off x="4453200" y="2939040"/>
                <a:ext cx="3363840" cy="1741320"/>
                <a:chOff x="4453200" y="2939040"/>
                <a:chExt cx="3363840" cy="1741320"/>
              </a:xfrm>
            </p:grpSpPr>
            <p:sp>
              <p:nvSpPr>
                <p:cNvPr id="307" name="Freeform 17"/>
                <p:cNvSpPr/>
                <p:nvPr/>
              </p:nvSpPr>
              <p:spPr>
                <a:xfrm rot="4851000">
                  <a:off x="5842440" y="2589840"/>
                  <a:ext cx="1217160" cy="2570400"/>
                </a:xfrm>
                <a:prstGeom prst="pie">
                  <a:avLst/>
                </a:prstGeom>
                <a:solidFill>
                  <a:srgbClr val="98480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Group 18"/>
                <p:cNvGrpSpPr/>
                <p:nvPr/>
              </p:nvGrpSpPr>
              <p:grpSpPr>
                <a:xfrm>
                  <a:off x="4453200" y="2939040"/>
                  <a:ext cx="3055320" cy="853920"/>
                  <a:chOff x="4453200" y="2939040"/>
                  <a:chExt cx="3055320" cy="853920"/>
                </a:xfrm>
              </p:grpSpPr>
              <p:sp>
                <p:nvSpPr>
                  <p:cNvPr id="309" name="Freeform 19"/>
                  <p:cNvSpPr/>
                  <p:nvPr/>
                </p:nvSpPr>
                <p:spPr>
                  <a:xfrm rot="4853400">
                    <a:off x="5730840" y="1902960"/>
                    <a:ext cx="396360" cy="2925720"/>
                  </a:xfrm>
                  <a:prstGeom prst="pi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20"/>
                  <p:cNvSpPr/>
                  <p:nvPr/>
                </p:nvSpPr>
                <p:spPr>
                  <a:xfrm rot="4853400">
                    <a:off x="7022880" y="3133800"/>
                    <a:ext cx="472320" cy="42876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1" name="Group 21"/>
            <p:cNvGrpSpPr/>
            <p:nvPr/>
          </p:nvGrpSpPr>
          <p:grpSpPr>
            <a:xfrm>
              <a:off x="1029960" y="2016000"/>
              <a:ext cx="3386160" cy="1915200"/>
              <a:chOff x="1029960" y="2016000"/>
              <a:chExt cx="3386160" cy="1915200"/>
            </a:xfrm>
          </p:grpSpPr>
          <p:sp>
            <p:nvSpPr>
              <p:cNvPr id="312" name="Freeform 22"/>
              <p:cNvSpPr/>
              <p:nvPr/>
            </p:nvSpPr>
            <p:spPr>
              <a:xfrm rot="15595200">
                <a:off x="1962720" y="1455120"/>
                <a:ext cx="135432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3"/>
              <p:cNvSpPr/>
              <p:nvPr/>
            </p:nvSpPr>
            <p:spPr>
              <a:xfrm rot="15595200">
                <a:off x="3602160" y="1941120"/>
                <a:ext cx="34164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4"/>
              <p:cNvSpPr/>
              <p:nvPr/>
            </p:nvSpPr>
            <p:spPr>
              <a:xfrm rot="15595200">
                <a:off x="3855600" y="1997640"/>
                <a:ext cx="13068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25"/>
              <p:cNvGrpSpPr/>
              <p:nvPr/>
            </p:nvGrpSpPr>
            <p:grpSpPr>
              <a:xfrm>
                <a:off x="1058760" y="2189880"/>
                <a:ext cx="3357360" cy="1741320"/>
                <a:chOff x="1058760" y="2189880"/>
                <a:chExt cx="3357360" cy="1741320"/>
              </a:xfrm>
            </p:grpSpPr>
            <p:sp>
              <p:nvSpPr>
                <p:cNvPr id="316" name="Freeform 26"/>
                <p:cNvSpPr/>
                <p:nvPr/>
              </p:nvSpPr>
              <p:spPr>
                <a:xfrm rot="15595200">
                  <a:off x="1817280" y="1727280"/>
                  <a:ext cx="118260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Group 27"/>
                <p:cNvGrpSpPr/>
                <p:nvPr/>
              </p:nvGrpSpPr>
              <p:grpSpPr>
                <a:xfrm>
                  <a:off x="1405800" y="3052080"/>
                  <a:ext cx="3010320" cy="879120"/>
                  <a:chOff x="1405800" y="3052080"/>
                  <a:chExt cx="3010320" cy="879120"/>
                </a:xfrm>
              </p:grpSpPr>
              <p:sp>
                <p:nvSpPr>
                  <p:cNvPr id="318" name="Freeform 28"/>
                  <p:cNvSpPr/>
                  <p:nvPr/>
                </p:nvSpPr>
                <p:spPr>
                  <a:xfrm rot="15595200">
                    <a:off x="2775240" y="2052720"/>
                    <a:ext cx="38124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Oval 29"/>
                  <p:cNvSpPr/>
                  <p:nvPr/>
                </p:nvSpPr>
                <p:spPr>
                  <a:xfrm rot="15595200">
                    <a:off x="1424880" y="3320280"/>
                    <a:ext cx="45648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0" name="Group 11"/>
          <p:cNvGrpSpPr/>
          <p:nvPr/>
        </p:nvGrpSpPr>
        <p:grpSpPr>
          <a:xfrm>
            <a:off x="911520" y="2045880"/>
            <a:ext cx="7007040" cy="2613600"/>
            <a:chOff x="911520" y="2045880"/>
            <a:chExt cx="7007040" cy="2613600"/>
          </a:xfrm>
        </p:grpSpPr>
        <p:grpSp>
          <p:nvGrpSpPr>
            <p:cNvPr id="321" name="Group 12"/>
            <p:cNvGrpSpPr/>
            <p:nvPr/>
          </p:nvGrpSpPr>
          <p:grpSpPr>
            <a:xfrm>
              <a:off x="911520" y="2136240"/>
              <a:ext cx="3486960" cy="2523240"/>
              <a:chOff x="911520" y="2136240"/>
              <a:chExt cx="3486960" cy="2523240"/>
            </a:xfrm>
          </p:grpSpPr>
          <p:sp>
            <p:nvSpPr>
              <p:cNvPr id="322" name="Freeform 13"/>
              <p:cNvSpPr/>
              <p:nvPr/>
            </p:nvSpPr>
            <p:spPr>
              <a:xfrm rot="14700600">
                <a:off x="1897920" y="1897200"/>
                <a:ext cx="1338840" cy="3030480"/>
              </a:xfrm>
              <a:prstGeom prst="pie">
                <a:avLst/>
              </a:pr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4"/>
              <p:cNvSpPr/>
              <p:nvPr/>
            </p:nvSpPr>
            <p:spPr>
              <a:xfrm rot="14700600">
                <a:off x="3266640" y="2119320"/>
                <a:ext cx="33732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5"/>
              <p:cNvSpPr/>
              <p:nvPr/>
            </p:nvSpPr>
            <p:spPr>
              <a:xfrm rot="14700600">
                <a:off x="3508920" y="2129760"/>
                <a:ext cx="129240" cy="22392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Group 16"/>
              <p:cNvGrpSpPr/>
              <p:nvPr/>
            </p:nvGrpSpPr>
            <p:grpSpPr>
              <a:xfrm>
                <a:off x="956880" y="2434320"/>
                <a:ext cx="3441600" cy="2172240"/>
                <a:chOff x="956880" y="2434320"/>
                <a:chExt cx="3441600" cy="2172240"/>
              </a:xfrm>
            </p:grpSpPr>
            <p:sp>
              <p:nvSpPr>
                <p:cNvPr id="326" name="Freeform 17"/>
                <p:cNvSpPr/>
                <p:nvPr/>
              </p:nvSpPr>
              <p:spPr>
                <a:xfrm rot="14697000">
                  <a:off x="1773720" y="2221560"/>
                  <a:ext cx="1141920" cy="2530080"/>
                </a:xfrm>
                <a:prstGeom prst="pie">
                  <a:avLst/>
                </a:prstGeom>
                <a:solidFill>
                  <a:srgbClr val="98480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7" name="Group 18"/>
                <p:cNvGrpSpPr/>
                <p:nvPr/>
              </p:nvGrpSpPr>
              <p:grpSpPr>
                <a:xfrm>
                  <a:off x="1479240" y="3056400"/>
                  <a:ext cx="2919240" cy="1550160"/>
                  <a:chOff x="1479240" y="3056400"/>
                  <a:chExt cx="2919240" cy="1550160"/>
                </a:xfrm>
              </p:grpSpPr>
              <p:sp>
                <p:nvSpPr>
                  <p:cNvPr id="328" name="Freeform 19"/>
                  <p:cNvSpPr/>
                  <p:nvPr/>
                </p:nvSpPr>
                <p:spPr>
                  <a:xfrm rot="14700600">
                    <a:off x="2832480" y="2395440"/>
                    <a:ext cx="371880" cy="2871720"/>
                  </a:xfrm>
                  <a:prstGeom prst="pi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Oval 20"/>
                  <p:cNvSpPr/>
                  <p:nvPr/>
                </p:nvSpPr>
                <p:spPr>
                  <a:xfrm rot="14700600">
                    <a:off x="1541520" y="4007520"/>
                    <a:ext cx="443160" cy="42012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0" name="Group 21"/>
            <p:cNvGrpSpPr/>
            <p:nvPr/>
          </p:nvGrpSpPr>
          <p:grpSpPr>
            <a:xfrm>
              <a:off x="4428360" y="2045880"/>
              <a:ext cx="3490200" cy="2569680"/>
              <a:chOff x="4428360" y="2045880"/>
              <a:chExt cx="3490200" cy="2569680"/>
            </a:xfrm>
          </p:grpSpPr>
          <p:sp>
            <p:nvSpPr>
              <p:cNvPr id="331" name="Freeform 22"/>
              <p:cNvSpPr/>
              <p:nvPr/>
            </p:nvSpPr>
            <p:spPr>
              <a:xfrm rot="3841800">
                <a:off x="5584320" y="1801800"/>
                <a:ext cx="135180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3"/>
              <p:cNvSpPr/>
              <p:nvPr/>
            </p:nvSpPr>
            <p:spPr>
              <a:xfrm rot="3841800">
                <a:off x="5200920" y="403848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4"/>
              <p:cNvSpPr/>
              <p:nvPr/>
            </p:nvSpPr>
            <p:spPr>
              <a:xfrm rot="3841800">
                <a:off x="5198400" y="438228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25"/>
              <p:cNvGrpSpPr/>
              <p:nvPr/>
            </p:nvGrpSpPr>
            <p:grpSpPr>
              <a:xfrm>
                <a:off x="4428360" y="2104560"/>
                <a:ext cx="3445200" cy="2211840"/>
                <a:chOff x="4428360" y="2104560"/>
                <a:chExt cx="3445200" cy="2211840"/>
              </a:xfrm>
            </p:grpSpPr>
            <p:sp>
              <p:nvSpPr>
                <p:cNvPr id="335" name="Freeform 26"/>
                <p:cNvSpPr/>
                <p:nvPr/>
              </p:nvSpPr>
              <p:spPr>
                <a:xfrm rot="3841800">
                  <a:off x="5886360" y="1964880"/>
                  <a:ext cx="118080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6" name="Group 27"/>
                <p:cNvGrpSpPr/>
                <p:nvPr/>
              </p:nvGrpSpPr>
              <p:grpSpPr>
                <a:xfrm>
                  <a:off x="4428360" y="2104560"/>
                  <a:ext cx="2917800" cy="1602360"/>
                  <a:chOff x="4428360" y="2104560"/>
                  <a:chExt cx="2917800" cy="1602360"/>
                </a:xfrm>
              </p:grpSpPr>
              <p:sp>
                <p:nvSpPr>
                  <p:cNvPr id="337" name="Freeform 28"/>
                  <p:cNvSpPr/>
                  <p:nvPr/>
                </p:nvSpPr>
                <p:spPr>
                  <a:xfrm rot="3841800">
                    <a:off x="5614920" y="146664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Oval 29"/>
                  <p:cNvSpPr/>
                  <p:nvPr/>
                </p:nvSpPr>
                <p:spPr>
                  <a:xfrm rot="3841800">
                    <a:off x="6828480" y="229716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39" name="Овал 112"/>
          <p:cNvSpPr/>
          <p:nvPr/>
        </p:nvSpPr>
        <p:spPr>
          <a:xfrm>
            <a:off x="3306600" y="4233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13"/>
          <p:cNvSpPr/>
          <p:nvPr/>
        </p:nvSpPr>
        <p:spPr>
          <a:xfrm>
            <a:off x="3092400" y="254808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114"/>
          <p:cNvSpPr/>
          <p:nvPr/>
        </p:nvSpPr>
        <p:spPr>
          <a:xfrm>
            <a:off x="5280120" y="250668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115"/>
          <p:cNvSpPr/>
          <p:nvPr/>
        </p:nvSpPr>
        <p:spPr>
          <a:xfrm>
            <a:off x="5508720" y="41497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156"/>
          <p:cNvSpPr/>
          <p:nvPr/>
        </p:nvSpPr>
        <p:spPr>
          <a:xfrm flipH="1">
            <a:off x="3849480" y="2968560"/>
            <a:ext cx="214200" cy="21420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158"/>
          <p:cNvSpPr/>
          <p:nvPr/>
        </p:nvSpPr>
        <p:spPr>
          <a:xfrm flipH="1">
            <a:off x="4778280" y="3581280"/>
            <a:ext cx="214560" cy="21456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160"/>
          <p:cNvSpPr/>
          <p:nvPr/>
        </p:nvSpPr>
        <p:spPr>
          <a:xfrm>
            <a:off x="3747960" y="3781440"/>
            <a:ext cx="285840" cy="14292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161"/>
          <p:cNvSpPr/>
          <p:nvPr/>
        </p:nvSpPr>
        <p:spPr>
          <a:xfrm>
            <a:off x="4819680" y="2867040"/>
            <a:ext cx="285840" cy="14292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62"/>
          <p:cNvSpPr/>
          <p:nvPr/>
        </p:nvSpPr>
        <p:spPr>
          <a:xfrm>
            <a:off x="4748040" y="2911320"/>
            <a:ext cx="285840" cy="14292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163"/>
          <p:cNvSpPr/>
          <p:nvPr/>
        </p:nvSpPr>
        <p:spPr>
          <a:xfrm>
            <a:off x="3819600" y="3724200"/>
            <a:ext cx="285840" cy="14292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Построение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18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20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22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23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7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5"/>
          <p:cNvSpPr/>
          <p:nvPr/>
        </p:nvSpPr>
        <p:spPr>
          <a:xfrm>
            <a:off x="357120" y="4429080"/>
            <a:ext cx="2428920" cy="1285920"/>
          </a:xfrm>
          <a:prstGeom prst="parallelogram">
            <a:avLst>
              <a:gd name="adj" fmla="val 63023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Свойства параллелограм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28800" y="1571400"/>
            <a:ext cx="78292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ивоположные стороны ра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ивоположные углы ра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агонали параллелограмма точкой пересечения делятся попол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3000240" y="4500720"/>
            <a:ext cx="2500560" cy="1285560"/>
          </a:xfrm>
          <a:prstGeom prst="parallelogram">
            <a:avLst>
              <a:gd name="adj" fmla="val 63054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rc 28"/>
          <p:cNvSpPr/>
          <p:nvPr/>
        </p:nvSpPr>
        <p:spPr>
          <a:xfrm rot="163200">
            <a:off x="3137040" y="5503680"/>
            <a:ext cx="1555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rc 28"/>
          <p:cNvSpPr/>
          <p:nvPr/>
        </p:nvSpPr>
        <p:spPr>
          <a:xfrm rot="163200">
            <a:off x="3206520" y="5433480"/>
            <a:ext cx="233280" cy="347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rc 28"/>
          <p:cNvSpPr/>
          <p:nvPr/>
        </p:nvSpPr>
        <p:spPr>
          <a:xfrm rot="10426800">
            <a:off x="5087520" y="4485960"/>
            <a:ext cx="254160" cy="295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rc 28"/>
          <p:cNvSpPr/>
          <p:nvPr/>
        </p:nvSpPr>
        <p:spPr>
          <a:xfrm rot="10426800">
            <a:off x="5019480" y="4513320"/>
            <a:ext cx="247320" cy="358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rc 28"/>
          <p:cNvSpPr/>
          <p:nvPr/>
        </p:nvSpPr>
        <p:spPr>
          <a:xfrm rot="6040800">
            <a:off x="3783600" y="4417200"/>
            <a:ext cx="290520" cy="380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rc 28"/>
          <p:cNvSpPr/>
          <p:nvPr/>
        </p:nvSpPr>
        <p:spPr>
          <a:xfrm rot="16983000">
            <a:off x="4502880" y="5494680"/>
            <a:ext cx="290520" cy="380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12"/>
          <p:cNvSpPr/>
          <p:nvPr/>
        </p:nvSpPr>
        <p:spPr>
          <a:xfrm flipH="1">
            <a:off x="1784520" y="4287960"/>
            <a:ext cx="1440" cy="2854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13"/>
          <p:cNvSpPr/>
          <p:nvPr/>
        </p:nvSpPr>
        <p:spPr>
          <a:xfrm flipH="1">
            <a:off x="1285920" y="5572080"/>
            <a:ext cx="1440" cy="2858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14"/>
          <p:cNvSpPr/>
          <p:nvPr/>
        </p:nvSpPr>
        <p:spPr>
          <a:xfrm>
            <a:off x="714240" y="5000760"/>
            <a:ext cx="284400" cy="14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16"/>
          <p:cNvSpPr/>
          <p:nvPr/>
        </p:nvSpPr>
        <p:spPr>
          <a:xfrm>
            <a:off x="785880" y="4857840"/>
            <a:ext cx="284040" cy="14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7"/>
          <p:cNvSpPr/>
          <p:nvPr/>
        </p:nvSpPr>
        <p:spPr>
          <a:xfrm>
            <a:off x="2286000" y="5000760"/>
            <a:ext cx="284040" cy="14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8"/>
          <p:cNvSpPr/>
          <p:nvPr/>
        </p:nvSpPr>
        <p:spPr>
          <a:xfrm>
            <a:off x="2214720" y="5143680"/>
            <a:ext cx="284040" cy="14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5929200" y="4500720"/>
            <a:ext cx="2571840" cy="1214280"/>
          </a:xfrm>
          <a:prstGeom prst="parallelogram">
            <a:avLst>
              <a:gd name="adj" fmla="val 63040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23"/>
          <p:cNvSpPr/>
          <p:nvPr/>
        </p:nvSpPr>
        <p:spPr>
          <a:xfrm flipH="1">
            <a:off x="5929200" y="4500000"/>
            <a:ext cx="2571840" cy="12142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26"/>
          <p:cNvSpPr/>
          <p:nvPr/>
        </p:nvSpPr>
        <p:spPr>
          <a:xfrm>
            <a:off x="6716160" y="4500720"/>
            <a:ext cx="998280" cy="12142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8"/>
          <p:cNvSpPr/>
          <p:nvPr/>
        </p:nvSpPr>
        <p:spPr>
          <a:xfrm>
            <a:off x="7644600" y="4786200"/>
            <a:ext cx="141480" cy="21456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31"/>
          <p:cNvSpPr/>
          <p:nvPr/>
        </p:nvSpPr>
        <p:spPr>
          <a:xfrm>
            <a:off x="6714360" y="5214960"/>
            <a:ext cx="141480" cy="21420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32"/>
          <p:cNvSpPr/>
          <p:nvPr/>
        </p:nvSpPr>
        <p:spPr>
          <a:xfrm flipH="1">
            <a:off x="6857640" y="4714200"/>
            <a:ext cx="214200" cy="1429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34"/>
          <p:cNvSpPr/>
          <p:nvPr/>
        </p:nvSpPr>
        <p:spPr>
          <a:xfrm flipH="1">
            <a:off x="6929280" y="4785480"/>
            <a:ext cx="214560" cy="1429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35"/>
          <p:cNvSpPr/>
          <p:nvPr/>
        </p:nvSpPr>
        <p:spPr>
          <a:xfrm flipH="1">
            <a:off x="7286400" y="5285520"/>
            <a:ext cx="214200" cy="1429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36"/>
          <p:cNvSpPr/>
          <p:nvPr/>
        </p:nvSpPr>
        <p:spPr>
          <a:xfrm flipH="1">
            <a:off x="7357680" y="5357160"/>
            <a:ext cx="214200" cy="1429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357120" y="593244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Группа 19"/>
          <p:cNvGrpSpPr/>
          <p:nvPr/>
        </p:nvGrpSpPr>
        <p:grpSpPr>
          <a:xfrm>
            <a:off x="1096920" y="285840"/>
            <a:ext cx="7647120" cy="6000120"/>
            <a:chOff x="1096920" y="285840"/>
            <a:chExt cx="7647120" cy="6000120"/>
          </a:xfrm>
        </p:grpSpPr>
        <p:sp>
          <p:nvSpPr>
            <p:cNvPr id="378" name="Line 11"/>
            <p:cNvSpPr/>
            <p:nvPr/>
          </p:nvSpPr>
          <p:spPr>
            <a:xfrm>
              <a:off x="1096920" y="5820120"/>
              <a:ext cx="6880320" cy="6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3530520" y="2416320"/>
              <a:ext cx="4446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 flipV="1">
              <a:off x="1096920" y="2416320"/>
              <a:ext cx="2433600" cy="3403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5543640" y="2416320"/>
              <a:ext cx="2433600" cy="3403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7"/>
            <p:cNvSpPr/>
            <p:nvPr/>
          </p:nvSpPr>
          <p:spPr>
            <a:xfrm>
              <a:off x="3425760" y="547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2"/>
            <p:cNvSpPr/>
            <p:nvPr/>
          </p:nvSpPr>
          <p:spPr>
            <a:xfrm>
              <a:off x="3100320" y="192888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4"/>
            <p:cNvSpPr/>
            <p:nvPr/>
          </p:nvSpPr>
          <p:spPr>
            <a:xfrm>
              <a:off x="5543640" y="582012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5"/>
            <p:cNvSpPr/>
            <p:nvPr/>
          </p:nvSpPr>
          <p:spPr>
            <a:xfrm>
              <a:off x="3500280" y="250020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7"/>
            <p:cNvSpPr/>
            <p:nvPr/>
          </p:nvSpPr>
          <p:spPr>
            <a:xfrm>
              <a:off x="8002440" y="1955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rc 28"/>
            <p:cNvSpPr/>
            <p:nvPr/>
          </p:nvSpPr>
          <p:spPr>
            <a:xfrm>
              <a:off x="5921640" y="5335920"/>
              <a:ext cx="303120" cy="43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6224760" y="516096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0"/>
            <p:cNvSpPr/>
            <p:nvPr/>
          </p:nvSpPr>
          <p:spPr>
            <a:xfrm>
              <a:off x="7826760" y="582624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1"/>
            <p:cNvSpPr/>
            <p:nvPr/>
          </p:nvSpPr>
          <p:spPr>
            <a:xfrm>
              <a:off x="5143680" y="285840"/>
              <a:ext cx="360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 – параллелограм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5"/>
            <p:cNvSpPr/>
            <p:nvPr/>
          </p:nvSpPr>
          <p:spPr>
            <a:xfrm>
              <a:off x="1500120" y="528660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5"/>
            <p:cNvSpPr/>
            <p:nvPr/>
          </p:nvSpPr>
          <p:spPr>
            <a:xfrm>
              <a:off x="5072040" y="535788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25"/>
            <p:cNvSpPr/>
            <p:nvPr/>
          </p:nvSpPr>
          <p:spPr>
            <a:xfrm>
              <a:off x="7072560" y="242892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Группа 24"/>
          <p:cNvGrpSpPr/>
          <p:nvPr/>
        </p:nvGrpSpPr>
        <p:grpSpPr>
          <a:xfrm>
            <a:off x="857160" y="285840"/>
            <a:ext cx="7886880" cy="5960520"/>
            <a:chOff x="857160" y="285840"/>
            <a:chExt cx="7886880" cy="5960520"/>
          </a:xfrm>
        </p:grpSpPr>
        <p:sp>
          <p:nvSpPr>
            <p:cNvPr id="396" name="Line 11"/>
            <p:cNvSpPr/>
            <p:nvPr/>
          </p:nvSpPr>
          <p:spPr>
            <a:xfrm flipV="1">
              <a:off x="1096560" y="5773320"/>
              <a:ext cx="4475160" cy="45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2"/>
            <p:cNvSpPr/>
            <p:nvPr/>
          </p:nvSpPr>
          <p:spPr>
            <a:xfrm>
              <a:off x="3286080" y="2357280"/>
              <a:ext cx="4572000" cy="71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1096560" y="2356920"/>
              <a:ext cx="2260440" cy="3462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4"/>
            <p:cNvSpPr/>
            <p:nvPr/>
          </p:nvSpPr>
          <p:spPr>
            <a:xfrm flipV="1">
              <a:off x="5543640" y="2428560"/>
              <a:ext cx="2314440" cy="3390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>
              <a:off x="3425760" y="547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2"/>
            <p:cNvSpPr/>
            <p:nvPr/>
          </p:nvSpPr>
          <p:spPr>
            <a:xfrm>
              <a:off x="3100320" y="192888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3"/>
            <p:cNvSpPr/>
            <p:nvPr/>
          </p:nvSpPr>
          <p:spPr>
            <a:xfrm>
              <a:off x="857160" y="57150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24"/>
            <p:cNvSpPr/>
            <p:nvPr/>
          </p:nvSpPr>
          <p:spPr>
            <a:xfrm>
              <a:off x="5500800" y="578664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25"/>
            <p:cNvSpPr/>
            <p:nvPr/>
          </p:nvSpPr>
          <p:spPr>
            <a:xfrm>
              <a:off x="6929640" y="192888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7"/>
            <p:cNvSpPr/>
            <p:nvPr/>
          </p:nvSpPr>
          <p:spPr>
            <a:xfrm>
              <a:off x="7872480" y="20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28"/>
            <p:cNvSpPr/>
            <p:nvPr/>
          </p:nvSpPr>
          <p:spPr>
            <a:xfrm>
              <a:off x="1928520" y="5357880"/>
              <a:ext cx="303120" cy="43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9"/>
            <p:cNvSpPr/>
            <p:nvPr/>
          </p:nvSpPr>
          <p:spPr>
            <a:xfrm>
              <a:off x="2214360" y="514368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143680" y="285840"/>
              <a:ext cx="360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 – параллелограм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3"/>
            <p:cNvSpPr/>
            <p:nvPr/>
          </p:nvSpPr>
          <p:spPr>
            <a:xfrm flipV="1">
              <a:off x="1142640" y="2428920"/>
              <a:ext cx="6000840" cy="3357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Прямая соединительная линия 21"/>
            <p:cNvSpPr/>
            <p:nvPr/>
          </p:nvSpPr>
          <p:spPr>
            <a:xfrm>
              <a:off x="2428560" y="3429000"/>
              <a:ext cx="357120" cy="21420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Прямая соединительная линия 22"/>
            <p:cNvSpPr/>
            <p:nvPr/>
          </p:nvSpPr>
          <p:spPr>
            <a:xfrm>
              <a:off x="2357280" y="3571920"/>
              <a:ext cx="357120" cy="21420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23"/>
            <p:cNvSpPr/>
            <p:nvPr/>
          </p:nvSpPr>
          <p:spPr>
            <a:xfrm flipH="1">
              <a:off x="4500720" y="2286000"/>
              <a:ext cx="1440" cy="3571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25"/>
            <p:cNvSpPr/>
            <p:nvPr/>
          </p:nvSpPr>
          <p:spPr>
            <a:xfrm flipH="1">
              <a:off x="4714920" y="2286000"/>
              <a:ext cx="1440" cy="3571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5" name="Группа 20"/>
          <p:cNvGrpSpPr/>
          <p:nvPr/>
        </p:nvGrpSpPr>
        <p:grpSpPr>
          <a:xfrm>
            <a:off x="857160" y="285840"/>
            <a:ext cx="7886880" cy="5960520"/>
            <a:chOff x="857160" y="285840"/>
            <a:chExt cx="7886880" cy="5960520"/>
          </a:xfrm>
        </p:grpSpPr>
        <p:sp>
          <p:nvSpPr>
            <p:cNvPr id="416" name="Line 11"/>
            <p:cNvSpPr/>
            <p:nvPr/>
          </p:nvSpPr>
          <p:spPr>
            <a:xfrm flipV="1">
              <a:off x="1096560" y="5773320"/>
              <a:ext cx="4475160" cy="45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2"/>
            <p:cNvSpPr/>
            <p:nvPr/>
          </p:nvSpPr>
          <p:spPr>
            <a:xfrm>
              <a:off x="3286080" y="2357280"/>
              <a:ext cx="4572000" cy="71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3"/>
            <p:cNvSpPr/>
            <p:nvPr/>
          </p:nvSpPr>
          <p:spPr>
            <a:xfrm flipV="1">
              <a:off x="1096560" y="2356920"/>
              <a:ext cx="2260440" cy="3462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4"/>
            <p:cNvSpPr/>
            <p:nvPr/>
          </p:nvSpPr>
          <p:spPr>
            <a:xfrm flipV="1">
              <a:off x="5543640" y="2428560"/>
              <a:ext cx="2314440" cy="3390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7"/>
            <p:cNvSpPr/>
            <p:nvPr/>
          </p:nvSpPr>
          <p:spPr>
            <a:xfrm>
              <a:off x="3425760" y="547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3100320" y="192888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3"/>
            <p:cNvSpPr/>
            <p:nvPr/>
          </p:nvSpPr>
          <p:spPr>
            <a:xfrm>
              <a:off x="857160" y="57150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4"/>
            <p:cNvSpPr/>
            <p:nvPr/>
          </p:nvSpPr>
          <p:spPr>
            <a:xfrm>
              <a:off x="5500800" y="578664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6500880" y="435780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7"/>
            <p:cNvSpPr/>
            <p:nvPr/>
          </p:nvSpPr>
          <p:spPr>
            <a:xfrm>
              <a:off x="7872480" y="20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rc 28"/>
            <p:cNvSpPr/>
            <p:nvPr/>
          </p:nvSpPr>
          <p:spPr>
            <a:xfrm rot="3694200">
              <a:off x="4112640" y="2447640"/>
              <a:ext cx="303120" cy="43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9"/>
            <p:cNvSpPr/>
            <p:nvPr/>
          </p:nvSpPr>
          <p:spPr>
            <a:xfrm>
              <a:off x="4357800" y="242892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1"/>
            <p:cNvSpPr/>
            <p:nvPr/>
          </p:nvSpPr>
          <p:spPr>
            <a:xfrm>
              <a:off x="5143680" y="285840"/>
              <a:ext cx="360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 – параллелограм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3"/>
            <p:cNvSpPr/>
            <p:nvPr/>
          </p:nvSpPr>
          <p:spPr>
            <a:xfrm>
              <a:off x="3357360" y="2357280"/>
              <a:ext cx="3143160" cy="2071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Прямая соединительная линия 23"/>
            <p:cNvSpPr/>
            <p:nvPr/>
          </p:nvSpPr>
          <p:spPr>
            <a:xfrm>
              <a:off x="6429600" y="3857760"/>
              <a:ext cx="285480" cy="21420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25"/>
            <p:cNvSpPr/>
            <p:nvPr/>
          </p:nvSpPr>
          <p:spPr>
            <a:xfrm flipH="1">
              <a:off x="6214680" y="3857760"/>
              <a:ext cx="214200" cy="3571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5"/>
            <p:cNvSpPr/>
            <p:nvPr/>
          </p:nvSpPr>
          <p:spPr>
            <a:xfrm>
              <a:off x="4316400" y="335592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 rot="18266400">
              <a:off x="1645560" y="3144600"/>
              <a:ext cx="128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Задач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Группа 22"/>
          <p:cNvGrpSpPr/>
          <p:nvPr/>
        </p:nvGrpSpPr>
        <p:grpSpPr>
          <a:xfrm>
            <a:off x="857160" y="142920"/>
            <a:ext cx="8001000" cy="6032160"/>
            <a:chOff x="857160" y="142920"/>
            <a:chExt cx="8001000" cy="6032160"/>
          </a:xfrm>
        </p:grpSpPr>
        <p:sp>
          <p:nvSpPr>
            <p:cNvPr id="436" name="Line 11"/>
            <p:cNvSpPr/>
            <p:nvPr/>
          </p:nvSpPr>
          <p:spPr>
            <a:xfrm flipV="1">
              <a:off x="1096560" y="5773680"/>
              <a:ext cx="5261040" cy="45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2"/>
            <p:cNvSpPr/>
            <p:nvPr/>
          </p:nvSpPr>
          <p:spPr>
            <a:xfrm flipV="1">
              <a:off x="1857240" y="2954160"/>
              <a:ext cx="5214960" cy="45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3"/>
            <p:cNvSpPr/>
            <p:nvPr/>
          </p:nvSpPr>
          <p:spPr>
            <a:xfrm flipV="1">
              <a:off x="1096560" y="3000600"/>
              <a:ext cx="831600" cy="281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4"/>
            <p:cNvSpPr/>
            <p:nvPr/>
          </p:nvSpPr>
          <p:spPr>
            <a:xfrm flipV="1">
              <a:off x="6286320" y="2928960"/>
              <a:ext cx="785520" cy="2890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7"/>
            <p:cNvSpPr/>
            <p:nvPr/>
          </p:nvSpPr>
          <p:spPr>
            <a:xfrm>
              <a:off x="3425760" y="547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22"/>
            <p:cNvSpPr/>
            <p:nvPr/>
          </p:nvSpPr>
          <p:spPr>
            <a:xfrm>
              <a:off x="1785600" y="250020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23"/>
            <p:cNvSpPr/>
            <p:nvPr/>
          </p:nvSpPr>
          <p:spPr>
            <a:xfrm>
              <a:off x="857160" y="571536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4"/>
            <p:cNvSpPr/>
            <p:nvPr/>
          </p:nvSpPr>
          <p:spPr>
            <a:xfrm>
              <a:off x="6143760" y="571536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25"/>
            <p:cNvSpPr/>
            <p:nvPr/>
          </p:nvSpPr>
          <p:spPr>
            <a:xfrm>
              <a:off x="4714920" y="250020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7"/>
            <p:cNvSpPr/>
            <p:nvPr/>
          </p:nvSpPr>
          <p:spPr>
            <a:xfrm>
              <a:off x="6872040" y="2500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rc 28"/>
            <p:cNvSpPr/>
            <p:nvPr/>
          </p:nvSpPr>
          <p:spPr>
            <a:xfrm rot="748800">
              <a:off x="1606320" y="5449680"/>
              <a:ext cx="225360" cy="3078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31"/>
            <p:cNvSpPr/>
            <p:nvPr/>
          </p:nvSpPr>
          <p:spPr>
            <a:xfrm>
              <a:off x="4429080" y="142920"/>
              <a:ext cx="4429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 –параллелограм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Найти: 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3"/>
            <p:cNvSpPr/>
            <p:nvPr/>
          </p:nvSpPr>
          <p:spPr>
            <a:xfrm>
              <a:off x="4786200" y="3000600"/>
              <a:ext cx="1500120" cy="2786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5"/>
            <p:cNvSpPr/>
            <p:nvPr/>
          </p:nvSpPr>
          <p:spPr>
            <a:xfrm>
              <a:off x="6715080" y="407196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3"/>
            <p:cNvSpPr/>
            <p:nvPr/>
          </p:nvSpPr>
          <p:spPr>
            <a:xfrm flipV="1">
              <a:off x="1142640" y="3000240"/>
              <a:ext cx="3643200" cy="2786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rc 28"/>
            <p:cNvSpPr/>
            <p:nvPr/>
          </p:nvSpPr>
          <p:spPr>
            <a:xfrm rot="21133800">
              <a:off x="1307520" y="5199120"/>
              <a:ext cx="209520" cy="333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rc 28"/>
            <p:cNvSpPr/>
            <p:nvPr/>
          </p:nvSpPr>
          <p:spPr>
            <a:xfrm rot="14788200">
              <a:off x="5852160" y="5388840"/>
              <a:ext cx="287280" cy="333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rc 28"/>
            <p:cNvSpPr/>
            <p:nvPr/>
          </p:nvSpPr>
          <p:spPr>
            <a:xfrm rot="14788200">
              <a:off x="5719320" y="5329080"/>
              <a:ext cx="366480" cy="414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rc 28"/>
            <p:cNvSpPr/>
            <p:nvPr/>
          </p:nvSpPr>
          <p:spPr>
            <a:xfrm rot="18321000">
              <a:off x="6097320" y="5027400"/>
              <a:ext cx="306360" cy="395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rc 28"/>
            <p:cNvSpPr/>
            <p:nvPr/>
          </p:nvSpPr>
          <p:spPr>
            <a:xfrm rot="18321000">
              <a:off x="6026760" y="4897800"/>
              <a:ext cx="376200" cy="4348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Содержимое 2"/>
          <p:cNvSpPr/>
          <p:nvPr/>
        </p:nvSpPr>
        <p:spPr>
          <a:xfrm>
            <a:off x="1547640" y="1268280"/>
            <a:ext cx="6409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= 16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) 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10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С= 4 см, 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= 5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5 см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= 4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Книжки малыш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Мальчик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предметы, содержащие  параллелогра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Девочк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орнамент из геометрических фигур и параллелограм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Решение задач.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р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5"/>
          <p:cNvSpPr/>
          <p:nvPr/>
        </p:nvSpPr>
        <p:spPr>
          <a:xfrm>
            <a:off x="2195640" y="2708280"/>
            <a:ext cx="4786200" cy="1800360"/>
          </a:xfrm>
          <a:prstGeom prst="parallelogram">
            <a:avLst>
              <a:gd name="adj" fmla="val 1050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76640" y="404640"/>
            <a:ext cx="827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Хоть стороны мои попарно и равны,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Я все ж  в печали, что не равны мои диагон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Да и углы не делят попол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Но все ж скажи, дружок, кто 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260360" y="4941000"/>
            <a:ext cx="665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Печаль моя еще сильна и пото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что я не нужен ник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Флаг и герб Удмурт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K:\открытые уроки 2\udmurt93.gif"/>
          <p:cNvPicPr/>
          <p:nvPr/>
        </p:nvPicPr>
        <p:blipFill>
          <a:blip r:embed="rId2"/>
          <a:stretch/>
        </p:blipFill>
        <p:spPr>
          <a:xfrm>
            <a:off x="357120" y="1714680"/>
            <a:ext cx="4429080" cy="2214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Герб Удмуртской Республики"/>
          <p:cNvPicPr/>
          <p:nvPr/>
        </p:nvPicPr>
        <p:blipFill>
          <a:blip r:embed="rId3"/>
          <a:stretch/>
        </p:blipFill>
        <p:spPr>
          <a:xfrm>
            <a:off x="5643720" y="1571760"/>
            <a:ext cx="2643120" cy="27097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1357200" y="4429080"/>
            <a:ext cx="778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олярный 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лярные знаки, по преданию, оберегают человека от несчастий. Большой солярный знак является земным воплощением оберегающих сил, малые - космичес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32"/>
          <p:cNvGrpSpPr/>
          <p:nvPr/>
        </p:nvGrpSpPr>
        <p:grpSpPr>
          <a:xfrm>
            <a:off x="115200" y="4350240"/>
            <a:ext cx="1346400" cy="1381680"/>
            <a:chOff x="115200" y="4350240"/>
            <a:chExt cx="1346400" cy="1381680"/>
          </a:xfrm>
        </p:grpSpPr>
        <p:grpSp>
          <p:nvGrpSpPr>
            <p:cNvPr id="51" name="Группа 8"/>
            <p:cNvGrpSpPr/>
            <p:nvPr/>
          </p:nvGrpSpPr>
          <p:grpSpPr>
            <a:xfrm>
              <a:off x="547200" y="4351320"/>
              <a:ext cx="690840" cy="681840"/>
              <a:chOff x="547200" y="4351320"/>
              <a:chExt cx="690840" cy="681840"/>
            </a:xfrm>
          </p:grpSpPr>
          <p:sp>
            <p:nvSpPr>
              <p:cNvPr id="52" name="Прямоугольный треугольник 9"/>
              <p:cNvSpPr/>
              <p:nvPr/>
            </p:nvSpPr>
            <p:spPr>
              <a:xfrm rot="2791800">
                <a:off x="820800" y="4435560"/>
                <a:ext cx="363600" cy="30384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Прямоугольный треугольник 10"/>
              <p:cNvSpPr/>
              <p:nvPr/>
            </p:nvSpPr>
            <p:spPr>
              <a:xfrm flipH="1" flipV="1" rot="2791800">
                <a:off x="598680" y="4649040"/>
                <a:ext cx="362160" cy="2991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Группа 11"/>
            <p:cNvGrpSpPr/>
            <p:nvPr/>
          </p:nvGrpSpPr>
          <p:grpSpPr>
            <a:xfrm>
              <a:off x="768600" y="4798800"/>
              <a:ext cx="693000" cy="706680"/>
              <a:chOff x="768600" y="4798800"/>
              <a:chExt cx="693000" cy="706680"/>
            </a:xfrm>
          </p:grpSpPr>
          <p:sp>
            <p:nvSpPr>
              <p:cNvPr id="55" name="Прямоугольный треугольник 12"/>
              <p:cNvSpPr/>
              <p:nvPr/>
            </p:nvSpPr>
            <p:spPr>
              <a:xfrm rot="8198400">
                <a:off x="1055520" y="5104440"/>
                <a:ext cx="338760" cy="3297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Прямоугольный треугольник 13"/>
              <p:cNvSpPr/>
              <p:nvPr/>
            </p:nvSpPr>
            <p:spPr>
              <a:xfrm flipH="1" flipV="1" rot="8198400">
                <a:off x="835200" y="4870080"/>
                <a:ext cx="340200" cy="3297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Группа 14"/>
            <p:cNvGrpSpPr/>
            <p:nvPr/>
          </p:nvGrpSpPr>
          <p:grpSpPr>
            <a:xfrm>
              <a:off x="115200" y="4586760"/>
              <a:ext cx="691560" cy="704880"/>
              <a:chOff x="115200" y="4586760"/>
              <a:chExt cx="691560" cy="704880"/>
            </a:xfrm>
          </p:grpSpPr>
          <p:sp>
            <p:nvSpPr>
              <p:cNvPr id="58" name="Прямоугольный треугольник 15"/>
              <p:cNvSpPr/>
              <p:nvPr/>
            </p:nvSpPr>
            <p:spPr>
              <a:xfrm rot="19027800">
                <a:off x="176760" y="4663080"/>
                <a:ext cx="349920" cy="3189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Прямоугольный треугольник 16"/>
              <p:cNvSpPr/>
              <p:nvPr/>
            </p:nvSpPr>
            <p:spPr>
              <a:xfrm flipH="1" flipV="1" rot="19027800">
                <a:off x="396360" y="4896000"/>
                <a:ext cx="348480" cy="3189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Группа 17"/>
            <p:cNvGrpSpPr/>
            <p:nvPr/>
          </p:nvGrpSpPr>
          <p:grpSpPr>
            <a:xfrm>
              <a:off x="349560" y="5048640"/>
              <a:ext cx="688680" cy="682200"/>
              <a:chOff x="349560" y="5048640"/>
              <a:chExt cx="688680" cy="682200"/>
            </a:xfrm>
          </p:grpSpPr>
          <p:sp>
            <p:nvSpPr>
              <p:cNvPr id="61" name="Прямоугольный треугольник 18"/>
              <p:cNvSpPr/>
              <p:nvPr/>
            </p:nvSpPr>
            <p:spPr>
              <a:xfrm rot="2791800">
                <a:off x="623880" y="5131800"/>
                <a:ext cx="360360" cy="30312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Прямоугольный треугольник 19"/>
              <p:cNvSpPr/>
              <p:nvPr/>
            </p:nvSpPr>
            <p:spPr>
              <a:xfrm flipH="1" flipV="1" rot="2791800">
                <a:off x="402120" y="5344560"/>
                <a:ext cx="361800" cy="30168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Группа 20"/>
            <p:cNvGrpSpPr/>
            <p:nvPr/>
          </p:nvGrpSpPr>
          <p:grpSpPr>
            <a:xfrm>
              <a:off x="150120" y="4799160"/>
              <a:ext cx="668160" cy="704880"/>
              <a:chOff x="150120" y="4799160"/>
              <a:chExt cx="668160" cy="704880"/>
            </a:xfrm>
          </p:grpSpPr>
          <p:sp>
            <p:nvSpPr>
              <p:cNvPr id="64" name="Прямоугольный треугольник 21"/>
              <p:cNvSpPr/>
              <p:nvPr/>
            </p:nvSpPr>
            <p:spPr>
              <a:xfrm flipV="1" rot="13317600">
                <a:off x="425880" y="4869000"/>
                <a:ext cx="329760" cy="3135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Прямоугольный треугольник 22"/>
              <p:cNvSpPr/>
              <p:nvPr/>
            </p:nvSpPr>
            <p:spPr>
              <a:xfrm flipH="1" rot="13317600">
                <a:off x="213480" y="5115600"/>
                <a:ext cx="331200" cy="31824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Группа 23"/>
            <p:cNvGrpSpPr/>
            <p:nvPr/>
          </p:nvGrpSpPr>
          <p:grpSpPr>
            <a:xfrm>
              <a:off x="773640" y="4585320"/>
              <a:ext cx="662400" cy="711000"/>
              <a:chOff x="773640" y="4585320"/>
              <a:chExt cx="662400" cy="711000"/>
            </a:xfrm>
          </p:grpSpPr>
          <p:sp>
            <p:nvSpPr>
              <p:cNvPr id="67" name="Прямоугольный треугольник 24"/>
              <p:cNvSpPr/>
              <p:nvPr/>
            </p:nvSpPr>
            <p:spPr>
              <a:xfrm flipV="1" rot="2400000">
                <a:off x="837000" y="4905720"/>
                <a:ext cx="335520" cy="32004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оугольный треугольник 25"/>
              <p:cNvSpPr/>
              <p:nvPr/>
            </p:nvSpPr>
            <p:spPr>
              <a:xfrm flipH="1" rot="2400000">
                <a:off x="1039680" y="4653720"/>
                <a:ext cx="330840" cy="32328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Группа 26"/>
            <p:cNvGrpSpPr/>
            <p:nvPr/>
          </p:nvGrpSpPr>
          <p:grpSpPr>
            <a:xfrm>
              <a:off x="576360" y="5048640"/>
              <a:ext cx="711000" cy="683280"/>
              <a:chOff x="576360" y="5048640"/>
              <a:chExt cx="711000" cy="683280"/>
            </a:xfrm>
          </p:grpSpPr>
          <p:sp>
            <p:nvSpPr>
              <p:cNvPr id="70" name="Прямоугольный треугольник 27"/>
              <p:cNvSpPr/>
              <p:nvPr/>
            </p:nvSpPr>
            <p:spPr>
              <a:xfrm flipV="1" rot="7847400">
                <a:off x="630360" y="5132520"/>
                <a:ext cx="363240" cy="30960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Прямоугольный треугольник 28"/>
              <p:cNvSpPr/>
              <p:nvPr/>
            </p:nvSpPr>
            <p:spPr>
              <a:xfrm flipH="1" rot="7847400">
                <a:off x="869760" y="5338440"/>
                <a:ext cx="363240" cy="30960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Группа 29"/>
            <p:cNvGrpSpPr/>
            <p:nvPr/>
          </p:nvGrpSpPr>
          <p:grpSpPr>
            <a:xfrm>
              <a:off x="320760" y="4350240"/>
              <a:ext cx="692280" cy="664560"/>
              <a:chOff x="320760" y="4350240"/>
              <a:chExt cx="692280" cy="664560"/>
            </a:xfrm>
          </p:grpSpPr>
          <p:sp>
            <p:nvSpPr>
              <p:cNvPr id="73" name="Прямоугольный треугольник 30"/>
              <p:cNvSpPr/>
              <p:nvPr/>
            </p:nvSpPr>
            <p:spPr>
              <a:xfrm flipV="1" rot="7847400">
                <a:off x="367920" y="4435920"/>
                <a:ext cx="361440" cy="29052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Прямоугольный треугольник 31"/>
              <p:cNvSpPr/>
              <p:nvPr/>
            </p:nvSpPr>
            <p:spPr>
              <a:xfrm flipH="1" rot="7847400">
                <a:off x="601920" y="4633920"/>
                <a:ext cx="361440" cy="29520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Солярный зна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Группа 10"/>
          <p:cNvGrpSpPr/>
          <p:nvPr/>
        </p:nvGrpSpPr>
        <p:grpSpPr>
          <a:xfrm>
            <a:off x="3817440" y="2187720"/>
            <a:ext cx="1697400" cy="1669680"/>
            <a:chOff x="3817440" y="2187720"/>
            <a:chExt cx="1697400" cy="1669680"/>
          </a:xfrm>
        </p:grpSpPr>
        <p:sp>
          <p:nvSpPr>
            <p:cNvPr id="77" name="Прямоугольный треугольник 8"/>
            <p:cNvSpPr/>
            <p:nvPr/>
          </p:nvSpPr>
          <p:spPr>
            <a:xfrm rot="2791800">
              <a:off x="4517280" y="2377800"/>
              <a:ext cx="852840" cy="7646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оугольный треугольник 9"/>
            <p:cNvSpPr/>
            <p:nvPr/>
          </p:nvSpPr>
          <p:spPr>
            <a:xfrm flipH="1" flipV="1" rot="2791800">
              <a:off x="3961080" y="2903400"/>
              <a:ext cx="852840" cy="7632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Группа 11"/>
          <p:cNvGrpSpPr/>
          <p:nvPr/>
        </p:nvGrpSpPr>
        <p:grpSpPr>
          <a:xfrm>
            <a:off x="4393080" y="3253320"/>
            <a:ext cx="1670400" cy="1699200"/>
            <a:chOff x="4393080" y="3253320"/>
            <a:chExt cx="1670400" cy="1699200"/>
          </a:xfrm>
        </p:grpSpPr>
        <p:sp>
          <p:nvSpPr>
            <p:cNvPr id="80" name="Прямоугольный треугольник 12"/>
            <p:cNvSpPr/>
            <p:nvPr/>
          </p:nvSpPr>
          <p:spPr>
            <a:xfrm rot="8198400">
              <a:off x="5063400" y="4001040"/>
              <a:ext cx="855000" cy="761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Прямоугольный треугольник 13"/>
            <p:cNvSpPr/>
            <p:nvPr/>
          </p:nvSpPr>
          <p:spPr>
            <a:xfrm flipH="1" flipV="1" rot="8198400">
              <a:off x="4537080" y="3442680"/>
              <a:ext cx="855000" cy="760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Группа 14"/>
          <p:cNvGrpSpPr/>
          <p:nvPr/>
        </p:nvGrpSpPr>
        <p:grpSpPr>
          <a:xfrm>
            <a:off x="2750040" y="2754720"/>
            <a:ext cx="1667520" cy="1698120"/>
            <a:chOff x="2750040" y="2754720"/>
            <a:chExt cx="1667520" cy="1698120"/>
          </a:xfrm>
        </p:grpSpPr>
        <p:sp>
          <p:nvSpPr>
            <p:cNvPr id="83" name="Прямоугольный треугольник 15"/>
            <p:cNvSpPr/>
            <p:nvPr/>
          </p:nvSpPr>
          <p:spPr>
            <a:xfrm rot="19027800">
              <a:off x="2888280" y="2953440"/>
              <a:ext cx="879480" cy="75168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оугольный треугольник 16"/>
            <p:cNvSpPr/>
            <p:nvPr/>
          </p:nvSpPr>
          <p:spPr>
            <a:xfrm flipH="1" flipV="1" rot="19027800">
              <a:off x="3399480" y="3502440"/>
              <a:ext cx="879480" cy="75168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Группа 17"/>
          <p:cNvGrpSpPr/>
          <p:nvPr/>
        </p:nvGrpSpPr>
        <p:grpSpPr>
          <a:xfrm>
            <a:off x="3321720" y="3826440"/>
            <a:ext cx="1697040" cy="1670040"/>
            <a:chOff x="3321720" y="3826440"/>
            <a:chExt cx="1697040" cy="1670040"/>
          </a:xfrm>
        </p:grpSpPr>
        <p:sp>
          <p:nvSpPr>
            <p:cNvPr id="86" name="Прямоугольный треугольник 18"/>
            <p:cNvSpPr/>
            <p:nvPr/>
          </p:nvSpPr>
          <p:spPr>
            <a:xfrm rot="2791800">
              <a:off x="4020120" y="4017600"/>
              <a:ext cx="855000" cy="762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оугольный треугольник 19"/>
            <p:cNvSpPr/>
            <p:nvPr/>
          </p:nvSpPr>
          <p:spPr>
            <a:xfrm flipH="1" flipV="1" rot="2791800">
              <a:off x="3465000" y="4542120"/>
              <a:ext cx="855000" cy="762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20"/>
          <p:cNvGrpSpPr/>
          <p:nvPr/>
        </p:nvGrpSpPr>
        <p:grpSpPr>
          <a:xfrm>
            <a:off x="2822040" y="3253680"/>
            <a:ext cx="1643400" cy="1695240"/>
            <a:chOff x="2822040" y="3253680"/>
            <a:chExt cx="1643400" cy="1695240"/>
          </a:xfrm>
        </p:grpSpPr>
        <p:sp>
          <p:nvSpPr>
            <p:cNvPr id="89" name="Прямоугольный треугольник 21"/>
            <p:cNvSpPr/>
            <p:nvPr/>
          </p:nvSpPr>
          <p:spPr>
            <a:xfrm flipV="1" rot="13317600">
              <a:off x="3468960" y="3443040"/>
              <a:ext cx="854640" cy="75168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оугольный треугольник 22"/>
            <p:cNvSpPr/>
            <p:nvPr/>
          </p:nvSpPr>
          <p:spPr>
            <a:xfrm flipH="1" rot="13317600">
              <a:off x="2963880" y="4006440"/>
              <a:ext cx="854640" cy="7531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Группа 23"/>
          <p:cNvGrpSpPr/>
          <p:nvPr/>
        </p:nvGrpSpPr>
        <p:grpSpPr>
          <a:xfrm>
            <a:off x="4393440" y="2754360"/>
            <a:ext cx="1625040" cy="1704960"/>
            <a:chOff x="4393440" y="2754360"/>
            <a:chExt cx="1625040" cy="1704960"/>
          </a:xfrm>
        </p:grpSpPr>
        <p:sp>
          <p:nvSpPr>
            <p:cNvPr id="92" name="Прямоугольный треугольник 24"/>
            <p:cNvSpPr/>
            <p:nvPr/>
          </p:nvSpPr>
          <p:spPr>
            <a:xfrm flipV="1" rot="2400000">
              <a:off x="4535640" y="3518280"/>
              <a:ext cx="855000" cy="753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оугольный треугольник 25"/>
            <p:cNvSpPr/>
            <p:nvPr/>
          </p:nvSpPr>
          <p:spPr>
            <a:xfrm flipH="1" rot="2400000">
              <a:off x="5020920" y="2940840"/>
              <a:ext cx="855000" cy="753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Группа 26"/>
          <p:cNvGrpSpPr/>
          <p:nvPr/>
        </p:nvGrpSpPr>
        <p:grpSpPr>
          <a:xfrm>
            <a:off x="3893040" y="3827160"/>
            <a:ext cx="1748160" cy="1670400"/>
            <a:chOff x="3893040" y="3827160"/>
            <a:chExt cx="1748160" cy="1670400"/>
          </a:xfrm>
        </p:grpSpPr>
        <p:sp>
          <p:nvSpPr>
            <p:cNvPr id="95" name="Прямоугольный треугольник 27"/>
            <p:cNvSpPr/>
            <p:nvPr/>
          </p:nvSpPr>
          <p:spPr>
            <a:xfrm flipV="1" rot="7847400">
              <a:off x="4042080" y="4013280"/>
              <a:ext cx="853200" cy="7851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оугольный треугольник 28"/>
            <p:cNvSpPr/>
            <p:nvPr/>
          </p:nvSpPr>
          <p:spPr>
            <a:xfrm flipH="1" rot="7847400">
              <a:off x="4638240" y="4525200"/>
              <a:ext cx="853200" cy="7851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Группа 29"/>
          <p:cNvGrpSpPr/>
          <p:nvPr/>
        </p:nvGrpSpPr>
        <p:grpSpPr>
          <a:xfrm>
            <a:off x="3251160" y="2183040"/>
            <a:ext cx="1700280" cy="1631520"/>
            <a:chOff x="3251160" y="2183040"/>
            <a:chExt cx="1700280" cy="1631520"/>
          </a:xfrm>
        </p:grpSpPr>
        <p:sp>
          <p:nvSpPr>
            <p:cNvPr id="98" name="Прямоугольный треугольник 30"/>
            <p:cNvSpPr/>
            <p:nvPr/>
          </p:nvSpPr>
          <p:spPr>
            <a:xfrm flipV="1" rot="7847400">
              <a:off x="3386880" y="2375280"/>
              <a:ext cx="853200" cy="7502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оугольный треугольник 31"/>
            <p:cNvSpPr/>
            <p:nvPr/>
          </p:nvSpPr>
          <p:spPr>
            <a:xfrm flipH="1" rot="7847400">
              <a:off x="3960720" y="2869560"/>
              <a:ext cx="853200" cy="7524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L 0.12761 -0.07848 E">
                                      <p:cBhvr>
                                        <p:cTn id="3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1823 0.09445 E">
                                      <p:cBhvr>
                                        <p:cTn id="3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04167 0.15625 E">
                                      <p:cBhvr>
                                        <p:cTn id="3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05851 0.14583 E">
                                      <p:cBhvr>
                                        <p:cTn id="4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11893 0.09097 E">
                                      <p:cBhvr>
                                        <p:cTn id="4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12812 -0.05694 E">
                                      <p:cBhvr>
                                        <p:cTn id="4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07448 -0.13681 E">
                                      <p:cBhvr>
                                        <p:cTn id="4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0.0842 -0.11921 E">
                                      <p:cBhvr>
                                        <p:cTn id="4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Стела при въезде в </a:t>
            </a:r>
            <a:br>
              <a:rPr sz="5400"/>
            </a:b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село Якшур-Бодь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стелла Я-Б"/>
          <p:cNvPicPr/>
          <p:nvPr/>
        </p:nvPicPr>
        <p:blipFill>
          <a:blip r:embed="rId2"/>
          <a:stretch/>
        </p:blipFill>
        <p:spPr>
          <a:xfrm>
            <a:off x="1835280" y="2133720"/>
            <a:ext cx="5661000" cy="387504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3571920" y="6143760"/>
            <a:ext cx="2286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З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Орнамен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Орнамент на традиционной одежде – это не просто узоры, а оберег от злых духов.Фото автора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755640" y="1125360"/>
            <a:ext cx="2241720" cy="32115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http://vorshud.unatlib.org.ru/images/thumb/a/a4/Polotenca.jpg/180px-Polotenc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1413000"/>
            <a:ext cx="3819600" cy="2546280"/>
          </a:xfrm>
          <a:prstGeom prst="rect">
            <a:avLst/>
          </a:prstGeom>
          <a:ln w="0">
            <a:noFill/>
          </a:ln>
        </p:spPr>
      </p:pic>
      <p:grpSp>
        <p:nvGrpSpPr>
          <p:cNvPr id="106" name="Группа 120"/>
          <p:cNvGrpSpPr/>
          <p:nvPr/>
        </p:nvGrpSpPr>
        <p:grpSpPr>
          <a:xfrm>
            <a:off x="1071720" y="4714920"/>
            <a:ext cx="7143480" cy="1928880"/>
            <a:chOff x="1071720" y="4714920"/>
            <a:chExt cx="7143480" cy="1928880"/>
          </a:xfrm>
        </p:grpSpPr>
        <p:sp>
          <p:nvSpPr>
            <p:cNvPr id="107" name="Прямоугольник 35"/>
            <p:cNvSpPr/>
            <p:nvPr/>
          </p:nvSpPr>
          <p:spPr>
            <a:xfrm>
              <a:off x="1071720" y="4714920"/>
              <a:ext cx="7075440" cy="14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оугольник 36"/>
            <p:cNvSpPr/>
            <p:nvPr/>
          </p:nvSpPr>
          <p:spPr>
            <a:xfrm>
              <a:off x="1071720" y="6496200"/>
              <a:ext cx="7143480" cy="14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Группа 63"/>
            <p:cNvGrpSpPr/>
            <p:nvPr/>
          </p:nvGrpSpPr>
          <p:grpSpPr>
            <a:xfrm>
              <a:off x="2165040" y="5038920"/>
              <a:ext cx="1295640" cy="1257840"/>
              <a:chOff x="2165040" y="5038920"/>
              <a:chExt cx="1295640" cy="1257840"/>
            </a:xfrm>
          </p:grpSpPr>
          <p:grpSp>
            <p:nvGrpSpPr>
              <p:cNvPr id="110" name="Группа 10"/>
              <p:cNvGrpSpPr/>
              <p:nvPr/>
            </p:nvGrpSpPr>
            <p:grpSpPr>
              <a:xfrm>
                <a:off x="2652120" y="5038920"/>
                <a:ext cx="538560" cy="528120"/>
                <a:chOff x="2652120" y="5038920"/>
                <a:chExt cx="538560" cy="528120"/>
              </a:xfrm>
            </p:grpSpPr>
            <p:sp>
              <p:nvSpPr>
                <p:cNvPr id="111" name="Прямоугольный треугольник 39"/>
                <p:cNvSpPr/>
                <p:nvPr/>
              </p:nvSpPr>
              <p:spPr>
                <a:xfrm rot="2791800">
                  <a:off x="2860560" y="5107320"/>
                  <a:ext cx="289800" cy="2347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Прямоугольный треугольник 40"/>
                <p:cNvSpPr/>
                <p:nvPr/>
              </p:nvSpPr>
              <p:spPr>
                <a:xfrm flipH="1" flipV="1" rot="2791800">
                  <a:off x="2691000" y="5267880"/>
                  <a:ext cx="285480" cy="2314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Группа 11"/>
              <p:cNvGrpSpPr/>
              <p:nvPr/>
            </p:nvGrpSpPr>
            <p:grpSpPr>
              <a:xfrm>
                <a:off x="2883600" y="5518440"/>
                <a:ext cx="577080" cy="583920"/>
                <a:chOff x="2883600" y="5518440"/>
                <a:chExt cx="577080" cy="583920"/>
              </a:xfrm>
            </p:grpSpPr>
            <p:sp>
              <p:nvSpPr>
                <p:cNvPr id="114" name="Прямоугольный треугольник 42"/>
                <p:cNvSpPr/>
                <p:nvPr/>
              </p:nvSpPr>
              <p:spPr>
                <a:xfrm rot="8198400">
                  <a:off x="3141000" y="5767200"/>
                  <a:ext cx="256680" cy="2854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Прямоугольный треугольник 43"/>
                <p:cNvSpPr/>
                <p:nvPr/>
              </p:nvSpPr>
              <p:spPr>
                <a:xfrm flipH="1" flipV="1" rot="8198400">
                  <a:off x="2946960" y="5567400"/>
                  <a:ext cx="256680" cy="2869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Группа 14"/>
              <p:cNvGrpSpPr/>
              <p:nvPr/>
            </p:nvGrpSpPr>
            <p:grpSpPr>
              <a:xfrm>
                <a:off x="2167920" y="5249160"/>
                <a:ext cx="527040" cy="565200"/>
                <a:chOff x="2167920" y="5249160"/>
                <a:chExt cx="527040" cy="565200"/>
              </a:xfrm>
            </p:grpSpPr>
            <p:sp>
              <p:nvSpPr>
                <p:cNvPr id="117" name="Прямоугольный треугольник 45"/>
                <p:cNvSpPr/>
                <p:nvPr/>
              </p:nvSpPr>
              <p:spPr>
                <a:xfrm rot="19281600">
                  <a:off x="2218320" y="5304600"/>
                  <a:ext cx="266760" cy="25524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Прямоугольный треугольник 46"/>
                <p:cNvSpPr/>
                <p:nvPr/>
              </p:nvSpPr>
              <p:spPr>
                <a:xfrm flipH="1" flipV="1" rot="19281600">
                  <a:off x="2376000" y="5505120"/>
                  <a:ext cx="269640" cy="2520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Группа 17"/>
              <p:cNvGrpSpPr/>
              <p:nvPr/>
            </p:nvGrpSpPr>
            <p:grpSpPr>
              <a:xfrm>
                <a:off x="2412720" y="5765760"/>
                <a:ext cx="537840" cy="531000"/>
                <a:chOff x="2412720" y="5765760"/>
                <a:chExt cx="537840" cy="531000"/>
              </a:xfrm>
            </p:grpSpPr>
            <p:sp>
              <p:nvSpPr>
                <p:cNvPr id="120" name="Прямоугольный треугольник 48"/>
                <p:cNvSpPr/>
                <p:nvPr/>
              </p:nvSpPr>
              <p:spPr>
                <a:xfrm rot="2791800">
                  <a:off x="2620800" y="5834160"/>
                  <a:ext cx="289800" cy="23364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Прямоугольный треугольник 49"/>
                <p:cNvSpPr/>
                <p:nvPr/>
              </p:nvSpPr>
              <p:spPr>
                <a:xfrm flipH="1" flipV="1" rot="2791800">
                  <a:off x="2451600" y="5993640"/>
                  <a:ext cx="289800" cy="23364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Группа 20"/>
              <p:cNvGrpSpPr/>
              <p:nvPr/>
            </p:nvGrpSpPr>
            <p:grpSpPr>
              <a:xfrm>
                <a:off x="2165040" y="5517720"/>
                <a:ext cx="537840" cy="551160"/>
                <a:chOff x="2165040" y="5517720"/>
                <a:chExt cx="537840" cy="551160"/>
              </a:xfrm>
            </p:grpSpPr>
            <p:sp>
              <p:nvSpPr>
                <p:cNvPr id="123" name="Прямоугольный треугольник 51"/>
                <p:cNvSpPr/>
                <p:nvPr/>
              </p:nvSpPr>
              <p:spPr>
                <a:xfrm flipV="1" rot="13317600">
                  <a:off x="2392560" y="5570640"/>
                  <a:ext cx="257760" cy="2556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Прямоугольный треугольник 52"/>
                <p:cNvSpPr/>
                <p:nvPr/>
              </p:nvSpPr>
              <p:spPr>
                <a:xfrm flipH="1" rot="13317600">
                  <a:off x="2216520" y="5761080"/>
                  <a:ext cx="257760" cy="2541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Группа 23"/>
              <p:cNvGrpSpPr/>
              <p:nvPr/>
            </p:nvGrpSpPr>
            <p:grpSpPr>
              <a:xfrm>
                <a:off x="2886120" y="5271840"/>
                <a:ext cx="528480" cy="559800"/>
                <a:chOff x="2886120" y="5271840"/>
                <a:chExt cx="528480" cy="559800"/>
              </a:xfrm>
            </p:grpSpPr>
            <p:sp>
              <p:nvSpPr>
                <p:cNvPr id="126" name="Прямоугольный треугольник 54"/>
                <p:cNvSpPr/>
                <p:nvPr/>
              </p:nvSpPr>
              <p:spPr>
                <a:xfrm flipV="1" rot="2400000">
                  <a:off x="2937240" y="5522040"/>
                  <a:ext cx="261360" cy="2548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Прямоугольный треугольник 55"/>
                <p:cNvSpPr/>
                <p:nvPr/>
              </p:nvSpPr>
              <p:spPr>
                <a:xfrm flipH="1" rot="2400000">
                  <a:off x="3101400" y="5325840"/>
                  <a:ext cx="261360" cy="2548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Группа 26"/>
              <p:cNvGrpSpPr/>
              <p:nvPr/>
            </p:nvGrpSpPr>
            <p:grpSpPr>
              <a:xfrm>
                <a:off x="2652840" y="5766120"/>
                <a:ext cx="552600" cy="530640"/>
                <a:chOff x="2652840" y="5766120"/>
                <a:chExt cx="552600" cy="530640"/>
              </a:xfrm>
            </p:grpSpPr>
            <p:sp>
              <p:nvSpPr>
                <p:cNvPr id="129" name="Прямоугольный треугольник 57"/>
                <p:cNvSpPr/>
                <p:nvPr/>
              </p:nvSpPr>
              <p:spPr>
                <a:xfrm flipV="1" rot="7847400">
                  <a:off x="2692800" y="5833800"/>
                  <a:ext cx="288000" cy="2379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Прямоугольный треугольник 58"/>
                <p:cNvSpPr/>
                <p:nvPr/>
              </p:nvSpPr>
              <p:spPr>
                <a:xfrm flipH="1" rot="7847400">
                  <a:off x="2876040" y="5988240"/>
                  <a:ext cx="288000" cy="2412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Группа 29"/>
              <p:cNvGrpSpPr/>
              <p:nvPr/>
            </p:nvGrpSpPr>
            <p:grpSpPr>
              <a:xfrm>
                <a:off x="2413800" y="5062680"/>
                <a:ext cx="538920" cy="520560"/>
                <a:chOff x="2413800" y="5062680"/>
                <a:chExt cx="538920" cy="520560"/>
              </a:xfrm>
            </p:grpSpPr>
            <p:sp>
              <p:nvSpPr>
                <p:cNvPr id="132" name="Прямоугольный треугольник 60"/>
                <p:cNvSpPr/>
                <p:nvPr/>
              </p:nvSpPr>
              <p:spPr>
                <a:xfrm flipV="1" rot="7847400">
                  <a:off x="2451240" y="5131080"/>
                  <a:ext cx="286920" cy="2307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Прямоугольный треугольник 61"/>
                <p:cNvSpPr/>
                <p:nvPr/>
              </p:nvSpPr>
              <p:spPr>
                <a:xfrm flipH="1" rot="7847400">
                  <a:off x="2625120" y="5282640"/>
                  <a:ext cx="289800" cy="2307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Группа 64"/>
            <p:cNvGrpSpPr/>
            <p:nvPr/>
          </p:nvGrpSpPr>
          <p:grpSpPr>
            <a:xfrm>
              <a:off x="5772240" y="5038920"/>
              <a:ext cx="1294560" cy="1258200"/>
              <a:chOff x="5772240" y="5038920"/>
              <a:chExt cx="1294560" cy="1258200"/>
            </a:xfrm>
          </p:grpSpPr>
          <p:grpSp>
            <p:nvGrpSpPr>
              <p:cNvPr id="135" name="Группа 10"/>
              <p:cNvGrpSpPr/>
              <p:nvPr/>
            </p:nvGrpSpPr>
            <p:grpSpPr>
              <a:xfrm>
                <a:off x="6258960" y="5038920"/>
                <a:ext cx="536400" cy="531360"/>
                <a:chOff x="6258960" y="5038920"/>
                <a:chExt cx="536400" cy="531360"/>
              </a:xfrm>
            </p:grpSpPr>
            <p:sp>
              <p:nvSpPr>
                <p:cNvPr id="136" name="Прямоугольный треугольник 87"/>
                <p:cNvSpPr/>
                <p:nvPr/>
              </p:nvSpPr>
              <p:spPr>
                <a:xfrm rot="2791800">
                  <a:off x="6467760" y="5106960"/>
                  <a:ext cx="288000" cy="2329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Прямоугольный треугольник 88"/>
                <p:cNvSpPr/>
                <p:nvPr/>
              </p:nvSpPr>
              <p:spPr>
                <a:xfrm flipH="1" flipV="1" rot="2791800">
                  <a:off x="6297840" y="5267880"/>
                  <a:ext cx="289440" cy="2329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Группа 11"/>
              <p:cNvGrpSpPr/>
              <p:nvPr/>
            </p:nvGrpSpPr>
            <p:grpSpPr>
              <a:xfrm>
                <a:off x="6489720" y="5517000"/>
                <a:ext cx="577080" cy="586800"/>
                <a:chOff x="6489720" y="5517000"/>
                <a:chExt cx="577080" cy="586800"/>
              </a:xfrm>
            </p:grpSpPr>
            <p:sp>
              <p:nvSpPr>
                <p:cNvPr id="139" name="Прямоугольный треугольник 85"/>
                <p:cNvSpPr/>
                <p:nvPr/>
              </p:nvSpPr>
              <p:spPr>
                <a:xfrm rot="8198400">
                  <a:off x="6747120" y="5772960"/>
                  <a:ext cx="258840" cy="2797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Прямоугольный треугольник 86"/>
                <p:cNvSpPr/>
                <p:nvPr/>
              </p:nvSpPr>
              <p:spPr>
                <a:xfrm flipH="1" flipV="1" rot="8198400">
                  <a:off x="6550200" y="5567040"/>
                  <a:ext cx="258840" cy="2797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Группа 14"/>
              <p:cNvGrpSpPr/>
              <p:nvPr/>
            </p:nvGrpSpPr>
            <p:grpSpPr>
              <a:xfrm>
                <a:off x="5774760" y="5248440"/>
                <a:ext cx="524160" cy="565200"/>
                <a:chOff x="5774760" y="5248440"/>
                <a:chExt cx="524160" cy="565200"/>
              </a:xfrm>
            </p:grpSpPr>
            <p:sp>
              <p:nvSpPr>
                <p:cNvPr id="142" name="Прямоугольный треугольник 83"/>
                <p:cNvSpPr/>
                <p:nvPr/>
              </p:nvSpPr>
              <p:spPr>
                <a:xfrm rot="19281600">
                  <a:off x="5824440" y="5303880"/>
                  <a:ext cx="267120" cy="2538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Прямоугольный треугольник 84"/>
                <p:cNvSpPr/>
                <p:nvPr/>
              </p:nvSpPr>
              <p:spPr>
                <a:xfrm flipH="1" flipV="1" rot="19281600">
                  <a:off x="5981400" y="5502960"/>
                  <a:ext cx="267120" cy="25524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Группа 17"/>
              <p:cNvGrpSpPr/>
              <p:nvPr/>
            </p:nvGrpSpPr>
            <p:grpSpPr>
              <a:xfrm>
                <a:off x="6019560" y="5765760"/>
                <a:ext cx="536400" cy="531360"/>
                <a:chOff x="6019560" y="5765760"/>
                <a:chExt cx="536400" cy="531360"/>
              </a:xfrm>
            </p:grpSpPr>
            <p:sp>
              <p:nvSpPr>
                <p:cNvPr id="145" name="Прямоугольный треугольник 81"/>
                <p:cNvSpPr/>
                <p:nvPr/>
              </p:nvSpPr>
              <p:spPr>
                <a:xfrm rot="2791800">
                  <a:off x="6227280" y="5833800"/>
                  <a:ext cx="288720" cy="2332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Прямоугольный треугольник 82"/>
                <p:cNvSpPr/>
                <p:nvPr/>
              </p:nvSpPr>
              <p:spPr>
                <a:xfrm flipH="1" flipV="1" rot="2791800">
                  <a:off x="6058800" y="5994360"/>
                  <a:ext cx="288720" cy="2332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Группа 20"/>
              <p:cNvGrpSpPr/>
              <p:nvPr/>
            </p:nvGrpSpPr>
            <p:grpSpPr>
              <a:xfrm>
                <a:off x="5772240" y="5514840"/>
                <a:ext cx="534240" cy="556920"/>
                <a:chOff x="5772240" y="5514840"/>
                <a:chExt cx="534240" cy="556920"/>
              </a:xfrm>
            </p:grpSpPr>
            <p:sp>
              <p:nvSpPr>
                <p:cNvPr id="148" name="Прямоугольный треугольник 79"/>
                <p:cNvSpPr/>
                <p:nvPr/>
              </p:nvSpPr>
              <p:spPr>
                <a:xfrm flipV="1" rot="13317600">
                  <a:off x="5995080" y="5568120"/>
                  <a:ext cx="258480" cy="2574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Прямоугольный треугольник 80"/>
                <p:cNvSpPr/>
                <p:nvPr/>
              </p:nvSpPr>
              <p:spPr>
                <a:xfrm flipH="1" rot="13317600">
                  <a:off x="5823360" y="5762880"/>
                  <a:ext cx="259920" cy="2541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Группа 23"/>
              <p:cNvGrpSpPr/>
              <p:nvPr/>
            </p:nvGrpSpPr>
            <p:grpSpPr>
              <a:xfrm>
                <a:off x="6492240" y="5271840"/>
                <a:ext cx="528480" cy="559800"/>
                <a:chOff x="6492240" y="5271840"/>
                <a:chExt cx="528480" cy="559800"/>
              </a:xfrm>
            </p:grpSpPr>
            <p:sp>
              <p:nvSpPr>
                <p:cNvPr id="151" name="Прямоугольный треугольник 77"/>
                <p:cNvSpPr/>
                <p:nvPr/>
              </p:nvSpPr>
              <p:spPr>
                <a:xfrm flipV="1" rot="2400000">
                  <a:off x="6543360" y="5522040"/>
                  <a:ext cx="261360" cy="2548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Прямоугольный треугольник 78"/>
                <p:cNvSpPr/>
                <p:nvPr/>
              </p:nvSpPr>
              <p:spPr>
                <a:xfrm flipH="1" rot="2400000">
                  <a:off x="6707520" y="5325840"/>
                  <a:ext cx="261360" cy="2548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Группа 26"/>
              <p:cNvGrpSpPr/>
              <p:nvPr/>
            </p:nvGrpSpPr>
            <p:grpSpPr>
              <a:xfrm>
                <a:off x="6258960" y="5765400"/>
                <a:ext cx="552240" cy="529920"/>
                <a:chOff x="6258960" y="5765400"/>
                <a:chExt cx="552240" cy="529920"/>
              </a:xfrm>
            </p:grpSpPr>
            <p:sp>
              <p:nvSpPr>
                <p:cNvPr id="154" name="Прямоугольный треугольник 75"/>
                <p:cNvSpPr/>
                <p:nvPr/>
              </p:nvSpPr>
              <p:spPr>
                <a:xfrm flipV="1" rot="7847400">
                  <a:off x="6300360" y="5833080"/>
                  <a:ext cx="289440" cy="2419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Прямоугольный треугольник 76"/>
                <p:cNvSpPr/>
                <p:nvPr/>
              </p:nvSpPr>
              <p:spPr>
                <a:xfrm flipH="1" rot="7847400">
                  <a:off x="6483960" y="5989320"/>
                  <a:ext cx="286560" cy="2386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Группа 29"/>
              <p:cNvGrpSpPr/>
              <p:nvPr/>
            </p:nvGrpSpPr>
            <p:grpSpPr>
              <a:xfrm>
                <a:off x="6018840" y="5061960"/>
                <a:ext cx="539280" cy="519480"/>
                <a:chOff x="6018840" y="5061960"/>
                <a:chExt cx="539280" cy="519480"/>
              </a:xfrm>
            </p:grpSpPr>
            <p:sp>
              <p:nvSpPr>
                <p:cNvPr id="157" name="Прямоугольный треугольник 73"/>
                <p:cNvSpPr/>
                <p:nvPr/>
              </p:nvSpPr>
              <p:spPr>
                <a:xfrm flipV="1" rot="7847400">
                  <a:off x="6056280" y="5130720"/>
                  <a:ext cx="289800" cy="2325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Прямоугольный треугольник 74"/>
                <p:cNvSpPr/>
                <p:nvPr/>
              </p:nvSpPr>
              <p:spPr>
                <a:xfrm flipH="1" rot="7847400">
                  <a:off x="6232680" y="5281560"/>
                  <a:ext cx="286920" cy="2311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Группа 94"/>
            <p:cNvGrpSpPr/>
            <p:nvPr/>
          </p:nvGrpSpPr>
          <p:grpSpPr>
            <a:xfrm>
              <a:off x="7058880" y="5085720"/>
              <a:ext cx="952200" cy="1112760"/>
              <a:chOff x="7058880" y="5085720"/>
              <a:chExt cx="952200" cy="1112760"/>
            </a:xfrm>
          </p:grpSpPr>
          <p:sp>
            <p:nvSpPr>
              <p:cNvPr id="160" name="Прямоугольник 89"/>
              <p:cNvSpPr/>
              <p:nvPr/>
            </p:nvSpPr>
            <p:spPr>
              <a:xfrm>
                <a:off x="7398360" y="530784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Прямоугольник 90"/>
              <p:cNvSpPr/>
              <p:nvPr/>
            </p:nvSpPr>
            <p:spPr>
              <a:xfrm>
                <a:off x="7398360" y="575388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Прямоугольник 91"/>
              <p:cNvSpPr/>
              <p:nvPr/>
            </p:nvSpPr>
            <p:spPr>
              <a:xfrm>
                <a:off x="7058880" y="5530320"/>
                <a:ext cx="271440" cy="22356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Прямоугольник 92"/>
              <p:cNvSpPr/>
              <p:nvPr/>
            </p:nvSpPr>
            <p:spPr>
              <a:xfrm>
                <a:off x="7739640" y="508572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Прямоугольник 93"/>
              <p:cNvSpPr/>
              <p:nvPr/>
            </p:nvSpPr>
            <p:spPr>
              <a:xfrm>
                <a:off x="7739640" y="597636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Группа 114"/>
            <p:cNvGrpSpPr/>
            <p:nvPr/>
          </p:nvGrpSpPr>
          <p:grpSpPr>
            <a:xfrm>
              <a:off x="3452760" y="5085720"/>
              <a:ext cx="952200" cy="1112760"/>
              <a:chOff x="3452760" y="5085720"/>
              <a:chExt cx="952200" cy="1112760"/>
            </a:xfrm>
          </p:grpSpPr>
          <p:sp>
            <p:nvSpPr>
              <p:cNvPr id="166" name="Прямоугольник 96"/>
              <p:cNvSpPr/>
              <p:nvPr/>
            </p:nvSpPr>
            <p:spPr>
              <a:xfrm>
                <a:off x="3792240" y="530784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Прямоугольник 97"/>
              <p:cNvSpPr/>
              <p:nvPr/>
            </p:nvSpPr>
            <p:spPr>
              <a:xfrm>
                <a:off x="3792240" y="575388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Прямоугольник 98"/>
              <p:cNvSpPr/>
              <p:nvPr/>
            </p:nvSpPr>
            <p:spPr>
              <a:xfrm>
                <a:off x="3452760" y="5530320"/>
                <a:ext cx="271440" cy="22356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Прямоугольник 99"/>
              <p:cNvSpPr/>
              <p:nvPr/>
            </p:nvSpPr>
            <p:spPr>
              <a:xfrm>
                <a:off x="4133520" y="508572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Прямоугольник 100"/>
              <p:cNvSpPr/>
              <p:nvPr/>
            </p:nvSpPr>
            <p:spPr>
              <a:xfrm>
                <a:off x="4133520" y="597636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Группа 101"/>
            <p:cNvGrpSpPr/>
            <p:nvPr/>
          </p:nvGrpSpPr>
          <p:grpSpPr>
            <a:xfrm>
              <a:off x="1207080" y="5085720"/>
              <a:ext cx="952200" cy="1112760"/>
              <a:chOff x="1207080" y="5085720"/>
              <a:chExt cx="952200" cy="1112760"/>
            </a:xfrm>
          </p:grpSpPr>
          <p:sp>
            <p:nvSpPr>
              <p:cNvPr id="172" name="Прямоугольник 102"/>
              <p:cNvSpPr/>
              <p:nvPr/>
            </p:nvSpPr>
            <p:spPr>
              <a:xfrm flipH="1">
                <a:off x="1546920" y="530784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Прямоугольник 103"/>
              <p:cNvSpPr/>
              <p:nvPr/>
            </p:nvSpPr>
            <p:spPr>
              <a:xfrm flipH="1">
                <a:off x="1546920" y="575388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Прямоугольник 104"/>
              <p:cNvSpPr/>
              <p:nvPr/>
            </p:nvSpPr>
            <p:spPr>
              <a:xfrm flipH="1">
                <a:off x="1887840" y="5530320"/>
                <a:ext cx="271440" cy="22356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Прямоугольник 105"/>
              <p:cNvSpPr/>
              <p:nvPr/>
            </p:nvSpPr>
            <p:spPr>
              <a:xfrm flipH="1">
                <a:off x="1207080" y="508572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Прямоугольник 106"/>
              <p:cNvSpPr/>
              <p:nvPr/>
            </p:nvSpPr>
            <p:spPr>
              <a:xfrm flipH="1">
                <a:off x="1207080" y="597636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Группа 107"/>
            <p:cNvGrpSpPr/>
            <p:nvPr/>
          </p:nvGrpSpPr>
          <p:grpSpPr>
            <a:xfrm>
              <a:off x="4813200" y="5085720"/>
              <a:ext cx="952200" cy="1112760"/>
              <a:chOff x="4813200" y="5085720"/>
              <a:chExt cx="952200" cy="1112760"/>
            </a:xfrm>
          </p:grpSpPr>
          <p:sp>
            <p:nvSpPr>
              <p:cNvPr id="178" name="Прямоугольник 108"/>
              <p:cNvSpPr/>
              <p:nvPr/>
            </p:nvSpPr>
            <p:spPr>
              <a:xfrm flipH="1">
                <a:off x="5153040" y="530784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Прямоугольник 109"/>
              <p:cNvSpPr/>
              <p:nvPr/>
            </p:nvSpPr>
            <p:spPr>
              <a:xfrm flipH="1">
                <a:off x="5153040" y="575388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Прямоугольник 110"/>
              <p:cNvSpPr/>
              <p:nvPr/>
            </p:nvSpPr>
            <p:spPr>
              <a:xfrm flipH="1">
                <a:off x="5493960" y="5530320"/>
                <a:ext cx="271440" cy="22356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Прямоугольник 111"/>
              <p:cNvSpPr/>
              <p:nvPr/>
            </p:nvSpPr>
            <p:spPr>
              <a:xfrm flipH="1">
                <a:off x="4813200" y="508572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Прямоугольник 112"/>
              <p:cNvSpPr/>
              <p:nvPr/>
            </p:nvSpPr>
            <p:spPr>
              <a:xfrm flipH="1">
                <a:off x="4813200" y="597636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Прямоугольник 113"/>
            <p:cNvSpPr/>
            <p:nvPr/>
          </p:nvSpPr>
          <p:spPr>
            <a:xfrm>
              <a:off x="4473720" y="4937040"/>
              <a:ext cx="271440" cy="22212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15"/>
            <p:cNvSpPr/>
            <p:nvPr/>
          </p:nvSpPr>
          <p:spPr>
            <a:xfrm>
              <a:off x="4473720" y="6124680"/>
              <a:ext cx="271440" cy="22212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Ромб 117"/>
            <p:cNvSpPr/>
            <p:nvPr/>
          </p:nvSpPr>
          <p:spPr>
            <a:xfrm rot="16200000">
              <a:off x="4350240" y="5166360"/>
              <a:ext cx="519120" cy="952200"/>
            </a:xfrm>
            <a:prstGeom prst="diamond">
              <a:avLst/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Равнобедренный треугольник 118"/>
            <p:cNvSpPr/>
            <p:nvPr/>
          </p:nvSpPr>
          <p:spPr>
            <a:xfrm rot="5400000">
              <a:off x="1225800" y="5437800"/>
              <a:ext cx="371520" cy="4078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Равнобедренный треугольник 119"/>
            <p:cNvSpPr/>
            <p:nvPr/>
          </p:nvSpPr>
          <p:spPr>
            <a:xfrm flipV="1" rot="5400000">
              <a:off x="7620480" y="5437800"/>
              <a:ext cx="371520" cy="4078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Примен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j0305665"/>
          <p:cNvPicPr/>
          <p:nvPr/>
        </p:nvPicPr>
        <p:blipFill>
          <a:blip r:embed="rId2"/>
          <a:stretch/>
        </p:blipFill>
        <p:spPr>
          <a:xfrm>
            <a:off x="5140440" y="3571920"/>
            <a:ext cx="3375000" cy="25178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684360" y="1700280"/>
            <a:ext cx="460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физике применяют параллелограмм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 нахождении равнодействующей си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жизни </a:t>
            </a:r>
            <a:r>
              <a:rPr b="0" lang="en-US" sz="2400" spc="-1" strike="noStrike">
                <a:solidFill>
                  <a:srgbClr val="cc6600"/>
                </a:solidFill>
                <a:latin typeface="Calibri"/>
              </a:rPr>
              <a:t>параллелограм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это рамы велосипедов, мотоциклов, где для жёсткости проведена диагона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Группа 9"/>
          <p:cNvGrpSpPr/>
          <p:nvPr/>
        </p:nvGrpSpPr>
        <p:grpSpPr>
          <a:xfrm>
            <a:off x="5357880" y="1642680"/>
            <a:ext cx="2657520" cy="1581480"/>
            <a:chOff x="5357880" y="1642680"/>
            <a:chExt cx="2657520" cy="1581480"/>
          </a:xfrm>
        </p:grpSpPr>
        <p:sp>
          <p:nvSpPr>
            <p:cNvPr id="192" name="AutoShape 6"/>
            <p:cNvSpPr/>
            <p:nvPr/>
          </p:nvSpPr>
          <p:spPr>
            <a:xfrm>
              <a:off x="5357880" y="1643040"/>
              <a:ext cx="2657520" cy="1581120"/>
            </a:xfrm>
            <a:prstGeom prst="parallelogram">
              <a:avLst>
                <a:gd name="adj" fmla="val 42020"/>
              </a:avLst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1"/>
            <p:cNvGrpSpPr/>
            <p:nvPr/>
          </p:nvGrpSpPr>
          <p:grpSpPr>
            <a:xfrm>
              <a:off x="5357880" y="1642680"/>
              <a:ext cx="2657160" cy="1581120"/>
              <a:chOff x="5357880" y="1642680"/>
              <a:chExt cx="2657160" cy="1581120"/>
            </a:xfrm>
          </p:grpSpPr>
          <p:sp>
            <p:nvSpPr>
              <p:cNvPr id="194" name="Line 7"/>
              <p:cNvSpPr/>
              <p:nvPr/>
            </p:nvSpPr>
            <p:spPr>
              <a:xfrm flipV="1">
                <a:off x="5357880" y="1642680"/>
                <a:ext cx="2657160" cy="158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8"/>
              <p:cNvSpPr/>
              <p:nvPr/>
            </p:nvSpPr>
            <p:spPr>
              <a:xfrm flipV="1">
                <a:off x="5357880" y="1642680"/>
                <a:ext cx="700560" cy="158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9"/>
              <p:cNvSpPr/>
              <p:nvPr/>
            </p:nvSpPr>
            <p:spPr>
              <a:xfrm>
                <a:off x="5357880" y="3223800"/>
                <a:ext cx="195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Признаки параллелограм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5280" y="1628640"/>
            <a:ext cx="78296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ивоположные стороны ра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ивоположные стороны параллель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агонали параллелограмма точкой пересечения делятся попол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203640" y="4724280"/>
            <a:ext cx="2500200" cy="1285920"/>
          </a:xfrm>
          <a:prstGeom prst="parallelogram">
            <a:avLst>
              <a:gd name="adj" fmla="val 63027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39640" y="4437000"/>
            <a:ext cx="2428920" cy="1571760"/>
            <a:chOff x="539640" y="4437000"/>
            <a:chExt cx="2428920" cy="1571760"/>
          </a:xfrm>
        </p:grpSpPr>
        <p:sp>
          <p:nvSpPr>
            <p:cNvPr id="201" name="AutoShape 5"/>
            <p:cNvSpPr/>
            <p:nvPr/>
          </p:nvSpPr>
          <p:spPr>
            <a:xfrm>
              <a:off x="539640" y="4651560"/>
              <a:ext cx="2428920" cy="1285560"/>
            </a:xfrm>
            <a:prstGeom prst="parallelogram">
              <a:avLst>
                <a:gd name="adj" fmla="val 63041"/>
              </a:avLst>
            </a:prstGeom>
            <a:solidFill>
              <a:srgbClr val="558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11"/>
            <p:cNvSpPr/>
            <p:nvPr/>
          </p:nvSpPr>
          <p:spPr>
            <a:xfrm flipH="1">
              <a:off x="1968480" y="4437000"/>
              <a:ext cx="1440" cy="2858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12"/>
            <p:cNvSpPr/>
            <p:nvPr/>
          </p:nvSpPr>
          <p:spPr>
            <a:xfrm flipH="1">
              <a:off x="1468440" y="5722920"/>
              <a:ext cx="1440" cy="2858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13"/>
            <p:cNvSpPr/>
            <p:nvPr/>
          </p:nvSpPr>
          <p:spPr>
            <a:xfrm>
              <a:off x="896760" y="5151600"/>
              <a:ext cx="284400" cy="14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ая соединительная линия 14"/>
            <p:cNvSpPr/>
            <p:nvPr/>
          </p:nvSpPr>
          <p:spPr>
            <a:xfrm>
              <a:off x="968400" y="5008680"/>
              <a:ext cx="284040" cy="14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5"/>
            <p:cNvSpPr/>
            <p:nvPr/>
          </p:nvSpPr>
          <p:spPr>
            <a:xfrm>
              <a:off x="2468520" y="5151600"/>
              <a:ext cx="284040" cy="14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16"/>
            <p:cNvSpPr/>
            <p:nvPr/>
          </p:nvSpPr>
          <p:spPr>
            <a:xfrm>
              <a:off x="2397240" y="5294520"/>
              <a:ext cx="284040" cy="14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012000" y="4797360"/>
            <a:ext cx="2581920" cy="1221480"/>
            <a:chOff x="6012000" y="4797360"/>
            <a:chExt cx="2581920" cy="1221480"/>
          </a:xfrm>
        </p:grpSpPr>
        <p:sp>
          <p:nvSpPr>
            <p:cNvPr id="209" name="AutoShape 5"/>
            <p:cNvSpPr/>
            <p:nvPr/>
          </p:nvSpPr>
          <p:spPr>
            <a:xfrm>
              <a:off x="6012000" y="4797360"/>
              <a:ext cx="2571480" cy="1214280"/>
            </a:xfrm>
            <a:prstGeom prst="parallelogram">
              <a:avLst>
                <a:gd name="adj" fmla="val 63031"/>
              </a:avLst>
            </a:prstGeom>
            <a:solidFill>
              <a:srgbClr val="558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18"/>
            <p:cNvSpPr/>
            <p:nvPr/>
          </p:nvSpPr>
          <p:spPr>
            <a:xfrm flipH="1">
              <a:off x="6022440" y="4804560"/>
              <a:ext cx="2571480" cy="121428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19"/>
            <p:cNvSpPr/>
            <p:nvPr/>
          </p:nvSpPr>
          <p:spPr>
            <a:xfrm>
              <a:off x="6799320" y="4797360"/>
              <a:ext cx="997920" cy="121428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20"/>
            <p:cNvSpPr/>
            <p:nvPr/>
          </p:nvSpPr>
          <p:spPr>
            <a:xfrm>
              <a:off x="7727760" y="5082840"/>
              <a:ext cx="141120" cy="21456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21"/>
            <p:cNvSpPr/>
            <p:nvPr/>
          </p:nvSpPr>
          <p:spPr>
            <a:xfrm>
              <a:off x="6797520" y="5511600"/>
              <a:ext cx="141120" cy="21420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22"/>
            <p:cNvSpPr/>
            <p:nvPr/>
          </p:nvSpPr>
          <p:spPr>
            <a:xfrm flipH="1">
              <a:off x="6940440" y="5010840"/>
              <a:ext cx="213840" cy="1429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23"/>
            <p:cNvSpPr/>
            <p:nvPr/>
          </p:nvSpPr>
          <p:spPr>
            <a:xfrm flipH="1">
              <a:off x="7011360" y="5082120"/>
              <a:ext cx="214200" cy="1429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24"/>
            <p:cNvSpPr/>
            <p:nvPr/>
          </p:nvSpPr>
          <p:spPr>
            <a:xfrm flipH="1">
              <a:off x="7369200" y="5582160"/>
              <a:ext cx="213840" cy="1429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25"/>
            <p:cNvSpPr/>
            <p:nvPr/>
          </p:nvSpPr>
          <p:spPr>
            <a:xfrm flipH="1">
              <a:off x="7440480" y="5653800"/>
              <a:ext cx="213840" cy="1429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reeform 21"/>
          <p:cNvSpPr/>
          <p:nvPr/>
        </p:nvSpPr>
        <p:spPr>
          <a:xfrm rot="8677200">
            <a:off x="1061640" y="1861560"/>
            <a:ext cx="1849320" cy="34225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4"/>
          <p:cNvSpPr/>
          <p:nvPr/>
        </p:nvSpPr>
        <p:spPr>
          <a:xfrm>
            <a:off x="1714680" y="1571760"/>
            <a:ext cx="1714320" cy="392904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9"/>
          <p:cNvSpPr/>
          <p:nvPr/>
        </p:nvSpPr>
        <p:spPr>
          <a:xfrm>
            <a:off x="3929040" y="1571760"/>
            <a:ext cx="1857240" cy="428616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Group 22" descr=""/>
          <p:cNvPicPr/>
          <p:nvPr/>
        </p:nvPicPr>
        <p:blipFill>
          <a:blip r:embed="rId3"/>
          <a:stretch/>
        </p:blipFill>
        <p:spPr>
          <a:xfrm>
            <a:off x="324000" y="3309840"/>
            <a:ext cx="5357520" cy="35546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26"/>
          <p:cNvGrpSpPr/>
          <p:nvPr/>
        </p:nvGrpSpPr>
        <p:grpSpPr>
          <a:xfrm>
            <a:off x="5790960" y="2858400"/>
            <a:ext cx="2121840" cy="3276720"/>
            <a:chOff x="5790960" y="2858400"/>
            <a:chExt cx="2121840" cy="3276720"/>
          </a:xfrm>
        </p:grpSpPr>
        <p:sp>
          <p:nvSpPr>
            <p:cNvPr id="223" name="Freeform 27"/>
            <p:cNvSpPr/>
            <p:nvPr/>
          </p:nvSpPr>
          <p:spPr>
            <a:xfrm flipH="1" rot="898200">
              <a:off x="6192000" y="2981520"/>
              <a:ext cx="1352160" cy="30304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8"/>
            <p:cNvSpPr/>
            <p:nvPr/>
          </p:nvSpPr>
          <p:spPr>
            <a:xfrm flipH="1" rot="898200">
              <a:off x="5860440" y="5283000"/>
              <a:ext cx="341640" cy="588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9"/>
            <p:cNvSpPr/>
            <p:nvPr/>
          </p:nvSpPr>
          <p:spPr>
            <a:xfrm flipH="1" rot="898200">
              <a:off x="5828400" y="5602680"/>
              <a:ext cx="129960" cy="223920"/>
            </a:xfrm>
            <a:prstGeom prst="pie">
              <a:avLst/>
            </a:prstGeom>
            <a:solidFill>
              <a:srgbClr val="ca66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30"/>
            <p:cNvGrpSpPr/>
            <p:nvPr/>
          </p:nvGrpSpPr>
          <p:grpSpPr>
            <a:xfrm>
              <a:off x="6006600" y="2906640"/>
              <a:ext cx="1883160" cy="2751840"/>
              <a:chOff x="6006600" y="2906640"/>
              <a:chExt cx="1883160" cy="2751840"/>
            </a:xfrm>
          </p:grpSpPr>
          <p:sp>
            <p:nvSpPr>
              <p:cNvPr id="227" name="Freeform 31"/>
              <p:cNvSpPr/>
              <p:nvPr/>
            </p:nvSpPr>
            <p:spPr>
              <a:xfrm flipH="1" rot="898200">
                <a:off x="6313320" y="3016080"/>
                <a:ext cx="1181160" cy="2532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2"/>
              <p:cNvSpPr/>
              <p:nvPr/>
            </p:nvSpPr>
            <p:spPr>
              <a:xfrm flipH="1" rot="19181400">
                <a:off x="7751160" y="3089520"/>
                <a:ext cx="66600" cy="24588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reeform 21"/>
          <p:cNvSpPr/>
          <p:nvPr/>
        </p:nvSpPr>
        <p:spPr>
          <a:xfrm rot="4675200">
            <a:off x="1870200" y="622800"/>
            <a:ext cx="1849320" cy="34225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6"/>
          <p:cNvGrpSpPr/>
          <p:nvPr/>
        </p:nvGrpSpPr>
        <p:grpSpPr>
          <a:xfrm>
            <a:off x="1790280" y="-1199160"/>
            <a:ext cx="2121840" cy="3276720"/>
            <a:chOff x="1790280" y="-1199160"/>
            <a:chExt cx="2121840" cy="3276720"/>
          </a:xfrm>
        </p:grpSpPr>
        <p:sp>
          <p:nvSpPr>
            <p:cNvPr id="231" name="Freeform 27"/>
            <p:cNvSpPr/>
            <p:nvPr/>
          </p:nvSpPr>
          <p:spPr>
            <a:xfrm flipH="1" rot="898200">
              <a:off x="2191320" y="-1075680"/>
              <a:ext cx="1352160" cy="30304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 flipH="1" rot="898200">
              <a:off x="1859760" y="1225440"/>
              <a:ext cx="341640" cy="588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 flipH="1" rot="898200">
              <a:off x="1827720" y="1545120"/>
              <a:ext cx="129960" cy="223920"/>
            </a:xfrm>
            <a:prstGeom prst="pie">
              <a:avLst/>
            </a:prstGeom>
            <a:solidFill>
              <a:srgbClr val="ca66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30"/>
            <p:cNvGrpSpPr/>
            <p:nvPr/>
          </p:nvGrpSpPr>
          <p:grpSpPr>
            <a:xfrm>
              <a:off x="2005920" y="-1150920"/>
              <a:ext cx="1883160" cy="2751840"/>
              <a:chOff x="2005920" y="-1150920"/>
              <a:chExt cx="1883160" cy="2751840"/>
            </a:xfrm>
          </p:grpSpPr>
          <p:sp>
            <p:nvSpPr>
              <p:cNvPr id="235" name="Freeform 31"/>
              <p:cNvSpPr/>
              <p:nvPr/>
            </p:nvSpPr>
            <p:spPr>
              <a:xfrm flipH="1" rot="898200">
                <a:off x="2312640" y="-1041120"/>
                <a:ext cx="1181160" cy="2532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32"/>
              <p:cNvSpPr/>
              <p:nvPr/>
            </p:nvSpPr>
            <p:spPr>
              <a:xfrm flipH="1" rot="19181400">
                <a:off x="3750480" y="-967680"/>
                <a:ext cx="66600" cy="24588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Прямая соединительная линия 34"/>
          <p:cNvSpPr/>
          <p:nvPr/>
        </p:nvSpPr>
        <p:spPr>
          <a:xfrm>
            <a:off x="1785960" y="1771560"/>
            <a:ext cx="2286000" cy="18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Group 22" descr=""/>
          <p:cNvPicPr/>
          <p:nvPr/>
        </p:nvPicPr>
        <p:blipFill>
          <a:blip r:embed="rId5"/>
          <a:stretch/>
        </p:blipFill>
        <p:spPr>
          <a:xfrm>
            <a:off x="60480" y="1195560"/>
            <a:ext cx="3902040" cy="516888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26"/>
          <p:cNvGrpSpPr/>
          <p:nvPr/>
        </p:nvGrpSpPr>
        <p:grpSpPr>
          <a:xfrm>
            <a:off x="3092040" y="1733040"/>
            <a:ext cx="2121840" cy="3276720"/>
            <a:chOff x="3092040" y="1733040"/>
            <a:chExt cx="2121840" cy="3276720"/>
          </a:xfrm>
        </p:grpSpPr>
        <p:sp>
          <p:nvSpPr>
            <p:cNvPr id="240" name="Freeform 27"/>
            <p:cNvSpPr/>
            <p:nvPr/>
          </p:nvSpPr>
          <p:spPr>
            <a:xfrm flipH="1" rot="898200">
              <a:off x="3493080" y="1856160"/>
              <a:ext cx="1352160" cy="30304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 flipH="1" rot="898200">
              <a:off x="3161520" y="4157640"/>
              <a:ext cx="341640" cy="588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 flipH="1" rot="898200">
              <a:off x="3129480" y="4477320"/>
              <a:ext cx="129960" cy="223920"/>
            </a:xfrm>
            <a:prstGeom prst="pie">
              <a:avLst/>
            </a:prstGeom>
            <a:solidFill>
              <a:srgbClr val="ca6602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30"/>
            <p:cNvGrpSpPr/>
            <p:nvPr/>
          </p:nvGrpSpPr>
          <p:grpSpPr>
            <a:xfrm>
              <a:off x="3307680" y="1781280"/>
              <a:ext cx="1883160" cy="2751840"/>
              <a:chOff x="3307680" y="1781280"/>
              <a:chExt cx="1883160" cy="2751840"/>
            </a:xfrm>
          </p:grpSpPr>
          <p:sp>
            <p:nvSpPr>
              <p:cNvPr id="244" name="Freeform 31"/>
              <p:cNvSpPr/>
              <p:nvPr/>
            </p:nvSpPr>
            <p:spPr>
              <a:xfrm flipH="1" rot="898200">
                <a:off x="3614400" y="1890720"/>
                <a:ext cx="1181160" cy="2532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2"/>
              <p:cNvSpPr/>
              <p:nvPr/>
            </p:nvSpPr>
            <p:spPr>
              <a:xfrm flipH="1" rot="19181400">
                <a:off x="5052240" y="1964160"/>
                <a:ext cx="66600" cy="24588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Прямая соединительная линия 49"/>
          <p:cNvSpPr/>
          <p:nvPr/>
        </p:nvSpPr>
        <p:spPr>
          <a:xfrm>
            <a:off x="3057480" y="4670280"/>
            <a:ext cx="2286000" cy="18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55"/>
          <p:cNvSpPr/>
          <p:nvPr/>
        </p:nvSpPr>
        <p:spPr>
          <a:xfrm>
            <a:off x="1800360" y="1771560"/>
            <a:ext cx="221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63"/>
          <p:cNvSpPr/>
          <p:nvPr/>
        </p:nvSpPr>
        <p:spPr>
          <a:xfrm>
            <a:off x="4026600" y="1758960"/>
            <a:ext cx="1258920" cy="2884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65"/>
          <p:cNvSpPr/>
          <p:nvPr/>
        </p:nvSpPr>
        <p:spPr>
          <a:xfrm flipH="1" flipV="1">
            <a:off x="3085920" y="4669920"/>
            <a:ext cx="221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67"/>
          <p:cNvSpPr/>
          <p:nvPr/>
        </p:nvSpPr>
        <p:spPr>
          <a:xfrm>
            <a:off x="1800360" y="1758960"/>
            <a:ext cx="1285920" cy="2928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Построение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9371E-006 L 0.33003 0.27267 E">
                                      <p:cBhvr>
                                        <p:cTn id="7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9056E-006 L -0.19062 -0.57585 E">
                                      <p:cBhvr>
                                        <p:cTn id="79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5661E-006 L 0.22309 -0.00578 E">
                                      <p:cBhvr>
                                        <p:cTn id="105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9722E-006 L 0.22586 0.42183 E">
                                      <p:cBhvr>
                                        <p:cTn id="121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5661E-006 L 0.22309 -0.00578 E">
                                      <p:cBhvr>
                                        <p:cTn id="13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1-03-19T13:56:20Z</dcterms:modified>
  <cp:revision>40</cp:revision>
  <dc:subject/>
  <dc:title>Параллелограмм и его свойства</dc:title>
</cp:coreProperties>
</file>