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B6B-381C-4585-BC3C-9686AEA2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7F5-A237-4C57-95BB-621F9548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037-E665-4745-9429-C8B3797C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EE9-F08B-41E0-96EE-96E1129C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6E36-BCD9-4AA5-BFDF-ED1BEAF3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7782-5AC6-48D4-A878-0D6FF802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FB3A-3D2D-445E-BFA1-CCA5BB61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7F73-0BCE-4EE6-98EF-11D4B51D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8BE6-BFF3-4023-BAA5-5A742D89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DF88-D83B-4AB9-B0E4-6BE4F7DA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9018-14E0-496F-8A87-CB392CDD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B68-A589-4D0E-B0C2-4E09F578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3EDE-A6FA-4E13-8C38-48099B64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3E55-120C-400D-97FD-06B78D5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11CE-9350-40DC-9839-898D34B1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AAF4-16F5-4BC0-9EEA-6E306C4B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4E43-B6E6-4967-9F8C-F779B7A9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C035-96E8-4765-8AC5-70CA6C8A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54F-B27D-4417-9488-AC1C755E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BF4-7A29-41C1-96E0-BE746BE5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340-9298-4B5D-B358-5CC199C5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175-BDBB-4870-9769-E4C2963C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0A7-C79A-41D2-872F-D6CC0A67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AEF-E7AE-4B40-BAC0-29618C4E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2E0B-30EF-42DA-B0DC-DDCB3390D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427E-F399-4AD5-96F5-6D8A89B39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92c27"/>
                </a:solidFill>
                <a:latin typeface="Tahoma"/>
              </a:rPr>
              <a:t>Построение </a:t>
            </a: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(формы) </a:t>
            </a:r>
            <a:r>
              <a:rPr b="1" lang="en-US" sz="6600" spc="-1" strike="noStrike">
                <a:solidFill>
                  <a:srgbClr val="f92c27"/>
                </a:solidFill>
                <a:latin typeface="Tahoma"/>
              </a:rPr>
              <a:t>музык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Р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ОНД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4724280" cy="6172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379584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Э.Григ Песня Сольвей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Трехчастная форма</a:t>
            </a:r>
            <a:br>
              <a:rPr sz="40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Музыка, в которой первая и третья части одинаковые, а средняя контрастна по характеру, настро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72200" y="3657600"/>
            <a:ext cx="127944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96080" y="3813120"/>
            <a:ext cx="990720" cy="947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00600" y="3809880"/>
            <a:ext cx="1066680" cy="1020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80880" y="4876920"/>
            <a:ext cx="1067040" cy="1020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600200" y="4800600"/>
            <a:ext cx="1279440" cy="129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124080" y="4800600"/>
            <a:ext cx="129564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Л.В. Бетховен</a:t>
            </a:r>
            <a:br>
              <a:rPr sz="4400"/>
            </a:b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«Веселая. Груст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-380880" y="-304920"/>
            <a:ext cx="3070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Рондо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ая из попевок главная, а какая н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«Мы второклассники»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« Мы девочки»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« 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второклассники» 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ff00"/>
                </a:solidFill>
                <a:latin typeface="Tahoma"/>
              </a:rPr>
              <a:t>« Мы мальчики» 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«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второклассник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2c27"/>
                </a:solidFill>
                <a:latin typeface="Tahoma"/>
              </a:rPr>
              <a:t>«Мы второклассники»- </a:t>
            </a:r>
            <a:r>
              <a:rPr b="1" lang="en-US" sz="3200" spc="-1" strike="noStrike" u="sng">
                <a:solidFill>
                  <a:srgbClr val="f92c27"/>
                </a:solidFill>
                <a:uFillTx/>
                <a:latin typeface="Tahoma"/>
              </a:rPr>
              <a:t>главная</a:t>
            </a:r>
            <a:r>
              <a:rPr b="0" lang="en-US" sz="3200" spc="-1" strike="noStrike">
                <a:solidFill>
                  <a:srgbClr val="f92c27"/>
                </a:solidFill>
                <a:latin typeface="Tahoma"/>
              </a:rPr>
              <a:t>, звучит 3 р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167652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« Мы девочки»- </a:t>
            </a:r>
            <a:r>
              <a:rPr b="1" lang="en-US" sz="3200" spc="-1" strike="noStrike" u="sng">
                <a:solidFill>
                  <a:srgbClr val="f92c27"/>
                </a:solidFill>
                <a:uFillTx/>
                <a:latin typeface="Tahoma"/>
              </a:rPr>
              <a:t>эпиз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676520"/>
            <a:ext cx="53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« Мы мальчики»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1067040" cy="1020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91520" y="434340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86200" y="434340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209680" y="4267080"/>
            <a:ext cx="1279800" cy="1295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562720" y="4267080"/>
            <a:ext cx="129528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2c27"/>
                </a:solidFill>
                <a:latin typeface="Tahoma"/>
              </a:rPr>
              <a:t>Форма-Ронд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Ронд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руг, круж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вная мелодия постоянно повторяется через различные промежутки времени-</a:t>
            </a:r>
            <a:r>
              <a:rPr b="0" lang="ru-RU" sz="2800" spc="-1" strike="noStrike">
                <a:solidFill>
                  <a:srgbClr val="f92c27"/>
                </a:solidFill>
                <a:latin typeface="Tahoma"/>
              </a:rPr>
              <a:t>эпиз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0" y="2127600"/>
            <a:ext cx="4195800" cy="4016160"/>
            <a:chOff x="4572000" y="2127600"/>
            <a:chExt cx="4195800" cy="4016160"/>
          </a:xfrm>
        </p:grpSpPr>
        <p:sp>
          <p:nvSpPr>
            <p:cNvPr id="131" name="_s44040"/>
            <p:cNvSpPr/>
            <p:nvPr/>
          </p:nvSpPr>
          <p:spPr>
            <a:xfrm>
              <a:off x="6280200" y="2194200"/>
              <a:ext cx="777960" cy="77760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44058"/>
            <p:cNvSpPr/>
            <p:nvPr/>
          </p:nvSpPr>
          <p:spPr>
            <a:xfrm rot="2160000">
              <a:off x="7192800" y="249048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44046"/>
            <p:cNvSpPr/>
            <p:nvPr/>
          </p:nvSpPr>
          <p:spPr>
            <a:xfrm rot="4320000">
              <a:off x="7757640" y="326700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44048"/>
            <p:cNvSpPr/>
            <p:nvPr/>
          </p:nvSpPr>
          <p:spPr>
            <a:xfrm rot="6480000">
              <a:off x="7759440" y="422748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44050"/>
            <p:cNvSpPr/>
            <p:nvPr/>
          </p:nvSpPr>
          <p:spPr>
            <a:xfrm rot="8640000">
              <a:off x="7194240" y="500508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44052"/>
            <p:cNvSpPr/>
            <p:nvPr/>
          </p:nvSpPr>
          <p:spPr>
            <a:xfrm rot="10800000">
              <a:off x="6279840" y="530352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44054"/>
            <p:cNvSpPr/>
            <p:nvPr/>
          </p:nvSpPr>
          <p:spPr>
            <a:xfrm rot="12960000">
              <a:off x="5365440" y="500688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44056"/>
            <p:cNvSpPr/>
            <p:nvPr/>
          </p:nvSpPr>
          <p:spPr>
            <a:xfrm rot="15120000">
              <a:off x="4800600" y="422856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44041"/>
            <p:cNvSpPr/>
            <p:nvPr/>
          </p:nvSpPr>
          <p:spPr>
            <a:xfrm rot="17280000">
              <a:off x="4799160" y="3268080"/>
              <a:ext cx="777960" cy="7779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44043"/>
            <p:cNvSpPr/>
            <p:nvPr/>
          </p:nvSpPr>
          <p:spPr>
            <a:xfrm rot="19440000">
              <a:off x="5364000" y="2490480"/>
              <a:ext cx="777600" cy="7779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44038"/>
            <p:cNvSpPr/>
            <p:nvPr/>
          </p:nvSpPr>
          <p:spPr>
            <a:xfrm>
              <a:off x="6986520" y="212760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44039"/>
            <p:cNvSpPr/>
            <p:nvPr/>
          </p:nvSpPr>
          <p:spPr>
            <a:xfrm>
              <a:off x="4923000" y="28004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44042"/>
            <p:cNvSpPr/>
            <p:nvPr/>
          </p:nvSpPr>
          <p:spPr>
            <a:xfrm>
              <a:off x="5845320" y="212904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44045"/>
            <p:cNvSpPr/>
            <p:nvPr/>
          </p:nvSpPr>
          <p:spPr>
            <a:xfrm>
              <a:off x="8263080" y="388152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44047"/>
            <p:cNvSpPr/>
            <p:nvPr/>
          </p:nvSpPr>
          <p:spPr>
            <a:xfrm>
              <a:off x="7912080" y="496584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44049"/>
            <p:cNvSpPr/>
            <p:nvPr/>
          </p:nvSpPr>
          <p:spPr>
            <a:xfrm>
              <a:off x="6989760" y="56372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44051"/>
            <p:cNvSpPr/>
            <p:nvPr/>
          </p:nvSpPr>
          <p:spPr>
            <a:xfrm>
              <a:off x="5850000" y="563904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44053"/>
            <p:cNvSpPr/>
            <p:nvPr/>
          </p:nvSpPr>
          <p:spPr>
            <a:xfrm>
              <a:off x="4926240" y="497052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44055"/>
            <p:cNvSpPr/>
            <p:nvPr/>
          </p:nvSpPr>
          <p:spPr>
            <a:xfrm>
              <a:off x="4572000" y="388620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Д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44057"/>
            <p:cNvSpPr/>
            <p:nvPr/>
          </p:nvSpPr>
          <p:spPr>
            <a:xfrm>
              <a:off x="7910640" y="279720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Tahoma"/>
                </a:rPr>
                <a:t>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Примеры формы рондо в музыке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. Б. Кабалевский Классное ронд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 . Б. Кабалевский «Зачем нам выстроили д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 П. Бородин «Спящая княжн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3575160" cy="3962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85840" y="3805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А. П. Бородин</a:t>
            </a:r>
            <a:br>
              <a:rPr sz="4400"/>
            </a:b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«Спящая княжн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505320" y="2590920"/>
            <a:ext cx="5638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c27"/>
                </a:solidFill>
                <a:latin typeface="Tahoma"/>
              </a:rPr>
              <a:t>В. А. Моцарт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«Рондо в турецком стиле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13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2c27"/>
                </a:solidFill>
                <a:latin typeface="Tahoma"/>
              </a:rPr>
              <a:t>Музыкальные форм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ух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х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тырехчаст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нд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ри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2c27"/>
                </a:solidFill>
                <a:latin typeface="Tahoma"/>
              </a:rPr>
              <a:t>Примеры формы рондо в литературе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447920"/>
            <a:ext cx="2590920" cy="2209680"/>
            <a:chOff x="0" y="1447920"/>
            <a:chExt cx="2590920" cy="2209680"/>
          </a:xfrm>
        </p:grpSpPr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0" y="1447920"/>
              <a:ext cx="25909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0" y="1447920"/>
              <a:ext cx="259092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238880" y="3809880"/>
            <a:ext cx="1428840" cy="1067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666880" y="3962520"/>
            <a:ext cx="133380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238880" y="5562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0" y="3886200"/>
            <a:ext cx="1905120" cy="1425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4952880" y="3809880"/>
            <a:ext cx="1676520" cy="1263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6400800" y="1676520"/>
            <a:ext cx="2362320" cy="1774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1447920" y="5638680"/>
            <a:ext cx="1400040" cy="1047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3276720" y="20574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4038480" y="5562720"/>
            <a:ext cx="16002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2c27"/>
                </a:solidFill>
                <a:latin typeface="Tahoma"/>
              </a:rPr>
              <a:t>Музыкальная виктор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слушав произведение определите фор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505320" y="3221640"/>
            <a:ext cx="2133000" cy="1784880"/>
            <a:chOff x="3505320" y="3221640"/>
            <a:chExt cx="2133000" cy="1784880"/>
          </a:xfrm>
        </p:grpSpPr>
        <p:sp>
          <p:nvSpPr>
            <p:cNvPr id="176" name="_s46086"/>
            <p:cNvSpPr/>
            <p:nvPr/>
          </p:nvSpPr>
          <p:spPr>
            <a:xfrm>
              <a:off x="4373640" y="325116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46087"/>
            <p:cNvSpPr/>
            <p:nvPr/>
          </p:nvSpPr>
          <p:spPr>
            <a:xfrm rot="2160000">
              <a:off x="4838040" y="338292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46088"/>
            <p:cNvSpPr/>
            <p:nvPr/>
          </p:nvSpPr>
          <p:spPr>
            <a:xfrm rot="4320000">
              <a:off x="5150160" y="370332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46089"/>
            <p:cNvSpPr/>
            <p:nvPr/>
          </p:nvSpPr>
          <p:spPr>
            <a:xfrm rot="6480000">
              <a:off x="5150520" y="412992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46090"/>
            <p:cNvSpPr/>
            <p:nvPr/>
          </p:nvSpPr>
          <p:spPr>
            <a:xfrm rot="8640000">
              <a:off x="4838400" y="450072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46091"/>
            <p:cNvSpPr/>
            <p:nvPr/>
          </p:nvSpPr>
          <p:spPr>
            <a:xfrm rot="10800000">
              <a:off x="4373640" y="463320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46092"/>
            <p:cNvSpPr/>
            <p:nvPr/>
          </p:nvSpPr>
          <p:spPr>
            <a:xfrm rot="12960000">
              <a:off x="3908520" y="450108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46093"/>
            <p:cNvSpPr/>
            <p:nvPr/>
          </p:nvSpPr>
          <p:spPr>
            <a:xfrm rot="15120000">
              <a:off x="3645720" y="413064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46094"/>
            <p:cNvSpPr/>
            <p:nvPr/>
          </p:nvSpPr>
          <p:spPr>
            <a:xfrm rot="17280000">
              <a:off x="3645360" y="3704040"/>
              <a:ext cx="345600" cy="39528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46095"/>
            <p:cNvSpPr/>
            <p:nvPr/>
          </p:nvSpPr>
          <p:spPr>
            <a:xfrm rot="19440000">
              <a:off x="3908160" y="3382560"/>
              <a:ext cx="395280" cy="3456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423" y="17990"/>
                  </a:moveTo>
                  <a:arcTo wR="-7200" hR="-7200" stAng="5580000" swAng="-900000"/>
                  <a:lnTo>
                    <a:pt x="8555" y="236"/>
                  </a:lnTo>
                  <a:arcTo wR="10800" hR="10800" stAng="-6120000" swAng="900000"/>
                  <a:lnTo>
                    <a:pt x="11507" y="-2681"/>
                  </a:lnTo>
                  <a:lnTo>
                    <a:pt x="15765" y="2048"/>
                  </a:lnTo>
                  <a:lnTo>
                    <a:pt x="11036" y="63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46096"/>
            <p:cNvSpPr/>
            <p:nvPr/>
          </p:nvSpPr>
          <p:spPr>
            <a:xfrm>
              <a:off x="4732920" y="3221640"/>
              <a:ext cx="25668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46097"/>
            <p:cNvSpPr/>
            <p:nvPr/>
          </p:nvSpPr>
          <p:spPr>
            <a:xfrm>
              <a:off x="3683520" y="35204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46098"/>
            <p:cNvSpPr/>
            <p:nvPr/>
          </p:nvSpPr>
          <p:spPr>
            <a:xfrm>
              <a:off x="4152600" y="322200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Е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46099"/>
            <p:cNvSpPr/>
            <p:nvPr/>
          </p:nvSpPr>
          <p:spPr>
            <a:xfrm>
              <a:off x="5382000" y="40010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46100"/>
            <p:cNvSpPr/>
            <p:nvPr/>
          </p:nvSpPr>
          <p:spPr>
            <a:xfrm>
              <a:off x="5203440" y="4483080"/>
              <a:ext cx="25668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В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46101"/>
            <p:cNvSpPr/>
            <p:nvPr/>
          </p:nvSpPr>
          <p:spPr>
            <a:xfrm>
              <a:off x="4734720" y="478152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46102"/>
            <p:cNvSpPr/>
            <p:nvPr/>
          </p:nvSpPr>
          <p:spPr>
            <a:xfrm>
              <a:off x="4155120" y="47822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Г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6103"/>
            <p:cNvSpPr/>
            <p:nvPr/>
          </p:nvSpPr>
          <p:spPr>
            <a:xfrm>
              <a:off x="3685320" y="448524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 u="sng">
                  <a:solidFill>
                    <a:srgbClr val="f92c27"/>
                  </a:solidFill>
                  <a:uFillTx/>
                  <a:latin typeface="Tahoma"/>
                </a:rPr>
                <a:t>А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46104"/>
            <p:cNvSpPr/>
            <p:nvPr/>
          </p:nvSpPr>
          <p:spPr>
            <a:xfrm>
              <a:off x="3505320" y="400320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Д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46105"/>
            <p:cNvSpPr/>
            <p:nvPr/>
          </p:nvSpPr>
          <p:spPr>
            <a:xfrm>
              <a:off x="5202720" y="3519000"/>
              <a:ext cx="256320" cy="2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ffffff"/>
                  </a:solidFill>
                  <a:uFillTx/>
                  <a:latin typeface="Tahoma"/>
                </a:rPr>
                <a:t>Б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103320"/>
            <a:ext cx="9144000" cy="6754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103320"/>
            <a:ext cx="914400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92c27"/>
                </a:solidFill>
                <a:latin typeface="Tahoma"/>
              </a:rPr>
              <a:t>Одночастная форма</a:t>
            </a: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Нет изменения характера музы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есня без припе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Попевка </a:t>
            </a:r>
            <a:br>
              <a:rPr sz="4400"/>
            </a:b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«Мы мальчи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мальч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мальч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рьезный мы нар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 наступит ле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мы пойдем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мы пойдем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Попевка </a:t>
            </a:r>
            <a:br>
              <a:rPr sz="4400"/>
            </a:br>
            <a:r>
              <a:rPr b="0" lang="ru-RU" sz="4400" spc="-1" strike="noStrike">
                <a:solidFill>
                  <a:srgbClr val="f92c27"/>
                </a:solidFill>
                <a:latin typeface="Tahoma"/>
              </a:rPr>
              <a:t>«Мы девочки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дево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дево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елые резвуш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 наступит ле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правимся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правимся в пох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92c27"/>
                </a:solidFill>
                <a:latin typeface="Tahoma"/>
              </a:rPr>
              <a:t>Попевка </a:t>
            </a:r>
            <a:br>
              <a:rPr sz="4800"/>
            </a:br>
            <a:r>
              <a:rPr b="0" lang="ru-RU" sz="4800" spc="-1" strike="noStrike">
                <a:solidFill>
                  <a:srgbClr val="f92c27"/>
                </a:solidFill>
                <a:latin typeface="Tahoma"/>
              </a:rPr>
              <a:t>«Мы второклассники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тороклас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тороклас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люди взросл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малыш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тороклассн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малыш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-779400"/>
            <a:ext cx="9144000" cy="7637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60948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92c27"/>
                </a:solidFill>
                <a:latin typeface="Tahoma"/>
              </a:rPr>
              <a:t>Пастушья песня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Французская народная пес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145400"/>
            <a:ext cx="2743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92c27"/>
                </a:solidFill>
                <a:latin typeface="Tahoma"/>
              </a:rPr>
              <a:t>Двухчастная форма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Состоит из двух разных, контрастных по характеру част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Песня с запевом и припев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3657600"/>
            <a:ext cx="2557440" cy="2590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92c27"/>
                </a:solidFill>
                <a:latin typeface="Tahoma"/>
              </a:rPr>
              <a:t>Двухчастная форма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19810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ZPC02</cp:lastModifiedBy>
  <dcterms:modified xsi:type="dcterms:W3CDTF">2011-06-09T09:14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