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077-9E82-4403-A3E4-6180A703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D51-6A27-4311-8D72-477EBC61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698-A17F-47AE-AC89-57E19FA6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302-A47A-4B21-9318-7E45A043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C383-01EF-4351-A936-FBC088D0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CC02-648C-467E-8BD3-674B89D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E4AA-A6A5-4C17-BAC0-548C9412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E2C0-B445-4C24-B956-B88D867C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F11-129B-4A70-A848-DDDFF53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7C87-873F-42D3-B777-C279221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FC8-CB77-4990-B513-3DB4FF1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DFA-60F9-402B-9955-9AC8B00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6FD1-BAE9-49F7-A3BD-7CF0F263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D07B-5F65-4AB6-A66E-994A4AFF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2EB4-A79C-4975-9715-137DC836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1541-F552-4136-9398-A7D34D70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79C8-703F-4051-9C33-8156A769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9D3-23F0-496F-B762-80EB2461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D15-5938-4BDA-8AB0-075764C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DB4-9EC4-4538-B618-F34D731C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001-67E0-4871-9919-A1213D20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27B-0803-4DBF-9DA9-FAF7C78A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8F0-6CCC-4CB2-9D66-94D96005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7BB-D36B-48D4-B74F-DEDF14C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A234-2506-4DA1-BF7B-3BDCC142C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E9D-0972-421B-9593-6EDC6B6CC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Построение </a:t>
            </a: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(формы) </a:t>
            </a: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музы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ОН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724280" cy="6172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379584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Э.Григ Песня Сольвей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Трехчастная форма</a:t>
            </a:r>
            <a:br>
              <a:rPr sz="40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Музыка, в которой первая и третья части одинаковые, а средняя контрастна по характеру, настро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96080" y="3813120"/>
            <a:ext cx="990720" cy="94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1066680" cy="102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876920"/>
            <a:ext cx="1067040" cy="1020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600200" y="480060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124080" y="4800600"/>
            <a:ext cx="12956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Л.В. Бетховен</a:t>
            </a:r>
            <a:br>
              <a:rPr sz="4400"/>
            </a:b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«Веселая. Груст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380880" y="-304920"/>
            <a:ext cx="3070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Ронд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из попевок главная, а какая н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Мы второклассники»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 Мы девочки»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 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второклассники» 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 Мы мальчики» 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второклассник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2c27"/>
                </a:solidFill>
                <a:latin typeface="Tahoma"/>
              </a:rPr>
              <a:t>«Мы второклассники»- </a:t>
            </a:r>
            <a:r>
              <a:rPr b="1" lang="en-US" sz="3200" spc="-1" strike="noStrike" u="sng">
                <a:solidFill>
                  <a:srgbClr val="f92c27"/>
                </a:solidFill>
                <a:uFillTx/>
                <a:latin typeface="Tahoma"/>
              </a:rPr>
              <a:t>главная</a:t>
            </a:r>
            <a:r>
              <a:rPr b="0" lang="en-US" sz="3200" spc="-1" strike="noStrike">
                <a:solidFill>
                  <a:srgbClr val="f92c27"/>
                </a:solidFill>
                <a:latin typeface="Tahoma"/>
              </a:rPr>
              <a:t>, звучит 3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6765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« Мы девочки»- </a:t>
            </a:r>
            <a:r>
              <a:rPr b="1" lang="en-US" sz="3200" spc="-1" strike="noStrike" u="sng">
                <a:solidFill>
                  <a:srgbClr val="f92c27"/>
                </a:solidFill>
                <a:uFillTx/>
                <a:latin typeface="Tahoma"/>
              </a:rPr>
              <a:t>эпиз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7652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« Мы мальчики»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1067040" cy="102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1520" y="43434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09680" y="4267080"/>
            <a:ext cx="1279800" cy="12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62720" y="4267080"/>
            <a:ext cx="12952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Форма-Ронд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Ронд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руг, круж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ая мелодия постоянно повторяется через различные промежутки времени-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эпиз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0" y="2127600"/>
            <a:ext cx="4195800" cy="4016160"/>
            <a:chOff x="4572000" y="2127600"/>
            <a:chExt cx="4195800" cy="4016160"/>
          </a:xfrm>
        </p:grpSpPr>
        <p:sp>
          <p:nvSpPr>
            <p:cNvPr id="131" name="_s44040"/>
            <p:cNvSpPr/>
            <p:nvPr/>
          </p:nvSpPr>
          <p:spPr>
            <a:xfrm>
              <a:off x="6280200" y="2194200"/>
              <a:ext cx="777960" cy="7776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4058"/>
            <p:cNvSpPr/>
            <p:nvPr/>
          </p:nvSpPr>
          <p:spPr>
            <a:xfrm rot="2160000">
              <a:off x="7192800" y="2490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4046"/>
            <p:cNvSpPr/>
            <p:nvPr/>
          </p:nvSpPr>
          <p:spPr>
            <a:xfrm rot="4320000">
              <a:off x="7757640" y="326700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4048"/>
            <p:cNvSpPr/>
            <p:nvPr/>
          </p:nvSpPr>
          <p:spPr>
            <a:xfrm rot="6480000">
              <a:off x="7759440" y="4227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44050"/>
            <p:cNvSpPr/>
            <p:nvPr/>
          </p:nvSpPr>
          <p:spPr>
            <a:xfrm rot="8640000">
              <a:off x="7194240" y="50050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44052"/>
            <p:cNvSpPr/>
            <p:nvPr/>
          </p:nvSpPr>
          <p:spPr>
            <a:xfrm rot="10800000">
              <a:off x="6279840" y="530352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44054"/>
            <p:cNvSpPr/>
            <p:nvPr/>
          </p:nvSpPr>
          <p:spPr>
            <a:xfrm rot="12960000">
              <a:off x="5365440" y="50068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44056"/>
            <p:cNvSpPr/>
            <p:nvPr/>
          </p:nvSpPr>
          <p:spPr>
            <a:xfrm rot="15120000">
              <a:off x="4800600" y="422856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44041"/>
            <p:cNvSpPr/>
            <p:nvPr/>
          </p:nvSpPr>
          <p:spPr>
            <a:xfrm rot="17280000">
              <a:off x="4799160" y="32680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44043"/>
            <p:cNvSpPr/>
            <p:nvPr/>
          </p:nvSpPr>
          <p:spPr>
            <a:xfrm rot="19440000">
              <a:off x="5364000" y="2490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44038"/>
            <p:cNvSpPr/>
            <p:nvPr/>
          </p:nvSpPr>
          <p:spPr>
            <a:xfrm>
              <a:off x="6986520" y="212760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44039"/>
            <p:cNvSpPr/>
            <p:nvPr/>
          </p:nvSpPr>
          <p:spPr>
            <a:xfrm>
              <a:off x="4923000" y="28004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44042"/>
            <p:cNvSpPr/>
            <p:nvPr/>
          </p:nvSpPr>
          <p:spPr>
            <a:xfrm>
              <a:off x="5845320" y="21290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4045"/>
            <p:cNvSpPr/>
            <p:nvPr/>
          </p:nvSpPr>
          <p:spPr>
            <a:xfrm>
              <a:off x="8263080" y="38815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44047"/>
            <p:cNvSpPr/>
            <p:nvPr/>
          </p:nvSpPr>
          <p:spPr>
            <a:xfrm>
              <a:off x="7912080" y="496584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4049"/>
            <p:cNvSpPr/>
            <p:nvPr/>
          </p:nvSpPr>
          <p:spPr>
            <a:xfrm>
              <a:off x="6989760" y="56372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4051"/>
            <p:cNvSpPr/>
            <p:nvPr/>
          </p:nvSpPr>
          <p:spPr>
            <a:xfrm>
              <a:off x="5850000" y="56390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4053"/>
            <p:cNvSpPr/>
            <p:nvPr/>
          </p:nvSpPr>
          <p:spPr>
            <a:xfrm>
              <a:off x="4926240" y="49705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4055"/>
            <p:cNvSpPr/>
            <p:nvPr/>
          </p:nvSpPr>
          <p:spPr>
            <a:xfrm>
              <a:off x="4572000" y="388620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4057"/>
            <p:cNvSpPr/>
            <p:nvPr/>
          </p:nvSpPr>
          <p:spPr>
            <a:xfrm>
              <a:off x="7910640" y="279720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Примеры формы рондо в музыке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 Б. Кабалевский Классное ро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 . Б. Кабалевский «Зачем нам выстроили д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П. Бородин «Спящая княж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357516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А. П. Бородин</a:t>
            </a:r>
            <a:br>
              <a:rPr sz="4400"/>
            </a:b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«Спящая княжн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56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В. А. Моцарт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«Рондо в турецком стиле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13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Музыкальные фор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у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е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ри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2c27"/>
                </a:solidFill>
                <a:latin typeface="Tahoma"/>
              </a:rPr>
              <a:t>Примеры формы рондо в литератур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447920"/>
            <a:ext cx="2590920" cy="2209680"/>
            <a:chOff x="0" y="1447920"/>
            <a:chExt cx="2590920" cy="22096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5909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0" y="1447920"/>
              <a:ext cx="259092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666880" y="3962520"/>
            <a:ext cx="133380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238880" y="5562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0" y="3886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952880" y="380988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400800" y="1676520"/>
            <a:ext cx="2362320" cy="1774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447920" y="5638680"/>
            <a:ext cx="1400040" cy="1047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3276720" y="20574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038480" y="5562720"/>
            <a:ext cx="1600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Музыкальная 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слушав произведение определите фор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05320" y="3221640"/>
            <a:ext cx="2133000" cy="1784880"/>
            <a:chOff x="3505320" y="3221640"/>
            <a:chExt cx="2133000" cy="1784880"/>
          </a:xfrm>
        </p:grpSpPr>
        <p:sp>
          <p:nvSpPr>
            <p:cNvPr id="176" name="_s46086"/>
            <p:cNvSpPr/>
            <p:nvPr/>
          </p:nvSpPr>
          <p:spPr>
            <a:xfrm>
              <a:off x="4373640" y="325116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46087"/>
            <p:cNvSpPr/>
            <p:nvPr/>
          </p:nvSpPr>
          <p:spPr>
            <a:xfrm rot="2160000">
              <a:off x="4838040" y="338292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46088"/>
            <p:cNvSpPr/>
            <p:nvPr/>
          </p:nvSpPr>
          <p:spPr>
            <a:xfrm rot="4320000">
              <a:off x="5150160" y="370332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46089"/>
            <p:cNvSpPr/>
            <p:nvPr/>
          </p:nvSpPr>
          <p:spPr>
            <a:xfrm rot="6480000">
              <a:off x="5150520" y="412992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46090"/>
            <p:cNvSpPr/>
            <p:nvPr/>
          </p:nvSpPr>
          <p:spPr>
            <a:xfrm rot="8640000">
              <a:off x="4838400" y="450072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46091"/>
            <p:cNvSpPr/>
            <p:nvPr/>
          </p:nvSpPr>
          <p:spPr>
            <a:xfrm rot="10800000">
              <a:off x="4373640" y="463320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46092"/>
            <p:cNvSpPr/>
            <p:nvPr/>
          </p:nvSpPr>
          <p:spPr>
            <a:xfrm rot="12960000">
              <a:off x="3908520" y="450108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46093"/>
            <p:cNvSpPr/>
            <p:nvPr/>
          </p:nvSpPr>
          <p:spPr>
            <a:xfrm rot="15120000">
              <a:off x="3645720" y="413064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46094"/>
            <p:cNvSpPr/>
            <p:nvPr/>
          </p:nvSpPr>
          <p:spPr>
            <a:xfrm rot="17280000">
              <a:off x="3645360" y="370404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46095"/>
            <p:cNvSpPr/>
            <p:nvPr/>
          </p:nvSpPr>
          <p:spPr>
            <a:xfrm rot="19440000">
              <a:off x="3908160" y="338256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46096"/>
            <p:cNvSpPr/>
            <p:nvPr/>
          </p:nvSpPr>
          <p:spPr>
            <a:xfrm>
              <a:off x="4732920" y="3221640"/>
              <a:ext cx="25668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46097"/>
            <p:cNvSpPr/>
            <p:nvPr/>
          </p:nvSpPr>
          <p:spPr>
            <a:xfrm>
              <a:off x="3683520" y="35204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46098"/>
            <p:cNvSpPr/>
            <p:nvPr/>
          </p:nvSpPr>
          <p:spPr>
            <a:xfrm>
              <a:off x="4152600" y="32220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Е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46099"/>
            <p:cNvSpPr/>
            <p:nvPr/>
          </p:nvSpPr>
          <p:spPr>
            <a:xfrm>
              <a:off x="5382000" y="40010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46100"/>
            <p:cNvSpPr/>
            <p:nvPr/>
          </p:nvSpPr>
          <p:spPr>
            <a:xfrm>
              <a:off x="5203440" y="4483080"/>
              <a:ext cx="25668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В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46101"/>
            <p:cNvSpPr/>
            <p:nvPr/>
          </p:nvSpPr>
          <p:spPr>
            <a:xfrm>
              <a:off x="4734720" y="478152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46102"/>
            <p:cNvSpPr/>
            <p:nvPr/>
          </p:nvSpPr>
          <p:spPr>
            <a:xfrm>
              <a:off x="4155120" y="47822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Г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6103"/>
            <p:cNvSpPr/>
            <p:nvPr/>
          </p:nvSpPr>
          <p:spPr>
            <a:xfrm>
              <a:off x="3685320" y="44852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46104"/>
            <p:cNvSpPr/>
            <p:nvPr/>
          </p:nvSpPr>
          <p:spPr>
            <a:xfrm>
              <a:off x="3505320" y="40032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Д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46105"/>
            <p:cNvSpPr/>
            <p:nvPr/>
          </p:nvSpPr>
          <p:spPr>
            <a:xfrm>
              <a:off x="5202720" y="35190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Б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Одночастная форма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Нет изменения характера музы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есня без припе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400"/>
            </a:b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«Мы мальчи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маль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маль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ьезный мы на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наступит ле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мы пойдем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мы пойдем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400"/>
            </a:b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«Мы девоч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ев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ев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елые резву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наступит ле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имся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имся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800"/>
            </a:br>
            <a:r>
              <a:rPr b="0" lang="ru-RU" sz="4800" spc="-1" strike="noStrike">
                <a:solidFill>
                  <a:srgbClr val="f92c27"/>
                </a:solidFill>
                <a:latin typeface="Tahoma"/>
              </a:rPr>
              <a:t>«Мы второклассники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люди взрос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мал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малыш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779400"/>
            <a:ext cx="9144000" cy="7637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0948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Пастушья песн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Французская народная 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145400"/>
            <a:ext cx="27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92c27"/>
                </a:solidFill>
                <a:latin typeface="Tahoma"/>
              </a:rPr>
              <a:t>Двухчастная форма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остоит из двух разных, контрастных по характеру част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есня с запевом и припев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255744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92c27"/>
                </a:solidFill>
                <a:latin typeface="Tahoma"/>
              </a:rPr>
              <a:t>Двухчастная форма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19810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ZPC02</cp:lastModifiedBy>
  <dcterms:modified xsi:type="dcterms:W3CDTF">2011-06-09T09:14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