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DBE-4E6F-4677-BD59-BB7DDDA2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F27-8240-48EF-9743-DB805C48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B06C-8F63-4F9F-8E80-A2FF1644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D5E7-6516-4F6E-910E-7FF7EB05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0DDB-8F0D-45A8-81E9-6E129170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285C-8663-48D0-8E67-11B7ACC5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24AA-97BB-4BF9-AB2C-5ADA4189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1B68-2B47-4247-A71F-58ECCF42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7671-ADA5-40C0-9BA9-A1D055A4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C25B-BFDC-4293-89E2-DC72622B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251D-92F4-494D-B16E-63069F48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50CD-ADB4-4A7D-A39B-A44234E5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F123-15AB-4D68-A4D5-B2E5C294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210C-CFA8-4D68-94E9-670E27DE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5350-BE13-4F1A-B770-6C94B705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9F0C-4D23-4428-B688-A3D4B71C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DB61-8431-4F19-B622-9EBFF9C6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7AB-8788-44E5-BCA7-3C7D8CA1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C38C-90C5-4C0B-B59F-FB119ED6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BCD-4F0A-4085-96F1-276E004C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782-EE67-40B7-B993-51AAA1DA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4B8-A183-433D-8653-D189BD79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5332-E705-42A2-81D4-7E30C706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B5D-8CB5-4667-B36F-0FBAE23B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5409-C8FD-4185-B7EB-C4877A6BC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217B-5144-4F80-993B-187C0827A6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92c27"/>
                </a:solidFill>
                <a:latin typeface="Tahoma"/>
              </a:rPr>
              <a:t>Построение </a:t>
            </a:r>
            <a:r>
              <a:rPr b="0" lang="en-US" sz="6600" spc="-1" strike="noStrike">
                <a:solidFill>
                  <a:srgbClr val="f92c27"/>
                </a:solidFill>
                <a:latin typeface="Tahoma"/>
              </a:rPr>
              <a:t>(формы) </a:t>
            </a:r>
            <a:r>
              <a:rPr b="1" lang="en-US" sz="6600" spc="-1" strike="noStrike">
                <a:solidFill>
                  <a:srgbClr val="f92c27"/>
                </a:solidFill>
                <a:latin typeface="Tahoma"/>
              </a:rPr>
              <a:t>музыки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ahoma"/>
              </a:rPr>
              <a:t>Р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ОНД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8320" y="457200"/>
            <a:ext cx="4724280" cy="6172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38080" y="1676520"/>
            <a:ext cx="3795840" cy="4495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92c27"/>
                </a:solidFill>
                <a:latin typeface="Tahoma"/>
              </a:rPr>
              <a:t>Э.Григ Песня Сольвей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92c27"/>
                </a:solidFill>
                <a:latin typeface="Tahoma"/>
              </a:rPr>
              <a:t>Трехчастная форма</a:t>
            </a:r>
            <a:br>
              <a:rPr sz="4000"/>
            </a:b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Музыка, в которой первая и третья части одинаковые, а средняя контрастна по характеру, настрое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72200" y="3657600"/>
            <a:ext cx="1279440" cy="1295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96080" y="3813120"/>
            <a:ext cx="990720" cy="947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800600" y="3809880"/>
            <a:ext cx="1066680" cy="1020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80880" y="4876920"/>
            <a:ext cx="1067040" cy="1020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600200" y="4800600"/>
            <a:ext cx="1279440" cy="1295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3124080" y="4800600"/>
            <a:ext cx="129564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43040" y="380880"/>
            <a:ext cx="4343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c27"/>
                </a:solidFill>
                <a:latin typeface="Tahoma"/>
              </a:rPr>
              <a:t>Л.В. Бетховен</a:t>
            </a:r>
            <a:br>
              <a:rPr sz="4400"/>
            </a:br>
            <a:r>
              <a:rPr b="0" lang="en-US" sz="4400" spc="-1" strike="noStrike">
                <a:solidFill>
                  <a:srgbClr val="f92c27"/>
                </a:solidFill>
                <a:latin typeface="Tahoma"/>
              </a:rPr>
              <a:t>«Веселая. Грустн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-380880" y="-304920"/>
            <a:ext cx="3070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92c27"/>
                </a:solidFill>
                <a:latin typeface="Tahoma"/>
              </a:rPr>
              <a:t>Рондо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ая из попевок главная, а какая не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c27"/>
                </a:solidFill>
                <a:latin typeface="Tahoma"/>
              </a:rPr>
              <a:t>«Мы второклассники»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« Мы девочки»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92c27"/>
                </a:solidFill>
                <a:latin typeface="Tahoma"/>
              </a:rPr>
              <a:t>« М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c27"/>
                </a:solidFill>
                <a:latin typeface="Tahoma"/>
              </a:rPr>
              <a:t>второклассники» 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« Мы мальчики» 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92c27"/>
                </a:solidFill>
                <a:latin typeface="Tahoma"/>
              </a:rPr>
              <a:t>«М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c27"/>
                </a:solidFill>
                <a:latin typeface="Tahoma"/>
              </a:rPr>
              <a:t>второклассник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2c27"/>
                </a:solidFill>
                <a:latin typeface="Tahoma"/>
              </a:rPr>
              <a:t>«Мы второклассники»- </a:t>
            </a:r>
            <a:r>
              <a:rPr b="1" lang="en-US" sz="3200" spc="-1" strike="noStrike" u="sng">
                <a:solidFill>
                  <a:srgbClr val="f92c27"/>
                </a:solidFill>
                <a:uFillTx/>
                <a:latin typeface="Tahoma"/>
              </a:rPr>
              <a:t>главная</a:t>
            </a:r>
            <a:r>
              <a:rPr b="0" lang="en-US" sz="3200" spc="-1" strike="noStrike">
                <a:solidFill>
                  <a:srgbClr val="f92c27"/>
                </a:solidFill>
                <a:latin typeface="Tahoma"/>
              </a:rPr>
              <a:t>, звучит 3 ра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167652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« Мы девочки»- </a:t>
            </a:r>
            <a:r>
              <a:rPr b="1" lang="en-US" sz="3200" spc="-1" strike="noStrike" u="sng">
                <a:solidFill>
                  <a:srgbClr val="f92c27"/>
                </a:solidFill>
                <a:uFillTx/>
                <a:latin typeface="Tahoma"/>
              </a:rPr>
              <a:t>эпиз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676520"/>
            <a:ext cx="53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« Мы мальчики»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4419720"/>
            <a:ext cx="1067040" cy="1020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391520" y="4343400"/>
            <a:ext cx="1066680" cy="1020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886200" y="4343400"/>
            <a:ext cx="1066680" cy="1020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209680" y="4267080"/>
            <a:ext cx="1279800" cy="1295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562720" y="4267080"/>
            <a:ext cx="129528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2c27"/>
                </a:solidFill>
                <a:latin typeface="Tahoma"/>
              </a:rPr>
              <a:t>Форма-Ронд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c27"/>
                </a:solidFill>
                <a:latin typeface="Tahoma"/>
              </a:rPr>
              <a:t>Ронд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руг, круж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вная мелодия постоянно повторяется через различные промежутки времени-</a:t>
            </a:r>
            <a:r>
              <a:rPr b="0" lang="ru-RU" sz="2800" spc="-1" strike="noStrike">
                <a:solidFill>
                  <a:srgbClr val="f92c27"/>
                </a:solidFill>
                <a:latin typeface="Tahoma"/>
              </a:rPr>
              <a:t>эпиз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0" y="2127600"/>
            <a:ext cx="4195800" cy="4016160"/>
            <a:chOff x="4572000" y="2127600"/>
            <a:chExt cx="4195800" cy="4016160"/>
          </a:xfrm>
        </p:grpSpPr>
        <p:sp>
          <p:nvSpPr>
            <p:cNvPr id="131" name="_s44040"/>
            <p:cNvSpPr/>
            <p:nvPr/>
          </p:nvSpPr>
          <p:spPr>
            <a:xfrm>
              <a:off x="6280200" y="2194200"/>
              <a:ext cx="777960" cy="77760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44058"/>
            <p:cNvSpPr/>
            <p:nvPr/>
          </p:nvSpPr>
          <p:spPr>
            <a:xfrm rot="2160000">
              <a:off x="7192800" y="2490480"/>
              <a:ext cx="777600" cy="77796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44046"/>
            <p:cNvSpPr/>
            <p:nvPr/>
          </p:nvSpPr>
          <p:spPr>
            <a:xfrm rot="4320000">
              <a:off x="7757640" y="3267000"/>
              <a:ext cx="777600" cy="77796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44048"/>
            <p:cNvSpPr/>
            <p:nvPr/>
          </p:nvSpPr>
          <p:spPr>
            <a:xfrm rot="6480000">
              <a:off x="7759440" y="4227480"/>
              <a:ext cx="777600" cy="77796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44050"/>
            <p:cNvSpPr/>
            <p:nvPr/>
          </p:nvSpPr>
          <p:spPr>
            <a:xfrm rot="8640000">
              <a:off x="7194240" y="5005080"/>
              <a:ext cx="777960" cy="7779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44052"/>
            <p:cNvSpPr/>
            <p:nvPr/>
          </p:nvSpPr>
          <p:spPr>
            <a:xfrm rot="10800000">
              <a:off x="6279840" y="5303520"/>
              <a:ext cx="777960" cy="7779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44054"/>
            <p:cNvSpPr/>
            <p:nvPr/>
          </p:nvSpPr>
          <p:spPr>
            <a:xfrm rot="12960000">
              <a:off x="5365440" y="5006880"/>
              <a:ext cx="777960" cy="7779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44056"/>
            <p:cNvSpPr/>
            <p:nvPr/>
          </p:nvSpPr>
          <p:spPr>
            <a:xfrm rot="15120000">
              <a:off x="4800600" y="4228560"/>
              <a:ext cx="777960" cy="7779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44041"/>
            <p:cNvSpPr/>
            <p:nvPr/>
          </p:nvSpPr>
          <p:spPr>
            <a:xfrm rot="17280000">
              <a:off x="4799160" y="3268080"/>
              <a:ext cx="777960" cy="7779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44043"/>
            <p:cNvSpPr/>
            <p:nvPr/>
          </p:nvSpPr>
          <p:spPr>
            <a:xfrm rot="19440000">
              <a:off x="5364000" y="2490480"/>
              <a:ext cx="777600" cy="77796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44038"/>
            <p:cNvSpPr/>
            <p:nvPr/>
          </p:nvSpPr>
          <p:spPr>
            <a:xfrm>
              <a:off x="6986520" y="212760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44039"/>
            <p:cNvSpPr/>
            <p:nvPr/>
          </p:nvSpPr>
          <p:spPr>
            <a:xfrm>
              <a:off x="4923000" y="280044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44042"/>
            <p:cNvSpPr/>
            <p:nvPr/>
          </p:nvSpPr>
          <p:spPr>
            <a:xfrm>
              <a:off x="5845320" y="212904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Tahoma"/>
                </a:rPr>
                <a:t>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44045"/>
            <p:cNvSpPr/>
            <p:nvPr/>
          </p:nvSpPr>
          <p:spPr>
            <a:xfrm>
              <a:off x="8263080" y="388152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44047"/>
            <p:cNvSpPr/>
            <p:nvPr/>
          </p:nvSpPr>
          <p:spPr>
            <a:xfrm>
              <a:off x="7912080" y="496584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Tahoma"/>
                </a:rPr>
                <a:t>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44049"/>
            <p:cNvSpPr/>
            <p:nvPr/>
          </p:nvSpPr>
          <p:spPr>
            <a:xfrm>
              <a:off x="6989760" y="563724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44051"/>
            <p:cNvSpPr/>
            <p:nvPr/>
          </p:nvSpPr>
          <p:spPr>
            <a:xfrm>
              <a:off x="5850000" y="563904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Tahoma"/>
                </a:rPr>
                <a:t>Г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44053"/>
            <p:cNvSpPr/>
            <p:nvPr/>
          </p:nvSpPr>
          <p:spPr>
            <a:xfrm>
              <a:off x="4926240" y="497052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44055"/>
            <p:cNvSpPr/>
            <p:nvPr/>
          </p:nvSpPr>
          <p:spPr>
            <a:xfrm>
              <a:off x="4572000" y="388620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Tahoma"/>
                </a:rPr>
                <a:t>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44057"/>
            <p:cNvSpPr/>
            <p:nvPr/>
          </p:nvSpPr>
          <p:spPr>
            <a:xfrm>
              <a:off x="7910640" y="279720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Tahoma"/>
                </a:rPr>
                <a:t>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92c27"/>
                </a:solidFill>
                <a:latin typeface="Tahoma"/>
              </a:rPr>
              <a:t>Примеры формы рондо в музыке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. Б. Кабалевский Классное ронд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 . Б. Кабалевский «Зачем нам выстроили дом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 П. Бородин «Спящая княжн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3575160" cy="3962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85840" y="380520"/>
            <a:ext cx="4800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c27"/>
                </a:solidFill>
                <a:latin typeface="Tahoma"/>
              </a:rPr>
              <a:t>А. П. Бородин</a:t>
            </a:r>
            <a:br>
              <a:rPr sz="4400"/>
            </a:br>
            <a:r>
              <a:rPr b="0" lang="en-US" sz="4400" spc="-1" strike="noStrike">
                <a:solidFill>
                  <a:srgbClr val="f92c27"/>
                </a:solidFill>
                <a:latin typeface="Tahoma"/>
              </a:rPr>
              <a:t>«Спящая княжна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505320" y="2590920"/>
            <a:ext cx="5638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4876920" cy="61722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5791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c27"/>
                </a:solidFill>
                <a:latin typeface="Tahoma"/>
              </a:rPr>
              <a:t>В. А. Моцарт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«Рондо в турецком стиле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13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2c27"/>
                </a:solidFill>
                <a:latin typeface="Tahoma"/>
              </a:rPr>
              <a:t>Музыкальные форм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очаст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ухчаст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хчаст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тырехчаст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нд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ри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92c27"/>
                </a:solidFill>
                <a:latin typeface="Tahoma"/>
              </a:rPr>
              <a:t>Примеры формы рондо в литературе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1447920"/>
            <a:ext cx="2590920" cy="2209680"/>
            <a:chOff x="0" y="1447920"/>
            <a:chExt cx="2590920" cy="220968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0" y="1447920"/>
              <a:ext cx="25909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0" y="1447920"/>
              <a:ext cx="259092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238880" y="380988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666880" y="3962520"/>
            <a:ext cx="1333800" cy="1066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7238880" y="5562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0" y="3886200"/>
            <a:ext cx="1905120" cy="1425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4952880" y="3809880"/>
            <a:ext cx="1676520" cy="1263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6400800" y="1676520"/>
            <a:ext cx="2362320" cy="1774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1447920" y="5638680"/>
            <a:ext cx="1400040" cy="1047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3276720" y="205740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4038480" y="5562720"/>
            <a:ext cx="160020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2c27"/>
                </a:solidFill>
                <a:latin typeface="Tahoma"/>
              </a:rPr>
              <a:t>Музыкальная виктори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слушав произведение определите фор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505320" y="3221640"/>
            <a:ext cx="2133000" cy="1784880"/>
            <a:chOff x="3505320" y="3221640"/>
            <a:chExt cx="2133000" cy="1784880"/>
          </a:xfrm>
        </p:grpSpPr>
        <p:sp>
          <p:nvSpPr>
            <p:cNvPr id="176" name="_s46086"/>
            <p:cNvSpPr/>
            <p:nvPr/>
          </p:nvSpPr>
          <p:spPr>
            <a:xfrm>
              <a:off x="4373640" y="3251160"/>
              <a:ext cx="395280" cy="3456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_s46087"/>
            <p:cNvSpPr/>
            <p:nvPr/>
          </p:nvSpPr>
          <p:spPr>
            <a:xfrm rot="2160000">
              <a:off x="4838040" y="3382920"/>
              <a:ext cx="395280" cy="3456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46088"/>
            <p:cNvSpPr/>
            <p:nvPr/>
          </p:nvSpPr>
          <p:spPr>
            <a:xfrm rot="4320000">
              <a:off x="5150160" y="3703320"/>
              <a:ext cx="345600" cy="3952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_s46089"/>
            <p:cNvSpPr/>
            <p:nvPr/>
          </p:nvSpPr>
          <p:spPr>
            <a:xfrm rot="6480000">
              <a:off x="5150520" y="4129920"/>
              <a:ext cx="345600" cy="3952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_s46090"/>
            <p:cNvSpPr/>
            <p:nvPr/>
          </p:nvSpPr>
          <p:spPr>
            <a:xfrm rot="8640000">
              <a:off x="4838400" y="4500720"/>
              <a:ext cx="395280" cy="3456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_s46091"/>
            <p:cNvSpPr/>
            <p:nvPr/>
          </p:nvSpPr>
          <p:spPr>
            <a:xfrm rot="10800000">
              <a:off x="4373640" y="4633200"/>
              <a:ext cx="395280" cy="3456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_s46092"/>
            <p:cNvSpPr/>
            <p:nvPr/>
          </p:nvSpPr>
          <p:spPr>
            <a:xfrm rot="12960000">
              <a:off x="3908520" y="4501080"/>
              <a:ext cx="395280" cy="3456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46093"/>
            <p:cNvSpPr/>
            <p:nvPr/>
          </p:nvSpPr>
          <p:spPr>
            <a:xfrm rot="15120000">
              <a:off x="3645720" y="4130640"/>
              <a:ext cx="345600" cy="3952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_s46094"/>
            <p:cNvSpPr/>
            <p:nvPr/>
          </p:nvSpPr>
          <p:spPr>
            <a:xfrm rot="17280000">
              <a:off x="3645360" y="3704040"/>
              <a:ext cx="345600" cy="3952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_s46095"/>
            <p:cNvSpPr/>
            <p:nvPr/>
          </p:nvSpPr>
          <p:spPr>
            <a:xfrm rot="19440000">
              <a:off x="3908160" y="3382560"/>
              <a:ext cx="395280" cy="3456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46096"/>
            <p:cNvSpPr/>
            <p:nvPr/>
          </p:nvSpPr>
          <p:spPr>
            <a:xfrm>
              <a:off x="4732920" y="3221640"/>
              <a:ext cx="25668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_s46097"/>
            <p:cNvSpPr/>
            <p:nvPr/>
          </p:nvSpPr>
          <p:spPr>
            <a:xfrm>
              <a:off x="3683520" y="352044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_s46098"/>
            <p:cNvSpPr/>
            <p:nvPr/>
          </p:nvSpPr>
          <p:spPr>
            <a:xfrm>
              <a:off x="4152600" y="322200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ffffff"/>
                  </a:solidFill>
                  <a:uFillTx/>
                  <a:latin typeface="Tahoma"/>
                </a:rPr>
                <a:t>Е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_s46099"/>
            <p:cNvSpPr/>
            <p:nvPr/>
          </p:nvSpPr>
          <p:spPr>
            <a:xfrm>
              <a:off x="5382000" y="400104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_s46100"/>
            <p:cNvSpPr/>
            <p:nvPr/>
          </p:nvSpPr>
          <p:spPr>
            <a:xfrm>
              <a:off x="5203440" y="4483080"/>
              <a:ext cx="25668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ffffff"/>
                  </a:solidFill>
                  <a:uFillTx/>
                  <a:latin typeface="Tahoma"/>
                </a:rPr>
                <a:t>В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_s46101"/>
            <p:cNvSpPr/>
            <p:nvPr/>
          </p:nvSpPr>
          <p:spPr>
            <a:xfrm>
              <a:off x="4734720" y="478152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_s46102"/>
            <p:cNvSpPr/>
            <p:nvPr/>
          </p:nvSpPr>
          <p:spPr>
            <a:xfrm>
              <a:off x="4155120" y="478224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ffffff"/>
                  </a:solidFill>
                  <a:uFillTx/>
                  <a:latin typeface="Tahoma"/>
                </a:rPr>
                <a:t>Г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46103"/>
            <p:cNvSpPr/>
            <p:nvPr/>
          </p:nvSpPr>
          <p:spPr>
            <a:xfrm>
              <a:off x="3685320" y="448524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46104"/>
            <p:cNvSpPr/>
            <p:nvPr/>
          </p:nvSpPr>
          <p:spPr>
            <a:xfrm>
              <a:off x="3505320" y="400320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ffffff"/>
                  </a:solidFill>
                  <a:uFillTx/>
                  <a:latin typeface="Tahoma"/>
                </a:rPr>
                <a:t>Д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_s46105"/>
            <p:cNvSpPr/>
            <p:nvPr/>
          </p:nvSpPr>
          <p:spPr>
            <a:xfrm>
              <a:off x="5202720" y="351900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ffffff"/>
                  </a:solidFill>
                  <a:uFillTx/>
                  <a:latin typeface="Tahoma"/>
                </a:rPr>
                <a:t>Б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103320"/>
            <a:ext cx="9144000" cy="6754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103320"/>
            <a:ext cx="9144000" cy="67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92c27"/>
                </a:solidFill>
                <a:latin typeface="Tahoma"/>
              </a:rPr>
              <a:t>Одночастная форма</a:t>
            </a:r>
            <a:br>
              <a:rPr sz="6600"/>
            </a:b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Нет изменения характера музы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есня без припе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92c27"/>
                </a:solidFill>
                <a:latin typeface="Tahoma"/>
              </a:rPr>
              <a:t>Попевка </a:t>
            </a:r>
            <a:br>
              <a:rPr sz="4400"/>
            </a:br>
            <a:r>
              <a:rPr b="0" lang="ru-RU" sz="4400" spc="-1" strike="noStrike">
                <a:solidFill>
                  <a:srgbClr val="f92c27"/>
                </a:solidFill>
                <a:latin typeface="Tahoma"/>
              </a:rPr>
              <a:t>«Мы мальчики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мальч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мальч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ьезный мы нар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гда наступит лет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мы пойдем в пох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мы пойдем в пох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92c27"/>
                </a:solidFill>
                <a:latin typeface="Tahoma"/>
              </a:rPr>
              <a:t>Попевка </a:t>
            </a:r>
            <a:br>
              <a:rPr sz="4400"/>
            </a:br>
            <a:r>
              <a:rPr b="0" lang="ru-RU" sz="4400" spc="-1" strike="noStrike">
                <a:solidFill>
                  <a:srgbClr val="f92c27"/>
                </a:solidFill>
                <a:latin typeface="Tahoma"/>
              </a:rPr>
              <a:t>«Мы девочки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девоч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девоч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селые резвуш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гда наступит лет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правимся в пох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правимся в пох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92c27"/>
                </a:solidFill>
                <a:latin typeface="Tahoma"/>
              </a:rPr>
              <a:t>Попевка </a:t>
            </a:r>
            <a:br>
              <a:rPr sz="4800"/>
            </a:br>
            <a:r>
              <a:rPr b="0" lang="ru-RU" sz="4800" spc="-1" strike="noStrike">
                <a:solidFill>
                  <a:srgbClr val="f92c27"/>
                </a:solidFill>
                <a:latin typeface="Tahoma"/>
              </a:rPr>
              <a:t>«Мы второклассники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второкласс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второкласс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люди взросл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малыш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второкласс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малыш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-779400"/>
            <a:ext cx="9144000" cy="7637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60948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92c27"/>
                </a:solidFill>
                <a:latin typeface="Tahoma"/>
              </a:rPr>
              <a:t>Пастушья песня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5638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Французская народная пес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145400"/>
            <a:ext cx="2743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92c27"/>
                </a:solidFill>
                <a:latin typeface="Tahoma"/>
              </a:rPr>
              <a:t>Двухчастная форма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остоит из двух разных, контрастных по характеру част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есня с запевом и припев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47920" y="3657600"/>
            <a:ext cx="2557440" cy="2590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92c27"/>
                </a:solidFill>
                <a:latin typeface="Tahoma"/>
              </a:rPr>
              <a:t>Двухчастная форма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29200" y="3962520"/>
            <a:ext cx="19810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ZPC02</cp:lastModifiedBy>
  <dcterms:modified xsi:type="dcterms:W3CDTF">2011-06-09T09:14:3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