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2.png" ContentType="image/png"/>
  <Override PartName="/ppt/media/image51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26.jpeg" ContentType="image/jpeg"/>
  <Override PartName="/ppt/media/image24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F3D-5557-4193-8BAA-DF386AF5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633-969C-424B-BAEE-461E853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04A-8E7F-4826-9DD7-4585AF19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03A-B2F1-448F-938A-E52A8A8D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AC56-ACAA-41E4-80F6-CE58C89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8A1A-EAFA-471D-9285-658A952C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83C-6AB4-4DBF-ABAE-DF1E4E0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DBB2-F5D7-44D8-BC82-B089A2E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304C-4AEF-4EA6-9F45-66202ABC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99A6-CB40-44AC-9E88-F1B3B543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BF0-1310-47CA-B64C-D43411A8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86C-CAEE-4F33-AC35-48B905E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9DC-F021-46B3-83F4-8CDC756E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35AB-52B6-40CC-B098-BB44EC7C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7457-0CD5-49BA-BD9D-80BC848D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D198-8890-4827-91AE-50DD9AC2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05E1-82A7-4190-9929-7676718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1AF3B-0800-492D-B197-A982423B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EF6D-E05C-4C68-8DA4-20C91C7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C0B3-088E-48FA-8F13-08C0E0D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1364-046A-4C06-93FB-96593422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586B-04F4-445F-8560-39CD96E1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01E-AEB2-4E11-A248-C1BCEF28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66A0-E2CD-48F2-A4F0-054042D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0930-E688-4D6A-8DBD-D03DA379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05E2-7435-45DC-8E9E-750E804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37E7-80EF-4F7A-B26E-A7B55FA8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F54C-A2F5-4A41-8B95-C120355F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95E4-73FC-43B3-AE4C-6C3E0911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FBF4-D4A9-4538-AEF8-A724384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FDA5-8BEE-41C4-BA63-09114D15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81621-CA8E-4876-AAC7-A76702D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B7C4-4DAB-4334-9B1B-A01FA0EA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CBA-3E0D-4D13-87F7-7907682A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4CB8-E5A3-425D-86C3-6602B268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9DCB6-73B1-47D0-B213-9DCC506F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F139-0D3B-4DE1-805C-767BB5DB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9F068-F930-4B5C-B291-8BC1AB5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5314-1249-45AE-9BEB-D878334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FC14-FC0B-478A-B326-1290DFF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9E6E-0224-4B42-9F76-5CAE272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28B45-6826-4587-9850-D3FFA98A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192A5-12F8-4B83-ACF7-C72600D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AED8-642C-4E9D-AB55-A32B7390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928-986C-4AB4-84EB-66A00D89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8C96-00BF-4F6D-8F45-8D4B86CD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1F6F-E4EB-4F53-A64C-68AF5D8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7E7D-3379-4D9E-9DEF-2531D2D0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4BFC-2C89-482D-97B5-246AF4B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A9B9-A047-4B96-9F3A-C3992B9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D445-970E-462F-9A49-A6F1795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2BA9-A923-4012-84D0-D2456B0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62D5-00D3-49D3-B063-5123664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A7ED-274D-42BF-905E-49A39560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D8B6C-3088-4CCE-9491-89AB28F7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EE4-03AB-4C52-B4B4-BF84DDDC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95AC-F0EB-4BD3-BE36-498136F4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DDA5-3413-4B79-90BA-457D5007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C740-B891-479C-AF3C-5812D0F5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2E28-1B64-483D-A677-70EDCEF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34DA-023B-4BAA-97D5-841FB50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4B05-A213-4544-9F7B-6CB7549D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086BE-BF54-47BA-8F75-18055495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00EE6-50E4-403C-8588-79521E7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5CC9-BAD1-4F2E-A2AD-39101EF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B9316-7249-4B79-904C-8242274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780-1D46-4CA9-B8FB-C1C5EF51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64992-6D01-48A4-B316-31C9CD98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D709-5805-4747-A797-257C7022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DA3FD-48C5-4143-8544-FB795E03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AAAD0-7A8B-4CA6-91C9-62D8A453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C547-3179-4CEB-A902-E1D184CB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E818-AADC-4AFD-BF2D-9B43B3E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89E1-D430-4E26-99B2-19D70124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43093-4F6F-4215-AB04-D4E8EB36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13F7F-E342-4E49-A940-D1411D06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EB7A-664D-42A2-9D05-8DBC169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B0D-2780-4968-B993-303B7A08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7EA6-45BF-457F-8DFC-F638CA0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33FEB-5825-4331-8F3E-ABB53834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6FE37-6949-40BF-B9ED-ED272BCA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016E-68D4-4D50-94CC-4174FB28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A752-7AD9-482E-934E-E6CD9049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09E-1C8E-45DB-B50D-0764142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51F-1BE0-4E32-AF97-3E06BD896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CF41-D4DC-46FD-8FCB-F4FD76F25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D89-1CB8-4B8F-B21D-6C9C733A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5566-4B24-4BE8-8D5F-395C02ABB4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EC71-789B-438C-96B2-968BE7EC1B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30C-E705-4D56-834C-42CEDF1FB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04C-D207-4B94-8044-2362458CA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826920" y="1197000"/>
            <a:ext cx="27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ВЕЦ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32000" y="2421000"/>
            <a:ext cx="583236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ОГО  БЕЗМОЛВ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826920" y="4005360"/>
            <a:ext cx="741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 юбилею  Джека  Лондона.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115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Дом  Волка» - музей  Дж. Лондо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303800" cy="32274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3492360" y="3871800"/>
            <a:ext cx="4104000" cy="2986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3149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951440" cy="659772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356000" cy="2889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805360" y="3141720"/>
            <a:ext cx="28400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рк  Джека  Лонд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176720" cy="31402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073400" y="2924280"/>
            <a:ext cx="507060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33321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627280" y="3411360"/>
            <a:ext cx="4788000" cy="34466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05440" y="549360"/>
            <a:ext cx="41385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весне 1913 года Джек Лондон стал самым высокооплачиваемым писателем в мире, его рассказы и книги переводились на французский, немецкий, русский и другие языки. Его фотографии появлялись в таком количестве, что, казалось, все люди мира не могли не узнать его лиц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1851120" cy="21398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5396040" y="1700280"/>
            <a:ext cx="3747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024000" cy="388944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2268360" y="2828880"/>
            <a:ext cx="2676600" cy="40291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6103800" y="0"/>
            <a:ext cx="2729160" cy="3789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Сергей Есенин, 1923 г."/>
          <p:cNvPicPr/>
          <p:nvPr/>
        </p:nvPicPr>
        <p:blipFill>
          <a:blip r:embed="rId4"/>
          <a:stretch/>
        </p:blipFill>
        <p:spPr>
          <a:xfrm>
            <a:off x="6531120" y="3357720"/>
            <a:ext cx="2612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346480" cy="3659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635280" y="476280"/>
            <a:ext cx="2678040" cy="403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6350040" y="1557360"/>
            <a:ext cx="2793960" cy="44863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1042920" y="2933640"/>
            <a:ext cx="25401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ранизации  произведений  Джека  Лондо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636720" cy="403236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3418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 txBox="1"/>
          <p:nvPr/>
        </p:nvSpPr>
        <p:spPr>
          <a:xfrm>
            <a:off x="684360" y="40464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ЫЙ  КЛЫ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35400" cy="3387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33360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500720" y="3365640"/>
            <a:ext cx="436536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468360" y="3643200"/>
            <a:ext cx="38163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4"/>
                </a:solidFill>
                <a:latin typeface="Arial"/>
              </a:rPr>
              <a:t>"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усть лучше я буду прахом, чем пылью! Пусть лучше моя искра сгорит ярким пламенем чем едва тлеет в сухой гнили. Я бы лучше был великолепным метеором, каждый атом которого величественно светился, чем сонной планетой. Правильное назначение человека-это жизнь, а не существование. Я не потрачу своих дней пытаясь их продлить. </a:t>
            </a:r>
            <a:r>
              <a:rPr b="0" i="1" lang="en" sz="2000" spc="-1" strike="noStrike">
                <a:solidFill>
                  <a:srgbClr val="ffcc00"/>
                </a:solidFill>
                <a:latin typeface="Arial"/>
              </a:rPr>
              <a:t>Я буду использовать отведённое мне время".</a:t>
            </a:r>
            <a:br>
              <a:rPr sz="2000"/>
            </a:br>
            <a:br>
              <a:rPr sz="2000"/>
            </a:br>
            <a:r>
              <a:rPr b="0" i="1" lang="e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995640" cy="6121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57560" cy="4824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492360" y="333360"/>
            <a:ext cx="5238720" cy="3029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2627280" y="4156200"/>
            <a:ext cx="3600360" cy="27018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6588000" y="3281400"/>
            <a:ext cx="25560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900000" y="83664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В  ПРЕД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4086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2916360" y="0"/>
            <a:ext cx="5033880" cy="35244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4902120" y="3676680"/>
            <a:ext cx="4241880" cy="3181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0" y="3500280"/>
            <a:ext cx="42642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МУЛЬТФИЛЬМЫ   ПО  КНИГАМ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Джека  Лондон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327480" cy="4530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80000" y="2440080"/>
            <a:ext cx="5364000" cy="441792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4542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894120" cy="5400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170320" y="1413000"/>
            <a:ext cx="32752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38560" cy="42861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1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«Золотая  лихорадка» - Аляс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05440" cy="30783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2987640" y="191628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6002280" y="2276640"/>
            <a:ext cx="277992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330280" cy="3495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5329080" cy="2867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067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Книги Джека Лондона  посвященные  Клондайк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381400" cy="3657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340000" y="3402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3009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6560" cy="5113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279960" cy="50846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622840" y="260280"/>
            <a:ext cx="3265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4:44:16Z</dcterms:created>
  <dc:creator>Ученик</dc:creator>
  <dc:description/>
  <dc:language>en-US</dc:language>
  <cp:lastModifiedBy>Ученик</cp:lastModifiedBy>
  <dcterms:modified xsi:type="dcterms:W3CDTF">2010-06-10T05:07:17Z</dcterms:modified>
  <cp:revision>3</cp:revision>
  <dc:subject/>
  <dc:title>Слайд 1</dc:title>
</cp:coreProperties>
</file>