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289-AAAF-486B-A977-39A598B8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415-E9C2-4442-A0FD-53AA6BDC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18E-C9A1-441E-B727-321A982D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8A3-0A5D-4D73-ABC4-92408BB4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7980-4C0B-4FA3-8BA9-23D3D919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8B4B-793C-4155-B9ED-E2AE97B1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9B39-7207-4A47-999B-29A86E2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C10-DE6D-4834-A0B3-CD2268E4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1731-0ABE-4711-9972-19E39C2B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079B-8C40-4E19-8E4B-28AC1B02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61BD-9541-41FE-8240-CA6CDD8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7D7-36A5-4FDD-9F7E-5C01149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57C8-7430-4C6C-92B0-CA1DF00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A94B-911B-402D-8D9E-580A49C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E84A-7269-4B52-A5EA-CA9A900B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D4CC-4799-4707-998B-2C8C668C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04E-0198-417B-8F4B-CA0875A0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263C-DEBE-4D98-9848-4DB1EED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0DEB-9209-4DC9-AEE4-24C13CC5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4772-2B1B-480D-8B1F-0087DEAF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BD0E-BB05-43F5-96E6-DF0735F6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7314-0284-4D81-9BFA-90A2DC0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9DA-A6DD-455A-B41C-57C8AF49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0848-78F5-4025-894B-4F6E19C9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0A34-849A-4132-BB90-F056DC12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0991-0C5D-45BF-B5D4-EBBCC982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5D4C-6CD0-4A3A-85D3-879327FE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C09E-8D60-47C5-8C53-6DF2867E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8A84-C7D9-4A3D-A60E-984FA11A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4838-4D2A-4AEF-ABA6-E31ECAE3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D457-CB32-4EA2-84F8-EFA8AE5F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B57A-BC04-4CCF-B90B-6BD06A69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1874-4468-4F97-B610-BE6A4BFC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211-E140-4705-8854-29E7D5A7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092C-027C-43FA-AD00-C52612EC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CDA76-0F92-4E33-AB12-F77BD03A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F369-DFA7-483B-AC37-9408110C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8729-DE15-46FC-8491-C834ADE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C144-A4B5-4F6F-A6EF-708AAA62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C88A-3CBB-4D81-9855-0CD36D95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FC31E-27C1-4B93-923D-964AD182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A7111-C58F-4CF7-8EEB-E3C7EDD1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B0F6-6B84-475C-AF49-B66EFA71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FF3D-FED1-4CF3-949F-132E7C09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A77-4E60-4C01-83E9-716397B7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6CAE9-E17D-4749-B5F9-A56A93F7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5386-9A20-4174-88B3-341639D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E4F0-E672-4506-930F-CDEC03B9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611B-5556-44EF-86A4-ECAAB81F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E881-2A30-4606-B210-AA9243F2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757E-F68D-4204-989F-4FFD0846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45519-393F-4887-A2CE-E2AE551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8CEF-AB61-4E44-863B-581D8E2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0B50-C598-4328-8D46-0EDE0DBC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56BDC-08A7-42E6-8F0F-5FF03794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0B7-214B-40C7-9A28-AF954688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1797-75EF-44D1-9DBC-B9573BC9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82C5-65E7-43AF-82BD-AF7C0863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E3795-A1AC-4D7B-96FE-F576B951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02D1-D21D-4023-8075-8474DFDF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0751-9E7C-4396-847A-F4AD137C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AB24-1B01-491F-8E94-919F894C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8A49A-BDF1-4E4B-BD38-BD9FA61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169AB-C91D-41F9-B34B-F45A33E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AF57-E883-4C64-AF3D-1B1210E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CC26-E63C-451C-BF87-0E212B99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2B7-13FD-41B3-B84B-A0C6B8C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600A-FD44-4363-BF2A-5F015636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97DE-D5F2-45A7-A9E7-5F4309ED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417D6-9FF0-4F4D-B6F0-4757CC23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9629-A408-447A-8485-54AAFC6C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FFD17-1535-4494-96DC-71BC46B9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5FB3-3BC2-4F90-8577-22FDC63C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65FDE-A138-460F-8422-5F5BAD89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3822-706B-40C2-8A62-7B842E3F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E80CB-D953-41A3-A4C4-A53D8B73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9573-CCDB-488F-8872-CF98243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37F-EC87-42BC-8725-44F4D9C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CF9D4-F855-48F8-B169-50E5C0C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F3488-86E7-4006-8F93-40D5154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B545E-40A9-47E6-B652-F0627BA9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B57FB-5297-4B99-B230-23837D61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6157-66A5-4F5A-B600-F53D5956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1B5-B24A-4ADE-9444-A3C1A207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A648-BB84-45E3-B8D2-A110367C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0413-D1F0-4CBB-9DC4-39767797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470-8566-41CE-A948-1F4308FE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8AEF-8196-4933-8E2E-F50F368963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355-F050-49FE-937A-E2F9EE79D5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8826-34E8-4953-8AC3-FCDFB0DFD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987-EA14-4B2F-9A98-9B1245B32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826920" y="1197000"/>
            <a:ext cx="27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ВЕ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32000" y="2421000"/>
            <a:ext cx="583236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ГО  БЕЗМОЛВ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26920" y="4005360"/>
            <a:ext cx="741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 юбилею  Джека  Лондона.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115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Дом  Волка» - музей  Дж. Лондо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303800" cy="32274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492360" y="3871800"/>
            <a:ext cx="4104000" cy="2986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3149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951440" cy="65977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56000" cy="2889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805360" y="3141720"/>
            <a:ext cx="28400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рк  Джека  Лонд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176720" cy="3140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073400" y="2924280"/>
            <a:ext cx="50706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33321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2627280" y="3411360"/>
            <a:ext cx="4788000" cy="3446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05440" y="549360"/>
            <a:ext cx="41385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весне 1913 года Джек Лондон стал самым высокооплачиваемым писателем в мире, его рассказы и книги переводились на французский, немецкий, русский и другие языки. Его фотографии появлялись в таком количестве, что, казалось, все люди мира не могли не узнать его лиц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1851120" cy="21398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396040" y="1700280"/>
            <a:ext cx="3747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24000" cy="38894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68360" y="2828880"/>
            <a:ext cx="2676600" cy="40291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6103800" y="0"/>
            <a:ext cx="2729160" cy="3789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Сергей Есенин, 1923 г."/>
          <p:cNvPicPr/>
          <p:nvPr/>
        </p:nvPicPr>
        <p:blipFill>
          <a:blip r:embed="rId4"/>
          <a:stretch/>
        </p:blipFill>
        <p:spPr>
          <a:xfrm>
            <a:off x="6531120" y="3357720"/>
            <a:ext cx="2612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346480" cy="3659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3635280" y="476280"/>
            <a:ext cx="2678040" cy="403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6350040" y="1557360"/>
            <a:ext cx="2793960" cy="44863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1042920" y="2933640"/>
            <a:ext cx="25401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кранизации  произведений  Джека  Лонд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636720" cy="4032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941720" y="1628640"/>
            <a:ext cx="33418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684360" y="404640"/>
            <a:ext cx="46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ЫЙ  КЛЫ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35400" cy="3387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33360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500720" y="3365640"/>
            <a:ext cx="4365360" cy="349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468360" y="3643200"/>
            <a:ext cx="38163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4"/>
                </a:solidFill>
                <a:latin typeface="Arial"/>
              </a:rPr>
              <a:t>"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усть лучше я буду прахом, чем пылью! Пусть лучше моя искра сгорит ярким пламенем чем едва тлеет в сухой гнили. Я бы лучше был великолепным метеором, каждый атом которого величественно светился, чем сонной планетой. Правильное назначение человека-это жизнь, а не существование. Я не потрачу своих дней пытаясь их продлить. </a:t>
            </a:r>
            <a:r>
              <a:rPr b="0" i="1" lang="en" sz="2000" spc="-1" strike="noStrike">
                <a:solidFill>
                  <a:srgbClr val="ffcc00"/>
                </a:solidFill>
                <a:latin typeface="Arial"/>
              </a:rPr>
              <a:t>Я буду использовать отведённое мне время".</a:t>
            </a:r>
            <a:br>
              <a:rPr sz="2000"/>
            </a:br>
            <a:br>
              <a:rPr sz="2000"/>
            </a:br>
            <a:r>
              <a:rPr b="0" i="1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995640" cy="6121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57560" cy="4824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238720" cy="3029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2627280" y="41562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6588000" y="3281400"/>
            <a:ext cx="25560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900000" y="836640"/>
            <a:ext cx="54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В  ПРЕД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4086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5033880" cy="35244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4902120" y="367668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2642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МУЛЬТФИЛЬМЫ   ПО  КНИГАМ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Джека  Лондон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327480" cy="4530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80000" y="2440080"/>
            <a:ext cx="5364000" cy="44179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4542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94120" cy="5400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170320" y="1413000"/>
            <a:ext cx="32752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238560" cy="4286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51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Золотая  лихорадка» - Аля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105440" cy="3078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6002280" y="2276640"/>
            <a:ext cx="27799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2330280" cy="34956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320364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5329080" cy="2867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0672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ниги Джека Лондона  посвященные  Клондайк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381400" cy="36576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340000" y="3402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5940360" y="1484280"/>
            <a:ext cx="3009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6560" cy="51134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3279960" cy="5084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622840" y="260280"/>
            <a:ext cx="3265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4:44:16Z</dcterms:created>
  <dc:creator>Ученик</dc:creator>
  <dc:description/>
  <dc:language>en-US</dc:language>
  <cp:lastModifiedBy>Ученик</cp:lastModifiedBy>
  <dcterms:modified xsi:type="dcterms:W3CDTF">2010-06-10T05:07:17Z</dcterms:modified>
  <cp:revision>3</cp:revision>
  <dc:subject/>
  <dc:title>Слайд 1</dc:title>
</cp:coreProperties>
</file>