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6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A37-56E0-4773-A277-4C15A358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98C-2A99-4947-9E8C-DC774B82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D8A-E5B6-447B-82BA-0C7BFA47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C32-1E6F-4CE4-A1F1-07D80C09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2E32-F340-4952-BC28-E4AFE3C1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F805-5C93-48F4-B4DB-F6E5C1E7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7538-7190-4F7A-A4F9-B95F0E08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E779-E588-4783-B610-8DE7BFCD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8A99-956E-44BB-93D2-E3D0DD1D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3329-44A9-4E15-B932-AD159239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456A-9A06-4876-B4D1-AFADCA7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EBF-05AD-4130-A8DC-AE0B5185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2D0F-2D93-49A7-899A-FD9D23D0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5100-8D77-4E99-948F-991EA9F1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CB27-F9A1-4EDC-96DA-69EEE371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8C79-4BF5-42D9-B4BF-D95D9421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EE56-15C1-4EA6-BA4E-B42DBCCF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5DA0-0641-4F32-A2C9-8E93C8FD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9B06-E722-44A0-9DC4-AD3F5232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D5A2-0ACC-4C93-85E5-14358094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E822-2158-4E5E-916A-28F9D88A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87EC-263A-4129-9509-9F1E58DB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D53-7235-4759-BB0B-E527E878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7903-1BA0-4E81-8DCC-6C4FEDF4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BAED8-B82C-40E6-A235-03E735E4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6906-4769-4268-B2B4-5AF45B15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1D30-0609-492C-89C2-1FAA19C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26617-3F98-4B62-A822-D6B09F99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183A7-C157-49D6-85CE-E09979E0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8FBC-2535-46D6-9ADC-3F0C5F55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DBFE-E9C1-4FD4-9D3F-88C35A4A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0A70-98C1-46BF-9A1F-9F992FBE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C574-F0B4-400A-9DDD-3C59F97F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DDA-7BDA-40AA-A998-A56DEB22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0B93E-2B02-4C91-B03E-C09E302B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F3A6E-EF4C-4590-AC77-4E54DF9F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C769-A543-4E39-910E-CB6DAA60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D8810-FE64-4067-9081-39A31857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693F-D880-47D2-988D-8C8EA2AF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A88C-2553-4E1A-9C05-569373D1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4DAE-329B-4E60-A8B3-284074A9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B1623-BB78-4B9F-B769-F0D50B17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07DED-BAB2-44B8-9AD0-B1AFED24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951A3-3C74-430B-ABE0-BC6991A7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C39-055B-43F4-A845-7DA439AC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6A0E6-C17C-4D0A-B0ED-86578305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536DD-C4EA-4E61-B8B8-3403D908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81133-F90F-4F18-BE99-4B3CA0EC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7F718-7D64-4D0F-B058-080ECB9D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A648-1EEA-498B-9BCD-C737D7E6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A38A2-4D75-4B04-8B69-40234499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05424-C8FA-4662-BD2C-6EA72CE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94D84-CC04-493F-9FEA-52800E88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B98A3-8D06-422D-8108-D383E351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7E74B-4092-4B25-AB67-F7BAA1BD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8D5-9D51-4468-A055-B6F6B572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1B7AF-F7BB-468B-9424-7118EB55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B432F-FC77-4CB3-9F80-8AE721DD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822B-02D5-452F-B5BF-BB4375BF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55E52-C3FC-45B9-9964-91A90EC9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93C51-EC8D-4500-9388-E1383B54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AC97A-07A3-4FCE-899A-D7C1740D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76309-6B20-4F24-81DB-30A1C504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91FE6-ABE1-4F97-82BF-22BE8EE2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93B6-28A9-446B-B0D7-B8DE86C1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558EF-8A5A-4DA5-B679-E78E42F9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388-E65A-46E4-B607-5019D916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4B22F-20C6-4476-A163-61EA874A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A44DC-2E95-4E71-9F63-048F1E56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317FB-6A21-41F7-B1AC-4001C81E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A1BAD-00DD-4E16-AFCA-D0CA0764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7B2B1-86E8-47A7-B1D8-AB9314F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D1A62-437D-4FBE-B5FA-D24BD83E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5CF92-9C69-4257-A86C-B54124A5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EF841-8D13-4B11-B23E-13D4CE94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A60C2-503C-40B3-975B-628D1EF1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9BA2C-BEDC-47F5-96D0-69FA71BB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8D5-074A-48C1-BAF8-1CD893EF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BB220-B0A9-483C-B5B4-8521D0DE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552B0-D4E3-4AB8-8239-556D7324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A2BA3-B1C9-4742-B7A7-E82F5E10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38B2E-3F77-4B8F-83B3-46F18D53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39FA0-D270-45D0-9F9B-50920439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E36-FD0E-4517-8EE5-B2A4E2BF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96DB-F7F7-4F4F-AFD8-D0D1DC349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76EA-8671-4CD0-9C06-8B717CDE9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46D8-DDE1-4F41-A2A4-DA5ED583A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0403-A1A4-4841-A9D9-14ABA57552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3763-F570-4C4A-81F5-3F0505CDBA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ED42-F527-4284-BB27-580440AB0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F900-6313-41D4-AB5F-035546255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826920" y="1197000"/>
            <a:ext cx="27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ВЕЦ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332000" y="2421000"/>
            <a:ext cx="583236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ОГО  БЕЗМОЛВ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26920" y="4005360"/>
            <a:ext cx="741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 юбилею  Джека  Лондона.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115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«Дом  Волка» - музей  Дж. Лондо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303800" cy="32274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492360" y="3871800"/>
            <a:ext cx="4104000" cy="2986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3149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951440" cy="659772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356000" cy="2889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805360" y="3141720"/>
            <a:ext cx="28400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рк  Джека  Лонд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176720" cy="31402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073400" y="2924280"/>
            <a:ext cx="507060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64000" cy="33321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2627280" y="3411360"/>
            <a:ext cx="4788000" cy="34466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005440" y="549360"/>
            <a:ext cx="41385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весне 1913 года Джек Лондон стал самым высокооплачиваемым писателем в мире, его рассказы и книги переводились на французский, немецкий, русский и другие языки. Его фотографии появлялись в таком количестве, что, казалось, все люди мира не могли не узнать его лиц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1851120" cy="21398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5396040" y="1700280"/>
            <a:ext cx="3747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024000" cy="388944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68360" y="2828880"/>
            <a:ext cx="2676600" cy="40291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6103800" y="0"/>
            <a:ext cx="2729160" cy="3789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Сергей Есенин, 1923 г."/>
          <p:cNvPicPr/>
          <p:nvPr/>
        </p:nvPicPr>
        <p:blipFill>
          <a:blip r:embed="rId4"/>
          <a:stretch/>
        </p:blipFill>
        <p:spPr>
          <a:xfrm>
            <a:off x="6531120" y="3357720"/>
            <a:ext cx="2612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346480" cy="36590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3635280" y="476280"/>
            <a:ext cx="2678040" cy="4032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6350040" y="1557360"/>
            <a:ext cx="2793960" cy="44863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1042920" y="2933640"/>
            <a:ext cx="25401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кранизации  произведений  Джека  Лондо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636720" cy="40323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4941720" y="1628640"/>
            <a:ext cx="33418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 txBox="1"/>
          <p:nvPr/>
        </p:nvSpPr>
        <p:spPr>
          <a:xfrm>
            <a:off x="684360" y="404640"/>
            <a:ext cx="46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ЫЙ  КЛЫ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35400" cy="3387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33360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4500720" y="3365640"/>
            <a:ext cx="4365360" cy="349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468360" y="3643200"/>
            <a:ext cx="38163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a4"/>
                </a:solidFill>
                <a:latin typeface="Arial"/>
              </a:rPr>
              <a:t>"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усть лучше я буду прахом, чем пылью! Пусть лучше моя искра сгорит ярким пламенем чем едва тлеет в сухой гнили. Я бы лучше был великолепным метеором, каждый атом которого величественно светился, чем сонной планетой. Правильное назначение человека-это жизнь, а не существование. Я не потрачу своих дней пытаясь их продлить. </a:t>
            </a:r>
            <a:r>
              <a:rPr b="0" i="1" lang="en" sz="2000" spc="-1" strike="noStrike">
                <a:solidFill>
                  <a:srgbClr val="ffcc00"/>
                </a:solidFill>
                <a:latin typeface="Arial"/>
              </a:rPr>
              <a:t>Я буду использовать отведённое мне время".</a:t>
            </a:r>
            <a:br>
              <a:rPr sz="2000"/>
            </a:br>
            <a:br>
              <a:rPr sz="2000"/>
            </a:br>
            <a:r>
              <a:rPr b="0" i="1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995640" cy="61214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57560" cy="4824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492360" y="333360"/>
            <a:ext cx="5238720" cy="3029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2627280" y="415620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6588000" y="3281400"/>
            <a:ext cx="25560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900000" y="836640"/>
            <a:ext cx="54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В  ПРЕД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4086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5033880" cy="35244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4902120" y="367668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42642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МУЛЬТФИЛЬМЫ   ПО  КНИГАМ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Джека  Лондон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327480" cy="45306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80000" y="2440080"/>
            <a:ext cx="5364000" cy="44179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4542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894120" cy="5400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170320" y="1413000"/>
            <a:ext cx="327528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238560" cy="4286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4508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51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«Золотая  лихорадка» - Аляс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105440" cy="30783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2933640" cy="38098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6002280" y="2276640"/>
            <a:ext cx="27799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2330280" cy="34956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3203640" y="24019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5329080" cy="2867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0672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Книги Джека Лондона  посвященные  Клондайку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381400" cy="36576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2340000" y="340200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5940360" y="1484280"/>
            <a:ext cx="3009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6560" cy="51134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3279960" cy="50846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622840" y="260280"/>
            <a:ext cx="32655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04:44:16Z</dcterms:created>
  <dc:creator>Ученик</dc:creator>
  <dc:description/>
  <dc:language>en-US</dc:language>
  <cp:lastModifiedBy>Ученик</cp:lastModifiedBy>
  <dcterms:modified xsi:type="dcterms:W3CDTF">2010-06-10T05:07:17Z</dcterms:modified>
  <cp:revision>3</cp:revision>
  <dc:subject/>
  <dc:title>Слайд 1</dc:title>
</cp:coreProperties>
</file>