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drumroll.wav" ContentType="audio/x-wav"/>
  <Override PartName="/ppt/media/applause.wav" ContentType="audio/x-wav"/>
  <Override PartName="/ppt/media/bomb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1B96-0C0D-48F8-A60D-3A3DBAF70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4CD4-30CA-4B9E-A6F6-2B47B0BCB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5F8A-A460-411D-A9F1-3C6AE7289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8E2B-4C45-43C9-9469-2A4DE7519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746321-76E3-4634-999E-FA21C136E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3B6371-1D94-49E6-AC6B-13FF35AB8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74074A-7971-4ADD-B0CA-2E8465D97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D3A953-E5E5-46C4-B4A8-F48794410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F40C2C-0311-4AB5-8AC5-C3C317799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D23D00-1CB3-45E7-BF4F-86E95AF50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4AF65E-9276-4514-9372-49EB1506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AF96-883C-4147-A5A8-586C3CD9F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5B046C-9F85-4D7A-BB31-853C7DDB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EB9C00-37D5-4E50-BA87-F2F26DB5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D14B83-52F6-4003-A6A0-3CD269A8A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2BBFAD-0872-4CAC-BDB1-4712C88AA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62BB16-2438-4F5B-A652-CB5A8872B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A519-9AA6-4F2A-8E4D-52DE46E70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1DCF-B6DF-467F-ABCA-0E58E2A66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A550-3FE2-4C6B-93DF-240A4D007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C283-D3AC-4881-8DD4-0CE74564F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2441-4ADD-4894-9D45-15C57D0F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7488-BE79-434B-934B-EE471897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481D-32B4-4118-AB26-80D62C27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134CB-5911-46AA-8083-3B2074D5A7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5B2F6-EC80-4685-8544-C7A4D24328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Тест по ОБЖ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8-9 класс</a:t>
            </a:r>
            <a:br>
              <a:rPr sz="36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Правила безопасного поведения в криминогенных ситуациях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»</a:t>
            </a:r>
            <a:br>
              <a:rPr sz="4000"/>
            </a:br>
            <a:br>
              <a:rPr sz="24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Выполнил 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Преподаватель-организатор ОБЖ                                         МОУ лицей №1   Урманов Михаил Юрьевич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ород Комсомольск-на-Амуре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2008 г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  <p:sndAc>
      <p:stSnd>
        <p:snd r:embed="rId1" name="drumroll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11.  Вам позвонили в дверь и сказали: "Телеграмма, нужно расписаться". Ваши действи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)  надев дверную цепочку, откроете дверь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) попросите прочесть телеграмму через дверь, в противном случае отнести ее на почт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) предложите оставить телеграмму в двери - вы потом ее заберет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1 бал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12.  Вы пришли домой и замечаете, что в квартире кто-то побывал (распахнута дверь, выбито окно и т.п.). Ваши действи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) войдете в квартиру, осмотрите ее, установите, какие вещи исчезли, и сообщите об этом в милицию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) войдете в квартиру и сразу сообщите в милицию по телефону 02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) не будете входить в квартиру, а вызовете милицию по телефону от сосед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1 бал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  <p:sndAc>
      <p:stSnd>
        <p:snd r:embed="rId1" name="bomb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13.  Возвращаясь вечером домой, вы будет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) идти кратчайшим путем, пролегающим через дворы, свал­ки и плохо освещенные мест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) идти по освещенному тротуару и как можно ближе к краю дорог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)  воспользуетесь попутным транспорт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1 бал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14.   Подростки-хулиганы часто нападают на маленьких детей. Вы посоветуете в данном случае детям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) смело вступать в драку и отстаивать свои игрушки, одежду и т.д.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)  позвать на помощь друзей или взрослых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) уступить требованиям и никому не рассказывать о случившемся, даже родителя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1 бал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  <p:sndAc>
      <p:stSnd>
        <p:snd r:embed="rId1" name="bomb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5.  Вам кажется, что кто-то идет за вами следом. Ваши действ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) перейдете несколько раз улицу и, убедившись в своих подозрениях, побежите в людное место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)  остановитесь и уясните причину преследова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)  броситесь бежать к телефонной буд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 бал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6. На улице к вам подъехала машина, и водитель стал вести себя агрессивно. Ваши действ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)  вступите в разговор с неизвестным вам водителе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)  броситесь бежать в сторону своего дом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) закричите и будете убегать в направлении, противополож­ном движению маши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 бал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  <p:sndAc>
      <p:stSnd>
        <p:snd r:embed="rId1" name="bomb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Ответ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476280"/>
            <a:ext cx="8497800" cy="65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в 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Б в г д е 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.Б в д ж з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.Д в е 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.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6. 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7. Е б д и з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8. Д и ж з 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9. 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. 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1.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2.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3.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4.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5. 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6.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ff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  <p:sndAc>
      <p:stSnd>
        <p:snd r:embed="rId1" name="bomb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e3e3ff"/>
                </a:solidFill>
                <a:latin typeface="Times New Roman"/>
              </a:rPr>
              <a:t>Оценка</a:t>
            </a:r>
            <a:r>
              <a:rPr b="1" lang="en-US" sz="5100" spc="-1" strike="noStrike">
                <a:solidFill>
                  <a:srgbClr val="e3e3ff"/>
                </a:solidFill>
                <a:latin typeface="Arial"/>
              </a:rPr>
              <a:t>:</a:t>
            </a:r>
            <a:endParaRPr b="0" lang="en-US" sz="51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«5»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т 38 до 32 правильных отве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«4»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от 31 до 28 правильных отве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«3»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от 27 до 24 правильных отве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Молодцы!!!!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  <p:sndAc>
      <p:stSnd>
        <p:snd r:embed="rId1" name="applause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Сдайте тетради учителю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  <p:sndAc>
      <p:stSnd>
        <p:snd r:embed="rId1" name="bomb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1. Вы находитесь с родителями в своей квартире. Подойдя к двери на звонок, вы услышали: "Здравствуйте, я сантехник, должен отремонтировать у вас водопроводный кран!". Определите, что вашим родителям следует предпринять в такой ситуации, выбрав из предложенных вариантов правильные ответы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) открыть дверь со словами: "Прошу вас, проходите!"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) впустить человека и потребовать служебное удостоверени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) уточнить фамилию работника, позвонить в службу, кото­рую он представляет, и узнать, есть ли там такой сотрудник, получал ли он  такое задани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г) попросить посетителя позвонить соседям и одновременно с ними открыть дверь, не освобождая ее от цепочк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) открыв дверь, сказать: "Извините, но у нас с сантехникой все в порядке"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е) впустив посетителя, продолжить заниматься своими дела­ми. Сказать: "Вот ванная, вот туалет. Если что, зовите -помогу"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ж)  впустив сантехника, присутствовать при выполнении им   рабо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2 бал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  <p:sndAc>
      <p:stSnd>
        <p:snd r:embed="rId1" name="bomb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2.  Ваша семья живет в квартире с лоджией на четвертом этаже. В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квартире находятся только дети. Родители придут не скоро. Вы услышали, что входную дверь пытаются взломать какие-то злоумышленники. Определите, что вы сделаете для того, чтобы обезопасить себя и квартиру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) открыть дверь со словами: "Извините, но, видимо, вы ошиблись адресом!"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)  включить магнитофон с записью разговора нескольких мужчин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) позвонить в милицию, сообщить, что в квартиру пытаются ворваться злоумышленник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г)  в окно сообщить прохожим о происшествии, просить о помощ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) приготовить все необходимое, чтобы в случае необходимос­ти выбежать из квартиры и спасаться бегство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е) через глазок или через окно постараться разглядеть и за­помнить приметы "визитеров"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ж) приготовить все необходимое, чтобы в случае необходимос­ти спрятаться от грабителей в ванной, туалете или кладово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) вынести на лоджию предметы, которыми можно защищать­ся, если придется укрываться там от грабителе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6 бал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  <p:sndAc>
      <p:stSnd>
        <p:snd r:embed="rId1" name="bomb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3.  Ваша квартира расположена на третьем этаже девятиэтажного дома. Вы возвратились домой и обнаружили, что дверь приоткрыта, видны следы взлома, из квартиры слышны незнакомые голоса. Определите, что вы предпримете в этой ситуаци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) войти в квартиру и спросить: «Кто здесь?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) закрыть дверь на ключ, не вынимая его из замк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) обратиться за помощью к соседя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г) тихо войти в квартиру и незаметно выяснить, что проис­ходи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) доступным способом (по телефону соседей и т.п.) вызвать милицию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е) вместе с соседями зайти в квартиру, чтобы задержать "визитеров"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ж)  по телефону позвонить домой, чтобы узнать, что в ней происходи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) попросить кого-либо из соседей дежурить у подъезда, чтобы выяснить, на какой машине и куда уедут вор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) наблюдая за квартирой, приготовиться к тому, чтобы за­помнить "гостей" (лица, одежду, телосложение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) приготовить тяжелые или острые предметы, чтобы задер­жать "визитеров" на лестничной площадк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6 бал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  <p:sndAc>
      <p:stSnd>
        <p:snd r:embed="rId1" name="bomb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4.   Вы находитесь дома один. Вдруг раздается звонок в дверь. Вы подходите к двери и видите в глазок незнакомого челове­ка. Он пытается уговорить вас открыть дверь. Выберите из предлагаемых вариантов ваши дальнейшие действия и опре­делите их очередность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)  позвонить родителям или в милицию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)  открыть дверь и узнать, что ему нужно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) попробовать громко разговаривать с родителями (обмануть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) сказать, что дома никого нет, а открывать дверь запретил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)  не вступать в разговор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)  сказать, что вы вызвали милиц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4 бал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  <p:sndAc>
      <p:stSnd>
        <p:snd r:embed="rId1" name="bomb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5.   Вы заходите в свой подъезд и слышите громкие крики, смех, шум и понимаете, что этажом выше на лестничной клетке находится пьяная компания. Выберите из предлагаемых вариантов действий правильный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)  спокойно подниматься домо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)  ждать, пока они уйду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) дождаться взрослого знакомого человека, входящего в подъезд, и попросить проводить вас до квартир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1 бал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.   Вы идете из школы домой. К вам подходит незнакомец и предлагает покататься на машине. Выберите из предлагаемых вариантов действий правильный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)  вы с ним заговорите и начнете расспрашивать, где вы бу­дете кататьс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) скажете, что сейчас не можете, но с удовольствием покатае­тесь в следующий раз и попросите позвонить вам по домашнему телефону, чтобы договориться о времени и месте встреч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)  скажете: "Нет. Я не поеду" и отойдете или перейдете на другую сторону дорог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г) согласитесь покататься только 10—15 минут при условии, что он потом проводит вас дом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1 бал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  <p:sndAc>
      <p:stSnd>
        <p:snd r:embed="rId1" name="bomb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7.   Вы с родителями пошли на футбольный матч. По окончании его на выходе возникли давка и суматоха, к тому же отключилось освещение. Началась паника. Вас оттеснили от родителей, и вы потеряли их из виду. У вас упала сумка. Выберите из предлагаемых вариантов ваши дальнейшие действия и определите их очередность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)  кричать, звать родителе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)  держаться в середине толпы и после прохода узких мест постараться выбраться из не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)  попытаться растолкать людей и найти родителе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г)  наклониться и поднять сумк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)  искать своих родителей после окончания сутолок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е)  забыть о сумке, застегнуть одежду, стараться не падать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ж) постараться выбраться из толпы, используя столб, тумбу, памятник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)  позвонить домой, сообщить, что все в порядк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) обратиться в милицию, сообщить о том, что потерялис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5 бал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  <p:sndAc>
      <p:stSnd>
        <p:snd r:embed="rId1" name="bomb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ffffff"/>
                </a:solidFill>
                <a:uFillTx/>
                <a:latin typeface="Arial"/>
              </a:rPr>
              <a:t>8.   Вы гуляете зимой в парке. Вдруг на вас выбегает с лаем большая собака. У вас в руках клюшка, сумка с коньками. Выберите из предлагаемых вариантов дальнейшие действия и определите их очередность</a:t>
            </a:r>
            <a:r>
              <a:rPr b="0" lang="en-US" sz="21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а)  замахнуться клюшкой и отогнать собаку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б)  убежать от нее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в)  закричать, отгоняя ее клюшкой, бросить в нее сумкой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г)  упасть на землю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д) остановиться, повернувшись к собаке лицом вполоборота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е)  подразнить собаку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ж)  громко позвать хозяина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з) при подготовке собаки к прыжку упереться, закрыв горло и лицо согнутой в локте рукой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и) сохранять спокойствие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к) при покусах промыть рану, обратиться в травмпункт по месту жительства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5 бал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  <p:sndAc>
      <p:stSnd>
        <p:snd r:embed="rId1" name="bomb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9.  Молодой человек интеллигентного вида подходит к вам и говорит, что является знакомым родителей и просит впустить его в квартиру, чтобы там подождать папу или маму и сделать им сюрприз. Ваши действия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)  спросите у незнакомца фамилию, имя, отчество папы и мамы, где они работают, и, получив правильный ответ, впустите его в квартир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) уточните у незнакомца более широкие сведения о родите­лях (например, откуда он их знает), после чего впустите в квартир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) не впустите незнакомца в квартиру ни при каких обстоятельства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1 бал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10. Вы остались дома одни. В квартиру позвонили. На ваш во­прос: "Кто?" ответили: "Сантехник, необходимо перекрыть горячую воду, иначе зальет весь дом, а кран в вашей квартире". Ваши действи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)  откроете дверь и впустите сантехник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)  предложите сантехнику прийти с милиционеро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) попросите сантехника зайти с кем-нибудь из взрослых со­седей, которых вы знает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1 бал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  <p:sndAc>
      <p:stSnd>
        <p:snd r:embed="rId1" name="bomb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6:55:53Z</dcterms:created>
  <dc:creator>slater</dc:creator>
  <dc:description/>
  <dc:language>en-US</dc:language>
  <cp:lastModifiedBy>Admin</cp:lastModifiedBy>
  <dcterms:modified xsi:type="dcterms:W3CDTF">2012-04-23T10:19:37Z</dcterms:modified>
  <cp:revision>9</cp:revision>
  <dc:subject/>
  <dc:title>Слайд 1</dc:title>
</cp:coreProperties>
</file>