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bomb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489-51F2-425C-A3D8-46484E20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5B3-F143-4FDE-8567-04848E65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9A9-35F0-4D77-B04D-B628BB52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B27-D8A8-40B8-83E7-3CE13225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7823E-8E2E-49AB-8775-1105D2FD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6CE97-633C-496E-BF7B-3B75AC62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90757-0412-4315-A3F6-7C879A62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35159-F4C2-4577-92E6-4FF16147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65E3A-189A-499E-8905-3418602D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57A59-F3B2-4650-94A6-8163291F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1D246-06ED-469B-B7DD-D2AE520C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BCB-28E5-4395-96EA-DC1584B7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276EB-2B88-48EF-AD90-57C7377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1E850-A573-43B6-83BF-50543C06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FB15E-4BB3-497D-B9B4-AF176512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981F9-38E0-43BB-908A-E752F579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873B4-B8C6-4E47-9CD7-63CF307B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8F1-61AC-402C-A83B-C379FA46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121-529F-45DB-AAF0-FC6EBDD8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B5D-FC77-4B4E-904E-DE9EC678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4BA-1C5D-44CA-8AD8-63D42A3D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63D-E170-4C8A-9839-D01DFD3F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7F5-2B76-41FE-BF37-ED7CC880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004-49BA-40D6-B443-6E884996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4623-E960-4AF1-8E5A-0763F2085A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D817-785D-46B8-B2EE-8C00BB1C02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 по ОБЖ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-9 класс</a:t>
            </a:r>
            <a:br>
              <a:rPr sz="36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в криминогенных ситуациях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ыполнил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Преподаватель-организатор ОБЖ                                         МОУ лицей №1   Урманов Михаил Юрьевич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род Комсомольск-на-Амуре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2008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1.  Вам позвонили в дверь и сказали: "Телеграмма, нужно расписаться"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надев дверную цепочку, откроете двер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попросите прочесть телеграмму через дверь, в противном случае отнести ее на поч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редложите оставить телеграмму в двери - вы потом ее забере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2.  Вы пришли домой и замечаете, что в квартире кто-то побывал (распахнута дверь, выбито окно и т.п.)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войдете в квартиру, осмотрите ее, установите, какие вещи исчезли, и сообщите об этом в мили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войдете в квартиру и сразу сообщите в милицию по телефону 0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не будете входить в квартиру, а вызовете милицию по телефону от сосед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3.  Возвращаясь вечером домой, вы буде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идти кратчайшим путем, пролегающим через дворы, свал­ки и плохо освещенные мес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идти по освещенному тротуару и как можно ближе к краю доро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 воспользуетесь попутным транспор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4.   Подростки-хулиганы часто нападают на маленьких детей. Вы посоветуете в данном случае детя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смело вступать в драку и отстаивать свои игрушки, одежду и т.д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позвать на помощь друзей или взросл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уступить требованиям и никому не рассказывать о случившемся, даже род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.  Вам кажется, что кто-то идет за вами следом. Ваши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перейдете несколько раз улицу и, убедившись в своих подозрениях, побежите в людное мест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 остановитесь и уясните причину преслед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 броситесь бежать к телефонной буд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6. На улице к вам подъехала машина, и водитель стал вести себя агрессивно. Ваши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 вступите в разговор с неизвестным вам водите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 броситесь бежать в сторону своего до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закричите и будете убегать в направлении, противополож­ном движению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4978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в 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Б в г д е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Б в д ж з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Д в е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Е б д и 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Д и ж з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3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4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.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6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Оценка</a:t>
            </a:r>
            <a:r>
              <a:rPr b="1" lang="en-US" sz="51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5»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 38 до 32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4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т 31 до 28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3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т 27 до 24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Молодцы!!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дайте тетради учителю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 Вы находитесь с родителями в своей квартире. Подойдя к двери на звонок, вы услышали: "Здравствуйте, я сантехник, должен отремонтировать у вас водопроводный кран!". Определите, что вашим родителям следует предпринять в такой ситуации, выбрав из предложенных вариантов правильные ответ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открыть дверь со словами: "Прошу вас, проходите!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впустить человека и потребовать служебное удостовер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уточнить фамилию работника, позвонить в службу, кото­рую он представляет, и узнать, есть ли там такой сотрудник, получал ли он  такое зад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попросить посетителя позвонить соседям и одновременно с ними открыть дверь, не освобождая ее от цепоч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) открыв дверь, сказать: "Извините, но у нас с сантехникой все в порядке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) впустив посетителя, продолжить заниматься своими дела­ми. Сказать: "Вот ванная, вот туалет. Если что, зовите -помогу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)  впустив сантехника, присутствовать при выполнении им   раб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.  Ваша семья живет в квартире с лоджией на четвертом этаже. В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квартире находятся только дети. Родители придут не скоро. Вы услышали, что входную дверь пытаются взломать какие-то злоумышленники. Определите, что вы сделаете для того, чтобы обезопасить себя и квартир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открыть дверь со словами: "Извините, но, видимо, вы ошиблись адресом!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включить магнитофон с записью разговора нескольких мужчи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озвонить в милицию, сообщить, что в квартиру пытаются ворваться злоумышленн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 в окно сообщить прохожим о происшествии, просить о помощ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) приготовить все необходимое, чтобы в случае необходимос­ти выбежать из квартиры и спасаться бегств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) через глазок или через окно постараться разглядеть и за­помнить приметы "визитеров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) приготовить все необходимое, чтобы в случае необходимос­ти спрятаться от грабителей в ванной, туалете или кладов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) вынести на лоджию предметы, которыми можно защищать­ся, если придется укрываться там от грабите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6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3.  Ваша квартира расположена на третьем этаже девятиэтажного дома. Вы возвратились домой и обнаружили, что дверь приоткрыта, видны следы взлома, из квартиры слышны незнакомые голоса. Определите, что вы предпримете в этой ситу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войти в квартиру и спросить: «Кто здесь?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закрыть дверь на ключ, не вынимая его из зам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обратиться за помощью к сосед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тихо войти в квартиру и незаметно выяснить, что проис­ход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) доступным способом (по телефону соседей и т.п.) вызвать мили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) вместе с соседями зайти в квартиру, чтобы задержать "визитеров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)  по телефону позвонить домой, чтобы узнать, что в ней происход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) попросить кого-либо из соседей дежурить у подъезда, чтобы выяснить, на какой машине и куда уедут во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) наблюдая за квартирой, приготовиться к тому, чтобы за­помнить "гостей" (лица, одежду, телосложени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) приготовить тяжелые или острые предметы, чтобы задер­жать "визитеров" на лестничной площа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 б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.   Вы находитесь дома один. Вдруг раздается звонок в дверь. Вы подходите к двери и видите в глазок незнакомого челове­ка. Он пытается уговорить вас открыть дверь. Выберите из предлагаемых вариантов ваши дальнейшие действия и опре­делите их очередность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 позвонить родителям или в милиц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 открыть дверь и узнать, что ему нуж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попробовать громко разговаривать с родителями (обману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) сказать, что дома никого нет, а открывать дверь запрети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)  не вступать в разгов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)  сказать, что вы вызвали мили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4 ба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5.   Вы заходите в свой подъезд и слышите громкие крики, смех, шум и понимаете, что этажом выше на лестничной клетке находится пьяная компания. Выберите из предлагаемых вариантов действий правильны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спокойно подниматься дом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ждать, пока они уйд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дождаться взрослого знакомого человека, входящего в подъезд, и попросить проводить вас до кварти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.   Вы идете из школы домой. К вам подходит незнакомец и предлагает покататься на машине. Выберите из предлагаемых вариантов действий правильны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вы с ним заговорите и начнете расспрашивать, где вы бу­дете катать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скажете, что сейчас не можете, но с удовольствием покатае­тесь в следующий раз и попросите позвонить вам по домашнему телефону, чтобы договориться о времени и месте встреч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 скажете: "Нет. Я не поеду" и отойдете или перейдете на другую сторону доро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согласитесь покататься только 10—15 минут при условии, что он потом проводит вас до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7.   Вы с родителями пошли на футбольный матч. По окончании его на выходе возникли давка и суматоха, к тому же отключилось освещение. Началась паника. Вас оттеснили от родителей, и вы потеряли их из виду. У вас упала сумка. Выберите из предлагаемых вариантов ваши дальнейшие действия и определите их очередность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кричать, звать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держаться в середине толпы и после прохода узких мест постараться выбраться из не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 попытаться растолкать людей и найти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 наклониться и поднять сум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)  искать своих родителей после окончания сутоло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)  забыть о сумке, застегнуть одежду, стараться не пад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) постараться выбраться из толпы, используя столб, тумбу, памятни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)  позвонить домой, сообщить, что все в поряд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) обратиться в милицию, сообщить о том, что потеряли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5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8.   Вы гуляете зимой в парке. Вдруг на вас выбегает с лаем большая собака. У вас в руках клюшка, сумка с коньками. Выберите из предлагаемых вариантов дальнейшие действия и определите их очередность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а)  замахнуться клюшкой и отогнать соба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б)  убежать от нее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в)  закричать, отгоняя ее клюшкой, бросить в нее сумк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г)  упасть на землю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д) остановиться, повернувшись к собаке лицом вполоборот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е)  подразнить соба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ж)  громко позвать хозяин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з) при подготовке собаки к прыжку упереться, закрыв горло и лицо согнутой в локте рук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) сохранять спокойствие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к) при покусах промыть рану, обратиться в травмпункт по месту жительства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ба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9.  Молодой человек интеллигентного вида подходит к вам и говорит, что является знакомым родителей и просит впустить его в квартиру, чтобы там подождать папу или маму и сделать им сюрприз. Ваши действия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спросите у незнакомца фамилию, имя, отчество папы и мамы, где они работают, и, получив правильный ответ, впустите его в кварти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уточните у незнакомца более широкие сведения о родите­лях (например, откуда он их знает), после чего впустите в кварти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не впустите незнакомца в квартиру ни при каких обстоятельст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0. Вы остались дома одни. В квартиру позвонили. На ваш во­прос: "Кто?" ответили: "Сантехник, необходимо перекрыть горячую воду, иначе зальет весь дом, а кран в вашей квартире"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откроете дверь и впустите сантех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предложите сантехнику прийти с милиционер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опросите сантехника зайти с кем-нибудь из взрослых со­седей, которых вы зна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6:55:53Z</dcterms:created>
  <dc:creator>slater</dc:creator>
  <dc:description/>
  <dc:language>en-US</dc:language>
  <cp:lastModifiedBy>Admin</cp:lastModifiedBy>
  <dcterms:modified xsi:type="dcterms:W3CDTF">2012-04-23T10:19:37Z</dcterms:modified>
  <cp:revision>9</cp:revision>
  <dc:subject/>
  <dc:title>Слайд 1</dc:title>
</cp:coreProperties>
</file>