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applause.wav" ContentType="audio/x-wav"/>
  <Override PartName="/ppt/media/bomb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A72-7670-4C56-B5C3-231ABF0F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6A25-058D-4A62-A85F-201ADBEE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0DD-8E98-41FB-90A4-ABAE5C19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C96-FA1E-4A18-A2EB-2D0BCD71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48C03-B868-456C-9B46-FD629D38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9F82F-EEDF-4BDD-8C96-672DF83A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210CF-1C7F-4204-920E-A64A6477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62AA0-E61C-4E20-910A-D84344C4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33CDB-D11C-40C9-957F-4B325324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ED522-89D7-4D0C-BFEB-F5033B9D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CDD3D-0770-4922-97FF-8F1F0236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CD64-DC35-481D-AA45-73A67B46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37971-98C7-454A-9A02-333A6A90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477E7-FDE2-4454-88B3-A0E69B69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76A36-F2D0-4A74-8E01-9C8C525E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17592-3544-4494-B2F7-FA5A21C4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021D7-5E6A-47BB-81CE-3A9F3DAA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81D4-E483-41FE-BD6E-49126418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B7F5-C606-4CD7-8C8E-02A69894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FE89-5F69-433C-AE9F-8DFC66AE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D175-91AE-453C-813B-4F3F0ED1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A59B-1982-4C48-9A32-FEC97231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57A-6E09-40E2-AA07-0A2B7BC9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95C5-3070-4B94-A989-0CA89CA9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C0E5-CB09-4CDE-B43E-BBCD412DAA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0AA8-9C1F-4F5C-9848-FF3C2B288F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Тест по ОБЖ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8-9 класс</a:t>
            </a:r>
            <a:br>
              <a:rPr sz="36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равила безопасного поведения в криминогенных ситуациях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»</a:t>
            </a:r>
            <a:br>
              <a:rPr sz="4000"/>
            </a:br>
            <a:br>
              <a:rPr sz="24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Выполнил 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Преподаватель-организатор ОБЖ                                         МОУ лицей №1   Урманов Михаил Юрьевич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род Комсомольск-на-Амуре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2008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1.  Вам позвонили в дверь и сказали: "Телеграмма, нужно расписаться". Ваши действ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 надев дверную цепочку, откроете двер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попросите прочесть телеграмму через дверь, в противном случае отнести ее на почт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предложите оставить телеграмму в двери - вы потом ее заберет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2.  Вы пришли домой и замечаете, что в квартире кто-то побывал (распахнута дверь, выбито окно и т.п.). Ваши действ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войдете в квартиру, осмотрите ее, установите, какие вещи исчезли, и сообщите об этом в милиц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войдете в квартиру и сразу сообщите в милицию по телефону 02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не будете входить в квартиру, а вызовете милицию по телефону от сосед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3.  Возвращаясь вечером домой, вы будет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идти кратчайшим путем, пролегающим через дворы, свал­ки и плохо освещенные мес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идти по освещенному тротуару и как можно ближе к краю дорог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 воспользуетесь попутным транспор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4.   Подростки-хулиганы часто нападают на маленьких детей. Вы посоветуете в данном случае детя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смело вступать в драку и отстаивать свои игрушки, одежду и т.д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 позвать на помощь друзей или взрослы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уступить требованиям и никому не рассказывать о случившемся, даже родител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.  Вам кажется, что кто-то идет за вами следом. Ваши действ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перейдете несколько раз улицу и, убедившись в своих подозрениях, побежите в людное мест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 остановитесь и уясните причину преслед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)  броситесь бежать к телефонной буд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6. На улице к вам подъехала машина, и водитель стал вести себя агрессивно. Ваши действ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 вступите в разговор с неизвестным вам водителе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 броситесь бежать в сторону своего до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) закричите и будете убегать в направлении, противополож­ном движению маш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76280"/>
            <a:ext cx="84978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в 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Б в г д е 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Б в д ж з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Д в е 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.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. Е б д и 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. Д и ж з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.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.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.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.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3.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4.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5. 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6.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ffc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3e3ff"/>
                </a:solidFill>
                <a:latin typeface="Times New Roman"/>
              </a:rPr>
              <a:t>Оценка</a:t>
            </a:r>
            <a:r>
              <a:rPr b="1" lang="en-US" sz="5100" spc="-1" strike="noStrike">
                <a:solidFill>
                  <a:srgbClr val="e3e3ff"/>
                </a:solidFill>
                <a:latin typeface="Arial"/>
              </a:rPr>
              <a:t>:</a:t>
            </a:r>
            <a:endParaRPr b="0" lang="en-US" sz="5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«5»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 38 до 32 правильных отв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«4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от 31 до 28 правильных отв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«3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от 27 до 24 правильных отв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Молодцы!!!!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applaus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дайте тетради учителю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. Вы находитесь с родителями в своей квартире. Подойдя к двери на звонок, вы услышали: "Здравствуйте, я сантехник, должен отремонтировать у вас водопроводный кран!". Определите, что вашим родителям следует предпринять в такой ситуации, выбрав из предложенных вариантов правильные ответы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открыть дверь со словами: "Прошу вас, проходите!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впустить человека и потребовать служебное удостовер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уточнить фамилию работника, позвонить в службу, кото­рую он представляет, и узнать, есть ли там такой сотрудник, получал ли он  такое зад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) попросить посетителя позвонить соседям и одновременно с ними открыть дверь, не освобождая ее от цепоч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) открыв дверь, сказать: "Извините, но у нас с сантехникой все в порядке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) впустив посетителя, продолжить заниматься своими дела­ми. Сказать: "Вот ванная, вот туалет. Если что, зовите -помогу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)  впустив сантехника, присутствовать при выполнении им   рабо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2.  Ваша семья живет в квартире с лоджией на четвертом этаже. В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квартире находятся только дети. Родители придут не скоро. Вы услышали, что входную дверь пытаются взломать какие-то злоумышленники. Определите, что вы сделаете для того, чтобы обезопасить себя и квартир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открыть дверь со словами: "Извините, но, видимо, вы ошиблись адресом!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 включить магнитофон с записью разговора нескольких мужчин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позвонить в милицию, сообщить, что в квартиру пытаются ворваться злоумышленни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)  в окно сообщить прохожим о происшествии, просить о помощ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) приготовить все необходимое, чтобы в случае необходимос­ти выбежать из квартиры и спасаться бегств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) через глазок или через окно постараться разглядеть и за­помнить приметы "визитеров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) приготовить все необходимое, чтобы в случае необходимос­ти спрятаться от грабителей в ванной, туалете или кладово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) вынести на лоджию предметы, которыми можно защищать­ся, если придется укрываться там от грабите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6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3.  Ваша квартира расположена на третьем этаже девятиэтажного дома. Вы возвратились домой и обнаружили, что дверь приоткрыта, видны следы взлома, из квартиры слышны незнакомые голоса. Определите, что вы предпримете в этой ситу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войти в квартиру и спросить: «Кто здесь?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закрыть дверь на ключ, не вынимая его из зам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обратиться за помощью к соседя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) тихо войти в квартиру и незаметно выяснить, что проис­ходи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) доступным способом (по телефону соседей и т.п.) вызвать милиц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) вместе с соседями зайти в квартиру, чтобы задержать "визитеров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)  по телефону позвонить домой, чтобы узнать, что в ней происходи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) попросить кого-либо из соседей дежурить у подъезда, чтобы выяснить, на какой машине и куда уедут вор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) наблюдая за квартирой, приготовиться к тому, чтобы за­помнить "гостей" (лица, одежду, телосложение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) приготовить тяжелые или острые предметы, чтобы задер­жать "визитеров" на лестничной площад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6 бал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.   Вы находитесь дома один. Вдруг раздается звонок в дверь. Вы подходите к двери и видите в глазок незнакомого челове­ка. Он пытается уговорить вас открыть дверь. Выберите из предлагаемых вариантов ваши дальнейшие действия и опре­делите их очередность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 позвонить родителям или в милиц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 открыть дверь и узнать, что ему нужн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) попробовать громко разговаривать с родителями (обмануть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) сказать, что дома никого нет, а открывать дверь запрети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)  не вступать в разгово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)  сказать, что вы вызвали милиц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4 ба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5.   Вы заходите в свой подъезд и слышите громкие крики, смех, шум и понимаете, что этажом выше на лестничной клетке находится пьяная компания. Выберите из предлагаемых вариантов действий правильны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 спокойно подниматься домо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 ждать, пока они уйду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дождаться взрослого знакомого человека, входящего в подъезд, и попросить проводить вас до кварти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.   Вы идете из школы домой. К вам подходит незнакомец и предлагает покататься на машине. Выберите из предлагаемых вариантов действий правильны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 вы с ним заговорите и начнете расспрашивать, где вы бу­дете катать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скажете, что сейчас не можете, но с удовольствием покатае­тесь в следующий раз и попросите позвонить вам по домашнему телефону, чтобы договориться о времени и месте встреч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 скажете: "Нет. Я не поеду" и отойдете или перейдете на другую сторону дорог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) согласитесь покататься только 10—15 минут при условии, что он потом проводит вас дом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7.   Вы с родителями пошли на футбольный матч. По окончании его на выходе возникли давка и суматоха, к тому же отключилось освещение. Началась паника. Вас оттеснили от родителей, и вы потеряли их из виду. У вас упала сумка. Выберите из предлагаемых вариантов ваши дальнейшие действия и определите их очередность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 кричать, звать родител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 держаться в середине толпы и после прохода узких мест постараться выбраться из не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 попытаться растолкать людей и найти родител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)  наклониться и поднять сумк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)  искать своих родителей после окончания сутоло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)  забыть о сумке, застегнуть одежду, стараться не пада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) постараться выбраться из толпы, используя столб, тумбу, памятник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)  позвонить домой, сообщить, что все в порядк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) обратиться в милицию, сообщить о том, что потерялис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5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8.   Вы гуляете зимой в парке. Вдруг на вас выбегает с лаем большая собака. У вас в руках клюшка, сумка с коньками. Выберите из предлагаемых вариантов дальнейшие действия и определите их очередность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а)  замахнуться клюшкой и отогнать собаку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б)  убежать от нее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в)  закричать, отгоняя ее клюшкой, бросить в нее сумкой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г)  упасть на землю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д) остановиться, повернувшись к собаке лицом вполоборота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е)  подразнить собаку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ж)  громко позвать хозяина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з) при подготовке собаки к прыжку упереться, закрыв горло и лицо согнутой в локте рукой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и) сохранять спокойствие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к) при покусах промыть рану, обратиться в травмпункт по месту жительства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5 ба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9.  Молодой человек интеллигентного вида подходит к вам и говорит, что является знакомым родителей и просит впустить его в квартиру, чтобы там подождать папу или маму и сделать им сюрприз. Ваши действия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 спросите у незнакомца фамилию, имя, отчество папы и мамы, где они работают, и, получив правильный ответ, впустите его в квартир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уточните у незнакомца более широкие сведения о родите­лях (например, откуда он их знает), после чего впустите в квартир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не впустите незнакомца в квартиру ни при каких обстоятельств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0. Вы остались дома одни. В квартиру позвонили. На ваш во­прос: "Кто?" ответили: "Сантехник, необходимо перекрыть горячую воду, иначе зальет весь дом, а кран в вашей квартире". Ваши действ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  откроете дверь и впустите сантехни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  предложите сантехнику прийти с милиционер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 попросите сантехника зайти с кем-нибудь из взрослых со­седей, которых вы знае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6:55:53Z</dcterms:created>
  <dc:creator>slater</dc:creator>
  <dc:description/>
  <dc:language>en-US</dc:language>
  <cp:lastModifiedBy>Admin</cp:lastModifiedBy>
  <dcterms:modified xsi:type="dcterms:W3CDTF">2012-04-23T10:19:37Z</dcterms:modified>
  <cp:revision>9</cp:revision>
  <dc:subject/>
  <dc:title>Слайд 1</dc:title>
</cp:coreProperties>
</file>