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921-4674-49B6-9F8B-BDD6DF1D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796-6F18-452A-8EDE-BA29BC8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CEB-58B1-4ACC-906E-B31F8393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9FD-E680-4277-83D6-FCC92941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E64-C61C-4376-948F-6B0C538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FC1-636A-4EEE-A13B-669086F4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9C9-AE0D-448C-BDA3-978B21F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C2D-C36F-4CC5-8601-157A9FE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91F-AD9B-406B-B9BF-BA121F93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ADC-7A43-493F-BEA5-5808EB6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FB9-F4A9-49FE-8E92-1F8CEA9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F1A-C1C5-4A82-A232-26033C49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467-D760-4BE8-94DF-E9D3A3FFE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МУЗЫКАЛЬНЫЙ КАЛЕЙДОСКО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7954" t="302" r="33810" b="8075"/>
          <a:stretch/>
        </p:blipFill>
        <p:spPr>
          <a:xfrm>
            <a:off x="539640" y="1700280"/>
            <a:ext cx="8064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УГАДАЙ И С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57122" t="9401" r="6677" b="53059"/>
          <a:stretch/>
        </p:blipFill>
        <p:spPr>
          <a:xfrm>
            <a:off x="1763640" y="1484280"/>
            <a:ext cx="5761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ция</cp:lastModifiedBy>
  <dcterms:modified xsi:type="dcterms:W3CDTF">2007-01-25T10:11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