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05F-1D62-4614-8952-4073116D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ECAE-26A5-4FF2-8428-36F7A997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F139-8CCA-4131-81D0-B67885D4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BEC3-8E67-4BB0-AC96-0E52BCA9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94D-054B-49B4-9E76-E59377B8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272-35AA-47DE-A236-99B22438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AAE5-9778-4A7B-8158-2C3C87E0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595-7863-4CAC-B143-B08E6C1A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C9C5-C9D1-48D6-82BE-FB46BC6B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378A-B3AD-4D90-8DC1-89E6716B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BD0-DB4D-42FF-BE3C-46975212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D4B-8EA8-4670-8D31-48D69A90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509A-38C6-4AD9-8688-D93E306666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МУЗЫКАЛЬНЫЙ КАЛЕЙДОСКОП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УГАДАЙ И СП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35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УГАДАЙ И СП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7954" t="302" r="33810" b="8075"/>
          <a:stretch/>
        </p:blipFill>
        <p:spPr>
          <a:xfrm>
            <a:off x="539640" y="1700280"/>
            <a:ext cx="8064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УГАДАЙ И СП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57122" t="9401" r="6677" b="53059"/>
          <a:stretch/>
        </p:blipFill>
        <p:spPr>
          <a:xfrm>
            <a:off x="1763640" y="1484280"/>
            <a:ext cx="5761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ция</cp:lastModifiedBy>
  <dcterms:modified xsi:type="dcterms:W3CDTF">2007-01-25T10:11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