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CEC-9E14-4DF6-BEED-D89335E4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179-8512-43FD-901E-19F05273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1A7-C3F1-4ED5-BE91-E412B09B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BEE-285A-4697-83E5-B308D002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7DF-6908-4996-B4A9-706A7896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39C-FA9F-4B75-B132-5764C34D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A6B-8A7F-444C-8DAD-3CF848D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A71-A880-4F43-B96C-01DE28B5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F07-3A4E-4D36-89D1-911AFD7F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398-DF33-4419-A64B-ED9B8CF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629-3449-48C6-A9D1-975D1F90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E5E-A0CB-493C-9D3B-00693F34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F0C1-BA04-4CF8-A034-88E0BEF05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МУЗЫКАЛЬНЫЙ КАЛЕЙДОСКО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ГАДАЙ И С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ГАДАЙ И С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7954" t="302" r="33810" b="8075"/>
          <a:stretch/>
        </p:blipFill>
        <p:spPr>
          <a:xfrm>
            <a:off x="539640" y="1700280"/>
            <a:ext cx="806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ГАДАЙ И С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57122" t="9401" r="6677" b="53059"/>
          <a:stretch/>
        </p:blipFill>
        <p:spPr>
          <a:xfrm>
            <a:off x="1763640" y="1484280"/>
            <a:ext cx="576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ция</cp:lastModifiedBy>
  <dcterms:modified xsi:type="dcterms:W3CDTF">2007-01-25T10:11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