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F55-FFF5-4688-BD93-B0E9EAA5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06E-2F13-41C7-A342-6B01B53C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68A-415D-4637-B21D-933C6ADD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A12-F4D2-4CBC-B8F2-61DFF459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E85-F4B6-4DA1-B44E-EB37A8C0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F47C-082F-4251-A2A7-E0C9E763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9D0E-7BFA-4ECD-A533-586D3B0F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F9E-51E4-4A6F-8CA8-C6A87D0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A331-CAF7-4708-8BE5-976AC245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4985-A238-4BBE-8820-BD3FE0F6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2693-0D15-48C4-82BC-D50B4D3E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62E-6D12-4491-8780-18AD2C28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DF9E-35EC-495A-817F-0DDE374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83A8-567E-4833-BD61-7D403BAF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439-50B7-41C8-AB77-6536F041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F49-05CC-4D9B-B6AD-20F0F980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FED-1E55-48BE-BB81-65E777CC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A75-11A8-4EAF-9A6B-0BC455A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CC2-53DB-41EF-AAE5-0916037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0F2-C828-4EF9-8F07-AA49924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D4A-D0B4-455F-8FCF-54B86CD0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A85-D485-4CFE-97A4-43995613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55A-D601-4189-97A0-C97CE70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A60-7C37-451C-9768-8B39C58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181C-306D-4DC7-B553-6209EC18E1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C49D-C481-49DB-8FCC-3BD0E34641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делки из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ан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48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019160"/>
            <a:ext cx="70102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72396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164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410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39:47Z</dcterms:created>
  <dc:creator>львица</dc:creator>
  <dc:description/>
  <dc:language>en-US</dc:language>
  <cp:lastModifiedBy>Татьяна</cp:lastModifiedBy>
  <dcterms:modified xsi:type="dcterms:W3CDTF">2013-04-07T09:49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