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D2A-9985-441B-BC6A-4753365D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76B-D8E2-4C16-B300-45FFD863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AC0-F3DF-4752-AF73-250F3248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7F1-4CE0-4984-A629-8E294171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B1C5-8A47-458A-818E-2BDAE3A3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755D-333E-4C7F-B008-892EA5D0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B019-7E51-4E18-9304-E789257F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BDF9-AE5C-4E2B-9296-A4C2D3CB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E262-A1B7-4786-9DEE-E36B6D54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1251-00E3-46F8-BEDD-5FE48E47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39CF-2F21-46F0-8A81-96E48962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17D-505A-4BB5-B7CF-BF023A69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E723-BA7F-481F-816E-23E7641A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E0A0-7F3B-486C-ADDA-7BB08CF7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FEB2-C31E-474A-B9F8-0063EBB7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F9D5-6A3A-4585-9A07-CFE505AD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723A-7BBE-4EAA-BFC0-5ECAA472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429-2F53-4284-80CA-F88E04EB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F2C-F5F9-4D50-ABFA-A0E30B1E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169-BD36-42E9-8AE0-696A3024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F5D-9E22-4396-B9FD-919755BE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9E8-7BD5-45EC-88B7-3CFA88C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743-A24C-4062-9DFC-356C0A41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990-FC63-41A0-8E1A-AC1A72CD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EC66-977C-45A2-9931-271586B280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AC25-58E5-4E5E-99BF-4AAF56C51E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делки из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ан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486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019160"/>
            <a:ext cx="70102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72396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64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410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9:39:47Z</dcterms:created>
  <dc:creator>львица</dc:creator>
  <dc:description/>
  <dc:language>en-US</dc:language>
  <cp:lastModifiedBy>Татьяна</cp:lastModifiedBy>
  <dcterms:modified xsi:type="dcterms:W3CDTF">2013-04-07T09:49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