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D99B-40D6-4A53-8618-F1AF9C269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4B16-05F6-4A9B-8D8A-EFA5DF4D8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D9E7-FEFD-4208-ADD8-83028D643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9F7A-EDED-42D4-9E50-33560EF69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5A66E-9CD4-4251-B23F-BC93FE0C8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21886-2699-43FF-BC88-8191B4352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8775D-4147-4B96-BE8E-F1C63808A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E1043-9A4A-4407-821D-188ADF4F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49377-3CA9-4A71-8873-66CD13712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4ADA5-CF6F-45AA-AA89-D89E1855E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9DF42-5054-4F9A-8481-35C62AAA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5EBF-9211-4B3A-A601-2449ACB91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B7815-762A-4608-8249-2726F124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65DCA-2220-4B83-BCEB-EEF072C5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39C41-7D2A-4240-8467-B7F1DAA68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477FC-528C-4228-A9B0-CDF06228F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EE63B-CE39-4FD4-BC2D-2921D7DC8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3CA4-7ABA-42D3-ADCB-AF3E0A0BF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F617-3871-4BF3-90B8-2625B8875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DAE3-7D3A-42B0-9ED5-57A4846F3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B885-30D0-481E-BC5E-64D35AF0D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04EF-0E71-4391-B3C5-E3AC69EE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BF9B-247C-47B0-A502-87B285C1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AD0B-494C-43E7-8091-271F8E75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8998F-4F68-48B4-835B-C4BB1402130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062FF-0438-466D-8D2C-B79FB4C3B54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Поделки из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фане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752480" y="1066680"/>
            <a:ext cx="54864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624852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90720" y="1019160"/>
            <a:ext cx="7010280" cy="46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143000" y="723960"/>
            <a:ext cx="7010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828800" y="990720"/>
            <a:ext cx="54100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600200" y="4572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51642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600200" y="990720"/>
            <a:ext cx="632448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676520" y="990720"/>
            <a:ext cx="541008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09:39:47Z</dcterms:created>
  <dc:creator>львица</dc:creator>
  <dc:description/>
  <dc:language>en-US</dc:language>
  <cp:lastModifiedBy>Татьяна</cp:lastModifiedBy>
  <dcterms:modified xsi:type="dcterms:W3CDTF">2013-04-07T09:49:5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