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png" ContentType="image/png"/>
  <Override PartName="/ppt/media/image27.png" ContentType="image/png"/>
  <Override PartName="/ppt/media/image5.jpeg" ContentType="image/jpeg"/>
  <Override PartName="/ppt/media/image26.jpeg" ContentType="image/jpeg"/>
  <Override PartName="/ppt/media/image14.jpeg" ContentType="image/jpeg"/>
  <Override PartName="/ppt/media/image8.png" ContentType="image/png"/>
  <Override PartName="/ppt/media/image11.png" ContentType="image/png"/>
  <Override PartName="/ppt/media/image9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2.gif" ContentType="image/gif"/>
  <Override PartName="/ppt/media/image30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CC4D9-2F39-4DB0-A7FE-34F8020F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5115E-79EB-4709-8A2A-372EFD91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67D6A-62D1-49CD-B1BC-277B0CF4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7B0E1-E092-4A91-8980-2B88A04C2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6780-1BAD-42F9-9386-C7CC90E2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0C79-9BF4-45DC-9034-BF08E7F9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8417-DA0D-49C3-846E-622ECE3A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ABC1-7F47-4D52-ABA4-5DC5324C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D159-CC2D-4331-A794-BE7215CD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689F-7B97-406C-88C9-E9BF0BE6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71E6-CEE9-4A7C-910A-CA75F55D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78905-292F-404E-ABBC-8E667EF2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0E86-F31B-4245-A066-781EC6BF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E076-787C-46DF-BF32-CB44C21C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8055-0A5C-4E5F-A3D3-FDD2B1A1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C446-0BE4-48FA-81BA-5346ECB1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68CE-AF34-45D9-8F21-2AC19BF9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CA846-7C1E-48DF-8676-86E80FAB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767F4-CF35-497C-AB01-2F712AFE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3A5E3-888D-4D04-9FD4-1BB6C625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76B49-F74B-410B-BE76-C3CE3CDD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2419F-26A5-421D-BFD6-16F26B5B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648A0-FA6E-4B8C-9C5C-4C150F04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ECF14-2FDF-45ED-AE0B-67A64340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c991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3D53-4276-45D3-B0B5-F64A45EEF23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33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5DEA-B720-4E20-95A5-42F97BF876E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13.xml"/><Relationship Id="rId6" Type="http://schemas.openxmlformats.org/officeDocument/2006/relationships/slide" Target="slide11.xml"/><Relationship Id="rId7" Type="http://schemas.openxmlformats.org/officeDocument/2006/relationships/slide" Target="slide10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Геометрия в жизни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ли первые понятия геометр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508720" y="5661000"/>
            <a:ext cx="3009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инякина Т.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2952720" cy="2089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651640" y="620640"/>
            <a:ext cx="1873080" cy="2376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771640" y="2349360"/>
            <a:ext cx="2381400" cy="356256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68360" y="623736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9627"/>
                </a:moveTo>
                <a:lnTo>
                  <a:pt x="7301" y="9627"/>
                </a:lnTo>
                <a:lnTo>
                  <a:pt x="7301" y="14962"/>
                </a:lnTo>
                <a:cubicBezTo>
                  <a:pt x="7301" y="15885"/>
                  <a:pt x="8102" y="16616"/>
                  <a:pt x="9138" y="16616"/>
                </a:cubicBezTo>
                <a:lnTo>
                  <a:pt x="10800" y="16616"/>
                </a:lnTo>
                <a:cubicBezTo>
                  <a:pt x="11836" y="16616"/>
                  <a:pt x="12636" y="15885"/>
                  <a:pt x="12636" y="14962"/>
                </a:cubicBezTo>
                <a:lnTo>
                  <a:pt x="12636" y="9627"/>
                </a:lnTo>
                <a:lnTo>
                  <a:pt x="10800" y="9627"/>
                </a:lnTo>
                <a:lnTo>
                  <a:pt x="14308" y="6119"/>
                </a:lnTo>
                <a:lnTo>
                  <a:pt x="17981" y="9627"/>
                </a:lnTo>
                <a:lnTo>
                  <a:pt x="16144" y="9627"/>
                </a:lnTo>
                <a:lnTo>
                  <a:pt x="16144" y="14962"/>
                </a:lnTo>
                <a:cubicBezTo>
                  <a:pt x="16144" y="17730"/>
                  <a:pt x="13568" y="20289"/>
                  <a:pt x="10800" y="20289"/>
                </a:cubicBezTo>
                <a:lnTo>
                  <a:pt x="9138" y="20289"/>
                </a:lnTo>
                <a:cubicBezTo>
                  <a:pt x="6370" y="20289"/>
                  <a:pt x="3794" y="17730"/>
                  <a:pt x="3794" y="14962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00000" y="18900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о в геометрии изучают не только фигуры, но и плоскости  и  линии.  В жизни этих примеров тоже очень много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2340000" cy="2232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419640" y="2276640"/>
            <a:ext cx="2344680" cy="2232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227640" y="2276640"/>
            <a:ext cx="2160720" cy="2232000"/>
          </a:xfrm>
          <a:prstGeom prst="rect">
            <a:avLst/>
          </a:prstGeom>
          <a:ln w="0">
            <a:noFill/>
          </a:ln>
        </p:spPr>
      </p:pic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539640" y="602136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3794" y="9060"/>
                </a:moveTo>
                <a:lnTo>
                  <a:pt x="7301" y="9060"/>
                </a:lnTo>
                <a:lnTo>
                  <a:pt x="7301" y="14395"/>
                </a:lnTo>
                <a:cubicBezTo>
                  <a:pt x="7301" y="15318"/>
                  <a:pt x="8102" y="16049"/>
                  <a:pt x="9138" y="16049"/>
                </a:cubicBezTo>
                <a:lnTo>
                  <a:pt x="10800" y="16049"/>
                </a:lnTo>
                <a:cubicBezTo>
                  <a:pt x="11836" y="16049"/>
                  <a:pt x="12636" y="15318"/>
                  <a:pt x="12636" y="14395"/>
                </a:cubicBezTo>
                <a:lnTo>
                  <a:pt x="12636" y="9060"/>
                </a:lnTo>
                <a:lnTo>
                  <a:pt x="10800" y="9060"/>
                </a:lnTo>
                <a:lnTo>
                  <a:pt x="14308" y="5552"/>
                </a:lnTo>
                <a:lnTo>
                  <a:pt x="17981" y="9060"/>
                </a:lnTo>
                <a:lnTo>
                  <a:pt x="16144" y="9060"/>
                </a:lnTo>
                <a:lnTo>
                  <a:pt x="16144" y="14395"/>
                </a:lnTo>
                <a:cubicBezTo>
                  <a:pt x="16144" y="17163"/>
                  <a:pt x="13568" y="19722"/>
                  <a:pt x="10800" y="19722"/>
                </a:cubicBezTo>
                <a:lnTo>
                  <a:pt x="9138" y="19722"/>
                </a:lnTo>
                <a:cubicBezTo>
                  <a:pt x="6370" y="19722"/>
                  <a:pt x="3794" y="17163"/>
                  <a:pt x="3794" y="14395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67840" y="1568520"/>
            <a:ext cx="3958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стало с краю ул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длинном сапог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учело трехглаз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а одной но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де машины движу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де сошлись пу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могает ули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Людям перей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2857680" cy="2571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2411280" y="189000"/>
            <a:ext cx="4248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ccffff"/>
                </a:solidFill>
                <a:latin typeface="Impact"/>
              </a:rPr>
              <a:t>Угадай  фигуру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ccffff"/>
              </a:solidFill>
              <a:latin typeface="Impact"/>
              <a:ea typeface="Impact"/>
            </a:endParaRPr>
          </a:p>
        </p:txBody>
      </p:sp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395280" y="6093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7493"/>
                </a:moveTo>
                <a:lnTo>
                  <a:pt x="7340" y="7493"/>
                </a:lnTo>
                <a:lnTo>
                  <a:pt x="7340" y="12828"/>
                </a:lnTo>
                <a:cubicBezTo>
                  <a:pt x="7340" y="13751"/>
                  <a:pt x="8140" y="14482"/>
                  <a:pt x="9176" y="14482"/>
                </a:cubicBezTo>
                <a:lnTo>
                  <a:pt x="10839" y="14482"/>
                </a:lnTo>
                <a:cubicBezTo>
                  <a:pt x="11874" y="14482"/>
                  <a:pt x="12675" y="13751"/>
                  <a:pt x="12675" y="12828"/>
                </a:cubicBezTo>
                <a:lnTo>
                  <a:pt x="12675" y="7493"/>
                </a:lnTo>
                <a:lnTo>
                  <a:pt x="10839" y="7493"/>
                </a:lnTo>
                <a:lnTo>
                  <a:pt x="14346" y="3985"/>
                </a:lnTo>
                <a:lnTo>
                  <a:pt x="18019" y="7493"/>
                </a:lnTo>
                <a:lnTo>
                  <a:pt x="16183" y="7493"/>
                </a:lnTo>
                <a:lnTo>
                  <a:pt x="16183" y="12828"/>
                </a:lnTo>
                <a:cubicBezTo>
                  <a:pt x="16183" y="15596"/>
                  <a:pt x="13606" y="18155"/>
                  <a:pt x="10839" y="18155"/>
                </a:cubicBezTo>
                <a:lnTo>
                  <a:pt x="9176" y="18155"/>
                </a:lnTo>
                <a:cubicBezTo>
                  <a:pt x="6408" y="18155"/>
                  <a:pt x="3832" y="15596"/>
                  <a:pt x="3832" y="12828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2521080" cy="2404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300720" y="1413000"/>
            <a:ext cx="2552760" cy="2232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700360" y="3716280"/>
            <a:ext cx="3313080" cy="2881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2268360" y="404640"/>
            <a:ext cx="403236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конус</a:t>
            </a:r>
            <a:endParaRPr b="0" lang="en-US" sz="1800" spc="1" strike="noStrike">
              <a:ln w="9360">
                <a:solidFill>
                  <a:srgbClr val="0000cc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53964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7493"/>
                </a:moveTo>
                <a:lnTo>
                  <a:pt x="7309" y="7493"/>
                </a:lnTo>
                <a:lnTo>
                  <a:pt x="7309" y="12828"/>
                </a:lnTo>
                <a:cubicBezTo>
                  <a:pt x="7309" y="13751"/>
                  <a:pt x="8110" y="14482"/>
                  <a:pt x="9145" y="14482"/>
                </a:cubicBezTo>
                <a:lnTo>
                  <a:pt x="10808" y="14482"/>
                </a:lnTo>
                <a:cubicBezTo>
                  <a:pt x="11843" y="14482"/>
                  <a:pt x="12644" y="13751"/>
                  <a:pt x="12644" y="12828"/>
                </a:cubicBezTo>
                <a:lnTo>
                  <a:pt x="12644" y="7493"/>
                </a:lnTo>
                <a:lnTo>
                  <a:pt x="10808" y="7493"/>
                </a:lnTo>
                <a:lnTo>
                  <a:pt x="14315" y="3985"/>
                </a:lnTo>
                <a:lnTo>
                  <a:pt x="17988" y="7493"/>
                </a:lnTo>
                <a:lnTo>
                  <a:pt x="16152" y="7493"/>
                </a:lnTo>
                <a:lnTo>
                  <a:pt x="16152" y="12828"/>
                </a:lnTo>
                <a:cubicBezTo>
                  <a:pt x="16152" y="15596"/>
                  <a:pt x="13576" y="18155"/>
                  <a:pt x="10808" y="18155"/>
                </a:cubicBezTo>
                <a:lnTo>
                  <a:pt x="9145" y="18155"/>
                </a:lnTo>
                <a:cubicBezTo>
                  <a:pt x="6378" y="18155"/>
                  <a:pt x="3801" y="15596"/>
                  <a:pt x="3801" y="12828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2590920" cy="2000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411280" y="4653000"/>
            <a:ext cx="1619280" cy="1685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292720" y="1916280"/>
            <a:ext cx="3381480" cy="457200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previousslide"/>
          </p:cNvPr>
          <p:cNvSpPr/>
          <p:nvPr/>
        </p:nvSpPr>
        <p:spPr>
          <a:xfrm>
            <a:off x="25092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476360" y="260280"/>
            <a:ext cx="6624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линдр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4360" y="476280"/>
            <a:ext cx="813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Египетские пирамиды, усыпальницы египетских фараонов. Крупнейшие 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их – пирамиды Хеопса, Хефрена и Микер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ирамиды выстроены на левом западном берегу Нила (царство мертвых)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озвышались над всем городом мертвых бесчисленными гробницам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ирамидами, храм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рупнейшая пирамида в Гизе – пирамида Хеопса ( высота  146,6 м 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35120" y="2514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6858000" cy="459900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395280" y="616572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3794" y="9284"/>
                </a:moveTo>
                <a:lnTo>
                  <a:pt x="7301" y="9284"/>
                </a:lnTo>
                <a:lnTo>
                  <a:pt x="7301" y="14619"/>
                </a:lnTo>
                <a:cubicBezTo>
                  <a:pt x="7301" y="15542"/>
                  <a:pt x="8102" y="16273"/>
                  <a:pt x="9138" y="16273"/>
                </a:cubicBezTo>
                <a:lnTo>
                  <a:pt x="10800" y="16273"/>
                </a:lnTo>
                <a:cubicBezTo>
                  <a:pt x="11836" y="16273"/>
                  <a:pt x="12636" y="15542"/>
                  <a:pt x="12636" y="14619"/>
                </a:cubicBezTo>
                <a:lnTo>
                  <a:pt x="12636" y="9284"/>
                </a:lnTo>
                <a:lnTo>
                  <a:pt x="10800" y="9284"/>
                </a:lnTo>
                <a:lnTo>
                  <a:pt x="14308" y="5776"/>
                </a:lnTo>
                <a:lnTo>
                  <a:pt x="17981" y="9284"/>
                </a:lnTo>
                <a:lnTo>
                  <a:pt x="16144" y="9284"/>
                </a:lnTo>
                <a:lnTo>
                  <a:pt x="16144" y="14619"/>
                </a:lnTo>
                <a:cubicBezTo>
                  <a:pt x="16144" y="17387"/>
                  <a:pt x="13568" y="19946"/>
                  <a:pt x="10800" y="19946"/>
                </a:cubicBezTo>
                <a:lnTo>
                  <a:pt x="9138" y="19946"/>
                </a:lnTo>
                <a:cubicBezTo>
                  <a:pt x="6370" y="19946"/>
                  <a:pt x="3794" y="17387"/>
                  <a:pt x="3794" y="14619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2755800" cy="4508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203640" y="404640"/>
            <a:ext cx="1368360" cy="1197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156360" y="5589720"/>
            <a:ext cx="1332000" cy="1081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276720" y="3068640"/>
            <a:ext cx="1314360" cy="107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2050920" y="5445000"/>
            <a:ext cx="1297080" cy="1079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7559640" y="260280"/>
            <a:ext cx="1584360" cy="1368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859280" y="260280"/>
            <a:ext cx="302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ТОГ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75400" y="1989000"/>
            <a:ext cx="437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 сожалению, в природе н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геометрических  линий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геометрических  поверхностей, 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се, что изучается в геомет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аходит широкое примен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 науке и технике. Это происходи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тому, что геометрия порожд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ействительностью. А также э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аука  обладает преимуществ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ост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этому ее изучают и будут изуч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  школ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250920" y="6165720"/>
            <a:ext cx="433440" cy="43200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3829" y="7493"/>
                </a:moveTo>
                <a:lnTo>
                  <a:pt x="7337" y="7493"/>
                </a:lnTo>
                <a:lnTo>
                  <a:pt x="7337" y="12828"/>
                </a:lnTo>
                <a:cubicBezTo>
                  <a:pt x="7337" y="13751"/>
                  <a:pt x="8138" y="14482"/>
                  <a:pt x="9174" y="14482"/>
                </a:cubicBezTo>
                <a:lnTo>
                  <a:pt x="10836" y="14482"/>
                </a:lnTo>
                <a:cubicBezTo>
                  <a:pt x="11872" y="14482"/>
                  <a:pt x="12672" y="13751"/>
                  <a:pt x="12672" y="12828"/>
                </a:cubicBezTo>
                <a:lnTo>
                  <a:pt x="12672" y="7493"/>
                </a:lnTo>
                <a:lnTo>
                  <a:pt x="10836" y="7493"/>
                </a:lnTo>
                <a:lnTo>
                  <a:pt x="14344" y="3985"/>
                </a:lnTo>
                <a:lnTo>
                  <a:pt x="18017" y="7493"/>
                </a:lnTo>
                <a:lnTo>
                  <a:pt x="16180" y="7493"/>
                </a:lnTo>
                <a:lnTo>
                  <a:pt x="16180" y="12828"/>
                </a:lnTo>
                <a:cubicBezTo>
                  <a:pt x="16180" y="15596"/>
                  <a:pt x="13604" y="18155"/>
                  <a:pt x="10836" y="18155"/>
                </a:cubicBezTo>
                <a:lnTo>
                  <a:pt x="9174" y="18155"/>
                </a:lnTo>
                <a:cubicBezTo>
                  <a:pt x="6406" y="18155"/>
                  <a:pt x="3829" y="15596"/>
                  <a:pt x="3829" y="12828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16000" y="333360"/>
            <a:ext cx="684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одержание</a:t>
            </a:r>
            <a:endParaRPr b="0" lang="en-US" sz="1800" spc="1" strike="noStrike">
              <a:ln w="9360">
                <a:solidFill>
                  <a:srgbClr val="00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85600" y="1914480"/>
            <a:ext cx="384120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1" action="ppaction://hlinksldjump"/>
              </a:rPr>
              <a:t>ВСТУП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2" action="ppaction://hlinksldjump"/>
              </a:rPr>
              <a:t>ИСТОРИЧЕСКИЕ СВЕ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3" action="ppaction://hlinksldjump"/>
              </a:rPr>
              <a:t>УГАДАЙ-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4" action="ppaction://hlinksldjump"/>
              </a:rPr>
              <a:t>ЦИЛИНД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5" action="ppaction://hlinksldjump"/>
              </a:rPr>
              <a:t>КОНУ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6" action="ppaction://hlinksldjump"/>
              </a:rPr>
              <a:t>ПРЯМЫЕ  и  ПЛОСК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7" action="ppaction://hlinksldjump"/>
              </a:rPr>
              <a:t>Ш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8" action="ppaction://hlinksldjump"/>
              </a:rPr>
              <a:t>ПИРАМИ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9" action="ppaction://hlinksldjump"/>
              </a:rPr>
              <a:t>ИТО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ffdc0b"/>
                </a:solidFill>
                <a:uFillTx/>
                <a:latin typeface="Times New Roman"/>
                <a:hlinkClick r:id="rId10" action="ppaction://hlinksldjump"/>
              </a:rPr>
              <a:t>О СЕБ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c99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716000" y="23270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«Не будь в природе твердых тел, не было бы и геометри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3019680" cy="2190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440" y="573120"/>
            <a:ext cx="8958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Геометрия, с которой начинается история математики, является одной из самы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древних наук. Она изучает такие свойства тел, как форма и размеры, независим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от их массы, твердости или цвета. Великий итальянский ученый Галилео Галиле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один  из основателей точного естествознания, сказал: «Природа говорит язык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математики: буквы  этого языка – круги, треугольники и иные математическ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фигуры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3640" y="2565360"/>
            <a:ext cx="2608200" cy="287172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39528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Слово «геометрия» имеет греческое происхождение и означает «землеме-рие» ( «гео» - зем-ля, «метрио» - мерить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2841480" cy="309564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39528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2349360"/>
            <a:ext cx="882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Предмет, к изучению которого мы приступаем, называется геометр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Но было бы неверно утверждать, что до сих пор вы совсем 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занимались геометрией и ничего о ней не знаете. Вам не ра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приходилось встречаться с этой наукой в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Не верите? Давайте посмотрим вместе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2778120" cy="2232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43653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ружности,треугольники, квадраты, пирамиды и другие фигуры изучаются в геометр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651640" y="17002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 rot="862800">
            <a:off x="4859280" y="3212640"/>
            <a:ext cx="3067200" cy="3065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 rot="20878200">
            <a:off x="323640" y="1773000"/>
            <a:ext cx="3333600" cy="1904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107960" y="633240"/>
            <a:ext cx="368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кажите, ребята, ка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едметы вы  види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 этих картинка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ерно, часы и кольца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5440" y="4313160"/>
            <a:ext cx="357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думайте, и  назовите 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еометрические  фигур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которые они  похож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539640" y="630864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3837" y="7493"/>
                </a:moveTo>
                <a:lnTo>
                  <a:pt x="7344" y="7493"/>
                </a:lnTo>
                <a:lnTo>
                  <a:pt x="7344" y="12828"/>
                </a:lnTo>
                <a:cubicBezTo>
                  <a:pt x="7344" y="13751"/>
                  <a:pt x="8145" y="14482"/>
                  <a:pt x="9181" y="14482"/>
                </a:cubicBezTo>
                <a:lnTo>
                  <a:pt x="10843" y="14482"/>
                </a:lnTo>
                <a:cubicBezTo>
                  <a:pt x="11879" y="14482"/>
                  <a:pt x="12680" y="13751"/>
                  <a:pt x="12680" y="12828"/>
                </a:cubicBezTo>
                <a:lnTo>
                  <a:pt x="12680" y="7493"/>
                </a:lnTo>
                <a:lnTo>
                  <a:pt x="10843" y="7493"/>
                </a:lnTo>
                <a:lnTo>
                  <a:pt x="14351" y="3985"/>
                </a:lnTo>
                <a:lnTo>
                  <a:pt x="18024" y="7493"/>
                </a:lnTo>
                <a:lnTo>
                  <a:pt x="16187" y="7493"/>
                </a:lnTo>
                <a:lnTo>
                  <a:pt x="16187" y="12828"/>
                </a:lnTo>
                <a:cubicBezTo>
                  <a:pt x="16187" y="15596"/>
                  <a:pt x="13611" y="18155"/>
                  <a:pt x="10843" y="18155"/>
                </a:cubicBezTo>
                <a:lnTo>
                  <a:pt x="9181" y="18155"/>
                </a:lnTo>
                <a:cubicBezTo>
                  <a:pt x="6413" y="18155"/>
                  <a:pt x="3837" y="15596"/>
                  <a:pt x="3837" y="12828"/>
                </a:cubicBez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42920" y="260280"/>
            <a:ext cx="6408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Ответив на вопросы этой странички, мы с ва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ознакомимся еще с одной геометрической фигур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С какой? Догадайтесь сами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2040" y="1986120"/>
            <a:ext cx="3428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инешь в речку – не тон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Бьешь о стенку – не стоне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Будешь оземь кидать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танет к верху лета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6200" y="2060640"/>
            <a:ext cx="253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егодня все ликуе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 руках у детво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т радости танцу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оздушные  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14760" y="47149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11280" y="4794120"/>
            <a:ext cx="88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41497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51120" y="3859200"/>
            <a:ext cx="3765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63640" y="407664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то в году четыре раза переодеваетс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76360" y="5734080"/>
            <a:ext cx="60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А ответы на эти загадки мы  увидим на следующей страничке.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812000" y="33336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956720" y="1916280"/>
            <a:ext cx="936360" cy="100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812000" y="3716280"/>
            <a:ext cx="1081080" cy="1079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7956720" y="5589720"/>
            <a:ext cx="969840" cy="936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06:40:08Z</dcterms:created>
  <dc:creator>Student107</dc:creator>
  <dc:description/>
  <dc:language>en-US</dc:language>
  <cp:lastModifiedBy>Admin</cp:lastModifiedBy>
  <dcterms:modified xsi:type="dcterms:W3CDTF">2010-09-26T16:16:24Z</dcterms:modified>
  <cp:revision>46</cp:revision>
  <dc:subject/>
  <dc:title>Геометрия в жизни</dc:title>
</cp:coreProperties>
</file>