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png" ContentType="image/png"/>
  <Override PartName="/ppt/media/image27.png" ContentType="image/png"/>
  <Override PartName="/ppt/media/image5.jpeg" ContentType="image/jpeg"/>
  <Override PartName="/ppt/media/image26.jpeg" ContentType="image/jpeg"/>
  <Override PartName="/ppt/media/image14.jpeg" ContentType="image/jpeg"/>
  <Override PartName="/ppt/media/image8.png" ContentType="image/png"/>
  <Override PartName="/ppt/media/image11.png" ContentType="image/png"/>
  <Override PartName="/ppt/media/image9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12.gif" ContentType="image/gif"/>
  <Override PartName="/ppt/media/image30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39B82-62A4-41D5-8B26-FE17F55A1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728B5-566E-45E6-902B-3C5B9158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10845-1E50-460F-9889-D4108885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375E5-6E70-4DE7-A06D-FD57A2A9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4DCA-FA49-4EE7-B32F-C4AF544DC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5628-BE4E-4B04-9467-124D2FBD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4B1A-7000-49FB-9345-EFF7CC8F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772B-67B0-4C01-BE4A-A020881C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6ABE-1F46-4BB4-8F15-431A4455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EA16-91F2-430B-B133-7A100653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DB2A-1F59-4622-B769-9CB2261E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353FF-B090-4BD9-BA15-58F2AEF0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1650-EA11-4040-B856-582AD777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8F87-D5CB-4FEC-B3F2-3A60A6C2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D63A-D62C-4D1B-8D97-33ACA0E2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81AC-B4E5-408F-9A95-E8B8172D1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648D-C54C-4BF6-BF9D-C5E35AF9B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25187-0C1D-482C-9B75-7B44C91E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B0F93-2E28-4D87-B73B-926B50F2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33538-C8D5-4FF4-9598-E5B9A0C6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831EA-97C6-4D7F-AAC7-BD5CCCB9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031E1-C1C3-4C4D-B71D-DD4AD193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103F3-5F80-4517-90A5-161FD0C1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11BAC-AB68-4C63-B74A-B3598CE1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505f52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33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33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48574a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4351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33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65648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33ccff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33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33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65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65648"/>
                </a:gs>
                <a:gs pos="50000">
                  <a:srgbClr val="4b5a4d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c991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cecb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FEA3-1DF1-474B-BDD8-855FC1CD837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505f52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33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33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48574a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4351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33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65648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33ccff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33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33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65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65648"/>
                </a:gs>
                <a:gs pos="50000">
                  <a:srgbClr val="4b5a4d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ecb2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4255-3182-485E-847B-C66032BFBF6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cb2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12.xml"/><Relationship Id="rId4" Type="http://schemas.openxmlformats.org/officeDocument/2006/relationships/slide" Target="slide14.xml"/><Relationship Id="rId5" Type="http://schemas.openxmlformats.org/officeDocument/2006/relationships/slide" Target="slide13.xml"/><Relationship Id="rId6" Type="http://schemas.openxmlformats.org/officeDocument/2006/relationships/slide" Target="slide11.xml"/><Relationship Id="rId7" Type="http://schemas.openxmlformats.org/officeDocument/2006/relationships/slide" Target="slide10.xml"/><Relationship Id="rId8" Type="http://schemas.openxmlformats.org/officeDocument/2006/relationships/slide" Target="slide16.xml"/><Relationship Id="rId9" Type="http://schemas.openxmlformats.org/officeDocument/2006/relationships/slide" Target="slide17.xml"/><Relationship Id="rId10" Type="http://schemas.openxmlformats.org/officeDocument/2006/relationships/slide" Target="slide18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Геометрия в жизни</a:t>
            </a:r>
            <a:endParaRPr b="0" lang="en-US" sz="48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ли первые понятия геометр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508720" y="5661000"/>
            <a:ext cx="3009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инякина Т.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2952720" cy="2089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651640" y="620640"/>
            <a:ext cx="1873080" cy="2376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771640" y="2349360"/>
            <a:ext cx="2381400" cy="356256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68360" y="623736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9627"/>
                </a:moveTo>
                <a:lnTo>
                  <a:pt x="7301" y="9627"/>
                </a:lnTo>
                <a:lnTo>
                  <a:pt x="7301" y="14962"/>
                </a:lnTo>
                <a:cubicBezTo>
                  <a:pt x="7301" y="15885"/>
                  <a:pt x="8102" y="16616"/>
                  <a:pt x="9138" y="16616"/>
                </a:cubicBezTo>
                <a:lnTo>
                  <a:pt x="10800" y="16616"/>
                </a:lnTo>
                <a:cubicBezTo>
                  <a:pt x="11836" y="16616"/>
                  <a:pt x="12636" y="15885"/>
                  <a:pt x="12636" y="14962"/>
                </a:cubicBezTo>
                <a:lnTo>
                  <a:pt x="12636" y="9627"/>
                </a:lnTo>
                <a:lnTo>
                  <a:pt x="10800" y="9627"/>
                </a:lnTo>
                <a:lnTo>
                  <a:pt x="14308" y="6119"/>
                </a:lnTo>
                <a:lnTo>
                  <a:pt x="17981" y="9627"/>
                </a:lnTo>
                <a:lnTo>
                  <a:pt x="16144" y="9627"/>
                </a:lnTo>
                <a:lnTo>
                  <a:pt x="16144" y="14962"/>
                </a:lnTo>
                <a:cubicBezTo>
                  <a:pt x="16144" y="17730"/>
                  <a:pt x="13568" y="20289"/>
                  <a:pt x="10800" y="20289"/>
                </a:cubicBezTo>
                <a:lnTo>
                  <a:pt x="9138" y="20289"/>
                </a:lnTo>
                <a:cubicBezTo>
                  <a:pt x="6370" y="20289"/>
                  <a:pt x="3794" y="17730"/>
                  <a:pt x="3794" y="14962"/>
                </a:cubicBez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00000" y="18900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о в геометрии изучают не только фигуры, но и плоскости  и  линии.  В жизни этих примеров тоже очень много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2340000" cy="2232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419640" y="2276640"/>
            <a:ext cx="2344680" cy="2232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227640" y="2276640"/>
            <a:ext cx="2160720" cy="2232000"/>
          </a:xfrm>
          <a:prstGeom prst="rect">
            <a:avLst/>
          </a:prstGeom>
          <a:ln w="0">
            <a:noFill/>
          </a:ln>
        </p:spPr>
      </p:pic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539640" y="6021360"/>
            <a:ext cx="503280" cy="576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34">
                <a:moveTo>
                  <a:pt x="0" y="0"/>
                </a:moveTo>
                <a:lnTo>
                  <a:pt x="21600" y="0"/>
                </a:lnTo>
                <a:lnTo>
                  <a:pt x="21600" y="24734"/>
                </a:lnTo>
                <a:lnTo>
                  <a:pt x="0" y="24734"/>
                </a:lnTo>
                <a:close/>
              </a:path>
              <a:path fill="lightenLess" w="21600" h="247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4">
                <a:moveTo>
                  <a:pt x="21600" y="0"/>
                </a:moveTo>
                <a:lnTo>
                  <a:pt x="21600" y="24734"/>
                </a:lnTo>
                <a:lnTo>
                  <a:pt x="20200" y="23334"/>
                </a:lnTo>
                <a:lnTo>
                  <a:pt x="20200" y="1400"/>
                </a:lnTo>
                <a:close/>
              </a:path>
              <a:path fill="darkenLess" w="21600" h="24734">
                <a:moveTo>
                  <a:pt x="21600" y="24734"/>
                </a:moveTo>
                <a:lnTo>
                  <a:pt x="0" y="24734"/>
                </a:lnTo>
                <a:lnTo>
                  <a:pt x="1400" y="23334"/>
                </a:lnTo>
                <a:lnTo>
                  <a:pt x="20200" y="23334"/>
                </a:lnTo>
                <a:close/>
              </a:path>
              <a:path fill="lighten" w="21600" h="24734">
                <a:moveTo>
                  <a:pt x="0" y="247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4"/>
                </a:lnTo>
                <a:close/>
              </a:path>
              <a:path fill="darken" w="21600" h="24734">
                <a:moveTo>
                  <a:pt x="3794" y="9060"/>
                </a:moveTo>
                <a:lnTo>
                  <a:pt x="7301" y="9060"/>
                </a:lnTo>
                <a:lnTo>
                  <a:pt x="7301" y="14395"/>
                </a:lnTo>
                <a:cubicBezTo>
                  <a:pt x="7301" y="15318"/>
                  <a:pt x="8102" y="16049"/>
                  <a:pt x="9138" y="16049"/>
                </a:cubicBezTo>
                <a:lnTo>
                  <a:pt x="10800" y="16049"/>
                </a:lnTo>
                <a:cubicBezTo>
                  <a:pt x="11836" y="16049"/>
                  <a:pt x="12636" y="15318"/>
                  <a:pt x="12636" y="14395"/>
                </a:cubicBezTo>
                <a:lnTo>
                  <a:pt x="12636" y="9060"/>
                </a:lnTo>
                <a:lnTo>
                  <a:pt x="10800" y="9060"/>
                </a:lnTo>
                <a:lnTo>
                  <a:pt x="14308" y="5552"/>
                </a:lnTo>
                <a:lnTo>
                  <a:pt x="17981" y="9060"/>
                </a:lnTo>
                <a:lnTo>
                  <a:pt x="16144" y="9060"/>
                </a:lnTo>
                <a:lnTo>
                  <a:pt x="16144" y="14395"/>
                </a:lnTo>
                <a:cubicBezTo>
                  <a:pt x="16144" y="17163"/>
                  <a:pt x="13568" y="19722"/>
                  <a:pt x="10800" y="19722"/>
                </a:cubicBezTo>
                <a:lnTo>
                  <a:pt x="9138" y="19722"/>
                </a:lnTo>
                <a:cubicBezTo>
                  <a:pt x="6370" y="19722"/>
                  <a:pt x="3794" y="17163"/>
                  <a:pt x="3794" y="14395"/>
                </a:cubicBez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67840" y="1568520"/>
            <a:ext cx="3958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стало с краю ул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 длинном сапог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Чучело трехглаз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а одной ног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Где машины движут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Где сошлись пут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могает улиц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Людям перей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292720" y="1773360"/>
            <a:ext cx="2857680" cy="25714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2411280" y="189000"/>
            <a:ext cx="42483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ccffff"/>
                </a:solidFill>
                <a:latin typeface="Impact"/>
              </a:rPr>
              <a:t>Угадай  фигуру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ccffff"/>
              </a:solidFill>
              <a:latin typeface="Impact"/>
              <a:ea typeface="Impact"/>
            </a:endParaRPr>
          </a:p>
        </p:txBody>
      </p:sp>
      <p:sp>
        <p:nvSpPr>
          <p:cNvPr id="176" name="">
            <a:hlinkClick r:id="" action="ppaction://hlinkshowjump?jump=previousslide"/>
          </p:cNvPr>
          <p:cNvSpPr/>
          <p:nvPr/>
        </p:nvSpPr>
        <p:spPr>
          <a:xfrm>
            <a:off x="395280" y="6093000"/>
            <a:ext cx="504720" cy="5029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7493"/>
                </a:moveTo>
                <a:lnTo>
                  <a:pt x="7340" y="7493"/>
                </a:lnTo>
                <a:lnTo>
                  <a:pt x="7340" y="12828"/>
                </a:lnTo>
                <a:cubicBezTo>
                  <a:pt x="7340" y="13751"/>
                  <a:pt x="8140" y="14482"/>
                  <a:pt x="9176" y="14482"/>
                </a:cubicBezTo>
                <a:lnTo>
                  <a:pt x="10839" y="14482"/>
                </a:lnTo>
                <a:cubicBezTo>
                  <a:pt x="11874" y="14482"/>
                  <a:pt x="12675" y="13751"/>
                  <a:pt x="12675" y="12828"/>
                </a:cubicBezTo>
                <a:lnTo>
                  <a:pt x="12675" y="7493"/>
                </a:lnTo>
                <a:lnTo>
                  <a:pt x="10839" y="7493"/>
                </a:lnTo>
                <a:lnTo>
                  <a:pt x="14346" y="3985"/>
                </a:lnTo>
                <a:lnTo>
                  <a:pt x="18019" y="7493"/>
                </a:lnTo>
                <a:lnTo>
                  <a:pt x="16183" y="7493"/>
                </a:lnTo>
                <a:lnTo>
                  <a:pt x="16183" y="12828"/>
                </a:lnTo>
                <a:cubicBezTo>
                  <a:pt x="16183" y="15596"/>
                  <a:pt x="13606" y="18155"/>
                  <a:pt x="10839" y="18155"/>
                </a:cubicBezTo>
                <a:lnTo>
                  <a:pt x="9176" y="18155"/>
                </a:lnTo>
                <a:cubicBezTo>
                  <a:pt x="6408" y="18155"/>
                  <a:pt x="3832" y="15596"/>
                  <a:pt x="3832" y="12828"/>
                </a:cubicBez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2521080" cy="24048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300720" y="1413000"/>
            <a:ext cx="2552760" cy="2232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2700360" y="3716280"/>
            <a:ext cx="3313080" cy="28814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2268360" y="404640"/>
            <a:ext cx="403236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конус</a:t>
            </a:r>
            <a:endParaRPr b="0" lang="en-US" sz="1800" spc="1" strike="noStrike">
              <a:ln w="9360">
                <a:solidFill>
                  <a:srgbClr val="0000cc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539640" y="6093000"/>
            <a:ext cx="503280" cy="502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7493"/>
                </a:moveTo>
                <a:lnTo>
                  <a:pt x="7309" y="7493"/>
                </a:lnTo>
                <a:lnTo>
                  <a:pt x="7309" y="12828"/>
                </a:lnTo>
                <a:cubicBezTo>
                  <a:pt x="7309" y="13751"/>
                  <a:pt x="8110" y="14482"/>
                  <a:pt x="9145" y="14482"/>
                </a:cubicBezTo>
                <a:lnTo>
                  <a:pt x="10808" y="14482"/>
                </a:lnTo>
                <a:cubicBezTo>
                  <a:pt x="11843" y="14482"/>
                  <a:pt x="12644" y="13751"/>
                  <a:pt x="12644" y="12828"/>
                </a:cubicBezTo>
                <a:lnTo>
                  <a:pt x="12644" y="7493"/>
                </a:lnTo>
                <a:lnTo>
                  <a:pt x="10808" y="7493"/>
                </a:lnTo>
                <a:lnTo>
                  <a:pt x="14315" y="3985"/>
                </a:lnTo>
                <a:lnTo>
                  <a:pt x="17988" y="7493"/>
                </a:lnTo>
                <a:lnTo>
                  <a:pt x="16152" y="7493"/>
                </a:lnTo>
                <a:lnTo>
                  <a:pt x="16152" y="12828"/>
                </a:lnTo>
                <a:cubicBezTo>
                  <a:pt x="16152" y="15596"/>
                  <a:pt x="13576" y="18155"/>
                  <a:pt x="10808" y="18155"/>
                </a:cubicBezTo>
                <a:lnTo>
                  <a:pt x="9145" y="18155"/>
                </a:lnTo>
                <a:cubicBezTo>
                  <a:pt x="6378" y="18155"/>
                  <a:pt x="3801" y="15596"/>
                  <a:pt x="3801" y="12828"/>
                </a:cubicBez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2590920" cy="20001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411280" y="4653000"/>
            <a:ext cx="1619280" cy="1685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292720" y="1916280"/>
            <a:ext cx="3381480" cy="457200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" action="ppaction://hlinkshowjump?jump=previousslide"/>
          </p:cNvPr>
          <p:cNvSpPr/>
          <p:nvPr/>
        </p:nvSpPr>
        <p:spPr>
          <a:xfrm>
            <a:off x="25092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476360" y="260280"/>
            <a:ext cx="6624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илиндр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0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4360" y="476280"/>
            <a:ext cx="813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Египетские пирамиды, усыпальницы египетских фараонов. Крупнейшие и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их – пирамиды Хеопса, Хефрена и Микери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ирамиды выстроены на левом западном берегу Нила (царство мертвых)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озвышались над всем городом мертвых бесчисленными гробницам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ирамидами, храм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Крупнейшая пирамида в Гизе – пирамида Хеопса ( высота  146,6 м 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35120" y="2514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6858000" cy="4599000"/>
          </a:xfrm>
          <a:prstGeom prst="rect">
            <a:avLst/>
          </a:prstGeom>
          <a:ln w="0">
            <a:noFill/>
          </a:ln>
        </p:spPr>
      </p:pic>
      <p:sp>
        <p:nvSpPr>
          <p:cNvPr id="190" name="">
            <a:hlinkClick r:id="" action="ppaction://hlinkshowjump?jump=previousslide"/>
          </p:cNvPr>
          <p:cNvSpPr/>
          <p:nvPr/>
        </p:nvSpPr>
        <p:spPr>
          <a:xfrm>
            <a:off x="395280" y="616572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  <a:path fill="darken" w="21600" h="25182">
                <a:moveTo>
                  <a:pt x="3794" y="9284"/>
                </a:moveTo>
                <a:lnTo>
                  <a:pt x="7301" y="9284"/>
                </a:lnTo>
                <a:lnTo>
                  <a:pt x="7301" y="14619"/>
                </a:lnTo>
                <a:cubicBezTo>
                  <a:pt x="7301" y="15542"/>
                  <a:pt x="8102" y="16273"/>
                  <a:pt x="9138" y="16273"/>
                </a:cubicBezTo>
                <a:lnTo>
                  <a:pt x="10800" y="16273"/>
                </a:lnTo>
                <a:cubicBezTo>
                  <a:pt x="11836" y="16273"/>
                  <a:pt x="12636" y="15542"/>
                  <a:pt x="12636" y="14619"/>
                </a:cubicBezTo>
                <a:lnTo>
                  <a:pt x="12636" y="9284"/>
                </a:lnTo>
                <a:lnTo>
                  <a:pt x="10800" y="9284"/>
                </a:lnTo>
                <a:lnTo>
                  <a:pt x="14308" y="5776"/>
                </a:lnTo>
                <a:lnTo>
                  <a:pt x="17981" y="9284"/>
                </a:lnTo>
                <a:lnTo>
                  <a:pt x="16144" y="9284"/>
                </a:lnTo>
                <a:lnTo>
                  <a:pt x="16144" y="14619"/>
                </a:lnTo>
                <a:cubicBezTo>
                  <a:pt x="16144" y="17387"/>
                  <a:pt x="13568" y="19946"/>
                  <a:pt x="10800" y="19946"/>
                </a:cubicBezTo>
                <a:lnTo>
                  <a:pt x="9138" y="19946"/>
                </a:lnTo>
                <a:cubicBezTo>
                  <a:pt x="6370" y="19946"/>
                  <a:pt x="3794" y="17387"/>
                  <a:pt x="3794" y="14619"/>
                </a:cubicBez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2755800" cy="4508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203640" y="404640"/>
            <a:ext cx="1368360" cy="1197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6156360" y="5589720"/>
            <a:ext cx="1332000" cy="10810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276720" y="3068640"/>
            <a:ext cx="1314360" cy="107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2050920" y="5445000"/>
            <a:ext cx="1297080" cy="1079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7559640" y="260280"/>
            <a:ext cx="1584360" cy="13683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4859280" y="260280"/>
            <a:ext cx="3024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ТОГ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75400" y="1989000"/>
            <a:ext cx="4374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 сожалению, в природе н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геометрических  линий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геометрических  поверхностей, 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се, что изучается в геометр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аходит широкое примен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 науке и технике. Это происходи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отому, что геометрия порожд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действительностью. А также э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аука  обладает преимуществ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осто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оэтому ее изучают и будут изуч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  школ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>
            <a:hlinkClick r:id="" action="ppaction://hlinkshowjump?jump=previousslide"/>
          </p:cNvPr>
          <p:cNvSpPr/>
          <p:nvPr/>
        </p:nvSpPr>
        <p:spPr>
          <a:xfrm>
            <a:off x="250920" y="6165720"/>
            <a:ext cx="433440" cy="43200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3829" y="7493"/>
                </a:moveTo>
                <a:lnTo>
                  <a:pt x="7337" y="7493"/>
                </a:lnTo>
                <a:lnTo>
                  <a:pt x="7337" y="12828"/>
                </a:lnTo>
                <a:cubicBezTo>
                  <a:pt x="7337" y="13751"/>
                  <a:pt x="8138" y="14482"/>
                  <a:pt x="9174" y="14482"/>
                </a:cubicBezTo>
                <a:lnTo>
                  <a:pt x="10836" y="14482"/>
                </a:lnTo>
                <a:cubicBezTo>
                  <a:pt x="11872" y="14482"/>
                  <a:pt x="12672" y="13751"/>
                  <a:pt x="12672" y="12828"/>
                </a:cubicBezTo>
                <a:lnTo>
                  <a:pt x="12672" y="7493"/>
                </a:lnTo>
                <a:lnTo>
                  <a:pt x="10836" y="7493"/>
                </a:lnTo>
                <a:lnTo>
                  <a:pt x="14344" y="3985"/>
                </a:lnTo>
                <a:lnTo>
                  <a:pt x="18017" y="7493"/>
                </a:lnTo>
                <a:lnTo>
                  <a:pt x="16180" y="7493"/>
                </a:lnTo>
                <a:lnTo>
                  <a:pt x="16180" y="12828"/>
                </a:lnTo>
                <a:cubicBezTo>
                  <a:pt x="16180" y="15596"/>
                  <a:pt x="13604" y="18155"/>
                  <a:pt x="10836" y="18155"/>
                </a:cubicBezTo>
                <a:lnTo>
                  <a:pt x="9174" y="18155"/>
                </a:lnTo>
                <a:cubicBezTo>
                  <a:pt x="6406" y="18155"/>
                  <a:pt x="3829" y="15596"/>
                  <a:pt x="3829" y="12828"/>
                </a:cubicBez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16000" y="333360"/>
            <a:ext cx="684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одержание</a:t>
            </a:r>
            <a:endParaRPr b="0" lang="en-US" sz="1800" spc="1" strike="noStrike">
              <a:ln w="9360">
                <a:solidFill>
                  <a:srgbClr val="0000cc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85600" y="1914480"/>
            <a:ext cx="384120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ffdc0b"/>
                </a:solidFill>
                <a:uFillTx/>
                <a:latin typeface="Times New Roman"/>
                <a:hlinkClick r:id="rId1" action="ppaction://hlinksldjump"/>
              </a:rPr>
              <a:t>ВСТУП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c99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9916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ffdc0b"/>
                </a:solidFill>
                <a:uFillTx/>
                <a:latin typeface="Times New Roman"/>
                <a:hlinkClick r:id="rId2" action="ppaction://hlinksldjump"/>
              </a:rPr>
              <a:t>ИСТОРИЧЕСКИЕ СВЕ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c99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9916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ffdc0b"/>
                </a:solidFill>
                <a:uFillTx/>
                <a:latin typeface="Times New Roman"/>
                <a:hlinkClick r:id="rId3" action="ppaction://hlinksldjump"/>
              </a:rPr>
              <a:t>УГАДАЙ-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c99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9916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ffdc0b"/>
                </a:solidFill>
                <a:uFillTx/>
                <a:latin typeface="Times New Roman"/>
                <a:hlinkClick r:id="rId4" action="ppaction://hlinksldjump"/>
              </a:rPr>
              <a:t>ЦИЛИНД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c99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9916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ffdc0b"/>
                </a:solidFill>
                <a:uFillTx/>
                <a:latin typeface="Times New Roman"/>
                <a:hlinkClick r:id="rId5" action="ppaction://hlinksldjump"/>
              </a:rPr>
              <a:t>КОНУ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c99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9916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ffdc0b"/>
                </a:solidFill>
                <a:uFillTx/>
                <a:latin typeface="Times New Roman"/>
                <a:hlinkClick r:id="rId6" action="ppaction://hlinksldjump"/>
              </a:rPr>
              <a:t>ПРЯМЫЕ  и  ПЛОСК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c99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9916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ffdc0b"/>
                </a:solidFill>
                <a:uFillTx/>
                <a:latin typeface="Times New Roman"/>
                <a:hlinkClick r:id="rId7" action="ppaction://hlinksldjump"/>
              </a:rPr>
              <a:t>ША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c99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9916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ffdc0b"/>
                </a:solidFill>
                <a:uFillTx/>
                <a:latin typeface="Times New Roman"/>
                <a:hlinkClick r:id="rId8" action="ppaction://hlinksldjump"/>
              </a:rPr>
              <a:t>ПИРАМИ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c99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9916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ffdc0b"/>
                </a:solidFill>
                <a:uFillTx/>
                <a:latin typeface="Times New Roman"/>
                <a:hlinkClick r:id="rId9" action="ppaction://hlinksldjump"/>
              </a:rPr>
              <a:t>ИТО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c99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9916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ffdc0b"/>
                </a:solidFill>
                <a:uFillTx/>
                <a:latin typeface="Times New Roman"/>
                <a:hlinkClick r:id="rId10" action="ppaction://hlinksldjump"/>
              </a:rPr>
              <a:t>О СЕБ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c99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716000" y="23270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«Не будь в природе твердых тел, не было бы и геометрии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3019680" cy="21906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440" y="573120"/>
            <a:ext cx="8958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Геометрия, с которой начинается история математики, является одной из самы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древних наук. Она изучает такие свойства тел, как форма и размеры, независим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от их массы, твердости или цвета. Великий итальянский ученый Галилео Галилей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один  из основателей точного естествознания, сказал: «Природа говорит язык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математики: буквы  этого языка – круги, треугольники и иные математическ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фигуры»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03640" y="2565360"/>
            <a:ext cx="2608200" cy="2871720"/>
          </a:xfrm>
          <a:prstGeom prst="rect">
            <a:avLst/>
          </a:prstGeom>
          <a:ln w="0">
            <a:noFill/>
          </a:ln>
        </p:spPr>
      </p:pic>
      <p:sp>
        <p:nvSpPr>
          <p:cNvPr id="136" name="">
            <a:hlinkClick r:id="" action="ppaction://hlinkshowjump?jump=previousslide"/>
          </p:cNvPr>
          <p:cNvSpPr/>
          <p:nvPr/>
        </p:nvSpPr>
        <p:spPr>
          <a:xfrm>
            <a:off x="39528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Слово «геометрия» имеет греческое происхождение и означает «землеме-рие» ( «гео» - зем-ля, «метрио» - мерить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292720" y="1773360"/>
            <a:ext cx="2841480" cy="309564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39528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2349360"/>
            <a:ext cx="882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Предмет, к изучению которого мы приступаем, называется геометр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Но было бы неверно утверждать, что до сих пор вы совсем 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занимались геометрией и ничего о ней не знаете. Вам не ра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приходилось встречаться с этой наукой в жи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Не верите? Давайте посмотрим вместе.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2778120" cy="2232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640" y="43653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кружности,треугольники, квадраты, пирамиды и другие фигуры изучаются в геометр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651640" y="17002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 rot="862800">
            <a:off x="4859280" y="3212640"/>
            <a:ext cx="3067200" cy="3065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 rot="20878200">
            <a:off x="323640" y="1773000"/>
            <a:ext cx="3333600" cy="1904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107960" y="633240"/>
            <a:ext cx="3682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кажите, ребята, ка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едметы вы  види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  этих картинка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рно, часы и кольца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95440" y="4313160"/>
            <a:ext cx="357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думайте, и  назовите 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еометрические  фигур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 которые они  похож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previousslide"/>
          </p:cNvPr>
          <p:cNvSpPr/>
          <p:nvPr/>
        </p:nvSpPr>
        <p:spPr>
          <a:xfrm>
            <a:off x="539640" y="630864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3837" y="7493"/>
                </a:moveTo>
                <a:lnTo>
                  <a:pt x="7344" y="7493"/>
                </a:lnTo>
                <a:lnTo>
                  <a:pt x="7344" y="12828"/>
                </a:lnTo>
                <a:cubicBezTo>
                  <a:pt x="7344" y="13751"/>
                  <a:pt x="8145" y="14482"/>
                  <a:pt x="9181" y="14482"/>
                </a:cubicBezTo>
                <a:lnTo>
                  <a:pt x="10843" y="14482"/>
                </a:lnTo>
                <a:cubicBezTo>
                  <a:pt x="11879" y="14482"/>
                  <a:pt x="12680" y="13751"/>
                  <a:pt x="12680" y="12828"/>
                </a:cubicBezTo>
                <a:lnTo>
                  <a:pt x="12680" y="7493"/>
                </a:lnTo>
                <a:lnTo>
                  <a:pt x="10843" y="7493"/>
                </a:lnTo>
                <a:lnTo>
                  <a:pt x="14351" y="3985"/>
                </a:lnTo>
                <a:lnTo>
                  <a:pt x="18024" y="7493"/>
                </a:lnTo>
                <a:lnTo>
                  <a:pt x="16187" y="7493"/>
                </a:lnTo>
                <a:lnTo>
                  <a:pt x="16187" y="12828"/>
                </a:lnTo>
                <a:cubicBezTo>
                  <a:pt x="16187" y="15596"/>
                  <a:pt x="13611" y="18155"/>
                  <a:pt x="10843" y="18155"/>
                </a:cubicBezTo>
                <a:lnTo>
                  <a:pt x="9181" y="18155"/>
                </a:lnTo>
                <a:cubicBezTo>
                  <a:pt x="6413" y="18155"/>
                  <a:pt x="3837" y="15596"/>
                  <a:pt x="3837" y="12828"/>
                </a:cubicBez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42920" y="260280"/>
            <a:ext cx="6408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Ответив на вопросы этой странички, мы с вам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ознакомимся еще с одной геометрической фигур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С какой? Догадайтесь сами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2040" y="1986120"/>
            <a:ext cx="3428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инешь в речку – не тоне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Бьешь о стенку – не стонет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Будешь оземь кидать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танет к верху лета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86200" y="2060640"/>
            <a:ext cx="253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егодня все ликует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 руках у детво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т радости танцу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оздушные  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14760" y="47149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11280" y="4794120"/>
            <a:ext cx="88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00360" y="41497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51120" y="3859200"/>
            <a:ext cx="3765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63640" y="4076640"/>
            <a:ext cx="49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то в году четыре раза переодевается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76360" y="5734080"/>
            <a:ext cx="60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А ответы на эти загадки мы  увидим на следующей страничке.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812000" y="333360"/>
            <a:ext cx="1008000" cy="934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956720" y="1916280"/>
            <a:ext cx="936360" cy="1008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812000" y="3716280"/>
            <a:ext cx="1081080" cy="1079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7956720" y="5589720"/>
            <a:ext cx="969840" cy="9363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0T06:40:08Z</dcterms:created>
  <dc:creator>Student107</dc:creator>
  <dc:description/>
  <dc:language>en-US</dc:language>
  <cp:lastModifiedBy>Admin</cp:lastModifiedBy>
  <dcterms:modified xsi:type="dcterms:W3CDTF">2010-09-26T16:16:24Z</dcterms:modified>
  <cp:revision>46</cp:revision>
  <dc:subject/>
  <dc:title>Геометрия в жизни</dc:title>
</cp:coreProperties>
</file>