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2.gif" ContentType="image/gif"/>
  <Override PartName="/ppt/media/image30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90ED-5CCE-4F5A-B687-190806D7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CAE4-D249-4C7B-B58A-AC3FCAB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346C-57ED-4FA3-97B6-78615F3E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3BF0-8DF7-4B92-8D4B-FE20FB20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4BAF-8F41-4AAC-90A3-5925A980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FB4-FD4A-4BB3-9914-5F8CEFA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2456-ADF4-4F0C-A192-102FB2B2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E292-9A81-40D9-8FFA-FEC4BBE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4982-B3A0-45BA-9D37-786D6773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540C-8040-44FB-855C-43E5F77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567B-4257-4D77-A6AD-1BE62B0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F759-BB9A-468B-A408-A78FACBC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9662-C242-464E-8564-3F2A2932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D3E2-4F5B-4D97-A94F-42AF9F3B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1320-5C52-475E-AB59-7F01EE4D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AB0B-0A44-47B8-B5AB-FBA1FA92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A399-7DD2-4ACD-952D-511AC909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3806-626D-4336-A2DD-C4B97E01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D632-3B3F-42A7-BCDF-7C2EF2D3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B4E5-FC78-44E3-AC6D-361D9EF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1988-D91C-42A3-A4DC-48EFDA7C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9D36-88D4-4E86-8DBE-11E925C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E82E-6267-4276-9472-F2BA754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2F2C-6693-4317-B062-EE6DA4B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490D-FADC-4262-AD87-5DE3499506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28D-2FFA-4C10-A160-CD106F62F1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Геометрия в жизни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ли первые понятия геомет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08720" y="5661000"/>
            <a:ext cx="3009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якина Т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71640" y="2349360"/>
            <a:ext cx="2381400" cy="35625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68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00000" y="189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о в геометрии изучают не только фигуры, но и плоскости  и  линии.  В жизни этих примеров тоже очень много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3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234468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9060"/>
                </a:moveTo>
                <a:lnTo>
                  <a:pt x="7301" y="9060"/>
                </a:lnTo>
                <a:lnTo>
                  <a:pt x="7301" y="14395"/>
                </a:lnTo>
                <a:cubicBezTo>
                  <a:pt x="7301" y="15318"/>
                  <a:pt x="8102" y="16049"/>
                  <a:pt x="9138" y="16049"/>
                </a:cubicBezTo>
                <a:lnTo>
                  <a:pt x="10800" y="16049"/>
                </a:lnTo>
                <a:cubicBezTo>
                  <a:pt x="11836" y="16049"/>
                  <a:pt x="12636" y="15318"/>
                  <a:pt x="12636" y="14395"/>
                </a:cubicBezTo>
                <a:lnTo>
                  <a:pt x="12636" y="9060"/>
                </a:lnTo>
                <a:lnTo>
                  <a:pt x="10800" y="9060"/>
                </a:lnTo>
                <a:lnTo>
                  <a:pt x="14308" y="5552"/>
                </a:lnTo>
                <a:lnTo>
                  <a:pt x="17981" y="9060"/>
                </a:lnTo>
                <a:lnTo>
                  <a:pt x="16144" y="9060"/>
                </a:lnTo>
                <a:lnTo>
                  <a:pt x="16144" y="14395"/>
                </a:lnTo>
                <a:cubicBezTo>
                  <a:pt x="16144" y="17163"/>
                  <a:pt x="13568" y="19722"/>
                  <a:pt x="10800" y="19722"/>
                </a:cubicBezTo>
                <a:lnTo>
                  <a:pt x="9138" y="19722"/>
                </a:lnTo>
                <a:cubicBezTo>
                  <a:pt x="6370" y="19722"/>
                  <a:pt x="3794" y="17163"/>
                  <a:pt x="3794" y="14395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7840" y="1568520"/>
            <a:ext cx="3958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тало с краю ул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длинном сап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учело трехглаз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 одной н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де машины движу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де сошлись пу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огает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дям перей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57680" cy="2571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411280" y="189000"/>
            <a:ext cx="424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Угадай  фигур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3952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7493"/>
                </a:moveTo>
                <a:lnTo>
                  <a:pt x="7340" y="7493"/>
                </a:lnTo>
                <a:lnTo>
                  <a:pt x="7340" y="12828"/>
                </a:lnTo>
                <a:cubicBezTo>
                  <a:pt x="7340" y="13751"/>
                  <a:pt x="8140" y="14482"/>
                  <a:pt x="9176" y="14482"/>
                </a:cubicBezTo>
                <a:lnTo>
                  <a:pt x="10839" y="14482"/>
                </a:lnTo>
                <a:cubicBezTo>
                  <a:pt x="11874" y="14482"/>
                  <a:pt x="12675" y="13751"/>
                  <a:pt x="12675" y="12828"/>
                </a:cubicBezTo>
                <a:lnTo>
                  <a:pt x="12675" y="7493"/>
                </a:lnTo>
                <a:lnTo>
                  <a:pt x="10839" y="7493"/>
                </a:lnTo>
                <a:lnTo>
                  <a:pt x="14346" y="3985"/>
                </a:lnTo>
                <a:lnTo>
                  <a:pt x="18019" y="7493"/>
                </a:lnTo>
                <a:lnTo>
                  <a:pt x="16183" y="7493"/>
                </a:lnTo>
                <a:lnTo>
                  <a:pt x="16183" y="12828"/>
                </a:lnTo>
                <a:cubicBezTo>
                  <a:pt x="16183" y="15596"/>
                  <a:pt x="13606" y="18155"/>
                  <a:pt x="10839" y="18155"/>
                </a:cubicBezTo>
                <a:lnTo>
                  <a:pt x="9176" y="18155"/>
                </a:lnTo>
                <a:cubicBezTo>
                  <a:pt x="6408" y="18155"/>
                  <a:pt x="3832" y="15596"/>
                  <a:pt x="3832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521080" cy="240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55276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3313080" cy="288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268360" y="404640"/>
            <a:ext cx="4032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конус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53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9" y="7493"/>
                </a:lnTo>
                <a:lnTo>
                  <a:pt x="7309" y="12828"/>
                </a:lnTo>
                <a:cubicBezTo>
                  <a:pt x="7309" y="13751"/>
                  <a:pt x="8110" y="14482"/>
                  <a:pt x="9145" y="14482"/>
                </a:cubicBezTo>
                <a:lnTo>
                  <a:pt x="10808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8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2" y="7493"/>
                </a:lnTo>
                <a:lnTo>
                  <a:pt x="16152" y="12828"/>
                </a:lnTo>
                <a:cubicBezTo>
                  <a:pt x="16152" y="15596"/>
                  <a:pt x="13576" y="18155"/>
                  <a:pt x="10808" y="18155"/>
                </a:cubicBezTo>
                <a:lnTo>
                  <a:pt x="9145" y="18155"/>
                </a:lnTo>
                <a:cubicBezTo>
                  <a:pt x="6378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59092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1619280" cy="168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381480" cy="457200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76360" y="260280"/>
            <a:ext cx="662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линд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476280"/>
            <a:ext cx="813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гипетские пирамиды, усыпальницы египетских фараонов. Крупнейшие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их – пирамиды Хеопса, Хефрена и Микер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ирамиды выстроены на левом западном берегу Нила (царство мертвых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вышались над всем городом мертвых бесчисленными гробниц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ирамидами, храм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рупнейшая пирамида в Гизе – пирамида Хеопса ( высота  146,6 м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51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858000" cy="4599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39528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9284"/>
                </a:moveTo>
                <a:lnTo>
                  <a:pt x="7301" y="9284"/>
                </a:lnTo>
                <a:lnTo>
                  <a:pt x="7301" y="14619"/>
                </a:lnTo>
                <a:cubicBezTo>
                  <a:pt x="7301" y="15542"/>
                  <a:pt x="8102" y="16273"/>
                  <a:pt x="9138" y="16273"/>
                </a:cubicBezTo>
                <a:lnTo>
                  <a:pt x="10800" y="16273"/>
                </a:lnTo>
                <a:cubicBezTo>
                  <a:pt x="11836" y="16273"/>
                  <a:pt x="12636" y="15542"/>
                  <a:pt x="12636" y="14619"/>
                </a:cubicBezTo>
                <a:lnTo>
                  <a:pt x="12636" y="9284"/>
                </a:lnTo>
                <a:lnTo>
                  <a:pt x="10800" y="9284"/>
                </a:lnTo>
                <a:lnTo>
                  <a:pt x="14308" y="5776"/>
                </a:lnTo>
                <a:lnTo>
                  <a:pt x="17981" y="9284"/>
                </a:lnTo>
                <a:lnTo>
                  <a:pt x="16144" y="9284"/>
                </a:lnTo>
                <a:lnTo>
                  <a:pt x="16144" y="14619"/>
                </a:lnTo>
                <a:cubicBezTo>
                  <a:pt x="16144" y="17387"/>
                  <a:pt x="13568" y="19946"/>
                  <a:pt x="10800" y="19946"/>
                </a:cubicBezTo>
                <a:lnTo>
                  <a:pt x="9138" y="19946"/>
                </a:lnTo>
                <a:cubicBezTo>
                  <a:pt x="6370" y="19946"/>
                  <a:pt x="3794" y="17387"/>
                  <a:pt x="3794" y="14619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1368360" cy="1197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156360" y="5589720"/>
            <a:ext cx="133200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76720" y="3068640"/>
            <a:ext cx="131436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050920" y="5445000"/>
            <a:ext cx="129708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559640" y="26028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859280" y="260280"/>
            <a:ext cx="30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ТО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75400" y="1989000"/>
            <a:ext cx="437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 сожалению, в природе н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еометрических  ли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еометрических  поверхностей, 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се, что изучается в геомет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ходит широкое примен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науке и технике. Это происхо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тому, что геометрия порожд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ействительностью. А также э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ука  обладает преимуществ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ст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этому ее изучают и будут изуч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 школ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7493"/>
                </a:moveTo>
                <a:lnTo>
                  <a:pt x="7337" y="7493"/>
                </a:lnTo>
                <a:lnTo>
                  <a:pt x="7337" y="12828"/>
                </a:lnTo>
                <a:cubicBezTo>
                  <a:pt x="7337" y="13751"/>
                  <a:pt x="8138" y="14482"/>
                  <a:pt x="9174" y="14482"/>
                </a:cubicBezTo>
                <a:lnTo>
                  <a:pt x="10836" y="14482"/>
                </a:lnTo>
                <a:cubicBezTo>
                  <a:pt x="11872" y="14482"/>
                  <a:pt x="12672" y="13751"/>
                  <a:pt x="12672" y="12828"/>
                </a:cubicBezTo>
                <a:lnTo>
                  <a:pt x="12672" y="7493"/>
                </a:lnTo>
                <a:lnTo>
                  <a:pt x="10836" y="7493"/>
                </a:lnTo>
                <a:lnTo>
                  <a:pt x="14344" y="3985"/>
                </a:lnTo>
                <a:lnTo>
                  <a:pt x="18017" y="7493"/>
                </a:lnTo>
                <a:lnTo>
                  <a:pt x="16180" y="7493"/>
                </a:lnTo>
                <a:lnTo>
                  <a:pt x="16180" y="12828"/>
                </a:lnTo>
                <a:cubicBezTo>
                  <a:pt x="16180" y="15596"/>
                  <a:pt x="13604" y="18155"/>
                  <a:pt x="10836" y="18155"/>
                </a:cubicBezTo>
                <a:lnTo>
                  <a:pt x="9174" y="18155"/>
                </a:lnTo>
                <a:cubicBezTo>
                  <a:pt x="6406" y="18155"/>
                  <a:pt x="3829" y="15596"/>
                  <a:pt x="3829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16000" y="333360"/>
            <a:ext cx="68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600" y="1914480"/>
            <a:ext cx="38412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1" action="ppaction://hlinksldjump"/>
              </a:rPr>
              <a:t>ВСТУП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2" action="ppaction://hlinksldjump"/>
              </a:rPr>
              <a:t>ИСТОРИЧЕСКИЕ С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3" action="ppaction://hlinksldjump"/>
              </a:rPr>
              <a:t>УГАДАЙ-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4" action="ppaction://hlinksldjump"/>
              </a:rPr>
              <a:t>ЦИЛИНД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5" action="ppaction://hlinksldjump"/>
              </a:rPr>
              <a:t>КОН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6" action="ppaction://hlinksldjump"/>
              </a:rPr>
              <a:t>ПРЯМЫЕ  и  ПЛОС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7" action="ppaction://hlinksldjump"/>
              </a:rPr>
              <a:t>Ш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8" action="ppaction://hlinksldjump"/>
              </a:rPr>
              <a:t>ПИРАМ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9" action="ppaction://hlinksldjump"/>
              </a:rPr>
              <a:t>ИТ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10" action="ppaction://hlinksldjump"/>
              </a:rPr>
              <a:t>О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«Не будь в природе твердых тел, не было бы и геометр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01968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40" y="573120"/>
            <a:ext cx="895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еометрия, с которой начинается история математики, является одной из сам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древних наук. Она изучает такие свойства тел, как форма и размеры, независи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от их массы, твердости или цвета. Великий итальянский ученый Галилео Галил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один  из основателей точного естествознания, сказал: «Природа говорит язы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тематики: буквы  этого языка – круги, треугольники и иные математ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фигуры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608200" cy="287172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лово «геометрия» имеет греческое происхождение и означает «землеме-рие» ( «гео» - зем-ля, «метрио» - мерить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4148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349360"/>
            <a:ext cx="88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едмет, к изучению которого мы приступаем, называется геометр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о было бы неверно утверждать, что до сих пор вы совсем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занимались геометрией и ничего о ней не знаете. Вам не 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иходилось встречаться с этой наукой в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е верите? Давайте посмотрим вместе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778120" cy="2232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4365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ружности,треугольники, квадраты, пирамиды и другие фигуры изучаются в геомет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862800">
            <a:off x="4859280" y="3212640"/>
            <a:ext cx="3067200" cy="3065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0878200">
            <a:off x="323640" y="177300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07960" y="633240"/>
            <a:ext cx="368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ажите, ребята,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меты вы  вид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 этих картин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, часы и кольц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5440" y="4313160"/>
            <a:ext cx="357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умайте, и  назовите 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еометрические  фиг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которые они  похо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53964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260280"/>
            <a:ext cx="6408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тветив на вопросы этой странички, мы с в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знакомимся еще с одной геометрической фигу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 какой? Догадайтесь с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2040" y="1986120"/>
            <a:ext cx="342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инешь в речку – не то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ьешь о стенку – не стон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удешь оземь кидать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анет к верху лет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6200" y="2060640"/>
            <a:ext cx="253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егодня все лику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руках у детв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радости танцу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здушные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4760" y="471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4794120"/>
            <a:ext cx="8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4149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51120" y="3859200"/>
            <a:ext cx="37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407664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то в году четыре раза переодевает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57340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А ответы на эти загадки мы  увидим на следующей страничке.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56720" y="191628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812000" y="371628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956720" y="5589720"/>
            <a:ext cx="969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40:08Z</dcterms:created>
  <dc:creator>Student107</dc:creator>
  <dc:description/>
  <dc:language>en-US</dc:language>
  <cp:lastModifiedBy>Admin</cp:lastModifiedBy>
  <dcterms:modified xsi:type="dcterms:W3CDTF">2010-09-26T16:16:24Z</dcterms:modified>
  <cp:revision>46</cp:revision>
  <dc:subject/>
  <dc:title>Геометрия в жизни</dc:title>
</cp:coreProperties>
</file>