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click.wav" ContentType="audio/x-wav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88E3-06C4-422A-BD74-0B8DD403CC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27A3-1D16-4BCF-AF04-3AF43FA6897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C9E5-6E4A-4514-AEF6-223A8960CF6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1DC2-EF26-4B4D-ACB4-D9F12936345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603E-A598-452D-9149-4AC51DA3F82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D88F-AB67-4C0D-B5B5-625D6DD3DF4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A2E4-6C5F-422C-B1DB-7DD029D2F84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CC28-8DBF-4C89-BCA9-8E99A0BBBB7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6FD-78BE-4E7F-9A28-CBFD2410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9F90-D056-4000-9B61-6AD06FAD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F6B-404D-420F-87F2-D44D00DC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D70-4B26-4DF4-8811-9D0CE69F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41FC-D00D-4868-9FF2-2CEE88DE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A430-8EED-473C-9E3E-645EEB09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9936-900A-470B-BBE8-81E56D65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564D-1D7C-4D1A-9B24-F6018B86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CE43-BD7F-45FD-B985-A53F3D1D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3869-CE08-4BFB-92E2-25AC9B29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D87F-7C4B-4FF6-9A9B-77A03448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3E4-24E7-4A19-A0C3-519254C4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3B72-2E92-449E-97B4-64D1EB2A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F135-3B6A-4938-8631-0D2D8999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6EA6-6C89-4E70-9F86-C3271C36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2B6C-C826-4E46-951E-1124D3D1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7E0A-42E6-4B71-BA39-CF0C2D06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D82-F7ED-4C9D-9FD1-50542E9C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87F-9133-4B20-8756-A0B36B92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895-0813-4A33-BDB5-EB7B67B4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46A-44CF-4CA6-8386-E3CDBCC2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298-9D47-4DA7-96CD-58A38348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D9F-7517-4DBD-8090-DDB8B1C2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CD1-0781-44C0-AF38-4BEA59D5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3A68-3BB5-4F59-BE27-A574F07B01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C3B9-E939-43D2-9A90-DBC625B207F3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7"/>
          <p:cNvSpPr txBox="1"/>
          <p:nvPr/>
        </p:nvSpPr>
        <p:spPr>
          <a:xfrm>
            <a:off x="1143000" y="304920"/>
            <a:ext cx="5715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рпендикуляр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0" name="WordArt 10"/>
          <p:cNvSpPr txBox="1"/>
          <p:nvPr/>
        </p:nvSpPr>
        <p:spPr>
          <a:xfrm>
            <a:off x="685800" y="2133720"/>
            <a:ext cx="251460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ям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1" name="WordArt 11"/>
          <p:cNvSpPr txBox="1"/>
          <p:nvPr/>
        </p:nvSpPr>
        <p:spPr>
          <a:xfrm>
            <a:off x="3886200" y="2971800"/>
            <a:ext cx="50472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2" name="WordArt 12"/>
          <p:cNvSpPr txBox="1"/>
          <p:nvPr/>
        </p:nvSpPr>
        <p:spPr>
          <a:xfrm>
            <a:off x="5181480" y="3505320"/>
            <a:ext cx="28958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лоск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5792040" y="5562720"/>
            <a:ext cx="23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нязев Владими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Ученик 10 класса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“A”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Школы № 1254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4116240" y="55627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ыполнил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17" descr="23"/>
          <p:cNvPicPr/>
          <p:nvPr/>
        </p:nvPicPr>
        <p:blipFill>
          <a:blip r:embed="rId1"/>
          <a:stretch/>
        </p:blipFill>
        <p:spPr>
          <a:xfrm>
            <a:off x="1219320" y="4343400"/>
            <a:ext cx="1400040" cy="2000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5"/>
          <p:cNvSpPr txBox="1"/>
          <p:nvPr/>
        </p:nvSpPr>
        <p:spPr>
          <a:xfrm>
            <a:off x="0" y="228600"/>
            <a:ext cx="6705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рпендикулярные прям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7" name="WordArt 7"/>
          <p:cNvSpPr txBox="1"/>
          <p:nvPr/>
        </p:nvSpPr>
        <p:spPr>
          <a:xfrm>
            <a:off x="4495680" y="762120"/>
            <a:ext cx="441972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 простран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228600" y="2286000"/>
            <a:ext cx="8534520" cy="1409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Две прямые в пространстве называются перпендикулярными (взаимно перпендикулярными) , если угол между ними равен 90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°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 Перпендикулярность прямых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обозначается так: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 Перпендикулярные прямые могут пересекаться и могут быть скрещивающимися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а рисунке 1 перпендикулярные прямые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пересекаются, а перпендикулярные прямые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крещивающиес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3124080" y="4724280"/>
            <a:ext cx="3840120" cy="151128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 flipV="1">
            <a:off x="3657600" y="4876920"/>
            <a:ext cx="609480" cy="12189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Line 11"/>
          <p:cNvSpPr/>
          <p:nvPr/>
        </p:nvSpPr>
        <p:spPr>
          <a:xfrm>
            <a:off x="3962520" y="5029200"/>
            <a:ext cx="259056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Line 47"/>
          <p:cNvSpPr/>
          <p:nvPr/>
        </p:nvSpPr>
        <p:spPr>
          <a:xfrm>
            <a:off x="3581280" y="4343400"/>
            <a:ext cx="350532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Line 49"/>
          <p:cNvSpPr/>
          <p:nvPr/>
        </p:nvSpPr>
        <p:spPr>
          <a:xfrm>
            <a:off x="4114800" y="518148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Line 50"/>
          <p:cNvSpPr/>
          <p:nvPr/>
        </p:nvSpPr>
        <p:spPr>
          <a:xfrm flipV="1">
            <a:off x="4343400" y="5028840"/>
            <a:ext cx="76320" cy="1522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3354840" y="58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609588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6294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42670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Rectangle 56"/>
          <p:cNvSpPr/>
          <p:nvPr/>
        </p:nvSpPr>
        <p:spPr>
          <a:xfrm>
            <a:off x="4533120" y="63244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1" name="click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79"/>
          <p:cNvPicPr/>
          <p:nvPr/>
        </p:nvPicPr>
        <p:blipFill>
          <a:blip r:embed="rId1"/>
          <a:stretch/>
        </p:blipFill>
        <p:spPr>
          <a:xfrm>
            <a:off x="228600" y="304920"/>
            <a:ext cx="228600" cy="333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3048120" y="1066680"/>
            <a:ext cx="541008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Если одна из двух параллельных прямых перпендикулярна к третьей прямой , то и другая прямая перпендикулярна к этой прямой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457200" y="152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кажем лемму о перпендикулярности дву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араллельных прямых к третьей прямо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WordArt 9"/>
          <p:cNvSpPr txBox="1"/>
          <p:nvPr/>
        </p:nvSpPr>
        <p:spPr>
          <a:xfrm>
            <a:off x="304920" y="1219320"/>
            <a:ext cx="2361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емм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28600" y="2057400"/>
            <a:ext cx="838188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казательство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усть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|| 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Докажем, что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Через произвольную т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М пространства, не лежащую на данных прямых, проведем прямые МА и МС, параллельные соответственно прямым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Так как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то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MC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= 90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о условию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||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,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 по построению а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||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МА,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оэтому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||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МА.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Итак,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рямые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и с параллельны соответственно прямым МА и МС,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угол между которыми равен 90°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Это означает, что угол между прямым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i="1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и с также равен 90°, т. е.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c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2895480" y="4952880"/>
            <a:ext cx="3840120" cy="151128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4495680" y="4419720"/>
            <a:ext cx="32004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3200400" y="4724280"/>
            <a:ext cx="350532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4191840" y="64911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 flipV="1">
            <a:off x="3429000" y="5028840"/>
            <a:ext cx="609480" cy="12193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3733920" y="5181480"/>
            <a:ext cx="259056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4114800" y="518148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3886200" y="533412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Line 22"/>
          <p:cNvSpPr/>
          <p:nvPr/>
        </p:nvSpPr>
        <p:spPr>
          <a:xfrm flipV="1">
            <a:off x="4114800" y="5181480"/>
            <a:ext cx="76320" cy="1526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Rectangle 24"/>
          <p:cNvSpPr/>
          <p:nvPr/>
        </p:nvSpPr>
        <p:spPr>
          <a:xfrm>
            <a:off x="609588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7315200" y="4114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352680" y="6019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Rectangle 27"/>
          <p:cNvSpPr/>
          <p:nvPr/>
        </p:nvSpPr>
        <p:spPr>
          <a:xfrm>
            <a:off x="5715000" y="4876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Rectangle 28"/>
          <p:cNvSpPr/>
          <p:nvPr/>
        </p:nvSpPr>
        <p:spPr>
          <a:xfrm>
            <a:off x="3429000" y="4876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Line 29"/>
          <p:cNvSpPr/>
          <p:nvPr/>
        </p:nvSpPr>
        <p:spPr>
          <a:xfrm flipH="1">
            <a:off x="2209320" y="4952880"/>
            <a:ext cx="838440" cy="15242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Rectangle 30"/>
          <p:cNvSpPr/>
          <p:nvPr/>
        </p:nvSpPr>
        <p:spPr>
          <a:xfrm>
            <a:off x="228600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2" name="click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4"/>
          <p:cNvSpPr txBox="1"/>
          <p:nvPr/>
        </p:nvSpPr>
        <p:spPr>
          <a:xfrm>
            <a:off x="152280" y="1522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араллельные прямы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2666880" y="609480"/>
            <a:ext cx="6248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рпендикулярные к плоск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228600" y="2438280"/>
            <a:ext cx="8686800" cy="642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рямая называется перпендикулярной к плоскости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если она перпендикулярна к любой прямой,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лежащей в этой плоскост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0880" y="3657600"/>
            <a:ext cx="8001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ерпендикулярность прямой а и плоскости α обозначается так: а </a:t>
            </a:r>
            <a:r>
              <a:rPr b="0" lang="ru-RU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α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Если прямая а перпендикулярна к плоскости α, то она пересекает эту плоскость. В самом деле, если бы прямая а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не пересекала  плоскость α, то она или лежала бы в этой плоскости, или была бы параллельна ей. Но тогда в плоскости α имелись бы прямые, не перпендикулярные к прямой а, например прямые, параллельные ей, что противоречит определению перпендикулярности прямой и плоскост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Значит, прямая а пересекает плоскость α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1" name="click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304920" y="533520"/>
            <a:ext cx="84582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На рисунке 3 изображена прямая а, перпендикулярная к плоскости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Окружающая нас обстановка дает много примеров, иллюстрирующих перпендикулярность прямой и плоскости. Непокосившийся телеграфный столб стоит прямо, т. е. перпендикулярно к плоскости земли. Так же расположены колонны здания по отношению к плоскости фундамента, линии пересечения стен по отношению к плоскости пола и т. д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286000" y="3886200"/>
            <a:ext cx="3840120" cy="151128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Line 21"/>
          <p:cNvSpPr/>
          <p:nvPr/>
        </p:nvSpPr>
        <p:spPr>
          <a:xfrm>
            <a:off x="4191120" y="2819520"/>
            <a:ext cx="0" cy="17524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 flipH="1">
            <a:off x="3047760" y="4114800"/>
            <a:ext cx="2361960" cy="9144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3123720" y="4572000"/>
            <a:ext cx="221004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Line 24"/>
          <p:cNvSpPr/>
          <p:nvPr/>
        </p:nvSpPr>
        <p:spPr>
          <a:xfrm flipH="1" flipV="1">
            <a:off x="3276720" y="4114800"/>
            <a:ext cx="1828800" cy="9144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Line 25"/>
          <p:cNvSpPr/>
          <p:nvPr/>
        </p:nvSpPr>
        <p:spPr>
          <a:xfrm flipH="1">
            <a:off x="3505320" y="5181480"/>
            <a:ext cx="129528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Line 26"/>
          <p:cNvSpPr/>
          <p:nvPr/>
        </p:nvSpPr>
        <p:spPr>
          <a:xfrm flipH="1" flipV="1">
            <a:off x="2819160" y="4647960"/>
            <a:ext cx="75960" cy="6094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 flipH="1" flipV="1">
            <a:off x="4952520" y="4038120"/>
            <a:ext cx="381240" cy="3812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 flipH="1">
            <a:off x="5181480" y="4038480"/>
            <a:ext cx="609840" cy="11430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297396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19292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3810960" y="60199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Line 32"/>
          <p:cNvSpPr/>
          <p:nvPr/>
        </p:nvSpPr>
        <p:spPr>
          <a:xfrm>
            <a:off x="4192560" y="4570560"/>
            <a:ext cx="0" cy="83808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Line 33"/>
          <p:cNvSpPr/>
          <p:nvPr/>
        </p:nvSpPr>
        <p:spPr>
          <a:xfrm>
            <a:off x="4191120" y="5410080"/>
            <a:ext cx="0" cy="5335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1" name="click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457200" y="152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кажем две теоремы, в которых устанавливается связь между параллельностью прямых и их перпендикулярностью к плоскост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1" name="Picture 5" descr="79"/>
          <p:cNvPicPr/>
          <p:nvPr/>
        </p:nvPicPr>
        <p:blipFill>
          <a:blip r:embed="rId1"/>
          <a:stretch/>
        </p:blipFill>
        <p:spPr>
          <a:xfrm>
            <a:off x="228600" y="304920"/>
            <a:ext cx="228600" cy="3333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228600" y="1066680"/>
            <a:ext cx="8534520" cy="5324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Если одна из двух параллельных прямых перпендикулярна к плоскости, то и другая прямая перпендикулярна к этой плоскости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04920" y="2209680"/>
            <a:ext cx="838188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ассмотрим две параллельные прямые а 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и плоскость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такую, что а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Докажем, что 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роведем какую-нибудь прямую х в плоскост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исунок 4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Так как а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то а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х. По лемме о перпендикулярности двух параллельных прямых к третьей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х. Таким образом, прямая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перпендикулярна к любой прямой, лежащей в плоскост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т.е.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385200" y="1828800"/>
            <a:ext cx="2147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казательство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AutoShape 9"/>
          <p:cNvSpPr/>
          <p:nvPr/>
        </p:nvSpPr>
        <p:spPr>
          <a:xfrm>
            <a:off x="2590920" y="4572000"/>
            <a:ext cx="3840120" cy="151128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 flipV="1">
            <a:off x="2971800" y="5562360"/>
            <a:ext cx="1981080" cy="2286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3999960" y="61722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>
            <a:off x="3962520" y="3809880"/>
            <a:ext cx="0" cy="15242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>
            <a:off x="5257800" y="3809880"/>
            <a:ext cx="0" cy="15242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Rectangle 21"/>
          <p:cNvSpPr/>
          <p:nvPr/>
        </p:nvSpPr>
        <p:spPr>
          <a:xfrm>
            <a:off x="5183640" y="563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39643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Rectangle 23"/>
          <p:cNvSpPr/>
          <p:nvPr/>
        </p:nvSpPr>
        <p:spPr>
          <a:xfrm>
            <a:off x="5252760" y="3733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Rectangle 24"/>
          <p:cNvSpPr/>
          <p:nvPr/>
        </p:nvSpPr>
        <p:spPr>
          <a:xfrm>
            <a:off x="304992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2" name="click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228600" y="228600"/>
            <a:ext cx="8534520" cy="313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Если две прямые перпендикулярны к плоскости, то они параллельны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04920" y="1295280"/>
            <a:ext cx="8381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ассмотрим прямые а 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перпендикулярные к плоскост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исунок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5,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)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Докажем, что а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|| 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Через какую-нибудь т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рямой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проведем прямую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q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параллельную прямой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. По предыдущей теореме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q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Докажем, что прямая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q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совпадает с прямой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Тем самым будет доказано, что а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||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Допустим, что прямые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q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не совпадают. Тогда в плоскост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β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содержащей прямые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q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через т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. M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проходят две прямые, перпендикулярные к прямой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по которой пересекаются плоскост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β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исунок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5,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б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Но это невозможно, следовательно а ||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385200" y="838080"/>
            <a:ext cx="2147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казательство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762120" y="4267080"/>
            <a:ext cx="3840120" cy="151128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1829520" y="624852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, 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1905120" y="3505320"/>
            <a:ext cx="0" cy="1523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Line 11"/>
          <p:cNvSpPr/>
          <p:nvPr/>
        </p:nvSpPr>
        <p:spPr>
          <a:xfrm>
            <a:off x="3200400" y="3505320"/>
            <a:ext cx="0" cy="1523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916560" y="541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Line 16"/>
          <p:cNvSpPr/>
          <p:nvPr/>
        </p:nvSpPr>
        <p:spPr>
          <a:xfrm>
            <a:off x="1905120" y="5029200"/>
            <a:ext cx="0" cy="76212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Line 17"/>
          <p:cNvSpPr/>
          <p:nvPr/>
        </p:nvSpPr>
        <p:spPr>
          <a:xfrm>
            <a:off x="3200400" y="5029200"/>
            <a:ext cx="0" cy="76212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Line 18"/>
          <p:cNvSpPr/>
          <p:nvPr/>
        </p:nvSpPr>
        <p:spPr>
          <a:xfrm>
            <a:off x="1905120" y="5745240"/>
            <a:ext cx="0" cy="3506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3200400" y="5791320"/>
            <a:ext cx="0" cy="3506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190692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6478560" y="5334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AutoShape 36"/>
          <p:cNvSpPr/>
          <p:nvPr/>
        </p:nvSpPr>
        <p:spPr>
          <a:xfrm>
            <a:off x="5105520" y="4267080"/>
            <a:ext cx="3352680" cy="99072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6401520" y="61722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Rectangle 40"/>
          <p:cNvSpPr/>
          <p:nvPr/>
        </p:nvSpPr>
        <p:spPr>
          <a:xfrm>
            <a:off x="5259960" y="4876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Line 52"/>
          <p:cNvSpPr/>
          <p:nvPr/>
        </p:nvSpPr>
        <p:spPr>
          <a:xfrm>
            <a:off x="7467480" y="3429000"/>
            <a:ext cx="0" cy="8380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Line 53"/>
          <p:cNvSpPr/>
          <p:nvPr/>
        </p:nvSpPr>
        <p:spPr>
          <a:xfrm>
            <a:off x="6248520" y="3962520"/>
            <a:ext cx="0" cy="19810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Line 54"/>
          <p:cNvSpPr/>
          <p:nvPr/>
        </p:nvSpPr>
        <p:spPr>
          <a:xfrm flipH="1">
            <a:off x="6248520" y="3429000"/>
            <a:ext cx="1218960" cy="5335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Line 55"/>
          <p:cNvSpPr/>
          <p:nvPr/>
        </p:nvSpPr>
        <p:spPr>
          <a:xfrm flipH="1">
            <a:off x="6248520" y="5410080"/>
            <a:ext cx="1218960" cy="5335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Line 56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Line 57"/>
          <p:cNvSpPr/>
          <p:nvPr/>
        </p:nvSpPr>
        <p:spPr>
          <a:xfrm flipH="1">
            <a:off x="6248520" y="4267080"/>
            <a:ext cx="1218960" cy="9907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Line 58"/>
          <p:cNvSpPr/>
          <p:nvPr/>
        </p:nvSpPr>
        <p:spPr>
          <a:xfrm>
            <a:off x="6781680" y="3733920"/>
            <a:ext cx="0" cy="10666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Line 59"/>
          <p:cNvSpPr/>
          <p:nvPr/>
        </p:nvSpPr>
        <p:spPr>
          <a:xfrm>
            <a:off x="6781680" y="4876920"/>
            <a:ext cx="0" cy="38088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Line 60"/>
          <p:cNvSpPr/>
          <p:nvPr/>
        </p:nvSpPr>
        <p:spPr>
          <a:xfrm>
            <a:off x="6781680" y="5257800"/>
            <a:ext cx="0" cy="3049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Line 61"/>
          <p:cNvSpPr/>
          <p:nvPr/>
        </p:nvSpPr>
        <p:spPr>
          <a:xfrm flipH="1">
            <a:off x="6629040" y="3657600"/>
            <a:ext cx="304920" cy="12952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Line 63"/>
          <p:cNvSpPr/>
          <p:nvPr/>
        </p:nvSpPr>
        <p:spPr>
          <a:xfrm flipH="1">
            <a:off x="6553080" y="4952880"/>
            <a:ext cx="76320" cy="30492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Line 64"/>
          <p:cNvSpPr/>
          <p:nvPr/>
        </p:nvSpPr>
        <p:spPr>
          <a:xfrm flipH="1">
            <a:off x="6476760" y="5257800"/>
            <a:ext cx="75960" cy="380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Line 66"/>
          <p:cNvSpPr/>
          <p:nvPr/>
        </p:nvSpPr>
        <p:spPr>
          <a:xfrm>
            <a:off x="5867280" y="3429000"/>
            <a:ext cx="0" cy="12952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Line 67"/>
          <p:cNvSpPr/>
          <p:nvPr/>
        </p:nvSpPr>
        <p:spPr>
          <a:xfrm>
            <a:off x="5867280" y="4724280"/>
            <a:ext cx="0" cy="53352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Line 68"/>
          <p:cNvSpPr/>
          <p:nvPr/>
        </p:nvSpPr>
        <p:spPr>
          <a:xfrm>
            <a:off x="5867280" y="5257800"/>
            <a:ext cx="0" cy="3510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Rectangle 69"/>
          <p:cNvSpPr/>
          <p:nvPr/>
        </p:nvSpPr>
        <p:spPr>
          <a:xfrm>
            <a:off x="556452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Rectangle 70"/>
          <p:cNvSpPr/>
          <p:nvPr/>
        </p:nvSpPr>
        <p:spPr>
          <a:xfrm>
            <a:off x="662940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Rectangle 71"/>
          <p:cNvSpPr/>
          <p:nvPr/>
        </p:nvSpPr>
        <p:spPr>
          <a:xfrm>
            <a:off x="632664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Rectangle 72"/>
          <p:cNvSpPr/>
          <p:nvPr/>
        </p:nvSpPr>
        <p:spPr>
          <a:xfrm>
            <a:off x="6783120" y="5257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Rectangle 73"/>
          <p:cNvSpPr/>
          <p:nvPr/>
        </p:nvSpPr>
        <p:spPr>
          <a:xfrm>
            <a:off x="3348000" y="5943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1" name="click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1:51:3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