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lick.wav" ContentType="audio/x-wav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64A8-0C03-4CBC-AB0F-C10D37075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6DC-2B5A-4E1D-A010-0DB67760BA2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922-6D8E-49C0-8B4C-60B72AE3F1D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BDF-352C-454F-9C0C-FCCD6BE8C9C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F025-2EF3-45CD-AD5E-4F845CD2A3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496-17EA-4D4E-A38D-DEBD5C30D2D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7E4-F45A-4184-8660-A84398047DF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C02F-14BB-4304-9212-741A4AEFA9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CBA-2574-4A2E-A524-0B4E462D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EDC-AF80-448D-9A4D-40B1A3A6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C69-4FA7-4E22-AB5A-09145491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E13-A04A-4712-8BDE-DE92EEE5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4A72-F8B7-47B3-828D-9BA5F130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49A7-AE8F-4AF4-A969-10C72F58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937B-58E8-4BE8-85DC-297D6A8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C96D-DCDE-44C2-9055-24B0EB4A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895-1603-4CE3-9160-AB823D89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FA1D-BB32-45F7-8339-F4550706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54FB-9A99-401A-9EDB-C366EF0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F70-AB01-46BD-8B6A-10A1957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AA3-E5AE-4A49-B071-C0D28C00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178-2AA9-494B-9255-9277508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34F-162E-4539-B4EB-1A1BD46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CE09-834D-453E-990A-9DE2F7B0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542D-E049-410C-B8A2-3F713DEE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1AA-7727-4DB6-AD74-F963ADA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4DA-7EF9-4AC5-8338-EF3DD29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D7F-9340-4707-B576-E7D338E7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3A5-453F-43A4-9B5D-103949FB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034-6516-499A-88C2-74F65AAF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D21-F024-47E0-8CC3-D85C6D0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C66-4277-4674-9A33-2802D64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91E6-5A1E-4045-ABD2-1A2F0CAC99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A0D8-71EF-4E58-8FD0-CCEDCB54407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7"/>
          <p:cNvSpPr txBox="1"/>
          <p:nvPr/>
        </p:nvSpPr>
        <p:spPr>
          <a:xfrm>
            <a:off x="1143000" y="3049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0" name="WordArt 10"/>
          <p:cNvSpPr txBox="1"/>
          <p:nvPr/>
        </p:nvSpPr>
        <p:spPr>
          <a:xfrm>
            <a:off x="685800" y="2133720"/>
            <a:ext cx="25146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я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886200" y="2971800"/>
            <a:ext cx="5047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5181480" y="35053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792040" y="556272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нязев Владими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Ученик 10 класса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A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Школы № 125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1162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17" descr="23"/>
          <p:cNvPicPr/>
          <p:nvPr/>
        </p:nvPicPr>
        <p:blipFill>
          <a:blip r:embed="rId1"/>
          <a:stretch/>
        </p:blipFill>
        <p:spPr>
          <a:xfrm>
            <a:off x="1219320" y="4343400"/>
            <a:ext cx="140004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5"/>
          <p:cNvSpPr txBox="1"/>
          <p:nvPr/>
        </p:nvSpPr>
        <p:spPr>
          <a:xfrm>
            <a:off x="0" y="22860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прям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4495680" y="762120"/>
            <a:ext cx="4419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28600" y="2286000"/>
            <a:ext cx="8534520" cy="1409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ве прямые в пространстве называются перпендикулярными (взаимно перпендикулярными) , если угол между ними равен 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ость прямых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обозначается так: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ые прямые могут пересекаться и могут быть скрещивающимися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 рисунке 1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крещивающиес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3124080" y="47242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V="1">
            <a:off x="3657600" y="4876920"/>
            <a:ext cx="609480" cy="12189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962520" y="502920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3581280" y="434340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343400" y="5028840"/>
            <a:ext cx="7632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35484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09588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6294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2670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4533120" y="63244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3048120" y="1066680"/>
            <a:ext cx="54100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третьей прямой , то и другая прямая перпендикулярна к этой прям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" y="152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лемму о перпендикулярности дву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араллельных прямых к третьей прямо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WordArt 9"/>
          <p:cNvSpPr txBox="1"/>
          <p:nvPr/>
        </p:nvSpPr>
        <p:spPr>
          <a:xfrm>
            <a:off x="304920" y="12193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м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28600" y="2057400"/>
            <a:ext cx="83818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Через произвольную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 пространства, не лежащую на данных прямых, проведем прямые МА и МС, параллельные соответственно прямы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M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= 90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 условию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 по построению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этому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так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с параллельны соответственно прямым МА и МС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угол между которыми равен 90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о означает, что угол между прямым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 с также равен 90°, т. е.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895480" y="49528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495680" y="4419720"/>
            <a:ext cx="32004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3200400" y="472428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191840" y="64911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 flipV="1">
            <a:off x="3429000" y="5028840"/>
            <a:ext cx="609480" cy="12193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3733920" y="518148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3886200" y="53341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 flipV="1">
            <a:off x="4114800" y="5181480"/>
            <a:ext cx="76320" cy="152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609588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315200" y="41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35268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5715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3429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 flipH="1">
            <a:off x="2209320" y="4952880"/>
            <a:ext cx="83844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22860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52280" y="1522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араллельные прям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666880" y="609480"/>
            <a:ext cx="6248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к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28600" y="2438280"/>
            <a:ext cx="868680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ямая называется перпендикулярной к плоскости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на перпендикулярна к любой прямой,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ежащей в этой плоск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0880" y="3657600"/>
            <a:ext cx="8001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ерпендикулярность прямой а и плоскости α обозначается так: а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α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Если прямая а перпендикулярна к плоскости α, то она пересекает эту плоскость. В самом деле, если бы прямая а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е пересекала  плоскость α, то она или лежала бы в этой плоскости, или была бы параллельна ей. Но тогда в плоскости α имелись бы прямые, не перпендикулярные к прямой а, например прямые, параллельные ей, что противоречит определению перпендикулярности прямой и плоско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Значит, прямая а пересекает плоскость α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04920" y="533520"/>
            <a:ext cx="8458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 рисунке 3 изображена прямая а, перпендикулярная к плоскости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Непокосившийся телеграфный столб стоит прямо, т. е. перпендикулярно к плоскости земли. Так же расположены колонны здания по отношению к плоскости фундамента, линии пересечения стен по отношению к плоскости пола и т. д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286000" y="38862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4191120" y="2819520"/>
            <a:ext cx="0" cy="1752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3047760" y="4114800"/>
            <a:ext cx="236196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3123720" y="4572000"/>
            <a:ext cx="22100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 flipH="1" flipV="1">
            <a:off x="3276720" y="4114800"/>
            <a:ext cx="182880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 flipH="1">
            <a:off x="3505320" y="5181480"/>
            <a:ext cx="1295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 flipV="1">
            <a:off x="2819160" y="4647960"/>
            <a:ext cx="75960" cy="609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 flipH="1" flipV="1">
            <a:off x="4952520" y="4038120"/>
            <a:ext cx="381240" cy="381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H="1">
            <a:off x="5181480" y="4038480"/>
            <a:ext cx="609840" cy="1143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9739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1929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3810960" y="60199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192560" y="457056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4191120" y="54100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457200" y="152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две теоремы, в которых устанавливается связь между параллельностью прямых и их перпендикулярностью к плоск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228600" y="1066680"/>
            <a:ext cx="8534520" cy="532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плоскости, то и другая прямая перпендикулярна к этой плоскости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04920" y="2209680"/>
            <a:ext cx="8381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две параллельные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плоскость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акую, что а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оведем какую-нибудь прямую х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4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х. По лемме о перпендикулярности двух параллельных прямых к третье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х. Таким образом,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ерпендикулярна к любой прямой, лежащей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.е.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85200" y="182880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2590920" y="45720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2971800" y="5562360"/>
            <a:ext cx="1981080" cy="2286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3999960" y="61722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396252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>
            <a:off x="525780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5183640" y="563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39643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5252760" y="373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30499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28600" y="228600"/>
            <a:ext cx="8534520" cy="313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две прямые перпендикулярны к плоскости, то они параллельн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1295280"/>
            <a:ext cx="8381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ерпендикулярные к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Через какую-нибудь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ведем прямую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араллельную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 По предыдущей теореме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q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овпадает с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ем самым будет доказано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||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пустим, что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е совпадают. Тогда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содержащей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через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M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ходят две прямые, перпендикулярные к прямо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о которой пересекаются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Но это невозможно, следовательно а ||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85200" y="83808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762120" y="42670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829520" y="62485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190512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320040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9165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190512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320040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1905120" y="574524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3200400" y="579132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1906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647856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AutoShape 36"/>
          <p:cNvSpPr/>
          <p:nvPr/>
        </p:nvSpPr>
        <p:spPr>
          <a:xfrm>
            <a:off x="5105520" y="4267080"/>
            <a:ext cx="3352680" cy="99072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6401520" y="6172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Rectangle 40"/>
          <p:cNvSpPr/>
          <p:nvPr/>
        </p:nvSpPr>
        <p:spPr>
          <a:xfrm>
            <a:off x="5259960" y="4876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7467480" y="342900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Line 53"/>
          <p:cNvSpPr/>
          <p:nvPr/>
        </p:nvSpPr>
        <p:spPr>
          <a:xfrm>
            <a:off x="6248520" y="3962520"/>
            <a:ext cx="0" cy="1981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6248520" y="342900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 flipH="1">
            <a:off x="6248520" y="541008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 flipH="1">
            <a:off x="6248520" y="4267080"/>
            <a:ext cx="1218960" cy="99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>
            <a:off x="6781680" y="3733920"/>
            <a:ext cx="0" cy="1066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Line 59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Line 60"/>
          <p:cNvSpPr/>
          <p:nvPr/>
        </p:nvSpPr>
        <p:spPr>
          <a:xfrm>
            <a:off x="6781680" y="5257800"/>
            <a:ext cx="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Line 61"/>
          <p:cNvSpPr/>
          <p:nvPr/>
        </p:nvSpPr>
        <p:spPr>
          <a:xfrm flipH="1">
            <a:off x="6629040" y="3657600"/>
            <a:ext cx="30492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63"/>
          <p:cNvSpPr/>
          <p:nvPr/>
        </p:nvSpPr>
        <p:spPr>
          <a:xfrm flipH="1">
            <a:off x="6553080" y="4952880"/>
            <a:ext cx="76320" cy="3049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64"/>
          <p:cNvSpPr/>
          <p:nvPr/>
        </p:nvSpPr>
        <p:spPr>
          <a:xfrm flipH="1">
            <a:off x="6476760" y="5257800"/>
            <a:ext cx="7596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5867280" y="3429000"/>
            <a:ext cx="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5867280" y="5257800"/>
            <a:ext cx="0" cy="351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Rectangle 69"/>
          <p:cNvSpPr/>
          <p:nvPr/>
        </p:nvSpPr>
        <p:spPr>
          <a:xfrm>
            <a:off x="556452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70"/>
          <p:cNvSpPr/>
          <p:nvPr/>
        </p:nvSpPr>
        <p:spPr>
          <a:xfrm>
            <a:off x="6629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71"/>
          <p:cNvSpPr/>
          <p:nvPr/>
        </p:nvSpPr>
        <p:spPr>
          <a:xfrm>
            <a:off x="63266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Rectangle 72"/>
          <p:cNvSpPr/>
          <p:nvPr/>
        </p:nvSpPr>
        <p:spPr>
          <a:xfrm>
            <a:off x="6783120" y="52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Rectangle 73"/>
          <p:cNvSpPr/>
          <p:nvPr/>
        </p:nvSpPr>
        <p:spPr>
          <a:xfrm>
            <a:off x="3348000" y="5943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1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