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lick.wav" ContentType="audio/x-wav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C0E-8D1C-441B-92DA-E5DA2328E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B812-A738-4447-AEB5-E61D5B3C4D4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2057-4810-46B2-9FF7-37997B9FEDE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144-B432-4DC3-A359-F1E27CBA194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528D-53CC-4572-9F06-2AAD4A80CB2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214B-CC18-4DE3-9180-BFE3521013E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106D-CF85-4890-B65E-DC90C722BB0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D529-2909-4FBB-AFE6-2C3AC4989F5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559-962F-4D32-9DF1-3D11A3C5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04A-72EA-41FD-83E7-A6A8D851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E09-203E-48FB-B1A1-0AF8097E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DCD-91A5-4E39-94E3-A5673A40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82A9-FB24-4F59-81A9-A3376BE0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732C-F53A-4BC3-A7E0-199A16B1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172-D603-4654-B2F3-D3AB78C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645-37B2-4B4D-83E1-E7110C74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3D21-4BCE-4CF4-8B6E-9CFCE4D0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C364-C8BA-49C9-B531-8938E7A0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DA9-3790-4F56-843D-26F2A9D4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FD8-30D9-4B82-AB8B-BCB7A23C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EDB0-0813-42B7-BECC-1C2DD6ED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4EEC-3282-4DCE-A4F6-2042588F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E6E-FC81-4558-A562-23C749A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60B3-F4F8-42D4-A91E-18B0160B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49C1-36B9-4797-8139-4E198F78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549-532F-4EC9-8D77-3B69BA42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EDA-3334-4D56-84D4-FC4F6D93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B8B-3CB5-4F8D-BAA1-99A61DD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A38-3E53-4295-A3E2-7B93F1AE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8CF-CBB8-47A0-AF78-A293594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41D-C719-4D8B-A852-96FEC03C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2BB-16B8-4D16-8A30-34EFE0F0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D5F8-5E44-44EB-B83E-D592D0B799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320B-3311-4A31-9830-A6FAA77E93A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7"/>
          <p:cNvSpPr txBox="1"/>
          <p:nvPr/>
        </p:nvSpPr>
        <p:spPr>
          <a:xfrm>
            <a:off x="1143000" y="304920"/>
            <a:ext cx="5715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0" name="WordArt 10"/>
          <p:cNvSpPr txBox="1"/>
          <p:nvPr/>
        </p:nvSpPr>
        <p:spPr>
          <a:xfrm>
            <a:off x="685800" y="2133720"/>
            <a:ext cx="25146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я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WordArt 11"/>
          <p:cNvSpPr txBox="1"/>
          <p:nvPr/>
        </p:nvSpPr>
        <p:spPr>
          <a:xfrm>
            <a:off x="3886200" y="2971800"/>
            <a:ext cx="50472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2" name="WordArt 12"/>
          <p:cNvSpPr txBox="1"/>
          <p:nvPr/>
        </p:nvSpPr>
        <p:spPr>
          <a:xfrm>
            <a:off x="5181480" y="35053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5792040" y="556272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нязев Владими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Ученик 10 класса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“A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Школы № 125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41162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17" descr="23"/>
          <p:cNvPicPr/>
          <p:nvPr/>
        </p:nvPicPr>
        <p:blipFill>
          <a:blip r:embed="rId1"/>
          <a:stretch/>
        </p:blipFill>
        <p:spPr>
          <a:xfrm>
            <a:off x="1219320" y="4343400"/>
            <a:ext cx="140004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5"/>
          <p:cNvSpPr txBox="1"/>
          <p:nvPr/>
        </p:nvSpPr>
        <p:spPr>
          <a:xfrm>
            <a:off x="0" y="22860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ые прям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4495680" y="762120"/>
            <a:ext cx="441972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228600" y="2286000"/>
            <a:ext cx="8534520" cy="1409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ве прямые в пространстве называются перпендикулярными (взаимно перпендикулярными) , если угол между ними равен 9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Перпендикулярность прямых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обозначается так: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Перпендикулярные прямые могут пересекаться и могут быть скрещивающимися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 рисунке 1 перпендикулярные прямы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пересекаются, а перпендикулярные прямы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скрещивающиес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3124080" y="47242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 flipV="1">
            <a:off x="3657600" y="4876920"/>
            <a:ext cx="609480" cy="12189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3962520" y="5029200"/>
            <a:ext cx="259056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3581280" y="4343400"/>
            <a:ext cx="35053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Line 49"/>
          <p:cNvSpPr/>
          <p:nvPr/>
        </p:nvSpPr>
        <p:spPr>
          <a:xfrm>
            <a:off x="4114800" y="51814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Line 50"/>
          <p:cNvSpPr/>
          <p:nvPr/>
        </p:nvSpPr>
        <p:spPr>
          <a:xfrm flipV="1">
            <a:off x="4343400" y="5028840"/>
            <a:ext cx="7632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35484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Rectangle 52"/>
          <p:cNvSpPr/>
          <p:nvPr/>
        </p:nvSpPr>
        <p:spPr>
          <a:xfrm>
            <a:off x="609588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6294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2670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4533120" y="63244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79"/>
          <p:cNvPicPr/>
          <p:nvPr/>
        </p:nvPicPr>
        <p:blipFill>
          <a:blip r:embed="rId1"/>
          <a:stretch/>
        </p:blipFill>
        <p:spPr>
          <a:xfrm>
            <a:off x="228600" y="304920"/>
            <a:ext cx="228600" cy="333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3048120" y="1066680"/>
            <a:ext cx="5410080" cy="9169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дна из двух параллельных прямых перпендикулярна к третьей прямой , то и другая прямая перпендикулярна к этой прям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457200" y="152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жем лемму о перпендикулярности дву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араллельных прямых к третьей прямо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WordArt 9"/>
          <p:cNvSpPr txBox="1"/>
          <p:nvPr/>
        </p:nvSpPr>
        <p:spPr>
          <a:xfrm>
            <a:off x="304920" y="121932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мм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28600" y="2057400"/>
            <a:ext cx="838188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усть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||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Через произвольную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М пространства, не лежащую на данных прямых, проведем прямые МА и МС, параллельные соответственно прямы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ак ка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о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M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= 90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 условию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||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 по построению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||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МА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оэтому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||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.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так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с параллельны соответственно прямым МА и МС,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угол между которыми равен 90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Это означает, что угол между прямым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 с также равен 90°, т. е.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c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895480" y="49528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4495680" y="4419720"/>
            <a:ext cx="320040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3200400" y="4724280"/>
            <a:ext cx="35053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4191840" y="64911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 flipV="1">
            <a:off x="3429000" y="5028840"/>
            <a:ext cx="609480" cy="12193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3733920" y="5181480"/>
            <a:ext cx="259056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4114800" y="51814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3886200" y="533412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 flipV="1">
            <a:off x="4114800" y="5181480"/>
            <a:ext cx="76320" cy="152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609588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315200" y="4114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35268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57150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342900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 flipH="1">
            <a:off x="2209320" y="4952880"/>
            <a:ext cx="83844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228600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lick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152280" y="1522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араллельные прямы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2666880" y="609480"/>
            <a:ext cx="6248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пендикулярные к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228600" y="2438280"/>
            <a:ext cx="868680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ямая называется перпендикулярной к плоскости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на перпендикулярна к любой прямой,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лежащей в этой плоско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0880" y="3657600"/>
            <a:ext cx="8001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ерпендикулярность прямой а и плоскости α обозначается так: а </a:t>
            </a:r>
            <a:r>
              <a:rPr b="0" lang="ru-RU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α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Если прямая а перпендикулярна к плоскости α, то она пересекает эту плоскость. В самом деле, если бы прямая а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е пересекала  плоскость α, то она или лежала бы в этой плоскости, или была бы параллельна ей. Но тогда в плоскости α имелись бы прямые, не перпендикулярные к прямой а, например прямые, параллельные ей, что противоречит определению перпендикулярности прямой и плоскост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Значит, прямая а пересекает плоскость α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304920" y="533520"/>
            <a:ext cx="84582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 рисунке 3 изображена прямая а, перпендикулярная к плоскости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Окружающая нас обстановка дает много примеров, иллюстрирующих перпендикулярность прямой и плоскости. Непокосившийся телеграфный столб стоит прямо, т. е. перпендикулярно к плоскости земли. Так же расположены колонны здания по отношению к плоскости фундамента, линии пересечения стен по отношению к плоскости пола и т. д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286000" y="388620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4191120" y="2819520"/>
            <a:ext cx="0" cy="1752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 flipH="1">
            <a:off x="3047760" y="4114800"/>
            <a:ext cx="2361960" cy="9144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3123720" y="4572000"/>
            <a:ext cx="221004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 flipH="1" flipV="1">
            <a:off x="3276720" y="4114800"/>
            <a:ext cx="1828800" cy="9144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 flipH="1">
            <a:off x="3505320" y="5181480"/>
            <a:ext cx="129528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 flipH="1" flipV="1">
            <a:off x="2819160" y="4647960"/>
            <a:ext cx="75960" cy="6094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 flipH="1" flipV="1">
            <a:off x="4952520" y="4038120"/>
            <a:ext cx="381240" cy="381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 flipH="1">
            <a:off x="5181480" y="4038480"/>
            <a:ext cx="609840" cy="11430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29739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1929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3810960" y="60199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>
            <a:off x="4192560" y="4570560"/>
            <a:ext cx="0" cy="8380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4191120" y="5410080"/>
            <a:ext cx="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457200" y="152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жем две теоремы, в которых устанавливается связь между параллельностью прямых и их перпендикулярностью к плоскост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Picture 5" descr="79"/>
          <p:cNvPicPr/>
          <p:nvPr/>
        </p:nvPicPr>
        <p:blipFill>
          <a:blip r:embed="rId1"/>
          <a:stretch/>
        </p:blipFill>
        <p:spPr>
          <a:xfrm>
            <a:off x="228600" y="304920"/>
            <a:ext cx="228600" cy="3333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228600" y="1066680"/>
            <a:ext cx="8534520" cy="532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одна из двух параллельных прямых перпендикулярна к плоскости, то и другая прямая перпендикулярна к этой плоскости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04920" y="2209680"/>
            <a:ext cx="8381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ссмотрим две параллельные прямые а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плоскость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акую, что а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оведем какую-нибудь прямую х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4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ак как а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о а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х. По лемме о перпендикулярности двух параллельных прямых к третьей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х. Таким образом, прямая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ерпендикулярна к любой прямой, лежащей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.е.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385200" y="1828800"/>
            <a:ext cx="214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AutoShape 9"/>
          <p:cNvSpPr/>
          <p:nvPr/>
        </p:nvSpPr>
        <p:spPr>
          <a:xfrm>
            <a:off x="2590920" y="457200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 flipV="1">
            <a:off x="2971800" y="5562360"/>
            <a:ext cx="1981080" cy="2286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3999960" y="61722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Line 19"/>
          <p:cNvSpPr/>
          <p:nvPr/>
        </p:nvSpPr>
        <p:spPr>
          <a:xfrm>
            <a:off x="3962520" y="3809880"/>
            <a:ext cx="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>
            <a:off x="5257800" y="3809880"/>
            <a:ext cx="0" cy="15242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5183640" y="563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39643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Rectangle 23"/>
          <p:cNvSpPr/>
          <p:nvPr/>
        </p:nvSpPr>
        <p:spPr>
          <a:xfrm>
            <a:off x="5252760" y="373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304992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2" name="click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28600" y="228600"/>
            <a:ext cx="8534520" cy="313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Если две прямые перпендикулярны к плоскости, то они параллельны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1295280"/>
            <a:ext cx="8381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ассмотрим прямые а и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ерпендикулярные к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5,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||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Через какую-нибудь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роведем прямую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араллельную 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. По предыдущей теореме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 </a:t>
            </a:r>
            <a:r>
              <a:rPr b="0" lang="en-US" sz="1600" spc="-1" strike="noStrike">
                <a:solidFill>
                  <a:srgbClr val="eaeaea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кажем, что прямая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q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овпадает с прямой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Тем самым будет доказано, что а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||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Допустим, что 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е совпадают. Тогда в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β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содержащей прямы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q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через т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M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проходят две прямые, перпендикулярные к прямой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о которой пересекаются плоскост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el-GR" sz="1600" spc="-1" strike="noStrike">
                <a:solidFill>
                  <a:srgbClr val="eaeaea"/>
                </a:solidFill>
                <a:latin typeface="Arial"/>
              </a:rPr>
              <a:t>β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рису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5,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б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 Но это невозможно, следовательно а ||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385200" y="838080"/>
            <a:ext cx="214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оказательство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762120" y="4267080"/>
            <a:ext cx="3840120" cy="151128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829520" y="62485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1905120" y="3505320"/>
            <a:ext cx="0" cy="1523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3200400" y="3505320"/>
            <a:ext cx="0" cy="1523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9165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>
            <a:off x="1905120" y="5029200"/>
            <a:ext cx="0" cy="7621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>
            <a:off x="3200400" y="5029200"/>
            <a:ext cx="0" cy="7621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>
            <a:off x="1905120" y="5745240"/>
            <a:ext cx="0" cy="350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>
            <a:off x="3200400" y="5791320"/>
            <a:ext cx="0" cy="3506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1906920" y="579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647856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AutoShape 36"/>
          <p:cNvSpPr/>
          <p:nvPr/>
        </p:nvSpPr>
        <p:spPr>
          <a:xfrm>
            <a:off x="5105520" y="4267080"/>
            <a:ext cx="3352680" cy="990720"/>
          </a:xfrm>
          <a:prstGeom prst="flowChartInputOutput">
            <a:avLst/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6401520" y="6172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Rectangle 40"/>
          <p:cNvSpPr/>
          <p:nvPr/>
        </p:nvSpPr>
        <p:spPr>
          <a:xfrm>
            <a:off x="5259960" y="4876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7467480" y="3429000"/>
            <a:ext cx="0" cy="8380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Line 53"/>
          <p:cNvSpPr/>
          <p:nvPr/>
        </p:nvSpPr>
        <p:spPr>
          <a:xfrm>
            <a:off x="6248520" y="3962520"/>
            <a:ext cx="0" cy="19810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Line 54"/>
          <p:cNvSpPr/>
          <p:nvPr/>
        </p:nvSpPr>
        <p:spPr>
          <a:xfrm flipH="1">
            <a:off x="6248520" y="3429000"/>
            <a:ext cx="121896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Line 55"/>
          <p:cNvSpPr/>
          <p:nvPr/>
        </p:nvSpPr>
        <p:spPr>
          <a:xfrm flipH="1">
            <a:off x="6248520" y="5410080"/>
            <a:ext cx="1218960" cy="5335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Line 56"/>
          <p:cNvSpPr/>
          <p:nvPr/>
        </p:nvSpPr>
        <p:spPr>
          <a:xfrm>
            <a:off x="7467480" y="5257800"/>
            <a:ext cx="0" cy="152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Line 57"/>
          <p:cNvSpPr/>
          <p:nvPr/>
        </p:nvSpPr>
        <p:spPr>
          <a:xfrm flipH="1">
            <a:off x="6248520" y="4267080"/>
            <a:ext cx="1218960" cy="9907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Line 58"/>
          <p:cNvSpPr/>
          <p:nvPr/>
        </p:nvSpPr>
        <p:spPr>
          <a:xfrm>
            <a:off x="6781680" y="3733920"/>
            <a:ext cx="0" cy="1066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Line 59"/>
          <p:cNvSpPr/>
          <p:nvPr/>
        </p:nvSpPr>
        <p:spPr>
          <a:xfrm>
            <a:off x="6781680" y="487692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Line 60"/>
          <p:cNvSpPr/>
          <p:nvPr/>
        </p:nvSpPr>
        <p:spPr>
          <a:xfrm>
            <a:off x="6781680" y="5257800"/>
            <a:ext cx="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Line 61"/>
          <p:cNvSpPr/>
          <p:nvPr/>
        </p:nvSpPr>
        <p:spPr>
          <a:xfrm flipH="1">
            <a:off x="6629040" y="3657600"/>
            <a:ext cx="304920" cy="1295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Line 63"/>
          <p:cNvSpPr/>
          <p:nvPr/>
        </p:nvSpPr>
        <p:spPr>
          <a:xfrm flipH="1">
            <a:off x="6553080" y="4952880"/>
            <a:ext cx="76320" cy="3049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Line 64"/>
          <p:cNvSpPr/>
          <p:nvPr/>
        </p:nvSpPr>
        <p:spPr>
          <a:xfrm flipH="1">
            <a:off x="6476760" y="5257800"/>
            <a:ext cx="7596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5867280" y="3429000"/>
            <a:ext cx="0" cy="12952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5867280" y="4724280"/>
            <a:ext cx="0" cy="533520"/>
          </a:xfrm>
          <a:prstGeom prst="line">
            <a:avLst/>
          </a:prstGeom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5867280" y="5257800"/>
            <a:ext cx="0" cy="3510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Rectangle 69"/>
          <p:cNvSpPr/>
          <p:nvPr/>
        </p:nvSpPr>
        <p:spPr>
          <a:xfrm>
            <a:off x="556452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Rectangle 70"/>
          <p:cNvSpPr/>
          <p:nvPr/>
        </p:nvSpPr>
        <p:spPr>
          <a:xfrm>
            <a:off x="6629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71"/>
          <p:cNvSpPr/>
          <p:nvPr/>
        </p:nvSpPr>
        <p:spPr>
          <a:xfrm>
            <a:off x="632664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Rectangle 72"/>
          <p:cNvSpPr/>
          <p:nvPr/>
        </p:nvSpPr>
        <p:spPr>
          <a:xfrm>
            <a:off x="6783120" y="52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Rectangle 73"/>
          <p:cNvSpPr/>
          <p:nvPr/>
        </p:nvSpPr>
        <p:spPr>
          <a:xfrm>
            <a:off x="3348000" y="5943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lick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30T21:51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