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A65-AAC7-4ECA-A2F6-55CF0E5E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6D1-FB9D-420E-9B66-D99FDF37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355-4B09-48F8-B125-419421BE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D08-ED94-46F9-B293-7A5D79E8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E47-D4B3-4A4D-A539-EBE68AC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1A1-1A23-494F-941F-682ABB67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1EE-C31B-42EC-8E43-8608F46C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08E-C4CB-4B00-BA12-564394E4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347-C67E-4F11-B92C-BF47849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C60-B309-46AD-AC99-8DF7BF6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A71-C9B4-463C-A44B-BC81C20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342-2C71-4C85-84A4-F896121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8B0D-080F-442E-84AE-8ACDD9566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7777440" cy="23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презентация изготовлена учителем математики Сосенской средней щкол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N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радовой Л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и центральная  </a:t>
            </a:r>
            <a:br>
              <a:rPr sz="4400"/>
            </a:b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          симметрии</a:t>
            </a:r>
            <a:r>
              <a:rPr b="1" lang="en-US" sz="4400" spc="-1" strike="noStrike">
                <a:solidFill>
                  <a:srgbClr val="c2022b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>
            <a:off x="2626920" y="2565360"/>
            <a:ext cx="1569960" cy="173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1989000"/>
            <a:ext cx="0" cy="28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обладающие центральной симмет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рами фигур, обладающих центральной симметрией, являю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окружность и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997360"/>
            <a:ext cx="2737080" cy="2592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213000"/>
            <a:ext cx="4464000" cy="2376720"/>
          </a:xfrm>
          <a:prstGeom prst="parallelogram">
            <a:avLst>
              <a:gd name="adj" fmla="val 46955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3213000"/>
            <a:ext cx="216072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3213000"/>
            <a:ext cx="446400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4149720"/>
            <a:ext cx="72720" cy="71280"/>
          </a:xfrm>
          <a:prstGeom prst="flowChartConnector">
            <a:avLst/>
          </a:prstGeom>
          <a:solidFill>
            <a:srgbClr val="99cc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623736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имметрия предметов на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ображения предметов на плоскости из окружающего мира имеет </a:t>
            </a:r>
            <a:r>
              <a:rPr b="0" lang="en-US" sz="2400" spc="-1" strike="noStrike">
                <a:solidFill>
                  <a:srgbClr val="c2022b"/>
                </a:solidFill>
                <a:latin typeface="Arial"/>
              </a:rPr>
              <a:t>ось или центр симметри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                                                                   С симметрией мы встречаемся в природе, быту, архитектуре и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ree"/>
          <p:cNvSpPr/>
          <p:nvPr/>
        </p:nvSpPr>
        <p:spPr>
          <a:xfrm>
            <a:off x="6372360" y="3429000"/>
            <a:ext cx="1809720" cy="29638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237360"/>
            <a:ext cx="2887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бы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465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имметрия в науке и техн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43684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6012000" y="4076640"/>
            <a:ext cx="2775960" cy="2103120"/>
            <a:chOff x="6012000" y="4076640"/>
            <a:chExt cx="2775960" cy="2103120"/>
          </a:xfrm>
        </p:grpSpPr>
        <p:sp>
          <p:nvSpPr>
            <p:cNvPr id="136" name="Gear"/>
            <p:cNvSpPr/>
            <p:nvPr/>
          </p:nvSpPr>
          <p:spPr>
            <a:xfrm>
              <a:off x="7551000" y="4076640"/>
              <a:ext cx="1236960" cy="96444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2000" y="4474080"/>
              <a:ext cx="1478880" cy="115308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1400" y="4899240"/>
              <a:ext cx="1643760" cy="128052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402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архитекту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0880" y="2060640"/>
            <a:ext cx="3084480" cy="367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497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36640"/>
            <a:ext cx="568800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одерж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516640"/>
            <a:ext cx="915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Щелкните мышкой на нужном вам заголовке. Настраиваем ани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</a:t>
            </a: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2022b"/>
                </a:solidFill>
                <a:latin typeface="Arial"/>
              </a:rPr>
              <a:t>2.  Фигуры, содержащие ось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3.  Фигуры, имеющие две оси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4.  Фигуры, имеющие более двух ос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5.  Фигуры, не имеющие осей сим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6.  Центральная симме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7.  Фигура симметричная, относительно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8.  Фигуры, обладающие центральной симмет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9.  Симметрия предметов на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10. Ко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Две точки А и 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называются  </a:t>
            </a:r>
            <a:r>
              <a:rPr b="1" lang="ru-RU" sz="2400" spc="-1" strike="noStrike">
                <a:solidFill>
                  <a:srgbClr val="c2022b"/>
                </a:solidFill>
                <a:latin typeface="Arial"/>
              </a:rPr>
              <a:t>симметричными относительно прямой</a:t>
            </a:r>
            <a:r>
              <a:rPr b="0" lang="en-US" sz="2400" spc="-1" strike="noStrike">
                <a:solidFill>
                  <a:srgbClr val="502be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02bed"/>
                </a:solidFill>
                <a:latin typeface="Monotype Corsiva"/>
              </a:rPr>
              <a:t>a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, если  эта прямая проходит через середину отрезка А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и перпендикулярна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0" idx="1"/>
            <a:endCxn id="50" idx="1"/>
          </p:cNvCxnSpPr>
          <p:nvPr/>
        </p:nvCxnSpPr>
        <p:spPr>
          <a:xfrm>
            <a:off x="323640" y="3892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908000" y="4653000"/>
            <a:ext cx="5472360" cy="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30064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933720"/>
            <a:ext cx="0" cy="14400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532720" y="6165720"/>
            <a:ext cx="289080" cy="360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19">
                <a:moveTo>
                  <a:pt x="3600" y="0"/>
                </a:moveTo>
                <a:arcTo wR="3600" hR="3600" stAng="16200000" swAng="-5400000"/>
                <a:lnTo>
                  <a:pt x="0" y="23319"/>
                </a:lnTo>
                <a:arcTo wR="3600" hR="3600" stAng="10800000" swAng="-5400000"/>
                <a:lnTo>
                  <a:pt x="18000" y="26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22b"/>
                </a:solidFill>
                <a:latin typeface="Arial"/>
              </a:rPr>
              <a:t>Фигуры, содержащие ось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12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прямой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сли  для каждой точки фигуры симметричная ей точка относительно прям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ая фигура обладае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осевой симметрией</a:t>
            </a:r>
            <a:r>
              <a:rPr b="1" lang="en-US" sz="2400" spc="-1" strike="noStrike">
                <a:solidFill>
                  <a:srgbClr val="502be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4365720"/>
            <a:ext cx="19429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5373720"/>
            <a:ext cx="2448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35280" y="4365720"/>
            <a:ext cx="57600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365720"/>
            <a:ext cx="5763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7340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149720"/>
            <a:ext cx="0" cy="180036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24360" y="5157720"/>
            <a:ext cx="2232000" cy="21600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308640"/>
            <a:ext cx="287640" cy="28908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имеющие две оси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ом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 являющиеся квадратами, имею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две оси симметри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365720"/>
            <a:ext cx="2232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997360"/>
            <a:ext cx="0" cy="26650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3141720"/>
            <a:ext cx="0" cy="23032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4221000"/>
            <a:ext cx="3456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18920" y="3141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365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95640" y="4365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195640" y="3141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49417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80360" y="357300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2920" y="35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6308640"/>
            <a:ext cx="215640" cy="3589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22b"/>
                </a:solidFill>
                <a:latin typeface="Arial"/>
              </a:rPr>
              <a:t>Фигуры, имеющие более двух осей симмет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вносторонний треугольник име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тр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и симметрии, а квадрат –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четыр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оси симметрии.    У окружности их бесконечно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мног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любая прямая проходящая через её центр является осью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221000"/>
            <a:ext cx="1800360" cy="1656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5013360"/>
            <a:ext cx="2087640" cy="71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2360" y="4076640"/>
            <a:ext cx="936360" cy="2089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21000"/>
            <a:ext cx="1511280" cy="1440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005360"/>
            <a:ext cx="2016000" cy="194472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03640" y="3933360"/>
            <a:ext cx="2087640" cy="2016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58920" y="4941720"/>
            <a:ext cx="2089080" cy="71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11640" y="4005000"/>
            <a:ext cx="0" cy="1873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4149720"/>
            <a:ext cx="1871640" cy="1655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933720"/>
            <a:ext cx="0" cy="2087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6920" y="4868640"/>
            <a:ext cx="1944720" cy="1081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332000" y="4941360"/>
            <a:ext cx="1800000" cy="1008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32720" y="630864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не имеющие осей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 таким фигурам относя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параллелограм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отличный от прямоугольника,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разносторонни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429000"/>
            <a:ext cx="2160360" cy="2160720"/>
          </a:xfrm>
          <a:prstGeom prst="parallelogram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2565360"/>
            <a:ext cx="2303640" cy="316872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Центральная симме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ве точки А и 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называю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2022b"/>
                </a:solidFill>
                <a:latin typeface="Arial"/>
              </a:rPr>
              <a:t>симметричными относительно 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если О середина отрезка А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r>
              <a:rPr b="0" lang="en-US" sz="2800" spc="-1" strike="noStrike" baseline="-25000">
                <a:solidFill>
                  <a:srgbClr val="c2022b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19280" y="3499920"/>
            <a:ext cx="4464000" cy="180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22936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00280"/>
            <a:ext cx="71280" cy="7164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04360" y="616572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а, симметричная, относительно т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точки 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если для каждой точки фигуры симметричная ей точка относительно точки О также принадлежит этой фигуре. Точка О называется центром симметрии. Такая фигура облада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альной симмет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                      О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ая точка прямой явля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ом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8000" y="4221000"/>
            <a:ext cx="453564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65300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5640" y="6093000"/>
            <a:ext cx="216000" cy="502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02920"/>
              <a:gd name="textAreaBottom" fmla="*/ 492480 h 502920"/>
            </a:gdLst>
            <a:ahLst/>
            <a:rect l="textAreaLeft" t="textAreaTop" r="textAreaRight" b="textAreaBottom"/>
            <a:pathLst>
              <a:path w="21600" h="50244">
                <a:moveTo>
                  <a:pt x="3600" y="0"/>
                </a:moveTo>
                <a:arcTo wR="3600" hR="3600" stAng="16200000" swAng="-5400000"/>
                <a:lnTo>
                  <a:pt x="0" y="46644"/>
                </a:lnTo>
                <a:arcTo wR="3600" hR="3600" stAng="10800000" swAng="-5400000"/>
                <a:lnTo>
                  <a:pt x="18000" y="50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5:25:51Z</dcterms:created>
  <dc:creator>VANO</dc:creator>
  <dc:description/>
  <dc:language>en-US</dc:language>
  <cp:lastModifiedBy>ssh1</cp:lastModifiedBy>
  <dcterms:modified xsi:type="dcterms:W3CDTF">2006-10-30T13:34:16Z</dcterms:modified>
  <cp:revision>22</cp:revision>
  <dc:subject/>
  <dc:title>Слайд 1</dc:title>
</cp:coreProperties>
</file>