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8B5-49CB-4F8B-B16E-1955AC56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513-F5D9-410A-8B3E-03EDA011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8DF-4F44-42DA-9AFB-ADD56397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233-6455-4FE5-BFD3-37BE4610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373-AD26-4F2A-8235-BD097133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745-AEE4-4F4A-90EB-2C397742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0A6-A5FA-4841-83B6-A19E7A6C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80D-0058-4880-9182-FCD98E64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012-E4E9-4F0A-9954-978545A8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943-6277-4B84-B1E7-C73F238D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8AB3-BE6E-4F72-A0E3-6767771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4DF-BC96-427E-9EB8-AFBFFF5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F84F-467E-45A4-AB4E-939E37104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26920" y="3933360"/>
            <a:ext cx="7777440" cy="23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нная презентация изготовлена учителем математики Сосенской средней щкол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N1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Градовой Л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2937"/>
                </a:solidFill>
                <a:latin typeface="Arial"/>
              </a:rPr>
              <a:t>  </a:t>
            </a:r>
            <a:r>
              <a:rPr b="1" i="1" lang="en-US" sz="4400" spc="-1" strike="noStrike">
                <a:solidFill>
                  <a:srgbClr val="c2022b"/>
                </a:solidFill>
                <a:latin typeface="Arial"/>
              </a:rPr>
              <a:t>Осевая и центральная  </a:t>
            </a:r>
            <a:br>
              <a:rPr sz="4400"/>
            </a:br>
            <a:r>
              <a:rPr b="1" i="1" lang="en-US" sz="4400" spc="-1" strike="noStrike">
                <a:solidFill>
                  <a:srgbClr val="c2022b"/>
                </a:solidFill>
                <a:latin typeface="Arial"/>
              </a:rPr>
              <a:t>          симметрии</a:t>
            </a:r>
            <a:r>
              <a:rPr b="1" lang="en-US" sz="4400" spc="-1" strike="noStrike">
                <a:solidFill>
                  <a:srgbClr val="c2022b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ef293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flipH="1">
            <a:off x="2626920" y="2565360"/>
            <a:ext cx="1569960" cy="1730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8000" y="1989000"/>
            <a:ext cx="0" cy="280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ы, обладающие центральной симметр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имерами фигур, обладающих центральной симметрией, являю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окружность и параллел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997360"/>
            <a:ext cx="2737080" cy="2592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213000"/>
            <a:ext cx="4464000" cy="2376720"/>
          </a:xfrm>
          <a:prstGeom prst="parallelogram">
            <a:avLst>
              <a:gd name="adj" fmla="val 46955"/>
            </a:avLst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3213000"/>
            <a:ext cx="2160720" cy="2376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284720" y="3213000"/>
            <a:ext cx="4464000" cy="2376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436572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4149720"/>
            <a:ext cx="72720" cy="71280"/>
          </a:xfrm>
          <a:prstGeom prst="flowChartConnector">
            <a:avLst/>
          </a:prstGeom>
          <a:solidFill>
            <a:srgbClr val="99cc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748720" y="623736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Симметрия предметов на плоск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зображения предметов на плоскости из окружающего мира имеет </a:t>
            </a:r>
            <a:r>
              <a:rPr b="0" lang="en-US" sz="2400" spc="-1" strike="noStrike">
                <a:solidFill>
                  <a:srgbClr val="c2022b"/>
                </a:solidFill>
                <a:latin typeface="Arial"/>
              </a:rPr>
              <a:t>ось или центр симметрии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                                                                   С симметрией мы встречаемся в природе, быту, архитектуре и тех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ree"/>
          <p:cNvSpPr/>
          <p:nvPr/>
        </p:nvSpPr>
        <p:spPr>
          <a:xfrm>
            <a:off x="6372360" y="3429000"/>
            <a:ext cx="1809720" cy="29638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6237360"/>
            <a:ext cx="288720" cy="28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1806480" cy="1578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2592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имметрия в быт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4652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Симметрия в науке и техн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2436840" cy="44640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6012000" y="4076640"/>
            <a:ext cx="2775960" cy="2103120"/>
            <a:chOff x="6012000" y="4076640"/>
            <a:chExt cx="2775960" cy="2103120"/>
          </a:xfrm>
        </p:grpSpPr>
        <p:sp>
          <p:nvSpPr>
            <p:cNvPr id="136" name="Gear"/>
            <p:cNvSpPr/>
            <p:nvPr/>
          </p:nvSpPr>
          <p:spPr>
            <a:xfrm>
              <a:off x="7551000" y="4076640"/>
              <a:ext cx="1236960" cy="964440"/>
            </a:xfrm>
            <a:prstGeom prst="pie">
              <a:avLst/>
            </a:prstGeom>
            <a:solidFill>
              <a:srgbClr val="2674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12000" y="4474080"/>
              <a:ext cx="1478880" cy="1153080"/>
            </a:xfrm>
            <a:prstGeom prst="pie">
              <a:avLst/>
            </a:prstGeom>
            <a:solidFill>
              <a:srgbClr val="2674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71400" y="4899240"/>
              <a:ext cx="1643760" cy="1280520"/>
            </a:xfrm>
            <a:prstGeom prst="pie">
              <a:avLst/>
            </a:prstGeom>
            <a:solidFill>
              <a:srgbClr val="2674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402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имметрия в архитекту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0880" y="2060640"/>
            <a:ext cx="3084480" cy="3673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34970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2636640"/>
            <a:ext cx="5688000" cy="12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Содерж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5516640"/>
            <a:ext cx="915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Щелкните мышкой на нужном вам заголовке. Настраиваем ани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  </a:t>
            </a: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Осевая симмет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2022b"/>
                </a:solidFill>
                <a:latin typeface="Arial"/>
              </a:rPr>
              <a:t>2.  Фигуры, содержащие ось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3.  Фигуры, имеющие две оси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4.  Фигуры, имеющие более двух осей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5.  Фигуры, не имеющие осей симмет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6.  Центральная симметр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7.  Фигура симметричная, относительно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8.  Фигуры, обладающие центральной симмет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9.  Симметрия предметов на плос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2022b"/>
                </a:solidFill>
                <a:latin typeface="Arial"/>
              </a:rPr>
              <a:t>10. Ко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2022b"/>
                </a:solidFill>
                <a:latin typeface="Arial"/>
              </a:rPr>
              <a:t>Осевая симметр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Две точки А и А</a:t>
            </a: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называются  </a:t>
            </a:r>
            <a:r>
              <a:rPr b="1" lang="ru-RU" sz="2400" spc="-1" strike="noStrike">
                <a:solidFill>
                  <a:srgbClr val="c2022b"/>
                </a:solidFill>
                <a:latin typeface="Arial"/>
              </a:rPr>
              <a:t>симметричными относительно прямой</a:t>
            </a:r>
            <a:r>
              <a:rPr b="0" lang="en-US" sz="2400" spc="-1" strike="noStrike">
                <a:solidFill>
                  <a:srgbClr val="502be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502bed"/>
                </a:solidFill>
                <a:latin typeface="Monotype Corsiva"/>
              </a:rPr>
              <a:t>a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, если  эта прямая проходит через середину отрезка АА</a:t>
            </a: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и перпендикулярна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ff"/>
                </a:solidFill>
                <a:latin typeface="Monotype Corsiv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502bed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502be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50" idx="1"/>
            <a:endCxn id="50" idx="1"/>
          </p:cNvCxnSpPr>
          <p:nvPr/>
        </p:nvCxnSpPr>
        <p:spPr>
          <a:xfrm>
            <a:off x="323640" y="3892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1908000" y="4653000"/>
            <a:ext cx="5472360" cy="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3933720"/>
            <a:ext cx="71640" cy="71640"/>
          </a:xfrm>
          <a:prstGeom prst="flowChartConnector">
            <a:avLst/>
          </a:prstGeom>
          <a:solidFill>
            <a:srgbClr val="bbe0e3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5300640"/>
            <a:ext cx="71640" cy="71640"/>
          </a:xfrm>
          <a:prstGeom prst="flowChartConnector">
            <a:avLst/>
          </a:prstGeom>
          <a:solidFill>
            <a:srgbClr val="bbe0e3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88000" y="3933720"/>
            <a:ext cx="0" cy="144000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8532720" y="6165720"/>
            <a:ext cx="289080" cy="36036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19">
                <a:moveTo>
                  <a:pt x="3600" y="0"/>
                </a:moveTo>
                <a:arcTo wR="3600" hR="3600" stAng="16200000" swAng="-5400000"/>
                <a:lnTo>
                  <a:pt x="0" y="23319"/>
                </a:lnTo>
                <a:arcTo wR="3600" hR="3600" stAng="10800000" swAng="-5400000"/>
                <a:lnTo>
                  <a:pt x="18000" y="269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2022b"/>
                </a:solidFill>
                <a:latin typeface="Arial"/>
              </a:rPr>
              <a:t>Фигуры, содержащие ось сим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912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гура называетс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2022b"/>
                </a:solidFill>
                <a:latin typeface="Arial"/>
              </a:rPr>
              <a:t>симметричной относительно прямой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сли  для каждой точки фигуры симметричная ей точка относительно прям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акже принадлежит этой фиг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акая фигура обладае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2022b"/>
                </a:solidFill>
                <a:latin typeface="Arial"/>
              </a:rPr>
              <a:t>осевой симметрией</a:t>
            </a:r>
            <a:r>
              <a:rPr b="1" lang="en-US" sz="2400" spc="-1" strike="noStrike">
                <a:solidFill>
                  <a:srgbClr val="502be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924000" y="4365720"/>
            <a:ext cx="19429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5373720"/>
            <a:ext cx="2448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835280" y="4365720"/>
            <a:ext cx="57600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365720"/>
            <a:ext cx="5763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57340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149720"/>
            <a:ext cx="0" cy="180036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24360" y="5157720"/>
            <a:ext cx="2232000" cy="21600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308640"/>
            <a:ext cx="287640" cy="289080"/>
          </a:xfrm>
          <a:custGeom>
            <a:avLst/>
            <a:gdLst>
              <a:gd name="textAreaLeft" fmla="*/ 14040 w 287640"/>
              <a:gd name="textAreaRight" fmla="*/ 273600 w 28764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ы, имеющие две оси сим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оугольник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ромб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 являющиеся квадратами, имею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две оси симметри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4365720"/>
            <a:ext cx="2232000" cy="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2997360"/>
            <a:ext cx="0" cy="266508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3141720"/>
            <a:ext cx="0" cy="230328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4221000"/>
            <a:ext cx="3456000" cy="0"/>
          </a:xfrm>
          <a:prstGeom prst="line">
            <a:avLst/>
          </a:prstGeom>
          <a:ln w="28440">
            <a:solidFill>
              <a:srgbClr val="c2022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18920" y="3141720"/>
            <a:ext cx="57636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365720"/>
            <a:ext cx="57636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95640" y="4365720"/>
            <a:ext cx="57600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195640" y="3141720"/>
            <a:ext cx="576000" cy="1224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357336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3280" y="494172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380360" y="357300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2920" y="357336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604360" y="6308640"/>
            <a:ext cx="215640" cy="3589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928">
                <a:moveTo>
                  <a:pt x="3600" y="0"/>
                </a:moveTo>
                <a:arcTo wR="3600" hR="3600" stAng="16200000" swAng="-5400000"/>
                <a:lnTo>
                  <a:pt x="0" y="32328"/>
                </a:lnTo>
                <a:arcTo wR="3600" hR="3600" stAng="10800000" swAng="-5400000"/>
                <a:lnTo>
                  <a:pt x="18000" y="35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022b"/>
                </a:solidFill>
                <a:latin typeface="Arial"/>
              </a:rPr>
              <a:t>Фигуры, имеющие более двух осей симмет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вносторонний треугольник имеет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три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си симметрии, а квадрат – </a:t>
            </a:r>
            <a:r>
              <a:rPr b="1" lang="en-US" sz="2400" spc="-1" strike="noStrike">
                <a:solidFill>
                  <a:srgbClr val="c2022b"/>
                </a:solidFill>
                <a:latin typeface="Arial"/>
              </a:rPr>
              <a:t>четыре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оси симметрии.    У окружности их бесконечно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мног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– любая прямая проходящая через её центр является осью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221000"/>
            <a:ext cx="1800360" cy="1656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24360" y="5013360"/>
            <a:ext cx="2087640" cy="712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72360" y="4076640"/>
            <a:ext cx="936360" cy="20890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21000"/>
            <a:ext cx="1511280" cy="1440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005360"/>
            <a:ext cx="2016000" cy="194472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03640" y="3933360"/>
            <a:ext cx="2087640" cy="201636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058920" y="4941720"/>
            <a:ext cx="2089080" cy="7164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211640" y="4005000"/>
            <a:ext cx="0" cy="18730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4149720"/>
            <a:ext cx="1871640" cy="1655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3933720"/>
            <a:ext cx="0" cy="208764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6920" y="4868640"/>
            <a:ext cx="1944720" cy="108108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332000" y="4941360"/>
            <a:ext cx="1800000" cy="100836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32720" y="630864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ы, не имеющие осей симметр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 таким фигурам относя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параллелограмм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отличный от прямоугольника,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разносторонний треуголь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429000"/>
            <a:ext cx="2160360" cy="2160720"/>
          </a:xfrm>
          <a:prstGeom prst="parallelogram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2565360"/>
            <a:ext cx="2303640" cy="3168720"/>
          </a:xfrm>
          <a:prstGeom prst="rtTriangle">
            <a:avLst/>
          </a:prstGeom>
          <a:solidFill>
            <a:srgbClr val="00cc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04360" y="623736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Центральная симметр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ве точки А и А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называю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2022b"/>
                </a:solidFill>
                <a:latin typeface="Arial"/>
              </a:rPr>
              <a:t>симметричными относительно 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если О середина отрезка АА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А</a:t>
            </a:r>
            <a:r>
              <a:rPr b="0" lang="en-US" sz="2800" spc="-1" strike="noStrike" baseline="-25000">
                <a:solidFill>
                  <a:srgbClr val="c2022b"/>
                </a:solidFill>
                <a:latin typeface="Arial"/>
              </a:rPr>
              <a:t>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c2022b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19280" y="3499920"/>
            <a:ext cx="4464000" cy="180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436572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522936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2000" y="3500280"/>
            <a:ext cx="71280" cy="7164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04360" y="6165720"/>
            <a:ext cx="288720" cy="43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306">
                <a:moveTo>
                  <a:pt x="3600" y="0"/>
                </a:moveTo>
                <a:arcTo wR="3600" hR="3600" stAng="16200000" swAng="-5400000"/>
                <a:lnTo>
                  <a:pt x="0" y="28706"/>
                </a:lnTo>
                <a:arcTo wR="3600" hR="3600" stAng="10800000" swAng="-5400000"/>
                <a:lnTo>
                  <a:pt x="18000" y="32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2022b"/>
                </a:solidFill>
                <a:latin typeface="Arial"/>
              </a:rPr>
              <a:t>Фигура, симметричная, относительно точ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игура называе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симметричной относительно точки 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если для каждой точки фигуры симметричная ей точка относительно точки О также принадлежит этой фигуре. Точка О называется центром симметрии. Такая фигура обладает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центральной симмет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                       О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юбая точка прямой является </a:t>
            </a:r>
            <a:r>
              <a:rPr b="1" i="1" lang="en-US" sz="2400" spc="-1" strike="noStrike">
                <a:solidFill>
                  <a:srgbClr val="c2022b"/>
                </a:solidFill>
                <a:latin typeface="Arial"/>
              </a:rPr>
              <a:t>центром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08000" y="4221000"/>
            <a:ext cx="453564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4653000"/>
            <a:ext cx="71280" cy="71280"/>
          </a:xfrm>
          <a:prstGeom prst="flowChartConnector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75640" y="6093000"/>
            <a:ext cx="216000" cy="502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502920"/>
              <a:gd name="textAreaBottom" fmla="*/ 492480 h 502920"/>
            </a:gdLst>
            <a:ahLst/>
            <a:rect l="textAreaLeft" t="textAreaTop" r="textAreaRight" b="textAreaBottom"/>
            <a:pathLst>
              <a:path w="21600" h="50244">
                <a:moveTo>
                  <a:pt x="3600" y="0"/>
                </a:moveTo>
                <a:arcTo wR="3600" hR="3600" stAng="16200000" swAng="-5400000"/>
                <a:lnTo>
                  <a:pt x="0" y="46644"/>
                </a:lnTo>
                <a:arcTo wR="3600" hR="3600" stAng="10800000" swAng="-5400000"/>
                <a:lnTo>
                  <a:pt x="18000" y="502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5:25:51Z</dcterms:created>
  <dc:creator>VANO</dc:creator>
  <dc:description/>
  <dc:language>en-US</dc:language>
  <cp:lastModifiedBy>ssh1</cp:lastModifiedBy>
  <dcterms:modified xsi:type="dcterms:W3CDTF">2006-10-30T13:34:16Z</dcterms:modified>
  <cp:revision>22</cp:revision>
  <dc:subject/>
  <dc:title>Слайд 1</dc:title>
</cp:coreProperties>
</file>