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3B1-3791-4443-81DD-2D0ED801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3DD-2982-4F20-AF76-CD0D5606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A50-FDB2-43B0-9194-9942E54E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C28-1098-4B90-AD6E-AF890389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F836-3B05-4E2D-947B-AB6979DC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A963-354A-4DB3-BD34-B5356F46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0280-3B88-4630-A71D-8C52465B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8FE0-62B9-405D-AFB4-0D01315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930F-6A66-4966-9C08-A181E8C5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3276-66E0-406E-89BC-1B541D98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3718-FC65-4722-9A04-B7EA371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261-8390-44EB-AC02-87824083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50BC-CFE7-48CB-8F0B-B3ADF91D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FE70-7215-445B-BCD0-85FA612D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9E40-0B7A-4AC9-A4BD-F1E422EE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4F07-751E-434F-86ED-3D8353BD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336F-3884-4E34-AD50-6305EF25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1E2-AA02-4CCC-BDC0-124C8786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700-75EB-4CC5-9E99-2D5E101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EB1-6619-40AF-8A54-A85B6860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2906-0104-4E0A-862A-1CF6B2F0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CCC-91F5-4387-AAEF-C9641D7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1F7-7102-4D92-AD90-4771A43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189-AB7E-43C7-942B-357A9D2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0D87-B465-4462-92BC-BAE806040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D11-498E-4653-B066-6362DCEEAD5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990033"/>
                </a:solidFill>
                <a:uFillTx/>
                <a:latin typeface="Monotype Corsiva"/>
              </a:rPr>
              <a:t>Проект </a:t>
            </a:r>
            <a:br>
              <a:rPr sz="8000"/>
            </a:br>
            <a:r>
              <a:rPr b="1" i="1" lang="ru-RU" sz="8000" spc="-1" strike="noStrike" u="sng">
                <a:solidFill>
                  <a:srgbClr val="990033"/>
                </a:solidFill>
                <a:uFillTx/>
                <a:latin typeface="Monotype Corsiva"/>
              </a:rPr>
              <a:t>«Правильная осанка»</a:t>
            </a:r>
            <a:br>
              <a:rPr sz="8000"/>
            </a:br>
            <a:r>
              <a:rPr b="1" i="1" lang="ru-RU" sz="8000" spc="-1" strike="noStrike">
                <a:solidFill>
                  <a:srgbClr val="ffff00"/>
                </a:solidFill>
                <a:latin typeface="Monotype Corsiv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полнили: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учащиеся 8б класс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Морозова Дарь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Вертянк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857760" y="5643720"/>
            <a:ext cx="18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500800" y="5857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 ТКАЧЕНКО МАРИ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Д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Группы рис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ети, родители которых имеют значительные       нарушения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Дети высок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Вундеркинды и дети обучающиеся в элитных шко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портсм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лодые м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Манекенщицы и фотомодели.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Times New Roman"/>
              </a:rPr>
              <a:t>Степени сколи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1 степень"/>
          <p:cNvPicPr/>
          <p:nvPr/>
        </p:nvPicPr>
        <p:blipFill>
          <a:blip r:embed="rId1"/>
          <a:stretch/>
        </p:blipFill>
        <p:spPr>
          <a:xfrm>
            <a:off x="2268360" y="981000"/>
            <a:ext cx="1667160" cy="223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нарушение осанки"/>
          <p:cNvPicPr/>
          <p:nvPr/>
        </p:nvPicPr>
        <p:blipFill>
          <a:blip r:embed="rId2"/>
          <a:stretch/>
        </p:blipFill>
        <p:spPr>
          <a:xfrm>
            <a:off x="324000" y="981000"/>
            <a:ext cx="151272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ск"/>
          <p:cNvPicPr/>
          <p:nvPr/>
        </p:nvPicPr>
        <p:blipFill>
          <a:blip r:embed="rId3"/>
          <a:stretch/>
        </p:blipFill>
        <p:spPr>
          <a:xfrm>
            <a:off x="4572000" y="1184400"/>
            <a:ext cx="3024360" cy="1712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ск"/>
          <p:cNvPicPr/>
          <p:nvPr/>
        </p:nvPicPr>
        <p:blipFill>
          <a:blip r:embed="rId4"/>
          <a:stretch/>
        </p:blipFill>
        <p:spPr>
          <a:xfrm>
            <a:off x="755640" y="4076640"/>
            <a:ext cx="2808360" cy="179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сколиоз 4 степени"/>
          <p:cNvPicPr/>
          <p:nvPr/>
        </p:nvPicPr>
        <p:blipFill>
          <a:blip r:embed="rId5"/>
          <a:stretch/>
        </p:blipFill>
        <p:spPr>
          <a:xfrm>
            <a:off x="4067280" y="3789360"/>
            <a:ext cx="2433600" cy="183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ск"/>
          <p:cNvPicPr/>
          <p:nvPr/>
        </p:nvPicPr>
        <p:blipFill>
          <a:blip r:embed="rId6"/>
          <a:stretch/>
        </p:blipFill>
        <p:spPr>
          <a:xfrm>
            <a:off x="6804000" y="3645000"/>
            <a:ext cx="1531800" cy="2047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0"/>
          <p:cNvSpPr/>
          <p:nvPr/>
        </p:nvSpPr>
        <p:spPr>
          <a:xfrm>
            <a:off x="179280" y="3305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с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2472480" y="33577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5364000" y="3068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1608840" y="60213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001560" y="580536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степ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Диаграмма 15"/>
          <p:cNvGraphicFramePr/>
          <p:nvPr/>
        </p:nvGraphicFramePr>
        <p:xfrm>
          <a:off x="539640" y="692280"/>
          <a:ext cx="7920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Диаграмма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7920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Выяснилось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щихся с хорошей и красивой осанкой практически в школе 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1000967"/>
          <p:cNvPicPr/>
          <p:nvPr/>
        </p:nvPicPr>
        <p:blipFill>
          <a:blip r:embed="rId1"/>
          <a:stretch/>
        </p:blipFill>
        <p:spPr>
          <a:xfrm>
            <a:off x="2355840" y="1989000"/>
            <a:ext cx="427680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 u="sng">
                <a:solidFill>
                  <a:srgbClr val="990033"/>
                </a:solidFill>
                <a:uFillTx/>
                <a:latin typeface="Arial"/>
              </a:rPr>
              <a:t>Лечение сколиоз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- дело длительное и сложное, требующее от врача высокой квалификации и мастерства, а от пациента - терпения, трудолюбия и настойчивост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Занятия лечебной физической 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Администратор\Рабочий стол\лечебная гимнастика, лучебная физкультура, ЛФК, лечение сколиоза, искривление позвоночника, упражнения при сколиозе.files\1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1916280"/>
            <a:ext cx="3816360" cy="25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инистратор\Рабочий стол\лечебная гимнастика, лучебная физкультура, ЛФК, лечение сколиоза, искривление позвоночника, упражнения при сколиозе.files\2.jpg"/>
          <p:cNvPicPr/>
          <p:nvPr/>
        </p:nvPicPr>
        <p:blipFill>
          <a:blip r:embed="rId2"/>
          <a:stretch/>
        </p:blipFill>
        <p:spPr>
          <a:xfrm>
            <a:off x="6227640" y="1628640"/>
            <a:ext cx="2306880" cy="360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физра"/>
          <p:cNvPicPr/>
          <p:nvPr/>
        </p:nvPicPr>
        <p:blipFill>
          <a:blip r:embed="rId3"/>
          <a:stretch/>
        </p:blipFill>
        <p:spPr>
          <a:xfrm>
            <a:off x="3348000" y="4170240"/>
            <a:ext cx="316872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Масса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массаж3"/>
          <p:cNvPicPr/>
          <p:nvPr/>
        </p:nvPicPr>
        <p:blipFill>
          <a:blip r:embed="rId1"/>
          <a:stretch/>
        </p:blipFill>
        <p:spPr>
          <a:xfrm>
            <a:off x="5796000" y="3213000"/>
            <a:ext cx="2881440" cy="231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лечение"/>
          <p:cNvPicPr/>
          <p:nvPr/>
        </p:nvPicPr>
        <p:blipFill>
          <a:blip r:embed="rId2"/>
          <a:stretch/>
        </p:blipFill>
        <p:spPr>
          <a:xfrm>
            <a:off x="3419640" y="1484280"/>
            <a:ext cx="2663640" cy="214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массаж"/>
          <p:cNvPicPr/>
          <p:nvPr/>
        </p:nvPicPr>
        <p:blipFill>
          <a:blip r:embed="rId3"/>
          <a:stretch/>
        </p:blipFill>
        <p:spPr>
          <a:xfrm>
            <a:off x="2987640" y="4581360"/>
            <a:ext cx="2735280" cy="199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массаж2"/>
          <p:cNvPicPr/>
          <p:nvPr/>
        </p:nvPicPr>
        <p:blipFill>
          <a:blip r:embed="rId4"/>
          <a:stretch/>
        </p:blipFill>
        <p:spPr>
          <a:xfrm>
            <a:off x="611280" y="2205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Предлагаемые пути реш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539640" y="1341360"/>
            <a:ext cx="7921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Физиотерап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облюдение правил ортопедического режи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034"/>
          <p:cNvPicPr/>
          <p:nvPr/>
        </p:nvPicPr>
        <p:blipFill>
          <a:blip r:embed="rId1"/>
          <a:stretch/>
        </p:blipFill>
        <p:spPr>
          <a:xfrm>
            <a:off x="3132000" y="1844640"/>
            <a:ext cx="3888000" cy="27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Хотите быть привлекательными</a:t>
            </a: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кр"/>
          <p:cNvPicPr/>
          <p:nvPr/>
        </p:nvPicPr>
        <p:blipFill>
          <a:blip r:embed="rId1"/>
          <a:stretch/>
        </p:blipFill>
        <p:spPr>
          <a:xfrm>
            <a:off x="2124000" y="3933720"/>
            <a:ext cx="1963800" cy="259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кр"/>
          <p:cNvPicPr/>
          <p:nvPr/>
        </p:nvPicPr>
        <p:blipFill>
          <a:blip r:embed="rId2"/>
          <a:stretch/>
        </p:blipFill>
        <p:spPr>
          <a:xfrm>
            <a:off x="5219640" y="3860640"/>
            <a:ext cx="2070000" cy="273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image002"/>
          <p:cNvPicPr/>
          <p:nvPr/>
        </p:nvPicPr>
        <p:blipFill>
          <a:blip r:embed="rId3"/>
          <a:stretch/>
        </p:blipFill>
        <p:spPr>
          <a:xfrm>
            <a:off x="3276720" y="907920"/>
            <a:ext cx="2111400" cy="259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image001"/>
          <p:cNvPicPr/>
          <p:nvPr/>
        </p:nvPicPr>
        <p:blipFill>
          <a:blip r:embed="rId4"/>
          <a:stretch/>
        </p:blipFill>
        <p:spPr>
          <a:xfrm>
            <a:off x="324000" y="836640"/>
            <a:ext cx="233172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факторы"/>
          <p:cNvPicPr/>
          <p:nvPr/>
        </p:nvPicPr>
        <p:blipFill>
          <a:blip r:embed="rId5"/>
          <a:stretch/>
        </p:blipFill>
        <p:spPr>
          <a:xfrm>
            <a:off x="6300720" y="765000"/>
            <a:ext cx="240660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427640" y="1125360"/>
            <a:ext cx="407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ЕДИТ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Е ТОЛЬКО ЗА СВОЕЙ ВНЕШНОСТЬЮ, НО И НОСИТЕ ПРАВИЛЬНУЮ, УДОБНУЮ ОБУ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55640" y="465300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ОСТОПИЕ ОТРИЦАТЕЛЬНО  ВЛИЯЕТ НА ВАШУ ОСА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Плоскостопие"/>
          <p:cNvPicPr/>
          <p:nvPr/>
        </p:nvPicPr>
        <p:blipFill>
          <a:blip r:embed="rId1"/>
          <a:stretch/>
        </p:blipFill>
        <p:spPr>
          <a:xfrm>
            <a:off x="5435640" y="3573360"/>
            <a:ext cx="2448000" cy="2702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Администратор\Рабочий стол\Позвоночник_ Сколиоз, лечение  Болезни.files\img125.jpg"/>
          <p:cNvPicPr/>
          <p:nvPr/>
        </p:nvPicPr>
        <p:blipFill>
          <a:blip r:embed="rId2"/>
          <a:stretch/>
        </p:blipFill>
        <p:spPr>
          <a:xfrm>
            <a:off x="684360" y="987480"/>
            <a:ext cx="295092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33"/>
                </a:solidFill>
                <a:uFillTx/>
                <a:latin typeface="Arial"/>
              </a:rPr>
              <a:t>Цель 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Monotype Corsiva"/>
              </a:rPr>
              <a:t>Рассмотреть пути решения проблемы, связанной с нарушением осанки у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2852640"/>
            <a:ext cx="828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Задачи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. Изучить теоретический материал по исследуем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2.Посетить медицинское отделение санаторной- школы интернат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3.Выявить  состояние здоровья обучающихся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4.Раскрыть значимость хорошей оса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5.Представить творческий отчёт по результатам исследования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356000" y="234936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глашаем вас на свои уроки ЛФ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Documents and Settings\Администратор\Рабочий стол\Дыхательные упражнения лечебной гимнастики А_ Н_ Стрельниковой at Muzruk_Info.files\strelnikova9-150x150.jpg"/>
          <p:cNvPicPr/>
          <p:nvPr/>
        </p:nvPicPr>
        <p:blipFill>
          <a:blip r:embed="rId1"/>
          <a:stretch/>
        </p:blipFill>
        <p:spPr>
          <a:xfrm>
            <a:off x="395280" y="981000"/>
            <a:ext cx="2664000" cy="3571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4716360" y="1125360"/>
            <a:ext cx="38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быть красивыми и стройными, мы со своим учителем Ткаченко М.Г. занимаемся на уроках лечебной физкультуры дыхательной гимнастикой по системе Стрельник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strelnikova5"/>
          <p:cNvPicPr/>
          <p:nvPr/>
        </p:nvPicPr>
        <p:blipFill>
          <a:blip r:embed="rId2"/>
          <a:stretch/>
        </p:blipFill>
        <p:spPr>
          <a:xfrm>
            <a:off x="5508720" y="3860640"/>
            <a:ext cx="3333600" cy="244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trelnikova3"/>
          <p:cNvPicPr/>
          <p:nvPr/>
        </p:nvPicPr>
        <p:blipFill>
          <a:blip r:embed="rId3"/>
          <a:stretch/>
        </p:blipFill>
        <p:spPr>
          <a:xfrm>
            <a:off x="971640" y="436572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яя все наставления медиков  и   соблюдая гигиенические требовани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будете здоровыми и привлекательн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Гипотеза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мнению многих людей, красивая и хорошая осанка не так важна для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кр"/>
          <p:cNvPicPr/>
          <p:nvPr/>
        </p:nvPicPr>
        <p:blipFill>
          <a:blip r:embed="rId1"/>
          <a:stretch/>
        </p:blipFill>
        <p:spPr>
          <a:xfrm>
            <a:off x="611280" y="3716280"/>
            <a:ext cx="158436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р"/>
          <p:cNvPicPr/>
          <p:nvPr/>
        </p:nvPicPr>
        <p:blipFill>
          <a:blip r:embed="rId2"/>
          <a:stretch/>
        </p:blipFill>
        <p:spPr>
          <a:xfrm>
            <a:off x="2700360" y="4581360"/>
            <a:ext cx="1779480" cy="1943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кр"/>
          <p:cNvPicPr/>
          <p:nvPr/>
        </p:nvPicPr>
        <p:blipFill>
          <a:blip r:embed="rId3"/>
          <a:stretch/>
        </p:blipFill>
        <p:spPr>
          <a:xfrm>
            <a:off x="4979880" y="3213000"/>
            <a:ext cx="1454400" cy="216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кр"/>
          <p:cNvPicPr/>
          <p:nvPr/>
        </p:nvPicPr>
        <p:blipFill>
          <a:blip r:embed="rId4"/>
          <a:stretch/>
        </p:blipFill>
        <p:spPr>
          <a:xfrm>
            <a:off x="7020000" y="4365720"/>
            <a:ext cx="165564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</a:rPr>
              <a:t>Актуальност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84428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, выбранная нами, тесно связана с назначением нашей школы и не только. Большинство подростков не придают значения правильной осанке (сидя, стоя, лежа, своей походке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Методы исследования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, статис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Способы обработки информации: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гументированные вы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33"/>
                </a:solidFill>
                <a:uFillTx/>
                <a:latin typeface="Arial"/>
              </a:rPr>
              <a:t>Основ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то такое сколиоз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рушение осанки и здоровь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ути решения проблемы нарушения оса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image005"/>
          <p:cNvPicPr/>
          <p:nvPr/>
        </p:nvPicPr>
        <p:blipFill>
          <a:blip r:embed="rId1"/>
          <a:stretch/>
        </p:blipFill>
        <p:spPr>
          <a:xfrm>
            <a:off x="6804000" y="3573360"/>
            <a:ext cx="2155680" cy="281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сколиоз"/>
          <p:cNvPicPr/>
          <p:nvPr/>
        </p:nvPicPr>
        <p:blipFill>
          <a:blip r:embed="rId2"/>
          <a:stretch/>
        </p:blipFill>
        <p:spPr>
          <a:xfrm>
            <a:off x="324000" y="4059360"/>
            <a:ext cx="2952720" cy="23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сколиоз у детей"/>
          <p:cNvPicPr/>
          <p:nvPr/>
        </p:nvPicPr>
        <p:blipFill>
          <a:blip r:embed="rId3"/>
          <a:stretch/>
        </p:blipFill>
        <p:spPr>
          <a:xfrm>
            <a:off x="3419640" y="2924280"/>
            <a:ext cx="3213000" cy="25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 rot="10800000">
            <a:off x="9143280" y="3500280"/>
            <a:ext cx="74520" cy="11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560" y="333360"/>
            <a:ext cx="8497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800000"/>
                </a:solidFill>
                <a:uFillTx/>
                <a:latin typeface="Monotype Corsiva"/>
              </a:rPr>
              <a:t>Сколиоз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– от (греческого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oliosis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что означает искривление)- искривление позвоночника во фронтальной плоскости. Термин введён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К Гален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50920" y="321300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лят  сколиозы на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этот вид искривлений зависит от врожденного недоразвития позвоночника или ребер)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иобретенны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ris3"/>
          <p:cNvPicPr/>
          <p:nvPr/>
        </p:nvPicPr>
        <p:blipFill>
          <a:blip r:embed="rId1"/>
          <a:stretch/>
        </p:blipFill>
        <p:spPr>
          <a:xfrm>
            <a:off x="1325520" y="4437000"/>
            <a:ext cx="1455840" cy="208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ris4"/>
          <p:cNvPicPr/>
          <p:nvPr/>
        </p:nvPicPr>
        <p:blipFill>
          <a:blip r:embed="rId2"/>
          <a:stretch/>
        </p:blipFill>
        <p:spPr>
          <a:xfrm>
            <a:off x="5580000" y="4437000"/>
            <a:ext cx="1467000" cy="217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3"/>
          <p:cNvSpPr/>
          <p:nvPr/>
        </p:nvSpPr>
        <p:spPr>
          <a:xfrm>
            <a:off x="2771640" y="5875560"/>
            <a:ext cx="24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6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хдужны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ио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7093080" y="61452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63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хдужный сколи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ОЛИ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локализации вершины искрив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Верхнегрудно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составляет 1,3-3,6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Грудно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(21,7-42,9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Грудо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15,8-24,7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 (8,8-24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Комбинированный: грудной и поясничный</a:t>
            </a:r>
            <a:r>
              <a:rPr b="1" i="1" lang="ru-RU" sz="3600" spc="-1" strike="noStrike">
                <a:solidFill>
                  <a:srgbClr val="990000"/>
                </a:solidFill>
                <a:latin typeface="Monotype Corsiva"/>
              </a:rPr>
              <a:t> -(16,7-37% от всех типов сколи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Происхождение нарушений позвоноч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ождённые деф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овые трав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уцированные нару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нообразные травмы позвоно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дствия оперативных вмешательств и ож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овые грыжи и ущемления крупных нер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мерно быстрый рост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еохондропа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сколиоз1"/>
          <p:cNvPicPr/>
          <p:nvPr/>
        </p:nvPicPr>
        <p:blipFill>
          <a:blip r:embed="rId1"/>
          <a:stretch/>
        </p:blipFill>
        <p:spPr>
          <a:xfrm>
            <a:off x="6588000" y="1413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позвоночник"/>
          <p:cNvPicPr/>
          <p:nvPr/>
        </p:nvPicPr>
        <p:blipFill>
          <a:blip r:embed="rId2"/>
          <a:stretch/>
        </p:blipFill>
        <p:spPr>
          <a:xfrm>
            <a:off x="6948360" y="4797360"/>
            <a:ext cx="201636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7:27:32Z</dcterms:created>
  <dc:creator>comp</dc:creator>
  <dc:description/>
  <dc:language>en-US</dc:language>
  <cp:lastModifiedBy>Dom</cp:lastModifiedBy>
  <dcterms:modified xsi:type="dcterms:W3CDTF">2010-04-23T18:22:50Z</dcterms:modified>
  <cp:revision>29</cp:revision>
  <dc:subject/>
  <dc:title>Искривление осанки.</dc:title>
</cp:coreProperties>
</file>