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26F-E0DE-41A8-9D70-3C2FC4F4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8A7-A346-44E9-81DB-F96F74C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145-DE17-496E-8143-CE57CB47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289-68E0-4B43-B1A3-D9F09DD0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E005-3CBB-476A-8D97-B10300A4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C9DD-2148-4373-9DD3-9B3696CA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91DF-CC78-43B5-8099-CFC4592B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9B99-1B21-4A1C-84A9-0F6A4DC5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D284-51A3-41D0-B2D1-D7F16C3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05E-B489-4E28-B604-1375B04B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9D85-ABAD-41B5-B99E-FC4CB84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8DF-1A5F-4F36-9B72-925B45FF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793D-1AA9-420D-961D-60C1CDC6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B0B8-5940-4AE6-9B0E-483E88B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AF8E-EC72-45AC-884E-237E534D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3F07-3FC4-44C9-A610-F600DFF7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0B06-ECCF-4170-ACA2-D68F03A4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E83-9C65-4B51-9A9E-676D8CF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6E0-9D2C-490D-85A0-7D99E60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F44-986A-4448-9AD5-0900F0A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A6D-74BB-478F-9ACD-51D4B2C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4E4-A191-4254-AA0F-E781E06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528-2A65-4F95-9806-8516CCE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45A-BD16-4FCE-9142-51C4D5E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E62B-F00D-444C-AFC1-BC49EEA3F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D13-42E5-432B-BA95-FA6DDD1D21F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990033"/>
                </a:solidFill>
                <a:uFillTx/>
                <a:latin typeface="Monotype Corsiva"/>
              </a:rPr>
              <a:t>Проект </a:t>
            </a:r>
            <a:br>
              <a:rPr sz="8000"/>
            </a:br>
            <a:r>
              <a:rPr b="1" i="1" lang="ru-RU" sz="8000" spc="-1" strike="noStrike" u="sng">
                <a:solidFill>
                  <a:srgbClr val="990033"/>
                </a:solidFill>
                <a:uFillTx/>
                <a:latin typeface="Monotype Corsiva"/>
              </a:rPr>
              <a:t>«Правильная осанка»</a:t>
            </a:r>
            <a:br>
              <a:rPr sz="8000"/>
            </a:br>
            <a:r>
              <a:rPr b="1" i="1" lang="ru-RU" sz="80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полнили: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учащиеся 8б клас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Морозова Дарь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Вертянк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857760" y="564372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500800" y="5857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ТКАЧЕНКО МАРИ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Д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Группы рис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ти, родители которых имеют значительные       нарушения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Дети высок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Вундеркинды и дети обучающиеся в элитных шко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портсм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лодые м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Манекенщицы и фотомодели.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Степени сколи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1 степень"/>
          <p:cNvPicPr/>
          <p:nvPr/>
        </p:nvPicPr>
        <p:blipFill>
          <a:blip r:embed="rId1"/>
          <a:stretch/>
        </p:blipFill>
        <p:spPr>
          <a:xfrm>
            <a:off x="2268360" y="981000"/>
            <a:ext cx="1667160" cy="223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нарушение осанки"/>
          <p:cNvPicPr/>
          <p:nvPr/>
        </p:nvPicPr>
        <p:blipFill>
          <a:blip r:embed="rId2"/>
          <a:stretch/>
        </p:blipFill>
        <p:spPr>
          <a:xfrm>
            <a:off x="324000" y="981000"/>
            <a:ext cx="151272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ск"/>
          <p:cNvPicPr/>
          <p:nvPr/>
        </p:nvPicPr>
        <p:blipFill>
          <a:blip r:embed="rId3"/>
          <a:stretch/>
        </p:blipFill>
        <p:spPr>
          <a:xfrm>
            <a:off x="4572000" y="1184400"/>
            <a:ext cx="3024360" cy="171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ск"/>
          <p:cNvPicPr/>
          <p:nvPr/>
        </p:nvPicPr>
        <p:blipFill>
          <a:blip r:embed="rId4"/>
          <a:stretch/>
        </p:blipFill>
        <p:spPr>
          <a:xfrm>
            <a:off x="755640" y="4076640"/>
            <a:ext cx="2808360" cy="179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сколиоз 4 степени"/>
          <p:cNvPicPr/>
          <p:nvPr/>
        </p:nvPicPr>
        <p:blipFill>
          <a:blip r:embed="rId5"/>
          <a:stretch/>
        </p:blipFill>
        <p:spPr>
          <a:xfrm>
            <a:off x="4067280" y="3789360"/>
            <a:ext cx="2433600" cy="183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ск"/>
          <p:cNvPicPr/>
          <p:nvPr/>
        </p:nvPicPr>
        <p:blipFill>
          <a:blip r:embed="rId6"/>
          <a:stretch/>
        </p:blipFill>
        <p:spPr>
          <a:xfrm>
            <a:off x="6804000" y="3645000"/>
            <a:ext cx="1531800" cy="2047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0"/>
          <p:cNvSpPr/>
          <p:nvPr/>
        </p:nvSpPr>
        <p:spPr>
          <a:xfrm>
            <a:off x="179280" y="3305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472480" y="33577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364000" y="3068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1608840" y="60213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001560" y="58053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Диаграмма 15"/>
          <p:cNvGraphicFramePr/>
          <p:nvPr/>
        </p:nvGraphicFramePr>
        <p:xfrm>
          <a:off x="539640" y="692280"/>
          <a:ext cx="7920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Диаграмма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7920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Выяснилось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щихся с хорошей и красивой осанкой практически в школе 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1000967"/>
          <p:cNvPicPr/>
          <p:nvPr/>
        </p:nvPicPr>
        <p:blipFill>
          <a:blip r:embed="rId1"/>
          <a:stretch/>
        </p:blipFill>
        <p:spPr>
          <a:xfrm>
            <a:off x="2355840" y="1989000"/>
            <a:ext cx="42768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 u="sng">
                <a:solidFill>
                  <a:srgbClr val="990033"/>
                </a:solidFill>
                <a:uFillTx/>
                <a:latin typeface="Arial"/>
              </a:rPr>
              <a:t>Лечение сколиоз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- дело длительное и сложное, требующее от врача высокой квалификации и мастерства, а от пациента - терпения, трудолюбия и настойчивост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Занятия лечебной физической 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Администратор\Рабочий стол\лечебная гимнастика, лучебная физкультура, ЛФК, лечение сколиоза, искривление позвоночника, упражнения при сколиозе.files\1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1916280"/>
            <a:ext cx="3816360" cy="25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инистратор\Рабочий стол\лечебная гимнастика, лучебная физкультура, ЛФК, лечение сколиоза, искривление позвоночника, упражнения при сколиозе.files\2.jpg"/>
          <p:cNvPicPr/>
          <p:nvPr/>
        </p:nvPicPr>
        <p:blipFill>
          <a:blip r:embed="rId2"/>
          <a:stretch/>
        </p:blipFill>
        <p:spPr>
          <a:xfrm>
            <a:off x="6227640" y="1628640"/>
            <a:ext cx="2306880" cy="360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физра"/>
          <p:cNvPicPr/>
          <p:nvPr/>
        </p:nvPicPr>
        <p:blipFill>
          <a:blip r:embed="rId3"/>
          <a:stretch/>
        </p:blipFill>
        <p:spPr>
          <a:xfrm>
            <a:off x="3348000" y="4170240"/>
            <a:ext cx="316872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Масса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массаж3"/>
          <p:cNvPicPr/>
          <p:nvPr/>
        </p:nvPicPr>
        <p:blipFill>
          <a:blip r:embed="rId1"/>
          <a:stretch/>
        </p:blipFill>
        <p:spPr>
          <a:xfrm>
            <a:off x="5796000" y="3213000"/>
            <a:ext cx="2881440" cy="231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лечение"/>
          <p:cNvPicPr/>
          <p:nvPr/>
        </p:nvPicPr>
        <p:blipFill>
          <a:blip r:embed="rId2"/>
          <a:stretch/>
        </p:blipFill>
        <p:spPr>
          <a:xfrm>
            <a:off x="3419640" y="1484280"/>
            <a:ext cx="2663640" cy="214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массаж"/>
          <p:cNvPicPr/>
          <p:nvPr/>
        </p:nvPicPr>
        <p:blipFill>
          <a:blip r:embed="rId3"/>
          <a:stretch/>
        </p:blipFill>
        <p:spPr>
          <a:xfrm>
            <a:off x="2987640" y="4581360"/>
            <a:ext cx="2735280" cy="199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массаж2"/>
          <p:cNvPicPr/>
          <p:nvPr/>
        </p:nvPicPr>
        <p:blipFill>
          <a:blip r:embed="rId4"/>
          <a:stretch/>
        </p:blipFill>
        <p:spPr>
          <a:xfrm>
            <a:off x="611280" y="220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9640" y="1341360"/>
            <a:ext cx="7921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Физиотерап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облюдение правил ортопедического режи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034"/>
          <p:cNvPicPr/>
          <p:nvPr/>
        </p:nvPicPr>
        <p:blipFill>
          <a:blip r:embed="rId1"/>
          <a:stretch/>
        </p:blipFill>
        <p:spPr>
          <a:xfrm>
            <a:off x="3132000" y="1844640"/>
            <a:ext cx="3888000" cy="27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Хотите быть привлекательными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кр"/>
          <p:cNvPicPr/>
          <p:nvPr/>
        </p:nvPicPr>
        <p:blipFill>
          <a:blip r:embed="rId1"/>
          <a:stretch/>
        </p:blipFill>
        <p:spPr>
          <a:xfrm>
            <a:off x="2124000" y="3933720"/>
            <a:ext cx="196380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кр"/>
          <p:cNvPicPr/>
          <p:nvPr/>
        </p:nvPicPr>
        <p:blipFill>
          <a:blip r:embed="rId2"/>
          <a:stretch/>
        </p:blipFill>
        <p:spPr>
          <a:xfrm>
            <a:off x="5219640" y="3860640"/>
            <a:ext cx="2070000" cy="273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image002"/>
          <p:cNvPicPr/>
          <p:nvPr/>
        </p:nvPicPr>
        <p:blipFill>
          <a:blip r:embed="rId3"/>
          <a:stretch/>
        </p:blipFill>
        <p:spPr>
          <a:xfrm>
            <a:off x="3276720" y="907920"/>
            <a:ext cx="2111400" cy="259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image001"/>
          <p:cNvPicPr/>
          <p:nvPr/>
        </p:nvPicPr>
        <p:blipFill>
          <a:blip r:embed="rId4"/>
          <a:stretch/>
        </p:blipFill>
        <p:spPr>
          <a:xfrm>
            <a:off x="324000" y="836640"/>
            <a:ext cx="233172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факторы"/>
          <p:cNvPicPr/>
          <p:nvPr/>
        </p:nvPicPr>
        <p:blipFill>
          <a:blip r:embed="rId5"/>
          <a:stretch/>
        </p:blipFill>
        <p:spPr>
          <a:xfrm>
            <a:off x="6300720" y="765000"/>
            <a:ext cx="240660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427640" y="1125360"/>
            <a:ext cx="407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ЕДИТ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Е ТОЛЬКО ЗА СВОЕЙ ВНЕШНОСТЬЮ, НО И НОСИТЕ ПРАВИЛЬНУЮ, УДОБНУЮ ОБУ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55640" y="465300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ОПИЕ ОТРИЦАТЕЛЬНО  ВЛИЯЕТ НА ВАШУ ОСА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Плоскостопие"/>
          <p:cNvPicPr/>
          <p:nvPr/>
        </p:nvPicPr>
        <p:blipFill>
          <a:blip r:embed="rId1"/>
          <a:stretch/>
        </p:blipFill>
        <p:spPr>
          <a:xfrm>
            <a:off x="5435640" y="3573360"/>
            <a:ext cx="2448000" cy="2702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Администратор\Рабочий стол\Позвоночник_ Сколиоз, лечение  Болезни.files\img125.jpg"/>
          <p:cNvPicPr/>
          <p:nvPr/>
        </p:nvPicPr>
        <p:blipFill>
          <a:blip r:embed="rId2"/>
          <a:stretch/>
        </p:blipFill>
        <p:spPr>
          <a:xfrm>
            <a:off x="684360" y="987480"/>
            <a:ext cx="29509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Цель 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Monotype Corsiva"/>
              </a:rPr>
              <a:t>Рассмотреть пути решения проблемы, связанной с нарушением осанки у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2852640"/>
            <a:ext cx="828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Задачи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. Изучить теоретический материал по исследуем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2.Посетить медицинское отделение санаторной- школы интернат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3.Выявить  состояние здоровья обучающихс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4.Раскрыть значимость хорошей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5.Представить творческий отчёт по результатам исследования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356000" y="234936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глашаем вас на свои уроки ЛФ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Documents and Settings\Администратор\Рабочий стол\Дыхательные упражнения лечебной гимнастики А_ Н_ Стрельниковой at Muzruk_Info.files\strelnikova9-150x150.jpg"/>
          <p:cNvPicPr/>
          <p:nvPr/>
        </p:nvPicPr>
        <p:blipFill>
          <a:blip r:embed="rId1"/>
          <a:stretch/>
        </p:blipFill>
        <p:spPr>
          <a:xfrm>
            <a:off x="395280" y="981000"/>
            <a:ext cx="2664000" cy="3571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4716360" y="1125360"/>
            <a:ext cx="38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быть красивыми и стройными, мы со своим учителем Ткаченко М.Г. занимаемся на уроках лечебной физкультуры дыхательной гимнастикой по системе Стрельник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strelnikova5"/>
          <p:cNvPicPr/>
          <p:nvPr/>
        </p:nvPicPr>
        <p:blipFill>
          <a:blip r:embed="rId2"/>
          <a:stretch/>
        </p:blipFill>
        <p:spPr>
          <a:xfrm>
            <a:off x="5508720" y="3860640"/>
            <a:ext cx="333360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trelnikova3"/>
          <p:cNvPicPr/>
          <p:nvPr/>
        </p:nvPicPr>
        <p:blipFill>
          <a:blip r:embed="rId3"/>
          <a:stretch/>
        </p:blipFill>
        <p:spPr>
          <a:xfrm>
            <a:off x="971640" y="436572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яя все наставления медиков  и   соблюдая гигиенические требовани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будете здоровыми и привлекательн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Гипотеза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мнению многих людей, красивая и хорошая осанка не так важна для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р"/>
          <p:cNvPicPr/>
          <p:nvPr/>
        </p:nvPicPr>
        <p:blipFill>
          <a:blip r:embed="rId1"/>
          <a:stretch/>
        </p:blipFill>
        <p:spPr>
          <a:xfrm>
            <a:off x="611280" y="3716280"/>
            <a:ext cx="158436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р"/>
          <p:cNvPicPr/>
          <p:nvPr/>
        </p:nvPicPr>
        <p:blipFill>
          <a:blip r:embed="rId2"/>
          <a:stretch/>
        </p:blipFill>
        <p:spPr>
          <a:xfrm>
            <a:off x="2700360" y="4581360"/>
            <a:ext cx="177948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кр"/>
          <p:cNvPicPr/>
          <p:nvPr/>
        </p:nvPicPr>
        <p:blipFill>
          <a:blip r:embed="rId3"/>
          <a:stretch/>
        </p:blipFill>
        <p:spPr>
          <a:xfrm>
            <a:off x="4979880" y="3213000"/>
            <a:ext cx="1454400" cy="216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кр"/>
          <p:cNvPicPr/>
          <p:nvPr/>
        </p:nvPicPr>
        <p:blipFill>
          <a:blip r:embed="rId4"/>
          <a:stretch/>
        </p:blipFill>
        <p:spPr>
          <a:xfrm>
            <a:off x="7020000" y="4365720"/>
            <a:ext cx="165564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</a:rPr>
              <a:t>Актуальност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84428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, выбранная нами, тесно связана с назначением нашей школы и не только. Большинство подростков не придают значения правильной осанке (сидя, стоя, лежа, своей походке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Методы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, статис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Способы обработки информации: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гументированны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Основ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то такое сколиоз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рушение осанки и здоровь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ути решения проблемы нарушения оса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image005"/>
          <p:cNvPicPr/>
          <p:nvPr/>
        </p:nvPicPr>
        <p:blipFill>
          <a:blip r:embed="rId1"/>
          <a:stretch/>
        </p:blipFill>
        <p:spPr>
          <a:xfrm>
            <a:off x="6804000" y="3573360"/>
            <a:ext cx="2155680" cy="281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сколиоз"/>
          <p:cNvPicPr/>
          <p:nvPr/>
        </p:nvPicPr>
        <p:blipFill>
          <a:blip r:embed="rId2"/>
          <a:stretch/>
        </p:blipFill>
        <p:spPr>
          <a:xfrm>
            <a:off x="324000" y="4059360"/>
            <a:ext cx="2952720" cy="23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сколиоз у детей"/>
          <p:cNvPicPr/>
          <p:nvPr/>
        </p:nvPicPr>
        <p:blipFill>
          <a:blip r:embed="rId3"/>
          <a:stretch/>
        </p:blipFill>
        <p:spPr>
          <a:xfrm>
            <a:off x="3419640" y="2924280"/>
            <a:ext cx="3213000" cy="25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 rot="10800000">
            <a:off x="9143280" y="3500280"/>
            <a:ext cx="74520" cy="11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560" y="333360"/>
            <a:ext cx="8497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800000"/>
                </a:solidFill>
                <a:uFillTx/>
                <a:latin typeface="Monotype Corsiva"/>
              </a:rPr>
              <a:t>Сколиоз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– от (греческого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oliosis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что означает искривление)- искривление позвоночника во фронтальной плоскости. Термин введён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К Гален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50920" y="321300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лят  сколиозы на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этот вид искривлений зависит от врожденного недоразвития позвоночника или ребер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иобретенны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ris3"/>
          <p:cNvPicPr/>
          <p:nvPr/>
        </p:nvPicPr>
        <p:blipFill>
          <a:blip r:embed="rId1"/>
          <a:stretch/>
        </p:blipFill>
        <p:spPr>
          <a:xfrm>
            <a:off x="1325520" y="4437000"/>
            <a:ext cx="145584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ris4"/>
          <p:cNvPicPr/>
          <p:nvPr/>
        </p:nvPicPr>
        <p:blipFill>
          <a:blip r:embed="rId2"/>
          <a:stretch/>
        </p:blipFill>
        <p:spPr>
          <a:xfrm>
            <a:off x="5580000" y="4437000"/>
            <a:ext cx="1467000" cy="217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1640" y="587556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6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хдужны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ио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7093080" y="61452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6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хдужный сколи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ОЛИ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локализации вершины искрив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Верхнегрудно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составляет 1,3-3,6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Грудно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(21,7-42,9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Грудо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15,8-24,7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8,8-24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Комбинированный: грудной и 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(16,7-37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Происхождение нарушений позвоноч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ождённые деф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овые трав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уцированные нару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ообразные травмы позвон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дствия оперативных вмешательств и ож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овые грыжи и ущемления крупных нер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мерно быстрый рост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еохондропа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колиоз1"/>
          <p:cNvPicPr/>
          <p:nvPr/>
        </p:nvPicPr>
        <p:blipFill>
          <a:blip r:embed="rId1"/>
          <a:stretch/>
        </p:blipFill>
        <p:spPr>
          <a:xfrm>
            <a:off x="6588000" y="1413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позвоночник"/>
          <p:cNvPicPr/>
          <p:nvPr/>
        </p:nvPicPr>
        <p:blipFill>
          <a:blip r:embed="rId2"/>
          <a:stretch/>
        </p:blipFill>
        <p:spPr>
          <a:xfrm>
            <a:off x="6948360" y="4797360"/>
            <a:ext cx="201636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7:27:32Z</dcterms:created>
  <dc:creator>comp</dc:creator>
  <dc:description/>
  <dc:language>en-US</dc:language>
  <cp:lastModifiedBy>Dom</cp:lastModifiedBy>
  <dcterms:modified xsi:type="dcterms:W3CDTF">2010-04-23T18:22:50Z</dcterms:modified>
  <cp:revision>29</cp:revision>
  <dc:subject/>
  <dc:title>Искривление осанки.</dc:title>
</cp:coreProperties>
</file>