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7FA-6693-4487-A784-23D37866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2A9-8684-4DFE-AF89-37BED6B6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407-5EB9-420C-A717-85B5D3AD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B6A-9B34-4DE0-ACE3-3EB58F8A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7D6D-A6D4-418B-A38E-97274E10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DD23-6ED1-44F8-8190-92E72BD8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645C-9377-4BDD-9A3F-119C0595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4365-FBD8-4D96-BC64-794E1ABE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4B60-9D39-4F3F-B978-24E09EE2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87D0-270F-4878-AF49-5AF7CC68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DE17-B228-496C-B0D8-54BDA79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B1F-0474-4B89-9763-2A802ED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9955-8F0C-4042-9B2E-3C8D5612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8621-6883-4F16-898E-6352E09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AE71-2B5E-482B-B5F1-3BE20CD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8B6F-8854-4FAB-9613-C44B0BD2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1B4D-5313-441D-B3CF-775F0063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C49-EB80-4CDA-ACFC-E8EEDE6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464-2D86-4DF4-A04D-E1E2C105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5BE-8ADC-472B-8247-C69CDFD6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7D8-0B5D-4F6F-B8B0-01C405C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257-4F98-447C-99F5-32E11EE6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EB3-77DC-4173-A23D-AA3B09B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092-16F8-4471-B5CC-123762F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563-AE7F-40B5-A75D-488E1CFA9A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75C5-5C5C-4A83-80FD-DBD0AC49A7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Описанная окружност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16360" y="2781360"/>
            <a:ext cx="3073320" cy="2951280"/>
            <a:chOff x="2916360" y="2781360"/>
            <a:chExt cx="3073320" cy="2951280"/>
          </a:xfrm>
        </p:grpSpPr>
        <p:sp>
          <p:nvSpPr>
            <p:cNvPr id="92" name=""/>
            <p:cNvSpPr/>
            <p:nvPr/>
          </p:nvSpPr>
          <p:spPr>
            <a:xfrm>
              <a:off x="2916360" y="2781360"/>
              <a:ext cx="3073320" cy="2951280"/>
            </a:xfrm>
            <a:prstGeom prst="ellipse">
              <a:avLst/>
            </a:prstGeom>
            <a:solidFill>
              <a:srgbClr val="eeb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3640" y="2781360"/>
              <a:ext cx="2520720" cy="2303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470680" y="20016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ш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22120" y="1341360"/>
            <a:ext cx="3435120" cy="3009960"/>
            <a:chOff x="222120" y="1341360"/>
            <a:chExt cx="3435120" cy="3009960"/>
          </a:xfrm>
        </p:grpSpPr>
        <p:sp>
          <p:nvSpPr>
            <p:cNvPr id="435" name=""/>
            <p:cNvSpPr/>
            <p:nvPr/>
          </p:nvSpPr>
          <p:spPr>
            <a:xfrm>
              <a:off x="595440" y="1685880"/>
              <a:ext cx="2700360" cy="266544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95440" y="1795680"/>
              <a:ext cx="2663640" cy="1547640"/>
              <a:chOff x="595440" y="1795680"/>
              <a:chExt cx="2663640" cy="1547640"/>
            </a:xfrm>
          </p:grpSpPr>
          <p:sp>
            <p:nvSpPr>
              <p:cNvPr id="437" name=""/>
              <p:cNvSpPr/>
              <p:nvPr/>
            </p:nvSpPr>
            <p:spPr>
              <a:xfrm flipH="1">
                <a:off x="595440" y="1795680"/>
                <a:ext cx="792000" cy="147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87440" y="1795680"/>
                <a:ext cx="162072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95440" y="3235320"/>
                <a:ext cx="266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08160" y="2154240"/>
                <a:ext cx="250920" cy="11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601720" y="294660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93280" y="2119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680" y="288936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46760" y="18097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2120" y="3105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29400" y="1341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97000" y="1809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69160" y="310536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022640" y="1125360"/>
            <a:ext cx="4377600" cy="3492000"/>
            <a:chOff x="4022640" y="1125360"/>
            <a:chExt cx="4377600" cy="3492000"/>
          </a:xfrm>
        </p:grpSpPr>
        <p:grpSp>
          <p:nvGrpSpPr>
            <p:cNvPr id="450" name=""/>
            <p:cNvGrpSpPr/>
            <p:nvPr/>
          </p:nvGrpSpPr>
          <p:grpSpPr>
            <a:xfrm>
              <a:off x="4068000" y="1125360"/>
              <a:ext cx="4332240" cy="3492000"/>
              <a:chOff x="4068000" y="1125360"/>
              <a:chExt cx="4332240" cy="34920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573080" y="1701720"/>
                <a:ext cx="2790720" cy="2915640"/>
                <a:chOff x="4573080" y="1701720"/>
                <a:chExt cx="2790720" cy="29156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573080" y="1701720"/>
                  <a:ext cx="2790720" cy="2915640"/>
                  <a:chOff x="4573080" y="1701720"/>
                  <a:chExt cx="2790720" cy="291564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4573080" y="1701720"/>
                    <a:ext cx="2790720" cy="2915640"/>
                    <a:chOff x="4573080" y="1701720"/>
                    <a:chExt cx="2790720" cy="2915640"/>
                  </a:xfrm>
                </p:grpSpPr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4592160" y="2095200"/>
                      <a:ext cx="2771640" cy="2522160"/>
                      <a:chOff x="4592160" y="2095200"/>
                      <a:chExt cx="2771640" cy="2522160"/>
                    </a:xfrm>
                  </p:grpSpPr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4592160" y="2095200"/>
                        <a:ext cx="2771640" cy="2522160"/>
                      </a:xfrm>
                      <a:prstGeom prst="ellipse">
                        <a:avLst/>
                      </a:prstGeom>
                      <a:solidFill>
                        <a:srgbClr val="99cc00"/>
                      </a:solidFill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5923800" y="3288600"/>
                        <a:ext cx="70920" cy="676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" bIns="1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761000" y="2075760"/>
                      <a:ext cx="3225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987240" y="4188960"/>
                      <a:ext cx="3499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4879440" y="2094840"/>
                      <a:ext cx="2016000" cy="2217600"/>
                      <a:chOff x="4879440" y="2094840"/>
                      <a:chExt cx="2016000" cy="221760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 flipV="1">
                        <a:off x="5060160" y="2094840"/>
                        <a:ext cx="1079280" cy="307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6139800" y="2095200"/>
                        <a:ext cx="755280" cy="221724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 flipH="1">
                        <a:off x="4879440" y="2403000"/>
                        <a:ext cx="180720" cy="1737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4879440" y="4107600"/>
                        <a:ext cx="2016000" cy="1695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5942160" y="2927880"/>
                      <a:ext cx="3589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573080" y="4086720"/>
                      <a:ext cx="319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129720" y="1701720"/>
                      <a:ext cx="307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7" name=""/>
                  <p:cNvSpPr/>
                  <p:nvPr/>
                </p:nvSpPr>
                <p:spPr>
                  <a:xfrm>
                    <a:off x="5076720" y="2417040"/>
                    <a:ext cx="1800000" cy="187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5209560" y="2349360"/>
                  <a:ext cx="51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70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Verdana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4068000" y="1125360"/>
                <a:ext cx="433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Найти углы четырёхугольника РКЕН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4022640" y="296064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6560" y="404640"/>
            <a:ext cx="89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ружность называется описанной около треуголь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все вершины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жат на этой окруж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0280" y="1628640"/>
            <a:ext cx="7639560" cy="3873600"/>
            <a:chOff x="350280" y="1628640"/>
            <a:chExt cx="7639560" cy="3873600"/>
          </a:xfrm>
        </p:grpSpPr>
        <p:sp>
          <p:nvSpPr>
            <p:cNvPr id="96" name=""/>
            <p:cNvSpPr/>
            <p:nvPr/>
          </p:nvSpPr>
          <p:spPr>
            <a:xfrm>
              <a:off x="1027440" y="1628640"/>
              <a:ext cx="69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На каком рисунке окружность описана около треугольник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50280" y="2117880"/>
              <a:ext cx="2113560" cy="1657080"/>
              <a:chOff x="350280" y="2117880"/>
              <a:chExt cx="2113560" cy="1657080"/>
            </a:xfrm>
          </p:grpSpPr>
          <p:sp>
            <p:nvSpPr>
              <p:cNvPr id="98" name=""/>
              <p:cNvSpPr/>
              <p:nvPr/>
            </p:nvSpPr>
            <p:spPr>
              <a:xfrm>
                <a:off x="900000" y="2335320"/>
                <a:ext cx="156384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16000" y="2550960"/>
                <a:ext cx="1057320" cy="863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0280" y="21178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797920" y="2117880"/>
              <a:ext cx="2637720" cy="1439640"/>
              <a:chOff x="2797920" y="2117880"/>
              <a:chExt cx="2637720" cy="1439640"/>
            </a:xfrm>
          </p:grpSpPr>
          <p:sp>
            <p:nvSpPr>
              <p:cNvPr id="102" name=""/>
              <p:cNvSpPr/>
              <p:nvPr/>
            </p:nvSpPr>
            <p:spPr>
              <a:xfrm>
                <a:off x="3348000" y="2117880"/>
                <a:ext cx="156384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35280" y="2262240"/>
                <a:ext cx="1800360" cy="122400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97920" y="219060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677920" y="2117880"/>
              <a:ext cx="2041920" cy="1439640"/>
              <a:chOff x="5677920" y="2117880"/>
              <a:chExt cx="2041920" cy="1439640"/>
            </a:xfrm>
          </p:grpSpPr>
          <p:sp>
            <p:nvSpPr>
              <p:cNvPr id="106" name=""/>
              <p:cNvSpPr/>
              <p:nvPr/>
            </p:nvSpPr>
            <p:spPr>
              <a:xfrm>
                <a:off x="6156360" y="2117880"/>
                <a:ext cx="156348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72360" y="2335320"/>
                <a:ext cx="1079280" cy="1008000"/>
              </a:xfrm>
              <a:prstGeom prst="rtTriangle">
                <a:avLst/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77920" y="226224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502640" y="4062240"/>
              <a:ext cx="2112120" cy="1440000"/>
              <a:chOff x="1502640" y="4062240"/>
              <a:chExt cx="2112120" cy="14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2050920" y="4062240"/>
                <a:ext cx="1563840" cy="144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40000" y="4422600"/>
                <a:ext cx="1057320" cy="863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02640" y="420696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4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56000" y="3990960"/>
              <a:ext cx="2211480" cy="1440000"/>
              <a:chOff x="4356000" y="3990960"/>
              <a:chExt cx="2211480" cy="1440000"/>
            </a:xfrm>
          </p:grpSpPr>
          <p:sp>
            <p:nvSpPr>
              <p:cNvPr id="114" name=""/>
              <p:cNvSpPr/>
              <p:nvPr/>
            </p:nvSpPr>
            <p:spPr>
              <a:xfrm>
                <a:off x="5003640" y="3990960"/>
                <a:ext cx="1563840" cy="144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5003640" y="4494240"/>
                <a:ext cx="1079640" cy="576360"/>
                <a:chOff x="5003640" y="4494240"/>
                <a:chExt cx="1079640" cy="576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22920" y="4494240"/>
                  <a:ext cx="360360" cy="57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5003640" y="4494240"/>
                  <a:ext cx="1079640" cy="576360"/>
                  <a:chOff x="5003640" y="4494240"/>
                  <a:chExt cx="1079640" cy="57636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flipH="1">
                    <a:off x="5003640" y="4494240"/>
                    <a:ext cx="719280" cy="431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003640" y="4925880"/>
                    <a:ext cx="1079640" cy="144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" name=""/>
              <p:cNvSpPr/>
              <p:nvPr/>
            </p:nvSpPr>
            <p:spPr>
              <a:xfrm>
                <a:off x="4356000" y="42782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5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1326240" y="5734080"/>
            <a:ext cx="618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сли окружность описана около треуголь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то треугольник вписан в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7200" y="255600"/>
            <a:ext cx="83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орема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оло треугольника можно описать окруж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 притом только од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ё центр – точка пере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серединных перпендикуляров к сторонам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81360"/>
            <a:ext cx="2663640" cy="252072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3760" y="1665360"/>
            <a:ext cx="2812680" cy="2765160"/>
            <a:chOff x="293760" y="1665360"/>
            <a:chExt cx="2812680" cy="2765160"/>
          </a:xfrm>
        </p:grpSpPr>
        <p:grpSp>
          <p:nvGrpSpPr>
            <p:cNvPr id="125" name=""/>
            <p:cNvGrpSpPr/>
            <p:nvPr/>
          </p:nvGrpSpPr>
          <p:grpSpPr>
            <a:xfrm>
              <a:off x="611280" y="1937880"/>
              <a:ext cx="2160360" cy="2233800"/>
              <a:chOff x="611280" y="1937880"/>
              <a:chExt cx="2160360" cy="2233800"/>
            </a:xfrm>
          </p:grpSpPr>
          <p:sp>
            <p:nvSpPr>
              <p:cNvPr id="126" name=""/>
              <p:cNvSpPr/>
              <p:nvPr/>
            </p:nvSpPr>
            <p:spPr>
              <a:xfrm>
                <a:off x="2266920" y="1938240"/>
                <a:ext cx="504720" cy="223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611280" y="1937880"/>
                <a:ext cx="2160360" cy="2233800"/>
                <a:chOff x="611280" y="1937880"/>
                <a:chExt cx="2160360" cy="223380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611280" y="1937880"/>
                  <a:ext cx="1655640" cy="115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11280" y="3090600"/>
                  <a:ext cx="2160360" cy="10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293760" y="27306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51800" y="1665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81000" y="40622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0920" y="1952640"/>
            <a:ext cx="2160720" cy="2233440"/>
            <a:chOff x="610920" y="1952640"/>
            <a:chExt cx="2160720" cy="2233440"/>
          </a:xfrm>
        </p:grpSpPr>
        <p:sp>
          <p:nvSpPr>
            <p:cNvPr id="134" name=""/>
            <p:cNvSpPr/>
            <p:nvPr/>
          </p:nvSpPr>
          <p:spPr>
            <a:xfrm flipH="1" flipV="1">
              <a:off x="610920" y="3104640"/>
              <a:ext cx="1368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79640" y="3178080"/>
              <a:ext cx="792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79640" y="1952640"/>
              <a:ext cx="28728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006440" y="1787400"/>
            <a:ext cx="3809160" cy="916920"/>
            <a:chOff x="4006440" y="1787400"/>
            <a:chExt cx="3809160" cy="916920"/>
          </a:xfrm>
        </p:grpSpPr>
        <p:sp>
          <p:nvSpPr>
            <p:cNvPr id="138" name=""/>
            <p:cNvSpPr/>
            <p:nvPr/>
          </p:nvSpPr>
          <p:spPr>
            <a:xfrm>
              <a:off x="4006440" y="1787400"/>
              <a:ext cx="380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    АВ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оказать: существует Окр.(О;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ная около     АВ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6360" y="1916280"/>
              <a:ext cx="193680" cy="1443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64360" y="2492280"/>
              <a:ext cx="193680" cy="144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764880" y="30114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0" y="36082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ём серединные перпендикуля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, k,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 сторонам АВ, ВС, 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5280" y="4616280"/>
            <a:ext cx="79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свойству серединных перпендикуляров к сторонам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мечательная точка треугольник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и пересекаются в одной точке – О, для которой ОА = ОВ = 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522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0120" y="54817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. е. все вершины треугольника равноудалены от точки О, зна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ни лежат на окружности с центром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4280" y="6237360"/>
            <a:ext cx="63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начит, окружность описана около треугольника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9640" y="20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6692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58920" y="2097000"/>
            <a:ext cx="1787040" cy="2168640"/>
            <a:chOff x="1258920" y="2097000"/>
            <a:chExt cx="1787040" cy="2168640"/>
          </a:xfrm>
        </p:grpSpPr>
        <p:grpSp>
          <p:nvGrpSpPr>
            <p:cNvPr id="150" name=""/>
            <p:cNvGrpSpPr/>
            <p:nvPr/>
          </p:nvGrpSpPr>
          <p:grpSpPr>
            <a:xfrm>
              <a:off x="1258920" y="2297160"/>
              <a:ext cx="1584000" cy="1657080"/>
              <a:chOff x="1258920" y="2297160"/>
              <a:chExt cx="1584000" cy="165708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1474200" y="2728800"/>
                <a:ext cx="792360" cy="12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58920" y="2297160"/>
                <a:ext cx="86364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545840" y="2944800"/>
                <a:ext cx="1297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765800" y="2728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56920" y="389736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4360" y="2097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3200" y="272880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34360" y="2602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Важное св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9600" y="765000"/>
            <a:ext cx="703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Если окружность описана около прямоуго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реугольника,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о её центр – середина гипотену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26920" y="1557360"/>
            <a:ext cx="1873080" cy="1944360"/>
            <a:chOff x="826920" y="1557360"/>
            <a:chExt cx="1873080" cy="1944360"/>
          </a:xfrm>
        </p:grpSpPr>
        <p:grpSp>
          <p:nvGrpSpPr>
            <p:cNvPr id="161" name=""/>
            <p:cNvGrpSpPr/>
            <p:nvPr/>
          </p:nvGrpSpPr>
          <p:grpSpPr>
            <a:xfrm>
              <a:off x="826920" y="1759680"/>
              <a:ext cx="1873080" cy="1713960"/>
              <a:chOff x="826920" y="1759680"/>
              <a:chExt cx="1873080" cy="17139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826920" y="1759680"/>
                <a:ext cx="1873080" cy="1713960"/>
                <a:chOff x="826920" y="1759680"/>
                <a:chExt cx="1873080" cy="17139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826920" y="1759680"/>
                  <a:ext cx="1873080" cy="1713960"/>
                </a:xfrm>
                <a:prstGeom prst="ellipse">
                  <a:avLst/>
                </a:prstGeom>
                <a:solidFill>
                  <a:srgbClr val="99cc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87280" y="1976400"/>
                  <a:ext cx="1152360" cy="1300680"/>
                </a:xfrm>
                <a:prstGeom prst="rtTriangle">
                  <a:avLst/>
                </a:prstGeom>
                <a:solidFill>
                  <a:srgbClr val="99cc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92000" y="2555280"/>
                  <a:ext cx="698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1694160" y="22651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8840" y="25696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13000" y="2048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187280" y="3060720"/>
                <a:ext cx="215640" cy="216360"/>
                <a:chOff x="1187280" y="3060720"/>
                <a:chExt cx="215640" cy="216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187280" y="30607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02920" y="3060720"/>
                  <a:ext cx="0" cy="2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836280" y="3133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7240" y="1557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5400" y="3133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381480" y="2852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 = ½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3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8680" y="368136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найти радиус окружности, описанной около прямоуг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реугольника, катеты которого равны 3 см и 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9640" y="4652640"/>
            <a:ext cx="7056720" cy="1513080"/>
            <a:chOff x="539640" y="4652640"/>
            <a:chExt cx="7056720" cy="1513080"/>
          </a:xfrm>
        </p:grpSpPr>
        <p:sp>
          <p:nvSpPr>
            <p:cNvPr id="179" name=""/>
            <p:cNvSpPr/>
            <p:nvPr/>
          </p:nvSpPr>
          <p:spPr>
            <a:xfrm>
              <a:off x="2627280" y="5013360"/>
              <a:ext cx="49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Verdana"/>
                </a:rPr>
                <a:t>Центр окружности, описанной около тупоугольного треугольник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Verdana"/>
                </a:rPr>
                <a:t>лежит вне треугольни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39640" y="4652640"/>
              <a:ext cx="1584360" cy="1513080"/>
              <a:chOff x="539640" y="4652640"/>
              <a:chExt cx="1584360" cy="1513080"/>
            </a:xfrm>
          </p:grpSpPr>
          <p:sp>
            <p:nvSpPr>
              <p:cNvPr id="181" name=""/>
              <p:cNvSpPr/>
              <p:nvPr/>
            </p:nvSpPr>
            <p:spPr>
              <a:xfrm>
                <a:off x="539640" y="4653000"/>
                <a:ext cx="1584360" cy="1512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92920" y="4652640"/>
                <a:ext cx="739080" cy="1120320"/>
                <a:chOff x="592920" y="4652640"/>
                <a:chExt cx="739080" cy="1120320"/>
              </a:xfrm>
            </p:grpSpPr>
            <p:sp>
              <p:nvSpPr>
                <p:cNvPr id="183" name=""/>
                <p:cNvSpPr/>
                <p:nvPr/>
              </p:nvSpPr>
              <p:spPr>
                <a:xfrm flipV="1">
                  <a:off x="592920" y="4652640"/>
                  <a:ext cx="739080" cy="50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92920" y="4653000"/>
                  <a:ext cx="738360" cy="1119960"/>
                  <a:chOff x="592920" y="4653000"/>
                  <a:chExt cx="738360" cy="1119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92920" y="5156640"/>
                    <a:ext cx="52200" cy="615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644760" y="4653000"/>
                    <a:ext cx="686520" cy="1119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"/>
              <p:cNvSpPr/>
              <p:nvPr/>
            </p:nvSpPr>
            <p:spPr>
              <a:xfrm>
                <a:off x="1332360" y="5381640"/>
                <a:ext cx="522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826920" y="981000"/>
            <a:ext cx="2089080" cy="1993680"/>
            <a:chOff x="826920" y="981000"/>
            <a:chExt cx="2089080" cy="1993680"/>
          </a:xfrm>
        </p:grpSpPr>
        <p:grpSp>
          <p:nvGrpSpPr>
            <p:cNvPr id="189" name=""/>
            <p:cNvGrpSpPr/>
            <p:nvPr/>
          </p:nvGrpSpPr>
          <p:grpSpPr>
            <a:xfrm>
              <a:off x="826920" y="981000"/>
              <a:ext cx="2066760" cy="1993680"/>
              <a:chOff x="826920" y="981000"/>
              <a:chExt cx="2066760" cy="19936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826920" y="981000"/>
                <a:ext cx="2066760" cy="1993680"/>
                <a:chOff x="826920" y="981000"/>
                <a:chExt cx="2066760" cy="199368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826920" y="981000"/>
                  <a:ext cx="2066760" cy="1993680"/>
                  <a:chOff x="826920" y="981000"/>
                  <a:chExt cx="2066760" cy="19936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826920" y="981000"/>
                    <a:ext cx="2066760" cy="19936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834920" y="1917360"/>
                    <a:ext cx="69480" cy="70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956160" y="19317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179080" y="236340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93240" y="1211040"/>
                  <a:ext cx="290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476000" y="1988640"/>
                  <a:ext cx="358560" cy="9363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1685520" y="207612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115640" y="1268280"/>
              <a:ext cx="1800360" cy="1657440"/>
              <a:chOff x="1115640" y="1268280"/>
              <a:chExt cx="1800360" cy="1657440"/>
            </a:xfrm>
          </p:grpSpPr>
          <p:sp>
            <p:nvSpPr>
              <p:cNvPr id="200" name=""/>
              <p:cNvSpPr/>
              <p:nvPr/>
            </p:nvSpPr>
            <p:spPr>
              <a:xfrm>
                <a:off x="1115640" y="1268280"/>
                <a:ext cx="1800360" cy="72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115640" y="1268280"/>
                <a:ext cx="1800360" cy="1657440"/>
                <a:chOff x="1115640" y="1268280"/>
                <a:chExt cx="1800360" cy="1657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115640" y="1268280"/>
                  <a:ext cx="360360" cy="165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1476000" y="1989000"/>
                  <a:ext cx="1440000" cy="93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4" name=""/>
          <p:cNvGrpSpPr/>
          <p:nvPr/>
        </p:nvGrpSpPr>
        <p:grpSpPr>
          <a:xfrm>
            <a:off x="3927600" y="1052640"/>
            <a:ext cx="1803240" cy="1027080"/>
            <a:chOff x="3927600" y="1052640"/>
            <a:chExt cx="1803240" cy="1027080"/>
          </a:xfrm>
        </p:grpSpPr>
        <p:sp>
          <p:nvSpPr>
            <p:cNvPr id="205" name=""/>
            <p:cNvSpPr/>
            <p:nvPr/>
          </p:nvSpPr>
          <p:spPr>
            <a:xfrm>
              <a:off x="3927600" y="1340280"/>
              <a:ext cx="68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 =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052640"/>
                  <a:ext cx="115884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03640" y="2133720"/>
                <a:ext cx="32558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965880" y="189000"/>
            <a:ext cx="749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Формулы для радиуса описанной около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77320" y="3284640"/>
            <a:ext cx="71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найти радиус окружности, описанной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вностороннего треугольника, сторона которого равна 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080" y="40194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8360" y="4437000"/>
                <a:ext cx="3547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12" name=""/>
          <p:cNvGrpSpPr/>
          <p:nvPr/>
        </p:nvGrpSpPr>
        <p:grpSpPr>
          <a:xfrm>
            <a:off x="760680" y="4365720"/>
            <a:ext cx="3625560" cy="1098360"/>
            <a:chOff x="760680" y="4365720"/>
            <a:chExt cx="3625560" cy="1098360"/>
          </a:xfrm>
        </p:grpSpPr>
        <p:grpSp>
          <p:nvGrpSpPr>
            <p:cNvPr id="213" name=""/>
            <p:cNvGrpSpPr/>
            <p:nvPr/>
          </p:nvGrpSpPr>
          <p:grpSpPr>
            <a:xfrm>
              <a:off x="760680" y="4437000"/>
              <a:ext cx="1803240" cy="1027080"/>
              <a:chOff x="760680" y="4437000"/>
              <a:chExt cx="1803240" cy="1027080"/>
            </a:xfrm>
          </p:grpSpPr>
          <p:sp>
            <p:nvSpPr>
              <p:cNvPr id="214" name=""/>
              <p:cNvSpPr/>
              <p:nvPr/>
            </p:nvSpPr>
            <p:spPr>
              <a:xfrm>
                <a:off x="760680" y="472464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 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1405080" y="4437000"/>
                    <a:ext cx="1158840" cy="102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16" name=""/>
            <p:cNvGrpSpPr/>
            <p:nvPr/>
          </p:nvGrpSpPr>
          <p:grpSpPr>
            <a:xfrm>
              <a:off x="2847960" y="4365720"/>
              <a:ext cx="1538280" cy="1093680"/>
              <a:chOff x="2847960" y="4365720"/>
              <a:chExt cx="1538280" cy="1093680"/>
            </a:xfrm>
          </p:grpSpPr>
          <p:sp>
            <p:nvSpPr>
              <p:cNvPr id="217" name=""/>
              <p:cNvSpPr/>
              <p:nvPr/>
            </p:nvSpPr>
            <p:spPr>
              <a:xfrm>
                <a:off x="2847960" y="468648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 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3757320" y="4365720"/>
                    <a:ext cx="628920" cy="109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9" name=""/>
            <p:cNvSpPr/>
            <p:nvPr/>
          </p:nvSpPr>
          <p:spPr>
            <a:xfrm>
              <a:off x="2547720" y="4740120"/>
              <a:ext cx="24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037480" y="5734080"/>
            <a:ext cx="1994400" cy="930240"/>
            <a:chOff x="5037480" y="5734080"/>
            <a:chExt cx="1994400" cy="930240"/>
          </a:xfrm>
        </p:grpSpPr>
        <p:sp>
          <p:nvSpPr>
            <p:cNvPr id="221" name=""/>
            <p:cNvSpPr/>
            <p:nvPr/>
          </p:nvSpPr>
          <p:spPr>
            <a:xfrm>
              <a:off x="5037480" y="60213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940360" y="5734080"/>
                  <a:ext cx="711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6570720" y="603576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84360" y="5661000"/>
            <a:ext cx="3852720" cy="986040"/>
            <a:chOff x="684360" y="5661000"/>
            <a:chExt cx="3852720" cy="98604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84360" y="5661000"/>
                  <a:ext cx="331128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3879360" y="596412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с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260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в окружность, радиус которой 10 см, вписан равнобедренный треугольник. Высота, проведённая к его  основанию равна 16 см. Найти боковую сторону и площадь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93400" y="1376280"/>
            <a:ext cx="2698920" cy="2973240"/>
            <a:chOff x="293400" y="1376280"/>
            <a:chExt cx="2698920" cy="2973240"/>
          </a:xfrm>
        </p:grpSpPr>
        <p:grpSp>
          <p:nvGrpSpPr>
            <p:cNvPr id="229" name=""/>
            <p:cNvGrpSpPr/>
            <p:nvPr/>
          </p:nvGrpSpPr>
          <p:grpSpPr>
            <a:xfrm>
              <a:off x="293400" y="1376280"/>
              <a:ext cx="2698920" cy="2973240"/>
              <a:chOff x="293400" y="1376280"/>
              <a:chExt cx="2698920" cy="297324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93400" y="1376280"/>
                <a:ext cx="2698920" cy="2973240"/>
                <a:chOff x="293400" y="1376280"/>
                <a:chExt cx="2698920" cy="29732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415800" y="1828800"/>
                  <a:ext cx="2555640" cy="2520720"/>
                  <a:chOff x="415800" y="1828800"/>
                  <a:chExt cx="2555640" cy="252072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15800" y="1828800"/>
                    <a:ext cx="2555640" cy="25207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1674720" y="3017520"/>
                    <a:ext cx="71280" cy="70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 flipH="1">
                  <a:off x="1674360" y="1793880"/>
                  <a:ext cx="36360" cy="21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39080" y="3052440"/>
                  <a:ext cx="971640" cy="86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674720" y="3052440"/>
                  <a:ext cx="900000" cy="9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93400" y="371628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61040" y="1376280"/>
                  <a:ext cx="33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647800" y="3773160"/>
                  <a:ext cx="34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729080" y="274464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82560" y="1771560"/>
                <a:ext cx="1908000" cy="2195280"/>
                <a:chOff x="682560" y="1771560"/>
                <a:chExt cx="1908000" cy="2195280"/>
              </a:xfrm>
            </p:grpSpPr>
            <p:sp>
              <p:nvSpPr>
                <p:cNvPr id="242" name=""/>
                <p:cNvSpPr/>
                <p:nvPr/>
              </p:nvSpPr>
              <p:spPr>
                <a:xfrm flipH="1">
                  <a:off x="718560" y="1771560"/>
                  <a:ext cx="971640" cy="21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682560" y="1771560"/>
                  <a:ext cx="1908000" cy="2195280"/>
                  <a:chOff x="682560" y="1771560"/>
                  <a:chExt cx="1908000" cy="21952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690560" y="1771560"/>
                    <a:ext cx="900000" cy="2195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682560" y="3895200"/>
                    <a:ext cx="1908000" cy="7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6" name=""/>
            <p:cNvSpPr/>
            <p:nvPr/>
          </p:nvSpPr>
          <p:spPr>
            <a:xfrm>
              <a:off x="1638000" y="39114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92360" y="3717720"/>
              <a:ext cx="2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08000" y="3717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717720" y="268776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81480" y="310500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. к. окружность описана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внобедренного треугольника АВС, то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кружности лежит на высоте В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03960" y="411336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О = ВО = СО = 10 см, ОН = ВН – ВО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6 – 10 = 6 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7320" y="4797360"/>
            <a:ext cx="8429760" cy="368280"/>
            <a:chOff x="157320" y="4797360"/>
            <a:chExt cx="8429760" cy="368280"/>
          </a:xfrm>
        </p:grpSpPr>
        <p:sp>
          <p:nvSpPr>
            <p:cNvPr id="253" name=""/>
            <p:cNvSpPr/>
            <p:nvPr/>
          </p:nvSpPr>
          <p:spPr>
            <a:xfrm>
              <a:off x="874080" y="4797360"/>
              <a:ext cx="771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ОН – прямоугольный, АО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=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+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=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– 6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64, АН = 8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7320" y="4889520"/>
              <a:ext cx="193680" cy="1443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81200" y="5208480"/>
            <a:ext cx="7293600" cy="692280"/>
            <a:chOff x="781200" y="5208480"/>
            <a:chExt cx="7293600" cy="692280"/>
          </a:xfrm>
        </p:grpSpPr>
        <p:grpSp>
          <p:nvGrpSpPr>
            <p:cNvPr id="256" name=""/>
            <p:cNvGrpSpPr/>
            <p:nvPr/>
          </p:nvGrpSpPr>
          <p:grpSpPr>
            <a:xfrm>
              <a:off x="781200" y="5208480"/>
              <a:ext cx="7293600" cy="692280"/>
              <a:chOff x="781200" y="5208480"/>
              <a:chExt cx="7293600" cy="692280"/>
            </a:xfrm>
          </p:grpSpPr>
          <p:sp>
            <p:nvSpPr>
              <p:cNvPr id="257" name=""/>
              <p:cNvSpPr/>
              <p:nvPr/>
            </p:nvSpPr>
            <p:spPr>
              <a:xfrm>
                <a:off x="781200" y="5208480"/>
                <a:ext cx="729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ВН – прямоугольный, АВ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АН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+ ВН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8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+ 16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64 + 256= 320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В =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863640" y="5516640"/>
                    <a:ext cx="132696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9" name=""/>
            <p:cNvSpPr/>
            <p:nvPr/>
          </p:nvSpPr>
          <p:spPr>
            <a:xfrm>
              <a:off x="2176560" y="54957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с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087560" y="5819760"/>
            <a:ext cx="710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 = 2АН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8 = 16 (см)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Verdana"/>
              </a:rPr>
              <a:t>АВС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 ½ АС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Н = ½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6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6 = 128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22240" y="6288120"/>
            <a:ext cx="4017240" cy="439560"/>
            <a:chOff x="1722240" y="6288120"/>
            <a:chExt cx="4017240" cy="439560"/>
          </a:xfrm>
        </p:grpSpPr>
        <p:grpSp>
          <p:nvGrpSpPr>
            <p:cNvPr id="262" name=""/>
            <p:cNvGrpSpPr/>
            <p:nvPr/>
          </p:nvGrpSpPr>
          <p:grpSpPr>
            <a:xfrm>
              <a:off x="1722240" y="6308640"/>
              <a:ext cx="4017240" cy="419040"/>
              <a:chOff x="1722240" y="6308640"/>
              <a:chExt cx="4017240" cy="4190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722240" y="6308640"/>
                <a:ext cx="2464920" cy="384120"/>
                <a:chOff x="1722240" y="6308640"/>
                <a:chExt cx="2464920" cy="38412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1722240" y="6308640"/>
                  <a:ext cx="2059200" cy="378000"/>
                  <a:chOff x="1722240" y="6308640"/>
                  <a:chExt cx="2059200" cy="3780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722240" y="6308640"/>
                    <a:ext cx="1501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Verdana"/>
                      </a:rPr>
                      <a:t>Ответ: АВ =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66" name=""/>
                      <p:cNvSpPr txBox="1"/>
                      <p:nvPr/>
                    </p:nvSpPr>
                    <p:spPr>
                      <a:xfrm>
                        <a:off x="3276720" y="6308640"/>
                        <a:ext cx="504720" cy="378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267" name=""/>
                <p:cNvSpPr/>
                <p:nvPr/>
              </p:nvSpPr>
              <p:spPr>
                <a:xfrm>
                  <a:off x="3726000" y="6324480"/>
                  <a:ext cx="46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см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374360" y="6359400"/>
                <a:ext cx="13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 = 128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 см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097160" y="6288120"/>
              <a:ext cx="24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492360" y="1376280"/>
            <a:ext cx="5256000" cy="1163160"/>
            <a:chOff x="3492360" y="1376280"/>
            <a:chExt cx="5256000" cy="1163160"/>
          </a:xfrm>
        </p:grpSpPr>
        <p:sp>
          <p:nvSpPr>
            <p:cNvPr id="271" name=""/>
            <p:cNvSpPr/>
            <p:nvPr/>
          </p:nvSpPr>
          <p:spPr>
            <a:xfrm>
              <a:off x="3572280" y="2133720"/>
              <a:ext cx="179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йти: АВ,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Verdana"/>
                </a:rPr>
                <a:t>АВ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492360" y="1376280"/>
              <a:ext cx="5256000" cy="679320"/>
              <a:chOff x="3492360" y="1376280"/>
              <a:chExt cx="5256000" cy="6793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492360" y="1413000"/>
                <a:ext cx="5256000" cy="642600"/>
                <a:chOff x="3492360" y="1413000"/>
                <a:chExt cx="5256000" cy="6426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492360" y="1413000"/>
                  <a:ext cx="525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ано:    АВС- р/б, ВН    АС, ВН = 16 см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       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кр.(О; 10 см) описана около АВ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88040" y="1542960"/>
                  <a:ext cx="204480" cy="144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6192720" y="1700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00720" y="137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77360" y="189000"/>
            <a:ext cx="815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пределение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окружность называется описанной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                     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четырёхуголь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если все вершины четырёхугольника лежат на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52840" y="1268280"/>
            <a:ext cx="78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орема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Если около четырёхугольника описана окружность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сумма его противоположных углов равна 18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5520" y="2781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151440" y="3284640"/>
            <a:ext cx="4926600" cy="642600"/>
            <a:chOff x="3151440" y="3284640"/>
            <a:chExt cx="4926600" cy="642600"/>
          </a:xfrm>
        </p:grpSpPr>
        <p:grpSp>
          <p:nvGrpSpPr>
            <p:cNvPr id="282" name=""/>
            <p:cNvGrpSpPr/>
            <p:nvPr/>
          </p:nvGrpSpPr>
          <p:grpSpPr>
            <a:xfrm>
              <a:off x="4788000" y="3644640"/>
              <a:ext cx="215640" cy="216000"/>
              <a:chOff x="4788000" y="3644640"/>
              <a:chExt cx="215640" cy="216000"/>
            </a:xfrm>
          </p:grpSpPr>
          <p:sp>
            <p:nvSpPr>
              <p:cNvPr id="283" name=""/>
              <p:cNvSpPr/>
              <p:nvPr/>
            </p:nvSpPr>
            <p:spPr>
              <a:xfrm>
                <a:off x="4788000" y="3860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788000" y="3644640"/>
                <a:ext cx="21564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151440" y="3284640"/>
              <a:ext cx="4926600" cy="642600"/>
              <a:chOff x="3151440" y="3284640"/>
              <a:chExt cx="4926600" cy="642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259800" y="3284640"/>
                <a:ext cx="48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Т. к. окружность описана около АВ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, то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А,    В,    С,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– вписанные, значит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4230720" y="3630600"/>
                <a:ext cx="216000" cy="216000"/>
                <a:chOff x="4230720" y="3630600"/>
                <a:chExt cx="216000" cy="216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230720" y="38466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30720" y="36306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654720" y="3630600"/>
                <a:ext cx="215640" cy="216000"/>
                <a:chOff x="3654720" y="3630600"/>
                <a:chExt cx="215640" cy="216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654720" y="38466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3654720" y="36306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151440" y="3630600"/>
                <a:ext cx="215640" cy="216000"/>
                <a:chOff x="3151440" y="3630600"/>
                <a:chExt cx="215640" cy="216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151440" y="38466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151440" y="36306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6" name=""/>
          <p:cNvGrpSpPr/>
          <p:nvPr/>
        </p:nvGrpSpPr>
        <p:grpSpPr>
          <a:xfrm>
            <a:off x="250920" y="4018680"/>
            <a:ext cx="8444880" cy="569160"/>
            <a:chOff x="250920" y="4018680"/>
            <a:chExt cx="8444880" cy="569160"/>
          </a:xfrm>
        </p:grpSpPr>
        <p:grpSp>
          <p:nvGrpSpPr>
            <p:cNvPr id="297" name=""/>
            <p:cNvGrpSpPr/>
            <p:nvPr/>
          </p:nvGrpSpPr>
          <p:grpSpPr>
            <a:xfrm>
              <a:off x="250920" y="4292280"/>
              <a:ext cx="216000" cy="216000"/>
              <a:chOff x="250920" y="4292280"/>
              <a:chExt cx="216000" cy="216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50920" y="4508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50920" y="429228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971640" y="4018680"/>
              <a:ext cx="7724160" cy="569160"/>
              <a:chOff x="971640" y="4018680"/>
              <a:chExt cx="7724160" cy="5691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971640" y="4292280"/>
                <a:ext cx="216000" cy="216000"/>
                <a:chOff x="971640" y="4292280"/>
                <a:chExt cx="216000" cy="2160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971640" y="450828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971640" y="429228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175040" y="4018680"/>
                <a:ext cx="7520760" cy="569160"/>
                <a:chOff x="1175040" y="4018680"/>
                <a:chExt cx="7520760" cy="569160"/>
              </a:xfrm>
            </p:grpSpPr>
            <p:sp>
              <p:nvSpPr>
                <p:cNvPr id="305" name=""/>
                <p:cNvSpPr/>
                <p:nvPr/>
              </p:nvSpPr>
              <p:spPr>
                <a:xfrm rot="8040000">
                  <a:off x="5778720" y="4128840"/>
                  <a:ext cx="453600" cy="349200"/>
                </a:xfrm>
                <a:custGeom>
                  <a:avLst/>
                  <a:gdLst>
                    <a:gd name="textAreaLeft" fmla="*/ 226800 w 453600"/>
                    <a:gd name="textAreaRight" fmla="*/ 453600 w 453600"/>
                    <a:gd name="textAreaTop" fmla="*/ 8640 h 349200"/>
                    <a:gd name="textAreaBottom" fmla="*/ 181080 h 349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4112" y="520"/>
                      </a:moveTo>
                      <a:arcTo wR="10800" hR="10800" stAng="-4328589" swAng="4474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112" y="520"/>
                      </a:moveTo>
                      <a:arcTo wR="10800" hR="10800" stAng="-4328589" swAng="4474560"/>
                    </a:path>
                  </a:pathLst>
                </a:cu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1175040" y="4018680"/>
                  <a:ext cx="7520760" cy="569160"/>
                  <a:chOff x="1175040" y="4018680"/>
                  <a:chExt cx="7520760" cy="5691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8040000">
                    <a:off x="4842000" y="4128480"/>
                    <a:ext cx="453600" cy="349560"/>
                  </a:xfrm>
                  <a:custGeom>
                    <a:avLst/>
                    <a:gdLst>
                      <a:gd name="textAreaLeft" fmla="*/ 226800 w 453600"/>
                      <a:gd name="textAreaRight" fmla="*/ 453600 w 453600"/>
                      <a:gd name="textAreaTop" fmla="*/ 8640 h 349560"/>
                      <a:gd name="textAreaBottom" fmla="*/ 181080 h 3495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4112" y="520"/>
                        </a:moveTo>
                        <a:arcTo wR="10800" hR="10800" stAng="-4328589" swAng="44745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112" y="520"/>
                        </a:moveTo>
                        <a:arcTo wR="10800" hR="10800" stAng="-4328589" swAng="4474560"/>
                      </a:path>
                    </a:pathLst>
                  </a:cu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175040" y="4018680"/>
                    <a:ext cx="7520760" cy="569160"/>
                    <a:chOff x="1175040" y="4018680"/>
                    <a:chExt cx="7520760" cy="569160"/>
                  </a:xfrm>
                </p:grpSpPr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1175040" y="4019040"/>
                      <a:ext cx="7520760" cy="568800"/>
                      <a:chOff x="1175040" y="4019040"/>
                      <a:chExt cx="7520760" cy="56880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1175040" y="4219200"/>
                        <a:ext cx="75207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А 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+    C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= ½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BCD + ½   BAD = ½ (   BCD +   BAD) = ½ · 36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= 18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rot="8040000">
                        <a:off x="1962360" y="4128840"/>
                        <a:ext cx="453600" cy="349200"/>
                      </a:xfrm>
                      <a:custGeom>
                        <a:avLst/>
                        <a:gdLst>
                          <a:gd name="textAreaLeft" fmla="*/ 226800 w 453600"/>
                          <a:gd name="textAreaRight" fmla="*/ 453600 w 453600"/>
                          <a:gd name="textAreaTop" fmla="*/ 8640 h 349200"/>
                          <a:gd name="textAreaBottom" fmla="*/ 181080 h 349200"/>
                        </a:gdLst>
                        <a:ahLst/>
                        <a:rect l="textAreaLeft" t="textAreaTop" r="textAreaRight" b="textAreaBottom"/>
                        <a:pathLst>
                          <a:path stroke="0" w="21600" h="21600">
                            <a:moveTo>
                              <a:pt x="14112" y="520"/>
                            </a:moveTo>
                            <a:arcTo wR="10800" hR="10800" stAng="-4328589" swAng="44745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112" y="520"/>
                            </a:moveTo>
                            <a:arcTo wR="10800" hR="10800" stAng="-4328589" swAng="4474560"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2" name=""/>
                    <p:cNvSpPr/>
                    <p:nvPr/>
                  </p:nvSpPr>
                  <p:spPr>
                    <a:xfrm rot="8040000">
                      <a:off x="3330720" y="4128480"/>
                      <a:ext cx="453600" cy="349560"/>
                    </a:xfrm>
                    <a:custGeom>
                      <a:avLst/>
                      <a:gdLst>
                        <a:gd name="textAreaLeft" fmla="*/ 226800 w 453600"/>
                        <a:gd name="textAreaRight" fmla="*/ 453600 w 453600"/>
                        <a:gd name="textAreaTop" fmla="*/ 8640 h 349560"/>
                        <a:gd name="textAreaBottom" fmla="*/ 181080 h 349560"/>
                      </a:gdLst>
                      <a:ahLst/>
                      <a:rect l="textAreaLeft" t="textAreaTop" r="textAreaRight" b="textAreaBottom"/>
                      <a:pathLst>
                        <a:path stroke="0" w="21600" h="21600">
                          <a:moveTo>
                            <a:pt x="14112" y="520"/>
                          </a:moveTo>
                          <a:arcTo wR="10800" hR="10800" stAng="-4328589" swAng="447456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4112" y="520"/>
                          </a:moveTo>
                          <a:arcTo wR="10800" hR="10800" stAng="-4328589" swAng="447456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13" name=""/>
          <p:cNvGrpSpPr/>
          <p:nvPr/>
        </p:nvGrpSpPr>
        <p:grpSpPr>
          <a:xfrm>
            <a:off x="250920" y="4666320"/>
            <a:ext cx="8353080" cy="569160"/>
            <a:chOff x="250920" y="4666320"/>
            <a:chExt cx="8353080" cy="569160"/>
          </a:xfrm>
        </p:grpSpPr>
        <p:grpSp>
          <p:nvGrpSpPr>
            <p:cNvPr id="314" name=""/>
            <p:cNvGrpSpPr/>
            <p:nvPr/>
          </p:nvGrpSpPr>
          <p:grpSpPr>
            <a:xfrm>
              <a:off x="250920" y="4939920"/>
              <a:ext cx="216000" cy="216000"/>
              <a:chOff x="250920" y="4939920"/>
              <a:chExt cx="216000" cy="216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50920" y="51559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250920" y="493992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971640" y="4666320"/>
              <a:ext cx="7632360" cy="569160"/>
              <a:chOff x="971640" y="4666320"/>
              <a:chExt cx="7632360" cy="5691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971640" y="4939920"/>
                <a:ext cx="216000" cy="216000"/>
                <a:chOff x="971640" y="4939920"/>
                <a:chExt cx="216000" cy="216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971640" y="515592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971640" y="493992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168920" y="4666320"/>
                <a:ext cx="7435080" cy="569160"/>
                <a:chOff x="1168920" y="4666320"/>
                <a:chExt cx="7435080" cy="569160"/>
              </a:xfrm>
            </p:grpSpPr>
            <p:sp>
              <p:nvSpPr>
                <p:cNvPr id="322" name=""/>
                <p:cNvSpPr/>
                <p:nvPr/>
              </p:nvSpPr>
              <p:spPr>
                <a:xfrm rot="8040000">
                  <a:off x="5778720" y="4776480"/>
                  <a:ext cx="453600" cy="349200"/>
                </a:xfrm>
                <a:custGeom>
                  <a:avLst/>
                  <a:gdLst>
                    <a:gd name="textAreaLeft" fmla="*/ 226800 w 453600"/>
                    <a:gd name="textAreaRight" fmla="*/ 453600 w 453600"/>
                    <a:gd name="textAreaTop" fmla="*/ 8640 h 349200"/>
                    <a:gd name="textAreaBottom" fmla="*/ 181080 h 349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4112" y="520"/>
                      </a:moveTo>
                      <a:arcTo wR="10800" hR="10800" stAng="-4328589" swAng="4474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112" y="520"/>
                      </a:moveTo>
                      <a:arcTo wR="10800" hR="10800" stAng="-4328589" swAng="4474560"/>
                    </a:path>
                  </a:pathLst>
                </a:cu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1168920" y="4666320"/>
                  <a:ext cx="7435080" cy="569160"/>
                  <a:chOff x="1168920" y="4666320"/>
                  <a:chExt cx="7435080" cy="5691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8040000">
                    <a:off x="4842000" y="4776120"/>
                    <a:ext cx="453600" cy="349560"/>
                  </a:xfrm>
                  <a:custGeom>
                    <a:avLst/>
                    <a:gdLst>
                      <a:gd name="textAreaLeft" fmla="*/ 226800 w 453600"/>
                      <a:gd name="textAreaRight" fmla="*/ 453600 w 453600"/>
                      <a:gd name="textAreaTop" fmla="*/ 8640 h 349560"/>
                      <a:gd name="textAreaBottom" fmla="*/ 181080 h 3495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4112" y="520"/>
                        </a:moveTo>
                        <a:arcTo wR="10800" hR="10800" stAng="-4328589" swAng="44745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112" y="520"/>
                        </a:moveTo>
                        <a:arcTo wR="10800" hR="10800" stAng="-4328589" swAng="4474560"/>
                      </a:path>
                    </a:pathLst>
                  </a:cu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1168920" y="4666320"/>
                    <a:ext cx="7435080" cy="569160"/>
                    <a:chOff x="1168920" y="4666320"/>
                    <a:chExt cx="7435080" cy="569160"/>
                  </a:xfrm>
                </p:grpSpPr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1168920" y="4666680"/>
                      <a:ext cx="7435080" cy="568800"/>
                      <a:chOff x="1168920" y="4666680"/>
                      <a:chExt cx="7435080" cy="56880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1168920" y="4866840"/>
                        <a:ext cx="7435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B+    D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= ½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ADC + ½    ABC = ½ (   ADC+   ABC) = ½ · 36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= 18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 rot="8040000">
                        <a:off x="1962360" y="4776480"/>
                        <a:ext cx="453600" cy="349200"/>
                      </a:xfrm>
                      <a:custGeom>
                        <a:avLst/>
                        <a:gdLst>
                          <a:gd name="textAreaLeft" fmla="*/ 226800 w 453600"/>
                          <a:gd name="textAreaRight" fmla="*/ 453600 w 453600"/>
                          <a:gd name="textAreaTop" fmla="*/ 8640 h 349200"/>
                          <a:gd name="textAreaBottom" fmla="*/ 181080 h 349200"/>
                        </a:gdLst>
                        <a:ahLst/>
                        <a:rect l="textAreaLeft" t="textAreaTop" r="textAreaRight" b="textAreaBottom"/>
                        <a:pathLst>
                          <a:path stroke="0" w="21600" h="21600">
                            <a:moveTo>
                              <a:pt x="14112" y="520"/>
                            </a:moveTo>
                            <a:arcTo wR="10800" hR="10800" stAng="-4328589" swAng="44745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112" y="520"/>
                            </a:moveTo>
                            <a:arcTo wR="10800" hR="10800" stAng="-4328589" swAng="4474560"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9" name=""/>
                    <p:cNvSpPr/>
                    <p:nvPr/>
                  </p:nvSpPr>
                  <p:spPr>
                    <a:xfrm rot="8040000">
                      <a:off x="3330720" y="4776120"/>
                      <a:ext cx="453600" cy="349560"/>
                    </a:xfrm>
                    <a:custGeom>
                      <a:avLst/>
                      <a:gdLst>
                        <a:gd name="textAreaLeft" fmla="*/ 226800 w 453600"/>
                        <a:gd name="textAreaRight" fmla="*/ 453600 w 453600"/>
                        <a:gd name="textAreaTop" fmla="*/ 8640 h 349560"/>
                        <a:gd name="textAreaBottom" fmla="*/ 181080 h 349560"/>
                      </a:gdLst>
                      <a:ahLst/>
                      <a:rect l="textAreaLeft" t="textAreaTop" r="textAreaRight" b="textAreaBottom"/>
                      <a:pathLst>
                        <a:path stroke="0" w="21600" h="21600">
                          <a:moveTo>
                            <a:pt x="14112" y="520"/>
                          </a:moveTo>
                          <a:arcTo wR="10800" hR="10800" stAng="-4328589" swAng="447456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4112" y="520"/>
                          </a:moveTo>
                          <a:arcTo wR="10800" hR="10800" stAng="-4328589" swAng="447456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30" name=""/>
          <p:cNvGrpSpPr/>
          <p:nvPr/>
        </p:nvGrpSpPr>
        <p:grpSpPr>
          <a:xfrm>
            <a:off x="2963520" y="1916280"/>
            <a:ext cx="4604760" cy="785520"/>
            <a:chOff x="2963520" y="1916280"/>
            <a:chExt cx="4604760" cy="785520"/>
          </a:xfrm>
        </p:grpSpPr>
        <p:grpSp>
          <p:nvGrpSpPr>
            <p:cNvPr id="331" name=""/>
            <p:cNvGrpSpPr/>
            <p:nvPr/>
          </p:nvGrpSpPr>
          <p:grpSpPr>
            <a:xfrm>
              <a:off x="4305240" y="2333520"/>
              <a:ext cx="3263040" cy="368280"/>
              <a:chOff x="4305240" y="2333520"/>
              <a:chExt cx="3263040" cy="368280"/>
            </a:xfrm>
          </p:grpSpPr>
          <p:sp>
            <p:nvSpPr>
              <p:cNvPr id="332" name=""/>
              <p:cNvSpPr/>
              <p:nvPr/>
            </p:nvSpPr>
            <p:spPr>
              <a:xfrm>
                <a:off x="4656600" y="2333520"/>
                <a:ext cx="291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 +    C =    B +   D = 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537240" y="2390400"/>
                <a:ext cx="216000" cy="216000"/>
                <a:chOff x="6537240" y="2390400"/>
                <a:chExt cx="216000" cy="2160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53724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53724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024520" y="2390400"/>
                <a:ext cx="215640" cy="216000"/>
                <a:chOff x="5024520" y="2390400"/>
                <a:chExt cx="215640" cy="2160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024520" y="26064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5024520" y="23904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816520" y="2390400"/>
                <a:ext cx="216000" cy="216000"/>
                <a:chOff x="5816520" y="2390400"/>
                <a:chExt cx="216000" cy="216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81652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581652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305240" y="2390400"/>
                <a:ext cx="216000" cy="216000"/>
                <a:chOff x="4305240" y="2390400"/>
                <a:chExt cx="216000" cy="2160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30524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430524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3102480" y="1916280"/>
              <a:ext cx="42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Окр.(О;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а около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63520" y="233352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оказать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5240" y="5373720"/>
            <a:ext cx="4435200" cy="409680"/>
            <a:chOff x="345240" y="5373720"/>
            <a:chExt cx="4435200" cy="409680"/>
          </a:xfrm>
        </p:grpSpPr>
        <p:sp>
          <p:nvSpPr>
            <p:cNvPr id="348" name=""/>
            <p:cNvSpPr/>
            <p:nvPr/>
          </p:nvSpPr>
          <p:spPr>
            <a:xfrm>
              <a:off x="345240" y="537372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Значит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517400" y="5415120"/>
              <a:ext cx="3263040" cy="368280"/>
              <a:chOff x="1517400" y="5415120"/>
              <a:chExt cx="3263040" cy="368280"/>
            </a:xfrm>
          </p:grpSpPr>
          <p:sp>
            <p:nvSpPr>
              <p:cNvPr id="350" name=""/>
              <p:cNvSpPr/>
              <p:nvPr/>
            </p:nvSpPr>
            <p:spPr>
              <a:xfrm>
                <a:off x="1868760" y="5415120"/>
                <a:ext cx="291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 +    C =    B +   D = 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3749400" y="5472000"/>
                <a:ext cx="216000" cy="216000"/>
                <a:chOff x="3749400" y="5472000"/>
                <a:chExt cx="216000" cy="216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74940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374940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236680" y="5472000"/>
                <a:ext cx="215640" cy="216000"/>
                <a:chOff x="2236680" y="5472000"/>
                <a:chExt cx="215640" cy="2160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236680" y="56880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2236680" y="54720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28680" y="5472000"/>
                <a:ext cx="216000" cy="216000"/>
                <a:chOff x="3028680" y="5472000"/>
                <a:chExt cx="216000" cy="2160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02868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302868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517400" y="5472000"/>
                <a:ext cx="216000" cy="216000"/>
                <a:chOff x="1517400" y="5472000"/>
                <a:chExt cx="216000" cy="2160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51740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51740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3" name=""/>
          <p:cNvSpPr/>
          <p:nvPr/>
        </p:nvSpPr>
        <p:spPr>
          <a:xfrm>
            <a:off x="817560" y="5964120"/>
            <a:ext cx="78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ая формулировка теоремы: </a:t>
            </a: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во вписанном в окру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четырёхугольнике сумма противоположных углов равна 18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29400" y="1844640"/>
            <a:ext cx="2341080" cy="2249640"/>
            <a:chOff x="329400" y="1844640"/>
            <a:chExt cx="2341080" cy="2249640"/>
          </a:xfrm>
        </p:grpSpPr>
        <p:grpSp>
          <p:nvGrpSpPr>
            <p:cNvPr id="365" name=""/>
            <p:cNvGrpSpPr/>
            <p:nvPr/>
          </p:nvGrpSpPr>
          <p:grpSpPr>
            <a:xfrm>
              <a:off x="329400" y="1844640"/>
              <a:ext cx="2341080" cy="2249640"/>
              <a:chOff x="329400" y="1844640"/>
              <a:chExt cx="2341080" cy="2249640"/>
            </a:xfrm>
          </p:grpSpPr>
          <p:sp>
            <p:nvSpPr>
              <p:cNvPr id="366" name=""/>
              <p:cNvSpPr/>
              <p:nvPr/>
            </p:nvSpPr>
            <p:spPr>
              <a:xfrm>
                <a:off x="489600" y="2084040"/>
                <a:ext cx="1862280" cy="174168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541080" y="2084040"/>
                <a:ext cx="1724400" cy="1692000"/>
                <a:chOff x="541080" y="2084040"/>
                <a:chExt cx="1724400" cy="1692000"/>
              </a:xfrm>
            </p:grpSpPr>
            <p:sp>
              <p:nvSpPr>
                <p:cNvPr id="368" name=""/>
                <p:cNvSpPr/>
                <p:nvPr/>
              </p:nvSpPr>
              <p:spPr>
                <a:xfrm flipH="1">
                  <a:off x="541080" y="2084040"/>
                  <a:ext cx="760320" cy="54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301400" y="2084040"/>
                  <a:ext cx="964080" cy="49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41080" y="2630520"/>
                  <a:ext cx="1216800" cy="114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1757880" y="2580840"/>
                  <a:ext cx="507600" cy="119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1403640" y="2930400"/>
                <a:ext cx="4896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14320" y="37260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9400" y="24393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46240" y="18446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322000" y="24318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1421280" y="2651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14880" y="404640"/>
            <a:ext cx="767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ратная теорема: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если сумма противоположных уг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четырёхугольника равна 18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Verdana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, то око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его можно описать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67120" y="164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024360" y="1808280"/>
            <a:ext cx="4608360" cy="368280"/>
            <a:chOff x="3024360" y="1808280"/>
            <a:chExt cx="4608360" cy="368280"/>
          </a:xfrm>
        </p:grpSpPr>
        <p:sp>
          <p:nvSpPr>
            <p:cNvPr id="381" name=""/>
            <p:cNvSpPr/>
            <p:nvPr/>
          </p:nvSpPr>
          <p:spPr>
            <a:xfrm>
              <a:off x="3024360" y="1808280"/>
              <a:ext cx="46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,      A +    C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543640" y="1844640"/>
              <a:ext cx="215640" cy="216000"/>
              <a:chOff x="5543640" y="1844640"/>
              <a:chExt cx="215640" cy="216000"/>
            </a:xfrm>
          </p:grpSpPr>
          <p:sp>
            <p:nvSpPr>
              <p:cNvPr id="383" name=""/>
              <p:cNvSpPr/>
              <p:nvPr/>
            </p:nvSpPr>
            <p:spPr>
              <a:xfrm>
                <a:off x="5543640" y="2060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543640" y="1844640"/>
                <a:ext cx="2156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751280" y="1881000"/>
              <a:ext cx="216000" cy="216000"/>
              <a:chOff x="4751280" y="1881000"/>
              <a:chExt cx="216000" cy="216000"/>
            </a:xfrm>
          </p:grpSpPr>
          <p:sp>
            <p:nvSpPr>
              <p:cNvPr id="386" name=""/>
              <p:cNvSpPr/>
              <p:nvPr/>
            </p:nvSpPr>
            <p:spPr>
              <a:xfrm>
                <a:off x="4751280" y="209700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751280" y="1881000"/>
                <a:ext cx="21600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364320" y="1305000"/>
            <a:ext cx="2341080" cy="2249640"/>
            <a:chOff x="364320" y="1305000"/>
            <a:chExt cx="2341080" cy="2249640"/>
          </a:xfrm>
        </p:grpSpPr>
        <p:grpSp>
          <p:nvGrpSpPr>
            <p:cNvPr id="389" name=""/>
            <p:cNvGrpSpPr/>
            <p:nvPr/>
          </p:nvGrpSpPr>
          <p:grpSpPr>
            <a:xfrm>
              <a:off x="364320" y="1305000"/>
              <a:ext cx="2341080" cy="2249640"/>
              <a:chOff x="364320" y="1305000"/>
              <a:chExt cx="2341080" cy="2249640"/>
            </a:xfrm>
          </p:grpSpPr>
          <p:sp>
            <p:nvSpPr>
              <p:cNvPr id="390" name=""/>
              <p:cNvSpPr/>
              <p:nvPr/>
            </p:nvSpPr>
            <p:spPr>
              <a:xfrm>
                <a:off x="524520" y="1544400"/>
                <a:ext cx="1862280" cy="174168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576000" y="1544400"/>
                <a:ext cx="1724400" cy="1692000"/>
                <a:chOff x="576000" y="1544400"/>
                <a:chExt cx="1724400" cy="1692000"/>
              </a:xfrm>
            </p:grpSpPr>
            <p:sp>
              <p:nvSpPr>
                <p:cNvPr id="392" name=""/>
                <p:cNvSpPr/>
                <p:nvPr/>
              </p:nvSpPr>
              <p:spPr>
                <a:xfrm flipH="1">
                  <a:off x="576000" y="1544400"/>
                  <a:ext cx="760320" cy="54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336320" y="1544400"/>
                  <a:ext cx="964080" cy="49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76000" y="2090880"/>
                  <a:ext cx="1216800" cy="114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1792800" y="2041200"/>
                  <a:ext cx="507600" cy="119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438560" y="2390760"/>
                <a:ext cx="4896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49240" y="3186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4320" y="18997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181160" y="13050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56920" y="189216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529280" y="211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943000" y="2471760"/>
            <a:ext cx="5136840" cy="388800"/>
            <a:chOff x="2943000" y="2471760"/>
            <a:chExt cx="5136840" cy="388800"/>
          </a:xfrm>
        </p:grpSpPr>
        <p:sp>
          <p:nvSpPr>
            <p:cNvPr id="403" name=""/>
            <p:cNvSpPr/>
            <p:nvPr/>
          </p:nvSpPr>
          <p:spPr>
            <a:xfrm>
              <a:off x="2943000" y="247176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оказать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85240" y="249228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кр.(О;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а около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108960" y="303372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 № 729 (учеб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0040" y="4076640"/>
            <a:ext cx="72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круг какого четырёхугольника нельзя описать окруж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4600" y="333360"/>
            <a:ext cx="79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едствие 1: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оло любого прямоугольника можно опис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ружность, её центр – точка пересечения диагон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19280" y="1449360"/>
            <a:ext cx="1761120" cy="1620000"/>
            <a:chOff x="719280" y="1449360"/>
            <a:chExt cx="1761120" cy="1620000"/>
          </a:xfrm>
        </p:grpSpPr>
        <p:grpSp>
          <p:nvGrpSpPr>
            <p:cNvPr id="409" name=""/>
            <p:cNvGrpSpPr/>
            <p:nvPr/>
          </p:nvGrpSpPr>
          <p:grpSpPr>
            <a:xfrm>
              <a:off x="719280" y="1449360"/>
              <a:ext cx="1761120" cy="1620000"/>
              <a:chOff x="719280" y="1449360"/>
              <a:chExt cx="1761120" cy="1620000"/>
            </a:xfrm>
          </p:grpSpPr>
          <p:sp>
            <p:nvSpPr>
              <p:cNvPr id="410" name=""/>
              <p:cNvSpPr/>
              <p:nvPr/>
            </p:nvSpPr>
            <p:spPr>
              <a:xfrm>
                <a:off x="719280" y="1449360"/>
                <a:ext cx="1761120" cy="162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913320" y="1734480"/>
                <a:ext cx="1371960" cy="1048320"/>
                <a:chOff x="913320" y="1734480"/>
                <a:chExt cx="1371960" cy="104832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913320" y="1734480"/>
                  <a:ext cx="1371600" cy="1047960"/>
                  <a:chOff x="913320" y="1734480"/>
                  <a:chExt cx="1371600" cy="10479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913320" y="1734480"/>
                    <a:ext cx="0" cy="1047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284920" y="1734480"/>
                    <a:ext cx="0" cy="1047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13320" y="2782440"/>
                    <a:ext cx="1371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913320" y="1734480"/>
                    <a:ext cx="1371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 flipV="1">
                  <a:off x="913320" y="1734480"/>
                  <a:ext cx="1371960" cy="104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3320" y="1734480"/>
                  <a:ext cx="1371960" cy="104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>
              <a:off x="1552320" y="2211840"/>
              <a:ext cx="972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09480" y="3500280"/>
            <a:ext cx="76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едствие 2: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оло равнобедренной трапеции можно о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ру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53760" y="4508640"/>
            <a:ext cx="2202480" cy="1750680"/>
            <a:chOff x="653760" y="4508640"/>
            <a:chExt cx="2202480" cy="1750680"/>
          </a:xfrm>
        </p:grpSpPr>
        <p:grpSp>
          <p:nvGrpSpPr>
            <p:cNvPr id="422" name=""/>
            <p:cNvGrpSpPr/>
            <p:nvPr/>
          </p:nvGrpSpPr>
          <p:grpSpPr>
            <a:xfrm>
              <a:off x="653760" y="4508640"/>
              <a:ext cx="2202480" cy="1750680"/>
              <a:chOff x="653760" y="4508640"/>
              <a:chExt cx="2202480" cy="1750680"/>
            </a:xfrm>
          </p:grpSpPr>
          <p:sp>
            <p:nvSpPr>
              <p:cNvPr id="423" name=""/>
              <p:cNvSpPr/>
              <p:nvPr/>
            </p:nvSpPr>
            <p:spPr>
              <a:xfrm>
                <a:off x="936360" y="4508640"/>
                <a:ext cx="1727280" cy="158436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3760" y="450864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26120" y="45435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93560" y="58546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62280" y="5891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042920" y="4832280"/>
              <a:ext cx="1441440" cy="1079640"/>
              <a:chOff x="1042920" y="4832280"/>
              <a:chExt cx="1441440" cy="1079640"/>
            </a:xfrm>
          </p:grpSpPr>
          <p:sp>
            <p:nvSpPr>
              <p:cNvPr id="429" name=""/>
              <p:cNvSpPr/>
              <p:nvPr/>
            </p:nvSpPr>
            <p:spPr>
              <a:xfrm>
                <a:off x="1042920" y="4832280"/>
                <a:ext cx="144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24000" y="5911920"/>
                <a:ext cx="10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2268360" y="4832280"/>
                <a:ext cx="21600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79640" y="4832280"/>
                <a:ext cx="14436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5:06:31Z</dcterms:created>
  <dc:creator>Михайлов</dc:creator>
  <dc:description/>
  <dc:language>en-US</dc:language>
  <cp:lastModifiedBy>Михайлов</cp:lastModifiedBy>
  <dcterms:modified xsi:type="dcterms:W3CDTF">2011-05-15T17:30:15Z</dcterms:modified>
  <cp:revision>20</cp:revision>
  <dc:subject/>
  <dc:title>Описанная окружность</dc:title>
</cp:coreProperties>
</file>