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BE1-9A19-4472-A20F-D2EE52A1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109-A1DD-483C-9187-E6218CF6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B9A-D522-48B7-A977-41029D14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807-9A21-463B-9EAD-2E3F2BC8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C82F-7347-43B1-9F18-E12AAE58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6962-0A98-47B9-AD3B-302EB748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60C9-D4C8-40AD-A5E8-FDC56BBD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1040-9C31-4BF4-9027-2C334CE4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F2C8-9624-483D-9EAC-D48D3E3E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493D-FE94-4222-8D43-4DDBC129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2D2A-A578-4941-BAD8-C6B87BC3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1378-E801-4E2A-B39A-AE98B78E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11B4-9422-499E-B8EF-3D366FB5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0F98-7263-4A2C-8E8D-1CE6C05B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3962-61ED-4E58-BF59-2E3725FA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100A-3EC3-4331-99AA-99EC95CA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ACF9-F093-4A8D-83A9-D29EDF36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D68-1D1D-45C9-B33C-5CD48E17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51D-BEDC-4B12-839F-59C0310C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CB6B-F13F-4CF9-9832-286F1265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0D4-B26F-4460-9ED6-DC67851B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3B2-BA2B-4789-A13C-1D9DF686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263-2423-4211-A9F8-A5DFAE7C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322-E3FB-4E91-B519-11BA8DA6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6B25-E5D3-482D-9551-BDF9B3C837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E118-FE99-4519-B253-E610CF7A4A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yandex.ru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казание первой помощи при травмах и несчастных случая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3645000"/>
            <a:ext cx="468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Автор: Поярова Елена Викто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МОУ «Пинежская средняя школа № 11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ш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4824360" cy="482436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ш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94000" y="1600200"/>
            <a:ext cx="615456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ш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193080" cy="490248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жог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39928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жог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4554720" cy="4608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жог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41936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жог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264360" cy="430056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жог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329440" cy="433548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оражение электрическим токо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5463" t="0" r="15463" b="0"/>
          <a:stretch/>
        </p:blipFill>
        <p:spPr>
          <a:xfrm>
            <a:off x="539640" y="1916280"/>
            <a:ext cx="3326040" cy="298260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246560" cy="301140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оражение электрическим токо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816360" cy="2239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2031840"/>
            <a:ext cx="388620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бщие советы и рекомендаци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76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Помни главное: все твои действия должны быть обдуманными, быстрыми и спокойным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23860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оражение электрическим токо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оражение электрическим токо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3791160" cy="504036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пасение утопающи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769080" cy="46753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пасение утопающи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39936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падание инородных те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падание инородных те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76764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падание инородных те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95604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кусы животн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3490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кусы животн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57480" y="1600200"/>
            <a:ext cx="4829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кусы животн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489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помн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м делом обязательно сообщи кому-либо из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зросл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 несчастном случа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нужно – кричи, громко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зови на помощ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можно скорее вызови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корую помощ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ам или попроси об этом кого-нибу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кусы насеком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22480" y="1600200"/>
            <a:ext cx="3353040" cy="449280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кусы насеком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59054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048360" cy="453708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пользованные материал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А. Крутецкая «Правила здоровья и оказание первой помощи», С-Пб.,Литера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 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5480" y="357336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yandex.ru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41497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medfox.ru/po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8720" y="479736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nedug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помн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результате несчастного случая человек потерял сознание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не пытайся перемещать е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это может ухудшить его состояние. Пострадавшему лучше всего лежать на спине так, чтобы ноги были немного выше, чем туловищ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помочь пострадавшему легче дышать,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расстегни его ворот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развяжи галстук, ослабь туго затянутый поя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резы и ссади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90840" y="1833480"/>
            <a:ext cx="59623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резы и ссади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33564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резы и ссади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2387520"/>
            <a:ext cx="3886200" cy="2844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3886200" cy="2844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резы и ссади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713400" cy="511164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ш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327640" cy="487188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8:18:06Z</dcterms:created>
  <dc:creator> </dc:creator>
  <dc:description/>
  <dc:language>en-US</dc:language>
  <cp:lastModifiedBy>ADMIN</cp:lastModifiedBy>
  <dcterms:modified xsi:type="dcterms:W3CDTF">2011-10-10T07:57:48Z</dcterms:modified>
  <cp:revision>7</cp:revision>
  <dc:subject/>
  <dc:title> Оказание первой помощи при травмах и несчастных случаях</dc:title>
</cp:coreProperties>
</file>