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2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8.png" ContentType="image/png"/>
  <Override PartName="/ppt/media/image6.jpeg" ContentType="image/jpeg"/>
  <Override PartName="/ppt/media/image10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9.png" ContentType="image/pn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B027-0875-48BF-9196-B26710DCA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36B7-896A-4BB1-BD71-293C77C0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F524-52B1-402F-8FD8-F42E37114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025D-3398-4DA9-B80E-980302683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2948-6421-4D70-AA31-AA89C528D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34A8-39BF-4C78-AA32-3AF84CA4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72F4-E9D7-4BC7-8F09-E80935FD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81B9-5822-470F-80B7-79413C5A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5A8C-8472-4652-95BD-608F7760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AFA8-AAC7-4DB0-ADE3-9248B002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F3D1-95DA-49EA-828E-3F662146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DC59-E772-4BFE-93A4-E399B281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81EE-779B-449C-9024-D84F576B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A494-793F-44E0-ACA9-B1C57125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1A01-5D87-4CCD-A5BF-A7825D64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97FA-956C-480E-97DC-6A5124215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445C-5C39-493F-ADFA-0813F1652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8521-1234-44F1-BDFD-12898345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A59C-A45D-4576-B3E3-0331AEBA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0B86-A386-44B5-A4BB-EBF98C88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E8CB-8118-4062-A857-B79BF05F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2AFE-D02C-4072-8082-4CA6326F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3A2A-7FB6-41EE-A9D8-67888F47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B43F-C479-4C09-9672-995DA4ED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7E9C-4A6C-4C22-A7F4-B5940CA034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0A2F-82D5-43A1-ABFF-DE66E498DD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yandex.ru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казание первой помощи при травмах и несчастных случаях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59280" y="3645000"/>
            <a:ext cx="4681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Автор: Поярова Елена Викторо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cc"/>
                </a:solidFill>
                <a:latin typeface="Arial"/>
              </a:rPr>
              <a:t>МОУ «Пинежская средняя школа № 117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Ушиб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4824360" cy="482436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Ушиб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94000" y="1600200"/>
            <a:ext cx="6154560" cy="441972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Ушиб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193080" cy="490248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39400" y="273240"/>
            <a:ext cx="792612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жог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399280" cy="441972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жог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4554720" cy="460872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жог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419360" cy="441972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жог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264360" cy="430056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жог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63640" y="1700280"/>
            <a:ext cx="5329440" cy="433548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оражение электрическим током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15463" t="0" r="15463" b="0"/>
          <a:stretch/>
        </p:blipFill>
        <p:spPr>
          <a:xfrm>
            <a:off x="539640" y="1916280"/>
            <a:ext cx="3326040" cy="298260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140360" y="1916280"/>
            <a:ext cx="4246560" cy="301140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оражение электрическим током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3816360" cy="2239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48320" y="2031840"/>
            <a:ext cx="3886200" cy="35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239400" y="273240"/>
            <a:ext cx="792612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Общие советы и рекомендации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763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8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3300"/>
                </a:solidFill>
                <a:latin typeface="Arial"/>
              </a:rPr>
              <a:t>Помни главное: все твои действия должны быть обдуманными, быстрыми и спокойными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71640" y="3429000"/>
            <a:ext cx="238608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оражение электрическим током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4608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оражение электрическим током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050920" y="1413000"/>
            <a:ext cx="3791160" cy="504036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Спасение утопающих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6769080" cy="467532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Спасение утопающих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399360" cy="441972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опадание инородных те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60360" y="1600200"/>
            <a:ext cx="6623280" cy="441972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опадание инородных те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6767640" cy="45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опадание инородных те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556000" y="1557360"/>
            <a:ext cx="3956040" cy="441972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Укусы животных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556000" y="1484280"/>
            <a:ext cx="34909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Укусы животных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157480" y="1600200"/>
            <a:ext cx="48290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Укусы животных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4896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39400" y="273240"/>
            <a:ext cx="792612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Запомни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ым делом обязательно сообщи кому-либо из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взрослы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 несчастном случа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нужно – кричи, громко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зови на помощ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можно скорее вызови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скорую помощ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ам или попроси об этом кого-нибуд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Укусы насекомых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922480" y="1600200"/>
            <a:ext cx="3353040" cy="449280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Укусы насекомых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590544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Будьте здоровы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6048360" cy="453708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Использованные материалы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А. Крутецкая «Правила здоровья и оказание первой помощи», С-Пб.,Литера, 20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нет ресур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25480" y="3573360"/>
            <a:ext cx="37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yandex.ru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карти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00000" y="4149720"/>
            <a:ext cx="33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medfox.ru/pom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28720" y="4797360"/>
            <a:ext cx="28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nedug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39400" y="273240"/>
            <a:ext cx="792612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Запомни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в результате несчастного случая человек потерял сознание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не пытайся перемещать ег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это может ухудшить его состояние. Пострадавшему лучше всего лежать на спине так, чтобы ноги были немного выше, чем туловищ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бы помочь пострадавшему легче дышать,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расстегни его воротни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развяжи галстук, ослабь туго затянутый поя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39400" y="273240"/>
            <a:ext cx="792612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орезы и ссадин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90840" y="1833480"/>
            <a:ext cx="596232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39400" y="273240"/>
            <a:ext cx="792612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орезы и ссадин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33564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орезы и ссадин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9480" y="2387520"/>
            <a:ext cx="3886200" cy="284472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643280" y="2421000"/>
            <a:ext cx="3886200" cy="284472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орезы и ссадин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771640" y="1484280"/>
            <a:ext cx="3713400" cy="511164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Ушиб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5327640" cy="4871880"/>
          </a:xfrm>
          <a:prstGeom prst="rect">
            <a:avLst/>
          </a:prstGeom>
          <a:ln w="1908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18:18:06Z</dcterms:created>
  <dc:creator> </dc:creator>
  <dc:description/>
  <dc:language>en-US</dc:language>
  <cp:lastModifiedBy>ADMIN</cp:lastModifiedBy>
  <dcterms:modified xsi:type="dcterms:W3CDTF">2011-10-10T07:57:48Z</dcterms:modified>
  <cp:revision>7</cp:revision>
  <dc:subject/>
  <dc:title> Оказание первой помощи при травмах и несчастных случаях</dc:title>
</cp:coreProperties>
</file>