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26A-2CA4-48BB-B56D-D5B402E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76F2-5102-463C-85DA-DF1BC94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B1D-5CEE-42F1-ABB0-D93B4313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F6E-A1E8-41DA-B6CD-170A5C7A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9A1E-479E-46B6-8EA5-99A564C7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2219-2335-4094-8084-D0C5585B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0363-DC87-4F6E-A732-CC779D4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EAFF-B335-4CCD-8C28-72EEF83A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914-C41B-4A63-A08A-9984E7E1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87E-FA07-4AE2-B4DF-D012F424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5FE-FBD0-40B4-83ED-54D6813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643-8A78-416A-984B-642C044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FC0-22F0-4CE7-898B-E127BB9B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5A1D-6B63-491B-9B02-D6BBAC04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072A-6850-406D-A051-E5F46F8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95C4-CAE3-4631-81E6-752F58E3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A281-9D98-4200-8B47-3C969EE3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A34-AAD9-4DC7-8D72-8120177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104-AABF-4396-879D-D2F9AB1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968-146C-4A98-A77A-64DCAFC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F1C-E197-467A-8F32-EEA19025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28E-D2FF-4701-8F1E-30B31EBF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911-121F-4844-8021-F24DB192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DA2-DD8C-4906-960C-46C23FA0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0984-AAAB-413F-9C69-8A8954CDA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6B9-06C0-41DE-817F-F6C6FFBFF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yandex.r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казание первой помощи при травмах и несчастных случая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645000"/>
            <a:ext cx="46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Автор: Поярова Еле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МОУ «Пинежская средняя школа № 1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824360" cy="4824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902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399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4554720" cy="4608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64360" cy="430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329440" cy="4335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5463" t="0" r="15463" b="0"/>
          <a:stretch/>
        </p:blipFill>
        <p:spPr>
          <a:xfrm>
            <a:off x="539640" y="1916280"/>
            <a:ext cx="3326040" cy="29826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46560" cy="30114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2031840"/>
            <a:ext cx="38862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щие советы и рекоменд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Помни главное: все твои действия должны быть обдуманными, быстрыми и спокойны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386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3791160" cy="5040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9080" cy="46753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9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76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5604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490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57480" y="1600200"/>
            <a:ext cx="482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489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м делом обязательно сообщи кому-либо из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осл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несчастном случа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ужно – кричи, громко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ови на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ожно скорее вызови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корую помощ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ам или попроси об этом кого-нибу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353040" cy="449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59054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материал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А. Крутецкая «Правила здоровья и оказание первой помощи», С-Пб.,Литера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5480" y="35733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yandex.r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1497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medfox.ru/po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4797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nedug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результате несчастного случая человек потерял сознание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 пытайся перемещать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это может ухудшить его состояние. Пострадавшему лучше всего лежать на спине так, чтобы ноги были немного выше, чем тулов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помочь пострадавшему легче дышать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асстегни его ворот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развяжи галстук, ослабь туго затянутый поя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90840" y="1833480"/>
            <a:ext cx="59623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38752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713400" cy="511164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327640" cy="48718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18:06Z</dcterms:created>
  <dc:creator> </dc:creator>
  <dc:description/>
  <dc:language>en-US</dc:language>
  <cp:lastModifiedBy>ADMIN</cp:lastModifiedBy>
  <dcterms:modified xsi:type="dcterms:W3CDTF">2011-10-10T07:57:48Z</dcterms:modified>
  <cp:revision>7</cp:revision>
  <dc:subject/>
  <dc:title> Оказание первой помощи при травмах и несчастных случаях</dc:title>
</cp:coreProperties>
</file>