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camera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0E3-EEB1-46D0-A72D-049DBD3C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2E5-F607-4DF0-9E30-71C1C9D7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18B-AE4D-47D0-90D8-79154999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7C4-93D6-48F3-B6E0-9E3FE4B3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4034-E8AB-40C8-89F7-67EEB838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70AA-B1C7-49EE-8F71-6C3469A9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60F4-628B-4435-951C-DB7AA1F1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B7FE-696D-42AF-8A67-F85749B2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CCE7-EBC7-4DEE-84C5-831FF270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A9ED-460D-4F5F-B9BA-5F957E37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9F35-58BF-4BB9-B130-60B54018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23C-17F3-4458-B53D-7BC32E9C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6D3A-1712-4BF0-B27E-7F82C0D9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D744-016C-4C95-A4C8-CCF6AEB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7960-4025-42C6-80B2-E8A191DF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6D7E-F950-4500-B8C5-9481FFB0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3F1A-68C9-4E36-BD8D-19351259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B26-1F6B-419F-A29D-2F0448D4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01C-CED3-4372-839C-5767E4D4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842-77E9-4394-9BFD-32D4C5B0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F97-1BE0-4B88-9818-72DC0D0F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900-D619-4204-A0C4-032D37D4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F97-E5AA-4BAC-9C58-5F6A297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CF6-A24A-4923-A4FD-6E59F17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25CA-E414-4F4B-835C-0799DB4704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5D37-7464-4661-898C-2FA03E9BB09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урсов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2707920"/>
            <a:ext cx="309564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я математики школы №13 с углубленным изучением английского язы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435640" y="3645000"/>
            <a:ext cx="309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ноградо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ьги Васильев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304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ем прямой треугольной призмы, в основании которой лежит прямоугольный треугольник,  равен произведению площади основания на высо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ubTriangle"/>
          <p:cNvSpPr/>
          <p:nvPr/>
        </p:nvSpPr>
        <p:spPr>
          <a:xfrm rot="7676400">
            <a:off x="142200" y="3105000"/>
            <a:ext cx="2579760" cy="3801960"/>
          </a:xfrm>
          <a:custGeom>
            <a:avLst/>
            <a:gdLst>
              <a:gd name="textAreaLeft" fmla="*/ 998280 w 2579760"/>
              <a:gd name="textAreaRight" fmla="*/ 1935000 w 2579760"/>
              <a:gd name="textAreaTop" fmla="*/ 859680 h 3801960"/>
              <a:gd name="textAreaBottom" fmla="*/ 2239920 h 38019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9767"/>
                </a:lnTo>
                <a:lnTo>
                  <a:pt x="10800" y="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ubTriangle"/>
          <p:cNvSpPr/>
          <p:nvPr/>
        </p:nvSpPr>
        <p:spPr>
          <a:xfrm rot="18476400">
            <a:off x="1002960" y="2030040"/>
            <a:ext cx="2732040" cy="3801960"/>
          </a:xfrm>
          <a:custGeom>
            <a:avLst/>
            <a:gdLst>
              <a:gd name="textAreaLeft" fmla="*/ 1015560 w 2732040"/>
              <a:gd name="textAreaRight" fmla="*/ 2022480 w 2732040"/>
              <a:gd name="textAreaTop" fmla="*/ 859320 h 3801960"/>
              <a:gd name="textAreaBottom" fmla="*/ 2260440 h 3801960"/>
            </a:gdLst>
            <a:ahLst/>
            <a:rect l="textAreaLeft" t="textAreaTop" r="textAreaRight" b="textAreaBottom"/>
            <a:pathLst>
              <a:path w="21600" h="21600">
                <a:moveTo>
                  <a:pt x="10376" y="0"/>
                </a:moveTo>
                <a:lnTo>
                  <a:pt x="0" y="21600"/>
                </a:lnTo>
                <a:lnTo>
                  <a:pt x="21600" y="9767"/>
                </a:lnTo>
                <a:lnTo>
                  <a:pt x="10376" y="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895480" y="3962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V=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916360" y="3933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V=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7667640" y="321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: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4211640" y="39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: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2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2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30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5185E-006 L 0.43003 -0.13611 E">
                                      <p:cBhvr>
                                        <p:cTn id="307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3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37343 -0.10995 E">
                                      <p:cBhvr>
                                        <p:cTn id="315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235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85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6"/>
          <p:cNvSpPr/>
          <p:nvPr/>
        </p:nvSpPr>
        <p:spPr>
          <a:xfrm>
            <a:off x="6137280" y="1560600"/>
            <a:ext cx="0" cy="190476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250920" y="1052640"/>
            <a:ext cx="2952720" cy="62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мотрим произвольную прямую треугольную призму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ABCA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Есл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DABC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рямоугольный, то его можно разбить на два прямоугольных треугольник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ADC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BD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New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3851280" y="3465360"/>
            <a:ext cx="4648320" cy="1371600"/>
          </a:xfrm>
          <a:prstGeom prst="flowChartExtra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851280" y="1484280"/>
            <a:ext cx="4648320" cy="1371600"/>
          </a:xfrm>
          <a:prstGeom prst="flowChartExtra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5603760" y="1484280"/>
            <a:ext cx="533520" cy="1371600"/>
          </a:xfrm>
          <a:prstGeom prst="line">
            <a:avLst/>
          </a:prstGeom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5603760" y="3465360"/>
            <a:ext cx="533520" cy="13716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5603760" y="2703600"/>
            <a:ext cx="304920" cy="152280"/>
          </a:xfrm>
          <a:prstGeom prst="parallelogram">
            <a:avLst>
              <a:gd name="adj" fmla="val 50059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5603760" y="4684680"/>
            <a:ext cx="304920" cy="152280"/>
          </a:xfrm>
          <a:prstGeom prst="parallelogram">
            <a:avLst>
              <a:gd name="adj" fmla="val 50059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5603760" y="2855880"/>
            <a:ext cx="0" cy="1981080"/>
          </a:xfrm>
          <a:prstGeom prst="line">
            <a:avLst/>
          </a:prstGeom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139920" y="4913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                       D                                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3581280" y="3147840"/>
            <a:ext cx="556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6060960" y="1103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213600" y="316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3851280" y="2852640"/>
            <a:ext cx="4648320" cy="1981440"/>
          </a:xfrm>
          <a:prstGeom prst="rect">
            <a:avLst/>
          </a:prstGeom>
          <a:solidFill>
            <a:srgbClr val="ff3399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3960" y="404640"/>
            <a:ext cx="8864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660033"/>
                </a:solidFill>
                <a:uFillTx/>
                <a:latin typeface="Times New Roman"/>
              </a:rPr>
              <a:t>Как же найти объём произвольной призмы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5148360" y="5445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3022560" y="6165720"/>
            <a:ext cx="58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лощадь основания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высота приз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3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254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6"/>
          <p:cNvSpPr/>
          <p:nvPr/>
        </p:nvSpPr>
        <p:spPr>
          <a:xfrm>
            <a:off x="1987560" y="11253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250920" y="4437000"/>
            <a:ext cx="482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свойству объемов, сложив объемы этих треугольных призм, получим объем данной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539640" y="2781360"/>
            <a:ext cx="2971800" cy="1143000"/>
          </a:xfrm>
          <a:prstGeom prst="pentag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39640" y="1125360"/>
            <a:ext cx="2971800" cy="1143000"/>
          </a:xfrm>
          <a:prstGeom prst="pentag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539640" y="15825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149480" y="22683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2987640" y="227664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3511440" y="15825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 flipH="1">
            <a:off x="1149480" y="112536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1149480" y="280188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1987560" y="1125360"/>
            <a:ext cx="9907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1987560" y="2801880"/>
            <a:ext cx="9144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692280" y="26496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1758960" y="3106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2673360" y="2344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4643280" y="3357720"/>
            <a:ext cx="3529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=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25092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усть дана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угольная прямая призма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n&gt;3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4788000" y="1268280"/>
            <a:ext cx="38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обьем ее на конечное число прямых треугольных приз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4572000" y="4437000"/>
            <a:ext cx="457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+S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+S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4643280" y="5516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50920" y="40464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клонная призма равновелика такой прямой призме, у которой основанием служит перпендикулярное сечение наклонной призмы, а высотой – боковое ребро данной накло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1908000" y="2421000"/>
            <a:ext cx="4576680" cy="2437920"/>
            <a:chOff x="1908000" y="2421000"/>
            <a:chExt cx="4576680" cy="2437920"/>
          </a:xfrm>
        </p:grpSpPr>
        <p:grpSp>
          <p:nvGrpSpPr>
            <p:cNvPr id="309" name="Group 31"/>
            <p:cNvGrpSpPr/>
            <p:nvPr/>
          </p:nvGrpSpPr>
          <p:grpSpPr>
            <a:xfrm>
              <a:off x="1908000" y="2421000"/>
              <a:ext cx="4576680" cy="2437920"/>
              <a:chOff x="1908000" y="2421000"/>
              <a:chExt cx="4576680" cy="2437920"/>
            </a:xfrm>
          </p:grpSpPr>
          <p:sp>
            <p:nvSpPr>
              <p:cNvPr id="310" name="AutoShape 27"/>
              <p:cNvSpPr/>
              <p:nvPr/>
            </p:nvSpPr>
            <p:spPr>
              <a:xfrm>
                <a:off x="1990800" y="4046400"/>
                <a:ext cx="3412080" cy="812520"/>
              </a:xfrm>
              <a:prstGeom prst="triangle">
                <a:avLst>
                  <a:gd name="adj" fmla="val 83181"/>
                </a:avLst>
              </a:prstGeom>
              <a:solidFill>
                <a:srgbClr val="00827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AutoShape 28"/>
              <p:cNvSpPr/>
              <p:nvPr/>
            </p:nvSpPr>
            <p:spPr>
              <a:xfrm>
                <a:off x="1908000" y="3233520"/>
                <a:ext cx="4576680" cy="1625400"/>
              </a:xfrm>
              <a:prstGeom prst="parallelogram">
                <a:avLst>
                  <a:gd name="adj" fmla="val 70393"/>
                </a:avLst>
              </a:prstGeom>
              <a:solidFill>
                <a:srgbClr val="6d6fc7">
                  <a:alpha val="50000"/>
                </a:srgbClr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AutoShape 26"/>
              <p:cNvSpPr/>
              <p:nvPr/>
            </p:nvSpPr>
            <p:spPr>
              <a:xfrm>
                <a:off x="3072960" y="2421000"/>
                <a:ext cx="3411720" cy="812520"/>
              </a:xfrm>
              <a:prstGeom prst="triangle">
                <a:avLst>
                  <a:gd name="adj" fmla="val 83181"/>
                </a:avLst>
              </a:prstGeom>
              <a:solidFill>
                <a:srgbClr val="6d6fc7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Line 29"/>
            <p:cNvSpPr/>
            <p:nvPr/>
          </p:nvSpPr>
          <p:spPr>
            <a:xfrm flipH="1">
              <a:off x="4834080" y="2421000"/>
              <a:ext cx="1050120" cy="1600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30"/>
            <p:cNvSpPr/>
            <p:nvPr/>
          </p:nvSpPr>
          <p:spPr>
            <a:xfrm>
              <a:off x="3033360" y="3259080"/>
              <a:ext cx="0" cy="1447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Text Box 34"/>
          <p:cNvSpPr/>
          <p:nvPr/>
        </p:nvSpPr>
        <p:spPr>
          <a:xfrm>
            <a:off x="324000" y="4941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м призмы вычисляется по формуле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h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5"/>
          <p:cNvSpPr/>
          <p:nvPr/>
        </p:nvSpPr>
        <p:spPr>
          <a:xfrm>
            <a:off x="3163680" y="361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476360" y="6922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ОБЪЁМ  ПРИЗМ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187280" y="3284640"/>
            <a:ext cx="7315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АН ТЕМ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ятие объе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новные свойства объём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ъём произволь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557360"/>
            <a:ext cx="792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ъем каждого тела выражается положительным числом, которое показывает, сколько единиц измерения объемов и частей единицы содержится в данном те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 rot="1837800">
            <a:off x="7249680" y="4748040"/>
            <a:ext cx="1452600" cy="136872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8360" y="333360"/>
            <a:ext cx="79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Понятие объ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539640" y="2205000"/>
            <a:ext cx="42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NewRoman"/>
              </a:rPr>
              <a:t>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единицу объема принят объем куба,    ребро которого равно единице дл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4788000" y="1197000"/>
            <a:ext cx="83808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6516720" y="1773360"/>
            <a:ext cx="1523880" cy="144756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4788000" y="4365720"/>
            <a:ext cx="2382840" cy="223200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4716360" y="148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см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659640" y="2421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м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5292720" y="537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ед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8"/>
          <p:cNvSpPr/>
          <p:nvPr/>
        </p:nvSpPr>
        <p:spPr>
          <a:xfrm>
            <a:off x="468360" y="765000"/>
            <a:ext cx="8415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тобы найти объём многогранника, нужно разбить его на кубы с ребром, равным единице измер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30"/>
          <p:cNvSpPr/>
          <p:nvPr/>
        </p:nvSpPr>
        <p:spPr>
          <a:xfrm>
            <a:off x="1487520" y="41371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258920" y="43657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1487520" y="35272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4"/>
          <p:cNvSpPr/>
          <p:nvPr/>
        </p:nvSpPr>
        <p:spPr>
          <a:xfrm>
            <a:off x="1258920" y="37558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2021040" y="4137120"/>
            <a:ext cx="76176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2554200" y="41371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792440" y="4365720"/>
            <a:ext cx="76176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2325600" y="43657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35"/>
          <p:cNvSpPr/>
          <p:nvPr/>
        </p:nvSpPr>
        <p:spPr>
          <a:xfrm>
            <a:off x="2021040" y="3527280"/>
            <a:ext cx="76176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37"/>
          <p:cNvSpPr/>
          <p:nvPr/>
        </p:nvSpPr>
        <p:spPr>
          <a:xfrm>
            <a:off x="2554200" y="35272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3"/>
          <p:cNvSpPr/>
          <p:nvPr/>
        </p:nvSpPr>
        <p:spPr>
          <a:xfrm>
            <a:off x="1792440" y="3755880"/>
            <a:ext cx="76176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2"/>
          <p:cNvSpPr/>
          <p:nvPr/>
        </p:nvSpPr>
        <p:spPr>
          <a:xfrm>
            <a:off x="2325600" y="37558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4932360" y="3860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V=</a:t>
            </a: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12ед.</a:t>
            </a:r>
            <a:r>
              <a:rPr b="1" lang="ru-RU" sz="4400" spc="-1" strike="noStrike" baseline="30000">
                <a:solidFill>
                  <a:srgbClr val="660033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95280" y="380880"/>
            <a:ext cx="836784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NewRoman"/>
              </a:rPr>
              <a:t>Общие свойства объемов тел:</a:t>
            </a:r>
            <a:r>
              <a:rPr b="0" lang="ru-RU" sz="3200" spc="-1" strike="noStrike">
                <a:solidFill>
                  <a:srgbClr val="0000ff"/>
                </a:solidFill>
                <a:latin typeface="TimesNew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вные тела имеют равные объемы, при перемещении тела его объем не изменяетс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ело разбить на части, являющиеся простыми телами, то объем тела равен сумме объемов этих ча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39640" y="1844640"/>
            <a:ext cx="81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вные тела имеют равные объемы, при перемещении тела его объем не изменяется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296000" y="685800"/>
            <a:ext cx="69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Рассмотрим первое свойст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04000" y="4365720"/>
            <a:ext cx="1600200" cy="175248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1258920" y="4292640"/>
            <a:ext cx="1600200" cy="1752480"/>
          </a:xfrm>
          <a:prstGeom prst="flowChartMagneticDisk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258920" y="4365720"/>
            <a:ext cx="1600200" cy="175248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505320" y="43434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292720" y="436572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067280" y="5661000"/>
            <a:ext cx="153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 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5434E-006 L 0.60556 0.00878 E">
                                      <p:cBhvr>
                                        <p:cTn id="22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1295640" y="685800"/>
            <a:ext cx="69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Рассмотрим второе свойст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43000" y="1676520"/>
            <a:ext cx="7467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ело разбить на части, являющиеся простыми телами, то объем тела равен сумме объемов всех ча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ubTriangle"/>
          <p:cNvSpPr/>
          <p:nvPr/>
        </p:nvSpPr>
        <p:spPr>
          <a:xfrm rot="7407600">
            <a:off x="4990680" y="4000320"/>
            <a:ext cx="1523880" cy="1752480"/>
          </a:xfrm>
          <a:custGeom>
            <a:avLst/>
            <a:gdLst>
              <a:gd name="textAreaLeft" fmla="*/ 580680 w 1523880"/>
              <a:gd name="textAreaRight" fmla="*/ 1143000 w 1523880"/>
              <a:gd name="textAreaTop" fmla="*/ 416880 h 1752480"/>
              <a:gd name="textAreaBottom" fmla="*/ 1063440 h 17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276"/>
                </a:lnTo>
                <a:lnTo>
                  <a:pt x="1080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ubTriangle"/>
          <p:cNvSpPr/>
          <p:nvPr/>
        </p:nvSpPr>
        <p:spPr>
          <a:xfrm rot="18339000">
            <a:off x="5409720" y="3429000"/>
            <a:ext cx="1524240" cy="1828800"/>
          </a:xfrm>
          <a:custGeom>
            <a:avLst/>
            <a:gdLst>
              <a:gd name="textAreaLeft" fmla="*/ 608040 w 1524240"/>
              <a:gd name="textAreaRight" fmla="*/ 1147680 w 1524240"/>
              <a:gd name="textAreaTop" fmla="*/ 386280 h 1828800"/>
              <a:gd name="textAreaBottom" fmla="*/ 1033920 h 1828800"/>
            </a:gdLst>
            <a:ahLst/>
            <a:rect l="textAreaLeft" t="textAreaTop" r="textAreaRight" b="textAreaBottom"/>
            <a:pathLst>
              <a:path w="21600" h="21600">
                <a:moveTo>
                  <a:pt x="10927" y="0"/>
                </a:moveTo>
                <a:lnTo>
                  <a:pt x="0" y="21600"/>
                </a:lnTo>
                <a:lnTo>
                  <a:pt x="21600" y="9129"/>
                </a:lnTo>
                <a:lnTo>
                  <a:pt x="10927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9"/>
          <p:cNvGrpSpPr/>
          <p:nvPr/>
        </p:nvGrpSpPr>
        <p:grpSpPr>
          <a:xfrm>
            <a:off x="1752480" y="3657600"/>
            <a:ext cx="1447920" cy="1981080"/>
            <a:chOff x="1752480" y="3657600"/>
            <a:chExt cx="1447920" cy="1981080"/>
          </a:xfrm>
        </p:grpSpPr>
        <p:sp>
          <p:nvSpPr>
            <p:cNvPr id="255" name="AutoShape 5"/>
            <p:cNvSpPr/>
            <p:nvPr/>
          </p:nvSpPr>
          <p:spPr>
            <a:xfrm>
              <a:off x="1752480" y="3657600"/>
              <a:ext cx="1447920" cy="1981080"/>
            </a:xfrm>
            <a:prstGeom prst="cube">
              <a:avLst>
                <a:gd name="adj" fmla="val 25000"/>
              </a:avLst>
            </a:prstGeom>
            <a:solidFill>
              <a:srgbClr val="6d6fc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>
              <a:off x="1752480" y="4038480"/>
              <a:ext cx="106704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2"/>
          <p:cNvSpPr/>
          <p:nvPr/>
        </p:nvSpPr>
        <p:spPr>
          <a:xfrm>
            <a:off x="1619280" y="2205000"/>
            <a:ext cx="2736720" cy="360036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635280" y="32130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484360" y="55166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995640" y="51577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435640" y="35002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V=ab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250920" y="38088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Формула объёма прямоугольного параллелепипе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8:34:46Z</dcterms:created>
  <dc:creator>я</dc:creator>
  <dc:description/>
  <dc:language>en-US</dc:language>
  <cp:lastModifiedBy>Коля</cp:lastModifiedBy>
  <dcterms:modified xsi:type="dcterms:W3CDTF">2013-03-29T15:29:14Z</dcterms:modified>
  <cp:revision>44</cp:revision>
  <dc:subject/>
  <dc:title>Презентация PowerPoint</dc:title>
</cp:coreProperties>
</file>