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camera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5CE-1C30-44FB-91EC-1A59FB33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7F51-CEE0-4690-AB9A-8E04D189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F0C-D361-49CB-9560-CEECE5AC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B32A-1042-4B98-8975-007DAA7F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C283-B855-477E-975F-DE3C95AD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2749-4C67-4695-A10F-C4001A1F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3C4E-A575-4F90-B524-25653C17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5DF3-BA06-4C82-98D2-DD4E3380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16B8-E80F-4F42-B254-BBA700E0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BB65-07C3-4731-840A-35792E35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CAFD-7E98-472A-BA83-BAD343F5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F65-AFE9-46E9-8FFE-583F5181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6CAC-5033-45A1-8CE3-DD166E83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6CC7-42CE-4B72-A2F0-2A407F3E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BA5B-1CBC-4AE2-B51E-1E1EC2D4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4FD6-C3E3-4770-B58E-315FF3E4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7A2D-CAF7-41A9-AE8F-AEA1299E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D39-A8BE-42E4-BE91-03888B20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5A4-803D-4748-AE51-A6AAC2F2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9C9-A43A-4CA0-9449-9A386874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8D6-0AA2-4AB3-9281-6AC56077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CA9-82D5-4356-8764-39767A8F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5F4-47D2-47A8-8757-256B5705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1A8-431F-4D19-95F8-1153B998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77B7-2467-4F40-BD21-FE044AD6019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151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076D-CA3D-43FC-ABFA-193A943E076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урсов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3640" y="2707920"/>
            <a:ext cx="309564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я математики школы №13 с углубленным изучением английского язы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435640" y="3645000"/>
            <a:ext cx="3097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ноградо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льги Васильев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0" y="3049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ъем прямой треугольной призмы, в основании которой лежит прямоугольный треугольник,  равен произведению площади основания на высо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ubTriangle"/>
          <p:cNvSpPr/>
          <p:nvPr/>
        </p:nvSpPr>
        <p:spPr>
          <a:xfrm rot="7676400">
            <a:off x="142200" y="3105000"/>
            <a:ext cx="2579760" cy="3801960"/>
          </a:xfrm>
          <a:custGeom>
            <a:avLst/>
            <a:gdLst>
              <a:gd name="textAreaLeft" fmla="*/ 998280 w 2579760"/>
              <a:gd name="textAreaRight" fmla="*/ 1935000 w 2579760"/>
              <a:gd name="textAreaTop" fmla="*/ 859680 h 3801960"/>
              <a:gd name="textAreaBottom" fmla="*/ 2239920 h 38019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0" y="21600"/>
                </a:lnTo>
                <a:lnTo>
                  <a:pt x="21600" y="9767"/>
                </a:lnTo>
                <a:lnTo>
                  <a:pt x="10800" y="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ubTriangle"/>
          <p:cNvSpPr/>
          <p:nvPr/>
        </p:nvSpPr>
        <p:spPr>
          <a:xfrm rot="18476400">
            <a:off x="1002960" y="2030040"/>
            <a:ext cx="2732040" cy="3801960"/>
          </a:xfrm>
          <a:custGeom>
            <a:avLst/>
            <a:gdLst>
              <a:gd name="textAreaLeft" fmla="*/ 1015560 w 2732040"/>
              <a:gd name="textAreaRight" fmla="*/ 2022480 w 2732040"/>
              <a:gd name="textAreaTop" fmla="*/ 859320 h 3801960"/>
              <a:gd name="textAreaBottom" fmla="*/ 2260440 h 3801960"/>
            </a:gdLst>
            <a:ahLst/>
            <a:rect l="textAreaLeft" t="textAreaTop" r="textAreaRight" b="textAreaBottom"/>
            <a:pathLst>
              <a:path w="21600" h="21600">
                <a:moveTo>
                  <a:pt x="10376" y="0"/>
                </a:moveTo>
                <a:lnTo>
                  <a:pt x="0" y="21600"/>
                </a:lnTo>
                <a:lnTo>
                  <a:pt x="21600" y="9767"/>
                </a:lnTo>
                <a:lnTo>
                  <a:pt x="10376" y="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2895480" y="39625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V=ab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2916360" y="39337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</a:rPr>
              <a:t>V=ab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7667640" y="3213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: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4211640" y="3933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: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350"/>
                            </p:stCondLst>
                            <p:childTnLst>
                              <p:par>
                                <p:cTn id="29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6850"/>
                            </p:stCondLst>
                            <p:childTnLst>
                              <p:par>
                                <p:cTn id="2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7850"/>
                            </p:stCondLst>
                            <p:childTnLst>
                              <p:par>
                                <p:cTn id="30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85185E-006 L 0.43003 -0.13611 E">
                                      <p:cBhvr>
                                        <p:cTn id="307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985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350"/>
                            </p:stCondLst>
                            <p:childTnLst>
                              <p:par>
                                <p:cTn id="31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0.37343 -0.10995 E">
                                      <p:cBhvr>
                                        <p:cTn id="315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2350"/>
                            </p:stCondLst>
                            <p:childTnLst>
                              <p:par>
                                <p:cTn id="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285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6"/>
          <p:cNvSpPr/>
          <p:nvPr/>
        </p:nvSpPr>
        <p:spPr>
          <a:xfrm>
            <a:off x="6137280" y="1560600"/>
            <a:ext cx="0" cy="1904760"/>
          </a:xfrm>
          <a:prstGeom prst="line">
            <a:avLst/>
          </a:prstGeom>
          <a:ln w="2844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250920" y="1052640"/>
            <a:ext cx="2952720" cy="62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смотрим произвольную прямую треугольную призму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ABCA</a:t>
            </a:r>
            <a:r>
              <a:rPr b="1" lang="ru-RU" sz="2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ru-RU" sz="2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Есл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DABC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прямоугольный, то его можно разбить на два прямоугольных треугольник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ADC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BD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New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3851280" y="3465360"/>
            <a:ext cx="4648320" cy="1371600"/>
          </a:xfrm>
          <a:prstGeom prst="flowChartExtra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851280" y="1484280"/>
            <a:ext cx="4648320" cy="1371600"/>
          </a:xfrm>
          <a:prstGeom prst="flowChartExtra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5603760" y="1484280"/>
            <a:ext cx="533520" cy="1371600"/>
          </a:xfrm>
          <a:prstGeom prst="line">
            <a:avLst/>
          </a:prstGeom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 flipH="1">
            <a:off x="5603760" y="3465360"/>
            <a:ext cx="533520" cy="1371600"/>
          </a:xfrm>
          <a:prstGeom prst="line">
            <a:avLst/>
          </a:prstGeom>
          <a:ln w="2844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5603760" y="2703600"/>
            <a:ext cx="304920" cy="152280"/>
          </a:xfrm>
          <a:prstGeom prst="parallelogram">
            <a:avLst>
              <a:gd name="adj" fmla="val 50059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11"/>
          <p:cNvSpPr/>
          <p:nvPr/>
        </p:nvSpPr>
        <p:spPr>
          <a:xfrm>
            <a:off x="5603760" y="4684680"/>
            <a:ext cx="304920" cy="152280"/>
          </a:xfrm>
          <a:prstGeom prst="parallelogram">
            <a:avLst>
              <a:gd name="adj" fmla="val 50059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5603760" y="2855880"/>
            <a:ext cx="0" cy="1981080"/>
          </a:xfrm>
          <a:prstGeom prst="line">
            <a:avLst/>
          </a:prstGeom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3139920" y="4913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                       D                                 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3581280" y="3147840"/>
            <a:ext cx="556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6060960" y="1103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6213600" y="3160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0"/>
          <p:cNvSpPr/>
          <p:nvPr/>
        </p:nvSpPr>
        <p:spPr>
          <a:xfrm>
            <a:off x="3851280" y="2852640"/>
            <a:ext cx="4648320" cy="1981440"/>
          </a:xfrm>
          <a:prstGeom prst="rect">
            <a:avLst/>
          </a:prstGeom>
          <a:solidFill>
            <a:srgbClr val="ff3399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1"/>
          <p:cNvSpPr/>
          <p:nvPr/>
        </p:nvSpPr>
        <p:spPr>
          <a:xfrm>
            <a:off x="3960" y="404640"/>
            <a:ext cx="8864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660033"/>
                </a:solidFill>
                <a:uFillTx/>
                <a:latin typeface="Times New Roman"/>
              </a:rPr>
              <a:t>Как же найти объём произвольной призмы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2"/>
          <p:cNvSpPr/>
          <p:nvPr/>
        </p:nvSpPr>
        <p:spPr>
          <a:xfrm>
            <a:off x="5148360" y="5445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=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3022560" y="6165720"/>
            <a:ext cx="58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лощадь основания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высота приз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3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3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3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37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2540"/>
                            </p:stCondLst>
                            <p:childTnLst>
                              <p:par>
                                <p:cTn id="4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8,10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6"/>
          <p:cNvSpPr/>
          <p:nvPr/>
        </p:nvSpPr>
        <p:spPr>
          <a:xfrm>
            <a:off x="1987560" y="112536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250920" y="4437000"/>
            <a:ext cx="482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свойству объемов, сложив объемы этих треугольных призм, получим объем данной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539640" y="2781360"/>
            <a:ext cx="2971800" cy="1143000"/>
          </a:xfrm>
          <a:prstGeom prst="pentag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539640" y="1125360"/>
            <a:ext cx="2971800" cy="1143000"/>
          </a:xfrm>
          <a:prstGeom prst="pentag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>
            <a:off x="539640" y="158256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149480" y="226836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2987640" y="227664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3511440" y="158256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 flipH="1">
            <a:off x="1149480" y="1125360"/>
            <a:ext cx="8380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1149480" y="2801880"/>
            <a:ext cx="8380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1987560" y="1125360"/>
            <a:ext cx="9907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1987560" y="2801880"/>
            <a:ext cx="91440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692280" y="26496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1758960" y="3106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6"/>
          <p:cNvSpPr/>
          <p:nvPr/>
        </p:nvSpPr>
        <p:spPr>
          <a:xfrm>
            <a:off x="2673360" y="23446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7"/>
          <p:cNvSpPr/>
          <p:nvPr/>
        </p:nvSpPr>
        <p:spPr>
          <a:xfrm>
            <a:off x="4643280" y="3357720"/>
            <a:ext cx="3529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=V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V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V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0"/>
          <p:cNvSpPr/>
          <p:nvPr/>
        </p:nvSpPr>
        <p:spPr>
          <a:xfrm>
            <a:off x="250920" y="333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усть дана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угольная прямая призма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n&gt;3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4788000" y="1268280"/>
            <a:ext cx="388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обьем ее на конечное число прямых треугольных приз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4572000" y="4437000"/>
            <a:ext cx="4572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=S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+S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+S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26"/>
          <p:cNvSpPr/>
          <p:nvPr/>
        </p:nvSpPr>
        <p:spPr>
          <a:xfrm>
            <a:off x="4643280" y="5516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=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50920" y="40464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клонная призма равновелика такой прямой призме, у которой основанием служит перпендикулярное сечение наклонной призмы, а высотой – боковое ребро данной наклонной пр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32"/>
          <p:cNvGrpSpPr/>
          <p:nvPr/>
        </p:nvGrpSpPr>
        <p:grpSpPr>
          <a:xfrm>
            <a:off x="1908000" y="2421000"/>
            <a:ext cx="4576680" cy="2437920"/>
            <a:chOff x="1908000" y="2421000"/>
            <a:chExt cx="4576680" cy="2437920"/>
          </a:xfrm>
        </p:grpSpPr>
        <p:grpSp>
          <p:nvGrpSpPr>
            <p:cNvPr id="309" name="Group 31"/>
            <p:cNvGrpSpPr/>
            <p:nvPr/>
          </p:nvGrpSpPr>
          <p:grpSpPr>
            <a:xfrm>
              <a:off x="1908000" y="2421000"/>
              <a:ext cx="4576680" cy="2437920"/>
              <a:chOff x="1908000" y="2421000"/>
              <a:chExt cx="4576680" cy="2437920"/>
            </a:xfrm>
          </p:grpSpPr>
          <p:sp>
            <p:nvSpPr>
              <p:cNvPr id="310" name="AutoShape 27"/>
              <p:cNvSpPr/>
              <p:nvPr/>
            </p:nvSpPr>
            <p:spPr>
              <a:xfrm>
                <a:off x="1990800" y="4046400"/>
                <a:ext cx="3412080" cy="812520"/>
              </a:xfrm>
              <a:prstGeom prst="triangle">
                <a:avLst>
                  <a:gd name="adj" fmla="val 83181"/>
                </a:avLst>
              </a:prstGeom>
              <a:solidFill>
                <a:srgbClr val="00827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AutoShape 28"/>
              <p:cNvSpPr/>
              <p:nvPr/>
            </p:nvSpPr>
            <p:spPr>
              <a:xfrm>
                <a:off x="1908000" y="3233520"/>
                <a:ext cx="4576680" cy="1625400"/>
              </a:xfrm>
              <a:prstGeom prst="parallelogram">
                <a:avLst>
                  <a:gd name="adj" fmla="val 70393"/>
                </a:avLst>
              </a:prstGeom>
              <a:solidFill>
                <a:srgbClr val="6d6fc7">
                  <a:alpha val="50000"/>
                </a:srgbClr>
              </a:solidFill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AutoShape 26"/>
              <p:cNvSpPr/>
              <p:nvPr/>
            </p:nvSpPr>
            <p:spPr>
              <a:xfrm>
                <a:off x="3072960" y="2421000"/>
                <a:ext cx="3411720" cy="812520"/>
              </a:xfrm>
              <a:prstGeom prst="triangle">
                <a:avLst>
                  <a:gd name="adj" fmla="val 83181"/>
                </a:avLst>
              </a:prstGeom>
              <a:solidFill>
                <a:srgbClr val="6d6fc7"/>
              </a:solidFill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Line 29"/>
            <p:cNvSpPr/>
            <p:nvPr/>
          </p:nvSpPr>
          <p:spPr>
            <a:xfrm flipH="1">
              <a:off x="4834080" y="2421000"/>
              <a:ext cx="1050120" cy="1600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30"/>
            <p:cNvSpPr/>
            <p:nvPr/>
          </p:nvSpPr>
          <p:spPr>
            <a:xfrm>
              <a:off x="3033360" y="3259080"/>
              <a:ext cx="0" cy="14479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Text Box 34"/>
          <p:cNvSpPr/>
          <p:nvPr/>
        </p:nvSpPr>
        <p:spPr>
          <a:xfrm>
            <a:off x="324000" y="494172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ъем призмы вычисляется по формуле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=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h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5"/>
          <p:cNvSpPr/>
          <p:nvPr/>
        </p:nvSpPr>
        <p:spPr>
          <a:xfrm>
            <a:off x="3163680" y="361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8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476360" y="69228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Times New Roman"/>
              </a:rPr>
              <a:t>ОБЪЁМ  ПРИЗМЫ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187280" y="3284640"/>
            <a:ext cx="7315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ЛАН ТЕМЫ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нятие объе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сновные свойства объём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ъём произвольной пр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55640" y="1557360"/>
            <a:ext cx="7926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бъем каждого тела выражается положительным числом, которое показывает, сколько единиц измерения объемов и частей единицы содержится в данном тел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 rot="1837800">
            <a:off x="7249680" y="4748040"/>
            <a:ext cx="1452600" cy="136872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8360" y="333360"/>
            <a:ext cx="792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Понятие объ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3"/>
          <p:cNvSpPr/>
          <p:nvPr/>
        </p:nvSpPr>
        <p:spPr>
          <a:xfrm>
            <a:off x="539640" y="2205000"/>
            <a:ext cx="42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NewRoman"/>
              </a:rPr>
              <a:t>З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единицу объема принят объем куба,    ребро которого равно единице дл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4788000" y="1197000"/>
            <a:ext cx="83808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6516720" y="1773360"/>
            <a:ext cx="1523880" cy="144756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4788000" y="4365720"/>
            <a:ext cx="2382840" cy="223200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4716360" y="148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см</a:t>
            </a:r>
            <a:r>
              <a:rPr b="0" lang="ru-RU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659640" y="2421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м</a:t>
            </a:r>
            <a:r>
              <a:rPr b="0" lang="ru-RU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5292720" y="5373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ед</a:t>
            </a:r>
            <a:r>
              <a:rPr b="0" lang="ru-RU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8"/>
          <p:cNvSpPr/>
          <p:nvPr/>
        </p:nvSpPr>
        <p:spPr>
          <a:xfrm>
            <a:off x="468360" y="765000"/>
            <a:ext cx="8415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тобы найти объём многогранника, нужно разбить его на кубы с ребром, равным единице измер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30"/>
          <p:cNvSpPr/>
          <p:nvPr/>
        </p:nvSpPr>
        <p:spPr>
          <a:xfrm>
            <a:off x="1487520" y="4137120"/>
            <a:ext cx="76212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1258920" y="4365720"/>
            <a:ext cx="76212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1487520" y="3527280"/>
            <a:ext cx="762120" cy="83844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44"/>
          <p:cNvSpPr/>
          <p:nvPr/>
        </p:nvSpPr>
        <p:spPr>
          <a:xfrm>
            <a:off x="1258920" y="3755880"/>
            <a:ext cx="762120" cy="83844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31"/>
          <p:cNvSpPr/>
          <p:nvPr/>
        </p:nvSpPr>
        <p:spPr>
          <a:xfrm>
            <a:off x="2021040" y="4137120"/>
            <a:ext cx="76176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32"/>
          <p:cNvSpPr/>
          <p:nvPr/>
        </p:nvSpPr>
        <p:spPr>
          <a:xfrm>
            <a:off x="2554200" y="4137120"/>
            <a:ext cx="76212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1792440" y="4365720"/>
            <a:ext cx="76176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2"/>
          <p:cNvSpPr/>
          <p:nvPr/>
        </p:nvSpPr>
        <p:spPr>
          <a:xfrm>
            <a:off x="2325600" y="4365720"/>
            <a:ext cx="762120" cy="83808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35"/>
          <p:cNvSpPr/>
          <p:nvPr/>
        </p:nvSpPr>
        <p:spPr>
          <a:xfrm>
            <a:off x="2021040" y="3527280"/>
            <a:ext cx="761760" cy="83844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37"/>
          <p:cNvSpPr/>
          <p:nvPr/>
        </p:nvSpPr>
        <p:spPr>
          <a:xfrm>
            <a:off x="2554200" y="3527280"/>
            <a:ext cx="762120" cy="83844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43"/>
          <p:cNvSpPr/>
          <p:nvPr/>
        </p:nvSpPr>
        <p:spPr>
          <a:xfrm>
            <a:off x="1792440" y="3755880"/>
            <a:ext cx="761760" cy="83844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42"/>
          <p:cNvSpPr/>
          <p:nvPr/>
        </p:nvSpPr>
        <p:spPr>
          <a:xfrm>
            <a:off x="2325600" y="3755880"/>
            <a:ext cx="762120" cy="838440"/>
          </a:xfrm>
          <a:prstGeom prst="cube">
            <a:avLst>
              <a:gd name="adj" fmla="val 25000"/>
            </a:avLst>
          </a:prstGeom>
          <a:solidFill>
            <a:srgbClr val="6d6f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9"/>
          <p:cNvSpPr/>
          <p:nvPr/>
        </p:nvSpPr>
        <p:spPr>
          <a:xfrm>
            <a:off x="4932360" y="386064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V=</a:t>
            </a: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12ед.</a:t>
            </a:r>
            <a:r>
              <a:rPr b="1" lang="ru-RU" sz="4400" spc="-1" strike="noStrike" baseline="30000">
                <a:solidFill>
                  <a:srgbClr val="660033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1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1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14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1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95280" y="380880"/>
            <a:ext cx="8367840" cy="47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NewRoman"/>
              </a:rPr>
              <a:t>Общие свойства объемов тел:</a:t>
            </a:r>
            <a:r>
              <a:rPr b="0" lang="ru-RU" sz="3200" spc="-1" strike="noStrike">
                <a:solidFill>
                  <a:srgbClr val="0000ff"/>
                </a:solidFill>
                <a:latin typeface="TimesNew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авные тела имеют равные объемы, при перемещении тела его объем не изменяется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тело разбить на части, являющиеся простыми телами, то объем тела равен сумме объемов этих ча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39640" y="1844640"/>
            <a:ext cx="81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вные тела имеют равные объемы, при перемещении тела его объем не изменяется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296000" y="685800"/>
            <a:ext cx="695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Рассмотрим первое свойств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804000" y="4365720"/>
            <a:ext cx="1600200" cy="1752480"/>
          </a:xfrm>
          <a:prstGeom prst="flowChartMagneticDisk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1258920" y="4292640"/>
            <a:ext cx="1600200" cy="1752480"/>
          </a:xfrm>
          <a:prstGeom prst="flowChartMagneticDisk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1258920" y="4365720"/>
            <a:ext cx="1600200" cy="1752480"/>
          </a:xfrm>
          <a:prstGeom prst="flowChartMagneticDisk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3505320" y="434340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292720" y="436572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4067280" y="5661000"/>
            <a:ext cx="1533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= 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5434E-006 L 0.60556 0.00878 E">
                                      <p:cBhvr>
                                        <p:cTn id="224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1295640" y="685800"/>
            <a:ext cx="69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Рассмотрим второе свойств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143000" y="1676520"/>
            <a:ext cx="74674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тело разбить на части, являющиеся простыми телами, то объем тела равен сумме объемов всех ча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ubTriangle"/>
          <p:cNvSpPr/>
          <p:nvPr/>
        </p:nvSpPr>
        <p:spPr>
          <a:xfrm rot="7407600">
            <a:off x="4990680" y="4000320"/>
            <a:ext cx="1523880" cy="1752480"/>
          </a:xfrm>
          <a:custGeom>
            <a:avLst/>
            <a:gdLst>
              <a:gd name="textAreaLeft" fmla="*/ 580680 w 1523880"/>
              <a:gd name="textAreaRight" fmla="*/ 1143000 w 1523880"/>
              <a:gd name="textAreaTop" fmla="*/ 416880 h 1752480"/>
              <a:gd name="textAreaBottom" fmla="*/ 1063440 h 17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0" y="21600"/>
                </a:lnTo>
                <a:lnTo>
                  <a:pt x="21600" y="10276"/>
                </a:lnTo>
                <a:lnTo>
                  <a:pt x="1080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ubTriangle"/>
          <p:cNvSpPr/>
          <p:nvPr/>
        </p:nvSpPr>
        <p:spPr>
          <a:xfrm rot="18339000">
            <a:off x="5409720" y="3429000"/>
            <a:ext cx="1524240" cy="1828800"/>
          </a:xfrm>
          <a:custGeom>
            <a:avLst/>
            <a:gdLst>
              <a:gd name="textAreaLeft" fmla="*/ 608040 w 1524240"/>
              <a:gd name="textAreaRight" fmla="*/ 1147680 w 1524240"/>
              <a:gd name="textAreaTop" fmla="*/ 386280 h 1828800"/>
              <a:gd name="textAreaBottom" fmla="*/ 1033920 h 1828800"/>
            </a:gdLst>
            <a:ahLst/>
            <a:rect l="textAreaLeft" t="textAreaTop" r="textAreaRight" b="textAreaBottom"/>
            <a:pathLst>
              <a:path w="21600" h="21600">
                <a:moveTo>
                  <a:pt x="10927" y="0"/>
                </a:moveTo>
                <a:lnTo>
                  <a:pt x="0" y="21600"/>
                </a:lnTo>
                <a:lnTo>
                  <a:pt x="21600" y="9129"/>
                </a:lnTo>
                <a:lnTo>
                  <a:pt x="10927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9"/>
          <p:cNvGrpSpPr/>
          <p:nvPr/>
        </p:nvGrpSpPr>
        <p:grpSpPr>
          <a:xfrm>
            <a:off x="1752480" y="3657600"/>
            <a:ext cx="1447920" cy="1981080"/>
            <a:chOff x="1752480" y="3657600"/>
            <a:chExt cx="1447920" cy="1981080"/>
          </a:xfrm>
        </p:grpSpPr>
        <p:sp>
          <p:nvSpPr>
            <p:cNvPr id="255" name="AutoShape 5"/>
            <p:cNvSpPr/>
            <p:nvPr/>
          </p:nvSpPr>
          <p:spPr>
            <a:xfrm>
              <a:off x="1752480" y="3657600"/>
              <a:ext cx="1447920" cy="1981080"/>
            </a:xfrm>
            <a:prstGeom prst="cube">
              <a:avLst>
                <a:gd name="adj" fmla="val 25000"/>
              </a:avLst>
            </a:prstGeom>
            <a:solidFill>
              <a:srgbClr val="6d6fc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8"/>
            <p:cNvSpPr/>
            <p:nvPr/>
          </p:nvSpPr>
          <p:spPr>
            <a:xfrm>
              <a:off x="1752480" y="4038480"/>
              <a:ext cx="1067040" cy="160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2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2"/>
          <p:cNvSpPr/>
          <p:nvPr/>
        </p:nvSpPr>
        <p:spPr>
          <a:xfrm>
            <a:off x="1619280" y="2205000"/>
            <a:ext cx="2736720" cy="360036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635280" y="32130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484360" y="551664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995640" y="51577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5435640" y="35002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V=ab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250920" y="38088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33"/>
                </a:solidFill>
                <a:uFillTx/>
                <a:latin typeface="Times New Roman"/>
              </a:rPr>
              <a:t>Формула объёма прямоугольного параллелепипед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18:34:46Z</dcterms:created>
  <dc:creator>я</dc:creator>
  <dc:description/>
  <dc:language>en-US</dc:language>
  <cp:lastModifiedBy>Коля</cp:lastModifiedBy>
  <dcterms:modified xsi:type="dcterms:W3CDTF">2013-03-29T15:29:14Z</dcterms:modified>
  <cp:revision>44</cp:revision>
  <dc:subject/>
  <dc:title>Презентация PowerPoint</dc:title>
</cp:coreProperties>
</file>