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5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37F-C9BD-4D34-8595-4FD32957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1CD-515C-4298-8CC3-BE69AFFB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CFE-E152-4B47-AEC8-9114F9CF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2BC-9116-49A8-BDE0-4AA0598F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3640-ABB6-424D-9706-7D3895B3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D31-E100-40B9-A537-DA899AB6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26B7-5898-4313-92FB-586AC8F3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324A-DD92-4F26-9B4D-0685E760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078-64BB-4D03-9493-01B596C8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F762-8413-4566-8BBE-F0F5C7DE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912-9FB9-4DBB-927F-8E0DFBC8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259-EF26-47BD-8108-4A6F2E79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2A01-0F50-45BF-AD49-E3E9F8007D0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B6F8-B124-463B-A33E-022CFCE557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331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71400" y="1285560"/>
            <a:ext cx="485748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ungsuh"/>
                <a:ea typeface="Gungsuh"/>
              </a:rPr>
              <a:t>Урок литературного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56840" y="3286080"/>
            <a:ext cx="40719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ungsuh"/>
                <a:ea typeface="Gungsuh"/>
              </a:rPr>
              <a:t>Мороз-воевод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C:\Users\KLIM\Desktop\5a1f49d718d7t.jpg"/>
          <p:cNvPicPr/>
          <p:nvPr/>
        </p:nvPicPr>
        <p:blipFill>
          <a:blip r:embed="rId2"/>
          <a:stretch/>
        </p:blipFill>
        <p:spPr>
          <a:xfrm>
            <a:off x="5715000" y="2286000"/>
            <a:ext cx="3143160" cy="442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300px-Centenarydiamond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EABF-57DC-447C-B3A0-C34BAB836CE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ADEB-D478-4B49-A6D7-0D4537446C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Users\KLIM\Desktop\pict_pearl2.jpg"/>
          <p:cNvPicPr/>
          <p:nvPr/>
        </p:nvPicPr>
        <p:blipFill>
          <a:blip r:embed="rId1"/>
          <a:stretch/>
        </p:blipFill>
        <p:spPr>
          <a:xfrm>
            <a:off x="4643280" y="3643200"/>
            <a:ext cx="429264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C:\Users\KLIM\Desktop\1229494237_pearls.jpg"/>
          <p:cNvPicPr/>
          <p:nvPr/>
        </p:nvPicPr>
        <p:blipFill>
          <a:blip r:embed="rId2"/>
          <a:stretch/>
        </p:blipFill>
        <p:spPr>
          <a:xfrm>
            <a:off x="142920" y="95400"/>
            <a:ext cx="4643280" cy="3111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C:\Users\KLIM\Desktop\483__499x417_zhemchug-16.jpg"/>
          <p:cNvPicPr/>
          <p:nvPr/>
        </p:nvPicPr>
        <p:blipFill>
          <a:blip r:embed="rId3"/>
          <a:stretch/>
        </p:blipFill>
        <p:spPr>
          <a:xfrm>
            <a:off x="85680" y="2714760"/>
            <a:ext cx="4657680" cy="3900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C:\Users\KLIM\Desktop\zhem.jpg"/>
          <p:cNvPicPr/>
          <p:nvPr/>
        </p:nvPicPr>
        <p:blipFill>
          <a:blip r:embed="rId4"/>
          <a:stretch/>
        </p:blipFill>
        <p:spPr>
          <a:xfrm>
            <a:off x="4572000" y="21420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C97E-C75B-45E1-8E53-A0A323158BB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81A6-1467-4479-810C-1BBB2AF1AA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PREZENTAC\1\11.jpg"/>
          <p:cNvPicPr/>
          <p:nvPr/>
        </p:nvPicPr>
        <p:blipFill>
          <a:blip r:embed="rId1"/>
          <a:stretch/>
        </p:blipFill>
        <p:spPr>
          <a:xfrm>
            <a:off x="0" y="0"/>
            <a:ext cx="9140760" cy="8143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PREZENTAC\1\34.jpg"/>
          <p:cNvPicPr/>
          <p:nvPr/>
        </p:nvPicPr>
        <p:blipFill>
          <a:blip r:embed="rId1"/>
          <a:stretch/>
        </p:blipFill>
        <p:spPr>
          <a:xfrm>
            <a:off x="-176040" y="0"/>
            <a:ext cx="9378720" cy="78580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A6C8-82DB-4238-8B0E-44E75F05CAE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CC46-3784-4595-8F05-A65A56252A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>
            <a:lum contrast="42000"/>
          </a:blip>
          <a:srcRect l="3678" t="2687" r="4595" b="10796"/>
          <a:stretch/>
        </p:blipFill>
        <p:spPr>
          <a:xfrm>
            <a:off x="214200" y="343080"/>
            <a:ext cx="4503960" cy="651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Дед Мороз в Финляндии, или кто такой «рождественский козёл»"/>
          <p:cNvPicPr/>
          <p:nvPr/>
        </p:nvPicPr>
        <p:blipFill>
          <a:blip r:embed="rId2"/>
          <a:stretch/>
        </p:blipFill>
        <p:spPr>
          <a:xfrm>
            <a:off x="4714920" y="357120"/>
            <a:ext cx="4429080" cy="3292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96" name="Picture 6" descr="Кадр Первого канала"/>
          <p:cNvPicPr/>
          <p:nvPr/>
        </p:nvPicPr>
        <p:blipFill>
          <a:blip r:embed="rId3"/>
          <a:stretch/>
        </p:blipFill>
        <p:spPr>
          <a:xfrm>
            <a:off x="4438800" y="3571920"/>
            <a:ext cx="4705200" cy="3071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938A-302B-4340-8501-239E7958A58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268F-C698-48E7-9671-9F149E0357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rcRect l="0" t="0" r="7678" b="2646"/>
          <a:stretch/>
        </p:blipFill>
        <p:spPr>
          <a:xfrm>
            <a:off x="214200" y="785880"/>
            <a:ext cx="8821800" cy="5803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501040" cy="928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подготовиться к выразительному чтен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324000" y="2276640"/>
            <a:ext cx="8424360" cy="3263040"/>
            <a:chOff x="324000" y="2276640"/>
            <a:chExt cx="8424360" cy="3263040"/>
          </a:xfrm>
        </p:grpSpPr>
        <p:sp>
          <p:nvSpPr>
            <p:cNvPr id="103" name="Text Box 5"/>
            <p:cNvSpPr/>
            <p:nvPr/>
          </p:nvSpPr>
          <p:spPr>
            <a:xfrm>
              <a:off x="3694680" y="2276640"/>
              <a:ext cx="2142360" cy="815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Интон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324000" y="4179960"/>
              <a:ext cx="1685160" cy="81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ила голос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328480" y="4179960"/>
              <a:ext cx="764640" cy="81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о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5824440" y="4179960"/>
              <a:ext cx="918720" cy="81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ау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7063200" y="4179960"/>
              <a:ext cx="1685160" cy="1359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логическ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удар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4587840" y="4179960"/>
              <a:ext cx="918720" cy="81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ит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"/>
            <p:cNvSpPr/>
            <p:nvPr/>
          </p:nvSpPr>
          <p:spPr>
            <a:xfrm>
              <a:off x="3400200" y="4179960"/>
              <a:ext cx="867960" cy="81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ем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H="1">
              <a:off x="1089720" y="3091680"/>
              <a:ext cx="3675240" cy="108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3"/>
            <p:cNvSpPr/>
            <p:nvPr/>
          </p:nvSpPr>
          <p:spPr>
            <a:xfrm flipH="1">
              <a:off x="2775240" y="3091680"/>
              <a:ext cx="1990080" cy="108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 flipH="1">
              <a:off x="3846960" y="3091680"/>
              <a:ext cx="918720" cy="108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>
              <a:off x="4765680" y="3091680"/>
              <a:ext cx="307080" cy="108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6"/>
            <p:cNvSpPr/>
            <p:nvPr/>
          </p:nvSpPr>
          <p:spPr>
            <a:xfrm>
              <a:off x="4765680" y="3091680"/>
              <a:ext cx="1531080" cy="108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4765680" y="3091680"/>
              <a:ext cx="3063240" cy="108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годня на урок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ня удивило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извело впечатление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не понравилось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ня восхищает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 любуюсь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не пришлось по душе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не запомнилось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 считаю, что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PREZENTAC\1\35.jpg"/>
          <p:cNvPicPr/>
          <p:nvPr/>
        </p:nvPicPr>
        <p:blipFill>
          <a:blip r:embed="rId1"/>
          <a:stretch/>
        </p:blipFill>
        <p:spPr>
          <a:xfrm>
            <a:off x="-93600" y="0"/>
            <a:ext cx="9415440" cy="7643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D:\PREZENTAC\1\39.jpg"/>
          <p:cNvPicPr/>
          <p:nvPr/>
        </p:nvPicPr>
        <p:blipFill>
          <a:blip r:embed="rId1"/>
          <a:stretch/>
        </p:blipFill>
        <p:spPr>
          <a:xfrm>
            <a:off x="0" y="27000"/>
            <a:ext cx="9640800" cy="77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FD85-47E7-4A86-8AA7-2667177E183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EE6D-838F-4D9A-9F2F-1E3102D171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50.jpg (6303 bytes)"/>
          <p:cNvPicPr/>
          <p:nvPr/>
        </p:nvPicPr>
        <p:blipFill>
          <a:blip r:embed="rId1"/>
          <a:stretch/>
        </p:blipFill>
        <p:spPr>
          <a:xfrm>
            <a:off x="285840" y="428760"/>
            <a:ext cx="4346640" cy="48369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6"/>
          <p:cNvSpPr/>
          <p:nvPr/>
        </p:nvSpPr>
        <p:spPr>
          <a:xfrm>
            <a:off x="1000080" y="5500800"/>
            <a:ext cx="305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1821-187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C:\Users\KLIM\Desktop\0123-062.jpg"/>
          <p:cNvPicPr/>
          <p:nvPr/>
        </p:nvPicPr>
        <p:blipFill>
          <a:blip r:embed="rId2"/>
          <a:stretch/>
        </p:blipFill>
        <p:spPr>
          <a:xfrm>
            <a:off x="5000760" y="1071720"/>
            <a:ext cx="3652560" cy="5286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4A27-6487-4056-9EA5-7D342BE0446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D894-404D-4E50-A5CB-4C5E1541DE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C:\Users\KLIM\Desktop\dddb0619595e7d7d3384cce69600717b.jpg"/>
          <p:cNvPicPr/>
          <p:nvPr/>
        </p:nvPicPr>
        <p:blipFill>
          <a:blip r:embed="rId1"/>
          <a:stretch/>
        </p:blipFill>
        <p:spPr>
          <a:xfrm>
            <a:off x="55440" y="142920"/>
            <a:ext cx="899820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F500-7CC8-49B9-A31E-E1CDBF62725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10EA-91CF-4D76-A8FE-ED80A7DA8E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C:\Users\KLIM\Desktop\photo36.jpg"/>
          <p:cNvPicPr/>
          <p:nvPr/>
        </p:nvPicPr>
        <p:blipFill>
          <a:blip r:embed="rId1"/>
          <a:stretch/>
        </p:blipFill>
        <p:spPr>
          <a:xfrm>
            <a:off x="4214880" y="214200"/>
            <a:ext cx="4929120" cy="6226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C:\Users\KLIM\Desktop\photo34.jpg"/>
          <p:cNvPicPr/>
          <p:nvPr/>
        </p:nvPicPr>
        <p:blipFill>
          <a:blip r:embed="rId2"/>
          <a:stretch/>
        </p:blipFill>
        <p:spPr>
          <a:xfrm>
            <a:off x="0" y="214200"/>
            <a:ext cx="4427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7CB5-F661-4DF7-8D1C-6C40F867C2F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F5CE-3BF5-49E4-A2AF-DC24DDD17C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Прямоугольник 5" descr=""/>
          <p:cNvPicPr/>
          <p:nvPr/>
        </p:nvPicPr>
        <p:blipFill>
          <a:blip r:embed="rId1"/>
          <a:stretch/>
        </p:blipFill>
        <p:spPr>
          <a:xfrm>
            <a:off x="719280" y="2792520"/>
            <a:ext cx="770544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1000080"/>
            <a:ext cx="3500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иколай Алексеевич Некра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6251-2563-4958-BD09-B7A03F3EFED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A6FC-0487-44EF-8D25-42BF0C832A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Users\KLIM\Desktop\nekrasov.jpg"/>
          <p:cNvPicPr/>
          <p:nvPr/>
        </p:nvPicPr>
        <p:blipFill>
          <a:blip r:embed="rId1"/>
          <a:stretch/>
        </p:blipFill>
        <p:spPr>
          <a:xfrm>
            <a:off x="3857760" y="642960"/>
            <a:ext cx="5062320" cy="6013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8"/>
          <p:cNvSpPr/>
          <p:nvPr/>
        </p:nvSpPr>
        <p:spPr>
          <a:xfrm>
            <a:off x="250920" y="1268280"/>
            <a:ext cx="3463920" cy="4732560"/>
          </a:xfrm>
          <a:prstGeom prst="rect">
            <a:avLst/>
          </a:prstGeom>
          <a:solidFill>
            <a:srgbClr val="95b3d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39640" y="1628640"/>
            <a:ext cx="2818080" cy="586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расов Н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571680" y="5143680"/>
            <a:ext cx="27860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-вое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5"/>
          <p:cNvSpPr/>
          <p:nvPr/>
        </p:nvSpPr>
        <p:spPr>
          <a:xfrm>
            <a:off x="714240" y="2643120"/>
            <a:ext cx="2571840" cy="18576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8"/>
          <p:cNvSpPr/>
          <p:nvPr/>
        </p:nvSpPr>
        <p:spPr>
          <a:xfrm flipH="1">
            <a:off x="3499920" y="2071800"/>
            <a:ext cx="10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9"/>
          <p:cNvSpPr/>
          <p:nvPr/>
        </p:nvSpPr>
        <p:spPr>
          <a:xfrm>
            <a:off x="4857840" y="17146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Ав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0"/>
          <p:cNvSpPr/>
          <p:nvPr/>
        </p:nvSpPr>
        <p:spPr>
          <a:xfrm flipH="1">
            <a:off x="3499920" y="5500800"/>
            <a:ext cx="10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1"/>
          <p:cNvSpPr/>
          <p:nvPr/>
        </p:nvSpPr>
        <p:spPr>
          <a:xfrm>
            <a:off x="4643280" y="514368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Наз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2"/>
          <p:cNvSpPr/>
          <p:nvPr/>
        </p:nvSpPr>
        <p:spPr>
          <a:xfrm flipH="1">
            <a:off x="3286080" y="378612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3"/>
          <p:cNvSpPr/>
          <p:nvPr/>
        </p:nvSpPr>
        <p:spPr>
          <a:xfrm>
            <a:off x="4500720" y="342900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Тема, жан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24A1-0353-4778-AF55-2447279C16A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9B8C-BACC-49B7-B604-1D7236849D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3" descr=""/>
          <p:cNvPicPr/>
          <p:nvPr/>
        </p:nvPicPr>
        <p:blipFill>
          <a:blip r:embed="rId1"/>
          <a:stretch/>
        </p:blipFill>
        <p:spPr>
          <a:xfrm>
            <a:off x="390600" y="781200"/>
            <a:ext cx="8508960" cy="1627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4" descr=""/>
          <p:cNvPicPr/>
          <p:nvPr/>
        </p:nvPicPr>
        <p:blipFill>
          <a:blip r:embed="rId2"/>
          <a:stretch/>
        </p:blipFill>
        <p:spPr>
          <a:xfrm>
            <a:off x="450720" y="1657440"/>
            <a:ext cx="7723440" cy="4657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казк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– это устный рассказ о чем-то необычном, фантастическом, чудесн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ылин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– это произведение русского фольклора о подвигах былинных героев, которые боролись с врагами русской зем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Эпитет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бразное, художественное опреде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лицетворение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редставление в образе живого су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етафора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рытое образное сравнение, уподобление одного предмета, явления друго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равнение. Повторы с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потребление синонимов, антоним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Прямоугольник 5" descr=""/>
          <p:cNvPicPr/>
          <p:nvPr/>
        </p:nvPicPr>
        <p:blipFill>
          <a:blip r:embed="rId1"/>
          <a:stretch/>
        </p:blipFill>
        <p:spPr>
          <a:xfrm>
            <a:off x="371520" y="30240"/>
            <a:ext cx="8327880" cy="1701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A123-550B-424A-BA57-8A5BBF48052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709C-C459-4781-A68A-CE090BE093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D:\PREZENTAC\1\11.jpg"/>
          <p:cNvPicPr/>
          <p:nvPr/>
        </p:nvPicPr>
        <p:blipFill>
          <a:blip r:embed="rId1"/>
          <a:stretch/>
        </p:blipFill>
        <p:spPr>
          <a:xfrm>
            <a:off x="0" y="0"/>
            <a:ext cx="9140760" cy="814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й он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2327400"/>
            <a:ext cx="4038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Волшеб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Силь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Суров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Умел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Хвастлив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Заботлив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00680" y="2071800"/>
            <a:ext cx="4643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Богатыр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Вели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Могуч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Мощ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Могуществен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Всесиль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Gungsuh"/>
              </a:rPr>
              <a:t>Надёж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1000080" y="642960"/>
            <a:ext cx="7000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роз-воевод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9:11:47Z</dcterms:created>
  <dc:creator>KLIM</dc:creator>
  <dc:description>http://aida.ucoz.ru</dc:description>
  <dc:language>en-US</dc:language>
  <cp:lastModifiedBy>KLIM</cp:lastModifiedBy>
  <dcterms:modified xsi:type="dcterms:W3CDTF">2011-04-14T13:56:10Z</dcterms:modified>
  <cp:revision>29</cp:revision>
  <dc:subject/>
  <dc:title>Николай Алексеевич Некрасов</dc:title>
</cp:coreProperties>
</file>