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4.jpeg" ContentType="image/jpeg"/>
  <Override PartName="/ppt/media/image2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5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0C80-5648-403C-BE47-241E9F8D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CCEC-4069-4E57-89C4-F8A6FEC7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1F3-299F-45E0-8C9C-9A6A8AB1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E586-0CC3-4C09-A8AD-34F63AF3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D7A5-89DB-4239-B8A0-371EEF67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18D-9601-4033-9385-E79DE717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108C-03ED-43B5-86DE-69714ED2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6521-B94E-417E-937A-47395908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4BD2-BF36-4620-A7E5-F0EB8DA9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89CE-8F1C-468D-91BF-3320E176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D2BF-7EDA-49BC-95C0-317F612E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EEA4-0C56-467E-A38E-985A98C4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9BC1-A917-4B9E-A8C0-B6DBA5F7814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A231-5FE8-4317-9871-732B0D41DA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0" y="0"/>
            <a:ext cx="9331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71400" y="1285560"/>
            <a:ext cx="485748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ungsuh"/>
                <a:ea typeface="Gungsuh"/>
              </a:rPr>
              <a:t>Урок литературного ч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56840" y="3286080"/>
            <a:ext cx="40719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ungsuh"/>
                <a:ea typeface="Gungsuh"/>
              </a:rPr>
              <a:t>Мороз-воевод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C:\Users\KLIM\Desktop\5a1f49d718d7t.jpg"/>
          <p:cNvPicPr/>
          <p:nvPr/>
        </p:nvPicPr>
        <p:blipFill>
          <a:blip r:embed="rId2"/>
          <a:stretch/>
        </p:blipFill>
        <p:spPr>
          <a:xfrm>
            <a:off x="5715000" y="2286000"/>
            <a:ext cx="3143160" cy="442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300px-Centenarydiamond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CF7F-B24E-448F-91AB-28EF9FD0186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A923-C6B0-42B2-93CE-6052393E63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Users\KLIM\Desktop\pict_pearl2.jpg"/>
          <p:cNvPicPr/>
          <p:nvPr/>
        </p:nvPicPr>
        <p:blipFill>
          <a:blip r:embed="rId1"/>
          <a:stretch/>
        </p:blipFill>
        <p:spPr>
          <a:xfrm>
            <a:off x="4643280" y="3643200"/>
            <a:ext cx="4292640" cy="2857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C:\Users\KLIM\Desktop\1229494237_pearls.jpg"/>
          <p:cNvPicPr/>
          <p:nvPr/>
        </p:nvPicPr>
        <p:blipFill>
          <a:blip r:embed="rId2"/>
          <a:stretch/>
        </p:blipFill>
        <p:spPr>
          <a:xfrm>
            <a:off x="142920" y="95400"/>
            <a:ext cx="4643280" cy="3111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C:\Users\KLIM\Desktop\483__499x417_zhemchug-16.jpg"/>
          <p:cNvPicPr/>
          <p:nvPr/>
        </p:nvPicPr>
        <p:blipFill>
          <a:blip r:embed="rId3"/>
          <a:stretch/>
        </p:blipFill>
        <p:spPr>
          <a:xfrm>
            <a:off x="85680" y="2714760"/>
            <a:ext cx="4657680" cy="3900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C:\Users\KLIM\Desktop\zhem.jpg"/>
          <p:cNvPicPr/>
          <p:nvPr/>
        </p:nvPicPr>
        <p:blipFill>
          <a:blip r:embed="rId4"/>
          <a:stretch/>
        </p:blipFill>
        <p:spPr>
          <a:xfrm>
            <a:off x="4572000" y="214200"/>
            <a:ext cx="4381560" cy="3286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3D1B-4072-4B04-8555-8D027F8FF67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0A4F-21CD-4615-8A5C-17C5E2F5A7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PREZENTAC\1\11.jpg"/>
          <p:cNvPicPr/>
          <p:nvPr/>
        </p:nvPicPr>
        <p:blipFill>
          <a:blip r:embed="rId1"/>
          <a:stretch/>
        </p:blipFill>
        <p:spPr>
          <a:xfrm>
            <a:off x="0" y="0"/>
            <a:ext cx="9140760" cy="8143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:\PREZENTAC\1\34.jpg"/>
          <p:cNvPicPr/>
          <p:nvPr/>
        </p:nvPicPr>
        <p:blipFill>
          <a:blip r:embed="rId1"/>
          <a:stretch/>
        </p:blipFill>
        <p:spPr>
          <a:xfrm>
            <a:off x="-176040" y="0"/>
            <a:ext cx="9378720" cy="78580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6464-FEDA-47A6-8FCC-129192F4B0A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4F74-DF24-4DAC-AFCF-F5C2926F72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>
            <a:lum contrast="42000"/>
          </a:blip>
          <a:srcRect l="3678" t="2687" r="4595" b="10796"/>
          <a:stretch/>
        </p:blipFill>
        <p:spPr>
          <a:xfrm>
            <a:off x="214200" y="343080"/>
            <a:ext cx="4503960" cy="651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Дед Мороз в Финляндии, или кто такой «рождественский козёл»"/>
          <p:cNvPicPr/>
          <p:nvPr/>
        </p:nvPicPr>
        <p:blipFill>
          <a:blip r:embed="rId2"/>
          <a:stretch/>
        </p:blipFill>
        <p:spPr>
          <a:xfrm>
            <a:off x="4714920" y="357120"/>
            <a:ext cx="4429080" cy="3292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96" name="Picture 6" descr="Кадр Первого канала"/>
          <p:cNvPicPr/>
          <p:nvPr/>
        </p:nvPicPr>
        <p:blipFill>
          <a:blip r:embed="rId3"/>
          <a:stretch/>
        </p:blipFill>
        <p:spPr>
          <a:xfrm>
            <a:off x="4438800" y="3571920"/>
            <a:ext cx="4705200" cy="3071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C456-1300-48F6-A0CA-458364EEFA5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1D67-677B-4D78-80CF-92B6210FCC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rcRect l="0" t="0" r="7678" b="2646"/>
          <a:stretch/>
        </p:blipFill>
        <p:spPr>
          <a:xfrm>
            <a:off x="214200" y="785880"/>
            <a:ext cx="8821800" cy="5803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501040" cy="928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подготовиться к выразительному чтени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324000" y="2276640"/>
            <a:ext cx="8424360" cy="3263040"/>
            <a:chOff x="324000" y="2276640"/>
            <a:chExt cx="8424360" cy="3263040"/>
          </a:xfrm>
        </p:grpSpPr>
        <p:sp>
          <p:nvSpPr>
            <p:cNvPr id="103" name="Text Box 5"/>
            <p:cNvSpPr/>
            <p:nvPr/>
          </p:nvSpPr>
          <p:spPr>
            <a:xfrm>
              <a:off x="3694680" y="2276640"/>
              <a:ext cx="2142360" cy="8150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Интон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324000" y="4179960"/>
              <a:ext cx="1685160" cy="815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ила голос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328480" y="4179960"/>
              <a:ext cx="764640" cy="815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то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5824440" y="4179960"/>
              <a:ext cx="918720" cy="815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ау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7063200" y="4179960"/>
              <a:ext cx="1685160" cy="1359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логическ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удар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4587840" y="4179960"/>
              <a:ext cx="918720" cy="815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ит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"/>
            <p:cNvSpPr/>
            <p:nvPr/>
          </p:nvSpPr>
          <p:spPr>
            <a:xfrm>
              <a:off x="3400200" y="4179960"/>
              <a:ext cx="867960" cy="815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тем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 flipH="1">
              <a:off x="1089720" y="3091680"/>
              <a:ext cx="3675240" cy="108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3"/>
            <p:cNvSpPr/>
            <p:nvPr/>
          </p:nvSpPr>
          <p:spPr>
            <a:xfrm flipH="1">
              <a:off x="2775240" y="3091680"/>
              <a:ext cx="1990080" cy="108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 flipH="1">
              <a:off x="3846960" y="3091680"/>
              <a:ext cx="918720" cy="108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>
              <a:off x="4765680" y="3091680"/>
              <a:ext cx="307080" cy="108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6"/>
            <p:cNvSpPr/>
            <p:nvPr/>
          </p:nvSpPr>
          <p:spPr>
            <a:xfrm>
              <a:off x="4765680" y="3091680"/>
              <a:ext cx="1531080" cy="108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7"/>
            <p:cNvSpPr/>
            <p:nvPr/>
          </p:nvSpPr>
          <p:spPr>
            <a:xfrm>
              <a:off x="4765680" y="3091680"/>
              <a:ext cx="3063240" cy="108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годня на урок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ня удивило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извело впечатление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не понравилось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ня восхищает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Я любуюсь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не пришлось по душе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не запомнилось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Я считаю, что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PREZENTAC\1\35.jpg"/>
          <p:cNvPicPr/>
          <p:nvPr/>
        </p:nvPicPr>
        <p:blipFill>
          <a:blip r:embed="rId1"/>
          <a:stretch/>
        </p:blipFill>
        <p:spPr>
          <a:xfrm>
            <a:off x="-93600" y="0"/>
            <a:ext cx="9415440" cy="7643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D:\PREZENTAC\1\39.jpg"/>
          <p:cNvPicPr/>
          <p:nvPr/>
        </p:nvPicPr>
        <p:blipFill>
          <a:blip r:embed="rId1"/>
          <a:stretch/>
        </p:blipFill>
        <p:spPr>
          <a:xfrm>
            <a:off x="0" y="27000"/>
            <a:ext cx="9640800" cy="77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D42D-8811-4B72-A3D6-F219DB3FBB7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6B37-12D0-4AE8-9D2D-AEE6CF9154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50.jpg (6303 bytes)"/>
          <p:cNvPicPr/>
          <p:nvPr/>
        </p:nvPicPr>
        <p:blipFill>
          <a:blip r:embed="rId1"/>
          <a:stretch/>
        </p:blipFill>
        <p:spPr>
          <a:xfrm>
            <a:off x="285840" y="428760"/>
            <a:ext cx="4346640" cy="48369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6"/>
          <p:cNvSpPr/>
          <p:nvPr/>
        </p:nvSpPr>
        <p:spPr>
          <a:xfrm>
            <a:off x="1000080" y="5500800"/>
            <a:ext cx="305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1821-187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C:\Users\KLIM\Desktop\0123-062.jpg"/>
          <p:cNvPicPr/>
          <p:nvPr/>
        </p:nvPicPr>
        <p:blipFill>
          <a:blip r:embed="rId2"/>
          <a:stretch/>
        </p:blipFill>
        <p:spPr>
          <a:xfrm>
            <a:off x="5000760" y="1071720"/>
            <a:ext cx="3652560" cy="5286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0DB9-B53F-434F-94CA-9D623888105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0993-6EFD-493C-A613-5BD224790A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C:\Users\KLIM\Desktop\dddb0619595e7d7d3384cce69600717b.jpg"/>
          <p:cNvPicPr/>
          <p:nvPr/>
        </p:nvPicPr>
        <p:blipFill>
          <a:blip r:embed="rId1"/>
          <a:stretch/>
        </p:blipFill>
        <p:spPr>
          <a:xfrm>
            <a:off x="55440" y="142920"/>
            <a:ext cx="8998200" cy="65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E8D6-5206-4B7D-8ABD-BD2E0372FC6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64C3-37CB-44EE-8687-17B3277CB1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C:\Users\KLIM\Desktop\photo36.jpg"/>
          <p:cNvPicPr/>
          <p:nvPr/>
        </p:nvPicPr>
        <p:blipFill>
          <a:blip r:embed="rId1"/>
          <a:stretch/>
        </p:blipFill>
        <p:spPr>
          <a:xfrm>
            <a:off x="4214880" y="214200"/>
            <a:ext cx="4929120" cy="6226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C:\Users\KLIM\Desktop\photo34.jpg"/>
          <p:cNvPicPr/>
          <p:nvPr/>
        </p:nvPicPr>
        <p:blipFill>
          <a:blip r:embed="rId2"/>
          <a:stretch/>
        </p:blipFill>
        <p:spPr>
          <a:xfrm>
            <a:off x="0" y="214200"/>
            <a:ext cx="44276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B76C-5102-4964-BDD9-FCC2121085E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F52A-06A0-4FE8-9E8E-06C2F611C1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Прямоугольник 5" descr=""/>
          <p:cNvPicPr/>
          <p:nvPr/>
        </p:nvPicPr>
        <p:blipFill>
          <a:blip r:embed="rId1"/>
          <a:stretch/>
        </p:blipFill>
        <p:spPr>
          <a:xfrm>
            <a:off x="719280" y="2792520"/>
            <a:ext cx="770544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4200" y="1000080"/>
            <a:ext cx="3500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иколай Алексеевич Некра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281F-771E-49D3-BFF8-EA7E12B4211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CF59-2962-49CE-9BCD-8EC57ECD0D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Users\KLIM\Desktop\nekrasov.jpg"/>
          <p:cNvPicPr/>
          <p:nvPr/>
        </p:nvPicPr>
        <p:blipFill>
          <a:blip r:embed="rId1"/>
          <a:stretch/>
        </p:blipFill>
        <p:spPr>
          <a:xfrm>
            <a:off x="3857760" y="642960"/>
            <a:ext cx="5062320" cy="6013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8"/>
          <p:cNvSpPr/>
          <p:nvPr/>
        </p:nvSpPr>
        <p:spPr>
          <a:xfrm>
            <a:off x="250920" y="1268280"/>
            <a:ext cx="3463920" cy="4732560"/>
          </a:xfrm>
          <a:prstGeom prst="rect">
            <a:avLst/>
          </a:prstGeom>
          <a:solidFill>
            <a:srgbClr val="95b3d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539640" y="1628640"/>
            <a:ext cx="2818080" cy="586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расов Н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571680" y="5143680"/>
            <a:ext cx="27860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-вое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5"/>
          <p:cNvSpPr/>
          <p:nvPr/>
        </p:nvSpPr>
        <p:spPr>
          <a:xfrm>
            <a:off x="714240" y="2643120"/>
            <a:ext cx="2571840" cy="18576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8"/>
          <p:cNvSpPr/>
          <p:nvPr/>
        </p:nvSpPr>
        <p:spPr>
          <a:xfrm flipH="1">
            <a:off x="3499920" y="2071800"/>
            <a:ext cx="100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9"/>
          <p:cNvSpPr/>
          <p:nvPr/>
        </p:nvSpPr>
        <p:spPr>
          <a:xfrm>
            <a:off x="4857840" y="17146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Ав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0"/>
          <p:cNvSpPr/>
          <p:nvPr/>
        </p:nvSpPr>
        <p:spPr>
          <a:xfrm flipH="1">
            <a:off x="3499920" y="5500800"/>
            <a:ext cx="100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1"/>
          <p:cNvSpPr/>
          <p:nvPr/>
        </p:nvSpPr>
        <p:spPr>
          <a:xfrm>
            <a:off x="4643280" y="514368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Наз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2"/>
          <p:cNvSpPr/>
          <p:nvPr/>
        </p:nvSpPr>
        <p:spPr>
          <a:xfrm flipH="1">
            <a:off x="3286080" y="378612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3"/>
          <p:cNvSpPr/>
          <p:nvPr/>
        </p:nvSpPr>
        <p:spPr>
          <a:xfrm>
            <a:off x="4500720" y="342900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Тема, жан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0572-EDD0-4F8C-AE95-4F6E9972EDA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3B15-6F1D-4FEA-B66F-A87BD95D38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3" descr=""/>
          <p:cNvPicPr/>
          <p:nvPr/>
        </p:nvPicPr>
        <p:blipFill>
          <a:blip r:embed="rId1"/>
          <a:stretch/>
        </p:blipFill>
        <p:spPr>
          <a:xfrm>
            <a:off x="390600" y="781200"/>
            <a:ext cx="8508960" cy="1627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4" descr=""/>
          <p:cNvPicPr/>
          <p:nvPr/>
        </p:nvPicPr>
        <p:blipFill>
          <a:blip r:embed="rId2"/>
          <a:stretch/>
        </p:blipFill>
        <p:spPr>
          <a:xfrm>
            <a:off x="450720" y="1657440"/>
            <a:ext cx="7723440" cy="4657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казк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– это устный рассказ о чем-то необычном, фантастическом, чудесн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Былин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– это произведение русского фольклора о подвигах былинных героев, которые боролись с врагами русской земл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Эпитет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бразное, художественное опреде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лицетворение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редставление в образе живого су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етафора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рытое образное сравнение, уподобление одного предмета, явления друго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равнение. Повторы с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потребление синонимов, антоним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Прямоугольник 5" descr=""/>
          <p:cNvPicPr/>
          <p:nvPr/>
        </p:nvPicPr>
        <p:blipFill>
          <a:blip r:embed="rId1"/>
          <a:stretch/>
        </p:blipFill>
        <p:spPr>
          <a:xfrm>
            <a:off x="371520" y="30240"/>
            <a:ext cx="8327880" cy="1701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B3C1-D488-4B92-B43F-6E5EF740FC9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530D-5D2A-4F7E-AFC7-BBB304993A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D:\PREZENTAC\1\11.jpg"/>
          <p:cNvPicPr/>
          <p:nvPr/>
        </p:nvPicPr>
        <p:blipFill>
          <a:blip r:embed="rId1"/>
          <a:stretch/>
        </p:blipFill>
        <p:spPr>
          <a:xfrm>
            <a:off x="0" y="0"/>
            <a:ext cx="9140760" cy="814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ой он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2327400"/>
            <a:ext cx="4038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Волшеб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Силь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Суров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Умел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Хвастлив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Заботлив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00680" y="2071800"/>
            <a:ext cx="4643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Богатыр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Вели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Могуч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Мощ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Могуществен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Всесиль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Надёж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1000080" y="642960"/>
            <a:ext cx="7000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b0f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роз-воевод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b0f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9:11:47Z</dcterms:created>
  <dc:creator>KLIM</dc:creator>
  <dc:description>http://aida.ucoz.ru</dc:description>
  <dc:language>en-US</dc:language>
  <cp:lastModifiedBy>KLIM</cp:lastModifiedBy>
  <dcterms:modified xsi:type="dcterms:W3CDTF">2011-04-14T13:56:10Z</dcterms:modified>
  <cp:revision>29</cp:revision>
  <dc:subject/>
  <dc:title>Николай Алексеевич Некрасов</dc:title>
</cp:coreProperties>
</file>