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195-FD5F-45D3-A6F0-BA91F46D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4CB-9297-479B-AFB7-9C7DDE89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E20-1317-47A0-9F92-99DDC0EE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15F-713A-4B33-82C5-A56DE11D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B63-1F42-4198-B137-1D693789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C39-4FC3-4DE1-B268-8DB76129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4E6-3ED8-40B9-8634-56B8D98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3BB-68FE-4ACD-A96F-48931A8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5C2-2856-400B-926D-E41C80C0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1AA-E00A-411E-BEA2-BE63FC1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53D-DD33-47C7-990B-97269DE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368-C7F1-48B2-8055-9E5DD40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DF7-7AD8-4D1A-B31F-ECDF27AD69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25D1-F7C2-43A2-988B-DB3F77CF1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71400" y="1285560"/>
            <a:ext cx="485748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ungsuh"/>
                <a:ea typeface="Gungsuh"/>
              </a:rPr>
              <a:t>Урок литературного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6840" y="3286080"/>
            <a:ext cx="4071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ungsuh"/>
                <a:ea typeface="Gungsuh"/>
              </a:rPr>
              <a:t>Мороз-воевод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C:\Users\KLIM\Desktop\5a1f49d718d7t.jpg"/>
          <p:cNvPicPr/>
          <p:nvPr/>
        </p:nvPicPr>
        <p:blipFill>
          <a:blip r:embed="rId2"/>
          <a:stretch/>
        </p:blipFill>
        <p:spPr>
          <a:xfrm>
            <a:off x="5715000" y="228600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00px-Centenary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A467-F291-41C8-9545-0F11896167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093-5596-4FBB-B5A3-EF17C979A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KLIM\Desktop\pict_pearl2.jpg"/>
          <p:cNvPicPr/>
          <p:nvPr/>
        </p:nvPicPr>
        <p:blipFill>
          <a:blip r:embed="rId1"/>
          <a:stretch/>
        </p:blipFill>
        <p:spPr>
          <a:xfrm>
            <a:off x="4643280" y="3643200"/>
            <a:ext cx="42926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Users\KLIM\Desktop\1229494237_pearls.jpg"/>
          <p:cNvPicPr/>
          <p:nvPr/>
        </p:nvPicPr>
        <p:blipFill>
          <a:blip r:embed="rId2"/>
          <a:stretch/>
        </p:blipFill>
        <p:spPr>
          <a:xfrm>
            <a:off x="142920" y="95400"/>
            <a:ext cx="4643280" cy="311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KLIM\Desktop\483__499x417_zhemchug-16.jpg"/>
          <p:cNvPicPr/>
          <p:nvPr/>
        </p:nvPicPr>
        <p:blipFill>
          <a:blip r:embed="rId3"/>
          <a:stretch/>
        </p:blipFill>
        <p:spPr>
          <a:xfrm>
            <a:off x="85680" y="2714760"/>
            <a:ext cx="4657680" cy="3900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Users\KLIM\Desktop\zhem.jpg"/>
          <p:cNvPicPr/>
          <p:nvPr/>
        </p:nvPicPr>
        <p:blipFill>
          <a:blip r:embed="rId4"/>
          <a:stretch/>
        </p:blipFill>
        <p:spPr>
          <a:xfrm>
            <a:off x="4572000" y="21420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68C3-3ADD-419B-B700-F4E5CD1D3B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91E-9FB0-4AD0-AE5F-7178C0A3A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PREZENTAC\1\11.jpg"/>
          <p:cNvPicPr/>
          <p:nvPr/>
        </p:nvPicPr>
        <p:blipFill>
          <a:blip r:embed="rId1"/>
          <a:stretch/>
        </p:blipFill>
        <p:spPr>
          <a:xfrm>
            <a:off x="0" y="0"/>
            <a:ext cx="9140760" cy="814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PREZENTAC\1\34.jpg"/>
          <p:cNvPicPr/>
          <p:nvPr/>
        </p:nvPicPr>
        <p:blipFill>
          <a:blip r:embed="rId1"/>
          <a:stretch/>
        </p:blipFill>
        <p:spPr>
          <a:xfrm>
            <a:off x="-176040" y="0"/>
            <a:ext cx="9378720" cy="7858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C03-6FB1-4068-B2CE-97D52DCF42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FBE-7022-4FC5-9B80-7C9ACEBF7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>
            <a:lum contrast="42000"/>
          </a:blip>
          <a:srcRect l="3678" t="2687" r="4595" b="10796"/>
          <a:stretch/>
        </p:blipFill>
        <p:spPr>
          <a:xfrm>
            <a:off x="214200" y="343080"/>
            <a:ext cx="4503960" cy="65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Дед Мороз в Финляндии, или кто такой «рождественский козёл»"/>
          <p:cNvPicPr/>
          <p:nvPr/>
        </p:nvPicPr>
        <p:blipFill>
          <a:blip r:embed="rId2"/>
          <a:stretch/>
        </p:blipFill>
        <p:spPr>
          <a:xfrm>
            <a:off x="4714920" y="357120"/>
            <a:ext cx="4429080" cy="3292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6" name="Picture 6" descr="Кадр Первого канала"/>
          <p:cNvPicPr/>
          <p:nvPr/>
        </p:nvPicPr>
        <p:blipFill>
          <a:blip r:embed="rId3"/>
          <a:stretch/>
        </p:blipFill>
        <p:spPr>
          <a:xfrm>
            <a:off x="4438800" y="3571920"/>
            <a:ext cx="4705200" cy="3071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DB6-3A4D-4AC8-97D2-00820EB18CF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8B01-4235-4B1E-8BFA-336D3C444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7678" b="2646"/>
          <a:stretch/>
        </p:blipFill>
        <p:spPr>
          <a:xfrm>
            <a:off x="214200" y="785880"/>
            <a:ext cx="8821800" cy="5803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50104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одготовиться к выразительному чт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324000" y="2276640"/>
            <a:ext cx="8424360" cy="3263040"/>
            <a:chOff x="324000" y="2276640"/>
            <a:chExt cx="8424360" cy="3263040"/>
          </a:xfrm>
        </p:grpSpPr>
        <p:sp>
          <p:nvSpPr>
            <p:cNvPr id="103" name="Text Box 5"/>
            <p:cNvSpPr/>
            <p:nvPr/>
          </p:nvSpPr>
          <p:spPr>
            <a:xfrm>
              <a:off x="3694680" y="2276640"/>
              <a:ext cx="2142360" cy="815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нтон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324000" y="4179960"/>
              <a:ext cx="168516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ла голо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328480" y="4179960"/>
              <a:ext cx="76464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5824440" y="4179960"/>
              <a:ext cx="91872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ау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063200" y="4179960"/>
              <a:ext cx="1685160" cy="13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лог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да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587840" y="4179960"/>
              <a:ext cx="91872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3400200" y="4179960"/>
              <a:ext cx="86796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1089720" y="3091680"/>
              <a:ext cx="367524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2775240" y="3091680"/>
              <a:ext cx="1990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>
              <a:off x="3846960" y="3091680"/>
              <a:ext cx="91872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765680" y="3091680"/>
              <a:ext cx="307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4765680" y="3091680"/>
              <a:ext cx="1531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4765680" y="3091680"/>
              <a:ext cx="306324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удивил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извело впечатлени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восхищает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любую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пришлось по душ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запомн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считаю, ч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PREZENTAC\1\35.jpg"/>
          <p:cNvPicPr/>
          <p:nvPr/>
        </p:nvPicPr>
        <p:blipFill>
          <a:blip r:embed="rId1"/>
          <a:stretch/>
        </p:blipFill>
        <p:spPr>
          <a:xfrm>
            <a:off x="-93600" y="0"/>
            <a:ext cx="9415440" cy="764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PREZENTAC\1\39.jpg"/>
          <p:cNvPicPr/>
          <p:nvPr/>
        </p:nvPicPr>
        <p:blipFill>
          <a:blip r:embed="rId1"/>
          <a:stretch/>
        </p:blipFill>
        <p:spPr>
          <a:xfrm>
            <a:off x="0" y="27000"/>
            <a:ext cx="9640800" cy="77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F98-39ED-44BD-99E2-16D78F10A0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E14-E08A-48BD-8DCC-9E7D12111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50.jpg (6303 bytes)"/>
          <p:cNvPicPr/>
          <p:nvPr/>
        </p:nvPicPr>
        <p:blipFill>
          <a:blip r:embed="rId1"/>
          <a:stretch/>
        </p:blipFill>
        <p:spPr>
          <a:xfrm>
            <a:off x="285840" y="428760"/>
            <a:ext cx="4346640" cy="48369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1000080" y="5500800"/>
            <a:ext cx="305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821-18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:\Users\KLIM\Desktop\0123-062.jpg"/>
          <p:cNvPicPr/>
          <p:nvPr/>
        </p:nvPicPr>
        <p:blipFill>
          <a:blip r:embed="rId2"/>
          <a:stretch/>
        </p:blipFill>
        <p:spPr>
          <a:xfrm>
            <a:off x="5000760" y="1071720"/>
            <a:ext cx="3652560" cy="5286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DB0-156D-49AC-8F54-F454171AB7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C69-E28B-4C25-A629-0E035D84E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C:\Users\KLIM\Desktop\dddb0619595e7d7d3384cce69600717b.jpg"/>
          <p:cNvPicPr/>
          <p:nvPr/>
        </p:nvPicPr>
        <p:blipFill>
          <a:blip r:embed="rId1"/>
          <a:stretch/>
        </p:blipFill>
        <p:spPr>
          <a:xfrm>
            <a:off x="55440" y="142920"/>
            <a:ext cx="89982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40CC-C723-4983-B84F-D09853C828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63BD-B4EE-4F4E-B1E5-097FCDAC9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C:\Users\KLIM\Desktop\photo36.jpg"/>
          <p:cNvPicPr/>
          <p:nvPr/>
        </p:nvPicPr>
        <p:blipFill>
          <a:blip r:embed="rId1"/>
          <a:stretch/>
        </p:blipFill>
        <p:spPr>
          <a:xfrm>
            <a:off x="4214880" y="214200"/>
            <a:ext cx="4929120" cy="622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KLIM\Desktop\photo34.jpg"/>
          <p:cNvPicPr/>
          <p:nvPr/>
        </p:nvPicPr>
        <p:blipFill>
          <a:blip r:embed="rId2"/>
          <a:stretch/>
        </p:blipFill>
        <p:spPr>
          <a:xfrm>
            <a:off x="0" y="214200"/>
            <a:ext cx="4427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1E9A-4E10-479D-A30C-F544E23DE4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7762-0F8F-4E8A-88BB-595899FE0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5" descr=""/>
          <p:cNvPicPr/>
          <p:nvPr/>
        </p:nvPicPr>
        <p:blipFill>
          <a:blip r:embed="rId1"/>
          <a:stretch/>
        </p:blipFill>
        <p:spPr>
          <a:xfrm>
            <a:off x="719280" y="2792520"/>
            <a:ext cx="77054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3500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колай Алексеевич Некра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78B2-8923-4BF6-B9C5-B3F7383529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DEFB-78EF-4752-8604-458874C89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KLIM\Desktop\nekrasov.jpg"/>
          <p:cNvPicPr/>
          <p:nvPr/>
        </p:nvPicPr>
        <p:blipFill>
          <a:blip r:embed="rId1"/>
          <a:stretch/>
        </p:blipFill>
        <p:spPr>
          <a:xfrm>
            <a:off x="3857760" y="642960"/>
            <a:ext cx="5062320" cy="60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8"/>
          <p:cNvSpPr/>
          <p:nvPr/>
        </p:nvSpPr>
        <p:spPr>
          <a:xfrm>
            <a:off x="250920" y="1268280"/>
            <a:ext cx="3463920" cy="4732560"/>
          </a:xfrm>
          <a:prstGeom prst="rect">
            <a:avLst/>
          </a:prstGeom>
          <a:solidFill>
            <a:srgbClr val="95b3d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9640" y="1628640"/>
            <a:ext cx="2818080" cy="58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расов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571680" y="5143680"/>
            <a:ext cx="2786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-вое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5"/>
          <p:cNvSpPr/>
          <p:nvPr/>
        </p:nvSpPr>
        <p:spPr>
          <a:xfrm>
            <a:off x="714240" y="2643120"/>
            <a:ext cx="2571840" cy="1857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>
            <a:off x="3499920" y="207180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857840" y="17146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Ав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0"/>
          <p:cNvSpPr/>
          <p:nvPr/>
        </p:nvSpPr>
        <p:spPr>
          <a:xfrm flipH="1">
            <a:off x="3499920" y="550080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643280" y="51436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 flipH="1">
            <a:off x="3286080" y="37861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4500720" y="3429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Тема, жан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742-1086-4F62-80B0-A990A7A484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CD8A-AB0A-49CC-B300-B550C20D3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781200"/>
            <a:ext cx="8508960" cy="1627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7723440" cy="46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казк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устный рассказ о чем-то необычном, фантастическом, чудес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ыли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произведение русского фольклора о подвигах былинных героев, которые боролись с врагами русской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питет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разное, художественное 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лицетворение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ставление в образе живого су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афора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рытое образное сравнение, уподобление одного предмета, явления друг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равнение. Повторы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потребление синонимов, ант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5" descr=""/>
          <p:cNvPicPr/>
          <p:nvPr/>
        </p:nvPicPr>
        <p:blipFill>
          <a:blip r:embed="rId1"/>
          <a:stretch/>
        </p:blipFill>
        <p:spPr>
          <a:xfrm>
            <a:off x="371520" y="30240"/>
            <a:ext cx="8327880" cy="1701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241-9C5C-4C18-978C-C0F0566895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C75-03EC-46DC-B620-3BE3FF1A0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PREZENTAC\1\11.jpg"/>
          <p:cNvPicPr/>
          <p:nvPr/>
        </p:nvPicPr>
        <p:blipFill>
          <a:blip r:embed="rId1"/>
          <a:stretch/>
        </p:blipFill>
        <p:spPr>
          <a:xfrm>
            <a:off x="0" y="0"/>
            <a:ext cx="9140760" cy="814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й 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327400"/>
            <a:ext cx="4038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олшеб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Си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Суро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Умел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Хвас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00680" y="2071800"/>
            <a:ext cx="4643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Богаты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ели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гуч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щ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гуществе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сеси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Надё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000080" y="642960"/>
            <a:ext cx="700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оз-воев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9:11:47Z</dcterms:created>
  <dc:creator>KLIM</dc:creator>
  <dc:description>http://aida.ucoz.ru</dc:description>
  <dc:language>en-US</dc:language>
  <cp:lastModifiedBy>KLIM</cp:lastModifiedBy>
  <dcterms:modified xsi:type="dcterms:W3CDTF">2011-04-14T13:56:10Z</dcterms:modified>
  <cp:revision>29</cp:revision>
  <dc:subject/>
  <dc:title>Николай Алексеевич Некрасов</dc:title>
</cp:coreProperties>
</file>