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3953-5189-4AFA-B104-C9C9ACE2B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6CBD-2346-4626-A6E1-1564E29C7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9EAE-E770-4A82-BE92-88769C76A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F5F9-AA49-4793-B8C2-CBF04B489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4F8A2-B252-4551-9FF9-643E6B7CD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AF48A-2020-44BB-91B3-FBC73E62E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AD8C7-92E1-4FF7-91EE-E13538A19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77383-C7BC-4AB9-A16E-9A4CE022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34F2C-381C-4AFE-94CE-458D349B6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D242F-B9D2-4290-98AB-29F768913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B9F61-7C06-4E25-AA45-93B887B6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63C0-0CFE-4A80-941E-A1E26F8CE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FE96D-0916-4A5B-8B74-82E6F98A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CF5FC-64DA-4802-878C-89B17344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324A5-93AA-4491-ABFD-59F7356C9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DDE4F-3B46-49A0-9CAE-20C120DEE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9D8A3-F245-495C-8CF3-DD1E7D259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43B7-66F0-4D9F-BF1E-53ADE7503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6C4C-1685-4057-B371-B09B02B3F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957F-0D0B-4B6B-BE93-F494EA965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D1BC-3831-42D2-893D-18085B00A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E66A-8ED3-4ACB-B692-E3AA3088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D6C9-1119-4C38-AF29-FB845D4C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147E-B705-4448-904B-58F1F436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FFF2B-DECC-4902-8704-BD963EF88905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7B186-B3A0-4DD2-ADDC-A0396800C932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Начертательная геометрия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0 класс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"/>
          <p:cNvGraphicFramePr/>
          <p:nvPr/>
        </p:nvGraphicFramePr>
        <p:xfrm>
          <a:off x="539640" y="2184480"/>
          <a:ext cx="3867120" cy="33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184480"/>
                    <a:ext cx="3867120" cy="3324240"/>
                  </a:xfrm>
                  <a:prstGeom prst="rect">
                    <a:avLst/>
                  </a:prstGeom>
                  <a:ln w="38160">
                    <a:solidFill>
                      <a:srgbClr val="00cc66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Дано: чертёж ломаной лини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Построить: ломаную в пространстве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Размеры параллелепипед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80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х50х30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Отве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1633680" y="1598760"/>
          <a:ext cx="5870520" cy="449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3680" y="1598760"/>
                    <a:ext cx="5870520" cy="4497120"/>
                  </a:xfrm>
                  <a:prstGeom prst="rect">
                    <a:avLst/>
                  </a:prstGeom>
                  <a:ln w="38160">
                    <a:solidFill>
                      <a:srgbClr val="00cc66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050920" y="981000"/>
            <a:ext cx="4826160" cy="3457800"/>
          </a:xfrm>
          <a:prstGeom prst="rect">
            <a:avLst/>
          </a:prstGeom>
          <a:ln w="57240">
            <a:solidFill>
              <a:srgbClr val="eaeaea"/>
            </a:solidFill>
            <a:miter/>
          </a:ln>
        </p:spPr>
      </p:pic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94920" y="5013360"/>
            <a:ext cx="8226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Начертательная геометрия изучает способы изображения пространственных форм на плоскост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1000080" y="1228680"/>
          <a:ext cx="7145280" cy="440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1228680"/>
                    <a:ext cx="7145280" cy="44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66"/>
                </a:solidFill>
                <a:latin typeface="Arial"/>
              </a:rPr>
              <a:t>ГАСПАР  МОНЖ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55562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 1795 году вышел труд 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"Начертательная геометрия"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Гаспара Монжа (1746-1818), где он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истематизировал и обобщил накопленный годами опыт геометрических построений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писал метод проекций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вел понятие "комплексный чертёж".</a:t>
            </a:r>
            <a:br>
              <a:rPr sz="2400"/>
            </a:b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6012000" y="1773360"/>
            <a:ext cx="2447640" cy="2808000"/>
          </a:xfrm>
          <a:prstGeom prst="rect">
            <a:avLst/>
          </a:prstGeom>
          <a:ln w="38160">
            <a:solidFill>
              <a:srgbClr val="00cc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66"/>
                </a:solidFill>
                <a:latin typeface="Arial"/>
              </a:rPr>
              <a:t>НАЧЕРТАТЕЛЬНАЯ ГЕОМЕТРИЯ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787640" y="1989000"/>
            <a:ext cx="367164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Все задачи начертательной геометрии решаются в пространстве, поэтому очень важно научиться правильно изображать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точку, прямую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плоскость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и их сочетание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68360" y="2205000"/>
            <a:ext cx="40370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66"/>
                </a:solidFill>
                <a:latin typeface="Arial"/>
              </a:rPr>
              <a:t>ВИДЫ ЗАДАЧ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0" y="1844280"/>
            <a:ext cx="9142920" cy="3228120"/>
            <a:chOff x="0" y="1844280"/>
            <a:chExt cx="9142920" cy="3228120"/>
          </a:xfrm>
        </p:grpSpPr>
        <p:cxnSp>
          <p:nvCxnSpPr>
            <p:cNvPr id="226" name="_s12293"/>
            <p:cNvCxnSpPr>
              <a:stCxn id="227" idx="0"/>
              <a:endCxn id="228" idx="2"/>
            </p:cNvCxnSpPr>
            <p:nvPr/>
          </p:nvCxnSpPr>
          <p:spPr>
            <a:xfrm flipV="1" rot="16200000">
              <a:off x="5697000" y="1195200"/>
              <a:ext cx="209520" cy="2462760"/>
            </a:xfrm>
            <a:prstGeom prst="bentConnector3">
              <a:avLst>
                <a:gd name="adj1" fmla="val 54388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229" name="_s12294"/>
            <p:cNvCxnSpPr>
              <a:stCxn id="230" idx="0"/>
              <a:endCxn id="228" idx="2"/>
            </p:cNvCxnSpPr>
            <p:nvPr/>
          </p:nvCxnSpPr>
          <p:spPr>
            <a:xfrm flipH="1" flipV="1" rot="5400000">
              <a:off x="3235680" y="1195920"/>
              <a:ext cx="209520" cy="2461680"/>
            </a:xfrm>
            <a:prstGeom prst="bentConnector3">
              <a:avLst>
                <a:gd name="adj1" fmla="val 54388"/>
              </a:avLst>
            </a:prstGeom>
            <a:ln w="28440">
              <a:solidFill>
                <a:srgbClr val="eaeaea"/>
              </a:solidFill>
              <a:miter/>
            </a:ln>
          </p:spPr>
        </p:cxnSp>
        <p:sp>
          <p:nvSpPr>
            <p:cNvPr id="228" name="_s12295"/>
            <p:cNvSpPr/>
            <p:nvPr/>
          </p:nvSpPr>
          <p:spPr>
            <a:xfrm>
              <a:off x="1357560" y="1844280"/>
              <a:ext cx="6427080" cy="45900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381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2400" rIns="324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99"/>
                  </a:solidFill>
                  <a:latin typeface="Arial"/>
                </a:rPr>
                <a:t>Пространственные геометрические задачи</a:t>
              </a:r>
              <a:endParaRPr b="0" lang="en-US" sz="23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0" name="_s12296"/>
            <p:cNvSpPr/>
            <p:nvPr/>
          </p:nvSpPr>
          <p:spPr>
            <a:xfrm>
              <a:off x="0" y="2531520"/>
              <a:ext cx="4219920" cy="254088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2400" rIns="324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6b6b99"/>
                  </a:solidFill>
                  <a:latin typeface="Arial"/>
                </a:rPr>
                <a:t>Позиционные</a:t>
              </a:r>
              <a:endParaRPr b="0" lang="en-US" sz="23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b6b99"/>
                  </a:solidFill>
                  <a:latin typeface="Arial"/>
                </a:rPr>
                <a:t>Определение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b6b99"/>
                  </a:solidFill>
                  <a:latin typeface="Arial"/>
                </a:rPr>
                <a:t>взаимного положения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b6b99"/>
                  </a:solidFill>
                  <a:latin typeface="Arial"/>
                </a:rPr>
                <a:t>геометрических фигур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b6b99"/>
                  </a:solidFill>
                  <a:latin typeface="Arial"/>
                </a:rPr>
                <a:t>относительно друг друга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7" name="_s12297"/>
            <p:cNvSpPr/>
            <p:nvPr/>
          </p:nvSpPr>
          <p:spPr>
            <a:xfrm>
              <a:off x="4923000" y="2531520"/>
              <a:ext cx="4219920" cy="254088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2400" rIns="324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6b6b99"/>
                  </a:solidFill>
                  <a:latin typeface="Arial"/>
                </a:rPr>
                <a:t>Метрические</a:t>
              </a:r>
              <a:endParaRPr b="0" lang="en-US" sz="23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6b6b99"/>
                  </a:solidFill>
                  <a:latin typeface="Arial"/>
                </a:rPr>
                <a:t>Определение метрических</a:t>
              </a:r>
              <a:endParaRPr b="0" lang="en-US" sz="17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6b6b99"/>
                  </a:solidFill>
                  <a:latin typeface="Arial"/>
                </a:rPr>
                <a:t>свойств геометрических фигур, </a:t>
              </a:r>
              <a:endParaRPr b="0" lang="en-US" sz="17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6b6b99"/>
                  </a:solidFill>
                  <a:latin typeface="Arial"/>
                </a:rPr>
                <a:t>их размеров и расположение </a:t>
              </a:r>
              <a:endParaRPr b="0" lang="en-US" sz="17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6b6b99"/>
                  </a:solidFill>
                  <a:latin typeface="Arial"/>
                </a:rPr>
                <a:t>относительно</a:t>
              </a:r>
              <a:endParaRPr b="0" lang="en-US" sz="17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6b6b99"/>
                  </a:solidFill>
                  <a:latin typeface="Arial"/>
                </a:rPr>
                <a:t>координат </a:t>
              </a:r>
              <a:endParaRPr b="0" lang="en-US" sz="17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0" y="2491920"/>
              <a:ext cx="4219920" cy="253908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381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2400" rIns="324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3c35cf"/>
                  </a:solidFill>
                  <a:latin typeface="Arial"/>
                </a:rPr>
                <a:t>Позиционные</a:t>
              </a:r>
              <a:endParaRPr b="0" lang="en-US" sz="23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54547a"/>
                  </a:solidFill>
                  <a:latin typeface="Arial"/>
                </a:rPr>
                <a:t>Определение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54547a"/>
                  </a:solidFill>
                  <a:latin typeface="Arial"/>
                </a:rPr>
                <a:t>взаимного положения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54547a"/>
                  </a:solidFill>
                  <a:latin typeface="Arial"/>
                </a:rPr>
                <a:t>геометрических фигур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54547a"/>
                  </a:solidFill>
                  <a:latin typeface="Arial"/>
                </a:rPr>
                <a:t>относительно друг друга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923000" y="2491920"/>
              <a:ext cx="4219920" cy="253908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381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2400" rIns="324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3c35cf"/>
                  </a:solidFill>
                  <a:latin typeface="Arial"/>
                </a:rPr>
                <a:t>Метрические</a:t>
              </a:r>
              <a:endParaRPr b="0" lang="en-US" sz="23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54547a"/>
                  </a:solidFill>
                  <a:latin typeface="Arial"/>
                </a:rPr>
                <a:t>Определение метрических</a:t>
              </a:r>
              <a:endParaRPr b="0" lang="en-US" sz="17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54547a"/>
                  </a:solidFill>
                  <a:latin typeface="Arial"/>
                </a:rPr>
                <a:t>свойств геометрических фигур, </a:t>
              </a:r>
              <a:endParaRPr b="0" lang="en-US" sz="17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54547a"/>
                  </a:solidFill>
                  <a:latin typeface="Arial"/>
                </a:rPr>
                <a:t>их размеров и расположение </a:t>
              </a:r>
              <a:endParaRPr b="0" lang="en-US" sz="17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54547a"/>
                  </a:solidFill>
                  <a:latin typeface="Arial"/>
                </a:rPr>
                <a:t>относительно</a:t>
              </a:r>
              <a:endParaRPr b="0" lang="en-US" sz="17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54547a"/>
                  </a:solidFill>
                  <a:latin typeface="Arial"/>
                </a:rPr>
                <a:t>координат</a:t>
              </a:r>
              <a:r>
                <a:rPr b="1" i="1" lang="en-US" sz="1700" spc="-1" strike="noStrike">
                  <a:solidFill>
                    <a:srgbClr val="6b6b99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Ортогональное проецировани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Наиболее удобной для фиксирования положения геометрического образа в пространстве и выявления его формы является система из трёх взаимно перпендикулярных плоскостей проекций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П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, П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, П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755640" y="1916280"/>
          <a:ext cx="3238560" cy="312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16280"/>
                    <a:ext cx="3238560" cy="31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Система трёх плоскостей проекций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332000" y="3284640"/>
          <a:ext cx="3240000" cy="31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3284640"/>
                    <a:ext cx="3240000" cy="31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П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Arial"/>
              </a:rPr>
              <a:t>1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горизонтальная  плоскость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П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- фронтальная плоскость проекций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П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– профильная плоскость проекций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О – начало координат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68360" y="1268280"/>
            <a:ext cx="225576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Дано: ломаная АВС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F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строить чертёж ломаной линии в трёх проекциях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Размеры параллелепипед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80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х50х20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455760" y="2027160"/>
          <a:ext cx="4037040" cy="364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2027160"/>
                    <a:ext cx="4037040" cy="3640320"/>
                  </a:xfrm>
                  <a:prstGeom prst="rect">
                    <a:avLst/>
                  </a:prstGeom>
                  <a:ln w="38160">
                    <a:solidFill>
                      <a:srgbClr val="00cc66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14:09:02Z</dcterms:created>
  <dc:creator>ANYA</dc:creator>
  <dc:description/>
  <dc:language>en-US</dc:language>
  <cp:lastModifiedBy>OLYA</cp:lastModifiedBy>
  <dcterms:modified xsi:type="dcterms:W3CDTF">2010-01-20T17:26:06Z</dcterms:modified>
  <cp:revision>5</cp:revision>
  <dc:subject/>
  <dc:title>Начертательная геометрия</dc:title>
</cp:coreProperties>
</file>