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0EB-B688-4127-8F03-87F72BBC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09E-A01B-4127-8CF3-6B283A14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BB1-3347-4842-8204-DCDAE3FE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BD7-5092-4D38-8AE9-1E449439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41BA-B82A-4000-8500-FEC3D240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9476-E667-49B7-94E0-9D12EBB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DB2-8F35-4327-92BC-2CDEC69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712C-D790-48A2-92B5-41CE073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1ED-2511-419E-8370-4071282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163-9BDF-4DE4-A2B9-1A82A7FA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7A8-324B-47C4-8873-C81394C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845-9D7D-43F7-9567-23F30AC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A6D9-14EE-434C-907C-D7F5785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9260-3EFE-4E79-8938-D3D02D3B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FF3-6871-4DAE-B451-E3932D5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8C4-F2CF-43F4-91B1-8EFB472B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A90-F9A2-4978-AAC5-F4C1265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288-DB32-40F4-BB96-D2E51FCF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1C9-C0EA-487D-A133-8265F47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839-7A43-4F89-AFD6-6F3895C4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D53-DCC5-4ED4-BFED-5133CBD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9D2-5B93-41BA-B6AF-7939390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175-92EB-446A-9996-48DA2D8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7C8-BAF1-4F99-8467-2AEC517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EDC-5825-487C-935F-D5CB17B3425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1A5-3545-4861-B704-83DD9FBB5D8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чертательная геомет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539640" y="2184480"/>
          <a:ext cx="386712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84480"/>
                    <a:ext cx="3867120" cy="332424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но: чертёж ломаной лин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троить: ломаную в пространств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50х3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33680" y="1598760"/>
          <a:ext cx="5870520" cy="44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598760"/>
                    <a:ext cx="5870520" cy="44971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826160" cy="34578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501336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ертательная геометрия изучает способы изображения пространственных форм на плоск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00080" y="1228680"/>
          <a:ext cx="71452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28680"/>
                    <a:ext cx="71452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ГАСПАР  МОНЖ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556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795 году вышел труд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Начертательная геометрия"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аспара Монжа (1746-1818), где 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истематизировал и обобщил накопленный годами опыт геометрических построен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исал метод проекц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вел понятие "комплексный чертёж"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47640" cy="280800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НАЧЕРТАТЕЛЬНАЯ ГЕОМЕТР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671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се задачи начертательной геометрии решаются в пространстве, поэтому очень важно научиться правильно изобража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чку, прямую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лоскость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и их сочет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037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ВИДЫ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1844280"/>
            <a:ext cx="9142920" cy="3228120"/>
            <a:chOff x="0" y="1844280"/>
            <a:chExt cx="9142920" cy="3228120"/>
          </a:xfrm>
        </p:grpSpPr>
        <p:cxnSp>
          <p:nvCxnSpPr>
            <p:cNvPr id="226" name="_s12293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697000" y="1195200"/>
              <a:ext cx="209520" cy="246276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9" name="_s12294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235680" y="1195920"/>
              <a:ext cx="209520" cy="246168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28" name="_s12295"/>
            <p:cNvSpPr/>
            <p:nvPr/>
          </p:nvSpPr>
          <p:spPr>
            <a:xfrm>
              <a:off x="1357560" y="1844280"/>
              <a:ext cx="6427080" cy="4590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Пространственные геометрические задачи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12296"/>
            <p:cNvSpPr/>
            <p:nvPr/>
          </p:nvSpPr>
          <p:spPr>
            <a:xfrm>
              <a:off x="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2297"/>
            <p:cNvSpPr/>
            <p:nvPr/>
          </p:nvSpPr>
          <p:spPr>
            <a:xfrm>
              <a:off x="492300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координат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2300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координат</a:t>
              </a: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ртогональное проец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аиболее удобной для фиксирования положения геометрического образа в пространстве и выявления его формы является система из трёх взаимно перпендикулярных плоскостей проекци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55640" y="1916280"/>
          <a:ext cx="323856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23856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истема трёх плоскостей проекц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3284640"/>
          <a:ext cx="324000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84640"/>
                    <a:ext cx="324000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горизонтальная  плоскос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- фронта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– профи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 – начало координа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2255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о: ломаная АВС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троить чертёж ломаной линии в трёх проекция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50х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5760" y="2027160"/>
          <a:ext cx="403704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027160"/>
                    <a:ext cx="4037040" cy="36403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09:02Z</dcterms:created>
  <dc:creator>ANYA</dc:creator>
  <dc:description/>
  <dc:language>en-US</dc:language>
  <cp:lastModifiedBy>OLYA</cp:lastModifiedBy>
  <dcterms:modified xsi:type="dcterms:W3CDTF">2010-01-20T17:26:06Z</dcterms:modified>
  <cp:revision>5</cp:revision>
  <dc:subject/>
  <dc:title>Начертательная геометрия</dc:title>
</cp:coreProperties>
</file>