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EC5-0756-4A78-8F61-B2E3AE4D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C40-F8D5-4F72-B8BD-3B6DFCEC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022-63BD-4C54-8F73-36451CE6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A0F-ABB0-440B-8266-ED59B9DD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BF6F-40CE-483E-81A7-182FBBF7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8E4E-7BA9-430D-984A-4813B2FD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28CA-990C-49EC-BBD0-119C6282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347F-63F5-407A-82B3-B0E7130D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20BA-5AF7-49AC-8BC2-38D45C2C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7D5E-4A65-40D6-815D-6B7AD8DC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0D0E-307C-4806-926E-B49C546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722-EC7C-41EE-9172-5948710A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CFA4-C1C6-484C-A3F6-706F2F66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A019-385A-428F-8D16-2DB19A5B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BDC2-6829-459F-8412-7A23193A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9A49-3EA9-4CEC-BC60-E0EC79A4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89E8-B78D-4949-8DD0-D8BDC486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345-32C6-4745-B81F-33789F1A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E1A-5587-46C3-A223-1ABE260F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ED4-8419-48CA-B7C7-85565FD3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EC3-93CB-47D3-96BB-39DAC411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70E-3038-4D53-AADD-312E7031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5B1-7332-4CDB-B11D-BABB58BF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06F-003C-44C5-B78C-4A6DBC6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12E2-AB11-4006-956E-429EEEE7B96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AD9B-B842-48F9-93A0-91EBD9F5AA2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Начертательная геометр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539640" y="2184480"/>
          <a:ext cx="386712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84480"/>
                    <a:ext cx="3867120" cy="3324240"/>
                  </a:xfrm>
                  <a:prstGeom prst="rect">
                    <a:avLst/>
                  </a:prstGeom>
                  <a:ln w="38160">
                    <a:solidFill>
                      <a:srgbClr val="00cc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ано: чертёж ломаной лин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строить: ломаную в пространств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змеры параллелепипе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80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х50х3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633680" y="1598760"/>
          <a:ext cx="5870520" cy="44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1598760"/>
                    <a:ext cx="5870520" cy="4497120"/>
                  </a:xfrm>
                  <a:prstGeom prst="rect">
                    <a:avLst/>
                  </a:prstGeom>
                  <a:ln w="38160">
                    <a:solidFill>
                      <a:srgbClr val="00cc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826160" cy="345780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4920" y="501336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чертательная геометрия изучает способы изображения пространственных форм на плоск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000080" y="1228680"/>
          <a:ext cx="714528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228680"/>
                    <a:ext cx="71452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ГАСПАР  МОНЖ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55562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1795 году вышел труд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"Начертательная геометрия"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аспара Монжа (1746-1818), где он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истематизировал и обобщил накопленный годами опыт геометрических построений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писал метод проекций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вел понятие "комплексный чертёж".</a:t>
            </a:r>
            <a:br>
              <a:rPr sz="2400"/>
            </a:b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447640" cy="2808000"/>
          </a:xfrm>
          <a:prstGeom prst="rect">
            <a:avLst/>
          </a:prstGeom>
          <a:ln w="38160">
            <a:solidFill>
              <a:srgbClr val="00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НАЧЕРТАТЕЛЬНАЯ ГЕОМЕТР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87640" y="1989000"/>
            <a:ext cx="367164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Все задачи начертательной геометрии решаются в пространстве, поэтому очень важно научиться правильно изображать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точку, прямую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плоскость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и их сочетани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4037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ВИДЫ ЗАДАЧ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1844280"/>
            <a:ext cx="9142920" cy="3228120"/>
            <a:chOff x="0" y="1844280"/>
            <a:chExt cx="9142920" cy="3228120"/>
          </a:xfrm>
        </p:grpSpPr>
        <p:cxnSp>
          <p:nvCxnSpPr>
            <p:cNvPr id="226" name="_s12293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5697000" y="1195200"/>
              <a:ext cx="209520" cy="2462760"/>
            </a:xfrm>
            <a:prstGeom prst="bentConnector3">
              <a:avLst>
                <a:gd name="adj1" fmla="val 54388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29" name="_s12294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3235680" y="1195920"/>
              <a:ext cx="209520" cy="2461680"/>
            </a:xfrm>
            <a:prstGeom prst="bentConnector3">
              <a:avLst>
                <a:gd name="adj1" fmla="val 54388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28" name="_s12295"/>
            <p:cNvSpPr/>
            <p:nvPr/>
          </p:nvSpPr>
          <p:spPr>
            <a:xfrm>
              <a:off x="1357560" y="1844280"/>
              <a:ext cx="6427080" cy="45900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Arial"/>
                </a:rPr>
                <a:t>Пространственные геометрические задачи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_s12296"/>
            <p:cNvSpPr/>
            <p:nvPr/>
          </p:nvSpPr>
          <p:spPr>
            <a:xfrm>
              <a:off x="0" y="2531520"/>
              <a:ext cx="4219920" cy="25408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6b6b99"/>
                  </a:solidFill>
                  <a:latin typeface="Arial"/>
                </a:rPr>
                <a:t>Позиционные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99"/>
                  </a:solidFill>
                  <a:latin typeface="Arial"/>
                </a:rPr>
                <a:t>Определени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99"/>
                  </a:solidFill>
                  <a:latin typeface="Arial"/>
                </a:rPr>
                <a:t>взаимного положения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99"/>
                  </a:solidFill>
                  <a:latin typeface="Arial"/>
                </a:rPr>
                <a:t>геометрических фигур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b6b99"/>
                  </a:solidFill>
                  <a:latin typeface="Arial"/>
                </a:rPr>
                <a:t>относительно друг друга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_s12297"/>
            <p:cNvSpPr/>
            <p:nvPr/>
          </p:nvSpPr>
          <p:spPr>
            <a:xfrm>
              <a:off x="4923000" y="2531520"/>
              <a:ext cx="4219920" cy="254088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6b6b99"/>
                  </a:solidFill>
                  <a:latin typeface="Arial"/>
                </a:rPr>
                <a:t>Метрические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Определение метрических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свойств геометрических фигур,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их размеров и расположение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относительно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координат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491920"/>
              <a:ext cx="4219920" cy="2539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c35cf"/>
                  </a:solidFill>
                  <a:latin typeface="Arial"/>
                </a:rPr>
                <a:t>Позиционные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4547a"/>
                  </a:solidFill>
                  <a:latin typeface="Arial"/>
                </a:rPr>
                <a:t>Определение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4547a"/>
                  </a:solidFill>
                  <a:latin typeface="Arial"/>
                </a:rPr>
                <a:t>взаимного положения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4547a"/>
                  </a:solidFill>
                  <a:latin typeface="Arial"/>
                </a:rPr>
                <a:t>геометрических фигур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4547a"/>
                  </a:solidFill>
                  <a:latin typeface="Arial"/>
                </a:rPr>
                <a:t>относительно друг друга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23000" y="2491920"/>
              <a:ext cx="4219920" cy="253908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2400" rIns="324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c35cf"/>
                  </a:solidFill>
                  <a:latin typeface="Arial"/>
                </a:rPr>
                <a:t>Метрические</a:t>
              </a:r>
              <a:endParaRPr b="0" lang="en-US" sz="2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Определение метрических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свойств геометрических фигур,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их размеров и расположение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относительно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54547a"/>
                  </a:solidFill>
                  <a:latin typeface="Arial"/>
                </a:rPr>
                <a:t>координат</a:t>
              </a:r>
              <a:r>
                <a:rPr b="1" i="1" lang="en-US" sz="1700" spc="-1" strike="noStrike">
                  <a:solidFill>
                    <a:srgbClr val="6b6b99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Ортогональное проецирова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Наиболее удобной для фиксирования положения геометрического образа в пространстве и выявления его формы является система из трёх взаимно перпендикулярных плоскостей проекций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, П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, П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55640" y="1916280"/>
          <a:ext cx="3238560" cy="31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23856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истема трёх плоскостей проекц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332000" y="3284640"/>
          <a:ext cx="3240000" cy="31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284640"/>
                    <a:ext cx="324000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горизонтальная  плоскост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- фронтальная плоскость проекц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– профильная плоскость проекц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 – начало координа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22557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ано: ломаная АВС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троить чертёж ломаной линии в трёх проекция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меры параллелепипе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0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50х2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5760" y="2027160"/>
          <a:ext cx="4037040" cy="36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2027160"/>
                    <a:ext cx="4037040" cy="3640320"/>
                  </a:xfrm>
                  <a:prstGeom prst="rect">
                    <a:avLst/>
                  </a:prstGeom>
                  <a:ln w="38160">
                    <a:solidFill>
                      <a:srgbClr val="00cc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4:09:02Z</dcterms:created>
  <dc:creator>ANYA</dc:creator>
  <dc:description/>
  <dc:language>en-US</dc:language>
  <cp:lastModifiedBy>OLYA</cp:lastModifiedBy>
  <dcterms:modified xsi:type="dcterms:W3CDTF">2010-01-20T17:26:06Z</dcterms:modified>
  <cp:revision>5</cp:revision>
  <dc:subject/>
  <dc:title>Начертательная геометрия</dc:title>
</cp:coreProperties>
</file>