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3.jpeg" ContentType="image/jpe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5.jpeg" ContentType="image/jpeg"/>
  <Override PartName="/ppt/media/image22.gif" ContentType="image/gif"/>
  <Override PartName="/ppt/media/image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112-FB9A-440D-B953-34276E3E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ACA-8280-48AA-A2E1-65A4C2FC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CC6E9-BA26-4529-9C1F-D83707E2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13680-839F-47F0-A364-922D0A70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B0ECC-77CB-4A67-92F0-678BAE46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90A79-20F6-4B62-A87C-65AADE0D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6DC02-A9DF-449C-A23B-F3D0A7D3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13C59-D191-4CC3-8DBB-CF996A3F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67094-36B2-4F68-B67F-8CE6CE7E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B61F0-8F80-40DC-8989-A751B484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0B380-4EDD-4AF1-952C-9BF9274D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BE290-E1C6-4025-97DD-7AEB1B16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632-F667-45B8-83B8-A729FA08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1B4F3-9C30-4FE8-AE6F-DB3013EE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8FCE1-19EE-4663-86BE-7AB1D86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42E16-44A7-4CBE-8833-8DF05E3D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C735F-ED8E-49BF-A73D-36FEF457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B2735-17A7-4186-B251-3590764C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3581E-4491-4F2B-A592-2407102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99C76-6F62-4780-A7B1-0003DC87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2B553-E5DC-4699-B789-DE16163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739A5-59F9-4F57-93D1-94813623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3F0F2-4A48-4BBD-A9A1-692E5F49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703-4EAF-41A2-9860-A6BC0FE7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FD1A7-3837-4C63-956E-29246483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E5223-AF44-4455-9610-707B5D6E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A8415-082F-462C-A12D-3F47D7BC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7EA62-B464-4B0A-9659-3F1C1975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DA17F-08B5-4D7C-82D9-A4EEE15D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163DF-1683-4606-AE27-A835DD35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15791-FCB6-4BC4-9D9B-77A0926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828B5-4F4D-48BF-B81B-132583E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EF4D7-2949-4459-BE69-8133A9B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D331C-90EF-442B-999A-DE7713F6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1093-3FC5-4C8C-9FBE-96F40DF0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BD789-0C91-480F-ADEC-719A83FE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4FE71-FDBD-4284-BEC0-54709F0A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8507D-BBCB-47C3-8AAA-FDE38AAC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4F9EC-B1D0-414E-918D-DE932880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490CA-2B7C-4A02-A207-941B0286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F5440-120E-47FA-A7C1-41AF087B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09317-CF31-4186-A46B-CDB215C8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539D0-0238-4980-8CC5-F97B950A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BB4A0-92D6-45F5-9CF7-0A78759E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89C78-C60E-4B68-AF67-ED05C641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2C6F-4D5A-4C3B-AE10-28D9493D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C8697-6F00-4925-86E1-12287A50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80770-005D-4D98-96C4-D807538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3F565-40FE-41EB-A586-927FD745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C7249-1724-4842-94DE-6956BF09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35B09-4701-4DAE-A102-D133786E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84F71-7774-4F64-9B3F-EDA35359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CA4BB-BD44-43B7-B6BC-DCFE2217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1AB2D-0F88-4F50-840C-B2EF3584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F6408-FA73-46CB-9088-DDE9DA14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904A2-4846-46C3-9B6D-8C02090B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31D3-4E53-4B36-9556-CB65D480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4CD50-2166-41C0-83E6-BEA7E4DF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C48B6-29FE-499E-91EB-A1919CBD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F5DF2-E22B-4A90-BBA9-17CC9CC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2C6F0-E437-4511-B699-D51ECF2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91A74-AF87-4B14-9DC4-FD29C1BE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98847-80C5-4148-8D51-ACB4B936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1BEAB-97A4-474A-AD69-041F590C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E01C5-1E79-44BB-A6B9-C6AC193F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681A6-CE8D-4E94-90F2-B0A78658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23B1F-AD89-4D83-81BC-1362E692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5007-3866-454A-8443-5CCD8A34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835D8-38C4-49FF-B903-DF9D1CA0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DCFEB-DE2B-415F-B1F0-6B3BBD58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A8684-C99C-456C-99D4-8D09A64F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5D046-B98A-4486-8164-DB7EF511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9AEDE-C745-426B-993C-F13F7465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B56F4-4A67-42AC-965B-C93FAC02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B969D-10DF-499E-8BBE-62AEAD17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578F0-8D7A-4E93-B40C-FCF14F41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EE084-FEA1-4B06-8AA7-71C32750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D27FB4-5068-4E51-A07B-F37E9F30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6A5A-31E9-4FCA-AFA5-6B411E3D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9FF0C0-3D1D-4B01-BB88-74819749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F67919-8FC4-4559-BB47-8C857C46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352C12-9CE1-412B-965E-DB85C59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4BDD82-C0ED-4DBA-A551-AB892A31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36882F-2934-4D77-AE9E-34D2D366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8C494C-9C76-4498-AED2-FB2A3778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C6AA89-80C3-451F-AB37-6D42ACB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269089-F26C-446C-B572-4081D1F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5D7302-4E24-4292-9035-1FF7FBA0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96D613-1956-440C-92A2-EE4DDA3B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7EAB-65A1-4F3E-BB7B-2F6D9FD2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B04C64-91E4-45A8-81DA-5244C05A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6CD45-26D5-45B5-9F79-90827588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F0BA9E-A33A-42F4-8F49-17DF1D50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C56EF-D232-419B-8245-94D17E3A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0DC17-1F3F-4BBF-AD00-AFE3982E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ECB48-B5F1-46BB-A442-C7CCA9CB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11FC6-C686-4AEE-ACDA-3FF22B36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06FDB-617E-4C73-B3DF-A4570C11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F44EE-A1CB-45B3-95E4-D816B18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69D70-B5E8-418E-AD2F-0E6A378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6F7E-54E6-405B-BC36-15A9981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3CB58-9650-4F44-9603-4C7BD063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6AD3C-8908-44DB-89F3-C4EBB2BA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BB3FF-DC53-4915-BDCD-70C1458F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6DEF9F-7599-4FE0-8E4D-2B067A42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92BA3F-6E3B-4F8B-B417-F6C84621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FDD789-6C0C-48E2-AE17-D3A10A17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7E9DA9-3BB3-4493-9D9E-996D24A5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BF238F-EF39-48D8-AAB0-D9EC9F43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568EFC-F135-4477-919B-18D917A8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DB40D9-2086-4B35-A128-B307088D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DF3-2EBD-4D34-9994-2F22D6A7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8FF3-C089-49FF-B1EF-CF41607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2CABD4-B261-42D6-90A0-E3D3A60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B1A57C-D112-48FA-8AB2-700F3E5D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99DA52-958D-4D9B-98A6-C86A998A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A15A39-A76D-4BD8-967C-0D9657F3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46B5F9-56AF-400F-9912-526B4B7A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9B6041-31DA-4BDD-B008-7E9E1B8C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2B8C81-CC14-4C46-9662-6E4B90E8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4F73FA-C243-42A6-9FB7-BD9C1FAE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54BD70-39EA-4319-895A-54A5FDE6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1977A3-7A05-42C8-AC6F-1D31278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35FA-189B-4DE1-B52D-D3AB0C2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F65AD5-4D4C-46A6-BA7C-3AA67115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E8E8B74-0427-44EC-A074-35E8DECB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B09FEC-E16E-4A62-B21E-88879AC9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B1CFBC9-619B-4797-B1A5-9DBD794E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7FE8E6-40E7-4325-8432-7D0F2E3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6DB41A-D5C7-46AD-9097-DC7D80B8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2EE314-5465-409E-9003-815B630F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C1BB8E-D4A6-4FA4-A40E-E2BA856F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36EEBB-F51D-4947-8658-79A7DB6A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32C47D-028E-4DCA-BE64-0982BEB6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3F16-2F69-4572-AC1F-09FD2BBF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3FD4FAB-B00B-4E1F-89D9-B81CBE4F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9C0FC3-F3DE-4514-892F-11462679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C26032-D1AC-4C0F-B752-2A304CE4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32F869-4DEA-4B80-B5A4-21FEFE46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2407B5-D8CB-4448-856C-7B0D8F4B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9B55E3-3BAA-472E-AFB6-69DD8709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3255A2-C408-4E24-94F3-B1EB1DF3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5270DB-BE94-42EA-975E-60F0529C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8612B2-743D-4E1C-AC91-6C3D5C89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4541D-F9C7-47E2-8E68-FBA9796C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9EFD-824E-48E7-90EA-FC913007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C701F-1BF3-4FF9-9079-F27A88BB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C65CB-ED80-4EDB-8821-39AF4A67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3D932-C008-415B-910E-365FFFE9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F74AB-7AD2-42E1-9D6F-E2E438F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0D05B-F726-4207-B95C-AA92985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915F0B-CAFF-4C3E-A60C-F4E1427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2F195-B511-415D-A8E4-EE3A1C0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D12303-61A4-4C7C-9F5B-CB0CAC25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D6F1F8-A5D5-4A9D-84A3-8F4B32FE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DE461-5902-4C12-91D8-B8A8DA09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E7C4-18A5-4AB3-A05D-C716F832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41BEE-4CA3-45B0-9D17-86D6F7EE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8FBBC-0D5A-4ABE-AEA0-FE4B1BFD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7F5EBE-D413-45D6-8A42-EEEBEF0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91EAC-C561-481A-B25E-45ED1688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DB2183-3839-46D1-A251-6D939554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8E2B2-B55C-428A-BC4E-A55BCC88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2B1595-5409-44D2-A1D8-C7A006DC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AA5A44-F374-49C7-B8A6-FAAC175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813305-F48A-4C35-A714-2903AA84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C88ED3-4D8C-4C21-ADB2-C32E9935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1FD5-CE96-4B3F-AA95-DAE628EF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881B8-13A5-4752-ACF2-134C1DDC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CD89B6-FBC2-416B-93E6-01363F2B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F68CB3-B69F-42C9-A560-1E0C849B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B8E7B3-16D6-4385-A8AA-637F97FE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20F534-B6E1-49B7-97B2-D37773CF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FA4C8-C77A-4FE7-8D95-EEE75B35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404D5A-2C81-4E96-AFE6-7E4F155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CA4BD9-714A-4D75-83E9-86680694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E1909F-A67D-47E6-B655-0F82AE52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05E297-17E8-4F02-92C5-84F988E9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5A2D-57C6-42C6-937F-09053521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9E620-9207-450F-9026-298629F2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F0D2C-5DD5-4896-973C-9608751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F55A68-B4DB-487E-905E-F88F7CF8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06E157-4F5D-4378-B2D7-39206B09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FBADF9-1A73-4A8F-9C02-E5F719FA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C17EF6-2BC1-4D37-A79A-2EB07286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FC0FF5-79AF-4B8D-88AC-1AD79BB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E99FAD-25F7-44DB-8C3C-38741F62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C5E22E-6E61-4542-8BC5-DF3C4613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9E8554-5E2F-4119-8249-94C9125D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217F4-D08F-4A2F-8DC6-88005417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164A43-EFEF-41E0-BFA4-A4E8CB61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61DD3F-4BAC-463C-BFD0-8E56CF7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7EAF9B-9C3F-40CD-97C8-0610680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D328E5-AE10-4156-9850-0D5F72DC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5401C6-617F-4E4C-90E1-8F48062E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D92D63-FE15-4536-9B3E-39A67261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E7E3DA-BEB2-4C7E-AF02-ED49A79E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B711CF-8C2D-4626-B2C0-1A0C3613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675F48-B7C8-41D8-BB47-1F54A564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929572-06FD-4B93-BF64-C6DC71AE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20F9-7BD0-4EEE-881D-3B913256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44F79E-DF40-4BBF-8C29-396E06F8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29A9AC-8F4E-4C53-B53C-BD03E7EF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E6C1EC-2E63-4CCB-8CF4-2EA721E4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E22232-643D-40A6-A6B5-2B1F6DC9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8303B8-6622-4E9B-9AC0-913B8535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DCB778-65E6-4B7D-AAF6-A5FCDA2D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94FA04-27C7-4033-81B2-8869B008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DB4830-6DAC-4CAA-8CB2-AFF891F6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5B7410-4B6B-447F-A5DD-0CE18B33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DEB2D0-A805-4176-A586-E4A4E0AA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CEDB-3C79-4245-AD58-8E3F7F86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875B7B-38A5-44FB-813F-57400611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3536A3-8DC5-4AB8-9022-68AAFC79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B15DB8-FF42-4DFE-973E-B770C328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A69767-778E-4FD7-9478-E454E942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83A41B-B54C-4015-9B36-733D2E1C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5FB2A3-2A62-4478-AEDC-57B0E457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F53ACC-2A9C-4876-A88B-81FA9804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DD7506-8236-4425-93F1-5E3E3918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EC2F0C-98F4-403B-B194-3B496689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3D1569-1835-4C23-8639-2F45A7D0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BD0-F2D1-43E6-A8FB-89F1D60B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126B-7E69-497A-B2DE-FA0D0BB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3C3181-E7DF-4C45-BFA6-91B11D7C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C7C690-D243-4397-B561-34D7C259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1CE887-FFFB-4173-88E3-EF7C209D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2DB0BC-240A-4221-AEB9-B2DE908C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7DB2B1-E6DA-4542-8EF9-159A5CF7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B20242-88F2-41DB-88A2-33935767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554933-1DFB-4B16-AB0A-AE4D9B6B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CDC6ED-1110-41C2-B860-14440C66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7CD0CB-E1C8-4C5A-B952-8ABC203D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E24860-96BF-47D7-801B-FDF7360B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10CF-A59D-48B6-A03B-7A2974FE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197F74-E3CB-4CE1-8274-B38AA3B0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6EA352-AFC5-4892-A4D0-9AC96ED3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6E18C3-D7BF-4DCC-8269-783B066C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80B121-94A4-4B11-94C2-169A020B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577154-09DD-4D77-9548-BD48184A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0CFDA9-8584-4234-8975-B6A99AA5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BA68E7-B6DE-42AA-AD0D-C6477B85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43478D-9DB0-43EA-8D03-FA5C5D5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99910C-D220-4A85-A8F9-DB621720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7405BF-430C-43F8-8B58-DFA1FB33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BD6B-5D87-4DAE-9B3A-19976AC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3F0C3B-99AF-453D-9807-6A1F2B0B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938D7A-AD9D-49F0-968A-D3BF03AD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606BDF-B5D6-43DF-AB77-EDF7DD03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1A0AEB-3169-4F77-B8E0-29088604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FFD9C8-EE79-47BE-9012-ADF25BDE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942872-35CB-4644-BDEE-0478E216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C93434-52EB-44D0-B45E-0BEAD950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611C02-0DED-4E04-A07A-BA4166EC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37BFE0-3ECD-494F-95A6-05C62694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A75BC2-A30B-4F10-AF41-27107A5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9977B-DC38-4B3A-A7C1-A7C80201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492FBB-BD6F-4908-B843-31E52E23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CC297A-421C-4A5A-A7D4-E5DB872A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71630D-9336-42D1-9BCA-C642EF2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3E9E79-2333-47E3-93DA-C782AA9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D10EA5-0EB4-4C8C-BC81-021C08EB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F68C5D-BE6B-4884-9A6F-15F0247A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4EAB91-DFB7-4E24-BC13-BE2FFB43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2C15A7-19AE-4E77-A067-E7730EC5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4B2113-3490-42BE-915C-714D61C3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151BCE-4DC6-46D6-9708-CA4D75D8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8BF1-D57A-4E01-8C05-067EBC1A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272AD1-22ED-47B1-B855-18AEDE14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87ABD8-83F2-4665-A7BE-D0505424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4E431B-20E7-4224-B086-4BE9592B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788659-90F2-41E5-BBDE-5A8053FB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A4E4EB-E4BC-434F-8E01-65100F78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45FA11-A673-479B-A90D-413DED9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99FE2C-0D9F-446A-8E4F-9E12E5BD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1920CB-421E-479A-B586-F1C4798D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F2DA59-C567-4C77-880F-15548B5E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FB2EE7-33B3-4589-8503-880CF255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A252-237E-441F-9093-D5A86D87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3B2BC3-9936-4AFD-AD82-3CE0FCE9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8CE940-83C8-4F8A-B7D7-0C21BA9D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3F86B2-3FED-4F63-A2F9-5988021D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E92BD8-A156-46DE-8B3A-8E3D435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8DF2A2-B450-4F2F-AB0A-A3967608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283DC8-0483-4848-A814-758D680A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0AAD71-3726-4748-A152-910255A0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2F91CA-2614-49DC-A5A0-0636C2F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2ABA23-8444-4965-B33F-8784F060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DE4C98-D3A2-4970-A952-FEC87F33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082A-13E6-4D93-B74E-FA66008E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3EEA1F-95E7-4944-B7DF-6BA4411D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4B4C1D-3D40-4F6F-A661-1B5BF981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5A9988-7B74-48A2-9853-4198221F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B9E290-30A9-4C56-9F72-7A82BE25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3B243A-EA0E-4722-821C-7BA16B99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0F91AD-2C67-40A9-B95D-2FE5A3D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766976-9E6C-4A84-BB87-7AD290C8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5E23C9-75F9-49FE-8EA4-4056C8D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B45B04-5665-4E63-9886-0E682AB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C0FC57-665C-40F1-80F8-8EE98FC9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D3B8A-2C30-40FA-84FF-DB06949A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5A3F5E-D2FA-4EE2-8AF0-BB04608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762539-49A7-425C-8E47-01862F68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9E81C6-3117-44E1-8DA7-0C9DFE31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7BB311-ED00-4C3D-BFFC-7513DD46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C03A69-6FD4-42E4-AD3A-C69D739D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9AAA81-372A-40F8-A7E0-E1746F64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38A7F1-9A64-43D7-A0DC-7AACEB4C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FC0F02-73B5-4CF1-9DE9-2841C046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E89003-B3A7-4F59-81C2-B250BB1F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12D90B-A24D-42C3-9E6D-722CFA2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D13C6-8C6F-4128-B8BD-8861B931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9D2BC8-EC5A-4052-99E4-E23F43F7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23FEE5-0FA1-4709-AB15-74FDEFFD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02146F-750B-4636-A957-552276AC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AEF2B7-474F-438A-8908-A7DFB6F2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1A7174-7A7B-4AAE-B0B5-E9251150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152944-FA4B-45AC-BC59-5CCDA30E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E5F3C5-C9B7-44C1-8EA8-36DF0E61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D25C8F-E707-40C0-84C6-406FC9E4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FC5126-F113-4130-BA37-18C577E5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864984-0B8A-48FC-9174-3D2F5D5F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3E11-DE02-469A-B68A-BE1B831D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E0F1EE-DADD-436D-A65E-550A1490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5F40BC-B248-4394-970A-945B658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E47D5B-360A-4DAC-B9AF-95417A0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708629-527A-4450-A2E1-1F7A1E20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798F43-A0DC-4572-8468-FEE50AE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C4034F-86E6-42F6-8D3F-115695D7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2BA425-6D39-4D9B-A7E8-4BCCDEAC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C7EFAA-C6DE-4CC2-9227-3C604C65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2648B7-5C98-4D47-BCD7-D4E8ED38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325E7C-86E0-4CF9-AC82-318A39AB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A08-204B-4803-96EA-228A321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EAEC-09DF-4C79-818B-89F7D6A0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84BF3F-2CE7-44AB-BEDE-F62EFF54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499DE4-1CF6-4ADA-A7B4-ED707766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2449E5-F583-4B3B-A59A-DFD743AC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79B244-8610-44D0-A02F-EC22A739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8701F8-D952-44E3-97DC-ED4A0A3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EC3CD1-7E3B-4231-8FE0-C1602C3C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F24403-3D92-4731-A98E-7094A830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579BC9-B528-4016-A945-F0C93F87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559F5B-8A1B-42DF-8B9A-BE839681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07C3-50DE-4266-9B6B-032FC010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B224-4173-4CEC-BAE3-726DC233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E1B3-0520-4DC9-B80E-781E9D37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28CB7-38B5-415B-8F28-FD72A9D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BD90-72F6-4BD0-A98F-20AFA6B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8771-7283-406B-97DB-FCEDE976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9FB51-A59D-4B6F-B560-37FAEEF3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D7CC-E83A-41CB-802F-FA2ECC9A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F8A3D-87E2-4110-894F-96FB95EE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397-9B0D-450D-B1AB-8B88C088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1AB76-DB72-4B54-8454-405D2B46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7193-4D9E-409E-90CF-A6534CF4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9233F-1938-4C4B-9425-DB161D05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04B13-A890-43A1-9DC1-C305390B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12E26-EAB2-4DA0-AB06-2558BE6B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8605D-E31C-4A8D-89AD-39E6D7F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EC8AA-F40F-4C2B-B16E-48F3D54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56AB1-A3F2-4D86-A5C3-CD58E05D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004F-A8F6-49A8-AA2E-0E1C689B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80F07-DF85-45A2-94A9-E311B20B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176-D312-4FFD-857B-FA9B0EFC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60FB6-1B7D-42E9-8218-FE46664F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E10A3-E25D-42EC-BD0C-D44B3D3B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E2200-ECE8-48CC-9E23-78ACBFDD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F761-D7A9-4B98-A85A-C5FD33DA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00DDB-D930-4EF4-AC15-8B79DA39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35674-73A7-49FF-9C8E-F4330B2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0C7DC-5919-4EF9-89E0-ACDC520D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2C02-0EBD-40AA-A559-EA74A89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684C-41BB-4867-A2E5-A76AD5AC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0EE1-19BE-4840-ABC2-62A85045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134-BA75-4B88-A670-63A395D6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E6159-5CAE-4DB9-A965-5649BBF5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A1443-DB42-49BF-A4AC-AD0C1023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3EB7D-FDD4-4377-B9E4-135387BA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CED6-21F0-4BA1-BF8A-6E2A9862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12421-6B58-478B-BFFB-0462F1EE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D8E8D-6FB4-47E3-A6D4-D1732F8E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88D9A-CC4B-4AC0-B34B-5DBDFCE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F99D2-B928-4958-BF6F-89541F20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99BF-AE5B-48D2-93B5-E7805F44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E7D77-F6D6-4C9D-BD2E-12CF6C64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833-4D52-4C78-A6AE-C37243A7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D9EFF-5682-4EE4-8EF9-CFED8867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EB53-24D3-4615-AA91-14E453CB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337B8-DEF7-46E3-B4AA-47CA017A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2FD4C-27F7-4DFE-8FB5-F71EE3CD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7AC0D-6CE3-4760-A0D7-A2D409AA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E30C0-3E5A-4354-8788-931F1129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81D08-A79B-4055-99E4-4D95443B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7C53B-18D1-4F9C-85C0-81A4E983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05083-3A7C-43F5-A4D4-70063F7B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1FFE6-4E0E-4889-965E-EDA55249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161-00EC-471F-A6B8-B09E248B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F9F7-3285-43DB-9315-2B271CE1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A5285-0534-4BEC-A077-7DE9545E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9A964-CBF6-48B0-8086-C067DF8A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E125-EDF3-4745-98A2-324A15AB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4E5B2-994D-4753-A463-061E055A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E3207-4F1D-4DFD-9B66-822DAFD0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A7B23-9FA7-43C1-9CA5-21BC9BE6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F1587-A37F-4A48-8B18-41F25BF9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E00F1-7E82-4458-B2C9-6D072FC3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0ACC1-F1DF-4378-851D-F7A93906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9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9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4CB2-5972-4D91-A0F6-9F558CA22CD5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2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0A13-29B1-416C-BD83-0C482DE6548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7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F331-F94E-43BB-B231-69E0BA058AF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1A78-7D63-414B-869A-406FC937C6F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55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89B6-17D1-45D2-BBE9-D2A726B3B9F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3C5A-5369-4337-9738-C45058D00C2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AED8-E4F9-43FE-981D-BF3B3A48FFF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B68E-CA77-4167-A42D-0A327196C5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4048-F91F-4FDC-9EA1-1F508B5D6F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9B27-CDBA-46F4-992F-669BAE4FD3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67A7-67E1-4DCF-9FE0-14DEF37E24D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E158-377D-4BA8-975E-105964E9A76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A2C0-8398-4B12-AF96-A93ED58E858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4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6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054A-9D1C-42F9-AF6C-FDCAE42E198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9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76E4-B290-4795-8E26-63B18DFC58C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04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84B-9A63-42E2-A379-BD50EE5C06F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08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742F-AA1A-4838-A1EB-8AD24E23FF7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F7C-0BDE-4707-BC49-EAB655F5370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7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6331-89F6-44D9-B85A-D79DC168440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B0DE-719B-4A94-AEA1-21B8DA095B2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A724-C356-4AF5-8DC5-24F213E066E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def3ff">
              <a:alpha val="33000"/>
            </a:srgbClr>
          </a:solidFill>
          <a:ln cap="rnd" w="3240">
            <a:solidFill>
              <a:srgbClr val="00c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88e4ff"/>
            </a:solidFill>
            <a:miter/>
          </a:ln>
          <a:effectLst>
            <a:outerShdw dist="12600" dir="5400000" blurRad="0" rotWithShape="0">
              <a:srgbClr val="0094d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03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cf927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F0FF-EB97-4278-88FB-E5C3AECBE903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5135-71EC-419C-8CAB-1D9390A5C5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50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cf927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10B4-8CA2-4313-838C-0D946E7E0112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003D-E61B-47CB-A52B-AA16DE096F04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71A9-4442-4520-8095-20A8403379A7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3BFF-3982-428B-AF5F-5722E230E32A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2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0dd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0b0f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63A5-6270-4ACF-9E19-1E83A2E7E9F2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4C6-5B6C-43AE-9951-D918C3DC1B6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5278-96F4-48D9-A49B-F594538CBB7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190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9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9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def3ff">
              <a:alpha val="33000"/>
            </a:srgbClr>
          </a:solidFill>
          <a:ln cap="rnd" w="3240">
            <a:solidFill>
              <a:srgbClr val="00c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88e4ff"/>
            </a:solidFill>
            <a:miter/>
          </a:ln>
          <a:effectLst>
            <a:outerShdw dist="12600" dir="5400000" blurRad="0" rotWithShape="0">
              <a:srgbClr val="0094d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3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0CEF-E50E-472B-9545-F5750757C3AD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5236-7F32-46A9-AE6D-7D3D0E340571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A702-F4EF-42A4-81D7-A97F78141E00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AA81-89D7-403B-B0F6-14C0E2FA47C3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2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WordArt 1"/>
          <p:cNvGrpSpPr/>
          <p:nvPr/>
        </p:nvGrpSpPr>
        <p:grpSpPr>
          <a:xfrm>
            <a:off x="500040" y="360360"/>
            <a:ext cx="7858080" cy="1352520"/>
            <a:chOff x="500040" y="360360"/>
            <a:chExt cx="7858080" cy="1352520"/>
          </a:xfrm>
        </p:grpSpPr>
        <p:pic>
          <p:nvPicPr>
            <p:cNvPr id="1567" name="WordArt 1" descr=""/>
            <p:cNvPicPr/>
            <p:nvPr/>
          </p:nvPicPr>
          <p:blipFill>
            <a:blip r:embed="rId1"/>
            <a:stretch/>
          </p:blipFill>
          <p:spPr>
            <a:xfrm>
              <a:off x="500040" y="360360"/>
              <a:ext cx="78580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8" name=""/>
            <p:cNvSpPr/>
            <p:nvPr/>
          </p:nvSpPr>
          <p:spPr>
            <a:xfrm>
              <a:off x="642960" y="500040"/>
              <a:ext cx="75722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ля вас нет ничего н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ru-RU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озможно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Rectangle 3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0" name="Заголовок 4" descr=""/>
          <p:cNvPicPr/>
          <p:nvPr/>
        </p:nvPicPr>
        <p:blipFill>
          <a:blip r:embed="rId2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15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WordArt 4"/>
          <p:cNvSpPr txBox="1"/>
          <p:nvPr/>
        </p:nvSpPr>
        <p:spPr>
          <a:xfrm>
            <a:off x="2143080" y="2071800"/>
            <a:ext cx="5072040" cy="909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оветы родителям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3" name="Rectangle 6"/>
          <p:cNvSpPr/>
          <p:nvPr/>
        </p:nvSpPr>
        <p:spPr>
          <a:xfrm>
            <a:off x="0" y="39762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Музыка – это язык, на котором нужно уметь пересказывать тексты, исполнять любые произведения, читать (знать нотную грамоту) и говорить (импровизиров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И без вашей помощи, родители, ребенку будет сложно освоить этот язык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7"/>
          <p:cNvSpPr/>
          <p:nvPr/>
        </p:nvSpPr>
        <p:spPr>
          <a:xfrm>
            <a:off x="2714760" y="55742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Чем же вы можете ему помо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5" name="Picture 8" descr="C:\Documents and Settings\Администратор\Мои документы\Интернет-страничка\Слушатели\38\web\images\cwet.gif"/>
          <p:cNvPicPr/>
          <p:nvPr/>
        </p:nvPicPr>
        <p:blipFill>
          <a:blip r:embed="rId3"/>
          <a:stretch/>
        </p:blipFill>
        <p:spPr>
          <a:xfrm>
            <a:off x="3643200" y="2500200"/>
            <a:ext cx="2143080" cy="1513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0"/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WordArt 2"/>
          <p:cNvSpPr txBox="1"/>
          <p:nvPr/>
        </p:nvSpPr>
        <p:spPr>
          <a:xfrm>
            <a:off x="1089000" y="785880"/>
            <a:ext cx="7412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Пойте сами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77" name="Rectangle 3"/>
          <p:cNvSpPr/>
          <p:nvPr/>
        </p:nvSpPr>
        <p:spPr>
          <a:xfrm>
            <a:off x="3357720" y="2246400"/>
            <a:ext cx="52149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Нужно, чтобы ребенок понял, что музыка исходит от живого человека, а не из громкоговорителя. Даже если вы фальшивите, надо и в этом случае петь и говорить малышу: « Я пою плохо, но все равно петь так приятно. А если бы я пела (пел) лучше, то было бы еще веселе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8" name="Picture 4" descr="C:\Documents and Settings\Администратор\Мои документы\Интернет-страничка\Слушатели\32\web\images\colec109.gif"/>
          <p:cNvPicPr/>
          <p:nvPr/>
        </p:nvPicPr>
        <p:blipFill>
          <a:blip r:embed="rId1"/>
          <a:stretch/>
        </p:blipFill>
        <p:spPr>
          <a:xfrm>
            <a:off x="285840" y="2786040"/>
            <a:ext cx="2152440" cy="2525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0" dur="5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63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" dur="300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" dur="2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WordArt 2"/>
          <p:cNvSpPr txBox="1"/>
          <p:nvPr/>
        </p:nvSpPr>
        <p:spPr>
          <a:xfrm>
            <a:off x="2286000" y="0"/>
            <a:ext cx="58579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060"/>
                <a:gd name="adj2" fmla="val -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nstantia"/>
              </a:rPr>
              <a:t>Что петь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nstantia"/>
              <a:ea typeface="Constantia"/>
            </a:endParaRPr>
          </a:p>
        </p:txBody>
      </p:sp>
      <p:sp>
        <p:nvSpPr>
          <p:cNvPr id="1580" name="Rectangle 3"/>
          <p:cNvSpPr/>
          <p:nvPr/>
        </p:nvSpPr>
        <p:spPr>
          <a:xfrm>
            <a:off x="4214880" y="2025360"/>
            <a:ext cx="48578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Arial"/>
                <a:ea typeface="Times New Roman"/>
              </a:rPr>
              <a:t>Детские песенки. Традиционный репертуар очень богат. Если вы не помните ни одной песни, купите кассету и слушайте ее до тех пор, пока не запомните слов. А также вы можете воспользоваться рекомендациями музыкального руководителя детского сада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Picture 4" descr="C:\Documents and Settings\Администратор\Мои документы\Интернет-страничка\Слушатели\35\web\images\DISO-SAD-1.jpg"/>
          <p:cNvPicPr/>
          <p:nvPr/>
        </p:nvPicPr>
        <p:blipFill>
          <a:blip r:embed="rId1"/>
          <a:stretch/>
        </p:blipFill>
        <p:spPr>
          <a:xfrm>
            <a:off x="1940040" y="2071800"/>
            <a:ext cx="2489040" cy="2357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WordArt 2"/>
          <p:cNvSpPr txBox="1"/>
          <p:nvPr/>
        </p:nvSpPr>
        <p:spPr>
          <a:xfrm>
            <a:off x="1928880" y="142920"/>
            <a:ext cx="44290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1810"/>
                <a:gd name="adj2" fmla="val 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Как петь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83" name="Rectangle 3"/>
          <p:cNvSpPr/>
          <p:nvPr/>
        </p:nvSpPr>
        <p:spPr>
          <a:xfrm>
            <a:off x="2571840" y="1821600"/>
            <a:ext cx="65721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ерите песню, которая вам больше всего нравится, и пойте ее ребенку на сон грядущий. Делайте это хотя бы раз в день. Пойте ее со словами и без слов. Нужно, чтобы ребенок слышал, как вы поете без слов. Но не будьте вялыми. Помните, что если вы вялы, то ваша музыка будет невыразительна, а значит, не представит для ребенка ни малейшего интере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4" name="Picture 4" descr="C:\Documents and Settings\Администратор\Мои документы\Интернет-страничка\Слушатели\37\web\images\mouse3.gif"/>
          <p:cNvPicPr/>
          <p:nvPr/>
        </p:nvPicPr>
        <p:blipFill>
          <a:blip r:embed="rId1"/>
          <a:stretch/>
        </p:blipFill>
        <p:spPr>
          <a:xfrm>
            <a:off x="214200" y="1857240"/>
            <a:ext cx="2394000" cy="23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WordArt 2"/>
          <p:cNvSpPr txBox="1"/>
          <p:nvPr/>
        </p:nvSpPr>
        <p:spPr>
          <a:xfrm>
            <a:off x="2357280" y="96840"/>
            <a:ext cx="428652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528"/>
                <a:gd name="adj2" fmla="val -1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Кассе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86" name="Rectangle 3"/>
          <p:cNvSpPr/>
          <p:nvPr/>
        </p:nvSpPr>
        <p:spPr>
          <a:xfrm>
            <a:off x="3286080" y="2527920"/>
            <a:ext cx="58579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Arial"/>
                <a:ea typeface="Times New Roman"/>
              </a:rPr>
              <a:t>Давайте вашему ребенку возможность слушать музыку, приобретите или запишите для него на кассеты различную музыку. Приобщайте ухо малыша к музыке всех жанров (классическая музыка различных периодов, джаз, народные песни и т.д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Picture 4" descr="C:\Documents and Settings\Администратор\Мои документы\Интернет-страничка\Слушатели\37\web\images\1.jpg"/>
          <p:cNvPicPr/>
          <p:nvPr/>
        </p:nvPicPr>
        <p:blipFill>
          <a:blip r:embed="rId1"/>
          <a:stretch/>
        </p:blipFill>
        <p:spPr>
          <a:xfrm>
            <a:off x="0" y="1643040"/>
            <a:ext cx="3429000" cy="3857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7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20" nodeType="after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1f28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2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308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3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500" autoRev="1" fill="hold"/>
                                        <p:tgtEl>
                                          <p:spTgt spid="1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WordArt 2"/>
          <p:cNvSpPr txBox="1"/>
          <p:nvPr/>
        </p:nvSpPr>
        <p:spPr>
          <a:xfrm>
            <a:off x="2786040" y="0"/>
            <a:ext cx="53578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2500"/>
                <a:gd name="adj2" fmla="val 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Это важн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89" name="Rectangle 3"/>
          <p:cNvSpPr/>
          <p:nvPr/>
        </p:nvSpPr>
        <p:spPr>
          <a:xfrm>
            <a:off x="1500120" y="1031760"/>
            <a:ext cx="7358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Constantia"/>
                <a:ea typeface="Times New Roman"/>
              </a:rPr>
              <a:t>Помните, что ребенок-это не сосуд, который надо наполнить, а огонь, который надо зажеч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Constantia"/>
                <a:ea typeface="Times New Roman"/>
              </a:rPr>
              <a:t>Нет ничего невозможного, надо просто захотеть поверить в свое дитя и создать ему условия для полноценного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66"/>
                </a:solidFill>
                <a:latin typeface="Arial"/>
                <a:ea typeface="Times New Roman"/>
              </a:rPr>
              <a:t>Вы сеете, и то, что должно взойти, взойдет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Picture 4" descr="C:\Documents and Settings\Администратор\Мои документы\Интернет-страничка\Слушатели\35\web\images\dcde5363cb612a7c14fdcc010ee538a6.jpg"/>
          <p:cNvPicPr/>
          <p:nvPr/>
        </p:nvPicPr>
        <p:blipFill>
          <a:blip r:embed="rId1"/>
          <a:stretch/>
        </p:blipFill>
        <p:spPr>
          <a:xfrm>
            <a:off x="3929040" y="4071960"/>
            <a:ext cx="271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5" descr="C:\Documents and Settings\Администратор\Мои документы\Интернет-страничка\Слушатели\33\web\images\flower16.gif"/>
          <p:cNvPicPr/>
          <p:nvPr/>
        </p:nvPicPr>
        <p:blipFill>
          <a:blip r:embed="rId2"/>
          <a:stretch/>
        </p:blipFill>
        <p:spPr>
          <a:xfrm>
            <a:off x="1714680" y="48578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6" descr="C:\Documents and Settings\Администратор\Мои документы\Интернет-страничка\Слушатели\33\web\images\flower16.gif"/>
          <p:cNvPicPr/>
          <p:nvPr/>
        </p:nvPicPr>
        <p:blipFill>
          <a:blip r:embed="rId3"/>
          <a:stretch/>
        </p:blipFill>
        <p:spPr>
          <a:xfrm>
            <a:off x="7072200" y="4857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7" descr="C:\Documents and Settings\Администратор\Мои документы\Интернет-страничка\Слушатели\33\web\images\love2.gif"/>
          <p:cNvPicPr/>
          <p:nvPr/>
        </p:nvPicPr>
        <p:blipFill>
          <a:blip r:embed="rId4"/>
          <a:stretch/>
        </p:blipFill>
        <p:spPr>
          <a:xfrm>
            <a:off x="4500720" y="5572080"/>
            <a:ext cx="1523880" cy="619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6:34:48Z</dcterms:created>
  <dc:creator>Потапов Илья</dc:creator>
  <dc:description/>
  <dc:language>en-US</dc:language>
  <cp:lastModifiedBy>Коля</cp:lastModifiedBy>
  <dcterms:modified xsi:type="dcterms:W3CDTF">2013-03-20T19:21:12Z</dcterms:modified>
  <cp:revision>30</cp:revision>
  <dc:subject/>
  <dc:title>Слайд 1</dc:title>
</cp:coreProperties>
</file>