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3.jpeg" ContentType="image/jpe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5.jpeg" ContentType="image/jpeg"/>
  <Override PartName="/ppt/media/image22.gif" ContentType="image/gif"/>
  <Override PartName="/ppt/media/image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A62-3F6E-4432-8637-8D121F9B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974-04E6-47AA-874C-804F33B6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A8F80-49B6-46F4-AD67-56DEA163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CF219-D98F-463F-B09B-B89D8AB6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593ED-8BDA-452B-81DD-8CF5F66F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E358C-EF66-4A78-B164-7AA4FB94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F9462-9275-452E-8BDA-0158407A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22BA1-A837-4E26-A4AF-CBC2F93C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FD747-EE30-4703-8F01-8CB0BB93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48DA5-17B3-4D10-AD98-E2FF4CCC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38F43-7C8A-4777-B4D1-2A7D61A0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23EB1-C8B5-4D9D-AEB5-F2FC818A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5B7-82AF-448C-8C63-29B65431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72E67-8822-4ACE-B694-47D5FA38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2D6D3-DCA7-4CFD-8AC5-D0D40901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BAFEE-5198-4386-9F1D-1D1CB860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5FEAF-62ED-4DEF-8410-BA66C164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1310E-4885-458C-B310-A6F21CE7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241C2-7220-4212-867B-DFD8368A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ADC04-BF62-48F2-BBFE-A23652BD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DBDC4-1354-438A-BC1A-DD95D633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92A4C-0EFA-4EBD-A8FF-38D2B2B7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27644-B68F-4567-A39D-C068D9E1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F4B-4527-497D-B970-4153AB78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D89FF-121F-4D57-9338-8BB0C314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16AF4-9BF0-4872-84BB-6BFD5B96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CB72B-F1D7-48F0-A94F-8027ADD0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5C166-5D95-4F34-ACB3-001534BB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09110-B193-4092-A0B1-EAF506B7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2F8ED-5F16-4C8E-9ABC-E67E91D5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9A869-46D8-49B7-A294-209BF3FD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A3B7F-59DD-4301-890F-F72BB93A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B0B82-1B96-4224-9A4F-36D41112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9660D-1EE6-4751-BB6D-93685B58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78B9-A256-489C-9DBB-C1CC9A4D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BA523-8CCD-4382-A634-883C6015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88209-0230-405E-BD9E-97C370C3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00D02-F263-47E8-874F-CF47DD92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A43E8-A9F0-4B11-83A6-759D149D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54BC5-CEDA-49FC-A921-F09C5719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34D97-1888-40C8-8DE0-9CD7156C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E446D-F61F-4693-8B56-30202FB0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2D3C2-4674-4C1B-9889-A3DD5CC7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D951F-43DE-4D71-B0D7-BC8AF839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27A51-2C89-4B24-8937-6EB71BF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4283-E771-4251-B779-7E3A437D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C164A-09BE-4F60-B4B0-6C1B26C0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0631C-59FE-4D08-8DEA-D5328F37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D8593-0A61-40CF-8E30-892CABE5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D4BFE-35DE-4693-A9BF-884EE42D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D73F8-10BB-41E9-A952-3F5B661D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C3E69-D3E4-4878-A3BA-7CFE4879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A6C78-E254-4A42-8E36-93067015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4F132-02BC-4087-AEB8-CCF7474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FCB2E-3473-489A-A9BD-7B6DD247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3C8E2-262A-4A55-9E11-AF98A245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E6AD-BC83-44FC-AA19-EB899899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CFD52-0CBF-4209-BEBA-A8156737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9877F-FF32-4C7A-A0B9-2FEEEE3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8D2C7-1D32-416D-9505-9F471BF4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9BAAE-8C16-4BB3-B090-72F0556F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0332C-FF25-4C6D-A8A7-D27BAAA7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96894-BB67-46F6-A6F9-B95962A1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A4AE9-5C87-402D-AD7F-B64CE4C0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CA3CF-6205-4044-A95A-BB5DCDAD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CE8DB3-C5D0-4CFA-9942-62ABEBE3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F6708-4350-4FA2-BCCA-BEDC33E5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5108-C5E3-4D4F-BA8B-4B53656F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AA937-EFE0-4903-AFEA-FE6834B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9F213-D0A8-48C0-B49D-5F342817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58BD8-34B6-4AF2-837B-4452890C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DECED-6A19-4975-8E02-7F2BE4DB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52176-B8F7-4E0A-95A8-BA08834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8504A-A57C-4778-9FBE-FDF0491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BDEDB-05DC-4C0C-9A5A-FFC2359C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59D05-A3FD-4B9E-86E1-5D962205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08495-9BE1-486F-BFF0-3E0E46D3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994E93-5C05-4DD6-9802-5546CFD4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FC33-C743-40E0-B3A2-74B2AD6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4484AF-B928-40D7-8972-3B699822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2AA91E-25C1-46FA-83BF-017E60EA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C37A0A-D086-475C-B8A5-FC2CDA4E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0B109B-C535-41C1-AEB1-918919EE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30B4A0-799B-4299-87B9-F3460018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97033A-61AC-44A3-995E-635D3719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AD5BFC-BB72-49BE-AB47-71E78A8F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354276-A404-404B-8B75-0AFDF5FA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58ACFE-5DF1-4171-9E8E-103B075C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5F39BE-14D2-40B4-85ED-C5810403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8177-9AF3-4C7E-A9F7-5148FCAF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0AC8FA-4AF9-42CD-BDA7-101967AA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1F136-B4CD-46F6-8864-0C93B42B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66996-1C02-4292-BE17-065B110B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11E95-F644-4EB8-ABEB-92176AC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580DC8-956B-4CC8-85B5-50A5D56F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EB731-9085-4714-980C-E07F1038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8C1AF-B447-469D-A20E-89BE9D8E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A0712-775C-42F1-9230-46CEBEB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FD120-10D4-4057-98A5-4C332FB3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798B7-E35D-4B2B-828A-865119DF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1BEC-E8AD-4A19-BFAD-D20F0D05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AE250-6B8A-4E40-BAEA-5D670BFF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B6795-DC1D-43AC-AF2F-0BCE6244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E4098-7D3E-42DF-97FE-622F1AD4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3CDE04-F810-45F9-B019-E80DA2DA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B72FB4-2BD1-4108-B63A-AC4D854D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470FF8-DF98-41F0-8ECD-4D16D1E0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4A6420-DDA4-49B9-8690-E8665A6B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47736D-BF29-48B9-9BB0-3294FF2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47EBE9-2872-41A8-9392-9443F7FB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8F9943-F6C4-4D22-A2BF-212B1FE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155-3E13-409D-AACB-5A13C4E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A456-C9A3-41DA-9F3F-763196A8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066876-4CDF-4E53-8C5C-1815B427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A816B0-18E4-4020-B857-C9C03CB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1D9EF9-5851-4B14-AFDE-F2EC669A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545878-6384-4F03-91BF-A56DAF82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A459AE-78A7-4427-8484-BF899808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D3AD5D8-74A4-4B43-ACD2-9A548579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5C637D6-05E7-4DE1-AF10-326083E2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A24557-B29E-4723-88E2-82239AEF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0913A9-52BE-481F-88DD-214E5F6D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CAB275-4EAC-4CED-9698-FF1B86BD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616D-C0B8-4B97-AACB-FC8D8FA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D03A7A-469B-4A9A-AAA2-E6D4276A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1990F56-6774-46FB-8803-27CB17B3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F0D6D2-C9B1-4767-8911-301D8F39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9A96F0-3979-4E25-BD82-B44CF713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149018-C8D0-4CC4-B4CA-91ACF191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0AC522-D164-40AB-8065-323145EF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DDB9CA-6E12-4D46-B2D3-CF502CFA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B8419A-567F-4AE1-AC76-67EA1AC6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54FF8D-C22E-4178-9BDF-1E745BAA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37F868-257B-49A5-97D5-E19DDD9A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5C8E-05A1-4AF8-B0A8-F2F71ADF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25B13C-2BBA-4721-9599-1018CFF5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465835-2A64-450D-B560-CBDB27E3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268A94-628A-40C4-A9DF-682D898A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EF1C04B-EC05-444B-8BE6-7C52296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262B84-8550-4C9E-8D12-2E89FA5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40497A-A5E8-4D33-A157-BC769675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2BDCB7-89DD-44FD-A21C-4B55C3A3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FEC6EF-3B6A-4045-BE03-986FA090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45F089-DBB2-44C3-BDF7-9BD28B36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22923-BDD8-4758-9ADF-D1758389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ECB6-F84A-476D-B4FC-850760B2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32F77-A2BB-4652-AD95-91B6CB98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3C5D00-2638-4E05-961F-B5313B14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FBF9DB-549B-4BC0-8BC7-A2C8E87E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8E959-31B1-4D4D-A723-5762C8EF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91ACD5-8A00-4125-9210-A770104A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970F72-A395-4DA4-81FC-AB39A02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3C3D4-8264-4816-B6CB-21F8F8AB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65AAB4-C4CA-4C64-B3D2-A54C5693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7CC29-3ADB-44E5-AEAC-C8E0C085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48851-145B-43A2-8BFD-708B12AF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2BC6-D6D7-4BA9-A4EE-C9611580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8DF091-2DDC-4F84-8521-57BDF4F7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7CF3A-12F4-4588-82D6-629D9FEE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0F3F8E-86DF-467E-8EF7-2C1006A2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D33CA-D164-4734-B1A4-E4B7B046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9E047-DB63-47C4-AA92-8DCF4E63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C83830-C9C8-4436-A89F-FBB83CD6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0041DD-1F0B-4C68-9145-F3E6ACFD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56B2C-0B03-49C2-989B-723BD6C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6F2FC-3E63-493F-A2D3-E117145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EF122-9006-40CD-ABAB-E6D32BF7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014F-A3E2-4C15-89D6-DEAB74AE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FDB70-9F7B-4592-8232-F3439251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C9A694-5E91-43D7-905B-FA88FFB9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84D67-EEA3-4788-A85C-3BCAD38C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A23189-CF04-4113-85AD-4B1DFE77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A88A3D-2C9B-4072-9392-44861B70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8C3FBB-9562-4CC8-BABD-37CD97B0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078620-7C82-4BF7-AF65-F0D212D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311F93-720E-4290-9814-F548A2AA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75D3D2-A104-4F4D-B6C6-D3C4EEC9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9A6439-7563-42A2-8E82-03E63A4E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AC0A-F5C1-4C1A-9A9F-5A70FAB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3884D5-C883-41DD-A526-1E989D8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A19BCE-22BE-4F9A-92CF-5CA3997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4BC28D-924D-4DB8-BB4A-B8C63324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5EF578-2279-462B-8D1E-AD2906BE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D2AB73-17F5-44B3-8B25-98F26D7A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F298DD-6DF0-496A-9A9F-6359A129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E35735-C7BB-4945-8E54-0DAB6D46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B48E77-8DF2-47CF-99A3-CBBB648E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7C6E22-9C99-4F56-ABA2-390745EF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1D56D0-AE43-4549-9E02-66478A39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8E43-DB11-44E2-9C4E-32F71861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F747D6-BD57-4C83-A354-3C1E2716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B7282C-6513-4ACD-9418-7496D3F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F4E6B8-2416-4BCF-AF80-F68F97C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936AF6-450A-4C8A-B2C3-7C26331A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961004-50AA-4F07-A587-127803EC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0ECE46-C5C9-4129-8707-2C74973A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D68130-6FB8-41C0-92BF-4D1DBF9F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89BAE4-A691-48A0-80A2-6FE6D433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8A5E5C-0648-4AF7-8B80-F2AC0551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C9F80A-898E-4BCA-B04A-11DDF186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089C-C0C2-49BB-BE98-42A86629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EA7F31-AF25-4BE2-9945-BD5342A7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E8D70E-8D2A-4199-B3DD-F6DE54A2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1A2E4E-9F85-46B9-A934-F85D77A8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8D15BD-878A-4B58-8244-920F079B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BA7104-E441-44BA-A29A-53F1DE6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3F7829-CFCF-4645-B114-0F4AECF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C48BF3-E3DB-4D65-B8EB-A536C5DE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813FE4-7DC3-4097-A9FD-BF6B04F8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BB2021-3EA4-4358-BC40-F8EC5CC6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54D46D-5BEE-4349-83AB-224C3803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BEE5-ED8A-483D-A18A-060AAED1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ADE70C-A30D-4BE8-8681-11B6B9B2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2556BD-9625-4411-A2BD-E025FE66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EB668B-2336-412D-8A8B-F7C3157A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1AD54C-3668-4DFA-B1B4-4E27DF7D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551540-A581-42B8-99F4-CCEFFE29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3E4C17-6959-4D44-9843-345D3B81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6C79A7-A46C-48C1-8C79-1EDAFD8C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2A7D74-1A1D-4FF7-B16C-E83E3949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94603F-EE83-4053-9587-195EFC2E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FE5D04-6ED8-47D1-9FAE-4905FCF2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843-BAB2-4BA6-9521-8C767C2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03AA-30AC-4389-A240-8B3159E7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6066E3-A49B-4CF0-98FE-F1C1036B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567CF0-7ECF-4210-98DA-0EEE64E5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DE8DA0-E885-45E3-9D8C-E0A4F019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85FF9D-EDD4-4DA5-A5FD-E5263AAD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4E605E-641D-43D7-AB00-4810EFC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78210C-36A0-4B37-90D1-BC324F60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703506-51BD-404F-9229-BD794B7C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29E01C-189E-4346-B7D3-95FDF676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63BC75-2083-4F45-B5E0-84E57262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A8FEF-3522-4D4D-BB15-3C6CD5B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FD8D-3CAF-4C58-A4C0-838E7855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7B6CBF-3103-4B3D-8CB7-00CA8100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0BF01D-446D-467F-ADBB-79177820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6C7AC8-DDB7-4C1B-9110-EA4372D9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50657E-3837-49AF-8F53-67F8E10D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39B939-E16C-445E-BDCF-3A7E9CDF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60EB47-56C2-4574-91F2-CAB319A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A54802-2D64-477A-832D-C34E6265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8B7632-8BED-4CCB-9E05-4D19DE3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55FEA4-19F6-4CB4-B5C6-A26F38F2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1A9DF5-8F80-47BC-9EFD-B845304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40BB-AF57-4882-95CE-9641EAE9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87E1E4-E20E-438E-8819-9824A60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18BFF8-9DAC-4312-B1D6-924485F7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A1476D-E2BC-4189-BBCA-62311CC7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35E2A0-F6A3-4EB5-A990-ED8928F7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C17AD6-AC20-413A-911B-ADAAC71A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FAD381-B00A-47B0-A2F3-841CBE60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FFBEA8-FF45-4B7E-87B0-83D4B1A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45F791-562F-4DC3-88A3-9FE52C7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BF3AD8-4D31-48A4-AEE8-95347EF5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AB4C4B-3A32-44BF-9DB2-335C738B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F9B0-8CAB-4A54-BCF2-EDC26F17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C58BD5-21AA-4D5D-89FC-3F50296A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25371D-EE01-4EE8-8EAB-6D4913FD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236798-A473-4A88-9376-8F7F8377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EED9E2-6E58-40F1-B5DC-93C6A0A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5E4FEF-A890-4739-8CB3-AF5032B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35B6FF-AE52-4074-AF64-5723DF37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EFC93B-9BBF-4607-BAC5-5C1893F0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DB3346-8EC0-4A43-A26B-72DA8666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2C7BDD-B0B4-4F36-B94E-C03B49DB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3842D2-8430-462B-AFEC-E206CE06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232D-A64F-488C-BA8E-5B0CB11E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07BE49-98FA-4074-97AD-A37B85D9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C3E796-D4C7-4D48-93D9-FAD26552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6F0348-5785-4F00-94A7-9A6E7B05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E1B857-BB75-4783-99B8-1B820D61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65D431-5940-442D-9096-35B9B6E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77E8B7-8A7C-4ABB-A7D6-D423AD93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3B53ED-C66C-4126-9F9D-A6B1F52A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4A3461-2279-4E95-998F-1E69B86A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A31FD7-90E0-4203-BDE9-A8951E66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55AE8F-A0C8-4A5E-B821-27093293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6DB9-4811-4F1C-9D63-A4ABA3CE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21B67F-29E6-4867-9A28-E39C69C3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E9149D-6C10-488A-9894-5F71E5F0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9D9944-6817-4265-ACAA-182309E7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C461A3-0B13-43BE-8DD1-4FC8B8D2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E03C36-1D4E-4B01-ABE5-6612C259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B24E19-4408-43D5-A157-58BE07EE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D39E96-EA0E-4F9D-BF09-1585C9F1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33286B-4FF0-4D60-BD5B-AD71B280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261423-0983-4EEF-8C54-CA2FFCE6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34C104-B3A2-4907-92E6-248F381E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2226-E0A3-4D21-94C0-4895BD13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1627DB-EF91-4FEE-8FD6-7382F5BD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0762C6-4AF8-407B-BEB0-2B133F5D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D52EA5-A8D7-4B9D-8F27-A6B9FD89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9B60C7-83E8-463A-9466-0B174EC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9C41B8-887B-4390-8A6F-4778CD7C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A83221-9B8F-4012-AB26-BCDC95A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1CE3C2-86D9-4520-A54A-54BE9634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E2125D-CC23-4AB0-A779-C49BCEF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D0E72F-6043-4B7B-9A43-A192F734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05A11A-D41D-44FE-B453-16D79557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566F-769F-495F-98A0-F0495113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77A177-1B76-40B9-9605-13EF2A1E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B31AA6-28AA-407C-9D5A-17EBA7BE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8167A7-01FC-4C59-A694-E78219FD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CF5351-AE97-481F-A218-3DDAA745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2378DB-2ABA-4B34-B7F7-71BA5D94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E9EFEC-35AB-4044-872F-D99C6183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B34512-A7E2-4653-A3B2-CF307B0F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0CB6C7-D21C-478C-80F4-34363180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E1ECA6-763D-4A7C-9B2C-B59103AE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9E9229-601B-4379-AA81-725C68E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74A7-1BA9-4F4C-BFD4-C2F2EC64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B19317-A52C-4919-BADC-6AD4D3A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52D710-4CF8-469F-BBF4-6D6EB163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3BD08F-8052-4DEB-A2C0-C7431AF0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C1C70A-6399-492C-A674-B54B283A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682529-2969-4BD5-9CAC-29CC9F62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ED53D5-6590-4C25-A83B-C1DECD5F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8326CB-582E-4CF6-943E-AA8CD44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599107-8A79-4EFF-B42B-6D65331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C38266-9A53-49AE-9091-C1739EC8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849EF2-6762-4392-B0D0-9ACE8053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C95C4-8DED-4481-A891-17BBECEB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AB6CE9-0238-4B3F-9FB9-AB825748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423B3A-B436-49AC-8AD0-6DA32C39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149DCF-6993-4515-9DF2-4322F341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A6637E-8943-4C77-8325-3F650B90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713C32-B77C-4A8E-8358-EC807E1C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AC460F-34CA-403A-86B7-D2DCDE2C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709AAC-8AAC-46C8-B79C-0C361D1B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F74114-4F6A-4D05-974C-7CFFE5E0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EFA1AB-C4E3-46C3-A01B-75EB1D50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4A6D82-6C64-4ECD-B531-09416A0D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894-655D-49DC-A223-4DFB8D42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ECA50-1F38-4CB1-8E3B-6D5DA736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6E556F-7185-41BE-95F3-B0D40EF2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0C6773-0AB3-4EF3-A62B-E3A21E94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7FF505-7A70-4720-A8AF-198DB545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B5FE0E-AE58-45E0-B577-9CEA5A5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44E13A-C006-401F-9200-CD544A6F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63C331-7AD9-4E9A-8D28-BAFDC542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64BF54-CCE8-4035-B438-0AE5B4AC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CD2B68-D623-466C-B207-D284F2B9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BBA284-F456-42D1-9A92-F45D009B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8D00E-B8B9-450B-91F2-01A9BC3B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0393-B782-4094-8BBF-3ABA6EDD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910B-4FF3-42C5-A7C7-DCC19983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D8F2B-70B7-45AF-A73F-00912B1B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6099-4E0A-4118-92B5-6AB68C45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40FB-66AF-4396-8A67-99F07958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B6F7-73CC-42E1-A065-E26CE394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11F3-F78B-432B-BA85-0DA8739A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DAB18-77C1-4FCD-B487-121D6006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C0A-8454-42A2-97FA-06F75A8C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8331B-2929-4E40-BF1B-3F587976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AE1A0-4211-4BDA-909E-A49D148B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D5A9F-E497-485C-BEC4-FDE288E9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22192-3DD7-49F8-A4DA-624DC2F5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129A1-867B-4DE0-B9CF-47861406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1DA1A-5736-4384-9386-DA31B60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1D8B9-DC32-428E-80EA-67786A87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0C82-839C-4F53-8DE5-0F495D7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9113-7F63-4869-8181-CA3EB9B7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54A30-98D6-4970-A76D-9E875B87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132-CAD7-4678-A7D8-118E7AC9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CE13F-1DF9-47B6-8D59-FD48C337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D3BD2-7CB5-4C89-B43B-A2E3E512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73C46-9592-444D-BC7B-8ED87C9E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C6D65-F58D-4FBC-ACCE-C530CC19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64A0C-1644-4C85-8DD2-DAF5C372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6875-8F77-4953-B05E-4023B275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4247-2FA9-4547-9353-2E25A605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13C25-13F2-4AF8-B469-9D62E560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D251-75D6-45F1-A301-BEED945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AF78D-9B07-45B7-84DE-89E13974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92A-B23D-42EA-8766-FA432FE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C3DF8-E5A7-4B34-BEB1-C348E73A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BD95F-6C88-46DB-8B1F-88F098D0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CA558-5F50-4DEC-9BEB-F3F10F0E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E124A-C954-4EBC-8B06-987F2BE1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05EFA-E507-4A07-8B32-DE81367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C2DB9-FE84-45B5-8D45-E557D867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2AB1E-A478-4E83-B9ED-9D1491B4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E1B4-5AC0-4CF0-B955-7E3F51B4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5E1C2-B698-4B99-8BA7-4E87C990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7A545-AEC2-4AE9-BCEC-1CBF58A7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894-ED91-4418-B908-214A083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301F9-915A-4DDD-B7E6-45B2A89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CD622-64A3-4BA9-B59E-7AE634D3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9472A-3BF5-4FF0-AA0D-A04134F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57A65-E621-4846-BA54-8ED71C33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1D719-C216-4184-BECB-6FD7338D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8F475-937F-4266-A466-E08D6D0F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3A4A4-D509-470E-B644-9DAC9425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32549-EFC8-4BB0-AA3B-48B134E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95308-A38E-48ED-8FCB-AC96B1AB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34E28-83B1-4CF0-A4E9-A4B866AD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602-7BC2-442F-B2B6-20E56CC9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8C285-85C3-4B86-BE26-43576E52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D8F90-65C5-454C-A9BD-9461EC5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045BB-217B-4518-B7AC-37B0E2CE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080D6-AA91-41E7-A3C7-F2732BDD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B3B9F-6801-49F8-BCF1-22F0B8AB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88B7C-CB70-4018-A32B-BFCBD215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20F2D-CE68-4F25-9925-66D15ADA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12605-47F9-471F-88EC-D4E8D171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E9C73-FD01-41D1-B9FC-6FF0422C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6B1F8-DA88-473C-88CA-667A6A36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9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9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026F-E131-42E6-91FC-B78154CEF7F2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2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94C7-56A7-4A26-888F-9313A457CCA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7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30BE-F3DF-4024-8D76-D10497F450D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DD3D-FDC2-4C3D-822D-0CB5BA049CEE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55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6048-440D-4409-B950-C7C28262727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B18A-AB61-4AF8-ABD6-6C1E7A476A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5DA6-992D-4102-AD84-1280C75E9C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B945-A244-4AFB-9A9A-CF1B60B7C1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8E14-D117-42A1-BC59-ED99D213E27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D658-1371-4A9F-8653-D4D4818633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EF54-20DE-4329-BB9B-D76B8F8595C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A887-665C-4B86-86F1-DDC1E080C6B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759-7B35-4F13-936C-CD35DC317D3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4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6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83C2-AB38-4232-9291-39A5D04876C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9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D670-5318-4C6B-A5ED-35C1A93152FA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04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CD1B-6F95-42FE-91D0-9B8BB834F61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08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4454-0C30-4F38-87CB-67B619054E5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36A-0AEB-45C8-AAD4-5061AFB07EC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7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C919-8867-4645-83B8-E9F755FC9AF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EBBB-0887-421C-933A-AC9DCF5F544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1331-D34F-4265-B124-2EB477818B5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def3ff">
              <a:alpha val="33000"/>
            </a:srgbClr>
          </a:solidFill>
          <a:ln cap="rnd" w="3240">
            <a:solidFill>
              <a:srgbClr val="00c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88e4ff"/>
            </a:solidFill>
            <a:miter/>
          </a:ln>
          <a:effectLst>
            <a:outerShdw dist="12600" dir="5400000" blurRad="0" rotWithShape="0">
              <a:srgbClr val="0094d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03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cf927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51C5-0862-49FE-BF0A-02F6628AF877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87CC-4651-42EA-8258-324C05E176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50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cf927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57B-7B75-4518-9784-6E327BBCB094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7375-3A28-46A7-9981-209801725EFE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5A69-FE13-4C8D-A55A-F0732106B2AF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8EAC-DD15-4668-8F18-F70E98D6F2C0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2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0dd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0b0f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45A0-C435-407E-8F26-891AEAA46E07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65D-C370-4B75-B4AB-15AD5A2FE4C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9A4B-26CE-48CC-8C44-00ACDAA34BE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190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9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9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def3ff">
              <a:alpha val="33000"/>
            </a:srgbClr>
          </a:solidFill>
          <a:ln cap="rnd" w="3240">
            <a:solidFill>
              <a:srgbClr val="00c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88e4ff"/>
            </a:solidFill>
            <a:miter/>
          </a:ln>
          <a:effectLst>
            <a:outerShdw dist="12600" dir="5400000" blurRad="0" rotWithShape="0">
              <a:srgbClr val="0094d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3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AD50-590C-4462-BBD4-8CDC003BA588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8D08-C514-45BD-A8CF-8F5D5F18306F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1D44-1155-4B13-BB74-A2B347EEE677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EC56-C420-4D20-BFC3-913CDC60DEEB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2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WordArt 1"/>
          <p:cNvGrpSpPr/>
          <p:nvPr/>
        </p:nvGrpSpPr>
        <p:grpSpPr>
          <a:xfrm>
            <a:off x="500040" y="360360"/>
            <a:ext cx="7858080" cy="1352520"/>
            <a:chOff x="500040" y="360360"/>
            <a:chExt cx="7858080" cy="1352520"/>
          </a:xfrm>
        </p:grpSpPr>
        <p:pic>
          <p:nvPicPr>
            <p:cNvPr id="1567" name="WordArt 1" descr=""/>
            <p:cNvPicPr/>
            <p:nvPr/>
          </p:nvPicPr>
          <p:blipFill>
            <a:blip r:embed="rId1"/>
            <a:stretch/>
          </p:blipFill>
          <p:spPr>
            <a:xfrm>
              <a:off x="500040" y="360360"/>
              <a:ext cx="78580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8" name=""/>
            <p:cNvSpPr/>
            <p:nvPr/>
          </p:nvSpPr>
          <p:spPr>
            <a:xfrm>
              <a:off x="642960" y="500040"/>
              <a:ext cx="75722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ля вас нет ничего н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ru-RU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озможно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Rectangle 3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0" name="Заголовок 4" descr=""/>
          <p:cNvPicPr/>
          <p:nvPr/>
        </p:nvPicPr>
        <p:blipFill>
          <a:blip r:embed="rId2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15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WordArt 4"/>
          <p:cNvSpPr txBox="1"/>
          <p:nvPr/>
        </p:nvSpPr>
        <p:spPr>
          <a:xfrm>
            <a:off x="2143080" y="2071800"/>
            <a:ext cx="5072040" cy="909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оветы родителям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3" name="Rectangle 6"/>
          <p:cNvSpPr/>
          <p:nvPr/>
        </p:nvSpPr>
        <p:spPr>
          <a:xfrm>
            <a:off x="0" y="39762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Музыка – это язык, на котором нужно уметь пересказывать тексты, исполнять любые произведения, читать (знать нотную грамоту) и говорить (импровизиров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И без вашей помощи, родители, ребенку будет сложно освоить этот язык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7"/>
          <p:cNvSpPr/>
          <p:nvPr/>
        </p:nvSpPr>
        <p:spPr>
          <a:xfrm>
            <a:off x="2714760" y="55742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Чем же вы можете ему помо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5" name="Picture 8" descr="C:\Documents and Settings\Администратор\Мои документы\Интернет-страничка\Слушатели\38\web\images\cwet.gif"/>
          <p:cNvPicPr/>
          <p:nvPr/>
        </p:nvPicPr>
        <p:blipFill>
          <a:blip r:embed="rId3"/>
          <a:stretch/>
        </p:blipFill>
        <p:spPr>
          <a:xfrm>
            <a:off x="3643200" y="2500200"/>
            <a:ext cx="2143080" cy="1513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0"/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WordArt 2"/>
          <p:cNvSpPr txBox="1"/>
          <p:nvPr/>
        </p:nvSpPr>
        <p:spPr>
          <a:xfrm>
            <a:off x="1089000" y="785880"/>
            <a:ext cx="7412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Пойте сами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77" name="Rectangle 3"/>
          <p:cNvSpPr/>
          <p:nvPr/>
        </p:nvSpPr>
        <p:spPr>
          <a:xfrm>
            <a:off x="3357720" y="2246400"/>
            <a:ext cx="52149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Нужно, чтобы ребенок понял, что музыка исходит от живого человека, а не из громкоговорителя. Даже если вы фальшивите, надо и в этом случае петь и говорить малышу: « Я пою плохо, но все равно петь так приятно. А если бы я пела (пел) лучше, то было бы еще веселе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8" name="Picture 4" descr="C:\Documents and Settings\Администратор\Мои документы\Интернет-страничка\Слушатели\32\web\images\colec109.gif"/>
          <p:cNvPicPr/>
          <p:nvPr/>
        </p:nvPicPr>
        <p:blipFill>
          <a:blip r:embed="rId1"/>
          <a:stretch/>
        </p:blipFill>
        <p:spPr>
          <a:xfrm>
            <a:off x="285840" y="2786040"/>
            <a:ext cx="2152440" cy="2525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0" dur="5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63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" dur="300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" dur="2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WordArt 2"/>
          <p:cNvSpPr txBox="1"/>
          <p:nvPr/>
        </p:nvSpPr>
        <p:spPr>
          <a:xfrm>
            <a:off x="2286000" y="0"/>
            <a:ext cx="58579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060"/>
                <a:gd name="adj2" fmla="val -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nstantia"/>
              </a:rPr>
              <a:t>Что петь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nstantia"/>
              <a:ea typeface="Constantia"/>
            </a:endParaRPr>
          </a:p>
        </p:txBody>
      </p:sp>
      <p:sp>
        <p:nvSpPr>
          <p:cNvPr id="1580" name="Rectangle 3"/>
          <p:cNvSpPr/>
          <p:nvPr/>
        </p:nvSpPr>
        <p:spPr>
          <a:xfrm>
            <a:off x="4214880" y="2025360"/>
            <a:ext cx="48578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Arial"/>
                <a:ea typeface="Times New Roman"/>
              </a:rPr>
              <a:t>Детские песенки. Традиционный репертуар очень богат. Если вы не помните ни одной песни, купите кассету и слушайте ее до тех пор, пока не запомните слов. А также вы можете воспользоваться рекомендациями музыкального руководителя детского сада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Picture 4" descr="C:\Documents and Settings\Администратор\Мои документы\Интернет-страничка\Слушатели\35\web\images\DISO-SAD-1.jpg"/>
          <p:cNvPicPr/>
          <p:nvPr/>
        </p:nvPicPr>
        <p:blipFill>
          <a:blip r:embed="rId1"/>
          <a:stretch/>
        </p:blipFill>
        <p:spPr>
          <a:xfrm>
            <a:off x="1940040" y="2071800"/>
            <a:ext cx="2489040" cy="2357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WordArt 2"/>
          <p:cNvSpPr txBox="1"/>
          <p:nvPr/>
        </p:nvSpPr>
        <p:spPr>
          <a:xfrm>
            <a:off x="1928880" y="142920"/>
            <a:ext cx="44290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1810"/>
                <a:gd name="adj2" fmla="val 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Как петь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83" name="Rectangle 3"/>
          <p:cNvSpPr/>
          <p:nvPr/>
        </p:nvSpPr>
        <p:spPr>
          <a:xfrm>
            <a:off x="2571840" y="1821600"/>
            <a:ext cx="65721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ерите песню, которая вам больше всего нравится, и пойте ее ребенку на сон грядущий. Делайте это хотя бы раз в день. Пойте ее со словами и без слов. Нужно, чтобы ребенок слышал, как вы поете без слов. Но не будьте вялыми. Помните, что если вы вялы, то ваша музыка будет невыразительна, а значит, не представит для ребенка ни малейшего интере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4" name="Picture 4" descr="C:\Documents and Settings\Администратор\Мои документы\Интернет-страничка\Слушатели\37\web\images\mouse3.gif"/>
          <p:cNvPicPr/>
          <p:nvPr/>
        </p:nvPicPr>
        <p:blipFill>
          <a:blip r:embed="rId1"/>
          <a:stretch/>
        </p:blipFill>
        <p:spPr>
          <a:xfrm>
            <a:off x="214200" y="1857240"/>
            <a:ext cx="2394000" cy="23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WordArt 2"/>
          <p:cNvSpPr txBox="1"/>
          <p:nvPr/>
        </p:nvSpPr>
        <p:spPr>
          <a:xfrm>
            <a:off x="2357280" y="96840"/>
            <a:ext cx="428652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528"/>
                <a:gd name="adj2" fmla="val -1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Кассе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86" name="Rectangle 3"/>
          <p:cNvSpPr/>
          <p:nvPr/>
        </p:nvSpPr>
        <p:spPr>
          <a:xfrm>
            <a:off x="3286080" y="2527920"/>
            <a:ext cx="58579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Arial"/>
                <a:ea typeface="Times New Roman"/>
              </a:rPr>
              <a:t>Давайте вашему ребенку возможность слушать музыку, приобретите или запишите для него на кассеты различную музыку. Приобщайте ухо малыша к музыке всех жанров (классическая музыка различных периодов, джаз, народные песни и т.д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Picture 4" descr="C:\Documents and Settings\Администратор\Мои документы\Интернет-страничка\Слушатели\37\web\images\1.jpg"/>
          <p:cNvPicPr/>
          <p:nvPr/>
        </p:nvPicPr>
        <p:blipFill>
          <a:blip r:embed="rId1"/>
          <a:stretch/>
        </p:blipFill>
        <p:spPr>
          <a:xfrm>
            <a:off x="0" y="1643040"/>
            <a:ext cx="3429000" cy="3857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7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20" nodeType="after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1f28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2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308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3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500" autoRev="1" fill="hold"/>
                                        <p:tgtEl>
                                          <p:spTgt spid="1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WordArt 2"/>
          <p:cNvSpPr txBox="1"/>
          <p:nvPr/>
        </p:nvSpPr>
        <p:spPr>
          <a:xfrm>
            <a:off x="2786040" y="0"/>
            <a:ext cx="53578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2500"/>
                <a:gd name="adj2" fmla="val 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Это важн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89" name="Rectangle 3"/>
          <p:cNvSpPr/>
          <p:nvPr/>
        </p:nvSpPr>
        <p:spPr>
          <a:xfrm>
            <a:off x="1500120" y="1031760"/>
            <a:ext cx="7358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Constantia"/>
                <a:ea typeface="Times New Roman"/>
              </a:rPr>
              <a:t>Помните, что ребенок-это не сосуд, который надо наполнить, а огонь, который надо зажеч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Constantia"/>
                <a:ea typeface="Times New Roman"/>
              </a:rPr>
              <a:t>Нет ничего невозможного, надо просто захотеть поверить в свое дитя и создать ему условия для полноценного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66"/>
                </a:solidFill>
                <a:latin typeface="Arial"/>
                <a:ea typeface="Times New Roman"/>
              </a:rPr>
              <a:t>Вы сеете, и то, что должно взойти, взойдет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Picture 4" descr="C:\Documents and Settings\Администратор\Мои документы\Интернет-страничка\Слушатели\35\web\images\dcde5363cb612a7c14fdcc010ee538a6.jpg"/>
          <p:cNvPicPr/>
          <p:nvPr/>
        </p:nvPicPr>
        <p:blipFill>
          <a:blip r:embed="rId1"/>
          <a:stretch/>
        </p:blipFill>
        <p:spPr>
          <a:xfrm>
            <a:off x="3929040" y="4071960"/>
            <a:ext cx="271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5" descr="C:\Documents and Settings\Администратор\Мои документы\Интернет-страничка\Слушатели\33\web\images\flower16.gif"/>
          <p:cNvPicPr/>
          <p:nvPr/>
        </p:nvPicPr>
        <p:blipFill>
          <a:blip r:embed="rId2"/>
          <a:stretch/>
        </p:blipFill>
        <p:spPr>
          <a:xfrm>
            <a:off x="1714680" y="48578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6" descr="C:\Documents and Settings\Администратор\Мои документы\Интернет-страничка\Слушатели\33\web\images\flower16.gif"/>
          <p:cNvPicPr/>
          <p:nvPr/>
        </p:nvPicPr>
        <p:blipFill>
          <a:blip r:embed="rId3"/>
          <a:stretch/>
        </p:blipFill>
        <p:spPr>
          <a:xfrm>
            <a:off x="7072200" y="4857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7" descr="C:\Documents and Settings\Администратор\Мои документы\Интернет-страничка\Слушатели\33\web\images\love2.gif"/>
          <p:cNvPicPr/>
          <p:nvPr/>
        </p:nvPicPr>
        <p:blipFill>
          <a:blip r:embed="rId4"/>
          <a:stretch/>
        </p:blipFill>
        <p:spPr>
          <a:xfrm>
            <a:off x="4500720" y="5572080"/>
            <a:ext cx="1523880" cy="619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6:34:48Z</dcterms:created>
  <dc:creator>Потапов Илья</dc:creator>
  <dc:description/>
  <dc:language>en-US</dc:language>
  <cp:lastModifiedBy>Коля</cp:lastModifiedBy>
  <dcterms:modified xsi:type="dcterms:W3CDTF">2013-03-20T19:21:12Z</dcterms:modified>
  <cp:revision>30</cp:revision>
  <dc:subject/>
  <dc:title>Слайд 1</dc:title>
</cp:coreProperties>
</file>