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3.jpeg" ContentType="image/jpeg"/>
  <Override PartName="/ppt/media/image21.gif" ContentType="image/gi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5.jpeg" ContentType="image/jpeg"/>
  <Override PartName="/ppt/media/image22.gif" ContentType="image/gif"/>
  <Override PartName="/ppt/media/image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DF4-3605-4046-BC5D-54F77ADB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515-CF7F-4BDB-8CB5-262268F1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C4404-AD0F-421F-9B01-354D3071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EA708-697F-4BA3-AF3A-7CF2644F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D8892-5362-4EDD-AFDE-C0F02E6E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74425-9A79-4A17-9E1B-686B87FF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43C5C-EBB3-4D70-BCFB-5AC98CA7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31225-F615-48D6-9B53-A7FE2078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B0878-B2E2-45AB-AEE6-51045C44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6C363-76DC-4B8A-846C-F5809472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36FF4-CF2E-44A3-AB22-F7E6BC6A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99202-CBC6-45DE-92F4-92EAFC97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1D8-E260-4062-B16E-520A2120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E7784-3B07-4660-91CA-5D9209D2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86EC0-DB18-411A-A7ED-3A8C0604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13B93-055D-4931-9083-92A5E4B7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4B430-4681-4BD7-9376-DA7200D0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586F5-FFAD-44FB-9DCA-972742AF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3B4AE-2FAE-4A6B-8CFD-B393CCC2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EB881-51AF-4EE3-8EEB-D65873E6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DDD5B-8A85-4C4E-B264-411BA1AA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9684E-6879-4223-9114-0109DD15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40A55-6214-4604-9641-63FDACA1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B27C-7E0C-45BA-88F5-5EC8AB10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E8963-84C5-4B2E-ABAD-2175710F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C0A41-DE83-4739-B551-9C6AEA4C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9BBF1-C8C1-41E9-BC2E-AA48D25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AAF91-286D-4547-A2EC-63404BC1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A545D-D3EE-4BEA-BEFC-6F2B9C60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509FB-7B6B-42EA-B633-A48F79BF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774B3-4004-43CA-BCBF-BBE4D0DB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D59BF-E761-4F3D-B3C1-5AEBFC70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9D7BC-40EE-4A82-947B-ACEE7FCA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FC133-8FDE-4B09-9644-98187B9E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0CDE-36ED-4ED0-9F21-0325CA5E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C929F-3F16-48FB-9F4D-AA6794D4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DC6E5-40B4-4CF3-9285-5A25AC20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A98B9-6E7C-429A-8B3A-1D6A0C9C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D683E-AB73-42B7-8325-2EB78F35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066F5-2EF1-4711-A18E-4A828555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0FF03-3B16-480B-92B1-D5608549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D8396-DB03-440F-9420-D0D7C0C2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2B46B-9EA0-446D-9487-007C09F5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28323-4484-4686-949E-0189C996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B9818-6447-4867-A4E7-B122212E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8EB1-CB1B-499D-BBB9-1E668A96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B478B-2B4A-4070-9AB8-08DFE07C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D3288-006C-4E7E-BB29-A7CF74C8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A37EA-2A03-4A05-9F4A-2E78BDA0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2DCBF-BE69-455C-94E5-C38BF9FE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2D7C2-DAB7-4486-85B0-3C397968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5D1A5-D18D-4679-A35D-82A3E9CC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3CAE3-B9D1-438C-A65E-EE6DA802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4532E-8BAA-41B1-9014-CD7F63E7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998C7-959D-4296-98C6-EA80C559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EF24D-F4AC-47A7-931A-B9C87C90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5722-66BF-48E3-8D2A-6542F3FA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031D6-63CD-4FCC-9F39-A2108CEF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D0C5A-3A77-4513-BCBC-B67C345E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A1B8B-2A24-4629-84CB-FDFDAF2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6615F-7C4F-482B-B861-D01D3E07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5428E-1216-49A7-BC25-BE207E8D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36411-1C1F-4AF9-8D89-2732F94A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B25E6-9D01-4968-A3B3-563C27A2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96F50-4DA6-4946-9F79-90C08580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2F4FF-67B2-416C-AE02-5E3B602C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C415B-B5FA-4291-AF06-A5257A39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8444-BE56-454B-894E-1ED99906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4EA52-5C38-44B4-8BAF-71E26AED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C533B-268F-43C9-B4E8-73A4FAA4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FD5CF-8C80-42BA-A027-67CAC2CE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5D017-BDAE-4156-B902-8C76570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54D1B-378C-40B5-9DB8-083E1722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2609B-B4B1-4D8B-945B-4DB46BD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2F9D7-735B-4D17-A5B1-D985FBE7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E1F21-CD6A-47B1-B6B2-4522964D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82D4B-B7ED-4F67-AD6B-4A2E521F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A6210A-4275-4E65-A4C4-0C58A5F9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54CA-00B1-408F-9A6F-90CD5F3D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993BE8-2AD5-4A3E-89D7-6886DFB1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325C89-48FE-42AF-A71F-901858BA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469AEE-71BF-496E-983D-E4D155DD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FB7033-67C3-4CF4-B29E-3C28CEEA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35DA63-32ED-49AE-96CA-5F4AC0A8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FC5386-6A96-4F34-B670-59617D04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F533C7-2032-496D-AF9D-2C0AC93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F791CF-8B4B-4301-8314-92AF6381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2A135E-BCA8-4EA9-8E6E-F5D78E49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426D39-25B6-4314-9826-3DEC40E1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EF42-439F-4F05-B7C7-17CAC22A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42B2A44-7EBA-4E0F-BD46-A1D032B2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8D244-D1C0-4AF0-8C51-765FD824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68E860-494E-495C-8830-152F453C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F16AF-8BBF-42F3-A8B7-2347B001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7381FB-CD41-4F9F-AA70-BC0BE92E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BA2C5-FDBA-44F8-8071-0E6BFC00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4D8FE-AB7F-45DC-A864-34629C40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64EFB-C38F-44A0-A0C8-E4115D85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0E3450-B4CA-4977-84F2-CDC74AE1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18396D-7A72-4899-AB0E-66A84F85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C14E-2A9B-4433-A067-B11C30BE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28E5A-9548-4B24-964D-1A24A694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3578D-0FAB-41D0-9F86-94A10DB9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DE2C1-5E38-44B0-A237-75667D8A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CB9E1B-E6D5-473C-85AC-8BECEFB9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17C845-8346-4A11-A7EA-2C13478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D2F29E3-CB1A-4E49-9061-2ECD8147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5AE8A09-B90B-40C4-8A63-311CCDBE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89C6D9-787A-42D0-9232-618B8F43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0E4739-4B35-4F5B-9788-4388C651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2DE24D-C980-4953-941D-E5F6CDDD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813-B1EC-48C7-945B-834A42DE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E288-A0D2-48EA-8CE5-8D87AF44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0A96AD-18B8-47D3-9445-B1F88ADF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4F6295-D828-4741-AEDE-B3C88A2B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E6D0AC-7982-4B67-85C9-2511FC3B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4A93D3-69A2-47AF-9A4B-C7FEA523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1759A0-DAE6-4DAD-8CBF-AD08C42B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849650-3A2C-4463-BA84-444DE562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7F01CE-4DC3-4DC4-B21A-CBB16D54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50D2196-8DCD-44F3-9DF2-FBD34D98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874EF6-E68A-445E-A8CA-4E0993A1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B481C5A-8012-4F66-A658-96E6CE98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99B1-B827-477A-B3F3-35190349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31EEDD3-75B4-4C96-B6B5-A178C53B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37CA709-9DEE-4417-A7BD-40A9FA1C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3EFF42-6425-447D-93DC-0FCAC9E3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874A07F-A014-44EA-B524-65E32706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6784505-8B37-48E0-A39B-D278D5FE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C013D4E-058A-40F2-BB29-8EF05ED5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CB1913-3507-4A90-8104-8535401E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644CD8-1692-46C1-ACD8-E8528579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01B467-B44C-4AAD-8E4B-AD966E0E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17CF7E-7CD3-4D1D-9589-51E779BC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FEF3-95F1-4696-BB1B-0ABCB7F5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0774D1-01A2-4992-A75F-38D0FFB3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6F3065-B5AC-4A09-8985-73144B83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D99166-7394-48DF-9B9F-7E598AF0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277F80-170D-49D3-B417-CFEBCA9F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5FA2D76-30AF-4455-A49F-7BA848C7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563B8B-0CE5-46A8-866C-08D0F6D1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B8B1E50-341B-4321-8922-B0C05C5C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1C64DB-2BA8-496A-B734-2EEE1EE6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4041CAF-9D14-4CFF-AA8F-E08DD2B6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96EB6C-C4C9-43CD-A670-7A70EFA2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FC4F-5888-438A-8E94-16289F02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DC02E6-D94F-4FFA-9CDD-5BFA8F53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666133-32B0-490E-9F95-F67DA3C9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ACC8A-BAF2-440B-AFF1-E93EA0B6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2EC240-3889-41B8-8EBD-A7D406A3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9E6406-FFE5-4BF4-AD1D-9E85CC6F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CCFD5-EB58-45A3-B4BE-5406ABE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D98D8-B2D5-4F19-9826-040B37D9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70327-0917-4BC1-9A19-BD22540A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3BC5D4-5655-4DBA-BA5E-1B7E008B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ED782-96DF-4C40-8A95-9DD5053A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E98E-B333-41F2-8DC2-17DF4EC8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3F0522-3697-4B95-8C94-39B49EA6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CCDEDB-782B-48D1-9762-DB626D2C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5D58E9-7AEC-44AA-A44C-DEF4BE26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2CE530-F072-474E-92ED-39CE6A93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82315E-A6D8-4B89-8E27-3D44A7D6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1E1BE0-91D6-4406-BE76-C2EDD0D7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C9E12-E2DB-4AAF-892D-C2FFB3D1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2C8F6-9F2B-4C68-BF20-8856BB1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6C85E4-3B89-46A8-8BCE-D84685E4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F42809-01EA-4928-9202-E0ADF82C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0341A-1BC3-416E-B444-C990AB61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7246F8-C3EE-46D4-AAD9-BD2817CB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0F0F3E-DB41-414A-8AC3-09584DEE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31B107-220C-434F-8A16-49413E79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CA024C-4173-4ED0-BD0A-072F4D79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9DCA45-C7CE-4BAA-8855-CD1B3D22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09E372-6464-4CB7-A3EC-7D10A0A0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F2E04C-A36C-4846-91BC-6DC58FF8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6FB63-B1ED-4298-994C-68AC6FD2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4286D8-29B7-4C27-9778-49F7450E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5AAE8B-047F-4EEF-9905-AE999B74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5C15-0D02-4E98-9F21-F20772EC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4F201A-B509-4A2A-964C-5779924F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9C413-167A-43C9-B95D-0C8C7B66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BA2B3D-E628-483D-8F55-D3D87F08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5FB867-C37D-404B-9763-2FEF9F05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9D275A-FAE1-43F7-894A-B358790A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E658DF-FF0A-4E68-86E2-EECDA410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B801E2-2EA2-4EB3-A400-85314C8F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972F57-2454-4B20-B188-A6FDF311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73FC23-36A3-44A0-9B15-77808C5D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8A85C4-838D-4D6D-9AA7-64CD066D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DAB6-1711-471F-AABE-C6F68508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3D7323-4BCD-4919-B5AB-27C9136B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755A10-27F6-408F-8004-6CE551CE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CB1ABC-245B-492C-8F3E-BFD96A4A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3A3D14-24E0-41F0-8330-9965ACB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83292E-B09A-4E94-9EB0-FBEA0039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82A594-3DBE-432D-B161-281382CC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1E18AA-8643-4C4B-B63D-C1F9C39A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F5601D-2003-4A74-A30D-1F7E9B73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701F51-974D-40F9-8338-FD4BADF8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7AAA0D-B83C-4AB2-B4FA-861AF0D5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F7695-6EC7-4B45-92A8-08E6E410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9B8630-54EE-4219-912A-9EA75B26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EE85CA-14DA-4E1A-B9CF-1C897EB2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CAC528-8104-464F-BB49-5E9F1910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712A5F-88E5-4649-92E2-609296C2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2D1213-22E2-4F74-A153-25520662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17DDB0-381E-4EFE-BF35-E33A3616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1153E8-585C-4CFA-91EA-929FCA60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F68D4F-F6F3-4BD0-96F6-CDAE704D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3F0A71-F2EA-439C-B611-876AF563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BD48E5-2B08-4363-80A2-726BD38B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6197-D069-4CE2-A4A8-FA739331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97012D-41A6-4F3B-8A48-C4CB850F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09DEBB-069D-49CF-A758-B03C378D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0B21F0-5F01-484F-B187-9BD202A4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C720B5-6157-4F64-99B4-1E2422A8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9F690C-9BF2-49AA-98EE-7358FCE9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C8D99C-B45E-4935-972A-A21E412D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89F591-E6A3-4394-BF5D-32930E7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BC324A-1BB2-4961-9411-7628DA91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859DDD-6301-4410-961E-6ED9A3B5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88C84F-C36F-4B2B-BE1F-9C382205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371-AB2F-47C6-A045-A412B3A1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40FB-E5DE-4B3F-87F4-FDD28034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5C6ECE-4D4D-41AF-A63E-39DDDAE0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284F38-743F-49FC-A608-C046C37F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3CC0E9-AFF0-4096-A32A-F1BDC869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662BCB-75C4-44A9-8A1E-0B71D6C6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F7C03E-A19A-4F51-9CCF-4D91C4AC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43D7E8-4B57-4330-8421-2609FA68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6D495A-7008-46EF-B356-2D86EAE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EB9C6D-CCF0-4296-8702-3939E487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C88F68-CA88-40CF-9584-9FF1DC72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52ADE5-2548-4719-B10E-3EE9E01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28F46-4F3A-43C9-BCF0-FD343574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1EFDF4-826D-4DC6-B58B-982833B6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01E213-3CC2-48B0-B5A0-B6345491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4E3520-ACBE-4177-880F-F9E5EACE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3C5281-81C0-484B-988D-9E1EC9B2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44BCF6-7578-41BD-A15A-055465D0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716779-42D9-49CA-9777-2B9ABFD9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4446F4-8CC1-4922-BCCD-61F0A1D9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96C135-570D-480F-BE27-CAF6D9AD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C381ED-A04E-467F-AE45-C4E59C6D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D9DCC7-6F75-4E11-8786-2C2587E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DC73-B4EA-4E90-81A4-6762085F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ECF236-2A10-46EC-9A0E-2BCCB859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84CC91-B892-413D-AAA4-33151429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40A46E-3A1B-4DB8-93F4-04F2FE6D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F06ABB-F508-4C21-AA17-C2F49747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951EBE-ED16-4AAF-9A55-D36E520F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8E10C8-51F6-416B-9C66-7FDEC7ED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7D1D91-3545-4ECD-B21E-C54FC632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73537E-72AF-4F71-B067-B7E8EB74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205065-0243-4D0F-A768-CB96AD96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EF776A-8464-4FA0-88AD-B8F4576F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31FD-43C1-4DEE-9413-76454042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3C13ED-B998-4BD8-9BA0-00B90710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F519F6-60EE-433A-BDBD-2F26604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6A2A0D-919D-4740-9045-9A73417F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BEF116-B361-4A70-8F3F-B690206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1EACF6-9D60-4003-A7C2-936EF165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72D6D0-382A-40C2-952E-D961FD9C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448B00-5F66-4F49-BDC7-8DAF0099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D28492-F57D-4299-A844-AB119957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0FEA71-4FAC-4214-AD9E-D0840E51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870015F-F58D-4B99-884E-A725B171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CA42-1590-439D-A9A4-9F0AE48E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5DFAE6-998F-46FD-80B0-C15EC7C1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E2332C-99F6-4A7F-ACFE-FBAF2BDA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6651D0-F792-42FC-8719-4C6E135D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2EB44C-19D8-488E-854F-5A4D54D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4DC440-CBE6-4F4D-ACEC-F57DE9AB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B11416-AA7A-462C-9597-3D09883F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BF0FF6-4F57-45EF-BF0E-733CC880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0617A9-5C00-464E-A3CD-965381E2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F0A722-6381-4911-BE45-29DAA59B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7C2818-6CCD-417E-9D63-480AAFE2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71FB-8A19-4058-A3F3-F4BF22EA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29E020-30F9-4FCB-AE57-C4740AE8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5A15B6-D2C0-4490-BF54-153BB152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E88220-364C-48C1-B514-121E37C8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D946D2-0DD3-42BE-B6F8-728D2A55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A2C989-E14B-49F9-9704-4CBF6C39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F4DF9F-80EC-412E-A509-4EF91A9C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050C2E-DD38-43BA-941E-7D6C1A88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A3975B-A14D-4FBC-88D1-C13522E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8BE5C4-30FA-4941-99FB-3B813027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68D138-C100-490B-9A6C-8D311AEE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2B49B-D7F5-487F-86C2-A698D685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D40D73-92AA-4720-9F3B-8D959698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35A09E-F503-422D-AAA0-CD9CEC69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F63B19-D897-4C77-9529-F9986D84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C7FF33-EA7C-4473-A046-2BA52BC0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2272F9-9DC5-4B8A-964C-97D162D0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30348B-37F5-4043-BFDE-E8587082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EB7BB9-98AC-49EF-A065-C977C46B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FCBED5-1121-4C83-863A-758A46A6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9BBBDA-EB4C-4227-ACBA-5B28D91B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846D8A-DC80-47AE-898E-5C4BBEC5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0AFF-4C44-4001-96D1-3B519737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69D5A3-F71F-4EEA-8C92-808FB90D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69DED4-A4BB-4A4E-A0E1-6D88731A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F27148-5C75-4D3D-A8AD-78CDB592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3679BF-BE96-4183-82DD-73718158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4318DE-AFCA-45CA-BE21-A393A554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711A42-0E3F-484C-8AA1-C253D1DC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5EAE96-29D6-4D5C-9764-C95FA060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7B0CD6-F1CE-4059-9A09-DBB19C2D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3EE986-0192-40DE-989D-94D1FA38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AB4E45-016A-4C2E-B964-16502384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1130-A059-4310-9D44-4DE66526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C61A00-25B1-4353-BDAD-93820B58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0C41EE-C58F-422F-8B1D-1E20795A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C3F5FC-6CBF-4DAB-B199-914F1805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3C65E1-C770-48DB-8006-C5906965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0A79B3-819F-4220-8775-EA6D7511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D51570-9D8C-4016-B0CA-7F140A1B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CFDFA7-4A1B-46BD-A021-5E81485E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FB3810-5BE6-43F6-9661-ED175A33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7EB53F-7CB7-45EC-A7A6-A8716A73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D8976A2-61C0-45FB-A00B-2E7B7ECB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1E4E1-5775-4BC5-B467-C2D51296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124CAE-059D-4E03-96DC-B2A6DDFD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2C1CD1-6654-4588-8AAA-3F5FD6E5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C16557-7A83-4B6D-B05E-889F729E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A5BA43-44C0-4AB9-ABE4-CC41811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576760-C7F7-4841-967E-06B6BC16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D45492-0790-4983-B390-D8C45638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717CA6-A622-44DC-8380-52B84150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31960D-0735-4CB9-87ED-6B69B3E9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545F85-CC64-4346-9ED8-C599D737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95C9FC-99DB-42E4-AA9E-2E2443F4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7D6-01AA-406C-9B2C-90D87527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1858C-5021-455D-9C87-B06E5F03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BB21CD-AF96-4881-959F-8C6D22AE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6A8388-BFA9-4054-8BEA-2FC8AB05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0D5A2D-0640-4E59-B264-26756975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9856AC-722B-48D6-917E-72BC9726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85710C-E9BF-4DA9-87B0-33F981E0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A939D8-2B40-441C-8A6B-60F3B116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11D0C9-9C24-4E32-A000-808FA91C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876780-40B6-459C-B78E-76122573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FAFF1A-1F1C-408C-9188-7DCBD57C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FF16-C2D0-43D4-A3D3-6E7E501B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D117-8A6B-4651-BC3C-4262E7C5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44F88-4F4E-4D7E-A05A-C497A58D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0CF4-D22B-4A68-80D8-47F83B0F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E4C4C-5B96-47BF-AA5A-ADA00169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8877-F0F0-40CF-B311-B6C13E18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72DBF-4F59-4D58-808E-33E2A9BD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938F-6B81-49D5-8811-CD9EFD6A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5619C-EC1D-4223-8D75-B4308876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E3F-2384-4B11-82BF-0F14BADA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ACA69-F29B-4B45-8F60-7CA50D01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A41F1-FCAA-40DC-933C-5F356DB2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750DF-BC27-4E9D-BCB6-2FC3B8BC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7AA22-996C-4267-820B-1579E6F4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95F0D-8BDD-4B38-A19D-E35182CE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2D4D9-3F44-4BA6-B02D-8D9D4F7C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E262E-B672-4B52-ACA1-96D38BB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28A83-D56F-4C7D-B8FF-CB95F615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9A314-08A0-417C-8E6B-61C02F4D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F2DEF-FF97-42CE-8467-AA492872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194-0A63-4B43-B42D-B8173770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32A74-CCE8-466F-8DF0-B4E515A6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5B9F2-576B-4C48-AB93-E974DB28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241C-CC66-4FEB-BED6-81E21E7E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7CE10-AA54-4E59-8FF5-432898A8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E1D8A-2F2B-49DA-B2E5-A2AA0EFB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C645B-E7D1-45E1-89B9-5F23AC46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52041-D9F9-4F91-9DB9-793AB5DA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09A0-63DB-42F5-894D-048A1B30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9982E-47B7-4A04-8AC6-60C836EC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54373-335D-403C-B7FE-1E5D45DC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64C-5626-4C77-8B26-B8958D3E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8F038-29FB-4AC5-B2AC-07C6F689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F5B75-9673-487E-8A64-15C5302F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60780-181E-4AEB-BD13-CB8CAD2D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DC100-9BBB-47B6-AA2B-29DF950D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F2D81-165A-4A8A-BE91-DEB53CD3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16BBB-BB8B-49D7-9953-0C2618F4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C1033-8C24-443D-A042-9A4DC38F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C2717-BBEB-48F8-A61F-7B3AF2D1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26FCA-398E-4E7C-9518-946C5EFE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5BCA3-7940-48AA-BF0B-4612989C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A32-9A59-4C81-B40E-A0F718DF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11212-8800-4CA8-A5B2-9371B98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E2B6B-1B20-415B-AC54-EC69A60A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707DE-F8AF-44D3-BEB7-685E0941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BADE1-DFBD-44A8-BE78-46FD9D2C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7F666-6B85-4F25-B443-01D0EB7A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6B1CC-EE37-4D9D-9BC6-45FC8F13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932DE-961B-49E5-B1DF-E87EF560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6EFB9-7B31-43CF-9E05-901FC865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7C074-5BEE-4143-B03C-E1302FDB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50891-5DCF-48BF-A4F9-0909F16C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9AA-ACC2-4EA2-BA16-5BB2E4D0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94E0-E7E1-494E-9A2D-2B139C99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162F2-ADC2-4E76-9FB2-8638267A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D478C-04A8-4068-B2FC-76F332A6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8AEE1-0C42-4610-9727-ADB688C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81372-959A-4588-9BA7-F4674393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5F27-0C80-4F48-B03B-E0601027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4DDD2-07F7-4107-90B6-8AE6DB02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29071-7EED-489B-B3A7-ECB7647A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E14DF-AE88-47D6-805D-7848F255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9E7E7-55ED-428F-B28A-12982836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9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9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A70C-E519-43CC-A926-8979520AE459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2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6154-0A10-472E-BD3F-9BBD8D5F6CEF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7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1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2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3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EAF5-F20D-4AA4-A1D5-FFFC82354C2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E2B7-02BB-4065-AE30-82DA4F8A443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558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7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8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9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4D5E-427B-4B9C-BC09-1BBFB2D3841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0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1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2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4653-2FC8-48D3-B635-F2568EC3A4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D2E1-8DB5-4B4A-A57E-AC739E7AA11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6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7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8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606C-2CF8-4117-8B9E-7E33A24FF91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4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5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D7A1-12BA-4964-BA66-205AF962E0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ftr" idx="5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sldNum" idx="5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0E97-FBA8-4A79-8663-510788DFB21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ftr" idx="5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53E9-B4E5-4985-AD61-2CA13F5A735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F741-D31C-45A2-A031-26BC86DE6FD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5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F677-0781-4604-BC6F-21DAE44A367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94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sldNum" idx="6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C3F8-32DF-453B-8FF9-E60BA657BEC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9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60CD-7618-4D44-ACA2-721FAC062370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04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A126-5CC1-4BBA-A251-48E463724FEA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08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ED24-3556-49E8-9F14-09AC548ECF62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779A-AFA5-49E6-94CC-BB3E25D0D24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7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9A6B-8975-4D7D-98CE-A19E759CDAA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429A-CB1A-4E3D-BEDB-E4480DC8A91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079B-5250-4C71-B65E-005E52AC0CA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def3ff">
              <a:alpha val="33000"/>
            </a:srgbClr>
          </a:solidFill>
          <a:ln cap="rnd" w="3240">
            <a:solidFill>
              <a:srgbClr val="00c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88e4ff"/>
            </a:solidFill>
            <a:miter/>
          </a:ln>
          <a:effectLst>
            <a:outerShdw dist="12600" dir="5400000" blurRad="0" rotWithShape="0">
              <a:srgbClr val="0094d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2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03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cf9275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B7CD-B77D-4A57-8A5B-1CAF957CA2C8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3FE4-8C9C-4084-894D-E638E79A60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50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cf9275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CAF2-5C23-476C-AB29-5795BD9A126F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9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9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9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B763-D465-4EB1-902E-6223A275D4F7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9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9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9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A9DB-744C-40CF-8E4A-B2323D717DF7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dt" idx="9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ftr" idx="9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 type="sldNum" idx="9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CB06-B3A5-48FA-9068-9005A5DA7C08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9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52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00dd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00b0f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0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0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0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BBFF-B396-4AEE-ABD3-CA6B220D4FE4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B689-1079-4D3A-8420-4A07FF8FDB4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8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137B-9150-4BB0-AE86-C2BDE4CCA86B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190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91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94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def3ff">
              <a:alpha val="33000"/>
            </a:srgbClr>
          </a:solidFill>
          <a:ln cap="rnd" w="3240">
            <a:solidFill>
              <a:srgbClr val="00c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88e4ff"/>
            </a:solidFill>
            <a:miter/>
          </a:ln>
          <a:effectLst>
            <a:outerShdw dist="12600" dir="5400000" blurRad="0" rotWithShape="0">
              <a:srgbClr val="0094d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3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d30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ffd30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eba68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eba68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fca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b0f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a9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a9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687B-5B20-4779-A752-0D9AD746C08A}" type="slidenum">
              <a:rPr b="0" lang="ru-RU" sz="1200" spc="-1" strike="noStrike">
                <a:solidFill>
                  <a:srgbClr val="00a9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56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963B-EF54-4F61-899F-2185D47E1B66}" type="slidenum"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d3b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9F6F-F83C-4D63-B477-9348FE795825}" type="slidenum">
              <a:rPr b="0" lang="ru-RU" sz="1200" spc="-1" strike="noStrike">
                <a:solidFill>
                  <a:srgbClr val="e0d3b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E38A-8E88-4656-B473-6666D7E0C746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2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WordArt 1"/>
          <p:cNvGrpSpPr/>
          <p:nvPr/>
        </p:nvGrpSpPr>
        <p:grpSpPr>
          <a:xfrm>
            <a:off x="500040" y="360360"/>
            <a:ext cx="7858080" cy="1352520"/>
            <a:chOff x="500040" y="360360"/>
            <a:chExt cx="7858080" cy="1352520"/>
          </a:xfrm>
        </p:grpSpPr>
        <p:pic>
          <p:nvPicPr>
            <p:cNvPr id="1567" name="WordArt 1" descr=""/>
            <p:cNvPicPr/>
            <p:nvPr/>
          </p:nvPicPr>
          <p:blipFill>
            <a:blip r:embed="rId1"/>
            <a:stretch/>
          </p:blipFill>
          <p:spPr>
            <a:xfrm>
              <a:off x="500040" y="360360"/>
              <a:ext cx="785808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8" name=""/>
            <p:cNvSpPr/>
            <p:nvPr/>
          </p:nvSpPr>
          <p:spPr>
            <a:xfrm>
              <a:off x="642960" y="500040"/>
              <a:ext cx="757224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ля вас нет ничего н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r>
                <a:rPr b="0" lang="ru-RU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озможно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Rectangle 3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0" name="Заголовок 4" descr=""/>
          <p:cNvPicPr/>
          <p:nvPr/>
        </p:nvPicPr>
        <p:blipFill>
          <a:blip r:embed="rId2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  <p:sp>
        <p:nvSpPr>
          <p:cNvPr id="15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WordArt 4"/>
          <p:cNvSpPr txBox="1"/>
          <p:nvPr/>
        </p:nvSpPr>
        <p:spPr>
          <a:xfrm>
            <a:off x="2143080" y="2071800"/>
            <a:ext cx="5072040" cy="909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оветы родителям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73" name="Rectangle 6"/>
          <p:cNvSpPr/>
          <p:nvPr/>
        </p:nvSpPr>
        <p:spPr>
          <a:xfrm>
            <a:off x="0" y="39762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Музыка – это язык, на котором нужно уметь пересказывать тексты, исполнять любые произведения, читать (знать нотную грамоту) и говорить (импровизиров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И без вашей помощи, родители, ребенку будет сложно освоить этот язык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7"/>
          <p:cNvSpPr/>
          <p:nvPr/>
        </p:nvSpPr>
        <p:spPr>
          <a:xfrm>
            <a:off x="2714760" y="55742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Чем же вы можете ему помоч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5" name="Picture 8" descr="C:\Documents and Settings\Администратор\Мои документы\Интернет-страничка\Слушатели\38\web\images\cwet.gif"/>
          <p:cNvPicPr/>
          <p:nvPr/>
        </p:nvPicPr>
        <p:blipFill>
          <a:blip r:embed="rId3"/>
          <a:stretch/>
        </p:blipFill>
        <p:spPr>
          <a:xfrm>
            <a:off x="3643200" y="2500200"/>
            <a:ext cx="2143080" cy="15130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5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300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0"/>
                                        <p:tgtEl>
                                          <p:spTgt spid="1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WordArt 2"/>
          <p:cNvSpPr txBox="1"/>
          <p:nvPr/>
        </p:nvSpPr>
        <p:spPr>
          <a:xfrm>
            <a:off x="1089000" y="785880"/>
            <a:ext cx="7412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Пойте сами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77" name="Rectangle 3"/>
          <p:cNvSpPr/>
          <p:nvPr/>
        </p:nvSpPr>
        <p:spPr>
          <a:xfrm>
            <a:off x="3357720" y="2246400"/>
            <a:ext cx="52149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Нужно, чтобы ребенок понял, что музыка исходит от живого человека, а не из громкоговорителя. Даже если вы фальшивите, надо и в этом случае петь и говорить малышу: « Я пою плохо, но все равно петь так приятно. А если бы я пела (пел) лучше, то было бы еще веселе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8" name="Picture 4" descr="C:\Documents and Settings\Администратор\Мои документы\Интернет-страничка\Слушатели\32\web\images\colec109.gif"/>
          <p:cNvPicPr/>
          <p:nvPr/>
        </p:nvPicPr>
        <p:blipFill>
          <a:blip r:embed="rId1"/>
          <a:stretch/>
        </p:blipFill>
        <p:spPr>
          <a:xfrm>
            <a:off x="285840" y="2786040"/>
            <a:ext cx="2152440" cy="2525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60" dur="5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63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" dur="300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" dur="2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WordArt 2"/>
          <p:cNvSpPr txBox="1"/>
          <p:nvPr/>
        </p:nvSpPr>
        <p:spPr>
          <a:xfrm>
            <a:off x="2286000" y="0"/>
            <a:ext cx="585792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9060"/>
                <a:gd name="adj2" fmla="val -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Constantia"/>
              </a:rPr>
              <a:t>Что петь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Constantia"/>
              <a:ea typeface="Constantia"/>
            </a:endParaRPr>
          </a:p>
        </p:txBody>
      </p:sp>
      <p:sp>
        <p:nvSpPr>
          <p:cNvPr id="1580" name="Rectangle 3"/>
          <p:cNvSpPr/>
          <p:nvPr/>
        </p:nvSpPr>
        <p:spPr>
          <a:xfrm>
            <a:off x="4214880" y="2025360"/>
            <a:ext cx="48578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Arial"/>
                <a:ea typeface="Times New Roman"/>
              </a:rPr>
              <a:t>Детские песенки. Традиционный репертуар очень богат. Если вы не помните ни одной песни, купите кассету и слушайте ее до тех пор, пока не запомните слов. А также вы можете воспользоваться рекомендациями музыкального руководителя детского сада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Picture 4" descr="C:\Documents and Settings\Администратор\Мои документы\Интернет-страничка\Слушатели\35\web\images\DISO-SAD-1.jpg"/>
          <p:cNvPicPr/>
          <p:nvPr/>
        </p:nvPicPr>
        <p:blipFill>
          <a:blip r:embed="rId1"/>
          <a:stretch/>
        </p:blipFill>
        <p:spPr>
          <a:xfrm>
            <a:off x="1940040" y="2071800"/>
            <a:ext cx="2489040" cy="2357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WordArt 2"/>
          <p:cNvSpPr txBox="1"/>
          <p:nvPr/>
        </p:nvSpPr>
        <p:spPr>
          <a:xfrm>
            <a:off x="1928880" y="142920"/>
            <a:ext cx="44290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1810"/>
                <a:gd name="adj2" fmla="val 3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Как петь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83" name="Rectangle 3"/>
          <p:cNvSpPr/>
          <p:nvPr/>
        </p:nvSpPr>
        <p:spPr>
          <a:xfrm>
            <a:off x="2571840" y="1821600"/>
            <a:ext cx="65721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ерите песню, которая вам больше всего нравится, и пойте ее ребенку на сон грядущий. Делайте это хотя бы раз в день. Пойте ее со словами и без слов. Нужно, чтобы ребенок слышал, как вы поете без слов. Но не будьте вялыми. Помните, что если вы вялы, то ваша музыка будет невыразительна, а значит, не представит для ребенка ни малейшего интере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4" name="Picture 4" descr="C:\Documents and Settings\Администратор\Мои документы\Интернет-страничка\Слушатели\37\web\images\mouse3.gif"/>
          <p:cNvPicPr/>
          <p:nvPr/>
        </p:nvPicPr>
        <p:blipFill>
          <a:blip r:embed="rId1"/>
          <a:stretch/>
        </p:blipFill>
        <p:spPr>
          <a:xfrm>
            <a:off x="214200" y="1857240"/>
            <a:ext cx="2394000" cy="2327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WordArt 2"/>
          <p:cNvSpPr txBox="1"/>
          <p:nvPr/>
        </p:nvSpPr>
        <p:spPr>
          <a:xfrm>
            <a:off x="2357280" y="96840"/>
            <a:ext cx="428652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9528"/>
                <a:gd name="adj2" fmla="val -1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Кассе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86" name="Rectangle 3"/>
          <p:cNvSpPr/>
          <p:nvPr/>
        </p:nvSpPr>
        <p:spPr>
          <a:xfrm>
            <a:off x="3286080" y="2527920"/>
            <a:ext cx="58579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Arial"/>
                <a:ea typeface="Times New Roman"/>
              </a:rPr>
              <a:t>Давайте вашему ребенку возможность слушать музыку, приобретите или запишите для него на кассеты различную музыку. Приобщайте ухо малыша к музыке всех жанров (классическая музыка различных периодов, джаз, народные песни и т.д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7" name="Picture 4" descr="C:\Documents and Settings\Администратор\Мои документы\Интернет-страничка\Слушатели\37\web\images\1.jpg"/>
          <p:cNvPicPr/>
          <p:nvPr/>
        </p:nvPicPr>
        <p:blipFill>
          <a:blip r:embed="rId1"/>
          <a:stretch/>
        </p:blipFill>
        <p:spPr>
          <a:xfrm>
            <a:off x="0" y="1643040"/>
            <a:ext cx="3429000" cy="3857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7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120" nodeType="after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1f28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2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0,31,-38)"/>
                                      </p:to>
                                    </p:se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0,31,-38)"/>
                                      </p:to>
                                    </p:se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3080"/>
                            </p:stCondLst>
                            <p:childTnLst>
                              <p:par>
                                <p:cTn id="1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3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1500" autoRev="1" fill="hold"/>
                                        <p:tgtEl>
                                          <p:spTgt spid="15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WordArt 2"/>
          <p:cNvSpPr txBox="1"/>
          <p:nvPr/>
        </p:nvSpPr>
        <p:spPr>
          <a:xfrm>
            <a:off x="2786040" y="0"/>
            <a:ext cx="53578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2500"/>
                <a:gd name="adj2" fmla="val 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nstantia"/>
              </a:rPr>
              <a:t>Это важно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1589" name="Rectangle 3"/>
          <p:cNvSpPr/>
          <p:nvPr/>
        </p:nvSpPr>
        <p:spPr>
          <a:xfrm>
            <a:off x="1500120" y="1031760"/>
            <a:ext cx="7358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Constantia"/>
                <a:ea typeface="Times New Roman"/>
              </a:rPr>
              <a:t>Помните, что ребенок-это не сосуд, который надо наполнить, а огонь, который надо зажеч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Constantia"/>
                <a:ea typeface="Times New Roman"/>
              </a:rPr>
              <a:t>Нет ничего невозможного, надо просто захотеть поверить в свое дитя и создать ему условия для полноценного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66"/>
                </a:solidFill>
                <a:latin typeface="Arial"/>
                <a:ea typeface="Times New Roman"/>
              </a:rPr>
              <a:t>Вы сеете, и то, что должно взойти, взойдет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Picture 4" descr="C:\Documents and Settings\Администратор\Мои документы\Интернет-страничка\Слушатели\35\web\images\dcde5363cb612a7c14fdcc010ee538a6.jpg"/>
          <p:cNvPicPr/>
          <p:nvPr/>
        </p:nvPicPr>
        <p:blipFill>
          <a:blip r:embed="rId1"/>
          <a:stretch/>
        </p:blipFill>
        <p:spPr>
          <a:xfrm>
            <a:off x="3929040" y="4071960"/>
            <a:ext cx="271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5" descr="C:\Documents and Settings\Администратор\Мои документы\Интернет-страничка\Слушатели\33\web\images\flower16.gif"/>
          <p:cNvPicPr/>
          <p:nvPr/>
        </p:nvPicPr>
        <p:blipFill>
          <a:blip r:embed="rId2"/>
          <a:stretch/>
        </p:blipFill>
        <p:spPr>
          <a:xfrm>
            <a:off x="1714680" y="48578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6" descr="C:\Documents and Settings\Администратор\Мои документы\Интернет-страничка\Слушатели\33\web\images\flower16.gif"/>
          <p:cNvPicPr/>
          <p:nvPr/>
        </p:nvPicPr>
        <p:blipFill>
          <a:blip r:embed="rId3"/>
          <a:stretch/>
        </p:blipFill>
        <p:spPr>
          <a:xfrm>
            <a:off x="7072200" y="4857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7" descr="C:\Documents and Settings\Администратор\Мои документы\Интернет-страничка\Слушатели\33\web\images\love2.gif"/>
          <p:cNvPicPr/>
          <p:nvPr/>
        </p:nvPicPr>
        <p:blipFill>
          <a:blip r:embed="rId4"/>
          <a:stretch/>
        </p:blipFill>
        <p:spPr>
          <a:xfrm>
            <a:off x="4500720" y="5572080"/>
            <a:ext cx="1523880" cy="619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6:34:48Z</dcterms:created>
  <dc:creator>Потапов Илья</dc:creator>
  <dc:description/>
  <dc:language>en-US</dc:language>
  <cp:lastModifiedBy>Коля</cp:lastModifiedBy>
  <dcterms:modified xsi:type="dcterms:W3CDTF">2013-03-20T19:21:12Z</dcterms:modified>
  <cp:revision>30</cp:revision>
  <dc:subject/>
  <dc:title>Слайд 1</dc:title>
</cp:coreProperties>
</file>