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231-1154-4A6B-B6A7-69B21241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5C5-EDAC-4471-B976-C15D00DD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335-5001-4486-ABEF-CF11377B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B90-4343-4C8B-95A8-CD944D96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4695-CDE2-47E4-9C15-5E7E628D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8957-9A18-4842-9215-818D6E9B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FB07-36F9-494B-B7E1-43A79EA4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AA19-5924-4D70-ABDC-5316209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5B0D-6B0E-4347-9AF4-40102871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88DA-812C-4BBE-A826-BED8D7A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A86-8293-43FC-8E3B-A1807CE2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85E-A0BF-4CCB-BFF9-93D70DB5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3D77-7D0A-4D36-8199-99F2E4F0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F3D2-CC19-4DFA-99F6-A13B528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36C3-65A4-4958-9F54-871497C8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81BD-7F1D-4744-B109-38E44C7E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97A4-9849-405A-80C2-637E03D1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1DC-7C09-4B2F-9FE0-34AD6586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B07-955A-4333-AF59-161414CF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7E1-D2CB-4B6E-AA9B-FF0090D9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964-ADEF-4889-9712-7D3FD86C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5F1-A689-45EE-BFDC-B6EE4F4B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75D-1125-43D7-8582-585A9A0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AC2-591A-460E-B26E-945E064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D940-7E1F-48AA-8AD0-3D0BBB4BD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99C6-7BF8-4470-B2CE-E0C541343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836640"/>
            <a:ext cx="849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Многогранн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19640" y="4221000"/>
            <a:ext cx="5522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Геометрия 10 - 11 класс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2673360" cy="243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95640" y="5734080"/>
            <a:ext cx="49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Подготовила Семенченко Ирина Николаевна – учитель математики высшей категории МОУСОШ №7 г. Гулькеви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rcRect l="27870" t="0" r="48000" b="30979"/>
          <a:stretch/>
        </p:blipFill>
        <p:spPr>
          <a:xfrm>
            <a:off x="250920" y="2276640"/>
            <a:ext cx="5256000" cy="40100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79280" y="260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четырехугольная пирами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907200"/>
            <a:ext cx="177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пофема,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907920"/>
            <a:ext cx="2016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– высот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155736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B = BC = CD = DA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в основании – квадрат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1280" y="400536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386064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558972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5589720"/>
            <a:ext cx="86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436572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551664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27280" y="5157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22766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4720" y="50846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13372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К – середина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236000" y="2919240"/>
                <a:ext cx="151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724360" y="2781360"/>
                <a:ext cx="12258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651640" y="3789360"/>
                <a:ext cx="3276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992920" y="4941720"/>
                <a:ext cx="2592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26360" y="5734080"/>
                <a:ext cx="1726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003640" y="450864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907920"/>
            <a:ext cx="30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а – сторона осн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292720" y="1268280"/>
            <a:ext cx="345744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P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…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произвольная  пирам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α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плоскость осн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β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секущая плоско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…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ирами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55640" y="404640"/>
            <a:ext cx="7416720" cy="8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Усеченная  пирами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rcRect l="10525" t="16573" r="28705" b="16113"/>
          <a:stretch/>
        </p:blipFill>
        <p:spPr>
          <a:xfrm>
            <a:off x="179280" y="1341360"/>
            <a:ext cx="5133960" cy="4248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4149720" y="200484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99080" y="325908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11760" y="3305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33440" y="1341360"/>
            <a:ext cx="5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2360" y="4662360"/>
            <a:ext cx="820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43160" y="3408480"/>
            <a:ext cx="685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92480" y="3186000"/>
            <a:ext cx="752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76520" y="4809960"/>
            <a:ext cx="6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13000" y="2448000"/>
            <a:ext cx="47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9400" y="1857240"/>
            <a:ext cx="615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76520" y="2522520"/>
            <a:ext cx="820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22320" y="1784520"/>
            <a:ext cx="547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65400" y="2374920"/>
            <a:ext cx="89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59120" y="4146480"/>
            <a:ext cx="547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28960" y="3186000"/>
            <a:ext cx="6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84120" y="1570320"/>
            <a:ext cx="958680" cy="615240"/>
            <a:chOff x="384120" y="1570320"/>
            <a:chExt cx="958680" cy="615240"/>
          </a:xfrm>
        </p:grpSpPr>
        <p:sp>
          <p:nvSpPr>
            <p:cNvPr id="268" name=""/>
            <p:cNvSpPr/>
            <p:nvPr/>
          </p:nvSpPr>
          <p:spPr>
            <a:xfrm>
              <a:off x="703800" y="1570320"/>
              <a:ext cx="57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84120" y="1662120"/>
              <a:ext cx="958680" cy="523440"/>
              <a:chOff x="384120" y="1662120"/>
              <a:chExt cx="958680" cy="52344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384120" y="1744200"/>
                    <a:ext cx="382680" cy="35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958320" y="1662120"/>
                    <a:ext cx="384480" cy="52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72" name=""/>
          <p:cNvSpPr/>
          <p:nvPr/>
        </p:nvSpPr>
        <p:spPr>
          <a:xfrm>
            <a:off x="5364000" y="3068640"/>
            <a:ext cx="363564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…B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– верхнее основание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…A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– нижнее сн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; …; 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боковые грани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трапе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; 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; …; 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оковые реб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O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H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– выс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79280" y="6021360"/>
                <a:ext cx="3562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851280" y="5877000"/>
                <a:ext cx="5113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260280"/>
            <a:ext cx="914400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треугольная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усеченная пирамида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боковые грани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ы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между собой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обоки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трапе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6000" y="1052640"/>
            <a:ext cx="28796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Δ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BC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и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l-GR" sz="1600" spc="-1" strike="noStrike">
                <a:solidFill>
                  <a:srgbClr val="003300"/>
                </a:solidFill>
                <a:latin typeface="Times New Roman"/>
              </a:rPr>
              <a:t>Δ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равносторон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O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= H –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высот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КК</a:t>
            </a:r>
            <a:r>
              <a:rPr b="1" lang="ru-RU" sz="22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=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h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– апофема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651640" y="2637000"/>
            <a:ext cx="1441440" cy="455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7451640" y="2641680"/>
            <a:ext cx="1405080" cy="4446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508720" y="3213000"/>
            <a:ext cx="1728720" cy="7956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7380360" y="3220920"/>
            <a:ext cx="1619280" cy="7779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4149720"/>
                <a:ext cx="280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46920" y="4941720"/>
                <a:ext cx="2447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99036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79280" y="5805360"/>
                <a:ext cx="4608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859280" y="5816520"/>
                <a:ext cx="410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7"/>
          <a:srcRect l="12598" t="15722" r="6693" b="9433"/>
          <a:stretch/>
        </p:blipFill>
        <p:spPr>
          <a:xfrm>
            <a:off x="179280" y="1406520"/>
            <a:ext cx="5181840" cy="4221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254160" y="4572000"/>
            <a:ext cx="88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0680" y="5232240"/>
            <a:ext cx="59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1560" y="2197080"/>
            <a:ext cx="66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89320" y="1341360"/>
            <a:ext cx="517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60680" y="2593800"/>
            <a:ext cx="66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8000" y="4241880"/>
            <a:ext cx="517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27400" y="2265480"/>
            <a:ext cx="59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00480" y="3121200"/>
            <a:ext cx="59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89320" y="3978360"/>
            <a:ext cx="519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22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0200" y="2131920"/>
            <a:ext cx="66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65400" y="2987640"/>
            <a:ext cx="4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16520" y="2727360"/>
            <a:ext cx="59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95640" y="1773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32000" y="3789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9280" y="260280"/>
            <a:ext cx="871380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четырехугольная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усеченная пирамида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боковые грани –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ы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между собой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обоки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трапе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64000" y="1125360"/>
            <a:ext cx="3780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ABCD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квадра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O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= H –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со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KK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= h –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апофе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27870" t="15489" r="48465" b="37175"/>
          <a:stretch/>
        </p:blipFill>
        <p:spPr>
          <a:xfrm>
            <a:off x="179280" y="1341360"/>
            <a:ext cx="5058000" cy="4103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1403280" y="1865160"/>
            <a:ext cx="7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48657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47640" y="33670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344160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4865760"/>
            <a:ext cx="4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1341360"/>
            <a:ext cx="57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64000" y="1492200"/>
            <a:ext cx="50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2092320"/>
            <a:ext cx="64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43401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1341360"/>
            <a:ext cx="64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29908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41925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865160"/>
            <a:ext cx="57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22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5280" y="284148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3640" y="16416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38908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508720" y="2565360"/>
                <a:ext cx="1584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451640" y="2576520"/>
                <a:ext cx="1511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724360" y="3213000"/>
                <a:ext cx="115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7667640" y="3213000"/>
                <a:ext cx="1152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96000" y="3789360"/>
                <a:ext cx="280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77080" y="4581360"/>
                <a:ext cx="2447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508720" y="5157720"/>
                <a:ext cx="3384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8360" y="5805360"/>
                <a:ext cx="3816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859280" y="5810400"/>
                <a:ext cx="324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42920" y="33336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араллелепипе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134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132000" y="1195920"/>
            <a:ext cx="1081080" cy="650160"/>
            <a:chOff x="3132000" y="1195920"/>
            <a:chExt cx="1081080" cy="650160"/>
          </a:xfrm>
        </p:grpSpPr>
        <p:sp>
          <p:nvSpPr>
            <p:cNvPr id="89" name=""/>
            <p:cNvSpPr/>
            <p:nvPr/>
          </p:nvSpPr>
          <p:spPr>
            <a:xfrm>
              <a:off x="3492360" y="11959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132000" y="1269720"/>
              <a:ext cx="1081080" cy="576360"/>
              <a:chOff x="3132000" y="1269720"/>
              <a:chExt cx="1081080" cy="576360"/>
            </a:xfrm>
          </p:grpSpPr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3132000" y="1360440"/>
                    <a:ext cx="431640" cy="39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3779640" y="1269720"/>
                    <a:ext cx="433440" cy="57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3" name=""/>
          <p:cNvSpPr/>
          <p:nvPr/>
        </p:nvSpPr>
        <p:spPr>
          <a:xfrm>
            <a:off x="5219640" y="1197000"/>
            <a:ext cx="367344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АВС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вные параллелограммы –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основания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АА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|| ВВ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|| СС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||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DD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– боковые ребра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 грани параллел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AA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B; BB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C; CC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; AA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– боковые гра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B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– диагона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076640"/>
            <a:ext cx="3961080" cy="28486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Противолежащие грани параллелепипеда  параллельны и равны.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Диагонали параллелепипеда пересекаются в одной точке и точкой пересечения делятся попо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3075" t="3088" r="38193" b="24702"/>
          <a:stretch/>
        </p:blipFill>
        <p:spPr>
          <a:xfrm>
            <a:off x="179280" y="1916280"/>
            <a:ext cx="4753080" cy="46796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73560" y="3057480"/>
                <a:ext cx="344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997440" y="4821120"/>
                <a:ext cx="412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57120" y="540864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1000" y="45705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05000" y="4738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11480" y="566100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0200" y="3225960"/>
            <a:ext cx="96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387520"/>
            <a:ext cx="110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492280"/>
            <a:ext cx="7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20880" y="3425760"/>
            <a:ext cx="123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979640" y="2852640"/>
            <a:ext cx="288720" cy="288144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33336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ямой параллелепип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25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это параллелепипед, у которого боковые грани являются прямоуголь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13277" t="12392" r="77997" b="12392"/>
          <a:stretch/>
        </p:blipFill>
        <p:spPr>
          <a:xfrm>
            <a:off x="250920" y="2133720"/>
            <a:ext cx="3786120" cy="4370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68360" y="59500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3737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544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6021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8526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205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22766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С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29242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609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58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37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427640" y="2276640"/>
                <a:ext cx="4032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ркас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00720" y="3357720"/>
                <a:ext cx="3887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464000" y="4581360"/>
                <a:ext cx="3959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3280" y="5734080"/>
                <a:ext cx="2519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9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4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4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4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4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9280" y="404640"/>
            <a:ext cx="87138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ямоугольный параллелепип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484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это параллелепипед, у которог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се грани прямоугольники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3277" t="12392" r="77997" b="12392"/>
          <a:stretch/>
        </p:blipFill>
        <p:spPr>
          <a:xfrm>
            <a:off x="250920" y="2133720"/>
            <a:ext cx="3494160" cy="4032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47636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3429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205000"/>
            <a:ext cx="48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длина,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– ширина,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 – высота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d – </a:t>
            </a: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иагон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476000" y="2565360"/>
            <a:ext cx="934920" cy="3240000"/>
          </a:xfrm>
          <a:prstGeom prst="line">
            <a:avLst/>
          </a:prstGeom>
          <a:ln w="19080">
            <a:solidFill>
              <a:srgbClr val="d60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716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716280"/>
            <a:ext cx="309564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d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= a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 + b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 + c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140360" y="4653000"/>
                <a:ext cx="4537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03640" y="5734080"/>
                <a:ext cx="2448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9640" y="549360"/>
            <a:ext cx="29289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из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10526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692280"/>
            <a:ext cx="51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: основания – равные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– угольники, лежащие в параллельных плоскостях, боковые грани – параллелограмм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1844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Наклонная – боковые грани – параллелограм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12363" t="3088" r="42388" b="15439"/>
          <a:stretch/>
        </p:blipFill>
        <p:spPr>
          <a:xfrm>
            <a:off x="324000" y="2492280"/>
            <a:ext cx="3916080" cy="4033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684360" y="3213000"/>
            <a:ext cx="122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300640"/>
            <a:ext cx="79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443700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789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8606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4365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4941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2276640"/>
            <a:ext cx="47163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H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– высота приз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AH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боковое ребро приз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FMNPD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 – сечение, перпендикулярное боковому ребр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2720" y="4149720"/>
                <a:ext cx="244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859280" y="5013360"/>
                <a:ext cx="3384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89640" y="5877000"/>
                <a:ext cx="2054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Прямая призма – боковые грани – прямоуголь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5877000"/>
                <a:ext cx="2592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308720" y="2565360"/>
                <a:ext cx="14749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 txBox="1"/>
          <p:nvPr/>
        </p:nvSpPr>
        <p:spPr>
          <a:xfrm>
            <a:off x="4140360" y="1125360"/>
            <a:ext cx="151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Ку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3005" t="0" r="54130" b="24783"/>
          <a:stretch/>
        </p:blipFill>
        <p:spPr>
          <a:xfrm>
            <a:off x="3708360" y="1989000"/>
            <a:ext cx="3168720" cy="2664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4500720" y="429408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4005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2709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003280" y="2061720"/>
            <a:ext cx="505080" cy="230364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8526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184720" y="5877000"/>
                <a:ext cx="23050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93080" y="3789360"/>
                <a:ext cx="1908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76720" y="5013360"/>
                <a:ext cx="2521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ркас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20720" y="4941720"/>
                <a:ext cx="208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940360" y="1197000"/>
            <a:ext cx="2916360" cy="429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все грани - квадра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1197000"/>
            <a:ext cx="3168360" cy="3456000"/>
            <a:chOff x="324000" y="1197000"/>
            <a:chExt cx="3168360" cy="345600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rcRect l="31430" t="6289" r="13751" b="0"/>
            <a:stretch/>
          </p:blipFill>
          <p:spPr>
            <a:xfrm>
              <a:off x="324000" y="1197000"/>
              <a:ext cx="3168360" cy="345600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>
              <a:off x="1619280" y="4221000"/>
              <a:ext cx="3240" cy="1987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2000" y="4221000"/>
              <a:ext cx="0" cy="20988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6360" y="4365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2000" y="4221000"/>
              <a:ext cx="144360" cy="7308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476360" y="4220640"/>
              <a:ext cx="142920" cy="7164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76360" y="3213000"/>
            <a:ext cx="68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79280" y="404640"/>
            <a:ext cx="38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ирами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549360"/>
            <a:ext cx="475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это многогранник, состоящий из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-угольника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...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(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основание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) и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треугольников (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боковые грани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), имеющих общую вершину (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Р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11801" t="16113" r="29981" b="16113"/>
          <a:stretch/>
        </p:blipFill>
        <p:spPr>
          <a:xfrm>
            <a:off x="250920" y="2374920"/>
            <a:ext cx="5616360" cy="4294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2484360" y="24210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300640"/>
            <a:ext cx="64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4437000"/>
            <a:ext cx="7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4221000"/>
            <a:ext cx="107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5877000"/>
            <a:ext cx="93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5157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2421000"/>
            <a:ext cx="295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2349360"/>
            <a:ext cx="288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РА</a:t>
            </a:r>
            <a:r>
              <a:rPr b="1" lang="ru-RU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; РА</a:t>
            </a:r>
            <a:r>
              <a:rPr b="1" lang="ru-RU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; РА</a:t>
            </a:r>
            <a:r>
              <a:rPr b="1" lang="ru-RU" sz="2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; ... ; РА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боковые реб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; ... ;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ребра осн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– высота пирамиды -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4437000"/>
                <a:ext cx="360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300720" y="5013360"/>
                <a:ext cx="259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9640" y="5734080"/>
                <a:ext cx="1873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411280" y="40766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39640" y="33336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авильная пирами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197000"/>
            <a:ext cx="842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основание – правильный многоугольник, вершина проецируется в центр осн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боковые ребра – равн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боковые грани – равные равнобедренные треугольник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299736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– высот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720" y="2997360"/>
            <a:ext cx="2411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апофема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3645000"/>
            <a:ext cx="252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11786" t="0" r="44396" b="35207"/>
          <a:stretch/>
        </p:blipFill>
        <p:spPr>
          <a:xfrm>
            <a:off x="324000" y="3079800"/>
            <a:ext cx="4014720" cy="3589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40000" y="4797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3737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508720" y="3500280"/>
                <a:ext cx="252072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724360" y="5589720"/>
                <a:ext cx="2089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219640" y="4724280"/>
                <a:ext cx="309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24000" y="1197000"/>
            <a:ext cx="4968720" cy="5040360"/>
            <a:chOff x="324000" y="1197000"/>
            <a:chExt cx="4968720" cy="504036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rcRect l="11811" t="3144" r="7874" b="9433"/>
            <a:stretch/>
          </p:blipFill>
          <p:spPr>
            <a:xfrm>
              <a:off x="324000" y="1197000"/>
              <a:ext cx="4968720" cy="50403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sp>
          <p:nvSpPr>
            <p:cNvPr id="206" name=""/>
            <p:cNvSpPr/>
            <p:nvPr/>
          </p:nvSpPr>
          <p:spPr>
            <a:xfrm flipV="1">
              <a:off x="3348000" y="4294080"/>
              <a:ext cx="144360" cy="1447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492000" y="4294080"/>
              <a:ext cx="71640" cy="2160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524720" y="2206800"/>
                <a:ext cx="14400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35640" y="2205000"/>
                <a:ext cx="1441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46800" y="3141720"/>
                <a:ext cx="1727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942160" y="1452960"/>
            <a:ext cx="23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B = BC = AC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треугольная пирами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836640"/>
            <a:ext cx="2016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– высот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836640"/>
            <a:ext cx="1908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апофема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724360" y="4292640"/>
                <a:ext cx="29718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130800" y="5516640"/>
                <a:ext cx="2159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95280" y="5229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479736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328464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5805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2997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50028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119700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50864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551664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08:23:50Z</dcterms:created>
  <dc:creator>Администратор</dc:creator>
  <dc:description/>
  <dc:language>en-US</dc:language>
  <cp:lastModifiedBy>Анна</cp:lastModifiedBy>
  <dcterms:modified xsi:type="dcterms:W3CDTF">2010-04-09T19:22:24Z</dcterms:modified>
  <cp:revision>52</cp:revision>
  <dc:subject/>
  <dc:title>Слайд 1</dc:title>
</cp:coreProperties>
</file>