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15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F8E8-84DD-4EAD-9F43-0C9AD0EF8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B60B-C67C-44DD-A7BE-12D92C4AA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C3CE-A5FD-4F02-83B1-F5E20DBDD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8D9E-A319-45AB-9958-7EB64D75E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40CA8-9464-403B-8F5A-CFD6194D7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D2336-1F65-418E-AFAC-E7F636DE8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C3132-60A7-4163-B03C-5C4582B7D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91710-59A2-4C90-94B4-DEA86F48A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185B4-F6E1-44F2-BF48-1F81A94E8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2FB2B-4F67-41B0-9C21-E592C1E7C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8EB9E-70AE-427E-873F-4B943953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3DA2-38C7-4176-B3C6-3365251FC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0A8D2-38F7-4297-B408-FFEDCDE0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F0E83-3EB0-468D-A5B8-36989050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72D6B-6E94-4F5F-95CC-27951EC1D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CC4CB-791E-43F4-B584-54BE976D6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A2B3C-5B9F-4A78-ABF0-46A203EBB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2C09-7903-4825-987A-84484CB30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7853-5C0B-42F2-A59A-22147D7AE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56CA-3532-4DE0-B40C-C85418AF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1A27-6076-42A4-B853-995F70B98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2C1B-D3F5-43DA-8A86-B675E16E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9F5C-A593-4569-9A05-511538C3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B105-08DA-41F9-B231-3AA1EA9F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7DF51-8A4C-43EE-BE41-3FFF419A4A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84468-7319-4A61-9687-77DBE8C2D6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95280" y="836640"/>
            <a:ext cx="849636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cccc00"/>
                    </a:gs>
                  </a:gsLst>
                  <a:lin ang="5400000"/>
                </a:gradFill>
                <a:latin typeface="Times New Roman"/>
              </a:rPr>
              <a:t>Многогранни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8000"/>
                  </a:gs>
                  <a:gs pos="100000">
                    <a:srgbClr val="cccc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419640" y="4221000"/>
            <a:ext cx="55227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cccc00"/>
                    </a:gs>
                  </a:gsLst>
                  <a:lin ang="5400000"/>
                </a:gradFill>
                <a:latin typeface="Times New Roman"/>
              </a:rPr>
              <a:t>Геометрия 10 - 11 класс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8000"/>
                  </a:gs>
                  <a:gs pos="100000">
                    <a:srgbClr val="cccc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24000" y="3789360"/>
            <a:ext cx="2673360" cy="2430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995640" y="5734080"/>
            <a:ext cx="497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Times New Roman"/>
              </a:rPr>
              <a:t>Подготовила Семенченко Ирина Николаевна – учитель математики высшей категории МОУСОШ №7 г. Гулькевич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2"/>
          <a:srcRect l="27870" t="0" r="48000" b="30979"/>
          <a:stretch/>
        </p:blipFill>
        <p:spPr>
          <a:xfrm>
            <a:off x="250920" y="2276640"/>
            <a:ext cx="5256000" cy="401004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  <p:sp>
        <p:nvSpPr>
          <p:cNvPr id="227" name=""/>
          <p:cNvSpPr/>
          <p:nvPr/>
        </p:nvSpPr>
        <p:spPr>
          <a:xfrm>
            <a:off x="179280" y="260280"/>
            <a:ext cx="896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Times New Roman"/>
              </a:rPr>
              <a:t>Правильная четырехугольная пирамид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907200"/>
            <a:ext cx="1776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h – </a:t>
            </a:r>
            <a:r>
              <a:rPr b="1" lang="ru-RU" sz="22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апофема,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4360" y="907920"/>
            <a:ext cx="20160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lang="ru-RU" sz="2200" spc="-1" strike="noStrike">
                <a:solidFill>
                  <a:srgbClr val="ff3300"/>
                </a:solidFill>
                <a:latin typeface="Times New Roman"/>
              </a:rPr>
              <a:t> – высота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9640" y="1557360"/>
            <a:ext cx="820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AB = BC = CD = DA =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 </a:t>
            </a: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(</a:t>
            </a:r>
            <a:r>
              <a:rPr b="1" lang="ru-RU" sz="2200" spc="-1" strike="noStrike">
                <a:solidFill>
                  <a:srgbClr val="003300"/>
                </a:solidFill>
                <a:latin typeface="Times New Roman"/>
              </a:rPr>
              <a:t>в основании – квадрат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411280" y="4005360"/>
            <a:ext cx="93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708360" y="3860640"/>
            <a:ext cx="136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Times New Roman"/>
              </a:rPr>
              <a:t>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124000" y="5589720"/>
            <a:ext cx="574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332000" y="4653000"/>
            <a:ext cx="86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24000" y="5589720"/>
            <a:ext cx="86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692360" y="4365720"/>
            <a:ext cx="86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564000" y="5516640"/>
            <a:ext cx="64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627280" y="5157720"/>
            <a:ext cx="4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84360" y="2276640"/>
            <a:ext cx="86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284720" y="5084640"/>
            <a:ext cx="93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651640" y="2133720"/>
            <a:ext cx="331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00"/>
                </a:solidFill>
                <a:latin typeface="Times New Roman"/>
              </a:rPr>
              <a:t>К – середина </a:t>
            </a: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D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7236000" y="2919240"/>
                <a:ext cx="15127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D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5724360" y="2781360"/>
                <a:ext cx="122580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5651640" y="3789360"/>
                <a:ext cx="327636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бок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h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5992920" y="4941720"/>
                <a:ext cx="259236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п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п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6426360" y="5734080"/>
                <a:ext cx="172692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" name=""/>
          <p:cNvSpPr/>
          <p:nvPr/>
        </p:nvSpPr>
        <p:spPr>
          <a:xfrm>
            <a:off x="5003640" y="4508640"/>
            <a:ext cx="64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932360" y="907920"/>
            <a:ext cx="309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а – сторона основани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3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96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1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5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2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9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6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3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5292720" y="1268280"/>
            <a:ext cx="3457440" cy="18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PA</a:t>
            </a:r>
            <a:r>
              <a:rPr b="1" lang="en-US" sz="2000" spc="-1" strike="noStrike" baseline="-25000">
                <a:solidFill>
                  <a:srgbClr val="0033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0033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…A</a:t>
            </a:r>
            <a:r>
              <a:rPr b="1" lang="en-US" sz="2000" spc="-1" strike="noStrike" baseline="-25000">
                <a:solidFill>
                  <a:srgbClr val="0033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 – </a:t>
            </a: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произвольная  пирами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892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α</a:t>
            </a: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– плоскость основ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892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β</a:t>
            </a: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– секущая плоскость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892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PB</a:t>
            </a:r>
            <a:r>
              <a:rPr b="1" lang="en-US" sz="2000" spc="-1" strike="noStrike" baseline="-25000">
                <a:solidFill>
                  <a:srgbClr val="003300"/>
                </a:solidFill>
                <a:latin typeface="Times New Roman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B</a:t>
            </a:r>
            <a:r>
              <a:rPr b="1" lang="en-US" sz="2000" spc="-1" strike="noStrike" baseline="-25000">
                <a:solidFill>
                  <a:srgbClr val="0033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…B</a:t>
            </a:r>
            <a:r>
              <a:rPr b="1" lang="en-US" sz="2000" spc="-1" strike="noStrike" baseline="-25000">
                <a:solidFill>
                  <a:srgbClr val="003300"/>
                </a:solidFill>
                <a:latin typeface="Times New Roman"/>
                <a:ea typeface="Times New Roman"/>
              </a:rPr>
              <a:t>n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– </a:t>
            </a: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ирамид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755640" y="404640"/>
            <a:ext cx="7416720" cy="84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100000">
                      <a:srgbClr val="cccc00"/>
                    </a:gs>
                  </a:gsLst>
                  <a:lin ang="5400000"/>
                </a:gradFill>
                <a:latin typeface="Times New Roman"/>
              </a:rPr>
              <a:t>Усеченная  пирамид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100000">
                    <a:srgbClr val="cccc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"/>
          <a:srcRect l="10525" t="16573" r="28705" b="16113"/>
          <a:stretch/>
        </p:blipFill>
        <p:spPr>
          <a:xfrm>
            <a:off x="179280" y="1341360"/>
            <a:ext cx="5133960" cy="424836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  <p:sp>
        <p:nvSpPr>
          <p:cNvPr id="252" name=""/>
          <p:cNvSpPr/>
          <p:nvPr/>
        </p:nvSpPr>
        <p:spPr>
          <a:xfrm>
            <a:off x="4149720" y="2004840"/>
            <a:ext cx="7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699080" y="3259080"/>
            <a:ext cx="102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811760" y="3305160"/>
            <a:ext cx="183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233440" y="1341360"/>
            <a:ext cx="547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22360" y="4662360"/>
            <a:ext cx="8208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A</a:t>
            </a:r>
            <a:r>
              <a:rPr b="1" lang="en-US" sz="2200" spc="-1" strike="noStrike" baseline="-25000">
                <a:solidFill>
                  <a:srgbClr val="0033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343160" y="3408480"/>
            <a:ext cx="6858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A</a:t>
            </a:r>
            <a:r>
              <a:rPr b="1" lang="en-US" sz="2200" spc="-1" strike="noStrike" baseline="-25000">
                <a:solidFill>
                  <a:srgbClr val="0033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192480" y="3186000"/>
            <a:ext cx="7524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A</a:t>
            </a:r>
            <a:r>
              <a:rPr b="1" lang="en-US" sz="2200" spc="-1" strike="noStrike" baseline="-25000">
                <a:solidFill>
                  <a:srgbClr val="003300"/>
                </a:solidFill>
                <a:latin typeface="Times New Roman"/>
              </a:rPr>
              <a:t>3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76520" y="4809960"/>
            <a:ext cx="684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A</a:t>
            </a:r>
            <a:r>
              <a:rPr b="1" lang="en-US" sz="2200" spc="-1" strike="noStrike" baseline="-25000">
                <a:solidFill>
                  <a:srgbClr val="003300"/>
                </a:solidFill>
                <a:latin typeface="Times New Roman"/>
              </a:rPr>
              <a:t>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413000" y="2448000"/>
            <a:ext cx="4791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B</a:t>
            </a:r>
            <a:r>
              <a:rPr b="1" lang="en-US" sz="2200" spc="-1" strike="noStrike" baseline="-25000">
                <a:solidFill>
                  <a:srgbClr val="0033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849400" y="1857240"/>
            <a:ext cx="6159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B</a:t>
            </a:r>
            <a:r>
              <a:rPr b="1" lang="en-US" sz="2200" spc="-1" strike="noStrike" baseline="-25000">
                <a:solidFill>
                  <a:srgbClr val="003300"/>
                </a:solidFill>
                <a:latin typeface="Times New Roman"/>
              </a:rPr>
              <a:t>3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576520" y="2522520"/>
            <a:ext cx="8208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B</a:t>
            </a:r>
            <a:r>
              <a:rPr b="1" lang="en-US" sz="2200" spc="-1" strike="noStrike" baseline="-25000">
                <a:solidFill>
                  <a:srgbClr val="003300"/>
                </a:solidFill>
                <a:latin typeface="Times New Roman"/>
              </a:rPr>
              <a:t>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822320" y="1784520"/>
            <a:ext cx="5479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B</a:t>
            </a:r>
            <a:r>
              <a:rPr b="1" lang="en-US" sz="2200" spc="-1" strike="noStrike" baseline="-25000">
                <a:solidFill>
                  <a:srgbClr val="0033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165400" y="2374920"/>
            <a:ext cx="89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959120" y="4146480"/>
            <a:ext cx="5475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O</a:t>
            </a:r>
            <a:r>
              <a:rPr b="1" lang="en-US" sz="2200" spc="-1" strike="noStrike" baseline="-25000">
                <a:solidFill>
                  <a:srgbClr val="0033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028960" y="3186000"/>
            <a:ext cx="682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Times New Roman"/>
              </a:rPr>
              <a:t>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384120" y="1570320"/>
            <a:ext cx="958680" cy="615240"/>
            <a:chOff x="384120" y="1570320"/>
            <a:chExt cx="958680" cy="615240"/>
          </a:xfrm>
        </p:grpSpPr>
        <p:sp>
          <p:nvSpPr>
            <p:cNvPr id="268" name=""/>
            <p:cNvSpPr/>
            <p:nvPr/>
          </p:nvSpPr>
          <p:spPr>
            <a:xfrm>
              <a:off x="703800" y="1570320"/>
              <a:ext cx="574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||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384120" y="1662120"/>
              <a:ext cx="958680" cy="523440"/>
              <a:chOff x="384120" y="1662120"/>
              <a:chExt cx="958680" cy="523440"/>
            </a:xfrm>
          </p:grpSpPr>
          <mc:AlternateContent>
            <mc:Choice xmlns:a14="http://schemas.microsoft.com/office/drawing/2010/main" Requires="a14">
              <p:sp>
                <p:nvSpPr>
                  <p:cNvPr id="270" name=""/>
                  <p:cNvSpPr txBox="1"/>
                  <p:nvPr/>
                </p:nvSpPr>
                <p:spPr>
                  <a:xfrm>
                    <a:off x="384120" y="1744200"/>
                    <a:ext cx="382680" cy="358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α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71" name=""/>
                  <p:cNvSpPr txBox="1"/>
                  <p:nvPr/>
                </p:nvSpPr>
                <p:spPr>
                  <a:xfrm>
                    <a:off x="958320" y="1662120"/>
                    <a:ext cx="384480" cy="52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β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272" name=""/>
          <p:cNvSpPr/>
          <p:nvPr/>
        </p:nvSpPr>
        <p:spPr>
          <a:xfrm>
            <a:off x="5364000" y="3068640"/>
            <a:ext cx="3635640" cy="30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…B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1" lang="ru-RU" sz="2000" spc="-1" strike="noStrike" baseline="-25000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– верхнее основание</a:t>
            </a:r>
            <a:r>
              <a:rPr b="1" lang="ru-RU" sz="2000" spc="-1" strike="noStrike" baseline="-25000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…A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 – нижнее снова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; …; A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–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      боковые грани – </a:t>
            </a: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трапец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; A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; …; A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–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боковые реб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imes New Roman"/>
              </a:rPr>
              <a:t>OO</a:t>
            </a:r>
            <a:r>
              <a:rPr b="1" lang="en-US" sz="2000" spc="-1" strike="noStrike" baseline="-25000">
                <a:solidFill>
                  <a:srgbClr val="009900"/>
                </a:solidFill>
                <a:latin typeface="Times New Roman"/>
              </a:rPr>
              <a:t>1</a:t>
            </a:r>
            <a:r>
              <a:rPr b="1" lang="ru-RU" sz="2000" spc="-1" strike="noStrike">
                <a:solidFill>
                  <a:srgbClr val="009900"/>
                </a:solidFill>
                <a:latin typeface="Times New Roman"/>
              </a:rPr>
              <a:t>=</a:t>
            </a:r>
            <a:r>
              <a:rPr b="1" lang="en-US" sz="2000" spc="-1" strike="noStrike">
                <a:solidFill>
                  <a:srgbClr val="009900"/>
                </a:solidFill>
                <a:latin typeface="Times New Roman"/>
              </a:rPr>
              <a:t> H </a:t>
            </a:r>
            <a:r>
              <a:rPr b="1" lang="ru-RU" sz="2000" spc="-1" strike="noStrike">
                <a:solidFill>
                  <a:srgbClr val="009900"/>
                </a:solidFill>
                <a:latin typeface="Times New Roman"/>
              </a:rPr>
              <a:t>– высо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179280" y="6021360"/>
                <a:ext cx="356256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п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п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бок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в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ос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ос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3851280" y="5877000"/>
                <a:ext cx="511344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H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в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ос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ос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в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осн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н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осн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sub>
                        </m:sSub>
                      </m:e>
                    </m:rad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diamond/>
  </p:transition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1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2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2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92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2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2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05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2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2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20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20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2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2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20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20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20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20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20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20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6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69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76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20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20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8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4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5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260280"/>
            <a:ext cx="9144000" cy="8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Times New Roman"/>
              </a:rPr>
              <a:t>Правильная 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треугольная</a:t>
            </a:r>
            <a:r>
              <a:rPr b="1" lang="en-US" sz="2200" spc="-1" strike="noStrike">
                <a:solidFill>
                  <a:srgbClr val="009900"/>
                </a:solidFill>
                <a:latin typeface="Times New Roman"/>
              </a:rPr>
              <a:t> усеченная пирамида –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боковые грани</a:t>
            </a:r>
            <a:r>
              <a:rPr b="1" lang="en-US" sz="22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–</a:t>
            </a:r>
            <a:r>
              <a:rPr b="1" lang="en-US" sz="22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Times New Roman"/>
              </a:rPr>
              <a:t>равные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 между собой 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Times New Roman"/>
              </a:rPr>
              <a:t>равнобокие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 трапеци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796000" y="1052640"/>
            <a:ext cx="28796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Δ</a:t>
            </a:r>
            <a:r>
              <a:rPr b="1" lang="en-US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ABC</a:t>
            </a:r>
            <a:r>
              <a:rPr b="1" lang="ru-RU" sz="2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и</a:t>
            </a:r>
            <a:r>
              <a:rPr b="1" lang="en-US" sz="2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1" lang="el-GR" sz="1600" spc="-1" strike="noStrike">
                <a:solidFill>
                  <a:srgbClr val="003300"/>
                </a:solidFill>
                <a:latin typeface="Times New Roman"/>
              </a:rPr>
              <a:t>Δ</a:t>
            </a:r>
            <a:r>
              <a:rPr b="1" lang="en-US" sz="16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A</a:t>
            </a:r>
            <a:r>
              <a:rPr b="1" lang="en-US" sz="2200" spc="-1" strike="noStrike" baseline="-25000">
                <a:solidFill>
                  <a:srgbClr val="003300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B</a:t>
            </a:r>
            <a:r>
              <a:rPr b="1" lang="en-US" sz="2200" spc="-1" strike="noStrike" baseline="-25000">
                <a:solidFill>
                  <a:srgbClr val="003300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C</a:t>
            </a:r>
            <a:r>
              <a:rPr b="1" lang="en-US" sz="2200" spc="-1" strike="noStrike" baseline="-25000">
                <a:solidFill>
                  <a:srgbClr val="003300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 – </a:t>
            </a:r>
            <a:r>
              <a:rPr b="1" lang="ru-RU" sz="2200" spc="-1" strike="noStrike">
                <a:solidFill>
                  <a:srgbClr val="003300"/>
                </a:solidFill>
                <a:latin typeface="Times New Roman"/>
              </a:rPr>
              <a:t>равносторонни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OO</a:t>
            </a:r>
            <a:r>
              <a:rPr b="1" lang="en-US" sz="2200" spc="-1" strike="noStrike" baseline="-25000">
                <a:solidFill>
                  <a:srgbClr val="ff3300"/>
                </a:solidFill>
                <a:latin typeface="Times New Roman"/>
              </a:rPr>
              <a:t>1 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= H – </a:t>
            </a:r>
            <a:r>
              <a:rPr b="1" lang="ru-RU" sz="2200" spc="-1" strike="noStrike">
                <a:solidFill>
                  <a:srgbClr val="ff3300"/>
                </a:solidFill>
                <a:latin typeface="Times New Roman"/>
              </a:rPr>
              <a:t>высота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9900"/>
                </a:solidFill>
                <a:latin typeface="Times New Roman"/>
              </a:rPr>
              <a:t>КК</a:t>
            </a:r>
            <a:r>
              <a:rPr b="1" lang="ru-RU" sz="2200" spc="-1" strike="noStrike" baseline="-25000">
                <a:solidFill>
                  <a:srgbClr val="009900"/>
                </a:solidFill>
                <a:latin typeface="Times New Roman"/>
              </a:rPr>
              <a:t>1</a:t>
            </a:r>
            <a:r>
              <a:rPr b="1" lang="ru-RU" sz="2200" spc="-1" strike="noStrike">
                <a:solidFill>
                  <a:srgbClr val="009900"/>
                </a:solidFill>
                <a:latin typeface="Times New Roman"/>
              </a:rPr>
              <a:t> =</a:t>
            </a:r>
            <a:r>
              <a:rPr b="1" lang="en-US" sz="2200" spc="-1" strike="noStrike">
                <a:solidFill>
                  <a:srgbClr val="009900"/>
                </a:solidFill>
                <a:latin typeface="Times New Roman"/>
              </a:rPr>
              <a:t> h</a:t>
            </a:r>
            <a:r>
              <a:rPr b="1" lang="ru-RU" sz="2200" spc="-1" strike="noStrike">
                <a:solidFill>
                  <a:srgbClr val="009900"/>
                </a:solidFill>
                <a:latin typeface="Times New Roman"/>
              </a:rPr>
              <a:t> – апофема </a:t>
            </a:r>
            <a:r>
              <a:rPr b="1" lang="en-US" sz="22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9900"/>
                </a:solidFill>
                <a:latin typeface="Times New Roman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5651640" y="2637000"/>
            <a:ext cx="1441440" cy="45540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7451640" y="2641680"/>
            <a:ext cx="1405080" cy="44460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5508720" y="3213000"/>
            <a:ext cx="1728720" cy="79560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  <p:pic>
        <p:nvPicPr>
          <p:cNvPr id="280" name="" descr=""/>
          <p:cNvPicPr/>
          <p:nvPr/>
        </p:nvPicPr>
        <p:blipFill>
          <a:blip r:embed="rId5"/>
          <a:stretch/>
        </p:blipFill>
        <p:spPr>
          <a:xfrm>
            <a:off x="7380360" y="3220920"/>
            <a:ext cx="1619280" cy="77796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5867280" y="4149720"/>
                <a:ext cx="280836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бок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h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в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ос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ос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6046920" y="4941720"/>
                <a:ext cx="244764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бок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h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83" name="" descr=""/>
          <p:cNvPicPr/>
          <p:nvPr/>
        </p:nvPicPr>
        <p:blipFill>
          <a:blip r:embed="rId6"/>
          <a:stretch/>
        </p:blipFill>
        <p:spPr>
          <a:xfrm>
            <a:off x="990360" y="4114440"/>
            <a:ext cx="2971800" cy="1981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179280" y="5805360"/>
                <a:ext cx="4608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H</m:t>
                    </m:r>
                    <m:r>
                      <m:t xml:space="preserve">⋅</m:t>
                    </m:r>
                    <m:r>
                      <m:t xml:space="preserve">(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4859280" y="5816520"/>
                <a:ext cx="41036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H</m:t>
                    </m:r>
                    <m:r>
                      <m:t xml:space="preserve">⋅</m:t>
                    </m:r>
                    <m:r>
                      <m:t xml:space="preserve">(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86" name="" descr=""/>
          <p:cNvPicPr/>
          <p:nvPr/>
        </p:nvPicPr>
        <p:blipFill>
          <a:blip r:embed="rId7"/>
          <a:srcRect l="12598" t="15722" r="6693" b="9433"/>
          <a:stretch/>
        </p:blipFill>
        <p:spPr>
          <a:xfrm>
            <a:off x="179280" y="1406520"/>
            <a:ext cx="5181840" cy="422100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  <p:sp>
        <p:nvSpPr>
          <p:cNvPr id="287" name=""/>
          <p:cNvSpPr/>
          <p:nvPr/>
        </p:nvSpPr>
        <p:spPr>
          <a:xfrm>
            <a:off x="254160" y="4572000"/>
            <a:ext cx="888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660680" y="5232240"/>
            <a:ext cx="591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141560" y="2197080"/>
            <a:ext cx="666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A</a:t>
            </a:r>
            <a:r>
              <a:rPr b="1" lang="en-US" sz="2200" spc="-1" strike="noStrike" baseline="-25000">
                <a:solidFill>
                  <a:srgbClr val="0033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289320" y="1341360"/>
            <a:ext cx="5176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B</a:t>
            </a:r>
            <a:r>
              <a:rPr b="1" lang="en-US" sz="2200" spc="-1" strike="noStrike" baseline="-25000">
                <a:solidFill>
                  <a:srgbClr val="0033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660680" y="2593800"/>
            <a:ext cx="666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C</a:t>
            </a:r>
            <a:r>
              <a:rPr b="1" lang="en-US" sz="2200" spc="-1" strike="noStrike" baseline="-25000">
                <a:solidFill>
                  <a:srgbClr val="0033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178000" y="4241880"/>
            <a:ext cx="5176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1" lang="en-US" sz="22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327400" y="2265480"/>
            <a:ext cx="591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400480" y="3121200"/>
            <a:ext cx="591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289320" y="3978360"/>
            <a:ext cx="5191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Times New Roman"/>
              </a:rPr>
              <a:t>K</a:t>
            </a:r>
            <a:r>
              <a:rPr b="1" lang="en-US" sz="2200" spc="-1" strike="noStrike" baseline="-25000">
                <a:solidFill>
                  <a:srgbClr val="0099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770200" y="2131920"/>
            <a:ext cx="66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Times New Roman"/>
              </a:rPr>
              <a:t>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065400" y="2987640"/>
            <a:ext cx="446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Times New Roman"/>
              </a:rPr>
              <a:t>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916520" y="2727360"/>
            <a:ext cx="592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195640" y="1773360"/>
            <a:ext cx="79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332000" y="3789360"/>
            <a:ext cx="64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2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2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46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53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2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2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66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71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78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3" dur="2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2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91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98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3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4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0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1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7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8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4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5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2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8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9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5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6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2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3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179280" y="260280"/>
            <a:ext cx="871380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Times New Roman"/>
              </a:rPr>
              <a:t>Правильная 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четырехугольная</a:t>
            </a:r>
            <a:r>
              <a:rPr b="1" lang="en-US" sz="2200" spc="-1" strike="noStrike">
                <a:solidFill>
                  <a:srgbClr val="009900"/>
                </a:solidFill>
                <a:latin typeface="Times New Roman"/>
              </a:rPr>
              <a:t> усеченная пирамида –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боковые грани – 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Times New Roman"/>
              </a:rPr>
              <a:t>равные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 между собой 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Times New Roman"/>
              </a:rPr>
              <a:t>равнобокие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 трапеци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364000" y="1125360"/>
            <a:ext cx="37800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ABCD </a:t>
            </a: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и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 A</a:t>
            </a:r>
            <a:r>
              <a:rPr b="1" lang="en-US" sz="2000" spc="-1" strike="noStrike" baseline="-25000">
                <a:solidFill>
                  <a:srgbClr val="0033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B</a:t>
            </a:r>
            <a:r>
              <a:rPr b="1" lang="en-US" sz="2000" spc="-1" strike="noStrike" baseline="-25000">
                <a:solidFill>
                  <a:srgbClr val="0033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C</a:t>
            </a:r>
            <a:r>
              <a:rPr b="1" lang="en-US" sz="2000" spc="-1" strike="noStrike" baseline="-25000">
                <a:solidFill>
                  <a:srgbClr val="0033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D</a:t>
            </a:r>
            <a:r>
              <a:rPr b="1" lang="en-US" sz="2000" spc="-1" strike="noStrike" baseline="-25000">
                <a:solidFill>
                  <a:srgbClr val="0033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 – </a:t>
            </a: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квадрат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OO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= H – 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высот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imes New Roman"/>
              </a:rPr>
              <a:t>KK</a:t>
            </a:r>
            <a:r>
              <a:rPr b="1" lang="en-US" sz="2000" spc="-1" strike="noStrike" baseline="-25000">
                <a:solidFill>
                  <a:srgbClr val="0099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9900"/>
                </a:solidFill>
                <a:latin typeface="Times New Roman"/>
              </a:rPr>
              <a:t> = h – </a:t>
            </a:r>
            <a:r>
              <a:rPr b="1" lang="ru-RU" sz="2000" spc="-1" strike="noStrike">
                <a:solidFill>
                  <a:srgbClr val="009900"/>
                </a:solidFill>
                <a:latin typeface="Times New Roman"/>
              </a:rPr>
              <a:t>апофем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27870" t="15489" r="48465" b="37175"/>
          <a:stretch/>
        </p:blipFill>
        <p:spPr>
          <a:xfrm>
            <a:off x="179280" y="1341360"/>
            <a:ext cx="5058000" cy="410364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  <p:sp>
        <p:nvSpPr>
          <p:cNvPr id="304" name=""/>
          <p:cNvSpPr/>
          <p:nvPr/>
        </p:nvSpPr>
        <p:spPr>
          <a:xfrm>
            <a:off x="1403280" y="1865160"/>
            <a:ext cx="719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A</a:t>
            </a:r>
            <a:r>
              <a:rPr b="1" lang="en-US" sz="2200" spc="-1" strike="noStrike" baseline="-25000">
                <a:solidFill>
                  <a:srgbClr val="0033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50920" y="4865760"/>
            <a:ext cx="43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547640" y="3367080"/>
            <a:ext cx="43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88000" y="3441600"/>
            <a:ext cx="57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419640" y="4865760"/>
            <a:ext cx="43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979640" y="1341360"/>
            <a:ext cx="576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B</a:t>
            </a:r>
            <a:r>
              <a:rPr b="1" lang="en-US" sz="2200" spc="-1" strike="noStrike" baseline="-25000">
                <a:solidFill>
                  <a:srgbClr val="0033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564000" y="1492200"/>
            <a:ext cx="503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C</a:t>
            </a:r>
            <a:r>
              <a:rPr b="1" lang="en-US" sz="2200" spc="-1" strike="noStrike" baseline="-25000">
                <a:solidFill>
                  <a:srgbClr val="0033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987640" y="2092320"/>
            <a:ext cx="647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D</a:t>
            </a:r>
            <a:r>
              <a:rPr b="1" lang="en-US" sz="2200" spc="-1" strike="noStrike" baseline="-25000">
                <a:solidFill>
                  <a:srgbClr val="0033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411280" y="4340160"/>
            <a:ext cx="64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556000" y="1341360"/>
            <a:ext cx="647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1" lang="en-US" sz="22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68360" y="299088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140360" y="4192560"/>
            <a:ext cx="57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Times New Roman"/>
              </a:rPr>
              <a:t>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76720" y="1865160"/>
            <a:ext cx="576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Times New Roman"/>
              </a:rPr>
              <a:t>K</a:t>
            </a:r>
            <a:r>
              <a:rPr b="1" lang="en-US" sz="2200" spc="-1" strike="noStrike" baseline="-25000">
                <a:solidFill>
                  <a:srgbClr val="0099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635280" y="2841480"/>
            <a:ext cx="64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Times New Roman"/>
              </a:rPr>
              <a:t>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63640" y="1641600"/>
            <a:ext cx="72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042920" y="389088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5508720" y="2565360"/>
                <a:ext cx="158436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в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ос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7451640" y="2576520"/>
                <a:ext cx="151128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ос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5724360" y="3213000"/>
                <a:ext cx="11527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в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ос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7667640" y="3213000"/>
                <a:ext cx="115236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ос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5796000" y="3789360"/>
                <a:ext cx="280836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бок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h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в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ос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ос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5977080" y="4581360"/>
                <a:ext cx="24476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бок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h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5508720" y="5157720"/>
                <a:ext cx="338436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п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п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h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468360" y="5805360"/>
                <a:ext cx="381636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H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4859280" y="5810400"/>
                <a:ext cx="32418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H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diamond/>
  </p:transition>
  <p:timing>
    <p:tnLst>
      <p:par>
        <p:cTn id="1255" dur="indefinite" restart="never" nodeType="tmRoot">
          <p:childTnLst>
            <p:seq>
              <p:cTn id="1256" dur="indefinite" nodeType="mainSeq">
                <p:childTnLst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7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20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20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03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08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15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0" dur="20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20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28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33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4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5" dur="20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20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53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4" nodeType="withEffect" fill="hold" presetClass="entr" presetID="5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58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3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4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0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1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7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8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4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5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1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2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8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9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5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6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2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3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9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0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1042920" y="333360"/>
            <a:ext cx="6624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cccc00"/>
                    </a:gs>
                  </a:gsLst>
                  <a:lin ang="5400000"/>
                </a:gradFill>
                <a:latin typeface="Times New Roman"/>
              </a:rPr>
              <a:t>Параллелепипед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8000"/>
                  </a:gs>
                  <a:gs pos="100000">
                    <a:srgbClr val="cccc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92720" y="1341360"/>
            <a:ext cx="36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3132000" y="1195920"/>
            <a:ext cx="1081080" cy="650160"/>
            <a:chOff x="3132000" y="1195920"/>
            <a:chExt cx="1081080" cy="650160"/>
          </a:xfrm>
        </p:grpSpPr>
        <p:sp>
          <p:nvSpPr>
            <p:cNvPr id="89" name=""/>
            <p:cNvSpPr/>
            <p:nvPr/>
          </p:nvSpPr>
          <p:spPr>
            <a:xfrm>
              <a:off x="3492360" y="119592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||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3132000" y="1269720"/>
              <a:ext cx="1081080" cy="576360"/>
              <a:chOff x="3132000" y="1269720"/>
              <a:chExt cx="1081080" cy="576360"/>
            </a:xfrm>
          </p:grpSpPr>
          <mc:AlternateContent>
            <mc:Choice xmlns:a14="http://schemas.microsoft.com/office/drawing/2010/main" Requires="a14">
              <p:sp>
                <p:nvSpPr>
                  <p:cNvPr id="91" name=""/>
                  <p:cNvSpPr txBox="1"/>
                  <p:nvPr/>
                </p:nvSpPr>
                <p:spPr>
                  <a:xfrm>
                    <a:off x="3132000" y="1360440"/>
                    <a:ext cx="431640" cy="395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α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92" name=""/>
                  <p:cNvSpPr txBox="1"/>
                  <p:nvPr/>
                </p:nvSpPr>
                <p:spPr>
                  <a:xfrm>
                    <a:off x="3779640" y="1269720"/>
                    <a:ext cx="433440" cy="576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β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93" name=""/>
          <p:cNvSpPr/>
          <p:nvPr/>
        </p:nvSpPr>
        <p:spPr>
          <a:xfrm>
            <a:off x="5219640" y="1197000"/>
            <a:ext cx="3673440" cy="30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АВС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вные параллелограммы – </a:t>
            </a: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основания</a:t>
            </a: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АА</a:t>
            </a:r>
            <a:r>
              <a:rPr b="1" lang="ru-RU" sz="1800" spc="-1" strike="noStrike" baseline="-25000">
                <a:solidFill>
                  <a:srgbClr val="008000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|| ВВ</a:t>
            </a:r>
            <a:r>
              <a:rPr b="1" lang="ru-RU" sz="1800" spc="-1" strike="noStrike" baseline="-25000">
                <a:solidFill>
                  <a:srgbClr val="008000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|| СС</a:t>
            </a:r>
            <a:r>
              <a:rPr b="1" lang="ru-RU" sz="1800" spc="-1" strike="noStrike" baseline="-25000">
                <a:solidFill>
                  <a:srgbClr val="008000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||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 DD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 – боковые ребра</a:t>
            </a:r>
            <a:r>
              <a:rPr b="1" lang="ru-RU" sz="1800" spc="-1" strike="noStrike" baseline="-25000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се грани параллелограмм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AA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B; BB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C; CC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D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D; AA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D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D</a:t>
            </a: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 – боковые гра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DB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ru-RU" sz="1800" spc="-1" strike="noStrike" baseline="-25000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– диагональ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03640" y="4076640"/>
            <a:ext cx="3961080" cy="28486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войст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 Противолежащие грани параллелепипеда  параллельны и равны.               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. Диагонали параллелепипеда пересекаются в одной точке и точкой пересечения делятся попола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rcRect l="23075" t="3088" r="38193" b="24702"/>
          <a:stretch/>
        </p:blipFill>
        <p:spPr>
          <a:xfrm>
            <a:off x="179280" y="1916280"/>
            <a:ext cx="4753080" cy="4679640"/>
          </a:xfrm>
          <a:prstGeom prst="rect">
            <a:avLst/>
          </a:prstGeom>
          <a:ln w="12600">
            <a:solidFill>
              <a:srgbClr val="0080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4273560" y="3057480"/>
                <a:ext cx="3445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997440" y="4821120"/>
                <a:ext cx="41256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357120" y="5408640"/>
            <a:ext cx="7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51000" y="4570560"/>
            <a:ext cx="11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05000" y="473868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11480" y="5661000"/>
            <a:ext cx="89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00200" y="3225960"/>
            <a:ext cx="961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2387520"/>
            <a:ext cx="1100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В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492360" y="2492280"/>
            <a:ext cx="75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С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20880" y="3425760"/>
            <a:ext cx="1236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1979640" y="2852640"/>
            <a:ext cx="288720" cy="2881440"/>
          </a:xfrm>
          <a:prstGeom prst="line">
            <a:avLst/>
          </a:prstGeom>
          <a:ln w="19080">
            <a:solidFill>
              <a:srgbClr val="00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95280" y="333360"/>
            <a:ext cx="8137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cccc00"/>
                    </a:gs>
                  </a:gsLst>
                  <a:lin ang="5400000"/>
                </a:gradFill>
                <a:latin typeface="Times New Roman"/>
              </a:rPr>
              <a:t>Прямой параллелепипед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8000"/>
                  </a:gs>
                  <a:gs pos="100000">
                    <a:srgbClr val="cccc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1125360"/>
            <a:ext cx="83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–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это параллелепипед, у которого боковые грани являются прямоугольник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rcRect l="13277" t="12392" r="77997" b="12392"/>
          <a:stretch/>
        </p:blipFill>
        <p:spPr>
          <a:xfrm>
            <a:off x="250920" y="2133720"/>
            <a:ext cx="3786120" cy="437040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  <p:sp>
        <p:nvSpPr>
          <p:cNvPr id="110" name=""/>
          <p:cNvSpPr/>
          <p:nvPr/>
        </p:nvSpPr>
        <p:spPr>
          <a:xfrm>
            <a:off x="468360" y="595008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87280" y="5373720"/>
            <a:ext cx="25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348000" y="5445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627280" y="602136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2852640"/>
            <a:ext cx="64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16000" y="2205000"/>
            <a:ext cx="72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00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48000" y="2276640"/>
            <a:ext cx="100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С</a:t>
            </a:r>
            <a:r>
              <a:rPr b="1" lang="en-US" sz="2400" spc="-1" strike="noStrike" baseline="-25000">
                <a:solidFill>
                  <a:srgbClr val="00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627280" y="2924280"/>
            <a:ext cx="79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00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47640" y="6093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87640" y="5805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48000" y="3716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427640" y="2276640"/>
                <a:ext cx="403200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аркаса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500720" y="3357720"/>
                <a:ext cx="3887640" cy="79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бок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464000" y="4581360"/>
                <a:ext cx="395928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п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п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бок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с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183280" y="5734080"/>
                <a:ext cx="251928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с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diamond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56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900"/>
                            </p:stCondLst>
                            <p:childTnLst>
                              <p:par>
                                <p:cTn id="129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34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44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4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64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74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84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79280" y="404640"/>
            <a:ext cx="8713800" cy="92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100000">
                      <a:srgbClr val="cccc00"/>
                    </a:gs>
                  </a:gsLst>
                  <a:lin ang="5400000"/>
                </a:gradFill>
                <a:latin typeface="Times New Roman"/>
              </a:rPr>
              <a:t>Прямоугольный параллелепипед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100000">
                    <a:srgbClr val="cccc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9280" y="148428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– 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это параллелепипед, у которого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все грани прямоугольники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rcRect l="13277" t="12392" r="77997" b="12392"/>
          <a:stretch/>
        </p:blipFill>
        <p:spPr>
          <a:xfrm>
            <a:off x="250920" y="2133720"/>
            <a:ext cx="3494160" cy="403200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  <p:sp>
        <p:nvSpPr>
          <p:cNvPr id="128" name=""/>
          <p:cNvSpPr/>
          <p:nvPr/>
        </p:nvSpPr>
        <p:spPr>
          <a:xfrm>
            <a:off x="1476360" y="57340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771640" y="5516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32000" y="3429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205000"/>
            <a:ext cx="482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a </a:t>
            </a:r>
            <a:r>
              <a:rPr b="1" lang="ru-RU" sz="2800" spc="-1" strike="noStrike">
                <a:solidFill>
                  <a:srgbClr val="009900"/>
                </a:solidFill>
                <a:latin typeface="Times New Roman"/>
              </a:rPr>
              <a:t>–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9900"/>
                </a:solidFill>
                <a:latin typeface="Times New Roman"/>
              </a:rPr>
              <a:t>длина,</a:t>
            </a:r>
            <a:r>
              <a:rPr b="1" lang="ru-RU" sz="28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– ширина,</a:t>
            </a:r>
            <a:r>
              <a:rPr b="1" lang="ru-RU" sz="28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Times New Roman"/>
              </a:rPr>
              <a:t>с – высота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d – </a:t>
            </a:r>
            <a:r>
              <a:rPr b="1" lang="ru-RU" sz="2800" spc="-1" strike="noStrike">
                <a:solidFill>
                  <a:srgbClr val="d60093"/>
                </a:solidFill>
                <a:latin typeface="Times New Roman"/>
              </a:rPr>
              <a:t>диагона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1476000" y="2565360"/>
            <a:ext cx="934920" cy="3240000"/>
          </a:xfrm>
          <a:prstGeom prst="line">
            <a:avLst/>
          </a:prstGeom>
          <a:ln w="19080">
            <a:solidFill>
              <a:srgbClr val="d6009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08000" y="371628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16360" y="3716280"/>
            <a:ext cx="3095640" cy="581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Times New Roman"/>
              </a:rPr>
              <a:t>d</a:t>
            </a:r>
            <a:r>
              <a:rPr b="1" lang="en-US" sz="3200" spc="-1" strike="noStrike" baseline="30000">
                <a:solidFill>
                  <a:srgbClr val="d60093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d60093"/>
                </a:solidFill>
                <a:latin typeface="Times New Roman"/>
              </a:rPr>
              <a:t>= a</a:t>
            </a:r>
            <a:r>
              <a:rPr b="1" lang="en-US" sz="3200" spc="-1" strike="noStrike" baseline="30000">
                <a:solidFill>
                  <a:srgbClr val="d60093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d60093"/>
                </a:solidFill>
                <a:latin typeface="Times New Roman"/>
              </a:rPr>
              <a:t> + b</a:t>
            </a:r>
            <a:r>
              <a:rPr b="1" lang="en-US" sz="3200" spc="-1" strike="noStrike" baseline="30000">
                <a:solidFill>
                  <a:srgbClr val="d60093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d60093"/>
                </a:solidFill>
                <a:latin typeface="Times New Roman"/>
              </a:rPr>
              <a:t> + c</a:t>
            </a:r>
            <a:r>
              <a:rPr b="1" lang="en-US" sz="3200" spc="-1" strike="noStrike" baseline="30000">
                <a:solidFill>
                  <a:srgbClr val="d60093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4140360" y="4653000"/>
                <a:ext cx="45370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п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п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5003640" y="5734080"/>
                <a:ext cx="244800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diamond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000"/>
                            </p:stCondLst>
                            <p:childTnLst>
                              <p:par>
                                <p:cTn id="216" nodeType="afterEffect" fill="hold" presetClass="entr" presetID="56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9500"/>
                            </p:stCondLst>
                            <p:childTnLst>
                              <p:par>
                                <p:cTn id="223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8" nodeType="afterEffect" fill="hold" presetClass="entr" presetID="56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9640" y="549360"/>
            <a:ext cx="292896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100000">
                      <a:srgbClr val="cccc00"/>
                    </a:gs>
                  </a:gsLst>
                  <a:lin ang="5400000"/>
                </a:gradFill>
                <a:latin typeface="Times New Roman"/>
              </a:rPr>
              <a:t>Призм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100000">
                    <a:srgbClr val="cccc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08360" y="1052640"/>
            <a:ext cx="518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08360" y="692280"/>
            <a:ext cx="518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00"/>
                </a:solidFill>
                <a:latin typeface="Times New Roman"/>
              </a:rPr>
              <a:t>: основания – равные </a:t>
            </a: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n</a:t>
            </a:r>
            <a:r>
              <a:rPr b="1" lang="ru-RU" sz="2200" spc="-1" strike="noStrike">
                <a:solidFill>
                  <a:srgbClr val="003300"/>
                </a:solidFill>
                <a:latin typeface="Times New Roman"/>
              </a:rPr>
              <a:t> – угольники, лежащие в параллельных плоскостях, боковые грани – параллелограммы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4360" y="1844640"/>
            <a:ext cx="806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Times New Roman"/>
              </a:rPr>
              <a:t>Наклонная – боковые грани – параллелограммы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rcRect l="12363" t="3088" r="42388" b="15439"/>
          <a:stretch/>
        </p:blipFill>
        <p:spPr>
          <a:xfrm>
            <a:off x="324000" y="2492280"/>
            <a:ext cx="3916080" cy="403380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  <p:sp>
        <p:nvSpPr>
          <p:cNvPr id="142" name=""/>
          <p:cNvSpPr/>
          <p:nvPr/>
        </p:nvSpPr>
        <p:spPr>
          <a:xfrm>
            <a:off x="684360" y="3213000"/>
            <a:ext cx="122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16000" y="5300640"/>
            <a:ext cx="792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2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5373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9640" y="3933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9640" y="4437000"/>
            <a:ext cx="64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87280" y="3789360"/>
            <a:ext cx="86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59280" y="3860640"/>
            <a:ext cx="79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635280" y="4365720"/>
            <a:ext cx="64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484360" y="4941720"/>
            <a:ext cx="50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427640" y="2276640"/>
            <a:ext cx="4716360" cy="18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HH</a:t>
            </a:r>
            <a:r>
              <a:rPr b="1" lang="en-US" sz="2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ru-RU" sz="2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ff0000"/>
                </a:solidFill>
                <a:latin typeface="Times New Roman"/>
              </a:rPr>
              <a:t>– высота призм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Times New Roman"/>
              </a:rPr>
              <a:t>AH </a:t>
            </a:r>
            <a:r>
              <a:rPr b="1" lang="ru-RU" sz="2200" spc="-1" strike="noStrike">
                <a:solidFill>
                  <a:srgbClr val="0099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9900"/>
                </a:solidFill>
                <a:latin typeface="Times New Roman"/>
              </a:rPr>
              <a:t>k</a:t>
            </a:r>
            <a:r>
              <a:rPr b="1" lang="ru-RU" sz="2200" spc="-1" strike="noStrike">
                <a:solidFill>
                  <a:srgbClr val="0099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009900"/>
                </a:solidFill>
                <a:latin typeface="Times New Roman"/>
              </a:rPr>
              <a:t> – </a:t>
            </a:r>
            <a:r>
              <a:rPr b="1" lang="ru-RU" sz="2200" spc="-1" strike="noStrike">
                <a:solidFill>
                  <a:srgbClr val="009900"/>
                </a:solidFill>
                <a:latin typeface="Times New Roman"/>
              </a:rPr>
              <a:t>боковое ребро призм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FMNPD</a:t>
            </a:r>
            <a:r>
              <a:rPr b="1" lang="ru-RU" sz="2200" spc="-1" strike="noStrike">
                <a:solidFill>
                  <a:srgbClr val="0000ff"/>
                </a:solidFill>
                <a:latin typeface="Times New Roman"/>
              </a:rPr>
              <a:t> – сечение, перпендикулярное боковому ребр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5292720" y="4149720"/>
                <a:ext cx="24480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бок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еч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4859280" y="5013360"/>
                <a:ext cx="338472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п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п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бок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с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489640" y="5877000"/>
                <a:ext cx="20541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еч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diamond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68360" y="47628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Прямая призма – боковые грани – прямоугольни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68360" y="5877000"/>
                <a:ext cx="259236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бок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с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7308720" y="2565360"/>
                <a:ext cx="147492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 txBox="1"/>
          <p:nvPr/>
        </p:nvSpPr>
        <p:spPr>
          <a:xfrm>
            <a:off x="4140360" y="1125360"/>
            <a:ext cx="1512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100000">
                      <a:srgbClr val="cccc00"/>
                    </a:gs>
                  </a:gsLst>
                  <a:lin ang="5400000"/>
                </a:gradFill>
                <a:latin typeface="Times New Roman"/>
              </a:rPr>
              <a:t>Куб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100000">
                    <a:srgbClr val="cccc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rcRect l="23005" t="0" r="54130" b="24783"/>
          <a:stretch/>
        </p:blipFill>
        <p:spPr>
          <a:xfrm>
            <a:off x="3708360" y="1989000"/>
            <a:ext cx="3168720" cy="266400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  <p:sp>
        <p:nvSpPr>
          <p:cNvPr id="160" name=""/>
          <p:cNvSpPr/>
          <p:nvPr/>
        </p:nvSpPr>
        <p:spPr>
          <a:xfrm>
            <a:off x="4500720" y="4294080"/>
            <a:ext cx="64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940360" y="4005360"/>
            <a:ext cx="4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588000" y="270972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5003280" y="2061720"/>
            <a:ext cx="505080" cy="2303640"/>
          </a:xfrm>
          <a:prstGeom prst="line">
            <a:avLst/>
          </a:prstGeom>
          <a:ln w="12600">
            <a:solidFill>
              <a:srgbClr val="00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219640" y="2852640"/>
            <a:ext cx="86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5184720" y="5877000"/>
                <a:ext cx="230508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п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п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7093080" y="3789360"/>
                <a:ext cx="190800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5076720" y="5013360"/>
                <a:ext cx="252108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аркаса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720720" y="4941720"/>
                <a:ext cx="208764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с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940360" y="1197000"/>
            <a:ext cx="2916360" cy="429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Times New Roman"/>
              </a:rPr>
              <a:t>все грани - квадрат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24000" y="1197000"/>
            <a:ext cx="3168360" cy="3456000"/>
            <a:chOff x="324000" y="1197000"/>
            <a:chExt cx="3168360" cy="3456000"/>
          </a:xfrm>
        </p:grpSpPr>
        <p:pic>
          <p:nvPicPr>
            <p:cNvPr id="171" name="" descr=""/>
            <p:cNvPicPr/>
            <p:nvPr/>
          </p:nvPicPr>
          <p:blipFill>
            <a:blip r:embed="rId3"/>
            <a:srcRect l="31430" t="6289" r="13751" b="0"/>
            <a:stretch/>
          </p:blipFill>
          <p:spPr>
            <a:xfrm>
              <a:off x="324000" y="1197000"/>
              <a:ext cx="3168360" cy="3456000"/>
            </a:xfrm>
            <a:prstGeom prst="rect">
              <a:avLst/>
            </a:prstGeom>
            <a:ln w="9360">
              <a:solidFill>
                <a:srgbClr val="009900"/>
              </a:solidFill>
              <a:miter/>
            </a:ln>
          </p:spPr>
        </p:pic>
        <p:sp>
          <p:nvSpPr>
            <p:cNvPr id="172" name=""/>
            <p:cNvSpPr/>
            <p:nvPr/>
          </p:nvSpPr>
          <p:spPr>
            <a:xfrm>
              <a:off x="1619280" y="4221000"/>
              <a:ext cx="3240" cy="198720"/>
            </a:xfrm>
            <a:prstGeom prst="line">
              <a:avLst/>
            </a:prstGeom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332000" y="4221000"/>
              <a:ext cx="0" cy="209880"/>
            </a:xfrm>
            <a:prstGeom prst="line">
              <a:avLst/>
            </a:prstGeom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476360" y="4365720"/>
              <a:ext cx="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332000" y="4221000"/>
              <a:ext cx="144360" cy="73080"/>
            </a:xfrm>
            <a:prstGeom prst="line">
              <a:avLst/>
            </a:prstGeom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1476360" y="4220640"/>
              <a:ext cx="142920" cy="71640"/>
            </a:xfrm>
            <a:prstGeom prst="line">
              <a:avLst/>
            </a:prstGeom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1476360" y="3213000"/>
            <a:ext cx="687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1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179280" y="404640"/>
            <a:ext cx="3816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100000">
                      <a:srgbClr val="cccc00"/>
                    </a:gs>
                  </a:gsLst>
                  <a:lin ang="5400000"/>
                </a:gradFill>
                <a:latin typeface="Times New Roman"/>
              </a:rPr>
              <a:t>Пирамид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100000">
                    <a:srgbClr val="cccc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11640" y="549360"/>
            <a:ext cx="475308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00"/>
                </a:solidFill>
                <a:latin typeface="Times New Roman"/>
              </a:rPr>
              <a:t>– </a:t>
            </a:r>
            <a:r>
              <a:rPr b="1" lang="ru-RU" sz="2200" spc="-1" strike="noStrike">
                <a:solidFill>
                  <a:srgbClr val="003300"/>
                </a:solidFill>
                <a:latin typeface="Times New Roman"/>
              </a:rPr>
              <a:t>это многогранник, состоящий из </a:t>
            </a: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n</a:t>
            </a:r>
            <a:r>
              <a:rPr b="1" lang="ru-RU" sz="2200" spc="-1" strike="noStrike">
                <a:solidFill>
                  <a:srgbClr val="003300"/>
                </a:solidFill>
                <a:latin typeface="Times New Roman"/>
              </a:rPr>
              <a:t>-угольника </a:t>
            </a:r>
            <a:r>
              <a:rPr b="1" lang="ru-RU" sz="22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1" lang="ru-RU" sz="22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ru-RU" sz="22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1" lang="ru-RU" sz="22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ru-RU" sz="22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1" lang="ru-RU" sz="2200" spc="-1" strike="noStrike" baseline="-25000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ru-RU" sz="2200" spc="-1" strike="noStrike">
                <a:solidFill>
                  <a:srgbClr val="ff3300"/>
                </a:solidFill>
                <a:latin typeface="Times New Roman"/>
              </a:rPr>
              <a:t>...А</a:t>
            </a:r>
            <a:r>
              <a:rPr b="1" lang="en-US" sz="22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1" lang="ru-RU" sz="2200" spc="-1" strike="noStrike">
                <a:solidFill>
                  <a:srgbClr val="003300"/>
                </a:solidFill>
                <a:latin typeface="Times New Roman"/>
              </a:rPr>
              <a:t> (</a:t>
            </a:r>
            <a:r>
              <a:rPr b="1" lang="ru-RU" sz="2200" spc="-1" strike="noStrike">
                <a:solidFill>
                  <a:srgbClr val="ff3300"/>
                </a:solidFill>
                <a:latin typeface="Times New Roman"/>
              </a:rPr>
              <a:t>основание</a:t>
            </a:r>
            <a:r>
              <a:rPr b="1" lang="ru-RU" sz="2200" spc="-1" strike="noStrike">
                <a:solidFill>
                  <a:srgbClr val="003300"/>
                </a:solidFill>
                <a:latin typeface="Times New Roman"/>
              </a:rPr>
              <a:t>) и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1" lang="ru-RU" sz="2200" spc="-1" strike="noStrike">
                <a:solidFill>
                  <a:srgbClr val="003300"/>
                </a:solidFill>
                <a:latin typeface="Times New Roman"/>
              </a:rPr>
              <a:t> треугольников (</a:t>
            </a:r>
            <a:r>
              <a:rPr b="1" lang="ru-RU" sz="2200" spc="-1" strike="noStrike">
                <a:solidFill>
                  <a:srgbClr val="0000ff"/>
                </a:solidFill>
                <a:latin typeface="Times New Roman"/>
              </a:rPr>
              <a:t>боковые грани</a:t>
            </a:r>
            <a:r>
              <a:rPr b="1" lang="ru-RU" sz="2200" spc="-1" strike="noStrike">
                <a:solidFill>
                  <a:srgbClr val="003300"/>
                </a:solidFill>
                <a:latin typeface="Times New Roman"/>
              </a:rPr>
              <a:t>), имеющих общую вершину (</a:t>
            </a:r>
            <a:r>
              <a:rPr b="1" lang="ru-RU" sz="2200" spc="-1" strike="noStrike">
                <a:solidFill>
                  <a:srgbClr val="0000ff"/>
                </a:solidFill>
                <a:latin typeface="Times New Roman"/>
              </a:rPr>
              <a:t>Р</a:t>
            </a:r>
            <a:r>
              <a:rPr b="1" lang="ru-RU" sz="2200" spc="-1" strike="noStrike">
                <a:solidFill>
                  <a:srgbClr val="003300"/>
                </a:solidFill>
                <a:latin typeface="Times New Roman"/>
              </a:rPr>
              <a:t>)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rcRect l="11801" t="16113" r="29981" b="16113"/>
          <a:stretch/>
        </p:blipFill>
        <p:spPr>
          <a:xfrm>
            <a:off x="250920" y="2374920"/>
            <a:ext cx="5616360" cy="429408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  <p:sp>
        <p:nvSpPr>
          <p:cNvPr id="181" name=""/>
          <p:cNvSpPr/>
          <p:nvPr/>
        </p:nvSpPr>
        <p:spPr>
          <a:xfrm>
            <a:off x="2484360" y="2421000"/>
            <a:ext cx="86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Р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24000" y="5300640"/>
            <a:ext cx="647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1" lang="en-US" sz="22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47640" y="4437000"/>
            <a:ext cx="792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1" lang="en-US" sz="22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4000" y="4221000"/>
            <a:ext cx="1079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1" lang="en-US" sz="2200" spc="-1" strike="noStrike" baseline="-25000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916360" y="5877000"/>
            <a:ext cx="936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1" lang="en-US" sz="22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95640" y="5157720"/>
            <a:ext cx="64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Times New Roman"/>
              </a:rPr>
              <a:t>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940360" y="2421000"/>
            <a:ext cx="2952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12000" y="2349360"/>
            <a:ext cx="28810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Times New Roman"/>
              </a:rPr>
              <a:t>РА</a:t>
            </a:r>
            <a:r>
              <a:rPr b="1" lang="ru-RU" sz="22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ru-RU" sz="2200" spc="-1" strike="noStrike">
                <a:solidFill>
                  <a:srgbClr val="0000ff"/>
                </a:solidFill>
                <a:latin typeface="Times New Roman"/>
              </a:rPr>
              <a:t>; РА</a:t>
            </a:r>
            <a:r>
              <a:rPr b="1" lang="ru-RU" sz="22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ru-RU" sz="2200" spc="-1" strike="noStrike">
                <a:solidFill>
                  <a:srgbClr val="0000ff"/>
                </a:solidFill>
                <a:latin typeface="Times New Roman"/>
              </a:rPr>
              <a:t>; РА</a:t>
            </a:r>
            <a:r>
              <a:rPr b="1" lang="ru-RU" sz="22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ru-RU" sz="2200" spc="-1" strike="noStrike">
                <a:solidFill>
                  <a:srgbClr val="0000ff"/>
                </a:solidFill>
                <a:latin typeface="Times New Roman"/>
              </a:rPr>
              <a:t>; ... ; РА</a:t>
            </a:r>
            <a:r>
              <a:rPr b="1" lang="en-US" sz="2200" spc="-1" strike="noStrike" baseline="-25000">
                <a:solidFill>
                  <a:srgbClr val="0000ff"/>
                </a:solidFill>
                <a:latin typeface="Times New Roman"/>
              </a:rPr>
              <a:t>n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 – </a:t>
            </a:r>
            <a:r>
              <a:rPr b="1" lang="ru-RU" sz="2200" spc="-1" strike="noStrike">
                <a:solidFill>
                  <a:srgbClr val="0000ff"/>
                </a:solidFill>
                <a:latin typeface="Times New Roman"/>
              </a:rPr>
              <a:t>боковые ребр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1" lang="ru-RU" sz="22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ru-RU" sz="22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1" lang="ru-RU" sz="22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ru-RU" sz="2200" spc="-1" strike="noStrike">
                <a:solidFill>
                  <a:srgbClr val="ff3300"/>
                </a:solidFill>
                <a:latin typeface="Times New Roman"/>
              </a:rPr>
              <a:t>; ... ;А</a:t>
            </a:r>
            <a:r>
              <a:rPr b="1" lang="ru-RU" sz="22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ru-RU" sz="22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1" lang="en-US" sz="22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 – </a:t>
            </a:r>
            <a:r>
              <a:rPr b="1" lang="ru-RU" sz="2200" spc="-1" strike="noStrike">
                <a:solidFill>
                  <a:srgbClr val="ff3300"/>
                </a:solidFill>
                <a:latin typeface="Times New Roman"/>
              </a:rPr>
              <a:t>ребра основани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9900"/>
                </a:solidFill>
                <a:latin typeface="Times New Roman"/>
              </a:rPr>
              <a:t>Р</a:t>
            </a:r>
            <a:r>
              <a:rPr b="1" lang="en-US" sz="2200" spc="-1" strike="noStrike">
                <a:solidFill>
                  <a:srgbClr val="009900"/>
                </a:solidFill>
                <a:latin typeface="Times New Roman"/>
              </a:rPr>
              <a:t>H</a:t>
            </a:r>
            <a:r>
              <a:rPr b="1" lang="ru-RU" sz="2200" spc="-1" strike="noStrike">
                <a:solidFill>
                  <a:srgbClr val="009900"/>
                </a:solidFill>
                <a:latin typeface="Times New Roman"/>
              </a:rPr>
              <a:t> – высота пирамиды - </a:t>
            </a:r>
            <a:r>
              <a:rPr b="1" lang="en-US" sz="2200" spc="-1" strike="noStrike">
                <a:solidFill>
                  <a:srgbClr val="009900"/>
                </a:solidFill>
                <a:latin typeface="Times New Roman"/>
              </a:rPr>
              <a:t>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5003640" y="4437000"/>
                <a:ext cx="36036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6300720" y="5013360"/>
                <a:ext cx="259236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п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п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бок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с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6659640" y="5734080"/>
                <a:ext cx="187308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с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2411280" y="407664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Times New Roman"/>
              </a:rPr>
              <a:t>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2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539640" y="333360"/>
            <a:ext cx="7920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100000">
                      <a:srgbClr val="cccc00"/>
                    </a:gs>
                  </a:gsLst>
                  <a:lin ang="5400000"/>
                </a:gradFill>
                <a:latin typeface="Times New Roman"/>
              </a:rPr>
              <a:t>Правильная пирамид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100000">
                    <a:srgbClr val="cccc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8360" y="1197000"/>
            <a:ext cx="84232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3300"/>
                </a:solidFill>
                <a:latin typeface="Times New Roman"/>
              </a:rPr>
              <a:t>основание – правильный многоугольник, вершина проецируется в центр основания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3300"/>
                </a:solidFill>
                <a:latin typeface="Times New Roman"/>
              </a:rPr>
              <a:t>боковые ребра – равны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3300"/>
                </a:solidFill>
                <a:latin typeface="Times New Roman"/>
              </a:rPr>
              <a:t>боковые грани – равные равнобедренные треугольники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43280" y="2997360"/>
            <a:ext cx="187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lang="ru-RU" sz="2200" spc="-1" strike="noStrike">
                <a:solidFill>
                  <a:srgbClr val="ff3300"/>
                </a:solidFill>
                <a:latin typeface="Times New Roman"/>
              </a:rPr>
              <a:t> – высота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32720" y="2997360"/>
            <a:ext cx="241128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Times New Roman"/>
              </a:rPr>
              <a:t>h – </a:t>
            </a:r>
            <a:r>
              <a:rPr b="1" lang="ru-RU" sz="2200" spc="-1" strike="noStrike">
                <a:solidFill>
                  <a:srgbClr val="009900"/>
                </a:solidFill>
                <a:latin typeface="Times New Roman"/>
              </a:rPr>
              <a:t>апофема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508720" y="3645000"/>
            <a:ext cx="2520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rcRect l="11786" t="0" r="44396" b="35207"/>
          <a:stretch/>
        </p:blipFill>
        <p:spPr>
          <a:xfrm>
            <a:off x="324000" y="3079800"/>
            <a:ext cx="4014720" cy="35892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2340000" y="4797360"/>
            <a:ext cx="79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58920" y="537372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Times New Roman"/>
              </a:rPr>
              <a:t>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5508720" y="3500280"/>
                <a:ext cx="252072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бок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с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5724360" y="5589720"/>
                <a:ext cx="208944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с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5219640" y="4724280"/>
                <a:ext cx="309564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п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п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бок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с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 spd="slow">
    <p:diamond/>
  </p:transition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2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2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2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2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2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2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2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6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"/>
          <p:cNvGrpSpPr/>
          <p:nvPr/>
        </p:nvGrpSpPr>
        <p:grpSpPr>
          <a:xfrm>
            <a:off x="324000" y="1197000"/>
            <a:ext cx="4968720" cy="5040360"/>
            <a:chOff x="324000" y="1197000"/>
            <a:chExt cx="4968720" cy="5040360"/>
          </a:xfrm>
        </p:grpSpPr>
        <p:pic>
          <p:nvPicPr>
            <p:cNvPr id="205" name="" descr=""/>
            <p:cNvPicPr/>
            <p:nvPr/>
          </p:nvPicPr>
          <p:blipFill>
            <a:blip r:embed="rId2"/>
            <a:srcRect l="11811" t="3144" r="7874" b="9433"/>
            <a:stretch/>
          </p:blipFill>
          <p:spPr>
            <a:xfrm>
              <a:off x="324000" y="1197000"/>
              <a:ext cx="4968720" cy="5040360"/>
            </a:xfrm>
            <a:prstGeom prst="rect">
              <a:avLst/>
            </a:prstGeom>
            <a:ln w="9360">
              <a:solidFill>
                <a:srgbClr val="009900"/>
              </a:solidFill>
              <a:miter/>
            </a:ln>
          </p:spPr>
        </p:pic>
        <p:sp>
          <p:nvSpPr>
            <p:cNvPr id="206" name=""/>
            <p:cNvSpPr/>
            <p:nvPr/>
          </p:nvSpPr>
          <p:spPr>
            <a:xfrm flipV="1">
              <a:off x="3348000" y="4294080"/>
              <a:ext cx="144360" cy="144720"/>
            </a:xfrm>
            <a:prstGeom prst="line">
              <a:avLst/>
            </a:prstGeom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3492000" y="4294080"/>
              <a:ext cx="71640" cy="216000"/>
            </a:xfrm>
            <a:prstGeom prst="line">
              <a:avLst/>
            </a:prstGeom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7524720" y="2206800"/>
                <a:ext cx="1440000" cy="69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O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A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5435640" y="2205000"/>
                <a:ext cx="14414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O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A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6346800" y="3141720"/>
                <a:ext cx="17272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бок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5942160" y="1452960"/>
            <a:ext cx="239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AB = BC = AC =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5280" y="260280"/>
            <a:ext cx="84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Times New Roman"/>
              </a:rPr>
              <a:t>Правильная треугольная пирамид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80000" y="836640"/>
            <a:ext cx="201636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lang="ru-RU" sz="2200" spc="-1" strike="noStrike">
                <a:solidFill>
                  <a:srgbClr val="ff3300"/>
                </a:solidFill>
                <a:latin typeface="Times New Roman"/>
              </a:rPr>
              <a:t> – высота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236000" y="836640"/>
            <a:ext cx="19080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Times New Roman"/>
              </a:rPr>
              <a:t>h – </a:t>
            </a:r>
            <a:r>
              <a:rPr b="1" lang="ru-RU" sz="2200" spc="-1" strike="noStrike">
                <a:solidFill>
                  <a:srgbClr val="009900"/>
                </a:solidFill>
                <a:latin typeface="Times New Roman"/>
              </a:rPr>
              <a:t>апофема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5724360" y="4292640"/>
                <a:ext cx="297180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п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п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h</m:t>
                    </m:r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6130800" y="5516640"/>
                <a:ext cx="215928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395280" y="522936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411280" y="4797360"/>
            <a:ext cx="64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932360" y="3284640"/>
            <a:ext cx="36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835280" y="5805360"/>
            <a:ext cx="79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987640" y="299736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Times New Roman"/>
              </a:rPr>
              <a:t>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124000" y="3500280"/>
            <a:ext cx="64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124000" y="1197000"/>
            <a:ext cx="107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492360" y="4508640"/>
            <a:ext cx="72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971640" y="5516640"/>
            <a:ext cx="64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7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3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2T08:23:50Z</dcterms:created>
  <dc:creator>Администратор</dc:creator>
  <dc:description/>
  <dc:language>en-US</dc:language>
  <cp:lastModifiedBy>Анна</cp:lastModifiedBy>
  <dcterms:modified xsi:type="dcterms:W3CDTF">2010-04-09T19:22:24Z</dcterms:modified>
  <cp:revision>52</cp:revision>
  <dc:subject/>
  <dc:title>Слайд 1</dc:title>
</cp:coreProperties>
</file>