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9B64-B588-4D96-8328-2A2A06FA0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36EF-CD77-484A-8E80-BEE422C6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C55C-F9FD-425C-8D22-56C8C0F39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E8C2-6ED3-4DE9-9A75-FF7D4335B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26C7-8A29-400B-8003-88C423082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EF59-E101-4574-82FC-8FA19016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7D68-0553-4A33-A066-6BFB1F3F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BE34-F5E0-4C97-B65D-47A5DFDB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EC99-10D9-46EA-A31E-12EED492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B287-C8BE-4254-8406-82BCECB5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5DB8-58D4-48D1-ADD1-FF021034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B17D-89DF-484F-9629-FD0CC762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134B-7115-49F3-9219-01A709A2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9F31-B203-44DA-8B35-7740BB1B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E68A-8E93-4D37-A096-1A0529A8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DDF3-A882-4EFD-B23D-2822B8BF0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CB08-C2E5-47C7-8B68-96BB5E88F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CD19-B6E3-44F8-93FE-4669CFDE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0ED4-611F-4622-A66E-DAB3A5CC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CB1D-239C-4D05-94B1-0023B065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2BBD-8296-4E10-967A-F4BDFA11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3D30-A915-4B15-A3EE-0A372A25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6730-65B1-4AE5-B0EC-DB3ACF7D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6222-684A-47D0-A913-D7A606DB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E0DC-1D2D-4A2F-B2FA-3D6941F155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CF86-0DD7-4FB2-B00B-56ED4D2CF7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95280" y="836640"/>
            <a:ext cx="849636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cccc00"/>
                    </a:gs>
                  </a:gsLst>
                  <a:lin ang="5400000"/>
                </a:gradFill>
                <a:latin typeface="Times New Roman"/>
              </a:rPr>
              <a:t>Многогранни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ccc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419640" y="4221000"/>
            <a:ext cx="55227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cccc00"/>
                    </a:gs>
                  </a:gsLst>
                  <a:lin ang="5400000"/>
                </a:gradFill>
                <a:latin typeface="Times New Roman"/>
              </a:rPr>
              <a:t>Геометрия 10 - 11 класс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ccc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24000" y="3789360"/>
            <a:ext cx="2673360" cy="2430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995640" y="5734080"/>
            <a:ext cx="497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Подготовила Семенченко Ирина Николаевна – учитель математики высшей категории МОУСОШ №7 г. Гулькевич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2"/>
          <a:srcRect l="27870" t="0" r="48000" b="30979"/>
          <a:stretch/>
        </p:blipFill>
        <p:spPr>
          <a:xfrm>
            <a:off x="250920" y="2276640"/>
            <a:ext cx="5256000" cy="401004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sp>
        <p:nvSpPr>
          <p:cNvPr id="227" name=""/>
          <p:cNvSpPr/>
          <p:nvPr/>
        </p:nvSpPr>
        <p:spPr>
          <a:xfrm>
            <a:off x="179280" y="260280"/>
            <a:ext cx="89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Правильная четырехугольная пирамид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907200"/>
            <a:ext cx="177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h – </a:t>
            </a:r>
            <a:r>
              <a:rPr b="1" lang="ru-RU" sz="2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апофема,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4360" y="907920"/>
            <a:ext cx="2016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 – высота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9640" y="1557360"/>
            <a:ext cx="820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AB = BC = CD = DA =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 </a:t>
            </a: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(</a:t>
            </a:r>
            <a:r>
              <a:rPr b="1" lang="ru-RU" sz="2200" spc="-1" strike="noStrike">
                <a:solidFill>
                  <a:srgbClr val="003300"/>
                </a:solidFill>
                <a:latin typeface="Times New Roman"/>
              </a:rPr>
              <a:t>в основании – квадрат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11280" y="4005360"/>
            <a:ext cx="93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708360" y="3860640"/>
            <a:ext cx="136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124000" y="5589720"/>
            <a:ext cx="574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32000" y="4653000"/>
            <a:ext cx="86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4000" y="5589720"/>
            <a:ext cx="86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692360" y="4365720"/>
            <a:ext cx="86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564000" y="5516640"/>
            <a:ext cx="64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627280" y="515772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84360" y="2276640"/>
            <a:ext cx="86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284720" y="5084640"/>
            <a:ext cx="93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651640" y="2133720"/>
            <a:ext cx="331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00"/>
                </a:solidFill>
                <a:latin typeface="Times New Roman"/>
              </a:rPr>
              <a:t>К – середина </a:t>
            </a: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D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7236000" y="2919240"/>
                <a:ext cx="1512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5724360" y="2781360"/>
                <a:ext cx="122580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651640" y="3789360"/>
                <a:ext cx="32763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5992920" y="4941720"/>
                <a:ext cx="259236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6426360" y="5734080"/>
                <a:ext cx="172692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5003640" y="4508640"/>
            <a:ext cx="64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32360" y="907920"/>
            <a:ext cx="309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а – сторона основан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6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3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5292720" y="1268280"/>
            <a:ext cx="3457440" cy="18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PA</a:t>
            </a:r>
            <a:r>
              <a:rPr b="1" lang="en-US" sz="20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33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…A</a:t>
            </a:r>
            <a:r>
              <a:rPr b="1" lang="en-US" sz="2000" spc="-1" strike="noStrike" baseline="-25000">
                <a:solidFill>
                  <a:srgbClr val="0033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 – 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произвольная  пирами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892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α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– плоскость осн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892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β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– секущая плоскость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892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PB</a:t>
            </a:r>
            <a:r>
              <a:rPr b="1" lang="en-US" sz="2000" spc="-1" strike="noStrike" baseline="-25000">
                <a:solidFill>
                  <a:srgbClr val="003300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B</a:t>
            </a:r>
            <a:r>
              <a:rPr b="1" lang="en-US" sz="2000" spc="-1" strike="noStrike" baseline="-25000">
                <a:solidFill>
                  <a:srgbClr val="0033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…B</a:t>
            </a:r>
            <a:r>
              <a:rPr b="1" lang="en-US" sz="2000" spc="-1" strike="noStrike" baseline="-25000">
                <a:solidFill>
                  <a:srgbClr val="003300"/>
                </a:solidFill>
                <a:latin typeface="Times New Roman"/>
                <a:ea typeface="Times New Roman"/>
              </a:rPr>
              <a:t>n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– 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ирамид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55640" y="404640"/>
            <a:ext cx="7416720" cy="84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cccc00"/>
                    </a:gs>
                  </a:gsLst>
                  <a:lin ang="5400000"/>
                </a:gradFill>
                <a:latin typeface="Times New Roman"/>
              </a:rPr>
              <a:t>Усеченная  пирами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ccc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rcRect l="10525" t="16573" r="28705" b="16113"/>
          <a:stretch/>
        </p:blipFill>
        <p:spPr>
          <a:xfrm>
            <a:off x="179280" y="1341360"/>
            <a:ext cx="5133960" cy="424836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sp>
        <p:nvSpPr>
          <p:cNvPr id="252" name=""/>
          <p:cNvSpPr/>
          <p:nvPr/>
        </p:nvSpPr>
        <p:spPr>
          <a:xfrm>
            <a:off x="4149720" y="2004840"/>
            <a:ext cx="7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699080" y="3259080"/>
            <a:ext cx="10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811760" y="3305160"/>
            <a:ext cx="183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33440" y="1341360"/>
            <a:ext cx="54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22360" y="4662360"/>
            <a:ext cx="820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22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343160" y="3408480"/>
            <a:ext cx="685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2200" spc="-1" strike="noStrike" baseline="-25000">
                <a:solidFill>
                  <a:srgbClr val="0033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92480" y="3186000"/>
            <a:ext cx="7524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2200" spc="-1" strike="noStrike" baseline="-25000">
                <a:solidFill>
                  <a:srgbClr val="003300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76520" y="4809960"/>
            <a:ext cx="68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2200" spc="-1" strike="noStrike" baseline="-25000">
                <a:solidFill>
                  <a:srgbClr val="003300"/>
                </a:solidFill>
                <a:latin typeface="Times New Roman"/>
              </a:rPr>
              <a:t>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13000" y="2448000"/>
            <a:ext cx="4791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B</a:t>
            </a:r>
            <a:r>
              <a:rPr b="1" lang="en-US" sz="22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49400" y="1857240"/>
            <a:ext cx="6159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B</a:t>
            </a:r>
            <a:r>
              <a:rPr b="1" lang="en-US" sz="2200" spc="-1" strike="noStrike" baseline="-25000">
                <a:solidFill>
                  <a:srgbClr val="003300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76520" y="2522520"/>
            <a:ext cx="820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B</a:t>
            </a:r>
            <a:r>
              <a:rPr b="1" lang="en-US" sz="2200" spc="-1" strike="noStrike" baseline="-25000">
                <a:solidFill>
                  <a:srgbClr val="003300"/>
                </a:solidFill>
                <a:latin typeface="Times New Roman"/>
              </a:rPr>
              <a:t>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22320" y="1784520"/>
            <a:ext cx="5479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B</a:t>
            </a:r>
            <a:r>
              <a:rPr b="1" lang="en-US" sz="2200" spc="-1" strike="noStrike" baseline="-25000">
                <a:solidFill>
                  <a:srgbClr val="0033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65400" y="2374920"/>
            <a:ext cx="89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959120" y="4146480"/>
            <a:ext cx="5475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O</a:t>
            </a:r>
            <a:r>
              <a:rPr b="1" lang="en-US" sz="22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028960" y="3186000"/>
            <a:ext cx="682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84120" y="1570320"/>
            <a:ext cx="958680" cy="615240"/>
            <a:chOff x="384120" y="1570320"/>
            <a:chExt cx="958680" cy="615240"/>
          </a:xfrm>
        </p:grpSpPr>
        <p:sp>
          <p:nvSpPr>
            <p:cNvPr id="268" name=""/>
            <p:cNvSpPr/>
            <p:nvPr/>
          </p:nvSpPr>
          <p:spPr>
            <a:xfrm>
              <a:off x="703800" y="1570320"/>
              <a:ext cx="574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||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384120" y="1662120"/>
              <a:ext cx="958680" cy="523440"/>
              <a:chOff x="384120" y="1662120"/>
              <a:chExt cx="958680" cy="523440"/>
            </a:xfrm>
          </p:grpSpPr>
          <mc:AlternateContent>
            <mc:Choice xmlns:a14="http://schemas.microsoft.com/office/drawing/2010/main" Requires="a14">
              <p:sp>
                <p:nvSpPr>
                  <p:cNvPr id="270" name=""/>
                  <p:cNvSpPr txBox="1"/>
                  <p:nvPr/>
                </p:nvSpPr>
                <p:spPr>
                  <a:xfrm>
                    <a:off x="384120" y="1744200"/>
                    <a:ext cx="382680" cy="358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71" name=""/>
                  <p:cNvSpPr txBox="1"/>
                  <p:nvPr/>
                </p:nvSpPr>
                <p:spPr>
                  <a:xfrm>
                    <a:off x="958320" y="1662120"/>
                    <a:ext cx="384480" cy="52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β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272" name=""/>
          <p:cNvSpPr/>
          <p:nvPr/>
        </p:nvSpPr>
        <p:spPr>
          <a:xfrm>
            <a:off x="5364000" y="3068640"/>
            <a:ext cx="3635640" cy="30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…B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ru-RU" sz="2000" spc="-1" strike="noStrike" baseline="-25000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– верхнее основание</a:t>
            </a:r>
            <a:r>
              <a:rPr b="1" lang="ru-RU" sz="2000" spc="-1" strike="noStrike" baseline="-25000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…A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 – нижнее сно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; …; A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–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      боковые грани – 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трапец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; A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; …; A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–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боковые реб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OO</a:t>
            </a:r>
            <a:r>
              <a:rPr b="1" lang="en-US" sz="2000" spc="-1" strike="noStrike" baseline="-25000">
                <a:solidFill>
                  <a:srgbClr val="0099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 H </a:t>
            </a: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– выс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79280" y="6021360"/>
                <a:ext cx="356256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851280" y="5877000"/>
                <a:ext cx="511344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в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осн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н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осн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</m:e>
                    </m:ra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diamond/>
  </p:transition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1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2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2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2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2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0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2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2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2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2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2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2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2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2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20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20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20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20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20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20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8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4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5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260280"/>
            <a:ext cx="9144000" cy="8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Правильная 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треугольная</a:t>
            </a: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 усеченная пирамида –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боковые грани</a:t>
            </a: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–</a:t>
            </a: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Times New Roman"/>
              </a:rPr>
              <a:t>равные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 между собой 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Times New Roman"/>
              </a:rPr>
              <a:t>равнобокие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 трапеци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96000" y="1052640"/>
            <a:ext cx="28796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Δ</a:t>
            </a:r>
            <a:r>
              <a:rPr b="1" lang="en-US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ABC</a:t>
            </a:r>
            <a:r>
              <a:rPr b="1" lang="ru-RU" sz="2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и</a:t>
            </a:r>
            <a:r>
              <a:rPr b="1" lang="en-US" sz="2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el-GR" sz="1600" spc="-1" strike="noStrike">
                <a:solidFill>
                  <a:srgbClr val="003300"/>
                </a:solidFill>
                <a:latin typeface="Times New Roman"/>
              </a:rPr>
              <a:t>Δ</a:t>
            </a:r>
            <a:r>
              <a:rPr b="1" lang="en-US" sz="16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22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B</a:t>
            </a:r>
            <a:r>
              <a:rPr b="1" lang="en-US" sz="22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C</a:t>
            </a:r>
            <a:r>
              <a:rPr b="1" lang="en-US" sz="22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 – </a:t>
            </a:r>
            <a:r>
              <a:rPr b="1" lang="ru-RU" sz="2200" spc="-1" strike="noStrike">
                <a:solidFill>
                  <a:srgbClr val="003300"/>
                </a:solidFill>
                <a:latin typeface="Times New Roman"/>
              </a:rPr>
              <a:t>равносторон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OO</a:t>
            </a:r>
            <a:r>
              <a:rPr b="1" lang="en-US" sz="2200" spc="-1" strike="noStrike" baseline="-25000">
                <a:solidFill>
                  <a:srgbClr val="ff3300"/>
                </a:solidFill>
                <a:latin typeface="Times New Roman"/>
              </a:rPr>
              <a:t>1 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= H – </a:t>
            </a: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высот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9900"/>
                </a:solidFill>
                <a:latin typeface="Times New Roman"/>
              </a:rPr>
              <a:t>КК</a:t>
            </a:r>
            <a:r>
              <a:rPr b="1" lang="ru-RU" sz="2200" spc="-1" strike="noStrike" baseline="-25000">
                <a:solidFill>
                  <a:srgbClr val="009900"/>
                </a:solidFill>
                <a:latin typeface="Times New Roman"/>
              </a:rPr>
              <a:t>1</a:t>
            </a:r>
            <a:r>
              <a:rPr b="1" lang="ru-RU" sz="2200" spc="-1" strike="noStrike">
                <a:solidFill>
                  <a:srgbClr val="009900"/>
                </a:solidFill>
                <a:latin typeface="Times New Roman"/>
              </a:rPr>
              <a:t> =</a:t>
            </a: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 h</a:t>
            </a:r>
            <a:r>
              <a:rPr b="1" lang="ru-RU" sz="2200" spc="-1" strike="noStrike">
                <a:solidFill>
                  <a:srgbClr val="009900"/>
                </a:solidFill>
                <a:latin typeface="Times New Roman"/>
              </a:rPr>
              <a:t> – апофема </a:t>
            </a: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9900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5651640" y="2637000"/>
            <a:ext cx="1441440" cy="4554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7451640" y="2641680"/>
            <a:ext cx="1405080" cy="4446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5508720" y="3213000"/>
            <a:ext cx="1728720" cy="7956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7380360" y="3220920"/>
            <a:ext cx="1619280" cy="77796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5867280" y="4149720"/>
                <a:ext cx="280836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6046920" y="4941720"/>
                <a:ext cx="244764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83" name="" descr=""/>
          <p:cNvPicPr/>
          <p:nvPr/>
        </p:nvPicPr>
        <p:blipFill>
          <a:blip r:embed="rId6"/>
          <a:stretch/>
        </p:blipFill>
        <p:spPr>
          <a:xfrm>
            <a:off x="990360" y="4114440"/>
            <a:ext cx="2971800" cy="1981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179280" y="5805360"/>
                <a:ext cx="4608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4859280" y="5816520"/>
                <a:ext cx="4103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86" name="" descr=""/>
          <p:cNvPicPr/>
          <p:nvPr/>
        </p:nvPicPr>
        <p:blipFill>
          <a:blip r:embed="rId7"/>
          <a:srcRect l="12598" t="15722" r="6693" b="9433"/>
          <a:stretch/>
        </p:blipFill>
        <p:spPr>
          <a:xfrm>
            <a:off x="179280" y="1406520"/>
            <a:ext cx="5181840" cy="42210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sp>
        <p:nvSpPr>
          <p:cNvPr id="287" name=""/>
          <p:cNvSpPr/>
          <p:nvPr/>
        </p:nvSpPr>
        <p:spPr>
          <a:xfrm>
            <a:off x="254160" y="4572000"/>
            <a:ext cx="888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60680" y="5232240"/>
            <a:ext cx="591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141560" y="2197080"/>
            <a:ext cx="666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22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89320" y="1341360"/>
            <a:ext cx="5176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B</a:t>
            </a:r>
            <a:r>
              <a:rPr b="1" lang="en-US" sz="22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660680" y="2593800"/>
            <a:ext cx="666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C</a:t>
            </a:r>
            <a:r>
              <a:rPr b="1" lang="en-US" sz="22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178000" y="4241880"/>
            <a:ext cx="5176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en-US" sz="22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327400" y="2265480"/>
            <a:ext cx="591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00480" y="3121200"/>
            <a:ext cx="591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89320" y="3978360"/>
            <a:ext cx="5191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K</a:t>
            </a:r>
            <a:r>
              <a:rPr b="1" lang="en-US" sz="2200" spc="-1" strike="noStrike" baseline="-25000">
                <a:solidFill>
                  <a:srgbClr val="0099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770200" y="2131920"/>
            <a:ext cx="66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065400" y="2987640"/>
            <a:ext cx="446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916520" y="2727360"/>
            <a:ext cx="592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195640" y="177336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332000" y="378936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2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2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2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2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6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2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2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4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0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8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5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2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8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9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6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3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79280" y="260280"/>
            <a:ext cx="871380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Правильная 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четырехугольная</a:t>
            </a: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 усеченная пирамида –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боковые грани – 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Times New Roman"/>
              </a:rPr>
              <a:t>равные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 между собой 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Times New Roman"/>
              </a:rPr>
              <a:t>равнобокие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 трапеци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64000" y="1125360"/>
            <a:ext cx="3780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ABCD 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и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 A</a:t>
            </a:r>
            <a:r>
              <a:rPr b="1" lang="en-US" sz="20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B</a:t>
            </a:r>
            <a:r>
              <a:rPr b="1" lang="en-US" sz="20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C</a:t>
            </a:r>
            <a:r>
              <a:rPr b="1" lang="en-US" sz="20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D</a:t>
            </a:r>
            <a:r>
              <a:rPr b="1" lang="en-US" sz="20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 – 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квадра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OO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= H –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ысот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KK</a:t>
            </a:r>
            <a:r>
              <a:rPr b="1" lang="en-US" sz="2000" spc="-1" strike="noStrike" baseline="-25000">
                <a:solidFill>
                  <a:srgbClr val="0099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 = h – </a:t>
            </a: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апофем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27870" t="15489" r="48465" b="37175"/>
          <a:stretch/>
        </p:blipFill>
        <p:spPr>
          <a:xfrm>
            <a:off x="179280" y="1341360"/>
            <a:ext cx="5058000" cy="410364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sp>
        <p:nvSpPr>
          <p:cNvPr id="304" name=""/>
          <p:cNvSpPr/>
          <p:nvPr/>
        </p:nvSpPr>
        <p:spPr>
          <a:xfrm>
            <a:off x="1403280" y="1865160"/>
            <a:ext cx="719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22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50920" y="4865760"/>
            <a:ext cx="43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547640" y="3367080"/>
            <a:ext cx="43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88000" y="3441600"/>
            <a:ext cx="57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19640" y="4865760"/>
            <a:ext cx="43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979640" y="1341360"/>
            <a:ext cx="576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B</a:t>
            </a:r>
            <a:r>
              <a:rPr b="1" lang="en-US" sz="22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564000" y="1492200"/>
            <a:ext cx="503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C</a:t>
            </a:r>
            <a:r>
              <a:rPr b="1" lang="en-US" sz="22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987640" y="2092320"/>
            <a:ext cx="647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D</a:t>
            </a:r>
            <a:r>
              <a:rPr b="1" lang="en-US" sz="22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411280" y="4340160"/>
            <a:ext cx="64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556000" y="1341360"/>
            <a:ext cx="647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en-US" sz="22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68360" y="299088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140360" y="4192560"/>
            <a:ext cx="57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76720" y="1865160"/>
            <a:ext cx="57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K</a:t>
            </a:r>
            <a:r>
              <a:rPr b="1" lang="en-US" sz="2200" spc="-1" strike="noStrike" baseline="-25000">
                <a:solidFill>
                  <a:srgbClr val="0099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635280" y="2841480"/>
            <a:ext cx="64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63640" y="1641600"/>
            <a:ext cx="72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42920" y="389088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5508720" y="2565360"/>
                <a:ext cx="15843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7451640" y="2576520"/>
                <a:ext cx="15112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5724360" y="3213000"/>
                <a:ext cx="1152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7667640" y="3213000"/>
                <a:ext cx="115236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796000" y="3789360"/>
                <a:ext cx="280836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977080" y="4581360"/>
                <a:ext cx="24476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5508720" y="5157720"/>
                <a:ext cx="33843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68360" y="5805360"/>
                <a:ext cx="381636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4859280" y="5810400"/>
                <a:ext cx="32418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diamond/>
  </p:transition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2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2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03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08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1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2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2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2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3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4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20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20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5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5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5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3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4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0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1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7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8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4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5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1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2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8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9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5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6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2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3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9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0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042920" y="333360"/>
            <a:ext cx="662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cccc00"/>
                    </a:gs>
                  </a:gsLst>
                  <a:lin ang="5400000"/>
                </a:gradFill>
                <a:latin typeface="Times New Roman"/>
              </a:rPr>
              <a:t>Параллелепипед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ccc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92720" y="1341360"/>
            <a:ext cx="36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132000" y="1195920"/>
            <a:ext cx="1081080" cy="650160"/>
            <a:chOff x="3132000" y="1195920"/>
            <a:chExt cx="1081080" cy="650160"/>
          </a:xfrm>
        </p:grpSpPr>
        <p:sp>
          <p:nvSpPr>
            <p:cNvPr id="89" name=""/>
            <p:cNvSpPr/>
            <p:nvPr/>
          </p:nvSpPr>
          <p:spPr>
            <a:xfrm>
              <a:off x="3492360" y="11959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||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3132000" y="1269720"/>
              <a:ext cx="1081080" cy="576360"/>
              <a:chOff x="3132000" y="1269720"/>
              <a:chExt cx="1081080" cy="576360"/>
            </a:xfrm>
          </p:grpSpPr>
          <mc:AlternateContent>
            <mc:Choice xmlns:a14="http://schemas.microsoft.com/office/drawing/2010/main" Requires="a14">
              <p:sp>
                <p:nvSpPr>
                  <p:cNvPr id="91" name=""/>
                  <p:cNvSpPr txBox="1"/>
                  <p:nvPr/>
                </p:nvSpPr>
                <p:spPr>
                  <a:xfrm>
                    <a:off x="3132000" y="1360440"/>
                    <a:ext cx="431640" cy="395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2" name=""/>
                  <p:cNvSpPr txBox="1"/>
                  <p:nvPr/>
                </p:nvSpPr>
                <p:spPr>
                  <a:xfrm>
                    <a:off x="3779640" y="1269720"/>
                    <a:ext cx="433440" cy="576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β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93" name=""/>
          <p:cNvSpPr/>
          <p:nvPr/>
        </p:nvSpPr>
        <p:spPr>
          <a:xfrm>
            <a:off x="5219640" y="1197000"/>
            <a:ext cx="3673440" cy="30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АВС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вные параллелограммы –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основания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АА</a:t>
            </a:r>
            <a:r>
              <a:rPr b="1" lang="ru-RU" sz="1800" spc="-1" strike="noStrike" baseline="-25000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|| ВВ</a:t>
            </a:r>
            <a:r>
              <a:rPr b="1" lang="ru-RU" sz="1800" spc="-1" strike="noStrike" baseline="-25000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|| СС</a:t>
            </a:r>
            <a:r>
              <a:rPr b="1" lang="ru-RU" sz="1800" spc="-1" strike="noStrike" baseline="-25000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||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 DD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 – боковые ребра</a:t>
            </a:r>
            <a:r>
              <a:rPr b="1" lang="ru-RU" sz="1800" spc="-1" strike="noStrike" baseline="-25000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се грани параллелограм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AA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B; BB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C; CC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D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D; AA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D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D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 – боковые гра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DB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ru-RU" sz="18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– диагонал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03640" y="4076640"/>
            <a:ext cx="3961080" cy="28486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вой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Противолежащие грани параллелепипеда  параллельны и равны.   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 Диагонали параллелепипеда пересекаются в одной точке и точкой пересечения делятся попол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rcRect l="23075" t="3088" r="38193" b="24702"/>
          <a:stretch/>
        </p:blipFill>
        <p:spPr>
          <a:xfrm>
            <a:off x="179280" y="1916280"/>
            <a:ext cx="4753080" cy="4679640"/>
          </a:xfrm>
          <a:prstGeom prst="rect">
            <a:avLst/>
          </a:prstGeom>
          <a:ln w="12600">
            <a:solidFill>
              <a:srgbClr val="008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273560" y="3057480"/>
                <a:ext cx="3445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997440" y="4821120"/>
                <a:ext cx="41256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357120" y="540864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51000" y="457056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05000" y="47386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11480" y="5661000"/>
            <a:ext cx="8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0200" y="3225960"/>
            <a:ext cx="961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2387520"/>
            <a:ext cx="1100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В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92360" y="2492280"/>
            <a:ext cx="75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С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20880" y="3425760"/>
            <a:ext cx="1236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1979640" y="2852640"/>
            <a:ext cx="288720" cy="2881440"/>
          </a:xfrm>
          <a:prstGeom prst="line">
            <a:avLst/>
          </a:prstGeom>
          <a:ln w="1908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95280" y="333360"/>
            <a:ext cx="8137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cccc00"/>
                    </a:gs>
                  </a:gsLst>
                  <a:lin ang="5400000"/>
                </a:gradFill>
                <a:latin typeface="Times New Roman"/>
              </a:rPr>
              <a:t>Прямой параллелепипе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ccc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12536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–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это параллелепипед, у которого боковые грани являются прямоугольник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rcRect l="13277" t="12392" r="77997" b="12392"/>
          <a:stretch/>
        </p:blipFill>
        <p:spPr>
          <a:xfrm>
            <a:off x="250920" y="2133720"/>
            <a:ext cx="3786120" cy="43704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468360" y="595008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87280" y="537372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48000" y="5445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27280" y="60213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285264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16000" y="220500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48000" y="2276640"/>
            <a:ext cx="100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С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27280" y="2924280"/>
            <a:ext cx="79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47640" y="6093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87640" y="580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48000" y="371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427640" y="2276640"/>
                <a:ext cx="40320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аркас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500720" y="3357720"/>
                <a:ext cx="3887640" cy="79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464000" y="4581360"/>
                <a:ext cx="39592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183280" y="5734080"/>
                <a:ext cx="25192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diamond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900"/>
                            </p:stCondLst>
                            <p:childTnLst>
                              <p:par>
                                <p:cTn id="129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34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44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4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64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74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84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79280" y="404640"/>
            <a:ext cx="8713800" cy="92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cccc00"/>
                    </a:gs>
                  </a:gsLst>
                  <a:lin ang="5400000"/>
                </a:gradFill>
                <a:latin typeface="Times New Roman"/>
              </a:rPr>
              <a:t>Прямоугольный параллелепипе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ccc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148428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– 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это параллелепипед, у которого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все грани прямоугольники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13277" t="12392" r="77997" b="12392"/>
          <a:stretch/>
        </p:blipFill>
        <p:spPr>
          <a:xfrm>
            <a:off x="250920" y="2133720"/>
            <a:ext cx="3494160" cy="40320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1476360" y="5734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71640" y="5516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32000" y="3429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205000"/>
            <a:ext cx="482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a </a:t>
            </a: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длина,</a:t>
            </a: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– ширина,</a:t>
            </a: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с – высота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d – </a:t>
            </a:r>
            <a:r>
              <a:rPr b="1" lang="ru-RU" sz="2800" spc="-1" strike="noStrike">
                <a:solidFill>
                  <a:srgbClr val="d60093"/>
                </a:solidFill>
                <a:latin typeface="Times New Roman"/>
              </a:rPr>
              <a:t>диагона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1476000" y="2565360"/>
            <a:ext cx="934920" cy="3240000"/>
          </a:xfrm>
          <a:prstGeom prst="line">
            <a:avLst/>
          </a:prstGeom>
          <a:ln w="19080">
            <a:solidFill>
              <a:srgbClr val="d6009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08000" y="37162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16360" y="3716280"/>
            <a:ext cx="3095640" cy="581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d</a:t>
            </a:r>
            <a:r>
              <a:rPr b="1" lang="en-US" sz="3200" spc="-1" strike="noStrike" baseline="30000">
                <a:solidFill>
                  <a:srgbClr val="d60093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= a</a:t>
            </a:r>
            <a:r>
              <a:rPr b="1" lang="en-US" sz="3200" spc="-1" strike="noStrike" baseline="30000">
                <a:solidFill>
                  <a:srgbClr val="d60093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 + b</a:t>
            </a:r>
            <a:r>
              <a:rPr b="1" lang="en-US" sz="3200" spc="-1" strike="noStrike" baseline="30000">
                <a:solidFill>
                  <a:srgbClr val="d60093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 + c</a:t>
            </a:r>
            <a:r>
              <a:rPr b="1" lang="en-US" sz="3200" spc="-1" strike="noStrike" baseline="30000">
                <a:solidFill>
                  <a:srgbClr val="d6009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140360" y="4653000"/>
                <a:ext cx="45370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003640" y="5734080"/>
                <a:ext cx="244800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diamond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9500"/>
                            </p:stCondLst>
                            <p:childTnLst>
                              <p:par>
                                <p:cTn id="223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8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9640" y="549360"/>
            <a:ext cx="292896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cccc00"/>
                    </a:gs>
                  </a:gsLst>
                  <a:lin ang="5400000"/>
                </a:gradFill>
                <a:latin typeface="Times New Roman"/>
              </a:rPr>
              <a:t>Приз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ccc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08360" y="1052640"/>
            <a:ext cx="51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08360" y="692280"/>
            <a:ext cx="518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00"/>
                </a:solidFill>
                <a:latin typeface="Times New Roman"/>
              </a:rPr>
              <a:t>: основания – равные </a:t>
            </a: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n</a:t>
            </a:r>
            <a:r>
              <a:rPr b="1" lang="ru-RU" sz="2200" spc="-1" strike="noStrike">
                <a:solidFill>
                  <a:srgbClr val="003300"/>
                </a:solidFill>
                <a:latin typeface="Times New Roman"/>
              </a:rPr>
              <a:t> – угольники, лежащие в параллельных плоскостях, боковые грани – параллелограммы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184464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Наклонная – боковые грани – параллелограммы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rcRect l="12363" t="3088" r="42388" b="15439"/>
          <a:stretch/>
        </p:blipFill>
        <p:spPr>
          <a:xfrm>
            <a:off x="324000" y="2492280"/>
            <a:ext cx="3916080" cy="40338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684360" y="3213000"/>
            <a:ext cx="122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16000" y="5300640"/>
            <a:ext cx="792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5373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3933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4437000"/>
            <a:ext cx="64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87280" y="3789360"/>
            <a:ext cx="86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59280" y="386064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35280" y="436572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84360" y="494172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27640" y="2276640"/>
            <a:ext cx="4716360" cy="18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HH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ru-RU" sz="2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– высота призм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AH </a:t>
            </a:r>
            <a:r>
              <a:rPr b="1" lang="ru-RU" sz="2200" spc="-1" strike="noStrike">
                <a:solidFill>
                  <a:srgbClr val="0099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k</a:t>
            </a:r>
            <a:r>
              <a:rPr b="1" lang="ru-RU" sz="2200" spc="-1" strike="noStrike">
                <a:solidFill>
                  <a:srgbClr val="0099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 – </a:t>
            </a:r>
            <a:r>
              <a:rPr b="1" lang="ru-RU" sz="2200" spc="-1" strike="noStrike">
                <a:solidFill>
                  <a:srgbClr val="009900"/>
                </a:solidFill>
                <a:latin typeface="Times New Roman"/>
              </a:rPr>
              <a:t>боковое ребро призм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FMNPD</a:t>
            </a: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 – сечение, перпендикулярное боковому ребр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292720" y="4149720"/>
                <a:ext cx="24480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еч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859280" y="5013360"/>
                <a:ext cx="33847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489640" y="5877000"/>
                <a:ext cx="20541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еч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diamond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68360" y="47628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Прямая призма – боковые грани – прямоугольни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68360" y="5877000"/>
                <a:ext cx="259236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308720" y="2565360"/>
                <a:ext cx="147492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 txBox="1"/>
          <p:nvPr/>
        </p:nvSpPr>
        <p:spPr>
          <a:xfrm>
            <a:off x="4140360" y="1125360"/>
            <a:ext cx="1512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cccc00"/>
                    </a:gs>
                  </a:gsLst>
                  <a:lin ang="5400000"/>
                </a:gradFill>
                <a:latin typeface="Times New Roman"/>
              </a:rPr>
              <a:t>Ку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ccc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rcRect l="23005" t="0" r="54130" b="24783"/>
          <a:stretch/>
        </p:blipFill>
        <p:spPr>
          <a:xfrm>
            <a:off x="3708360" y="1989000"/>
            <a:ext cx="3168720" cy="26640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4500720" y="429408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40360" y="400536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588000" y="270972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5003280" y="2061720"/>
            <a:ext cx="505080" cy="2303640"/>
          </a:xfrm>
          <a:prstGeom prst="line">
            <a:avLst/>
          </a:prstGeom>
          <a:ln w="1260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19640" y="2852640"/>
            <a:ext cx="86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5184720" y="5877000"/>
                <a:ext cx="230508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7093080" y="3789360"/>
                <a:ext cx="19080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076720" y="5013360"/>
                <a:ext cx="25210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аркаса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720720" y="4941720"/>
                <a:ext cx="20876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940360" y="1197000"/>
            <a:ext cx="2916360" cy="429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все грани - квадрат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24000" y="1197000"/>
            <a:ext cx="3168360" cy="3456000"/>
            <a:chOff x="324000" y="1197000"/>
            <a:chExt cx="3168360" cy="3456000"/>
          </a:xfrm>
        </p:grpSpPr>
        <p:pic>
          <p:nvPicPr>
            <p:cNvPr id="171" name="" descr=""/>
            <p:cNvPicPr/>
            <p:nvPr/>
          </p:nvPicPr>
          <p:blipFill>
            <a:blip r:embed="rId3"/>
            <a:srcRect l="31430" t="6289" r="13751" b="0"/>
            <a:stretch/>
          </p:blipFill>
          <p:spPr>
            <a:xfrm>
              <a:off x="324000" y="1197000"/>
              <a:ext cx="3168360" cy="3456000"/>
            </a:xfrm>
            <a:prstGeom prst="rect">
              <a:avLst/>
            </a:prstGeom>
            <a:ln w="9360">
              <a:solidFill>
                <a:srgbClr val="009900"/>
              </a:solidFill>
              <a:miter/>
            </a:ln>
          </p:spPr>
        </p:pic>
        <p:sp>
          <p:nvSpPr>
            <p:cNvPr id="172" name=""/>
            <p:cNvSpPr/>
            <p:nvPr/>
          </p:nvSpPr>
          <p:spPr>
            <a:xfrm>
              <a:off x="1619280" y="4221000"/>
              <a:ext cx="3240" cy="198720"/>
            </a:xfrm>
            <a:prstGeom prst="line">
              <a:avLst/>
            </a:prstGeom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32000" y="4221000"/>
              <a:ext cx="0" cy="209880"/>
            </a:xfrm>
            <a:prstGeom prst="line">
              <a:avLst/>
            </a:prstGeom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76360" y="436572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32000" y="4221000"/>
              <a:ext cx="144360" cy="73080"/>
            </a:xfrm>
            <a:prstGeom prst="line">
              <a:avLst/>
            </a:prstGeom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1476360" y="4220640"/>
              <a:ext cx="142920" cy="71640"/>
            </a:xfrm>
            <a:prstGeom prst="line">
              <a:avLst/>
            </a:prstGeom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476360" y="3213000"/>
            <a:ext cx="687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79280" y="404640"/>
            <a:ext cx="381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cccc00"/>
                    </a:gs>
                  </a:gsLst>
                  <a:lin ang="5400000"/>
                </a:gradFill>
                <a:latin typeface="Times New Roman"/>
              </a:rPr>
              <a:t>Пирами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ccc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11640" y="549360"/>
            <a:ext cx="475308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00"/>
                </a:solidFill>
                <a:latin typeface="Times New Roman"/>
              </a:rPr>
              <a:t>– </a:t>
            </a:r>
            <a:r>
              <a:rPr b="1" lang="ru-RU" sz="2200" spc="-1" strike="noStrike">
                <a:solidFill>
                  <a:srgbClr val="003300"/>
                </a:solidFill>
                <a:latin typeface="Times New Roman"/>
              </a:rPr>
              <a:t>это многогранник, состоящий из </a:t>
            </a: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n</a:t>
            </a:r>
            <a:r>
              <a:rPr b="1" lang="ru-RU" sz="2200" spc="-1" strike="noStrike">
                <a:solidFill>
                  <a:srgbClr val="003300"/>
                </a:solidFill>
                <a:latin typeface="Times New Roman"/>
              </a:rPr>
              <a:t>-угольника </a:t>
            </a: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ru-RU" sz="22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ru-RU" sz="22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ru-RU" sz="2200" spc="-1" strike="noStrike" baseline="-25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...А</a:t>
            </a:r>
            <a:r>
              <a:rPr b="1" lang="en-US" sz="22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ru-RU" sz="2200" spc="-1" strike="noStrike">
                <a:solidFill>
                  <a:srgbClr val="003300"/>
                </a:solidFill>
                <a:latin typeface="Times New Roman"/>
              </a:rPr>
              <a:t> (</a:t>
            </a: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основание</a:t>
            </a:r>
            <a:r>
              <a:rPr b="1" lang="ru-RU" sz="2200" spc="-1" strike="noStrike">
                <a:solidFill>
                  <a:srgbClr val="003300"/>
                </a:solidFill>
                <a:latin typeface="Times New Roman"/>
              </a:rPr>
              <a:t>) и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ru-RU" sz="2200" spc="-1" strike="noStrike">
                <a:solidFill>
                  <a:srgbClr val="003300"/>
                </a:solidFill>
                <a:latin typeface="Times New Roman"/>
              </a:rPr>
              <a:t> треугольников (</a:t>
            </a: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боковые грани</a:t>
            </a:r>
            <a:r>
              <a:rPr b="1" lang="ru-RU" sz="2200" spc="-1" strike="noStrike">
                <a:solidFill>
                  <a:srgbClr val="003300"/>
                </a:solidFill>
                <a:latin typeface="Times New Roman"/>
              </a:rPr>
              <a:t>), имеющих общую вершину (</a:t>
            </a: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Р</a:t>
            </a:r>
            <a:r>
              <a:rPr b="1" lang="ru-RU" sz="2200" spc="-1" strike="noStrike">
                <a:solidFill>
                  <a:srgbClr val="003300"/>
                </a:solidFill>
                <a:latin typeface="Times New Roman"/>
              </a:rPr>
              <a:t>)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rcRect l="11801" t="16113" r="29981" b="16113"/>
          <a:stretch/>
        </p:blipFill>
        <p:spPr>
          <a:xfrm>
            <a:off x="250920" y="2374920"/>
            <a:ext cx="5616360" cy="429408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sp>
        <p:nvSpPr>
          <p:cNvPr id="181" name=""/>
          <p:cNvSpPr/>
          <p:nvPr/>
        </p:nvSpPr>
        <p:spPr>
          <a:xfrm>
            <a:off x="2484360" y="2421000"/>
            <a:ext cx="86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Р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4000" y="5300640"/>
            <a:ext cx="647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en-US" sz="22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47640" y="4437000"/>
            <a:ext cx="792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en-US" sz="22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4000" y="4221000"/>
            <a:ext cx="1079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en-US" sz="2200" spc="-1" strike="noStrike" baseline="-25000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916360" y="5877000"/>
            <a:ext cx="936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en-US" sz="22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95640" y="515772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40360" y="2421000"/>
            <a:ext cx="2952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12000" y="2349360"/>
            <a:ext cx="28810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РА</a:t>
            </a:r>
            <a:r>
              <a:rPr b="1" lang="ru-RU" sz="22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; РА</a:t>
            </a:r>
            <a:r>
              <a:rPr b="1" lang="ru-RU" sz="2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; РА</a:t>
            </a:r>
            <a:r>
              <a:rPr b="1" lang="ru-RU" sz="22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; ... ; РА</a:t>
            </a:r>
            <a:r>
              <a:rPr b="1" lang="en-US" sz="2200" spc="-1" strike="noStrike" baseline="-25000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 – </a:t>
            </a: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боковые ребр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ru-RU" sz="22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ru-RU" sz="22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; ... ;А</a:t>
            </a:r>
            <a:r>
              <a:rPr b="1" lang="ru-RU" sz="22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en-US" sz="22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 – </a:t>
            </a: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ребра основан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9900"/>
                </a:solidFill>
                <a:latin typeface="Times New Roman"/>
              </a:rPr>
              <a:t>Р</a:t>
            </a: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H</a:t>
            </a:r>
            <a:r>
              <a:rPr b="1" lang="ru-RU" sz="2200" spc="-1" strike="noStrike">
                <a:solidFill>
                  <a:srgbClr val="009900"/>
                </a:solidFill>
                <a:latin typeface="Times New Roman"/>
              </a:rPr>
              <a:t> – высота пирамиды - </a:t>
            </a: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003640" y="4437000"/>
                <a:ext cx="36036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6300720" y="5013360"/>
                <a:ext cx="259236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659640" y="5734080"/>
                <a:ext cx="187308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2411280" y="407664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539640" y="333360"/>
            <a:ext cx="792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cccc00"/>
                    </a:gs>
                  </a:gsLst>
                  <a:lin ang="5400000"/>
                </a:gradFill>
                <a:latin typeface="Times New Roman"/>
              </a:rPr>
              <a:t>Правильная пирами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ccc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" y="1197000"/>
            <a:ext cx="8423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3300"/>
                </a:solidFill>
                <a:latin typeface="Times New Roman"/>
              </a:rPr>
              <a:t>основание – правильный многоугольник, вершина проецируется в центр основан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3300"/>
                </a:solidFill>
                <a:latin typeface="Times New Roman"/>
              </a:rPr>
              <a:t>боковые ребра – равны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3300"/>
                </a:solidFill>
                <a:latin typeface="Times New Roman"/>
              </a:rPr>
              <a:t>боковые грани – равные равнобедренные треугольник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43280" y="2997360"/>
            <a:ext cx="18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 – высота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32720" y="2997360"/>
            <a:ext cx="241128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h – </a:t>
            </a:r>
            <a:r>
              <a:rPr b="1" lang="ru-RU" sz="2200" spc="-1" strike="noStrike">
                <a:solidFill>
                  <a:srgbClr val="009900"/>
                </a:solidFill>
                <a:latin typeface="Times New Roman"/>
              </a:rPr>
              <a:t>апофема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08720" y="3645000"/>
            <a:ext cx="2520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rcRect l="11786" t="0" r="44396" b="35207"/>
          <a:stretch/>
        </p:blipFill>
        <p:spPr>
          <a:xfrm>
            <a:off x="324000" y="3079800"/>
            <a:ext cx="4014720" cy="35892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340000" y="479736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58920" y="537372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5508720" y="3500280"/>
                <a:ext cx="252072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5724360" y="5589720"/>
                <a:ext cx="208944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219640" y="4724280"/>
                <a:ext cx="30956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slow">
    <p:diamond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324000" y="1197000"/>
            <a:ext cx="4968720" cy="5040360"/>
            <a:chOff x="324000" y="1197000"/>
            <a:chExt cx="4968720" cy="5040360"/>
          </a:xfrm>
        </p:grpSpPr>
        <p:pic>
          <p:nvPicPr>
            <p:cNvPr id="205" name="" descr=""/>
            <p:cNvPicPr/>
            <p:nvPr/>
          </p:nvPicPr>
          <p:blipFill>
            <a:blip r:embed="rId2"/>
            <a:srcRect l="11811" t="3144" r="7874" b="9433"/>
            <a:stretch/>
          </p:blipFill>
          <p:spPr>
            <a:xfrm>
              <a:off x="324000" y="1197000"/>
              <a:ext cx="4968720" cy="5040360"/>
            </a:xfrm>
            <a:prstGeom prst="rect">
              <a:avLst/>
            </a:prstGeom>
            <a:ln w="9360">
              <a:solidFill>
                <a:srgbClr val="009900"/>
              </a:solidFill>
              <a:miter/>
            </a:ln>
          </p:spPr>
        </p:pic>
        <p:sp>
          <p:nvSpPr>
            <p:cNvPr id="206" name=""/>
            <p:cNvSpPr/>
            <p:nvPr/>
          </p:nvSpPr>
          <p:spPr>
            <a:xfrm flipV="1">
              <a:off x="3348000" y="4294080"/>
              <a:ext cx="144360" cy="144720"/>
            </a:xfrm>
            <a:prstGeom prst="line">
              <a:avLst/>
            </a:prstGeom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3492000" y="4294080"/>
              <a:ext cx="71640" cy="216000"/>
            </a:xfrm>
            <a:prstGeom prst="line">
              <a:avLst/>
            </a:prstGeom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7524720" y="2206800"/>
                <a:ext cx="144000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O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435640" y="2205000"/>
                <a:ext cx="14414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O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346800" y="3141720"/>
                <a:ext cx="1727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5942160" y="1452960"/>
            <a:ext cx="239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AB = BC = AC =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26028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Правильная треугольная пирамид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80000" y="836640"/>
            <a:ext cx="201636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 – высота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236000" y="836640"/>
            <a:ext cx="1908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h – </a:t>
            </a:r>
            <a:r>
              <a:rPr b="1" lang="ru-RU" sz="2200" spc="-1" strike="noStrike">
                <a:solidFill>
                  <a:srgbClr val="009900"/>
                </a:solidFill>
                <a:latin typeface="Times New Roman"/>
              </a:rPr>
              <a:t>апофема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724360" y="4292640"/>
                <a:ext cx="297180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130800" y="5516640"/>
                <a:ext cx="21592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395280" y="522936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411280" y="4797360"/>
            <a:ext cx="64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32360" y="3284640"/>
            <a:ext cx="3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835280" y="580536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87640" y="299736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24000" y="350028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24000" y="1197000"/>
            <a:ext cx="107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92360" y="4508640"/>
            <a:ext cx="72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71640" y="551664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2T08:23:50Z</dcterms:created>
  <dc:creator>Администратор</dc:creator>
  <dc:description/>
  <dc:language>en-US</dc:language>
  <cp:lastModifiedBy>Анна</cp:lastModifiedBy>
  <dcterms:modified xsi:type="dcterms:W3CDTF">2010-04-09T19:22:24Z</dcterms:modified>
  <cp:revision>52</cp:revision>
  <dc:subject/>
  <dc:title>Слайд 1</dc:title>
</cp:coreProperties>
</file>