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3789-EBAD-45A5-918D-B0B433F5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412E-DFC8-4E0F-913A-DAD964AC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93DC-F667-48C3-B378-6E60B67D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D319-76C8-4659-BA62-C975E9B1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9BE-608B-40B9-A382-1559EF9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7260-84EB-4829-9FF9-72FE76F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050-6D2C-4EE5-B558-F16D204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27F-060C-4EB4-8FB8-886861A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4A7F-61EF-43ED-BA5F-6442C44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6847-AF39-421D-A47E-11B55283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A71E-481D-47AC-AA65-8D3769C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1DB8-7993-4838-8DF2-70CEC51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6988-F1D8-4105-AD1C-A1B718B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2469-1F34-49D6-9E85-A2073B1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C279-F34E-4F73-B11C-F84E1DDD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4E42-54A2-4D5D-AD06-C707F783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84EC-832A-4F6A-BBFD-7FBF8628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BB65-D3A6-4BCE-8745-88CF3465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9F56-6518-4E22-B064-8C8BF6DF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4BD1-CEE9-4E8B-BAA9-CB85B413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E4B3-82D8-4AB5-967B-D529FA3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CF1A-D19C-4B27-B20C-7EE6500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9438-4912-4372-9B3E-AEA4D141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5570-553C-4F19-B017-2167567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132-F7DA-4649-A013-FD97DB946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7171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4d4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b6b6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6464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4949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d8d8d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ccccc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5c5c5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7b7b7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68686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0b0b0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b5b5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9A9-E660-49A0-B01C-262F2EA0D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585160" y="137880"/>
            <a:ext cx="645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е треугольника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                      - теорема косину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                         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и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вписа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                             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         (если треугольник правильны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6324480" y="533520"/>
                <a:ext cx="14097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5029200" y="838080"/>
                <a:ext cx="15336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181480" y="1143000"/>
                <a:ext cx="130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191120" y="1523880"/>
                <a:ext cx="1704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3352680" y="2057400"/>
                <a:ext cx="600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038480" y="2057400"/>
                <a:ext cx="561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019920" y="2895480"/>
                <a:ext cx="71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6858000" y="2895480"/>
                <a:ext cx="612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6019920" y="3200400"/>
                <a:ext cx="981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692600" y="3505320"/>
                <a:ext cx="17874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62920" y="3429000"/>
                <a:ext cx="847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943600" y="3733920"/>
                <a:ext cx="647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29400" y="3733920"/>
                <a:ext cx="638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733920" y="3962520"/>
                <a:ext cx="7524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324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505320" y="710280"/>
            <a:ext cx="516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войства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– точка пересечения меди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диана к сто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любом треугольнике медиана делит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ва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вновели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.е треугольники площади которых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477120" y="1295280"/>
                <a:ext cx="1209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105520" y="1752480"/>
                <a:ext cx="809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019920" y="1752480"/>
                <a:ext cx="828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800600" y="213372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7162920" y="22096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315200" y="2057400"/>
                <a:ext cx="1460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8001000" y="4267080"/>
                <a:ext cx="809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3114720" cy="19432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3695760" cy="16286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191120" y="152280"/>
            <a:ext cx="37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ойства медиан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48320" y="205776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ссектрисы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Точка пересечения биссектрис треугольника является 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Биссектриса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сторону на ч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ональные двум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енным стор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35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иссектриса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219320" y="4572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иссектрисы треугольника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85800" y="1755720"/>
            <a:ext cx="3733920" cy="30862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4800600"/>
                <a:ext cx="16765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267080" y="1330200"/>
            <a:ext cx="4343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обные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рямая параллельная стороне треугольника, отсекает от него треугольник, подобный дан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ходственные стороны лежат против 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 подобных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ссектриса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105520" y="2590920"/>
                <a:ext cx="6188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867280" y="2514600"/>
                <a:ext cx="1400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952880" y="3048120"/>
                <a:ext cx="9622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MN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019920" y="2895480"/>
                <a:ext cx="685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6781680" y="2895480"/>
                <a:ext cx="6192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867280" y="3886200"/>
                <a:ext cx="110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105520" y="5029200"/>
                <a:ext cx="10382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A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6705720" y="4876920"/>
                <a:ext cx="771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 txBox="1"/>
          <p:nvPr/>
        </p:nvSpPr>
        <p:spPr>
          <a:xfrm>
            <a:off x="160020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обные треугольники.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52680" cy="17049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133720" cy="2070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860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743200" y="1357200"/>
            <a:ext cx="60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равнобедренного треугольникаравно30 см, а высота, проведённая из вершины основания 24 см. 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     прямоугольный, т.к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и медиана равнобедренного треугольника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ямоугольные с общим остр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248520" y="2438280"/>
                <a:ext cx="2438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791320" y="2819520"/>
                <a:ext cx="5238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CH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505320" y="3048120"/>
                <a:ext cx="55148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200400" y="3352680"/>
                <a:ext cx="447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7658280" y="3581280"/>
                <a:ext cx="1485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5867280" y="3886200"/>
                <a:ext cx="9525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HC</m:t>
                    </m:r>
                    <m:r>
                      <m:t xml:space="preserve">∞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6095880" y="4495680"/>
                <a:ext cx="2764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6095880" y="4648320"/>
                <a:ext cx="26193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867280" y="5029200"/>
                <a:ext cx="2009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5880" y="5257800"/>
                <a:ext cx="4953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695680" cy="213372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3352680" y="1522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и!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191120" y="34200"/>
            <a:ext cx="4784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теореме косину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ронний корень, т.е. не удовлетворяет смыслу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=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6705720" y="3808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6934320" y="9144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6858000" y="1219320"/>
                <a:ext cx="685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7620120" y="1219320"/>
                <a:ext cx="5619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8277120" y="1219320"/>
                <a:ext cx="866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7086600" y="1371600"/>
                <a:ext cx="1560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5867280" y="1676520"/>
                <a:ext cx="1952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334120" y="2286000"/>
                <a:ext cx="252396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=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χ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χ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495680" y="4495680"/>
                <a:ext cx="524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934320" y="4952880"/>
                <a:ext cx="1038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952880" y="5257800"/>
                <a:ext cx="2257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6905520" y="5715000"/>
                <a:ext cx="2238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57200" y="1173240"/>
            <a:ext cx="38862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039200" y="951120"/>
            <a:ext cx="498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площадь треугольника, 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меди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знач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а дел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ва равнобедр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5181480" y="1600200"/>
                <a:ext cx="749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419720" y="1600200"/>
                <a:ext cx="72072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7162920" y="1600200"/>
                <a:ext cx="6001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315200" y="2133720"/>
                <a:ext cx="42876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6934320" y="28954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858000" y="3200400"/>
                <a:ext cx="866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4038480" y="3657600"/>
                <a:ext cx="2562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B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048200" y="3962520"/>
                <a:ext cx="50958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B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7</m:t>
                                </m:r>
                              </m:e>
                            </m:rad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04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962520" y="855720"/>
            <a:ext cx="5181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основ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6,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. Выс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 медиа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полам. Най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диана, следов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ямоугольный             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теореме Фал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 свойству средней ли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 условию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=4, AM=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14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696080" y="1676520"/>
                <a:ext cx="371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8229600" y="1981080"/>
                <a:ext cx="809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7086600" y="2286000"/>
                <a:ext cx="1209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648320" y="2895480"/>
                <a:ext cx="42840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B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7010280" y="28954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8077320" y="2895480"/>
                <a:ext cx="5810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010280" y="3124080"/>
                <a:ext cx="638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8353440" y="3581280"/>
                <a:ext cx="790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B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6972480" y="4419720"/>
                <a:ext cx="21715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5257800" y="4800600"/>
                <a:ext cx="49536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38880" y="4724280"/>
                <a:ext cx="12574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772240" y="4952880"/>
                <a:ext cx="210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810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6b6b"/>
            </a:gs>
            <a:gs pos="100000">
              <a:srgbClr val="eaeae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6116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амостоя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а меди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      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ина которой равна 4, прич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В равнобедренном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оведена биссектри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ит на сторо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 треугольн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расстояние между точкой пересечения серединных перпендикуляров и точкой перес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ан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914400" y="129528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905120" y="1295280"/>
                <a:ext cx="685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2590920" y="1295280"/>
                <a:ext cx="5619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124080" y="1295280"/>
                <a:ext cx="8668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52280" y="2057400"/>
                <a:ext cx="69552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914400" y="2057400"/>
                <a:ext cx="8096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C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762120" y="2362320"/>
                <a:ext cx="3333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8321760" y="2895480"/>
                <a:ext cx="8157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0" y="3200400"/>
                <a:ext cx="771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685800" y="3962520"/>
                <a:ext cx="2905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MH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838080" y="4267080"/>
                <a:ext cx="3524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 txBox="1"/>
          <p:nvPr/>
        </p:nvSpPr>
        <p:spPr>
          <a:xfrm>
            <a:off x="2819520" y="152280"/>
            <a:ext cx="359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мостоятельно</a:t>
            </a:r>
            <a:endParaRPr b="0" lang="en-US" sz="18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01T15:44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