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9D38-C6CC-409C-B5A8-71A3CF1F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D1A9-9105-4FD5-8D60-49B6F80B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CA85-7D9F-46C2-932D-9F46B43D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CF57-6B2D-4C35-92F2-94D900AD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F44F-C73C-4794-A580-58275BAA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AAD1-772A-443E-B00B-E8385178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690B-F048-4AE4-AC50-8EEC6E82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D4D2-923B-4A6D-AFE4-32D386DF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AABF-B356-464B-AACC-C2607F43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7BDE-0547-4BCE-9C70-C4750D17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D266-77E9-436D-B3FE-B8244099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2892-F6D1-40CE-830F-E8A9B403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B799-DF99-4D8A-A84F-3F1A3F94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6CC7-ABFC-49E3-A7F1-9355CA7F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3E76-0451-49AF-A3EE-F4DB9A5B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A11D-612E-4628-B3FC-885AD977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1692-0216-4742-8919-B70DD2E8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332D-CFFC-4C6F-8DD6-02FBFB5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BCB8-7D56-40C1-8E59-4C4B5281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0FBD-D048-4DDE-87CD-D142A2D5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8F8E-1A16-481C-B1AF-9CF764F7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83CE-E4E7-4ABF-B6A4-74662D6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816E-18E2-4E0F-AF2E-35471CB3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E7FA-B5D6-4336-9189-D66234D3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A18-641F-415C-80FE-2AEE9C603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C7E6-1B00-423A-A178-D3E836A25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85160" y="137880"/>
            <a:ext cx="6451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м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ение треугольника.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                    - теорема косин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                         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ди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имет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диус вписа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                              ,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         (если треугольник правильны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324480" y="533520"/>
                <a:ext cx="14097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029200" y="838080"/>
                <a:ext cx="15336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181480" y="1143000"/>
                <a:ext cx="1305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191120" y="1523880"/>
                <a:ext cx="1704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3352680" y="2057400"/>
                <a:ext cx="600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038480" y="2057400"/>
                <a:ext cx="561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Δ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019920" y="2895480"/>
                <a:ext cx="714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58000" y="2895480"/>
                <a:ext cx="612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Δ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6019920" y="3200400"/>
                <a:ext cx="981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692600" y="3505320"/>
                <a:ext cx="178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62920" y="3429000"/>
                <a:ext cx="847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943600" y="3733920"/>
                <a:ext cx="647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29400" y="3733920"/>
                <a:ext cx="6382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733920" y="3962520"/>
                <a:ext cx="7524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324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505320" y="710280"/>
            <a:ext cx="516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войства меди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– точка пересечения меди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диана к стор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любом треугольнике медиана дели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в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вновели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.е треугольники площади которых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477120" y="1295280"/>
                <a:ext cx="1209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105520" y="1752480"/>
                <a:ext cx="809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019920" y="1752480"/>
                <a:ext cx="828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800600" y="2133720"/>
                <a:ext cx="2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7162920" y="22096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315200" y="2057400"/>
                <a:ext cx="1460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8001000" y="4267080"/>
                <a:ext cx="8096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3114720" cy="19432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3695760" cy="162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4191120" y="152280"/>
            <a:ext cx="3771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ойства медиан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648320" y="205776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иссектрисы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Точка пересечения биссектрис треугольника является центром в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Биссектриса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 сторону на ча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ональные двум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енным стор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иссектриса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219320" y="4572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иссектрисы треугольника.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85800" y="1755720"/>
            <a:ext cx="3733920" cy="30862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867280" y="4800600"/>
                <a:ext cx="16765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4267080" y="1330200"/>
            <a:ext cx="434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обные тре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ямая параллельная стороне треугольника, отсекает от него треугольник, подобный д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ходственные стороны лежат против ра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в подоб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ссектриса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105520" y="2590920"/>
                <a:ext cx="6188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867280" y="2514600"/>
                <a:ext cx="1400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4952880" y="3048120"/>
                <a:ext cx="962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MNC</m:t>
                    </m:r>
                    <m:r>
                      <m:t xml:space="preserve">∞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019920" y="2895480"/>
                <a:ext cx="685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6781680" y="2895480"/>
                <a:ext cx="6192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867280" y="3886200"/>
                <a:ext cx="1105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105520" y="5029200"/>
                <a:ext cx="103824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C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6705720" y="4876920"/>
                <a:ext cx="771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 txBox="1"/>
          <p:nvPr/>
        </p:nvSpPr>
        <p:spPr>
          <a:xfrm>
            <a:off x="160020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обные треугольники.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52680" cy="17049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2133720" cy="2070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590920" y="4724280"/>
            <a:ext cx="22860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743200" y="1357200"/>
            <a:ext cx="6019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равнобедренного треугольникаравно30 см, а высота, проведённая из вершины основания 24 см. 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      прямоугольный, т.к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та и медиана равнобедренного треугольника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ямоугольные с общим остр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248520" y="2438280"/>
                <a:ext cx="2438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791320" y="2819520"/>
                <a:ext cx="52380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CH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505320" y="3048120"/>
                <a:ext cx="55148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200400" y="3352680"/>
                <a:ext cx="4478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K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7658280" y="3581280"/>
                <a:ext cx="148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5867280" y="3886200"/>
                <a:ext cx="9525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HC</m:t>
                    </m:r>
                    <m:r>
                      <m:t xml:space="preserve">∞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6095880" y="4495680"/>
                <a:ext cx="2764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6095880" y="4648320"/>
                <a:ext cx="26193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867280" y="5029200"/>
                <a:ext cx="2009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5880" y="5257800"/>
                <a:ext cx="4953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695680" cy="21337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3352680" y="152280"/>
            <a:ext cx="3200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ачи!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191120" y="34200"/>
            <a:ext cx="47847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а меди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ореме косину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ронний корень, т.е. не удовлетворяет смыслу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=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6705720" y="380880"/>
                <a:ext cx="4284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6934320" y="91440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6858000" y="1219320"/>
                <a:ext cx="685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7620120" y="1219320"/>
                <a:ext cx="56196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8277120" y="1219320"/>
                <a:ext cx="8668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7086600" y="1371600"/>
                <a:ext cx="1560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867280" y="1676520"/>
                <a:ext cx="1952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M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334120" y="2286000"/>
                <a:ext cx="252396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=</m:t>
                        </m:r>
                        <m:r>
                          <m:t xml:space="preserve">χ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χ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χ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495680" y="4495680"/>
                <a:ext cx="524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934320" y="4952880"/>
                <a:ext cx="1038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952880" y="5257800"/>
                <a:ext cx="225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6905520" y="5715000"/>
                <a:ext cx="2238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57200" y="1173240"/>
            <a:ext cx="38862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039200" y="951120"/>
            <a:ext cx="498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площадь треугольника, 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меди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диана, знач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ана дел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ва равнобедр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181480" y="1600200"/>
                <a:ext cx="749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419720" y="1600200"/>
                <a:ext cx="72072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7162920" y="1600200"/>
                <a:ext cx="6001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315200" y="2133720"/>
                <a:ext cx="42876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934320" y="289548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858000" y="3200400"/>
                <a:ext cx="866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4038480" y="3657600"/>
                <a:ext cx="2562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048200" y="3962520"/>
                <a:ext cx="50958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504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962520" y="855720"/>
            <a:ext cx="5181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основ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6, меди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. Высо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 медиан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полам. Най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диана, следов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ямоугольный             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 теореме Фал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свойству средней лин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 условию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=4, AM=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696080" y="1676520"/>
                <a:ext cx="371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8229600" y="1981080"/>
                <a:ext cx="809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7086600" y="2286000"/>
                <a:ext cx="1209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48320" y="2895480"/>
                <a:ext cx="4284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7010280" y="2895480"/>
                <a:ext cx="6382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8077320" y="2895480"/>
                <a:ext cx="5810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010280" y="3124080"/>
                <a:ext cx="6382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8353440" y="3581280"/>
                <a:ext cx="790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6972480" y="4419720"/>
                <a:ext cx="21715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5257800" y="4800600"/>
                <a:ext cx="49536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M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38880" y="4724280"/>
                <a:ext cx="12574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5772240" y="4952880"/>
                <a:ext cx="21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102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6116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самостоя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а меди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        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В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а биссектри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лина которой равна 4, прич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В равнобедренном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оведена биссектри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ит на сторо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В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расстояние между точкой пересечения серединных перпендикуляров и точкой перес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ан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914400" y="129528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905120" y="1295280"/>
                <a:ext cx="685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2590920" y="1295280"/>
                <a:ext cx="5619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124080" y="1295280"/>
                <a:ext cx="8668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152280" y="2057400"/>
                <a:ext cx="695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914400" y="2057400"/>
                <a:ext cx="8096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762120" y="2362320"/>
                <a:ext cx="3333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8321760" y="2895480"/>
                <a:ext cx="8157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0" y="3200400"/>
                <a:ext cx="771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685800" y="3962520"/>
                <a:ext cx="2905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MH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838080" y="4267080"/>
                <a:ext cx="3524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 txBox="1"/>
          <p:nvPr/>
        </p:nvSpPr>
        <p:spPr>
          <a:xfrm>
            <a:off x="2819520" y="152280"/>
            <a:ext cx="3590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мостоятельно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01T15:44:5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