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F045-DDF9-4A22-B6E1-EE276492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E392-2054-41DA-8831-FE830AD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1F07-2F86-4515-BDC4-59E998C8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96EE-B67A-4436-AD83-B6BC91FD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198-6404-4F3B-8F51-AE6E80B1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BD0-3F1D-4541-B494-A6B0ABA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542-6DE1-4057-ADB8-6AE275CF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610-E2A8-4F2E-9304-8D4D419F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3782-2B5A-47E7-BDBE-3349A8F5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6B31-6FE4-4CB1-ADD4-28FF3C4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C597-79D9-418F-BBA8-737DE6A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D1DD-0BF0-493D-87AB-AD7624C6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0200-77E7-46F0-8ACC-47C60A3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0C52-256C-4C9B-A70D-A02F8C59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62E-2BA9-4DBF-99E2-F1C97F1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E4E9-FBE2-4ECC-9D8F-F5EE1924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618-186B-4ABF-8C7F-66E5C4E6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DCFB-185A-44A1-A5DD-F053103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E53D-0389-4228-890B-E77D193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98D0-9051-4898-AB4B-427298BB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B2AB-C198-4795-A0C1-29B5A60A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8384-1C93-41E5-A7C1-29EDC3C8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9211-0FC2-46EA-90D0-C903B23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1860-0E04-4547-A2E5-41A9977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DDA-4F9D-4933-AF39-5419DB7AB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EE7-BF2A-4A5E-A1E3-47AE5A428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85160" y="137880"/>
            <a:ext cx="6451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треугольника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                 - теорема косин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                    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имет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впис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                              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         (если треугольник правильн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324480" y="533520"/>
                <a:ext cx="14097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029200" y="838080"/>
                <a:ext cx="15336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181480" y="1143000"/>
                <a:ext cx="130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191120" y="1523880"/>
                <a:ext cx="1704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3352680" y="2057400"/>
                <a:ext cx="600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038480" y="2057400"/>
                <a:ext cx="561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019920" y="2895480"/>
                <a:ext cx="714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58000" y="2895480"/>
                <a:ext cx="612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6019920" y="3200400"/>
                <a:ext cx="981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692600" y="3505320"/>
                <a:ext cx="178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62920" y="3429000"/>
                <a:ext cx="84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943600" y="3733920"/>
                <a:ext cx="647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29400" y="3733920"/>
                <a:ext cx="638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733920" y="3962520"/>
                <a:ext cx="752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324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505320" y="710280"/>
            <a:ext cx="516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войства меди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– точка пересечения меди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иана к сто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юбом треугольнике медиана дел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в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вновели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.е треугольники площади которых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477120" y="1295280"/>
                <a:ext cx="1209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105520" y="1752480"/>
                <a:ext cx="809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19920" y="1752480"/>
                <a:ext cx="828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800600" y="2133720"/>
                <a:ext cx="2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7162920" y="22096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315200" y="2057400"/>
                <a:ext cx="1460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8001000" y="4267080"/>
                <a:ext cx="809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3114720" cy="19432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695760" cy="162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191120" y="152280"/>
            <a:ext cx="37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ойства медиан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48320" y="205776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ссектрисы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Точка пересечения биссектрис треугольника является центром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Биссектриса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 сторону на ч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ональные двум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енным стор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иссектриса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219320" y="4572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ссектрисы треугольника.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85800" y="1755720"/>
            <a:ext cx="3733920" cy="30862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4800600"/>
                <a:ext cx="16765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267080" y="13302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обные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ямая параллельная стороне треугольника, отсекает от него треугольник, подобный д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ходственные стороны лежат против ра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в подоб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ссектриса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05520" y="2590920"/>
                <a:ext cx="6188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867280" y="2514600"/>
                <a:ext cx="1400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952880" y="3048120"/>
                <a:ext cx="962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MNC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019920" y="2895480"/>
                <a:ext cx="685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781680" y="2895480"/>
                <a:ext cx="619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867280" y="3886200"/>
                <a:ext cx="1105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105520" y="5029200"/>
                <a:ext cx="10382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6705720" y="4876920"/>
                <a:ext cx="771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 txBox="1"/>
          <p:nvPr/>
        </p:nvSpPr>
        <p:spPr>
          <a:xfrm>
            <a:off x="160020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обные треугольники.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52680" cy="17049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860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743200" y="1357200"/>
            <a:ext cx="60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равнобедренного треугольникаравно30 см, а высота, проведённая из вершины основания 24 см. 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     прямоугольный, т.к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и медиана равнобедренного треугольника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ямоугольные с общим остр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248520" y="2438280"/>
                <a:ext cx="2438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791320" y="2819520"/>
                <a:ext cx="52380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C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505320" y="3048120"/>
                <a:ext cx="55148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200400" y="3352680"/>
                <a:ext cx="447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K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7658280" y="3581280"/>
                <a:ext cx="148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5867280" y="3886200"/>
                <a:ext cx="9525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HC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6095880" y="4495680"/>
                <a:ext cx="2764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6095880" y="4648320"/>
                <a:ext cx="26193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867280" y="5029200"/>
                <a:ext cx="2009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5880" y="5257800"/>
                <a:ext cx="4953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695680" cy="21337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3352680" y="1522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чи!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191120" y="34200"/>
            <a:ext cx="4784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а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косину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ронний корень, т.е. не удовлетворяет смыслу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=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705720" y="380880"/>
                <a:ext cx="4284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6934320" y="91440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6858000" y="1219320"/>
                <a:ext cx="685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7620120" y="1219320"/>
                <a:ext cx="56196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8277120" y="1219320"/>
                <a:ext cx="8668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7086600" y="1371600"/>
                <a:ext cx="1560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867280" y="1676520"/>
                <a:ext cx="1952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M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334120" y="2286000"/>
                <a:ext cx="252396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t xml:space="preserve">χ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χ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χ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495680" y="4495680"/>
                <a:ext cx="524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934320" y="495288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952880" y="5257800"/>
                <a:ext cx="225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905520" y="5715000"/>
                <a:ext cx="2238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7200" y="1173240"/>
            <a:ext cx="38862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039200" y="951120"/>
            <a:ext cx="498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площадь треугольника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меди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диана, знач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ана де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ва равнобедр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1600200"/>
                <a:ext cx="749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419720" y="1600200"/>
                <a:ext cx="72072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7162920" y="1600200"/>
                <a:ext cx="6001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315200" y="2133720"/>
                <a:ext cx="42876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934320" y="28954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858000" y="3200400"/>
                <a:ext cx="86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038480" y="3657600"/>
                <a:ext cx="2562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048200" y="3962520"/>
                <a:ext cx="50958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04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962520" y="855720"/>
            <a:ext cx="5181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осно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6,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. Выс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 медиа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полам. 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диана, следов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ямоугольный            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 теореме Фал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свойству средней ли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 условию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=4, AM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696080" y="1676520"/>
                <a:ext cx="371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8229600" y="1981080"/>
                <a:ext cx="809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7086600" y="2286000"/>
                <a:ext cx="1209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48320" y="2895480"/>
                <a:ext cx="4284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7010280" y="2895480"/>
                <a:ext cx="638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8077320" y="2895480"/>
                <a:ext cx="581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010280" y="3124080"/>
                <a:ext cx="638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8353440" y="3581280"/>
                <a:ext cx="790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6972480" y="4419720"/>
                <a:ext cx="21715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5257800" y="4800600"/>
                <a:ext cx="49536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M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38880" y="4724280"/>
                <a:ext cx="12574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772240" y="4952880"/>
                <a:ext cx="21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10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611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а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       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а биссектри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лина которой равна 4, прич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В равнобедренном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ведена биссектри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ит на сторо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расстояние между точкой пересечения серединных перпендикуляров и точкой перес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ан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914400" y="129528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905120" y="1295280"/>
                <a:ext cx="685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2590920" y="1295280"/>
                <a:ext cx="5619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124080" y="1295280"/>
                <a:ext cx="8668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52280" y="2057400"/>
                <a:ext cx="695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914400" y="2057400"/>
                <a:ext cx="8096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762120" y="2362320"/>
                <a:ext cx="3333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8321760" y="2895480"/>
                <a:ext cx="8157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0" y="3200400"/>
                <a:ext cx="771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685800" y="3962520"/>
                <a:ext cx="2905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MH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838080" y="4267080"/>
                <a:ext cx="3524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 txBox="1"/>
          <p:nvPr/>
        </p:nvSpPr>
        <p:spPr>
          <a:xfrm>
            <a:off x="2819520" y="152280"/>
            <a:ext cx="359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остоятельно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01T15:44:5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