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7A2A-B60A-4E9C-8679-F6A97AF52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E8E7-7155-4EAC-8C6A-295B1E71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F1A9-D75B-4CC7-BE53-783846C2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B04D-AF71-4D25-B553-9B444C76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D00A-18E9-43C6-8B1C-98CFD28C6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CAFE-45ED-4263-B9B1-8C429060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11B8-CE9A-4F84-BF25-FF5DFCEA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9487-5A2B-4912-BAB9-26681DE0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45EA-53CF-417B-A721-21F8488F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C2A9-AB9C-4668-8C0C-4640967F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4D4C-CD82-4F33-95B9-59E2CAE5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4100-5333-4551-B201-2F1ABFDA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C90F-5562-43A9-9FEA-1839FFE3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9C3B-2B75-4D39-94E3-96B75D5F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F287-A48D-4FB1-B467-6DD3DC6F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12DD-129D-408D-96AF-45E4132B2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13B5-ADD4-4FFF-B2F1-7DEEA9BF4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B728-2335-48C0-994C-C0049963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1FC8-FDAB-4F13-80D4-3D1FFA81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1DC9-3D30-4A6F-9252-6DBDC0A2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CE06-A199-44E1-9707-3C700D4E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7085-3568-41B4-AC1A-18E2769B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1837-B1BD-4A2D-BAA7-7D96EFC3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4202-B84D-49FC-B21C-AE8C664B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556E-BF95-4BD4-9F20-18A227C9DE8C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C36E-1349-4363-A3D7-D698A3B7B859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Творчество Н.А.Некрасов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Антикрепостническая направленность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«Родина», «Псовая охота» - беспощадное обличение бесчеловечности помещичьей среды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«В деревне», «Несжатая полоса», «Забытая деревня» - картины нищеты и страдания бедняка-труженика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Тема город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«Еду ли ночью по улице темной…», Цикл стихов "На улице", Цикл "О погоде" 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Протест против социальной несправедливости, против горькой участи бедняков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Новые принципы лирики: психологическая обнаженность переживаний, смелость социального изображения жизн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«Вор»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Закушенный калач дрожал в его руке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Он был без сапогов, в дырявом сюртуке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Лицо являло след недавнего недуга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тыда, отчаянья, моленья и испуга..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«Утренняя прогулка»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Петербург ему солон достался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В наводненье жену потерял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Целый век по квартирам таскалс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И четырнадцать раз погорал.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Тема поэта и поэзии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«Вчерашний день в часу шестом…», «Поэт и гражданин», «Поэт», «Блажен незлобивый поэт», «Поэту», «Элегия» и др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Некрасов убежден в том, что поэзия не должна замыкаться на возвышенных и прекрасных темах, воспевая любовь, природу и красоту. Ее назначение — служить обществу, облагораживая и возвышая человека, формируя его прогрессивное мировоззрение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403280" y="3500280"/>
            <a:ext cx="2448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Жанр биографий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«Памяти Добролюбова», «Памяти Белинского», «На смерть Шевченко»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39640" y="3357720"/>
            <a:ext cx="1771920" cy="2160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348000" y="3357720"/>
            <a:ext cx="1584360" cy="2089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6227640" y="3357720"/>
            <a:ext cx="1511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Любовная лирика: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исповедальная лирика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Авдотья Яковлевна Панаева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692360" y="2565360"/>
            <a:ext cx="1584360" cy="2664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788000" y="2637000"/>
            <a:ext cx="1692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imes New Roman"/>
              </a:rPr>
              <a:t>«Панаевский цикл»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— пример того, как личное, интимное в лирике становится общечеловеческим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Мотивы ссоры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(«Если, мучимый страстью мятежной...», «Мы с тобой бестолковые люди...»);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расставания, разлуки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(«Так это шутка? Милая моя...», «Прощание») или их предчувствия («Я не люблю иронии твоей...»);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воспоминания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(«Да, наша жизнь текла мятежно...», «Давно — отвергнутый тобою...»);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писем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(«Сожжённые письма») и др. 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«Тяжёлый год — сломил меня недуг...», «Тяжёлый крест достался мне на долю...», «Прости», «Прощание»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195640" y="3213000"/>
            <a:ext cx="18000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Эпическое творчество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«Коробейники», «Мороз, Красный нос», «Железная дорога», «Кому на Руси жить хорошо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292720" y="3284640"/>
            <a:ext cx="1655640" cy="2448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411280" y="3500280"/>
            <a:ext cx="165600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Поэты некрасовской поры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Система  художественных принципов, которые исторически закономерно сложилась в русской демократической поэзии к сер 19 в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Существо некрасовской поэзии определяется ее народностью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М.М.Михайлов (1829-1865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В «Помещике» есть мотивы «Псовой охоты»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В «Груне» - «Тройка»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758960" y="2127240"/>
            <a:ext cx="231300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План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Основные факты биографии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Особенности лирики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Эпическое творчество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Поэты некрасовской школы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Л.Н.Трефолев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Своеобразные перепевы некрасовской лирики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«Камаринская», «Дубинушка», «Рекрутчина»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031840" y="2259000"/>
            <a:ext cx="210852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И.С.Никитин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амостоятельное и оригинальное творчество в духе некрасовской школы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«Рассказ ямщика», «Уличная встреча»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«Некрасов был певцом народа, Никитини – певец его скорби»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828800" y="2127240"/>
            <a:ext cx="231156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Жданов В.В. Жизнь Некрасова. –М., 1981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катов Н.И. Я лиру посвятил… - М., 1981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Чуковский К.И. Мастерство Некрасова. – М., 1971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озанова Л.А. Поэма Некрасова «Кому на Руси жить хорошо»: Комментарий. – Л., 1970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айт СГПИ (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ww.sgpi.ru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)– кафедра литературы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ww.filolog.r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Н.А.Некрасов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821-1877 гг., м.Немирово, Украина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С.Грешнево Ярославской губерни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832 г. Ярославская гимназия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838 г. Петербург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840 г.- «Мечты и звуки»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«Репертуар и Пантеон», «Литературная газета»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Н.Перепельский и его водевил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841 г. – знакомство с В.Белинским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44640" y="2192400"/>
            <a:ext cx="326376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«Натуральная школа»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«Макар Осипович Случайный»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«Ростовщик»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«Жизнь и похождения Тихона Тростникова»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«Петербургские углы» - манифест «натуральной школы»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Издательская деятельност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Совместно с И.И.Панаевым приобретает право на издание журнала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«Современник»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868 г. – издает журнал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«Отечественные записки»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508120" y="1995480"/>
            <a:ext cx="1924200" cy="2292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808200" y="2913120"/>
            <a:ext cx="1933560" cy="2289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684360" y="1268280"/>
            <a:ext cx="1800000" cy="1368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059280" y="4437000"/>
            <a:ext cx="12952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623960" y="2585880"/>
            <a:ext cx="2108160" cy="2946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567400" y="2585880"/>
            <a:ext cx="21096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Особенности поэзии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40-е гг. – сатирическая струя: «Провинциальный подьячий в Петербурге», «Говорун», «Нравственный человек» и др. – высмеивает корыстолюбие, чиноугодничество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76520" y="3174840"/>
            <a:ext cx="1287360" cy="1963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763640" y="1844640"/>
            <a:ext cx="28796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Социальная тем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19160" y="1699920"/>
            <a:ext cx="381492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«В дороге», «Пьяница», «Тройка» дали правдивые социально насыщенные картины современной действительности, наметили основные черты творчества поэта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987640" y="2997360"/>
            <a:ext cx="1428840" cy="1833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971640" y="1628640"/>
            <a:ext cx="1657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06:55:58Z</dcterms:created>
  <dc:creator>пользователь</dc:creator>
  <dc:description/>
  <dc:language>en-US</dc:language>
  <cp:lastModifiedBy>пользователь</cp:lastModifiedBy>
  <dcterms:modified xsi:type="dcterms:W3CDTF">2008-02-09T17:10:24Z</dcterms:modified>
  <cp:revision>13</cp:revision>
  <dc:subject/>
  <dc:title>Творчество Н.А.Некрасова</dc:title>
</cp:coreProperties>
</file>