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5CF-3CED-4EC2-A763-719E77D4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BF3-3F2B-4531-B166-40EB501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AC9-3D96-4B0E-BC65-D439D264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A3E-B8E9-46CD-AD4C-880C812D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680E-EC56-4D3E-89C4-65F4B4AE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72F0-BE78-46A3-87A9-E5464594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5D00-3D12-40B0-895C-65D10E2A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1D45-D38B-489D-AC58-3D2A06C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7133-C26A-4342-905B-0059F8EC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E13E-B89D-4681-9F37-8E303DA7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0EE2-0D5D-42EC-9957-0E01E9D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CB7-04C8-45AB-B194-C0E805CF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64B1-AE32-4A48-BE5E-623539BB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5EF3-85BC-4575-84DD-06BB036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9733-190B-41E0-B554-7ACA3856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D9C0-65E8-4E35-87F2-5A92BA51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02C7-1624-4CE0-8E68-04C923D6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B18-2912-4A64-92CB-F6EB357A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CB9-44E9-4533-8BB9-6E81D380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FD6-6D3B-4B17-90DB-45E34A0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9B0-ADC5-4541-B203-EDA00FB2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E80-3D4E-4E72-99EC-5460E22F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A39-868F-4C8D-A422-ED00E272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2A6-FE4F-4494-A563-09742F7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7BA-DD56-4BC9-B811-20DDDFF6F27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C38B-CF5E-4BE3-B414-392EAFFED3F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ворчество Н.А.Некрасов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Антикрепостническая направленност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Родина», «Псовая охота» - беспощадное обличение бесчеловечности помещичьей сред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В деревне», «Несжатая полоса», «Забытая деревня» - картины нищеты и страдания бедняка-труженик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ма город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«Еду ли ночью по улице темной…», Цикл стихов "На улице", Цикл "О погоде"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ротест против социальной несправедливости, против горькой участи бедня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Новые принципы лирики: психологическая обнаженность переживаний, смелость социального изображения жиз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Вор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кушенный калач дрожал в его рук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н был без сапогов, в дырявом сюртук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цо являло след недавнего недуга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ыда, отчаянья, моленья и испуга..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«Утренняя прогулка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етербург ему солон досталс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наводненье жену потерял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Целый век по квартирам таскалс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И четырнадцать раз погорал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ма поэта и поэзи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«Вчерашний день в часу шестом…», «Поэт и гражданин», «Поэт», «Блажен незлобивый поэт», «Поэту», «Элегия» и др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екрасов убежден в том, что поэзия не должна замыкаться на возвышенных и прекрасных темах, воспевая любовь, природу и красоту. Ее назначение — служить обществу, облагораживая и возвышая человека, формируя его прогрессивное мировоззрение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244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Жанр биограф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Памяти Добролюбова», «Памяти Белинского», «На смерть Шевченко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177192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348000" y="3357720"/>
            <a:ext cx="1584360" cy="2089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227640" y="3357720"/>
            <a:ext cx="151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Любовная лирика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споведальная лирика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Авдотья Яковлевна Панаев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1584360" cy="2664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169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«Панаевский цикл»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— пример того, как личное, интимное в лирике становится общечеловеческим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Мотивы ссоры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(«Если, мучимый страстью мятежной...», «Мы с тобой бестолковые люди...»);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расставания, разлуки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(«Так это шутка? Милая моя...», «Прощание») или их предчувствия («Я не люблю иронии твоей...»);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воспоминания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«Да, наша жизнь текла мятежно...», «Давно — отвергнутый тобою...»);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писем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«Сожжённые письма») и др.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«Тяжёлый год — сломил меня недуг...», «Тяжёлый крест достался мне на долю...», «Прости», «Прощание»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1800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Эпическое творчество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Коробейники», «Мороз, Красный нос», «Железная дорога», «Кому на Руси жить хорош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165564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411280" y="3500280"/>
            <a:ext cx="1656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оэты некрасовской пор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истема  художественных принципов, которые исторически закономерно сложилась в русской демократической поэзии к сер 19 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ущество некрасовской поэзии определяется ее народностью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М.М.Михайлов (1829-18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«Помещике» есть мотивы «Псовой охоты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«Груне» - «Тройка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58960" y="2127240"/>
            <a:ext cx="23130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сновные факты биограф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собенности лирик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Эпическое творчество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оэты некрасовской школ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Л.Н.Трефоле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воеобразные перепевы некрасовской лирик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«Камаринская», «Дубинушка», «Рекрутчина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31840" y="2259000"/>
            <a:ext cx="21085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.С.Никитин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мостоятельное и оригинальное творчество в духе некрасовской школ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Рассказ ямщика», «Уличная встреча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Некрасов был певцом народа, Никитини – певец его скорби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28800" y="2127240"/>
            <a:ext cx="23115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Жданов В.В. Жизнь Некрасова. –М., 198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катов Н.И. Я лиру посвятил… - М., 198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уковский К.И. Мастерство Некрасова. – М., 197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занова Л.А. Поэма Некрасова «Кому на Руси жить хорошо»: Комментарий. – Л., 1970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йт СГПИ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.sgpi.ru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– кафедра литератур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.filolog.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Н.А.Некрасо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21-1877 гг., м.Немирово, Украин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.Грешнево Ярославской губерни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32 г. Ярославская гимназия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38 г. Петербург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40 г.- «Мечты и звуки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епертуар и Пантеон», «Литературная газет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.Перепельский и его водевил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41 г. – знакомство с В.Белински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4640" y="2192400"/>
            <a:ext cx="32637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«Натуральная школа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Макар Осипович Случайный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Ростовщик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Жизнь и похождения Тихона Тростникова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Петербургские углы» - манифест «натуральной школы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здательская деятель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овместно с И.И.Панаевым приобретает право на издание журнала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«Современник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868 г. – издает журнал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«Отечественные записки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8120" y="1995480"/>
            <a:ext cx="1924200" cy="229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08200" y="2913120"/>
            <a:ext cx="1933560" cy="2289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1800000" cy="136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059280" y="4437000"/>
            <a:ext cx="1295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23960" y="2585880"/>
            <a:ext cx="2108160" cy="2946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567400" y="2585880"/>
            <a:ext cx="2109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Особенности поэзи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0-е гг. – сатирическая струя: «Провинциальный подьячий в Петербурге», «Говорун», «Нравственный человек» и др. – высмеивает корыстолюбие, чиноугодничество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76520" y="3174840"/>
            <a:ext cx="1287360" cy="196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63640" y="1844640"/>
            <a:ext cx="2879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Социальная 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9160" y="1699920"/>
            <a:ext cx="38149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«В дороге», «Пьяница», «Тройка» дали правдивые социально насыщенные картины современной действительности, наметили основные черты творчества поэт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142884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1657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6:55:58Z</dcterms:created>
  <dc:creator>пользователь</dc:creator>
  <dc:description/>
  <dc:language>en-US</dc:language>
  <cp:lastModifiedBy>пользователь</cp:lastModifiedBy>
  <dcterms:modified xsi:type="dcterms:W3CDTF">2008-02-09T17:10:24Z</dcterms:modified>
  <cp:revision>13</cp:revision>
  <dc:subject/>
  <dc:title>Творчество Н.А.Некрасова</dc:title>
</cp:coreProperties>
</file>