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0AA-E256-47BD-A769-63DD2193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75C-EAC7-4C7A-A041-970C11C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E19-1DB1-4D97-BBA0-1CE51C76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9B3-4992-4A02-816A-3BBDFC40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E20-87EE-4BE6-9963-763036DA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B7F6-20E7-43BE-A677-0EA8D5A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3E94-4821-4BC4-BFFE-9864494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7C94-2BD0-4AC7-8BD0-BB490F5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4DD1-5F04-41E6-8411-A418DDA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183-33A2-41EB-B236-8792DBC5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EF2A-43CE-4F1D-A054-2568501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7DC-2BA9-4CCA-A38F-7671921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42F3-A5D8-4CA2-8094-F6CE8232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B42E-4C09-41B0-A245-354504A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03CC-9D7D-4AD4-8A3C-B411577F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8EF-92EB-42B9-9487-B2DE72D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0520-6AF4-4174-8550-D9491F70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DE3-4CD0-432F-BABF-92E9080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1AD-BFB3-4C50-B18D-C59F9E5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344-DE47-4087-B769-D331F9C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D58-6728-4C33-B7F9-607EBE59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0DF-D70A-4C89-8894-B6797BDF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ED9-39F2-4C53-8B73-CD06344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6EE-1A76-4975-923B-04007D1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CCD0-7F3B-4FC6-8550-80545B1EF5D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162-8C14-462C-BE84-CC24D6E7F35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ворчество Н.А.Некрасов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нтикрепостническая направлен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Родина», «Псовая охота» - беспощадное обличение бесчеловечности помещичьей сред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В деревне», «Несжатая полоса», «Забытая деревня» - картины нищеты и страдания бедняка-труженик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город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Еду ли ночью по улице темной…», Цикл стихов "На улице", Цикл "О погоде"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ротест против социальной несправедливости, против горькой участи бедня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овые принципы лирики: психологическая обнаженность переживаний, смелость социального изображения жиз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Вор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кушенный калач дрожал в его р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 был без сапогов, в дырявом сюрт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цо являло след недавнего недуг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ыда, отчаянья, моленья и испуга..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«Утренняя прогулка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тербург ему солон досталс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наводненье жену потерял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елый век по квартирам таскал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И четырнадцать раз погорал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поэта 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«Вчерашний день в часу шестом…», «Поэт и гражданин», «Поэт», «Блажен незлобивый поэт», «Поэту», «Элегия» и др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екрасов убежден в том, что поэзия не должна замыкаться на возвышенных и прекрасных темах, воспевая любовь, природу и красоту. Ее назначение — служить обществу, облагораживая и возвышая человека, формируя его прогрессивное мировоззрени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Жанр биограф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Памяти Добролюбова», «Памяти Белинского», «На смерть Шевченко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17719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151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юбовная лирика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споведальная лирик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Авдотья Яковлевна Панае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1584360" cy="26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69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«Панаевский цикл»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— пример того, как личное, интимное в лирике становится общечеловеческим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Мотивы ссоры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Если, мучимый страстью мятежной...», «Мы с тобой бестолковые люди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расставания, разлуки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Так это шутка? Милая моя...», «Прощание») или их предчувствия («Я не люблю иронии твоей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воспоминания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Да, наша жизнь текла мятежно...», «Давно — отвергнутый тобою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писем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Сожжённые письма») и др.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«Тяжёлый год — сломил меня недуг...», «Тяжёлый крест достался мне на долю...», «Прости», «Прощание»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180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Эпическое творчеств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Коробейники», «Мороз, Красный нос», «Железная дорога», «Кому на Руси жить хорош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1655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11280" y="3500280"/>
            <a:ext cx="165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оэты некрасовской пор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истема  художественных принципов, которые исторически закономерно сложилась в русской демократической поэзии к сер 19 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ущество некрасовской поэзии определяется ее народностью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.М.Михайлов (1829-18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Помещике» есть мотивы «Псовой охоты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Груне» - «Тройк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8960" y="2127240"/>
            <a:ext cx="2313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новные факты биограф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обенности лирик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Эпическое творчеств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эты некрасовской школ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.Н.Трефоле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воеобразные перепевы некрасовской лирик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Камаринская», «Дубинушка», «Рекрутчин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31840" y="2259000"/>
            <a:ext cx="21085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.С.Никити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мостоятельное и оригинальное творчество в духе некрасовской школ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Рассказ ямщика», «Уличная встреч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Некрасов был певцом народа, Никитини – певец его скорб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2127240"/>
            <a:ext cx="23115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Жданов В.В. Жизнь Некрасова. –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атов Н.И. Я лиру посвятил… - 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уковский К.И. Мастерство Некрасова. – М., 197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занова Л.А. Поэма Некрасова «Кому на Руси жить хорошо»: Комментарий. – Л., 1970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йт СГПИ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sgpi.ru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– кафедра литератур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filolog.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Н.А.Некрасо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21-1877 гг., м.Немирово, Украи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.Грешнево Ярославской губерн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2 г. Ярославская гимназия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8 г. Петербург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0 г.- «Мечты и звуки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епертуар и Пантеон», «Литературная газет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.Перепельский и его водевил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1 г. – знакомство с В.Белински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4640" y="2192400"/>
            <a:ext cx="32637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Натуральная школа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Макар Осипович Случайный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Ростовщик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Жизнь и похождения Тихона Тростникова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Петербургские углы» - манифест «натуральной школы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здательская деятель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овместно с И.И.Панаевым приобретает право на издание журнала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Современник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868 г. – издает журнал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Отечественные записк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8120" y="1995480"/>
            <a:ext cx="1924200" cy="229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08200" y="2913120"/>
            <a:ext cx="1933560" cy="228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1800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59280" y="4437000"/>
            <a:ext cx="1295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23960" y="2585880"/>
            <a:ext cx="2108160" cy="294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7400" y="2585880"/>
            <a:ext cx="2109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обенност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0-е гг. – сатирическая струя: «Провинциальный подьячий в Петербурге», «Говорун», «Нравственный человек» и др. – высмеивает корыстолюбие, чиноугодничеств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76520" y="3174840"/>
            <a:ext cx="1287360" cy="196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2879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Социальная 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9160" y="1699920"/>
            <a:ext cx="38149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В дороге», «Пьяница», «Тройка» дали правдивые социально насыщенные картины современной действительности, наметили основные черты творчества поэт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142884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16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6:55:58Z</dcterms:created>
  <dc:creator>пользователь</dc:creator>
  <dc:description/>
  <dc:language>en-US</dc:language>
  <cp:lastModifiedBy>пользователь</cp:lastModifiedBy>
  <dcterms:modified xsi:type="dcterms:W3CDTF">2008-02-09T17:10:24Z</dcterms:modified>
  <cp:revision>13</cp:revision>
  <dc:subject/>
  <dc:title>Творчество Н.А.Некрасова</dc:title>
</cp:coreProperties>
</file>