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4.png" ContentType="image/png"/>
  <Override PartName="/ppt/media/image1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2E37-C648-4BCB-B487-A64491290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3EC4-714E-4DCB-AD05-72FDBAF73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FC20-B64B-43C2-9C63-B11A2DB5D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4636-8F0A-47A7-AB99-18450EAD8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4282-7FC5-455A-80DF-E7FDA9324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4082-7BCD-44DF-90D8-22E1120D0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68AD-62B3-4145-ACBA-F873958C9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51AA-DE5D-4797-A11D-8EB5EE62B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D04E-C772-459A-A8AC-E935C4ECA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93D5-9438-4B1A-8CAC-4558F39E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5485-74C7-48B5-ACE2-56205E87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E9E4-FE95-4694-BF53-829062AD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5582-E94F-435F-A169-9ACCFFA18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0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79280" y="1341360"/>
            <a:ext cx="6840720" cy="496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" Леди    Макбет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ценского   уезда 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39384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Николай Лес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659640" y="333360"/>
            <a:ext cx="2043000" cy="25192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971640" y="907920"/>
            <a:ext cx="6912000" cy="5183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692360" y="2133720"/>
            <a:ext cx="5543640" cy="30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ашным и немилосердным приговором прозвучали для Катерины Измайловой слова Сергея: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“Я её, может быть, и никогда не любил, а теперь… да мне вот стоптанный Сонеткин башмак милее её рожи, кошки этакой оборванной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826920" y="1844640"/>
            <a:ext cx="532944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очерке Н.С. Лескова две 2 развяз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разоблачение, суд, наказание герое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2) трагическая развязка истории любви Катерины Измайлов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16000" y="2097000"/>
            <a:ext cx="68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87280" y="90792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Развязки оче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227640" y="981000"/>
            <a:ext cx="1870200" cy="2494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516720" y="3706920"/>
            <a:ext cx="136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то писа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24000" y="5229360"/>
            <a:ext cx="439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042920" y="1700280"/>
            <a:ext cx="56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ва суда над Катериной показал писатель -  земной и Божеск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08000" y="105264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Суд  над   герои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rcRect l="38504" t="12205" r="24882" b="45013"/>
          <a:stretch/>
        </p:blipFill>
        <p:spPr>
          <a:xfrm>
            <a:off x="6450120" y="836640"/>
            <a:ext cx="1577880" cy="1657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971640" y="2637000"/>
            <a:ext cx="727236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головный суд героиня переносит равнодушно, после ареста она впадает в апатию, в ней погибло даже материнское начало. Катерина отказывается от ребенка. Внутренняя катастрофа происходит по пути на этап (измена Сергея, надругательство над любовью, история с Сонетко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ледние сцены трагичны. Катерина вызывает у нас уже не ужас, а жалость. Теперь она сама жертва. Но проблески нравственного сознания проявляются (видение в волнах Волг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рашно то торжество, с которым она бросается с Сонеткой в в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50920" y="476280"/>
            <a:ext cx="8604000" cy="6137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5940360" y="1268280"/>
            <a:ext cx="1905120" cy="21528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16000" y="2349360"/>
            <a:ext cx="4608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ло порождает зло. Женщина и убийство, женщина и злодейство несовместимы. Это нравственный закон на все 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87280" y="3716280"/>
            <a:ext cx="6840720" cy="25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. Шекспир писал в своей трагед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Чуть жизни ты подашь пример кровавый,</a:t>
            </a:r>
            <a:br>
              <a:rPr sz="2400"/>
            </a:b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Она тебе такой же даст ур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вобода, не знающая нравственных ограничений, превращается в свою противополож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16000" y="1341360"/>
            <a:ext cx="46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Нравственные уроки Н. Леск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940360" y="3429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ото Н. Леск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619280" y="988920"/>
            <a:ext cx="6697800" cy="5023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2843280" y="1700280"/>
            <a:ext cx="4248000" cy="3662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2124000" y="1488960"/>
            <a:ext cx="5761080" cy="40276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50920" y="6095880"/>
            <a:ext cx="8532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be0e3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bbe0e3"/>
                </a:solidFill>
                <a:latin typeface="Arial"/>
              </a:rPr>
              <a:t>Режиссер: Роман Балаян, актёры: </a:t>
            </a: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Наталья Андрейченко, Александр Абду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26028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bbe0e3"/>
                </a:solidFill>
                <a:latin typeface="Arial"/>
              </a:rPr>
              <a:t>«Леди Макбет Мценского уезда» (СССР- Швейцар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9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619280" y="1341360"/>
            <a:ext cx="6227640" cy="46706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rcRect l="0" t="0" r="0" b="7717"/>
          <a:stretch/>
        </p:blipFill>
        <p:spPr>
          <a:xfrm>
            <a:off x="2124000" y="1773360"/>
            <a:ext cx="5256360" cy="3816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258920" y="47628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cc"/>
                </a:solidFill>
                <a:latin typeface="Arial"/>
              </a:rPr>
              <a:t>Катюша Измай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32000" y="6237360"/>
            <a:ext cx="68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cc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cccc"/>
                </a:solidFill>
                <a:latin typeface="Arial"/>
              </a:rPr>
              <a:t>Рол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cccc"/>
                </a:solidFill>
                <a:latin typeface="Arial"/>
              </a:rPr>
              <a:t>Катерины сыграла Наталья Андрейчен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403280" y="1197000"/>
            <a:ext cx="6228000" cy="4670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56000" y="2205000"/>
            <a:ext cx="3816360" cy="27702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332000" y="1413000"/>
            <a:ext cx="6227640" cy="4670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835280" y="1844640"/>
            <a:ext cx="5257800" cy="37512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68360" y="333360"/>
            <a:ext cx="84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 1936 году  Д. Шостакович написал  оперу «Леди Макбет», которая до сих пор  ставится на сценах лучших театров нашей  стр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03280" y="6165720"/>
            <a:ext cx="60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Татьяна Анисимова в роли Катер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476360" y="1844640"/>
            <a:ext cx="6227640" cy="46706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rcRect l="-1635" t="11043" r="-18509" b="16478"/>
          <a:stretch/>
        </p:blipFill>
        <p:spPr>
          <a:xfrm>
            <a:off x="2556000" y="2276640"/>
            <a:ext cx="4678200" cy="37573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24000" y="260280"/>
            <a:ext cx="88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конце жизни Д. Шостакович просил больше никогда не исполнять его оперу 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«Леди Макбет»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которую написал 25-летним мальчишкой  а «единственно верной» считать вторую редакцию (1956 г.) под названием </a:t>
            </a:r>
            <a:r>
              <a:rPr b="0" lang="en-US" sz="1800" spc="-1" strike="noStrike">
                <a:solidFill>
                  <a:srgbClr val="ffcccc"/>
                </a:solidFill>
                <a:latin typeface="Arial"/>
              </a:rPr>
              <a:t>«Катерин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cccc"/>
                </a:solidFill>
                <a:latin typeface="Arial"/>
              </a:rPr>
              <a:t>Измайлова»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Однако сегодня большинство театров предпочитает именно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ервую редакцию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332000" y="1341360"/>
            <a:ext cx="6227640" cy="46706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835280" y="1773360"/>
            <a:ext cx="5257800" cy="37386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692360" y="62064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Латвийская Национальная оп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332000" y="83664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История создания  очер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6920" y="1484280"/>
            <a:ext cx="7417080" cy="46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“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ди Макбет Мценского уезда” (1865г.) стоит особняком в творчестве Н.С. Лескова. Автор искал в русской жизни противостояние злу, это позволяло надеяться, что в самых тяжелых испытаниях “устоит целая земля”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поминая о своей работе над очерком, Н.С. Лесков писал: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“Мне становилось временами невыносимо жутко, волос поднимался дыбом, я застывал при малейшем шорохе, который производил сам движением ноги или поворотом шеи. Это были тяжелые минуты, которых мне не забыть никогда. С тех пор избегаю описания таких ужасов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258920" y="1197000"/>
            <a:ext cx="6227640" cy="46702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1763640" y="1628640"/>
            <a:ext cx="5256360" cy="375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116000" y="476280"/>
            <a:ext cx="6767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Современная опера в Израи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6021360"/>
            <a:ext cx="7058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становка оперы Д. Шостаковича «Катерина Измайло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684360" y="620640"/>
            <a:ext cx="3744720" cy="55818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4427640" y="620640"/>
            <a:ext cx="4032000" cy="55436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755640" y="69228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Московский  Большой теа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50920" y="1844640"/>
            <a:ext cx="8496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терина Кабанова совершает преступление: она изменяет мужу, который ее любит всей душой, изменяет с человеком, который её не стоит. И она наказана - она наказывает себя сама, простившись с жизнью. Преступления, совершённые Катериной Измайловой, более ужасны: измена, убийства. Но она также наказана: она потеряла все. Потеряно и богатство, и семья, она публично избита плетьми, сослана на каторгу, в итоге она брошена возлюбленным, унижена любимым человеком ради другой женщины. Но уходит из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жизн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она, не раскаявшись, не повинившись. Она умирает так же, как и жила: совершает двойное преступление - убийство и самоубийств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5280" y="260280"/>
            <a:ext cx="7488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Катерина Кабано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            </a:t>
            </a: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и   Катерина Измай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00000" y="1978200"/>
            <a:ext cx="669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Что общего в судьбах героин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Чем различаются характеры Катери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187280" y="1413000"/>
            <a:ext cx="6228000" cy="46702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411280" y="2781360"/>
            <a:ext cx="352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ожно ли оправдать преступление во имя любви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4140000" cy="31021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rcRect l="0" t="0" r="2476" b="4913"/>
          <a:stretch/>
        </p:blipFill>
        <p:spPr>
          <a:xfrm>
            <a:off x="3708360" y="3500280"/>
            <a:ext cx="4967280" cy="31734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4788000" y="1197000"/>
            <a:ext cx="3673440" cy="87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Дом   писател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omb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2050920" y="1557360"/>
            <a:ext cx="4456080" cy="49957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1042920" y="404640"/>
            <a:ext cx="710748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амятник Н.С. Лескову в Орле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comb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rcRect l="0" t="4105" r="0" b="0"/>
          <a:stretch/>
        </p:blipFill>
        <p:spPr>
          <a:xfrm>
            <a:off x="826920" y="1557360"/>
            <a:ext cx="7490160" cy="50403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187280" y="333360"/>
            <a:ext cx="6913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дание мужской гимназ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 1841 по 1846 год здесь учился Н.С. Лес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2484360" y="692280"/>
            <a:ext cx="4146480" cy="54734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 rot="5400000">
            <a:off x="-1245240" y="3053160"/>
            <a:ext cx="5326200" cy="749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cc33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Наталья Гундарева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9900"/>
                  </a:gs>
                  <a:gs pos="100000">
                    <a:srgbClr val="cc33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7" name=""/>
          <p:cNvSpPr txBox="1"/>
          <p:nvPr/>
        </p:nvSpPr>
        <p:spPr>
          <a:xfrm rot="5400000">
            <a:off x="4946040" y="2982600"/>
            <a:ext cx="5113440" cy="677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в   роли  Катерин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</p:txBody>
      </p:sp>
    </p:spTree>
  </p:cSld>
  <p:transition spd="med">
    <p:comb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042920" y="1557360"/>
            <a:ext cx="511344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закате эпохи Возрождения стало очевидным, что свобода часто выступает как демоническая сила, а не как сила, которая ведет к гармонии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16000" y="98100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О названии оче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372360" y="765000"/>
            <a:ext cx="1904760" cy="2152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843280" y="3645000"/>
            <a:ext cx="540072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кбет” - самая мрачная трагедия В. Шекспира, повествующая о событиях, происходивших в Шотландии в XI веке: убийство царя Дункана и воцарение его убийцы Макбета, страшная и роковая роль в этом событии принадлежит леди Макб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56360" y="3059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ото Н. Леск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rcRect l="0" t="0" r="0" b="5933"/>
          <a:stretch/>
        </p:blipFill>
        <p:spPr>
          <a:xfrm>
            <a:off x="900000" y="3068640"/>
            <a:ext cx="1820880" cy="2592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042920" y="57340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. Шексп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00000" y="2060640"/>
            <a:ext cx="554508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тема вла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тема дене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тема любви – стра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тема преступления и наказ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227640" y="2852640"/>
            <a:ext cx="1905120" cy="2962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042920" y="119700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Темы, поставленные в очерк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00000" y="3645000"/>
            <a:ext cx="7488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мя этой леди Макбет дано – Катерина Измайл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значение женщины – нести свет, тепло, жизнь.    Однако Н. Лесков подчеркивает противоестественность происходяще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втор по-разному относится к героине. Мы можем увидеть его осуждение, жалость, сострад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42920" y="98100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Катерина   Измай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72360" y="1054080"/>
            <a:ext cx="1655640" cy="16556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971640" y="1557360"/>
            <a:ext cx="53290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терина в переводе с греческого- «чиста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Какие ассоциации возникают у нас   с этим имене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92360" y="2492280"/>
            <a:ext cx="525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56360" y="285264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. Андрейченко в роли Катер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900000" y="3213000"/>
            <a:ext cx="7201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влекает в Катерине Измайловой преданность любимому человеку. Она готова за Сергея “в огонь, в воду, в темницу, на крест”, героиня свободолюбивая; ничего не боится, жизнерадостная, непосредственная, озорная, физически сильна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о Н. Лесков видит, что героиня жестокая, хищная, в ней побеждают темные, демонические силы, скуден ее внутренний мир, преобладает в Катерине плотское начало, поражает её неверие в Бога, нагл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76720" y="981000"/>
            <a:ext cx="482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Катерина   Измай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rcRect l="8257" t="24093" r="57210" b="13283"/>
          <a:stretch/>
        </p:blipFill>
        <p:spPr>
          <a:xfrm>
            <a:off x="900000" y="836640"/>
            <a:ext cx="1727280" cy="20876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843280" y="1628640"/>
            <a:ext cx="561636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вное состояние души Катерины — это скука, душевная и духовная неразбуженность. Сергей увидел и понял это и ловко сыграл свою роль героя - любов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332000" y="1044720"/>
            <a:ext cx="6624720" cy="4967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3419640" y="2205000"/>
            <a:ext cx="2209680" cy="2448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rcRect l="0" t="11721" r="0" b="8908"/>
          <a:stretch/>
        </p:blipFill>
        <p:spPr>
          <a:xfrm>
            <a:off x="1835280" y="1484280"/>
            <a:ext cx="5616360" cy="41054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84360" y="476280"/>
            <a:ext cx="7775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Екатерина Львовна вышла замуж явно не по любви. Шесть лет она томилась, а потом не без сопротивления отдалась видному работнику мужа Сергею. Екатерина отдалась страсти полностью. Сергей же воспринимал все намного проще, но тоже тяготился необходимостью прятаться и скрывать роман с «купчихой»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476360" y="2781360"/>
            <a:ext cx="5832360" cy="376704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</p:spTree>
  </p:cSld>
  <p:transition spd="med">
    <p:comb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042920" y="105264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Мужчины в жизни Катер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68640"/>
            <a:ext cx="36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Можно ли назвать Сергея тонким режиссером Мценской трагед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rcRect l="15315" t="6449" r="30118" b="31119"/>
          <a:stretch/>
        </p:blipFill>
        <p:spPr>
          <a:xfrm>
            <a:off x="6300720" y="907920"/>
            <a:ext cx="1800360" cy="2087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rcRect l="6796" t="28380" r="31272" b="0"/>
          <a:stretch/>
        </p:blipFill>
        <p:spPr>
          <a:xfrm>
            <a:off x="900000" y="2781360"/>
            <a:ext cx="3529080" cy="27208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900000" y="1628640"/>
            <a:ext cx="547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уж намного старше Катерины, он постоянно в работе, в отлучках. Ей скучно и одиноко в большом, но пустом до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0" y="4076640"/>
            <a:ext cx="36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ргей   сразу теряет интерес к Катерине Львовне, как только она перестает быть богатой и влиятельной купчих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71640" y="5445000"/>
            <a:ext cx="7345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н увлечён другой женщиной, ухаживает за Сонеткой на глазах у Катерины  и грубо смеётся над её любовь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08:22:02Z</dcterms:created>
  <dc:creator>User</dc:creator>
  <dc:description/>
  <dc:language>en-US</dc:language>
  <cp:lastModifiedBy>User</cp:lastModifiedBy>
  <dcterms:modified xsi:type="dcterms:W3CDTF">2008-11-30T16:44:00Z</dcterms:modified>
  <cp:revision>3</cp:revision>
  <dc:subject/>
  <dc:title>Слайд 1</dc:title>
</cp:coreProperties>
</file>