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8D96-310B-4703-AD2D-B96F678E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599-C0AE-4511-AAFF-9C3837C6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130-E0F9-4752-AC60-BB5FC34B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B280-1515-48E8-B19A-A632C2B5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40E7-3956-4D04-AC0B-56ED6F8C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F64-CE4F-473C-9FDA-7E847F1C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2A28-C6D7-488C-9498-7EA210CA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3880-0E88-47EC-BA0F-7CEB4ADB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138-C59A-4903-94DF-6EB10E99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A6DA-D1CE-40A7-A3D6-BFF7385F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7560-1170-49EC-B6CA-4F2D3AE3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D848-A860-43C6-A749-AA8DB1E1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A5C6-0A8A-47A7-BF4B-3173CECDE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9280" y="1341360"/>
            <a:ext cx="684072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Леди    Макбе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ценского   уезда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39384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Николай Лес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204300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6912000" cy="5183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92360" y="2133720"/>
            <a:ext cx="554364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шным и немилосердным приговором прозвучали для Катерины Измайловой слова Сергея: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“Я её, может быть, и никогда не любил, а теперь… да мне вот стоптанный Сонеткин башмак милее её рожи, кошки этакой оборванной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26920" y="1844640"/>
            <a:ext cx="53294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черке Н.С. Лескова две 2 развяз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разоблачение, суд, наказание геро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2) трагическая развязка истории любви Катерины Измайло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209700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90792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Развязки оч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227640" y="981000"/>
            <a:ext cx="1870200" cy="2494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516720" y="370692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то пис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5229360"/>
            <a:ext cx="43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42920" y="170028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а суда над Катериной показал писатель -  земной и Боже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8000" y="1052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уд  над   герои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38504" t="12205" r="24882" b="45013"/>
          <a:stretch/>
        </p:blipFill>
        <p:spPr>
          <a:xfrm>
            <a:off x="6450120" y="836640"/>
            <a:ext cx="1577880" cy="1657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71640" y="2637000"/>
            <a:ext cx="7272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головный суд героиня переносит равнодушно, после ареста она впадает в апатию, в ней погибло даже материнское начало. Катерина отказывается от ребенка. Внутренняя катастрофа происходит по пути на этап (измена Сергея, надругательство над любовью, история с Сонетк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дние сцены трагичны. Катерина вызывает у нас уже не ужас, а жалость. Теперь она сама жертва. Но проблески нравственного сознания проявляются (видение в волнах Волг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ашно то торжество, с которым она бросается с Сонеткой в в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604000" cy="6137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940360" y="1268280"/>
            <a:ext cx="1905120" cy="2152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16000" y="2349360"/>
            <a:ext cx="46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ло порождает зло. Женщина и убийство, женщина и злодейство несовместимы. Это нравственный закон на все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3716280"/>
            <a:ext cx="6840720" cy="25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. Шекспир писал в своей трагед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Чуть жизни ты подашь пример кровавый,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на тебе такой же даст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обода, не знающая нравственных ограничений, превращается в свою противополож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134136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равственные уроки Н. Лес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0360" y="342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то Н. Лес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619280" y="988920"/>
            <a:ext cx="6697800" cy="502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43280" y="1700280"/>
            <a:ext cx="4248000" cy="3662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124000" y="1488960"/>
            <a:ext cx="5761080" cy="4027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6095880"/>
            <a:ext cx="8532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Режиссер: Роман Балаян, актёры: </a:t>
            </a: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Наталья Андрейченко, Александр Абду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60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be0e3"/>
                </a:solidFill>
                <a:latin typeface="Arial"/>
              </a:rPr>
              <a:t>«Леди Макбет Мценского уезда» (СССР- Швейцар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19280" y="1341360"/>
            <a:ext cx="6227640" cy="4670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0" t="0" r="0" b="7717"/>
          <a:stretch/>
        </p:blipFill>
        <p:spPr>
          <a:xfrm>
            <a:off x="2124000" y="1773360"/>
            <a:ext cx="5256360" cy="3816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58920" y="476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Arial"/>
              </a:rPr>
              <a:t>Катюша Измай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623736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cc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Р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Катерины сыграла Наталья Андрейч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03280" y="1197000"/>
            <a:ext cx="6228000" cy="4670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56000" y="2205000"/>
            <a:ext cx="3816360" cy="277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32000" y="1413000"/>
            <a:ext cx="6227640" cy="4670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835280" y="1844640"/>
            <a:ext cx="5257800" cy="3751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333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1936 году  Д. Шостакович написал  оперу «Леди Макбет», которая до сих пор  ставится на сценах лучших театров нашей 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3280" y="616572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атьяна Анисимова в роли Катер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6227640" cy="4670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-1635" t="11043" r="-18509" b="16478"/>
          <a:stretch/>
        </p:blipFill>
        <p:spPr>
          <a:xfrm>
            <a:off x="2556000" y="2276640"/>
            <a:ext cx="4678200" cy="3757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4000" y="26028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конце жизни Д. Шостакович просил больше никогда не исполнять его оперу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«Леди Макбет»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которую написал 25-летним мальчишкой  а «единственно верной» считать вторую редакцию (1956 г.) под названием </a:t>
            </a:r>
            <a:r>
              <a:rPr b="0" lang="en-US" sz="1800" spc="-1" strike="noStrike">
                <a:solidFill>
                  <a:srgbClr val="ffcccc"/>
                </a:solidFill>
                <a:latin typeface="Arial"/>
              </a:rPr>
              <a:t>«Катери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cc"/>
                </a:solidFill>
                <a:latin typeface="Arial"/>
              </a:rPr>
              <a:t>Измайлова»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Однако сегодня большинство театров предпочитает именно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вую редакцию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6227640" cy="4670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835280" y="1773360"/>
            <a:ext cx="5257800" cy="3738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692360" y="620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атвийская Национальная оп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32000" y="836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История создания  оч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1484280"/>
            <a:ext cx="7417080" cy="46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ди Макбет Мценского уезда” (1865г.) стоит особняком в творчестве Н.С. Лескова. Автор искал в русской жизни противостояние злу, это позволяло надеяться, что в самых тяжелых испытаниях “устоит целая земля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поминая о своей работе над очерком, Н.С. Лесков писал: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“Мне становилось временами невыносимо жутко, волос поднимался дыбом, я застывал при малейшем шорохе, который производил сам движением ноги или поворотом шеи. Это были тяжелые минуты, которых мне не забыть никогда. С тех пор избегаю описания таких ужасов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6227640" cy="4670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763640" y="1628640"/>
            <a:ext cx="5256360" cy="375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116000" y="476280"/>
            <a:ext cx="676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Современная опера в Израи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6021360"/>
            <a:ext cx="7058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становка оперы Д. Шостаковича «Катерина Измайл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84360" y="620640"/>
            <a:ext cx="3744720" cy="5581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427640" y="620640"/>
            <a:ext cx="4032000" cy="5543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55640" y="6922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Московский  Большой те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0920" y="1844640"/>
            <a:ext cx="849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терина Кабанова совершает преступление: она изменяет мужу, который ее любит всей душой, изменяет с человеком, который её не стоит. И она наказана - она наказывает себя сама, простившись с жизнью. Преступления, совершённые Катериной Измайловой, более ужасны: измена, убийства. Но она также наказана: она потеряла все. Потеряно и богатство, и семья, она публично избита плетьми, сослана на каторгу, в итоге она брошена возлюбленным, унижена любимым человеком ради другой женщины. Но уходит из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зн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она, не раскаявшись, не повинившись. Она умирает так же, как и жила: совершает двойное преступление - убийство и самоубий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60280"/>
            <a:ext cx="748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Катерина Кабан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и   Катерина Измай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1978200"/>
            <a:ext cx="66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общего в судьбах герои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ем различаются характеры Катери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228000" cy="4670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11280" y="2781360"/>
            <a:ext cx="352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жно ли оправдать преступление во имя любви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140000" cy="3102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rcRect l="0" t="0" r="2476" b="4913"/>
          <a:stretch/>
        </p:blipFill>
        <p:spPr>
          <a:xfrm>
            <a:off x="3708360" y="3500280"/>
            <a:ext cx="4967280" cy="317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788000" y="1197000"/>
            <a:ext cx="367344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м   писател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4456080" cy="4995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1042920" y="404640"/>
            <a:ext cx="71074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мятник Н.С. Лескову в Орле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0" t="4105" r="0" b="0"/>
          <a:stretch/>
        </p:blipFill>
        <p:spPr>
          <a:xfrm>
            <a:off x="826920" y="1557360"/>
            <a:ext cx="7490160" cy="5040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87280" y="333360"/>
            <a:ext cx="691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дание мужской гимн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1841 по 1846 год здесь учился Н.С. Ле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484360" y="692280"/>
            <a:ext cx="4146480" cy="5473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 rot="5400000">
            <a:off x="-1245240" y="3053160"/>
            <a:ext cx="5326200" cy="749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Наталья Гундаре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 rot="5400000">
            <a:off x="4946040" y="2982600"/>
            <a:ext cx="5113440" cy="677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в   роли  Катери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p:transition spd="med"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42920" y="1557360"/>
            <a:ext cx="51134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закате эпохи Возрождения стало очевидным, что свобода часто выступает как демоническая сила, а не как сила, которая ведет к гармонии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981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О названии оч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72360" y="765000"/>
            <a:ext cx="1904760" cy="2152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645000"/>
            <a:ext cx="5400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кбет” - самая мрачная трагедия В. Шекспира, повествующая о событиях, происходивших в Шотландии в XI веке: убийство царя Дункана и воцарение его убийцы Макбета, страшная и роковая роль в этом событии принадлежит леди Макб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30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то Н. Лес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rcRect l="0" t="0" r="0" b="5933"/>
          <a:stretch/>
        </p:blipFill>
        <p:spPr>
          <a:xfrm>
            <a:off x="900000" y="3068640"/>
            <a:ext cx="1820880" cy="2592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2920" y="5734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. Шексп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2060640"/>
            <a:ext cx="55450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ма вла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ма дене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ма любви – стра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ма преступления и наказ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227640" y="2852640"/>
            <a:ext cx="1905120" cy="296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42920" y="119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Темы, поставленные в очер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3645000"/>
            <a:ext cx="748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я этой леди Макбет дано – Катерина Измай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значение женщины – нести свет, тепло, жизнь.    Однако Н. Лесков подчеркивает противоестественность происходящ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втор по-разному относится к героине. Мы можем увидеть его осуждение, жалость, состра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981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атерина   Измай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72360" y="105408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71640" y="1557360"/>
            <a:ext cx="532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терина в переводе с греческого- «чиста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акие ассоциации возникают у нас   с этим имен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2492280"/>
            <a:ext cx="52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2852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 Андрейченко в роли Катер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3213000"/>
            <a:ext cx="720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влекает в Катерине Измайловой преданность любимому человеку. Она готова за Сергея “в огонь, в воду, в темницу, на крест”, героиня свободолюбивая; ничего не боится, жизнерадостная, непосредственная, озорная, физически сильн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 Н. Лесков видит, что героиня жестокая, хищная, в ней побеждают темные, демонические силы, скуден ее внутренний мир, преобладает в Катерине плотское начало, поражает её неверие в Бога, нагл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98100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атерина   Измай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8257" t="24093" r="57210" b="13283"/>
          <a:stretch/>
        </p:blipFill>
        <p:spPr>
          <a:xfrm>
            <a:off x="900000" y="836640"/>
            <a:ext cx="1727280" cy="208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843280" y="1628640"/>
            <a:ext cx="56163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ое состояние души Катерины — это скука, душевная и духовная неразбуженность. Сергей увидел и понял это и ловко сыграл свою роль героя - любов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332000" y="1044720"/>
            <a:ext cx="6624720" cy="4967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419640" y="2205000"/>
            <a:ext cx="2209680" cy="244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rcRect l="0" t="11721" r="0" b="8908"/>
          <a:stretch/>
        </p:blipFill>
        <p:spPr>
          <a:xfrm>
            <a:off x="1835280" y="1484280"/>
            <a:ext cx="5616360" cy="41054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4360" y="476280"/>
            <a:ext cx="7775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катерина Львовна вышла замуж явно не по любви. Шесть лет она томилась, а потом не без сопротивления отдалась видному работнику мужа Сергею. Екатерина отдалась страсти полностью. Сергей же воспринимал все намного проще, но тоже тяготился необходимостью прятаться и скрывать роман с «купчихой»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76360" y="2781360"/>
            <a:ext cx="5832360" cy="37670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p:transition spd="med"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42920" y="1052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ужчины в жизни Кате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6864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Можно ли назвать Сергея тонким режиссером Мценской трагед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5315" t="6449" r="30118" b="31119"/>
          <a:stretch/>
        </p:blipFill>
        <p:spPr>
          <a:xfrm>
            <a:off x="6300720" y="907920"/>
            <a:ext cx="1800360" cy="2087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6796" t="28380" r="31272" b="0"/>
          <a:stretch/>
        </p:blipFill>
        <p:spPr>
          <a:xfrm>
            <a:off x="900000" y="2781360"/>
            <a:ext cx="3529080" cy="2720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00000" y="1628640"/>
            <a:ext cx="54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уж намного старше Катерины, он постоянно в работе, в отлучках. Ей скучно и одиноко в большом, но пустом до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407664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гей   сразу теряет интерес к Катерине Львовне, как только она перестает быть богатой и влиятельной купчих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5445000"/>
            <a:ext cx="7345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увлечён другой женщиной, ухаживает за Сонеткой на глазах у Катерины  и грубо смеётся над её любов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8:22:02Z</dcterms:created>
  <dc:creator>User</dc:creator>
  <dc:description/>
  <dc:language>en-US</dc:language>
  <cp:lastModifiedBy>User</cp:lastModifiedBy>
  <dcterms:modified xsi:type="dcterms:W3CDTF">2008-11-30T16:44:00Z</dcterms:modified>
  <cp:revision>3</cp:revision>
  <dc:subject/>
  <dc:title>Слайд 1</dc:title>
</cp:coreProperties>
</file>