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F17-5265-4BBB-9041-4057934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2A5-BE77-42DD-8735-7B30DB0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E29-4449-4253-8EF0-DF92F398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CF8-72D9-43B6-A0CC-1855CF57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D59-FBE0-4344-90E1-896FFB1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04D-0D3C-4F60-B967-D9C6CB7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51F-719F-4E63-A32E-97F22F8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D89-F8D2-4EF1-8898-9287989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DDB-59E7-45AB-98B0-6E96F75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2D9-9D32-42C2-A204-6663A0C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B3C-1885-4057-8286-5930979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6FC-9152-4A0E-AEF2-3DD120B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E1CA-8CE7-4084-9F85-83579BAEF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1341360"/>
            <a:ext cx="684072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Леди    Макб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ценского   уезда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8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Николай Ле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043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912000" cy="518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92360" y="2133720"/>
            <a:ext cx="554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шным и немилосердным приговором прозвучали для Катерины Измайловой слова Сергея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Я её, может быть, и никогда не любил, а теперь… да мне вот стоптанный Сонеткин башмак милее её рожи, кошки этакой оборванной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1844640"/>
            <a:ext cx="5329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черке Н.С. Лескова две 2 развяз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облачение, суд, наказание геро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) трагическая развязка истории любви Катерины Измайл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097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9079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звязк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27640" y="981000"/>
            <a:ext cx="1870200" cy="249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37069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 пис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52293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170028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уда над Катериной показал писатель -  земной и Бож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105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уд  над   герои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8504" t="12205" r="24882" b="45013"/>
          <a:stretch/>
        </p:blipFill>
        <p:spPr>
          <a:xfrm>
            <a:off x="6450120" y="836640"/>
            <a:ext cx="157788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2637000"/>
            <a:ext cx="7272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овный суд героиня переносит равнодушно, после ареста она впадает в апатию, в ней погибло даже материнское начало. Катерина отказывается от ребенка. Внутренняя катастрофа происходит по пути на этап (измена Сергея, надругательство над любовью, история с Сонет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е сцены трагичны. Катерина вызывает у нас уже не ужас, а жалость. Теперь она сама жертва. Но проблески нравственного сознания проявляются (видение в волнах Вол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шно то торжество, с которым она бросается с Сонеткой в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04000" cy="6137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1905120" cy="215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234936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ло порождает зло. Женщина и убийство, женщина и злодейство несовместимы. Это нравственный закон на вс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716280"/>
            <a:ext cx="684072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Шекспир писал в своей трагед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уть жизни ты подашь пример кровавый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а тебе такой же даст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бода, не знающая нравственных ограничений, превращается в свою противополо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34136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равственные уроки Н. Лес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988920"/>
            <a:ext cx="6697800" cy="502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424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124000" y="1488960"/>
            <a:ext cx="5761080" cy="402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095880"/>
            <a:ext cx="85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Режиссер: Роман Балаян, актёры: </a:t>
            </a: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аталья Андрейченко, Александр Абду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«Леди Макбет Мценского уезда» (СССР- Швейц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7717"/>
          <a:stretch/>
        </p:blipFill>
        <p:spPr>
          <a:xfrm>
            <a:off x="2124000" y="1773360"/>
            <a:ext cx="525636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Катюша Измай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623736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Катерины сыграла Наталья Андрей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228000" cy="467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381636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5257800" cy="375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333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36 году  Д. Шостакович написал  оперу «Леди Макбет», которая до сих пор  ставится на сценах лучших театров нашей 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61657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тьяна Анисимова в роли 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-1635" t="11043" r="-18509" b="16478"/>
          <a:stretch/>
        </p:blipFill>
        <p:spPr>
          <a:xfrm>
            <a:off x="2556000" y="2276640"/>
            <a:ext cx="4678200" cy="3757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60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нце жизни Д. Шостакович просил больше никогда не исполнять его оперу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«Леди Макбет»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оторую написал 25-летним мальчишкой  а «единственно верной» считать вторую редакцию (1956 г.) под названием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«Кате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Измайлова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Однако сегодня большинство театров предпочитает имен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ую редакци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257800" cy="3738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620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твийская Национальная оп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32000" y="836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тория создания  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484280"/>
            <a:ext cx="7417080" cy="46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и Макбет Мценского уезда” (1865г.) стоит особняком в творчестве Н.С. Лескова. Автор искал в русской жизни противостояние злу, это позволяло надеяться, что в самых тяжелых испытаниях “устоит целая земля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миная о своей работе над очерком, Н.С. Лесков писал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Мне становилось временами невыносимо жутко, волос поднимался дыбом, я застывал при малейшем шорохе, который производил сам движением ноги или поворотом шеи. Это были тяжелые минуты, которых мне не забыть никогда. С тех пор избегаю описания таких ужас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5256360" cy="375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476280"/>
            <a:ext cx="67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Современная опера в Изра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021360"/>
            <a:ext cx="705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ановка оперы Д. Шостаковича «Катерина Измай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3744720" cy="558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4032000" cy="554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692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осковский  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84464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терина Кабанова совершает преступление: она изменяет мужу, который ее любит всей душой, изменяет с человеком, который её не стоит. И она наказана - она наказывает себя сама, простившись с жизнью. Преступления, совершённые Катериной Измайловой, более ужасны: измена, убийства. Но она также наказана: она потеряла все. Потеряно и богатство, и семья, она публично избита плетьми, сослана на каторгу, в итоге она брошена возлюбленным, унижена любимым человеком ради другой женщины. Но уходит и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на, не раскаявшись, не повинившись. Она умирает так же, как и жила: совершает двойное преступление - убийство и самоуби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6028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Катерина Каба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и   Катерина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7820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общего в судьбах герои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м различаются характеры Катер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228000" cy="467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2781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но ли оправдать преступление во имя любв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40000" cy="310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2476" b="4913"/>
          <a:stretch/>
        </p:blipFill>
        <p:spPr>
          <a:xfrm>
            <a:off x="3708360" y="3500280"/>
            <a:ext cx="4967280" cy="317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788000" y="1197000"/>
            <a:ext cx="3673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   писател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456080" cy="499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042920" y="404640"/>
            <a:ext cx="71074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мятник Н.С. Лескову в Орл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4105" r="0" b="0"/>
          <a:stretch/>
        </p:blipFill>
        <p:spPr>
          <a:xfrm>
            <a:off x="826920" y="1557360"/>
            <a:ext cx="749016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333360"/>
            <a:ext cx="69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ание мужской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841 по 1846 год здесь учился Н.С. Ле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4146480" cy="547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5400000">
            <a:off x="-1245240" y="3053160"/>
            <a:ext cx="5326200" cy="74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Наталья Гундар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5400000">
            <a:off x="4946040" y="2982600"/>
            <a:ext cx="5113440" cy="67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   роли  Катер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557360"/>
            <a:ext cx="511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закате эпохи Возрождения стало очевидным, что свобода часто выступает как демоническая сила, а не как сила, которая ведет к гармони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98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 названи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645000"/>
            <a:ext cx="540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бет” - самая мрачная трагедия В. Шекспира, повествующая о событиях, происходивших в Шотландии в XI веке: убийство царя Дункана и воцарение его убийцы Макбета, страшная и роковая роль в этом событии принадлежит леди Мак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0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5933"/>
          <a:stretch/>
        </p:blipFill>
        <p:spPr>
          <a:xfrm>
            <a:off x="900000" y="3068640"/>
            <a:ext cx="182088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57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2060640"/>
            <a:ext cx="5545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в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ден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любви – стр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преступления и на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7640" y="2852640"/>
            <a:ext cx="1905120" cy="296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119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емы, поставленные в очер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645000"/>
            <a:ext cx="74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я этой леди Макбет дано – Катерина Измай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женщины – нести свет, тепло, жизнь.    Однако Н. Лесков подчеркивает противоестественность происходя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 по-разному относится к героине. Мы можем увидеть его осуждение, жалость, состр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98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105408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1557360"/>
            <a:ext cx="53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ерина в переводе с греческого- «чист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акие ассоциации возникают у нас   с этим имен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49228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Андрейченко в роли 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3213000"/>
            <a:ext cx="720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кает в Катерине Измайловой преданность любимому человеку. Она готова за Сергея “в огонь, в воду, в темницу, на крест”, героиня свободолюбивая; ничего не боится, жизнерадостная, непосредственная, озорная, физически силь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Н. Лесков видит, что героиня жестокая, хищная, в ней побеждают темные, демонические силы, скуден ее внутренний мир, преобладает в Катерине плотское начало, поражает её неверие в Бога, наг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981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8257" t="24093" r="57210" b="13283"/>
          <a:stretch/>
        </p:blipFill>
        <p:spPr>
          <a:xfrm>
            <a:off x="900000" y="836640"/>
            <a:ext cx="1727280" cy="20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43280" y="1628640"/>
            <a:ext cx="5616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состояние души Катерины — это скука, душевная и духовная неразбуженность. Сергей увидел и понял это и ловко сыграл свою роль героя - любо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10447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419640" y="2205000"/>
            <a:ext cx="220968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0" t="11721" r="0" b="8908"/>
          <a:stretch/>
        </p:blipFill>
        <p:spPr>
          <a:xfrm>
            <a:off x="1835280" y="1484280"/>
            <a:ext cx="561636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476280"/>
            <a:ext cx="777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катерина Львовна вышла замуж явно не по любви. Шесть лет она томилась, а потом не без сопротивления отдалась видному работнику мужа Сергею. Екатерина отдалась страсти полностью. Сергей же воспринимал все намного проще, но тоже тяготился необходимостью прятаться и скрывать роман с «купчихой»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832360" cy="37670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жчины в жизни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8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Можно ли назвать Сергея тонким режиссером Мценской трагед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315" t="6449" r="30118" b="31119"/>
          <a:stretch/>
        </p:blipFill>
        <p:spPr>
          <a:xfrm>
            <a:off x="6300720" y="907920"/>
            <a:ext cx="180036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6796" t="28380" r="31272" b="0"/>
          <a:stretch/>
        </p:blipFill>
        <p:spPr>
          <a:xfrm>
            <a:off x="900000" y="2781360"/>
            <a:ext cx="3529080" cy="272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162864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ж намного старше Катерины, он постоянно в работе, в отлучках. Ей скучно и одиноко в большом, но пусто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076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 сразу теряет интерес к Катерине Львовне, как только она перестает быть богатой и влиятельной купчих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5445000"/>
            <a:ext cx="734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увлечён другой женщиной, ухаживает за Сонеткой на глазах у Катерины  и грубо смеётся над её люб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22:02Z</dcterms:created>
  <dc:creator>User</dc:creator>
  <dc:description/>
  <dc:language>en-US</dc:language>
  <cp:lastModifiedBy>User</cp:lastModifiedBy>
  <dcterms:modified xsi:type="dcterms:W3CDTF">2008-11-30T16:44:00Z</dcterms:modified>
  <cp:revision>3</cp:revision>
  <dc:subject/>
  <dc:title>Слайд 1</dc:title>
</cp:coreProperties>
</file>