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25A-15C7-4CEC-A3CC-A1A7CFCA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02A-9A13-4AD0-BD95-8954FBA5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357-1540-4E86-BF96-C75D8BA3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3AF-4194-4CA0-AD3D-8561060D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84BA-1202-4627-A4B6-B42FDF5B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0B17-64D1-4A88-A75B-892A3D3B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842B-9DE3-49F9-97DD-7C83FE3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52CC-B4B7-4865-9F86-E0551F22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1BD5-BE43-4F7F-86E0-EAE90C0C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6CFA-D828-4904-BDE9-C93430DE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25DF-87DA-4560-8CF0-CAF2CC0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2AF-2567-4715-A0EC-88551202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A539-98A1-4856-A9AE-8A34133A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7EA1-CF95-48B1-A7E3-8A1A2F0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9236-BA23-472D-BA26-ED0A253A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8A4A-9587-4005-82BA-D6D3C866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47C0-8CDC-4397-AAB1-0E9A5312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CB7-6F10-4EB7-9B84-DE371BBF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656-644A-4774-89C1-EF728FDE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1C6-C8E4-475D-B424-9FCC748F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BD3-2FB9-41B4-B1A5-23CEBB22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DA6-02B9-475C-88E0-4740EA9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E0A-AFF1-4C6B-B3AD-85BAE2E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25A-1ACF-4FFA-AD2B-29312F36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CFAF-8FC5-4881-94C9-0ECBA80B54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9B0C-1C0A-40CA-AA55-AF3186CDCCF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6_&#1075;&#1086;&#1076;_&#1074;_&#1082;&#1080;&#1085;&#1086;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рародитель «неуловимых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 юбилею  писателя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вла  Андреевича Блях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ильм был снят по первой части одноимённой революционно-приключенческой повести писателя Павла Андреевича Бляхина. Любопытно, что Джаксон — это находка авторов фильма: в литературном первоисточнике вместо него плечом к плечу с героями повести близнецами Мишкой и Дуняшей воевал китайский мальчик Ю-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62440" y="2395440"/>
            <a:ext cx="43815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 воспоминаний С.Я. Марша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:Бляхин Павел Андреевич (1887-1961) - автор повести "Красные дьяволята", которая пользовалась большим успехом в 20-е годы. "С нею, в сущности, впервые в детскую книгу входила революционная героическая тема... Повесть Н. Бляхина являлась попыткой заменить бульварную, переводную приключенческую литератур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27480" y="1600200"/>
            <a:ext cx="307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385128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«Неуловимые мстители»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 — художественный фильм,  поставленный в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1966 году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режиссёром Эдмондом Кеосаяном по мотивам повести </a:t>
            </a:r>
            <a:r>
              <a:rPr b="0" i="1" lang="ru-RU" sz="2400" spc="-1" strike="noStrike">
                <a:solidFill>
                  <a:srgbClr val="ffcc66"/>
                </a:solidFill>
                <a:latin typeface="Tahoma"/>
              </a:rPr>
              <a:t>Павла Бляхина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«Красные дьяволята»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43760" y="2421000"/>
            <a:ext cx="3000240" cy="4286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348000" y="0"/>
            <a:ext cx="31258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37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 выходом  на  экраны  трилогии  «Неуловимые  мстители»  появился  в  кинематографе  новый  жанр – «истерн» (по  аналогии с вестер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671640" cy="243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4448160" cy="457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2852640"/>
            <a:ext cx="40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 количеству  и сложности  трюков  фильм «Неуловимые  мстители»  в свое  время превзошёл  многие  боевики и вестер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4724" t="9449" r="4724" b="9449"/>
          <a:stretch/>
        </p:blipFill>
        <p:spPr>
          <a:xfrm>
            <a:off x="1403280" y="0"/>
            <a:ext cx="5429160" cy="3648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77000" y="2286000"/>
            <a:ext cx="32670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87640" y="3933720"/>
            <a:ext cx="26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 огромным  успехом  прошёл  во  многих  странах 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то из мальчишек и девчонок 60–70-х годов прошлого века, глядя в сотый раз любимый фильм «Неуловимые мстители», не восхищался головокружительными трюками и не смеялся над тем, как юные герои неизменно оставляли в дураках взрослых и глуповатых бандитов? За давностью лет забылось, что у этого фильма был предшественник — картина «Красные дьволята», вышедшая на экраны в 1923 году и чрезвычайно популярная в своё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89440" cy="3875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000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авел  Андреевич Блях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автобиографической повести сам Бляхин называет своей родиной село Быковы Саратовской губернии, а биографическая литература о нём — село Верходым нынешней Саратовской области, где он родился в декабре 1886 го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Без описания"/>
          <p:cNvPicPr/>
          <p:nvPr/>
        </p:nvPicPr>
        <p:blipFill>
          <a:blip r:embed="rId1"/>
          <a:stretch/>
        </p:blipFill>
        <p:spPr>
          <a:xfrm>
            <a:off x="5319720" y="1484280"/>
            <a:ext cx="365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44751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раннего детства мальчик запомнил пугающие рассказы о голоде, чуме и холере. Ярко врезался в его память обеденный стол в родительском доме: «Он стоял в углу, под иконами. Вокруг сидела на скамьях вся наша семья. Широким кухонным ножом отец тщательно, ровными кусками делил каравай чёрного мякинного хлеба и в строгом порядке раздавал нам. Семь пар глаз нетерпеливо следили за каждым его движением в ожидании своей до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ь мальчика умерла в 1891 году, когда «глад и мор» прокатились по всей России, жестоко поразив и Поволжь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Без описания"/>
          <p:cNvPicPr/>
          <p:nvPr/>
        </p:nvPicPr>
        <p:blipFill>
          <a:blip r:embed="rId1"/>
          <a:stretch/>
        </p:blipFill>
        <p:spPr>
          <a:xfrm>
            <a:off x="5200560" y="907920"/>
            <a:ext cx="37306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Паша подрос, дядя отправил его в церковно-приходскую школу. Здесь всем нехитрым наукам — закону божиему, русскому языку, арифметике, элементарной географии и церковнославянскому письму — обучал дьякон. Учился мальчик безукоризне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нтазёр и мечтатель от природы, Павел пристрастился к чтению. Читал без разбору: русские народные сказки, стихи Пушкина, произведения Ф. Купера и Ж. Верна вперемешку с рыцарскими романами и житиями святы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ажды к ним в село приехала молодая учительница Вера Сергеевна. Она сразу выделила не по годам смышлёного паренька, и дальнейшее образование Павла пошло под её влиянием. Она давала ему читать книги и помогала смотреть другими глазами на порядок вещей, казавшийся незыблемым. Роман Войнич «Овод» потряс юного Блях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00720" y="222264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. В 16 лет он едет в Астрахань и там вливается в ряды пролетариата, устроившись учеником в типографию. В 17 лет он вступил в большевистскую партию (1903 г.), участвовал в революции 1905–1907 гг., не раз сидел в тюрьме и находился в ссылке за нелегальную политическую дея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2330280"/>
            <a:ext cx="4500720" cy="33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нятия литературой Павел Андреевич начал в 1919 году. В 1923–1926 гг. он опубликовал ту самую повесть «Красные дьяволята» (второе название «Охота за голубой лисицей»), которую сразу же экранизирова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08680" y="1413000"/>
            <a:ext cx="3435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й рассказывается о приключениях подростков, сражавшихся в годы гражданской войны в конной армии Будённого. Вместо цыгана Яшки там присутствует не менее колоритный персонаж — чернокожий акробат Том Джакс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16360" y="2511360"/>
            <a:ext cx="44276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7:37:47Z</dcterms:created>
  <dc:creator>Янкина Ольга Васильевна</dc:creator>
  <dc:description/>
  <dc:language>en-US</dc:language>
  <cp:lastModifiedBy>Янкина Ольга Васильевна</cp:lastModifiedBy>
  <dcterms:modified xsi:type="dcterms:W3CDTF">2011-10-04T08:45:03Z</dcterms:modified>
  <cp:revision>2</cp:revision>
  <dc:subject/>
  <dc:title>Прародитель «неуловимых»</dc:title>
</cp:coreProperties>
</file>