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A4C-4DA6-49E3-80B0-8C564E9F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7BC-08BF-42D0-BC7E-A81E8A71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898-291F-496A-AF54-0C502C03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612-B165-4798-B56D-CA32C578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C139-43B7-4BFA-B80B-6F5FB9D0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3B7A-D4C7-44A8-974C-D6243DAE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AD36-EBAF-4EE6-B227-1581FCB2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13FE-A453-4D86-95D2-CA788C4F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1D7B-FBE5-47A1-8DF7-2455E0EB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B0BC-C0B1-4E28-9C10-CA8E34A9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B73A-D44E-48F7-AA0D-4C2A60B5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28F-F08B-4287-9ADC-C3665E43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C973-8CDD-4E52-9D67-06569284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84C2-2507-4D81-98D4-352299F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A404-10C6-4CD3-972D-049D7A71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3EEB-1FE1-4BAD-8A06-9979FDB8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069C-A799-40B3-9163-93D34595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134-A622-4296-A080-9F36ACE3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700-5D1D-4F1C-9298-F63240B2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F86-65B0-49AD-A31E-FA2DD516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473-2945-4023-9303-77B29B0C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B73-3DF6-43DE-ACEA-C7EBAAC3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9FA-D83E-4895-8272-7E201B62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1AB-8775-4340-9973-8EA882EA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1C30-FCA4-4435-B41B-E91691CA28D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D272-60B6-47F7-A9F3-27C86A6C35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66_&#1075;&#1086;&#1076;_&#1074;_&#1082;&#1080;&#1085;&#1086;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Прародитель «неуловимых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 юбилею  писателя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вла  Андреевича Блях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Фильм был снят по первой части одноимённой революционно-приключенческой повести писателя Павла Андреевича Бляхина. Любопытно, что Джаксон — это находка авторов фильма: в литературном первоисточнике вместо него плечом к плечу с героями повести близнецами Мишкой и Дуняшей воевал китайский мальчик Ю-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62440" y="2395440"/>
            <a:ext cx="438156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 воспоминаний С.Я. Марша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:Бляхин Павел Андреевич (1887-1961) - автор повести "Красные дьяволята", которая пользовалась большим успехом в 20-е годы. "С нею, в сущности, впервые в детскую книгу входила революционная героическая тема... Повесть Н. Бляхина являлась попыткой заменить бульварную, переводную приключенческую литератур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27480" y="1600200"/>
            <a:ext cx="3079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385128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«Неуловимые мстители»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 — художественный фильм,  поставленный в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1966 году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режиссёром Эдмондом Кеосаяном по мотивам повести </a:t>
            </a:r>
            <a:r>
              <a:rPr b="0" i="1" lang="ru-RU" sz="2400" spc="-1" strike="noStrike">
                <a:solidFill>
                  <a:srgbClr val="ffcc66"/>
                </a:solidFill>
                <a:latin typeface="Tahoma"/>
              </a:rPr>
              <a:t>Павла Бляхина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«Красные дьяволята»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43760" y="2421000"/>
            <a:ext cx="3000240" cy="4286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348000" y="0"/>
            <a:ext cx="31258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37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404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  выходом  на  экраны  трилогии  «Неуловимые  мстители»  появился  в  кинематографе  новый  жанр – «истерн» (по  аналогии с вестер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671640" cy="2431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356000" y="907920"/>
            <a:ext cx="4448160" cy="4572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0920" y="2852640"/>
            <a:ext cx="403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 количеству  и сложности  трюков  фильм «Неуловимые  мстители»  в свое  время превзошёл  многие  боевики и вестер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4724" t="9449" r="4724" b="9449"/>
          <a:stretch/>
        </p:blipFill>
        <p:spPr>
          <a:xfrm>
            <a:off x="1403280" y="0"/>
            <a:ext cx="5429160" cy="3648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877000" y="2286000"/>
            <a:ext cx="326700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87640" y="3933720"/>
            <a:ext cx="26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 огромным  успехом  прошёл  во  многих  странах  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то из мальчишек и девчонок 60–70-х годов прошлого века, глядя в сотый раз любимый фильм «Неуловимые мстители», не восхищался головокружительными трюками и не смеялся над тем, как юные герои неизменно оставляли в дураках взрослых и глуповатых бандитов? За давностью лет забылось, что у этого фильма был предшественник — картина «Красные дьволята», вышедшая на экраны в 1923 году и чрезвычайно популярная в своё врем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889440" cy="3875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000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авел  Андреевич Бляхи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автобиографической повести сам Бляхин называет своей родиной село Быковы Саратовской губернии, а биографическая литература о нём — село Верходым нынешней Саратовской области, где он родился в декабре 1886 год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Без описания"/>
          <p:cNvPicPr/>
          <p:nvPr/>
        </p:nvPicPr>
        <p:blipFill>
          <a:blip r:embed="rId1"/>
          <a:stretch/>
        </p:blipFill>
        <p:spPr>
          <a:xfrm>
            <a:off x="5319720" y="1484280"/>
            <a:ext cx="3659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333360"/>
            <a:ext cx="44751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 раннего детства мальчик запомнил пугающие рассказы о голоде, чуме и холере. Ярко врезался в его память обеденный стол в родительском доме: «Он стоял в углу, под иконами. Вокруг сидела на скамьях вся наша семья. Широким кухонным ножом отец тщательно, ровными кусками делил каравай чёрного мякинного хлеба и в строгом порядке раздавал нам. Семь пар глаз нетерпеливо следили за каждым его движением в ожидании своей до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ть мальчика умерла в 1891 году, когда «глад и мор» прокатились по всей России, жестоко поразив и Поволжь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Без описания"/>
          <p:cNvPicPr/>
          <p:nvPr/>
        </p:nvPicPr>
        <p:blipFill>
          <a:blip r:embed="rId1"/>
          <a:stretch/>
        </p:blipFill>
        <p:spPr>
          <a:xfrm>
            <a:off x="5200560" y="907920"/>
            <a:ext cx="373068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 Паша подрос, дядя отправил его в церковно-приходскую школу. Здесь всем нехитрым наукам — закону божиему, русскому языку, арифметике, элементарной географии и церковнославянскому письму — обучал дьякон. Учился мальчик безукоризнен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нтазёр и мечтатель от природы, Павел пристрастился к чтению. Читал без разбору: русские народные сказки, стихи Пушкина, произведения Ф. Купера и Ж. Верна вперемешку с рыцарскими романами и житиями святы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ажды к ним в село приехала молодая учительница Вера Сергеевна. Она сразу выделила не по годам смышлёного паренька, и дальнейшее образование Павла пошло под её влиянием. Она давала ему читать книги и помогала смотреть другими глазами на порядок вещей, казавшийся незыблемым. Роман Войнич «Овод» потряс юного Блях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00720" y="222264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». В 16 лет он едет в Астрахань и там вливается в ряды пролетариата, устроившись учеником в типографию. В 17 лет он вступил в большевистскую партию (1903 г.), участвовал в революции 1905–1907 гг., не раз сидел в тюрьме и находился в ссылке за нелегальную политическую дея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3280" y="2330280"/>
            <a:ext cx="4500720" cy="33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нятия литературой Павел Андреевич начал в 1919 году. В 1923–1926 гг. он опубликовал ту самую повесть «Красные дьяволята» (второе название «Охота за голубой лисицей»), которую сразу же экранизировал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08680" y="1413000"/>
            <a:ext cx="3435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ей рассказывается о приключениях подростков, сражавшихся в годы гражданской войны в конной армии Будённого. Вместо цыгана Яшки там присутствует не менее колоритный персонаж — чернокожий акробат Том Джаксо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16360" y="2511360"/>
            <a:ext cx="442764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7:37:47Z</dcterms:created>
  <dc:creator>Янкина Ольга Васильевна</dc:creator>
  <dc:description/>
  <dc:language>en-US</dc:language>
  <cp:lastModifiedBy>Янкина Ольга Васильевна</cp:lastModifiedBy>
  <dcterms:modified xsi:type="dcterms:W3CDTF">2011-10-04T08:45:03Z</dcterms:modified>
  <cp:revision>2</cp:revision>
  <dc:subject/>
  <dc:title>Прародитель «неуловимых»</dc:title>
</cp:coreProperties>
</file>