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9157-4123-4235-B195-0BE0B918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060-41F6-4101-B3CB-99543077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961-8B6D-4FFD-984E-57329592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A8E4-BF5F-4D54-B4C6-6DB275CB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D058-F453-414A-9A57-16498DD8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DF6E-527E-4786-8F14-68D117A8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12A2-62FA-4675-8592-01BFBF87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8103-3FFE-4E08-9197-5BCC58C0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0504-F76E-4151-BBDE-56470D69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6F46-4078-4F5A-8ED2-AA255AB3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A7F7-8536-4F7F-AB4D-ABEFFFBD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261-FF90-45FD-9227-77B7E2DC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BBB5-DF0D-45EE-BFD1-E9309A9C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94BA-6BC1-4C90-A563-CC3F81F8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DFAB-A1C3-47EA-8337-704323AF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E574-CF56-4F14-9972-68EB5A55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81F9-89F2-46E4-82E5-523BC6BE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F3B4-ECF9-414A-8A96-D61F6E14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2083-D44B-49FD-8E75-86730DA5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28BE-20B2-403E-A752-52E46FB1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8AA2-3693-4F67-915D-0129B32B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7A49-42E8-4D23-A447-98F87FB2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FB4D-E69B-42E7-ACAF-B0AA27BF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FCE-3D6F-44E8-A24D-0AE9975D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BB21-F11F-42B3-B4C8-4EB70E7B281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7ED8-9978-466C-8415-E14DEBCA62F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66_&#1075;&#1086;&#1076;_&#1074;_&#1082;&#1080;&#1085;&#1086;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Прародитель «неуловимых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  юбилею  писателя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вла  Андреевича Блях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Фильм был снят по первой части одноимённой революционно-приключенческой повести писателя Павла Андреевича Бляхина. Любопытно, что Джаксон — это находка авторов фильма: в литературном первоисточнике вместо него плечом к плечу с героями повести близнецами Мишкой и Дуняшей воевал китайский мальчик Ю-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762440" y="2395440"/>
            <a:ext cx="438156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 воспоминаний С.Я. Марша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:Бляхин Павел Андреевич (1887-1961) - автор повести "Красные дьяволята", которая пользовалась большим успехом в 20-е годы. "С нею, в сущности, впервые в детскую книгу входила революционная героическая тема... Повесть Н. Бляхина являлась попыткой заменить бульварную, переводную приключенческую литератур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27480" y="1600200"/>
            <a:ext cx="3079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385128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«Неуловимые мстители»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 — художественный фильм,  поставленный в 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1966 году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 режиссёром Эдмондом Кеосаяном по мотивам повести </a:t>
            </a:r>
            <a:r>
              <a:rPr b="0" i="1" lang="ru-RU" sz="2400" spc="-1" strike="noStrike">
                <a:solidFill>
                  <a:srgbClr val="ffcc66"/>
                </a:solidFill>
                <a:latin typeface="Tahoma"/>
              </a:rPr>
              <a:t>Павла Бляхина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 «Красные дьяволята»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43760" y="2421000"/>
            <a:ext cx="3000240" cy="4286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348000" y="0"/>
            <a:ext cx="31258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4937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404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  выходом  на  экраны  трилогии  «Неуловимые  мстители»  появился  в  кинематографе  новый  жанр – «истерн» (по  аналогии с вестер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671640" cy="2431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356000" y="907920"/>
            <a:ext cx="4448160" cy="4572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50920" y="2852640"/>
            <a:ext cx="403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 количеству  и сложности  трюков  фильм «Неуловимые  мстители»  в свое  время превзошёл  многие  боевики и вестер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4724" t="9449" r="4724" b="9449"/>
          <a:stretch/>
        </p:blipFill>
        <p:spPr>
          <a:xfrm>
            <a:off x="1403280" y="0"/>
            <a:ext cx="5429160" cy="3648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877000" y="2286000"/>
            <a:ext cx="326700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987640" y="3933720"/>
            <a:ext cx="26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 огромным  успехом  прошёл  во  многих  странах  ми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то из мальчишек и девчонок 60–70-х годов прошлого века, глядя в сотый раз любимый фильм «Неуловимые мстители», не восхищался головокружительными трюками и не смеялся над тем, как юные герои неизменно оставляли в дураках взрослых и глуповатых бандитов? За давностью лет забылось, что у этого фильма был предшественник — картина «Красные дьволята», вышедшая на экраны в 1923 году и чрезвычайно популярная в своё врем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889440" cy="3875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0002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авел  Андреевич Бляхи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автобиографической повести сам Бляхин называет своей родиной село Быковы Саратовской губернии, а биографическая литература о нём — село Верходым нынешней Саратовской области, где он родился в декабре 1886 год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Без описания"/>
          <p:cNvPicPr/>
          <p:nvPr/>
        </p:nvPicPr>
        <p:blipFill>
          <a:blip r:embed="rId1"/>
          <a:stretch/>
        </p:blipFill>
        <p:spPr>
          <a:xfrm>
            <a:off x="5319720" y="1484280"/>
            <a:ext cx="3659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333360"/>
            <a:ext cx="447516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 раннего детства мальчик запомнил пугающие рассказы о голоде, чуме и холере. Ярко врезался в его память обеденный стол в родительском доме: «Он стоял в углу, под иконами. Вокруг сидела на скамьях вся наша семья. Широким кухонным ножом отец тщательно, ровными кусками делил каравай чёрного мякинного хлеба и в строгом порядке раздавал нам. Семь пар глаз нетерпеливо следили за каждым его движением в ожидании своей до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ать мальчика умерла в 1891 году, когда «глад и мор» прокатились по всей России, жестоко поразив и Поволжь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Без описания"/>
          <p:cNvPicPr/>
          <p:nvPr/>
        </p:nvPicPr>
        <p:blipFill>
          <a:blip r:embed="rId1"/>
          <a:stretch/>
        </p:blipFill>
        <p:spPr>
          <a:xfrm>
            <a:off x="5200560" y="907920"/>
            <a:ext cx="373068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гда Паша подрос, дядя отправил его в церковно-приходскую школу. Здесь всем нехитрым наукам — закону божиему, русскому языку, арифметике, элементарной географии и церковнославянскому письму — обучал дьякон. Учился мальчик безукоризнен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антазёр и мечтатель от природы, Павел пристрастился к чтению. Читал без разбору: русские народные сказки, стихи Пушкина, произведения Ф. Купера и Ж. Верна вперемешку с рыцарскими романами и житиями святы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ажды к ним в село приехала молодая учительница Вера Сергеевна. Она сразу выделила не по годам смышлёного паренька, и дальнейшее образование Павла пошло под её влиянием. Она давала ему читать книги и помогала смотреть другими глазами на порядок вещей, казавшийся незыблемым. Роман Войнич «Овод» потряс юного Бляхи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00720" y="222264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». В 16 лет он едет в Астрахань и там вливается в ряды пролетариата, устроившись учеником в типографию. В 17 лет он вступил в большевистскую партию (1903 г.), участвовал в революции 1905–1907 гг., не раз сидел в тюрьме и находился в ссылке за нелегальную политическую деятель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3280" y="2330280"/>
            <a:ext cx="4500720" cy="33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нятия литературой Павел Андреевич начал в 1919 году. В 1923–1926 гг. он опубликовал ту самую повесть «Красные дьяволята» (второе название «Охота за голубой лисицей»), которую сразу же экранизировал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08680" y="1413000"/>
            <a:ext cx="34351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ей рассказывается о приключениях подростков, сражавшихся в годы гражданской войны в конной армии Будённого. Вместо цыгана Яшки там присутствует не менее колоритный персонаж — чернокожий акробат Том Джаксо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16360" y="2511360"/>
            <a:ext cx="442764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07:37:47Z</dcterms:created>
  <dc:creator>Янкина Ольга Васильевна</dc:creator>
  <dc:description/>
  <dc:language>en-US</dc:language>
  <cp:lastModifiedBy>Янкина Ольга Васильевна</cp:lastModifiedBy>
  <dcterms:modified xsi:type="dcterms:W3CDTF">2011-10-04T08:45:03Z</dcterms:modified>
  <cp:revision>2</cp:revision>
  <dc:subject/>
  <dc:title>Прародитель «неуловимых»</dc:title>
</cp:coreProperties>
</file>