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5E6B8-5635-456E-9065-8462FEDBB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-43200"/>
            <a:ext cx="9067680" cy="194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0D886-9AA4-4571-83DB-B082BF289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-43200"/>
            <a:ext cx="9067680" cy="194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2B88B-341D-4BAB-A68C-9826E7754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-43200"/>
            <a:ext cx="9067680" cy="194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E019C-9956-4038-A186-5DCEB7B1B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24AC5-28F7-4F95-B2FB-90AEB7DAF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-43200"/>
            <a:ext cx="9067680" cy="194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47C21-823B-4D52-881E-BB98F342E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-43200"/>
            <a:ext cx="9067680" cy="194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BD4EB-BA55-49DF-BD37-EA5ED8B75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-43200"/>
            <a:ext cx="9067680" cy="194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A7497-CDCF-4E82-82AC-D9BE3B604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-43200"/>
            <a:ext cx="9067680" cy="194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942F2-0BC8-4833-A122-6BDA8DCD1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-43200"/>
            <a:ext cx="9067680" cy="903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45DBE-40AB-4B70-B466-0D746D831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-43200"/>
            <a:ext cx="9067680" cy="194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76A36-145C-4594-BE5D-0E81CCF41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-43200"/>
            <a:ext cx="9067680" cy="194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EDB8A-4275-44AC-B729-698D9816C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-43200"/>
            <a:ext cx="9067680" cy="194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FF087-331D-4F29-AC62-2BC0ECF34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-43200"/>
            <a:ext cx="9067680" cy="194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825A6-2692-4DA4-870D-5277064F9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-43200"/>
            <a:ext cx="9067680" cy="194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80B25-D80D-4D7C-99C0-8469921F7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-43200"/>
            <a:ext cx="9067680" cy="194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9AA2B-AA78-4F30-A513-E96CAD69D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-43200"/>
            <a:ext cx="9067680" cy="194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C5DCD-E458-4609-B346-B5189AC9C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4D9FE8-D05E-4109-A33E-871BAE6C4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3280" y="-43200"/>
            <a:ext cx="9067680" cy="194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D3E817-0682-4056-98A0-DCECDFE37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3280" y="-43200"/>
            <a:ext cx="9067680" cy="194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61E247-410D-426D-A4C7-87BEB11E5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3280" y="-43200"/>
            <a:ext cx="9067680" cy="194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453DC6-16BA-4603-91F0-C371315C2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3280" y="-43200"/>
            <a:ext cx="9067680" cy="194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441669-FA0E-48B6-8E81-0F56728E9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-43200"/>
            <a:ext cx="9067680" cy="194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6C6BA-1BE9-4D6C-AD41-6EBA2BCA5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503280" y="-43200"/>
            <a:ext cx="9067680" cy="903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F293B1-7ABF-48F5-BC4A-9033003C5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3280" y="-43200"/>
            <a:ext cx="9067680" cy="194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4B3DAA-6415-4655-A46C-5FFC43C0B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-43200"/>
            <a:ext cx="9067680" cy="194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CC5BD0-23BB-4D26-868C-544991040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3280" y="-43200"/>
            <a:ext cx="9067680" cy="194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965E43-0978-4750-B7E9-F1CC032E1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3280" y="-43200"/>
            <a:ext cx="9067680" cy="194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90AF10-D610-4D00-AE5A-7C0EE6979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-43200"/>
            <a:ext cx="9067680" cy="194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C33579-145C-4983-A4A0-DC84FE058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3280" y="-43200"/>
            <a:ext cx="9067680" cy="194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7DEAD7-DC03-4652-92A3-B92FDD6CB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-43200"/>
            <a:ext cx="9067680" cy="194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3BFE1-6EE5-4560-8F74-54BAA5C53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-43200"/>
            <a:ext cx="9067680" cy="194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951D3-F607-49A4-A111-6A3980ED0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-43200"/>
            <a:ext cx="9067680" cy="903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F8533-84DC-4FFA-83F7-6DA699748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-43200"/>
            <a:ext cx="9067680" cy="194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8F9C4-CBC9-434A-B75F-9DA5AA8A5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-43200"/>
            <a:ext cx="9067680" cy="194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A5DF8-46E0-4553-87C4-FC73E9E8E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-43200"/>
            <a:ext cx="9067680" cy="194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4F5EC-E83E-4A49-AD00-25A557AE1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965043-BE7D-4F1B-9B5C-CB032F6D8AC2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e6e6e6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053960" y="7380000"/>
            <a:ext cx="2343240" cy="17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999999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99999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179280" y="7380000"/>
            <a:ext cx="3191040" cy="17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999999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999999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198920" y="7380000"/>
            <a:ext cx="2343240" cy="17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999999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185817-6ADA-4026-A50A-8A6E025B3C3D}" type="slidenum">
              <a:rPr b="0" lang="ru-RU" sz="1200" spc="-1" strike="noStrike">
                <a:solidFill>
                  <a:srgbClr val="9999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10080720" cy="3780000"/>
          </a:xfrm>
          <a:prstGeom prst="roundRect">
            <a:avLst>
              <a:gd name="adj" fmla="val 42"/>
            </a:avLst>
          </a:prstGeom>
          <a:gradFill rotWithShape="0">
            <a:gsLst>
              <a:gs pos="0">
                <a:srgbClr val="cc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-43200"/>
            <a:ext cx="9067680" cy="194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57900"/>
                </a:solidFill>
                <a:latin typeface="Bitstream Vera Sans"/>
              </a:rPr>
              <a:t>Click to edit the title text format</a:t>
            </a: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B5D7F7-EE89-45EB-8FCC-CB18DE483BE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2879640" y="1079640"/>
            <a:ext cx="6840720" cy="3240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74574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33"/>
                    </a:gs>
                    <a:gs pos="100000">
                      <a:srgbClr val="ffff66"/>
                    </a:gs>
                  </a:gsLst>
                  <a:lin ang="5400000"/>
                </a:gradFill>
                <a:latin typeface="Arial Black"/>
              </a:rPr>
              <a:t>История патефона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33"/>
                  </a:gs>
                  <a:gs pos="100000">
                    <a:srgbClr val="ffff66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125" name=""/>
          <p:cNvSpPr/>
          <p:nvPr/>
        </p:nvSpPr>
        <p:spPr>
          <a:xfrm>
            <a:off x="5219640" y="7199280"/>
            <a:ext cx="4730760" cy="1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азонов Владислав 10кл. 201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440000" y="3959280"/>
            <a:ext cx="2798640" cy="3240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 fill="hold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" dur="500" fill="hold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" dur="500" fill="hold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03280" y="684360"/>
            <a:ext cx="4586400" cy="63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2640" bIns="45000" anchor="t">
            <a:no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Патефон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— механическое устройство для проигрывания граммофонных пластинок, в качестве привода применялся пружинный двигатель, а звукоусиление производилось с помощью раструба, скрытого внутри корпуса. Звукосниматель состоял из металлической иглы и мембраны. Одного завода пружины хватало на проигрывание одной — реже двух сторон пластинки Громкость патефона весьма велика — около 80-100 дБ, качество звука обычно было невысоким: звук был хриплым, визгливым, с сильными искажениям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5545080" y="1763640"/>
            <a:ext cx="4103640" cy="4321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dur="indefinite" fill="hold">
                      <p:stCondLst>
                        <p:cond delay="0"/>
                      </p:stCondLst>
                      <p:childTnLst>
                        <p:par>
                          <p:cTn id="1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" dur="500" fill="hold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" dur="500" fill="hold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216000" y="3132000"/>
            <a:ext cx="522108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2640" bIns="45000" anchor="t">
            <a:no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1907 году служащий французской фирмы "Патэ" Гильон Кеммлер решил размещать громоздкий рупор внутри граммофона. Новые аппараты стали называться "патефонами" по названию фирмы-производител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5904000" y="2050920"/>
            <a:ext cx="3406680" cy="444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dur="indefinite" fill="hold">
                      <p:stCondLst>
                        <p:cond delay="0"/>
                      </p:stCondLst>
                      <p:childTnLst>
                        <p:par>
                          <p:cTn id="2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" dur="500" fill="hold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500" fill="hold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44360" y="1042920"/>
            <a:ext cx="5616720" cy="50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2640" bIns="45000" anchor="t">
            <a:no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Arial"/>
              </a:rPr>
              <a:t>Патефо́н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— переносная версия граммофона, механическое устройство для проигрывания граммофонных пластинок. В отличие от граммофона, у патефона рупор маленький и встроен в корпус, сам аппарат скомпонован в виде чемоданчика, переносится в застёгнутом виде за специальную ручк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ыл широко распространён в 20—40 гг. XX века. Позднее был вытеснен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электрофоно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звание «патефон» происходит от названия фирмы-производителя: Пат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6408720" y="1619280"/>
            <a:ext cx="3419640" cy="4200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dur="indefinite" fill="hold">
                      <p:stCondLst>
                        <p:cond delay="0"/>
                      </p:stCondLst>
                      <p:childTnLst>
                        <p:par>
                          <p:cTn id="3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2" dur="500" fill="hold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5" dur="500" fill="hold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912000" y="2340000"/>
            <a:ext cx="2879640" cy="34192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431640" y="1332000"/>
            <a:ext cx="6408720" cy="47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2640" bIns="45000" anchor="t">
            <a:no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лово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"патефон"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употребляется для названия портативного граммофона. "Граммофон" - это тоже запатентованное название звуковоспроизводящих аппаратов, выпускаемых определенными фирмами. Так например, в США для обозначения механического проигрывания грампластинок употреблялись такие термины как графофон, фонограф, «Говорящие машины». Настоящий патефон, сконструированный и запатентованный братьями Пате (и названный именно так в их честь), отличался от любых граммофонов не внешним видом (неважно, скрытый рупор или выносной), а методом формирования звуковой канавки - глубинным, а не поперечным, и, соответственно, адаптер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dur="indefinite" fill="hold">
                      <p:stCondLst>
                        <p:cond delay="0"/>
                      </p:stCondLst>
                      <p:childTnLst>
                        <p:par>
                          <p:cTn id="4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2" dur="500" fill="hold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5" dur="500" fill="hold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44360" y="1258920"/>
            <a:ext cx="4483080" cy="542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2640" bIns="45000" anchor="t">
            <a:no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 проигрывании патефонных пластинок применялась сапфировая игла, рассчитанная на многократное использование, в отличие от граммофонной стальной иглы. Важное различие патефонных и граммофонных пластинок состоит в том, что направление канавки патефонной пластинки изнутри к краю, а граммофонной - от края к центру. Таким образом, на настоящем патефоне невозможно прослушать граммофонную пластинку (и наоборот)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5111640" y="1332000"/>
            <a:ext cx="4640400" cy="5008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dur="indefinite" fill="hold">
                      <p:stCondLst>
                        <p:cond delay="0"/>
                      </p:stCondLst>
                      <p:childTnLst>
                        <p:par>
                          <p:cTn id="5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2" dur="500" fill="hold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5" dur="500" fill="hold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2519280" y="1692360"/>
            <a:ext cx="5176800" cy="3306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cc00cc"/>
                    </a:gs>
                    <a:gs pos="100000">
                      <a:srgbClr val="66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Все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cc00cc"/>
                  </a:gs>
                  <a:gs pos="100000">
                    <a:srgbClr val="66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dur="indefinite" fill="hold">
                      <p:stCondLst>
                        <p:cond delay="indefinite"/>
                      </p:stCondLst>
                      <p:childTnLst>
                        <p:par>
                          <p:cTn id="6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2" dur="500" fill="hold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8T04:59:48Z</dcterms:created>
  <dc:creator>linuxuser01 </dc:creator>
  <dc:description/>
  <dc:language>en-US</dc:language>
  <cp:lastModifiedBy>Сазонова</cp:lastModifiedBy>
  <dcterms:modified xsi:type="dcterms:W3CDTF">2011-02-24T19:00:01Z</dcterms:modified>
  <cp:revision>3</cp:revision>
  <dc:subject/>
  <dc:title>Слайд 1</dc:title>
</cp:coreProperties>
</file>