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9FA-34A5-4F8E-B145-D6BBB898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241-0B53-4FDC-82B1-FA6F3DF5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021-2315-44F5-9C13-98BEB35B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C08-9EAB-4937-B706-0B11BBF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56FA-4CE2-4B38-914E-EFA2FBD5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59E3-02F6-4C61-A998-12D391E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A196-AB7F-4C1F-8062-43720684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B5DF-0DBD-418A-9BCB-CB41EBC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8A2-F213-49B2-81AA-7B127AC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EDC-3D7C-401F-B90B-BE68648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3E8-8A16-43C6-B4C8-FEE304F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782-8723-48DC-8493-D3FA1BB1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47E6-7BD4-4CF3-9349-C194B51B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F513-F4D5-4FA1-B48D-C97A60A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C1E6-ED24-4C68-9AE7-511720B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228A-19CC-499E-BBAC-041DEC40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D0C7-644C-411A-8DDB-E0031DA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3B453-133F-450F-B5A6-6E35674A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E36E-5AFB-4F7F-B444-C1EF057F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708E-C1BD-4FFB-AF1D-DAAA9BE3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E62D-EA3D-4E1A-B627-810A560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8945-D26A-4AE2-9ABF-38B7DAA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FDF-B336-4F92-A7AD-E7413D36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CF29-5156-43FA-A884-3B32D3D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7657-B5D4-4EEA-A768-3A3DA84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B583-F353-40E7-85BF-3775B30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48EB-ECEA-418B-B1C9-36F04D9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D641-B235-4709-83C5-D1199DA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286E8-3FA1-44A1-90DF-F99E0CBB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953B-1BF3-4397-B327-EA4D2DC7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3E8-FB04-49FD-B61E-CC6D183A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0A3-11B6-4671-8D77-992AC5BB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541-9172-48A1-ABBC-E835004F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E1E-2EFE-42BB-A084-C5E28E17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0D5-C52A-4C76-8EAF-8E0D6F70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FCD-C398-4AE5-B329-DE8B340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4C0D3-26E0-4F0E-9618-3D1DEF4E7E1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5396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79280" y="7380000"/>
            <a:ext cx="31910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98920" y="7380000"/>
            <a:ext cx="2343240" cy="1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AE4FA-B1B2-4E36-9A26-6017FECA57DF}" type="slidenum">
              <a:rPr b="0" lang="ru-RU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4E93-C216-4578-9150-9340DBBAFA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79640" y="1079640"/>
            <a:ext cx="6840720" cy="32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История патефон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7199280"/>
            <a:ext cx="4730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зонов Владислав 10кл.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0000" y="3959280"/>
            <a:ext cx="2798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03280" y="684360"/>
            <a:ext cx="45864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теф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механическое устройство для проигрывания граммофонных пластинок, в качестве привода применялся пружинный двигатель, а звукоусиление производилось с помощью раструба, скрытого внутри корпуса. Звукосниматель состоял из металлической иглы и мембраны. Одного завода пружины хватало на проигрывание одной — реже двух сторон пластинки Громкость патефона весьма велика — около 80-100 дБ, качество звука обычно было невысоким: звук был хриплым, визгливым, с сильными искаж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45080" y="176364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6000" y="3132000"/>
            <a:ext cx="5221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7 году служащий французской фирмы "Патэ" Гильон Кеммлер решил размещать громоздкий рупор внутри граммофона. Новые аппараты стали называться "патефонами" по названию фирмы-произво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904000" y="2050920"/>
            <a:ext cx="3406680" cy="44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360" y="1042920"/>
            <a:ext cx="5616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атефо́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ереносная версия граммофона, механическое устройство для проигрывания граммофонных пластинок. В отличие от граммофона, у патефона рупор маленький и встроен в корпус, сам аппарат скомпонован в виде чемоданчика, переносится в застёгнутом виде за специальную ру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широко распространён в 20—40 гг. XX века. Позднее был вытеснен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лектрофо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«патефон» происходит от названия фирмы-производителя: П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08720" y="1619280"/>
            <a:ext cx="3419640" cy="42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12000" y="2340000"/>
            <a:ext cx="287964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1640" y="1332000"/>
            <a:ext cx="64087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патефон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отребляется для названия портативного граммофона. "Граммофон" - это тоже запатентованное название звуковоспроизводящих аппаратов, выпускаемых определенными фирмами. Так например, в США для обозначения механического проигрывания грампластинок употреблялись такие термины как графофон, фонограф, «Говорящие машины». Настоящий патефон, сконструированный и запатентованный братьями Пате (и названный именно так в их честь), отличался от любых граммофонов не внешним видом (неважно, скрытый рупор или выносной), а методом формирования звуковой канавки - глубинным, а не поперечным, и, соответственно, адап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360" y="1258920"/>
            <a:ext cx="44830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игрывании патефонных пластинок применялась сапфировая игла, рассчитанная на многократное использование, в отличие от граммофонной стальной иглы. Важное различие патефонных и граммофонных пластинок состоит в том, что направление канавки патефонной пластинки изнутри к краю, а граммофонной - от края к центру. Таким образом, на настоящем патефоне невозможно прослушать граммофонную пластинку (и наоборот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11640" y="1332000"/>
            <a:ext cx="4640400" cy="50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0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19280" y="1692360"/>
            <a:ext cx="5176800" cy="330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4:59:48Z</dcterms:created>
  <dc:creator>linuxuser01 </dc:creator>
  <dc:description/>
  <dc:language>en-US</dc:language>
  <cp:lastModifiedBy>Сазонова</cp:lastModifiedBy>
  <dcterms:modified xsi:type="dcterms:W3CDTF">2011-02-24T19:00:01Z</dcterms:modified>
  <cp:revision>3</cp:revision>
  <dc:subject/>
  <dc:title>Слайд 1</dc:title>
</cp:coreProperties>
</file>