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D00-BE25-42B9-8805-0E333661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7DF-0B71-4619-BFC0-EC8106C8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C88-2215-49F5-AAB9-F2BCDC49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31E-C9D5-4C17-870F-9E297999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4862-F024-4792-A324-65750559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31C-FF4C-4A0B-A7A9-41E6EA8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AC97-5AB4-4591-8A4D-E34EF0D2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157B-741F-45FF-A27A-1FE4744C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3B2-7509-4A44-A951-9315DC74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2D57-423E-4729-9296-2B3777A5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B661-C052-4025-88A9-A98FA9D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51B-0C28-4DEF-A5F3-684220C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E838-0FBB-44AE-9EC7-D5A04F4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E575-C4FA-4A5E-9520-F8FA8A3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417F-8831-489D-A073-3D66BC86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A2DB-6F1F-4CD1-A10E-E19BCEA9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9715-7EB1-409E-B780-622C5CEA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9462-EFA8-42B8-B18C-5F5FEB56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9E41-D73F-4A98-9486-34DD1189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2CBE-BA80-45AC-BD50-B787C54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3FEE-676C-417B-970F-908D3B21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9229-BC90-4CC2-AD4E-A914F7E1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04A-E593-4B29-AB0A-497FF266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A6AF-5E3A-45F4-8AB1-1C5335A1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7DD7-3AD8-46DC-B2F1-AC2E49E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4602-11B2-45BD-B405-46AD90EB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32E7-2714-41F3-AC94-3B82F01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A034-2D09-481A-91F8-89DDCF51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F54C-C2B6-423F-8EA1-B56C666D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688C-DDF6-45F7-A721-A2151B03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A5D-26B3-46F1-8F81-C19224DC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961-6247-4FFF-9015-AF863F3C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796-5285-45C0-9403-8AD93CDD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567-6DB6-4EFD-97B0-8BFCAB96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C7E-96DB-4FE3-A4DA-B0407D17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4A2-4682-4052-8745-DC34A17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0AB21-7811-4D50-99BB-F016819197D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53960" y="7380000"/>
            <a:ext cx="23432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79280" y="7380000"/>
            <a:ext cx="31910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98920" y="7380000"/>
            <a:ext cx="23432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40BCB-0EFF-4BD2-89A9-DEAA17456C2A}" type="slidenum"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6D710-65CE-4DC8-9101-D4BCC9086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79640" y="1079640"/>
            <a:ext cx="6840720" cy="32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История патефон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7199280"/>
            <a:ext cx="4730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зонов Владислав 10кл.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0000" y="3959280"/>
            <a:ext cx="2798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3280" y="684360"/>
            <a:ext cx="45864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теф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механическое устройство для проигрывания граммофонных пластинок, в качестве привода применялся пружинный двигатель, а звукоусиление производилось с помощью раструба, скрытого внутри корпуса. Звукосниматель состоял из металлической иглы и мембраны. Одного завода пружины хватало на проигрывание одной — реже двух сторон пластинки Громкость патефона весьма велика — около 80-100 дБ, качество звука обычно было невысоким: звук был хриплым, визгливым, с сильными иска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45080" y="176364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6000" y="3132000"/>
            <a:ext cx="52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7 году служащий французской фирмы "Патэ" Гильон Кеммлер решил размещать громоздкий рупор внутри граммофона. Новые аппараты стали называться "патефонами" по названию фирмы-произво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04000" y="2050920"/>
            <a:ext cx="3406680" cy="444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360" y="1042920"/>
            <a:ext cx="561672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атефо́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ереносная версия граммофона, механическое устройство для проигрывания граммофонных пластинок. В отличие от граммофона, у патефона рупор маленький и встроен в корпус, сам аппарат скомпонован в виде чемоданчика, переносится в застёгнутом виде за специальную ру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широко распространён в 20—40 гг. XX века. Позднее был вытеснен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электрофо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«патефон» происходит от названия фирмы-производителя: П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08720" y="1619280"/>
            <a:ext cx="3419640" cy="42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12000" y="2340000"/>
            <a:ext cx="287964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1640" y="1332000"/>
            <a:ext cx="6408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"патефон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отребляется для названия портативного граммофона. "Граммофон" - это тоже запатентованное название звуковоспроизводящих аппаратов, выпускаемых определенными фирмами. Так например, в США для обозначения механического проигрывания грампластинок употреблялись такие термины как графофон, фонограф, «Говорящие машины». Настоящий патефон, сконструированный и запатентованный братьями Пате (и названный именно так в их честь), отличался от любых граммофонов не внешним видом (неважно, скрытый рупор или выносной), а методом формирования звуковой канавки - глубинным, а не поперечным, и, соответственно, адап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360" y="1258920"/>
            <a:ext cx="44830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оигрывании патефонных пластинок применялась сапфировая игла, рассчитанная на многократное использование, в отличие от граммофонной стальной иглы. Важное различие патефонных и граммофонных пластинок состоит в том, что направление канавки патефонной пластинки изнутри к краю, а граммофонной - от края к центру. Таким образом, на настоящем патефоне невозможно прослушать граммофонную пластинку (и наоборот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11640" y="1332000"/>
            <a:ext cx="4640400" cy="50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19280" y="1692360"/>
            <a:ext cx="5176800" cy="330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4:59:48Z</dcterms:created>
  <dc:creator>linuxuser01 </dc:creator>
  <dc:description/>
  <dc:language>en-US</dc:language>
  <cp:lastModifiedBy>Сазонова</cp:lastModifiedBy>
  <dcterms:modified xsi:type="dcterms:W3CDTF">2011-02-24T19:00:01Z</dcterms:modified>
  <cp:revision>3</cp:revision>
  <dc:subject/>
  <dc:title>Слайд 1</dc:title>
</cp:coreProperties>
</file>