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3.jpeg" ContentType="image/jpe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13.wmf" ContentType="image/x-wmf"/>
  <Override PartName="/ppt/media/image10.png" ContentType="image/png"/>
  <Override PartName="/ppt/media/image35.jpeg" ContentType="image/jpeg"/>
  <Override PartName="/ppt/media/image29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18.png" ContentType="image/png"/>
  <Override PartName="/ppt/media/image28.jpeg" ContentType="image/jpeg"/>
  <Override PartName="/ppt/media/image12.wmf" ContentType="image/x-wmf"/>
  <Override PartName="/ppt/media/image34.jpeg" ContentType="image/jpeg"/>
  <Override PartName="/ppt/media/image37.png" ContentType="image/png"/>
  <Override PartName="/ppt/media/image40.jpeg" ContentType="image/jpeg"/>
  <Override PartName="/ppt/media/image9.png" ContentType="image/png"/>
  <Override PartName="/ppt/media/image8.jpeg" ContentType="image/jpeg"/>
  <Override PartName="/ppt/media/image39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0E9-AFED-44D6-AD2A-757365B3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972-516E-4E19-A412-25916CB1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66D-364A-4E12-8A9F-BDCAD4CE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447-36BF-4084-8746-7075B33E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3350-943E-4A82-8494-178BD86A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D671-5DFD-4E7E-BB20-4E85BEB5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292F-ADF3-42EE-8C11-E90C9102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78A8-1E79-4D5D-ADCD-F8F81D4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B184-8370-402A-A3FC-3D57BA07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90AB-9B9E-4CF7-9399-056DDF85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585-80D6-4E7B-87C4-84AC8891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80F-5D8E-4CD8-AFF6-C1DB0DD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3C9F-5C32-4AAD-9EAB-8278E7A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CB0B-4C73-4248-8CE5-C43A8A2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C21B-9E74-444F-9FCE-87431A48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97A0-E7BA-471A-AC93-AD9D9F22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2E9B-51FB-4021-BBEE-C9FC5194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EF5-444C-4609-B97F-01A096A1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4FF-D3E5-4837-9BDB-1CCBDAF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DB6-B9D7-4826-BF22-B62974A1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B30-8B85-4468-8D9E-3A2FE7E9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B39-50D1-41E3-90F8-821780BB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A53-C956-4B53-A725-ABFAD588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D9D-65E7-4FC9-AFAA-81E6669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CA9-828A-4309-B4B4-1F73BAB7B6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EE8E-103D-4417-A869-7608C53129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6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25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604836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а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геометрии на тему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Геометрические построения на плоск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696000" cy="4857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288800" y="189000"/>
            <a:ext cx="718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(Построения сечения призмы плоскостью 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проходящей через три точ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а 2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метод следо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332000" y="1801800"/>
            <a:ext cx="6696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а 3 </a:t>
            </a: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способ внутреннего проектирования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84360" y="1544760"/>
            <a:ext cx="7559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ические сечения.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Picture 4" descr="Рис. 1. КОНИЧЕСКИЕ СЕЧЕНИЯ как результат пересечения плоскости с конусом. Три основных типа конических сечений: а – эллипс, б – парабола, в – гипербола."/>
          <p:cNvPicPr/>
          <p:nvPr/>
        </p:nvPicPr>
        <p:blipFill>
          <a:blip r:embed="rId1"/>
          <a:stretch/>
        </p:blipFill>
        <p:spPr>
          <a:xfrm>
            <a:off x="3348000" y="1557360"/>
            <a:ext cx="5183280" cy="486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Picture 6" descr="200px-Apollonios_of_Perga"/>
          <p:cNvPicPr/>
          <p:nvPr/>
        </p:nvPicPr>
        <p:blipFill>
          <a:blip r:embed="rId2"/>
          <a:stretch/>
        </p:blipFill>
        <p:spPr>
          <a:xfrm>
            <a:off x="179280" y="3213000"/>
            <a:ext cx="2540160" cy="31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7"/>
          <p:cNvSpPr/>
          <p:nvPr/>
        </p:nvSpPr>
        <p:spPr>
          <a:xfrm>
            <a:off x="294120" y="6400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Аполлоний Перг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497400" y="15573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10360" y="16286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131600" y="155736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строение сеч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4" descr="Рис. 2. ПОСТРОЕНИЕ ЭЛЛИПСА. 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2608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292720" y="184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ербол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Рис. 3. ПОСТРОЕНИЕ ГИПЕРБОЛЫ (а) и ее асимптот (б). При неограниченном продолжении ветви гиперболы стремятся к асимптотам."/>
          <p:cNvPicPr/>
          <p:nvPr/>
        </p:nvPicPr>
        <p:blipFill>
          <a:blip r:embed="rId2"/>
          <a:stretch/>
        </p:blipFill>
        <p:spPr>
          <a:xfrm>
            <a:off x="324000" y="4005360"/>
            <a:ext cx="5952960" cy="2685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3" name="Picture 7" descr="Рис. 4. ПОСТРОЕНИЕ ПАРАБОЛЫ. "/>
          <p:cNvPicPr/>
          <p:nvPr/>
        </p:nvPicPr>
        <p:blipFill>
          <a:blip r:embed="rId3"/>
          <a:stretch/>
        </p:blipFill>
        <p:spPr>
          <a:xfrm>
            <a:off x="6732720" y="3645000"/>
            <a:ext cx="2286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налитический подход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877080" y="1628640"/>
                <a:ext cx="18018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6" name="Picture 4" descr="Рис. 7. АНАЛИТИЧЕСКИЙ ВЫВОД ПАРАБОЛЫ."/>
          <p:cNvPicPr/>
          <p:nvPr/>
        </p:nvPicPr>
        <p:blipFill>
          <a:blip r:embed="rId1"/>
          <a:stretch/>
        </p:blipFill>
        <p:spPr>
          <a:xfrm>
            <a:off x="539640" y="4508640"/>
            <a:ext cx="2376720" cy="2014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Text Box 5"/>
          <p:cNvSpPr/>
          <p:nvPr/>
        </p:nvSpPr>
        <p:spPr>
          <a:xfrm>
            <a:off x="3492360" y="587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image004"/>
          <p:cNvPicPr/>
          <p:nvPr/>
        </p:nvPicPr>
        <p:blipFill>
          <a:blip r:embed="rId2"/>
          <a:stretch/>
        </p:blipFill>
        <p:spPr>
          <a:xfrm>
            <a:off x="900000" y="981000"/>
            <a:ext cx="6193080" cy="5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Рис. 5. КОНСТРУКЦИЯ ДАНДЕЛЕНА. "/>
          <p:cNvPicPr/>
          <p:nvPr/>
        </p:nvPicPr>
        <p:blipFill>
          <a:blip r:embed="rId3"/>
          <a:stretch/>
        </p:blipFill>
        <p:spPr>
          <a:xfrm>
            <a:off x="826920" y="1557360"/>
            <a:ext cx="5689800" cy="278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Text Box 10"/>
          <p:cNvSpPr/>
          <p:nvPr/>
        </p:nvSpPr>
        <p:spPr>
          <a:xfrm>
            <a:off x="7149240" y="29973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ЛЛИПС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541120" y="501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322240" y="595008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4"/>
              <p:cNvSpPr txBox="1"/>
              <p:nvPr/>
            </p:nvSpPr>
            <p:spPr>
              <a:xfrm>
                <a:off x="3419640" y="4508640"/>
                <a:ext cx="18921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04872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оектив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5" descr="Рис. 8. ПРОЕКЦИЯ ОКРУЖНОСТИ дает эллипс и параболу."/>
          <p:cNvPicPr/>
          <p:nvPr/>
        </p:nvPicPr>
        <p:blipFill>
          <a:blip r:embed="rId1"/>
          <a:stretch/>
        </p:blipFill>
        <p:spPr>
          <a:xfrm>
            <a:off x="3564000" y="1630440"/>
            <a:ext cx="2674800" cy="522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kompozicia3"/>
          <p:cNvPicPr/>
          <p:nvPr/>
        </p:nvPicPr>
        <p:blipFill>
          <a:blip r:embed="rId2"/>
          <a:stretch/>
        </p:blipFill>
        <p:spPr>
          <a:xfrm>
            <a:off x="6238800" y="2897280"/>
            <a:ext cx="2905200" cy="39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7" name="Picture 7" descr="100001587[1]"/>
          <p:cNvPicPr/>
          <p:nvPr/>
        </p:nvPicPr>
        <p:blipFill>
          <a:blip r:embed="rId3"/>
          <a:stretch/>
        </p:blipFill>
        <p:spPr>
          <a:xfrm>
            <a:off x="0" y="2565360"/>
            <a:ext cx="3592440" cy="429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ключение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Геометрия в архитектуре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4" descr="x_f03780e16f"/>
          <p:cNvPicPr/>
          <p:nvPr/>
        </p:nvPicPr>
        <p:blipFill>
          <a:blip r:embed="rId1"/>
          <a:stretch/>
        </p:blipFill>
        <p:spPr>
          <a:xfrm>
            <a:off x="0" y="0"/>
            <a:ext cx="9396360" cy="705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0" name="Text Box 8"/>
          <p:cNvSpPr/>
          <p:nvPr/>
        </p:nvSpPr>
        <p:spPr>
          <a:xfrm>
            <a:off x="315360" y="6033960"/>
            <a:ext cx="853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Verdana"/>
              </a:rPr>
              <a:t>Геометрия в архитектур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88400" y="4046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еометрия в архитектур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4" descr="Коронные ворота. Цвингер"/>
          <p:cNvPicPr/>
          <p:nvPr/>
        </p:nvPicPr>
        <p:blipFill>
          <a:blip r:embed="rId1"/>
          <a:stretch/>
        </p:blipFill>
        <p:spPr>
          <a:xfrm>
            <a:off x="0" y="0"/>
            <a:ext cx="4807080" cy="64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4" name="Picture 6" descr="Земпер опера"/>
          <p:cNvPicPr/>
          <p:nvPr/>
        </p:nvPicPr>
        <p:blipFill>
          <a:blip r:embed="rId2"/>
          <a:stretch/>
        </p:blipFill>
        <p:spPr>
          <a:xfrm>
            <a:off x="4881600" y="189000"/>
            <a:ext cx="4262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lbum_pi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: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Исследование роли «геометрического построения на плоскости»  в геометрии  и      архитектуре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2706480"/>
            <a:ext cx="73134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Изучить научную литературу, ресурсы сети Интернет по исследуемой 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Выявить роль задач на построение сечений  в геометрии, архитектур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Показать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) непосредственную связь геометрии и архитекту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) прикладные возможности задач на построение сече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) значимость задач в развитии современной нау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4" descr="x_f095afda6c"/>
          <p:cNvPicPr/>
          <p:nvPr/>
        </p:nvPicPr>
        <p:blipFill>
          <a:blip r:embed="rId1"/>
          <a:stretch/>
        </p:blipFill>
        <p:spPr>
          <a:xfrm>
            <a:off x="0" y="22320"/>
            <a:ext cx="9612360" cy="683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x_c91b6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4" descr="x_9ed9c8f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x_53f2ee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x_1e16be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4" name="Picture 4" descr="2пррьп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00001587[1]"/>
          <p:cNvPicPr/>
          <p:nvPr/>
        </p:nvPicPr>
        <p:blipFill>
          <a:blip r:embed="rId2"/>
          <a:stretch/>
        </p:blipFill>
        <p:spPr>
          <a:xfrm>
            <a:off x="7020000" y="2133720"/>
            <a:ext cx="1828800" cy="218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6" name="Picture 5" descr="Compoz1[1]"/>
          <p:cNvPicPr/>
          <p:nvPr/>
        </p:nvPicPr>
        <p:blipFill>
          <a:blip r:embed="rId3"/>
          <a:stretch/>
        </p:blipFill>
        <p:spPr>
          <a:xfrm>
            <a:off x="3348000" y="1700280"/>
            <a:ext cx="3462480" cy="51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7" name="Picture 6" descr="f_5704578[1]"/>
          <p:cNvPicPr/>
          <p:nvPr/>
        </p:nvPicPr>
        <p:blipFill>
          <a:blip r:embed="rId4"/>
          <a:stretch/>
        </p:blipFill>
        <p:spPr>
          <a:xfrm>
            <a:off x="0" y="1308240"/>
            <a:ext cx="3259080" cy="5549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kompozicia3"/>
          <p:cNvPicPr/>
          <p:nvPr/>
        </p:nvPicPr>
        <p:blipFill>
          <a:blip r:embed="rId5"/>
          <a:stretch/>
        </p:blipFill>
        <p:spPr>
          <a:xfrm>
            <a:off x="7020000" y="4410000"/>
            <a:ext cx="1793880" cy="24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611280" y="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не есть одна нау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пользуется наукой 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должно уме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законы и знания применять  к дел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(П.П.Чистяков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2" descr="Картинка 11 из 93"/>
          <p:cNvPicPr/>
          <p:nvPr/>
        </p:nvPicPr>
        <p:blipFill>
          <a:blip r:embed="rId6"/>
          <a:stretch/>
        </p:blipFill>
        <p:spPr>
          <a:xfrm>
            <a:off x="7093080" y="0"/>
            <a:ext cx="15541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писок используемой литера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 А.В. Бубенков, М.Я. Громов (Начертательная геометрия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С. А. Фролов (Начертательная геометрия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А.А. Беклемшнева (Сборник задач по аналитической геометрии и      линейной алгебре     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Ресурсы сети Интерн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andex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oogle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20720" cy="545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59920"/>
            <a:ext cx="80852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Из истории начертательной геомет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 Виды проециро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центральное проецировани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параллельное проецировани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основные независимые свойства параллельного проец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. Пересечение многогранников плоскост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методы построения сечений многогранн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метод сле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ешение задач на построение сечений многогранник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способ внутреннего проектирова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ешение задач на построение сечений многогранни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. Конические се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ранняя истор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построение конических сечени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ллипс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гипербо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арабо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свойства конических сечени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определения Пап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конструкция Данделен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другие свой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алгебраическая классифик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ывод уравнений конических сеч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) проективный подход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) специальные постро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6. Заключ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7. Список используемой литератур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360" y="1341000"/>
            <a:ext cx="5545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Введение.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1764000" cy="11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с. 1. КОНИЧЕСКИЕ СЕЧЕНИЯ как результат пересечения плоскости с конусом. Три основных типа конических сечений: а – эллипс, б – парабола, в – гипербола."/>
          <p:cNvPicPr/>
          <p:nvPr/>
        </p:nvPicPr>
        <p:blipFill>
          <a:blip r:embed="rId2"/>
          <a:stretch/>
        </p:blipFill>
        <p:spPr>
          <a:xfrm>
            <a:off x="179280" y="4581360"/>
            <a:ext cx="1692360" cy="158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6" descr="0_bd46_a99cbdf5_XL[1]"/>
          <p:cNvPicPr/>
          <p:nvPr/>
        </p:nvPicPr>
        <p:blipFill>
          <a:blip r:embed="rId3"/>
          <a:stretch/>
        </p:blipFill>
        <p:spPr>
          <a:xfrm>
            <a:off x="2050920" y="1484280"/>
            <a:ext cx="3484800" cy="485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7" descr="x_f387d3c2"/>
          <p:cNvPicPr/>
          <p:nvPr/>
        </p:nvPicPr>
        <p:blipFill>
          <a:blip r:embed="rId4"/>
          <a:stretch/>
        </p:blipFill>
        <p:spPr>
          <a:xfrm>
            <a:off x="5543640" y="1484280"/>
            <a:ext cx="3600360" cy="479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истории начертательной геометри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200px-Gaspard_monge_litho_delpech"/>
          <p:cNvPicPr/>
          <p:nvPr/>
        </p:nvPicPr>
        <p:blipFill>
          <a:blip r:embed="rId1"/>
          <a:stretch/>
        </p:blipFill>
        <p:spPr>
          <a:xfrm>
            <a:off x="3564000" y="1844640"/>
            <a:ext cx="2733480" cy="29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4211640" y="5157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Гаспар Мон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84360" y="616572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8" descr="Kurdumov"/>
          <p:cNvPicPr/>
          <p:nvPr/>
        </p:nvPicPr>
        <p:blipFill>
          <a:blip r:embed="rId2"/>
          <a:stretch/>
        </p:blipFill>
        <p:spPr>
          <a:xfrm>
            <a:off x="6443640" y="2492280"/>
            <a:ext cx="253836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Text Box 9"/>
          <p:cNvSpPr/>
          <p:nvPr/>
        </p:nvSpPr>
        <p:spPr>
          <a:xfrm>
            <a:off x="6443640" y="5805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ргей Курдюм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11" descr="Картинка 7 из 110"/>
          <p:cNvPicPr/>
          <p:nvPr/>
        </p:nvPicPr>
        <p:blipFill>
          <a:blip r:embed="rId3"/>
          <a:stretch/>
        </p:blipFill>
        <p:spPr>
          <a:xfrm>
            <a:off x="826920" y="1773360"/>
            <a:ext cx="258156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Картинка 12 из 110"/>
          <p:cNvPicPr/>
          <p:nvPr/>
        </p:nvPicPr>
        <p:blipFill>
          <a:blip r:embed="rId4"/>
          <a:stretch/>
        </p:blipFill>
        <p:spPr>
          <a:xfrm>
            <a:off x="108000" y="3933720"/>
            <a:ext cx="33051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иды проецирования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0"/>
              <p:cNvSpPr txBox="1"/>
              <p:nvPr/>
            </p:nvSpPr>
            <p:spPr>
              <a:xfrm>
                <a:off x="3102120" y="37767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Line 4"/>
          <p:cNvSpPr/>
          <p:nvPr/>
        </p:nvSpPr>
        <p:spPr>
          <a:xfrm flipH="1">
            <a:off x="3276360" y="836640"/>
            <a:ext cx="647640" cy="2016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284720" y="765000"/>
            <a:ext cx="863640" cy="2087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-5869080" y="638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324000" y="3141720"/>
          <a:ext cx="416376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141720"/>
                    <a:ext cx="4163760" cy="2546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Rectangle 12"/>
          <p:cNvSpPr/>
          <p:nvPr/>
        </p:nvSpPr>
        <p:spPr>
          <a:xfrm>
            <a:off x="-5940360" y="595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3" descr="ris1_3"/>
          <p:cNvPicPr/>
          <p:nvPr/>
        </p:nvPicPr>
        <p:blipFill>
          <a:blip r:embed="rId3"/>
          <a:stretch/>
        </p:blipFill>
        <p:spPr>
          <a:xfrm>
            <a:off x="4572000" y="3141720"/>
            <a:ext cx="3705120" cy="262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7" name="Text Box 15"/>
          <p:cNvSpPr/>
          <p:nvPr/>
        </p:nvSpPr>
        <p:spPr>
          <a:xfrm>
            <a:off x="2003040" y="270828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Централь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34640" y="27082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араллельн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219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7648560" y="589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2"/>
              <p:cNvSpPr txBox="1"/>
              <p:nvPr/>
            </p:nvSpPr>
            <p:spPr>
              <a:xfrm>
                <a:off x="5867280" y="6324480"/>
                <a:ext cx="1100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1908000" y="6324480"/>
                <a:ext cx="660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Text Box 36"/>
          <p:cNvSpPr/>
          <p:nvPr/>
        </p:nvSpPr>
        <p:spPr>
          <a:xfrm>
            <a:off x="406440" y="57340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Аппарат проец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866840" y="573408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Аппарат проецир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сеч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ногогранников плоскостью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99" descr=""/>
          <p:cNvPicPr/>
          <p:nvPr/>
        </p:nvPicPr>
        <p:blipFill>
          <a:blip r:embed="rId1"/>
          <a:stretch/>
        </p:blipFill>
        <p:spPr>
          <a:xfrm>
            <a:off x="1547640" y="3535200"/>
            <a:ext cx="6409080" cy="3322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0"/>
          <p:cNvSpPr/>
          <p:nvPr/>
        </p:nvSpPr>
        <p:spPr>
          <a:xfrm>
            <a:off x="755640" y="1413000"/>
            <a:ext cx="58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Центральное проецирование используется -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ри построении сечений пирами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вершина пирамиды центр проец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сеч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ногогранников плоскостью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-181080" y="3141720"/>
            <a:ext cx="4896000" cy="32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3924360" y="2924280"/>
            <a:ext cx="4859280" cy="3357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856880" y="1552680"/>
            <a:ext cx="50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араллельное проецир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использу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ри построении сечений призм</a:t>
            </a: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дача 1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остроения сечения призмы плоскостью , проходящей через три точки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4000" y="1557360"/>
            <a:ext cx="8326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7T06:16:20Z</dcterms:created>
  <dc:creator>468гтип</dc:creator>
  <dc:description/>
  <dc:language>en-US</dc:language>
  <cp:lastModifiedBy>Admin</cp:lastModifiedBy>
  <dcterms:modified xsi:type="dcterms:W3CDTF">2010-10-03T08:36:36Z</dcterms:modified>
  <cp:revision>10</cp:revision>
  <dc:subject/>
  <dc:title>Исследовательская работа по геометрии на тему: «Решение задач на построение сечений».</dc:title>
</cp:coreProperties>
</file>