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7.jpeg" ContentType="image/jpeg"/>
  <Override PartName="/ppt/media/image38.jpeg" ContentType="image/jpeg"/>
  <Override PartName="/ppt/media/image3.jpeg" ContentType="image/jpe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13.wmf" ContentType="image/x-wmf"/>
  <Override PartName="/ppt/media/image10.png" ContentType="image/png"/>
  <Override PartName="/ppt/media/image35.jpeg" ContentType="image/jpeg"/>
  <Override PartName="/ppt/media/image29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18.png" ContentType="image/png"/>
  <Override PartName="/ppt/media/image28.jpeg" ContentType="image/jpeg"/>
  <Override PartName="/ppt/media/image12.wmf" ContentType="image/x-wmf"/>
  <Override PartName="/ppt/media/image34.jpeg" ContentType="image/jpeg"/>
  <Override PartName="/ppt/media/image37.png" ContentType="image/png"/>
  <Override PartName="/ppt/media/image40.jpeg" ContentType="image/jpeg"/>
  <Override PartName="/ppt/media/image9.png" ContentType="image/png"/>
  <Override PartName="/ppt/media/image8.jpeg" ContentType="image/jpeg"/>
  <Override PartName="/ppt/media/image39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E20-C1FA-496A-B3BD-FD343615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F27-65CC-4247-BC0B-07DC127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E05-43E2-477C-A4C4-38D4654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2A7-65BA-450B-BB38-1882A61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C38-0156-469C-8940-979CBE6F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42EB-32F7-4531-83AD-FBA1F1A4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2712-4B79-4CA6-B0A0-6E7B215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AC0D-15A6-4243-8AC0-87274FE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999-5A57-4130-85BC-04336D8E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432F-B6C2-4E61-A72A-3A30C7A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BBCC-85B1-47E6-931D-3D57BB13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E33-A501-4E03-97AA-072D7EC6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5BF4-A7E5-493B-8B1F-7A07EB0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6205-52AE-4089-893C-471BC82E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962-37EE-4020-86CE-BC69F31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1522-75BB-4C2B-BFF7-7EEF1D2A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DB06-7143-41D4-AF3B-36501D29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195-FD4D-4E4D-9594-6B522D65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9B7-0510-4314-A728-B56719F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E7A-EC5D-4F80-AB44-221C3B6D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D37-4E23-44CD-923B-3E6CCB2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851-6435-407F-BF58-43EAE7BC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148-86AA-4CC6-A4FE-F7A0786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3B4-189C-47C5-94EF-2CF0B0FE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7F01-F104-44C8-A776-6CE56EC896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676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7FA-7053-42C4-AA39-928AD27E8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6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25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4920" y="1125000"/>
            <a:ext cx="604836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геометрии на тему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Геометрические построения на плоскост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696000" cy="4857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288800" y="189000"/>
            <a:ext cx="7188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(Построения сечения призмы плоскостью 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проходящей через три точк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2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метод следов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332000" y="1801800"/>
            <a:ext cx="669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а 3 </a:t>
            </a: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6666"/>
                </a:solidFill>
                <a:latin typeface="Arial"/>
              </a:rPr>
              <a:t>способ внутреннего проектирования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84360" y="1544760"/>
            <a:ext cx="7559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ические сечения.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Picture 4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1"/>
          <a:stretch/>
        </p:blipFill>
        <p:spPr>
          <a:xfrm>
            <a:off x="3348000" y="1557360"/>
            <a:ext cx="5183280" cy="486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4" name="Picture 6" descr="200px-Apollonios_of_Perga"/>
          <p:cNvPicPr/>
          <p:nvPr/>
        </p:nvPicPr>
        <p:blipFill>
          <a:blip r:embed="rId2"/>
          <a:stretch/>
        </p:blipFill>
        <p:spPr>
          <a:xfrm>
            <a:off x="179280" y="3213000"/>
            <a:ext cx="2540160" cy="31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7"/>
          <p:cNvSpPr/>
          <p:nvPr/>
        </p:nvSpPr>
        <p:spPr>
          <a:xfrm>
            <a:off x="294120" y="6400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Аполлоний Перг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497400" y="15573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10360" y="16286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131600" y="155736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строение сечен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4" descr="Рис. 2. ПОСТРОЕНИЕ ЭЛЛИПСА. "/>
          <p:cNvPicPr/>
          <p:nvPr/>
        </p:nvPicPr>
        <p:blipFill>
          <a:blip r:embed="rId1"/>
          <a:stretch/>
        </p:blipFill>
        <p:spPr>
          <a:xfrm>
            <a:off x="539640" y="1268280"/>
            <a:ext cx="3456000" cy="260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292720" y="184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бол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Рис. 3. ПОСТРОЕНИЕ ГИПЕРБОЛЫ (а) и ее асимптот (б). При неограниченном продолжении ветви гиперболы стремятся к асимптотам."/>
          <p:cNvPicPr/>
          <p:nvPr/>
        </p:nvPicPr>
        <p:blipFill>
          <a:blip r:embed="rId2"/>
          <a:stretch/>
        </p:blipFill>
        <p:spPr>
          <a:xfrm>
            <a:off x="324000" y="4005360"/>
            <a:ext cx="5952960" cy="2685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3" name="Picture 7" descr="Рис. 4. ПОСТРОЕНИЕ ПАРАБОЛЫ. "/>
          <p:cNvPicPr/>
          <p:nvPr/>
        </p:nvPicPr>
        <p:blipFill>
          <a:blip r:embed="rId3"/>
          <a:stretch/>
        </p:blipFill>
        <p:spPr>
          <a:xfrm>
            <a:off x="6732720" y="3645000"/>
            <a:ext cx="2286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налитический подход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6877080" y="1628640"/>
                <a:ext cx="18018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6" name="Picture 4" descr="Рис. 7. АНАЛИТИЧЕСКИЙ ВЫВОД ПАРАБОЛЫ."/>
          <p:cNvPicPr/>
          <p:nvPr/>
        </p:nvPicPr>
        <p:blipFill>
          <a:blip r:embed="rId1"/>
          <a:stretch/>
        </p:blipFill>
        <p:spPr>
          <a:xfrm>
            <a:off x="539640" y="4508640"/>
            <a:ext cx="2376720" cy="2014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Text Box 5"/>
          <p:cNvSpPr/>
          <p:nvPr/>
        </p:nvSpPr>
        <p:spPr>
          <a:xfrm>
            <a:off x="3492360" y="587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image004"/>
          <p:cNvPicPr/>
          <p:nvPr/>
        </p:nvPicPr>
        <p:blipFill>
          <a:blip r:embed="rId2"/>
          <a:stretch/>
        </p:blipFill>
        <p:spPr>
          <a:xfrm>
            <a:off x="900000" y="981000"/>
            <a:ext cx="6193080" cy="5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Рис. 5. КОНСТРУКЦИЯ ДАНДЕЛЕНА. "/>
          <p:cNvPicPr/>
          <p:nvPr/>
        </p:nvPicPr>
        <p:blipFill>
          <a:blip r:embed="rId3"/>
          <a:stretch/>
        </p:blipFill>
        <p:spPr>
          <a:xfrm>
            <a:off x="826920" y="1557360"/>
            <a:ext cx="5689800" cy="278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10"/>
          <p:cNvSpPr/>
          <p:nvPr/>
        </p:nvSpPr>
        <p:spPr>
          <a:xfrm>
            <a:off x="7149240" y="2997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ЛЛИПС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541120" y="50133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322240" y="595008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4"/>
              <p:cNvSpPr txBox="1"/>
              <p:nvPr/>
            </p:nvSpPr>
            <p:spPr>
              <a:xfrm>
                <a:off x="3419640" y="4508640"/>
                <a:ext cx="18921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04872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оектив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5" descr="Рис. 8. ПРОЕКЦИЯ ОКРУЖНОСТИ дает эллипс и параболу."/>
          <p:cNvPicPr/>
          <p:nvPr/>
        </p:nvPicPr>
        <p:blipFill>
          <a:blip r:embed="rId1"/>
          <a:stretch/>
        </p:blipFill>
        <p:spPr>
          <a:xfrm>
            <a:off x="3564000" y="1630440"/>
            <a:ext cx="2674800" cy="5227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kompozicia3"/>
          <p:cNvPicPr/>
          <p:nvPr/>
        </p:nvPicPr>
        <p:blipFill>
          <a:blip r:embed="rId2"/>
          <a:stretch/>
        </p:blipFill>
        <p:spPr>
          <a:xfrm>
            <a:off x="6238800" y="2897280"/>
            <a:ext cx="2905200" cy="39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7" name="Picture 7" descr="100001587[1]"/>
          <p:cNvPicPr/>
          <p:nvPr/>
        </p:nvPicPr>
        <p:blipFill>
          <a:blip r:embed="rId3"/>
          <a:stretch/>
        </p:blipFill>
        <p:spPr>
          <a:xfrm>
            <a:off x="0" y="2565360"/>
            <a:ext cx="3592440" cy="429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ключение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Геометрия в архитектуре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4" descr="x_f03780e16f"/>
          <p:cNvPicPr/>
          <p:nvPr/>
        </p:nvPicPr>
        <p:blipFill>
          <a:blip r:embed="rId1"/>
          <a:stretch/>
        </p:blipFill>
        <p:spPr>
          <a:xfrm>
            <a:off x="0" y="0"/>
            <a:ext cx="9396360" cy="705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0" name="Text Box 8"/>
          <p:cNvSpPr/>
          <p:nvPr/>
        </p:nvSpPr>
        <p:spPr>
          <a:xfrm>
            <a:off x="315360" y="6033960"/>
            <a:ext cx="853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еометрия в архитектур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88400" y="4046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еометрия в архитектур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Picture 4" descr="Коронные ворота. Цвингер"/>
          <p:cNvPicPr/>
          <p:nvPr/>
        </p:nvPicPr>
        <p:blipFill>
          <a:blip r:embed="rId1"/>
          <a:stretch/>
        </p:blipFill>
        <p:spPr>
          <a:xfrm>
            <a:off x="0" y="0"/>
            <a:ext cx="4807080" cy="64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4" name="Picture 6" descr="Земпер опера"/>
          <p:cNvPicPr/>
          <p:nvPr/>
        </p:nvPicPr>
        <p:blipFill>
          <a:blip r:embed="rId2"/>
          <a:stretch/>
        </p:blipFill>
        <p:spPr>
          <a:xfrm>
            <a:off x="4881600" y="189000"/>
            <a:ext cx="4262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lbum_pi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: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Исследование роли «геометрического построения на плоскости»  в геометрии  и      архитектуре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2706480"/>
            <a:ext cx="73134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Изучить научную литературу, ресурсы сети Интернет по исследуемой те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Выявить роль задач на построение сечений  в геометрии, архитектур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Показать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) непосредственную связь геометрии и архитекту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) прикладные возможности задач на построение сече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) значимость задач в развитии современной нау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4" descr="x_f095afda6c"/>
          <p:cNvPicPr/>
          <p:nvPr/>
        </p:nvPicPr>
        <p:blipFill>
          <a:blip r:embed="rId1"/>
          <a:stretch/>
        </p:blipFill>
        <p:spPr>
          <a:xfrm>
            <a:off x="0" y="22320"/>
            <a:ext cx="9612360" cy="683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x_c91b6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0" name="Picture 4" descr="x_9ed9c8f5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x_53f2ee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x_1e16be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Picture 4" descr="2пррьп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00001587[1]"/>
          <p:cNvPicPr/>
          <p:nvPr/>
        </p:nvPicPr>
        <p:blipFill>
          <a:blip r:embed="rId2"/>
          <a:stretch/>
        </p:blipFill>
        <p:spPr>
          <a:xfrm>
            <a:off x="7020000" y="2133720"/>
            <a:ext cx="1828800" cy="218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6" name="Picture 5" descr="Compoz1[1]"/>
          <p:cNvPicPr/>
          <p:nvPr/>
        </p:nvPicPr>
        <p:blipFill>
          <a:blip r:embed="rId3"/>
          <a:stretch/>
        </p:blipFill>
        <p:spPr>
          <a:xfrm>
            <a:off x="3348000" y="1700280"/>
            <a:ext cx="3462480" cy="515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6" descr="f_5704578[1]"/>
          <p:cNvPicPr/>
          <p:nvPr/>
        </p:nvPicPr>
        <p:blipFill>
          <a:blip r:embed="rId4"/>
          <a:stretch/>
        </p:blipFill>
        <p:spPr>
          <a:xfrm>
            <a:off x="0" y="1308240"/>
            <a:ext cx="3259080" cy="5549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kompozicia3"/>
          <p:cNvPicPr/>
          <p:nvPr/>
        </p:nvPicPr>
        <p:blipFill>
          <a:blip r:embed="rId5"/>
          <a:stretch/>
        </p:blipFill>
        <p:spPr>
          <a:xfrm>
            <a:off x="7020000" y="4410000"/>
            <a:ext cx="1793880" cy="244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611280" y="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не есть одна наука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пользуется наукой 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искусство должно уме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законы и знания применять  к дел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(П.П.Чистяков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2" descr="Картинка 11 из 93"/>
          <p:cNvPicPr/>
          <p:nvPr/>
        </p:nvPicPr>
        <p:blipFill>
          <a:blip r:embed="rId6"/>
          <a:stretch/>
        </p:blipFill>
        <p:spPr>
          <a:xfrm>
            <a:off x="7093080" y="0"/>
            <a:ext cx="15541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писок используемой литера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 А.В. Бубенков, М.Я. Гром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С. А. Фролов (Начертательная геометрия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А.А. Беклемшнева (Сборник задач по аналитической геометрии и      линейной алгебре     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Ресурсы сети Интерн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andex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gl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20720" cy="545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259920"/>
            <a:ext cx="80852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. Из истории начертательной геометр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3. Виды проециро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центра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араллельное проецировани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основные независимые свойства параллельного проец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4. Пересечение многогранников плоскост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методы построения сечений многогранн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метод сле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способ внутреннего проектирова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ешение задач на построение сечений многогранни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5. Конические се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ранняя истор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построение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ллипс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гипербо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арабо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свойства конических сечени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определения Пап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конструкция Данделен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другие свой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алгебраическая классифик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ывод уравнений конических сеч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) проективный подход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) специальные постро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6. Заключ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7. Список используемой литератур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360" y="1341000"/>
            <a:ext cx="5545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Введение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764000" cy="11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с. 1. КОНИЧЕСКИЕ СЕЧЕНИЯ как результат пересечения плоскости с конусом. Три основных типа конических сечений: а – эллипс, б – парабола, в – гипербола."/>
          <p:cNvPicPr/>
          <p:nvPr/>
        </p:nvPicPr>
        <p:blipFill>
          <a:blip r:embed="rId2"/>
          <a:stretch/>
        </p:blipFill>
        <p:spPr>
          <a:xfrm>
            <a:off x="179280" y="4581360"/>
            <a:ext cx="1692360" cy="158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6" descr="0_bd46_a99cbdf5_XL[1]"/>
          <p:cNvPicPr/>
          <p:nvPr/>
        </p:nvPicPr>
        <p:blipFill>
          <a:blip r:embed="rId3"/>
          <a:stretch/>
        </p:blipFill>
        <p:spPr>
          <a:xfrm>
            <a:off x="2050920" y="1484280"/>
            <a:ext cx="348480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7" descr="x_f387d3c2"/>
          <p:cNvPicPr/>
          <p:nvPr/>
        </p:nvPicPr>
        <p:blipFill>
          <a:blip r:embed="rId4"/>
          <a:stretch/>
        </p:blipFill>
        <p:spPr>
          <a:xfrm>
            <a:off x="5543640" y="1484280"/>
            <a:ext cx="3600360" cy="479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з истории начертательной геометрии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200px-Gaspard_monge_litho_delpech"/>
          <p:cNvPicPr/>
          <p:nvPr/>
        </p:nvPicPr>
        <p:blipFill>
          <a:blip r:embed="rId1"/>
          <a:stretch/>
        </p:blipFill>
        <p:spPr>
          <a:xfrm>
            <a:off x="3564000" y="1844640"/>
            <a:ext cx="2733480" cy="29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4211640" y="5157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Гаспар Мон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84360" y="616572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8" descr="Kurdumov"/>
          <p:cNvPicPr/>
          <p:nvPr/>
        </p:nvPicPr>
        <p:blipFill>
          <a:blip r:embed="rId2"/>
          <a:stretch/>
        </p:blipFill>
        <p:spPr>
          <a:xfrm>
            <a:off x="6443640" y="2492280"/>
            <a:ext cx="2538360" cy="302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Text Box 9"/>
          <p:cNvSpPr/>
          <p:nvPr/>
        </p:nvSpPr>
        <p:spPr>
          <a:xfrm>
            <a:off x="6443640" y="5805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ргей Курдюм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11" descr="Картинка 7 из 110"/>
          <p:cNvPicPr/>
          <p:nvPr/>
        </p:nvPicPr>
        <p:blipFill>
          <a:blip r:embed="rId3"/>
          <a:stretch/>
        </p:blipFill>
        <p:spPr>
          <a:xfrm>
            <a:off x="826920" y="1773360"/>
            <a:ext cx="2581560" cy="171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Картинка 12 из 110"/>
          <p:cNvPicPr/>
          <p:nvPr/>
        </p:nvPicPr>
        <p:blipFill>
          <a:blip r:embed="rId4"/>
          <a:stretch/>
        </p:blipFill>
        <p:spPr>
          <a:xfrm>
            <a:off x="108000" y="3933720"/>
            <a:ext cx="33051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иды проецирования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0"/>
              <p:cNvSpPr txBox="1"/>
              <p:nvPr/>
            </p:nvSpPr>
            <p:spPr>
              <a:xfrm>
                <a:off x="3102120" y="37767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Line 4"/>
          <p:cNvSpPr/>
          <p:nvPr/>
        </p:nvSpPr>
        <p:spPr>
          <a:xfrm flipH="1">
            <a:off x="3276360" y="836640"/>
            <a:ext cx="647640" cy="2016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284720" y="765000"/>
            <a:ext cx="863640" cy="2087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-5869080" y="638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324000" y="3141720"/>
          <a:ext cx="416376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4163760" cy="2546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12"/>
          <p:cNvSpPr/>
          <p:nvPr/>
        </p:nvSpPr>
        <p:spPr>
          <a:xfrm>
            <a:off x="-5940360" y="595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3" descr="ris1_3"/>
          <p:cNvPicPr/>
          <p:nvPr/>
        </p:nvPicPr>
        <p:blipFill>
          <a:blip r:embed="rId3"/>
          <a:stretch/>
        </p:blipFill>
        <p:spPr>
          <a:xfrm>
            <a:off x="4572000" y="3141720"/>
            <a:ext cx="3705120" cy="262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7" name="Text Box 15"/>
          <p:cNvSpPr/>
          <p:nvPr/>
        </p:nvSpPr>
        <p:spPr>
          <a:xfrm>
            <a:off x="2003040" y="27082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Центральн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34640" y="270828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араллель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219564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7648560" y="5892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2"/>
              <p:cNvSpPr txBox="1"/>
              <p:nvPr/>
            </p:nvSpPr>
            <p:spPr>
              <a:xfrm>
                <a:off x="5867280" y="6324480"/>
                <a:ext cx="1100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5"/>
              <p:cNvSpPr txBox="1"/>
              <p:nvPr/>
            </p:nvSpPr>
            <p:spPr>
              <a:xfrm>
                <a:off x="1908000" y="6324480"/>
                <a:ext cx="660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Text Box 36"/>
          <p:cNvSpPr/>
          <p:nvPr/>
        </p:nvSpPr>
        <p:spPr>
          <a:xfrm>
            <a:off x="406440" y="573408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4866840" y="573408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Аппарат проецир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99" descr=""/>
          <p:cNvPicPr/>
          <p:nvPr/>
        </p:nvPicPr>
        <p:blipFill>
          <a:blip r:embed="rId1"/>
          <a:stretch/>
        </p:blipFill>
        <p:spPr>
          <a:xfrm>
            <a:off x="1547640" y="3535200"/>
            <a:ext cx="6409080" cy="3322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0"/>
          <p:cNvSpPr/>
          <p:nvPr/>
        </p:nvSpPr>
        <p:spPr>
          <a:xfrm>
            <a:off x="755640" y="1413000"/>
            <a:ext cx="58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Центральное проецирование используется -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ирами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вершина пирамиды центр проец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ресече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ногогранников плоскостью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-181080" y="3141720"/>
            <a:ext cx="4896000" cy="32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3924360" y="2924280"/>
            <a:ext cx="4859280" cy="3357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856880" y="1552680"/>
            <a:ext cx="50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араллельное проецир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использу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Verdana"/>
              </a:rPr>
              <a:t>при построении сечений призм</a:t>
            </a: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Задача 1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(Построения сечения призмы плоскостью , проходящей через три точки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1557360"/>
            <a:ext cx="8326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7T06:16:20Z</dcterms:created>
  <dc:creator>468гтип</dc:creator>
  <dc:description/>
  <dc:language>en-US</dc:language>
  <cp:lastModifiedBy>Admin</cp:lastModifiedBy>
  <dcterms:modified xsi:type="dcterms:W3CDTF">2010-10-03T08:36:36Z</dcterms:modified>
  <cp:revision>10</cp:revision>
  <dc:subject/>
  <dc:title>Исследовательская работа по геометрии на тему: «Решение задач на построение сечений».</dc:title>
</cp:coreProperties>
</file>