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13DFBF-0FA4-4849-A188-67B863683E8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9ECB63-B29A-46C8-8D11-77DF2BF8F240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EB22-0244-42D1-81B1-1247972A9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0638-C16E-49FF-BEC0-60624916A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98DB-ABA8-4F6C-AD1B-7D53DCA54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4873-A790-4D12-B5CB-2FCD2353C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A652-FA8F-4D77-96D6-EFB1BFBDCA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6AC2-D244-43D4-9498-5BFBAC091D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ABAE-FE23-4060-A361-C4B9D3C823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E1BE-DE6C-4339-8E68-292D74E0AB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2511-A3B3-4E39-873E-3F3C10508D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DB2B-0450-4D72-BE49-894C821C97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7214-2E85-4E33-B51A-C4A2C9BA6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5F9B-F683-4BB3-BB35-AFEDD9E9B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B14E-1008-47CB-9B85-7064EF169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ABF0-A6EA-44B1-A0E8-7F5EEBDBC7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FBC0-8E77-43A3-9974-CC1CBCC951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C31F-F80D-4398-AC7D-46877CA85F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6F05-9448-45D1-A088-6CED9419E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87D7-7BC5-4240-9D6C-5BCE9465D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C67D-6575-4F7A-A984-309B008BB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EA30-4869-446B-ABF8-3D59570BB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F327-7192-42C0-AA25-4CDC2A80A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BF45-10FC-49DF-8B8C-DC2E8D750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61AB-FAA6-45CD-BB7D-E8797EAC0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49EA-F01F-47D0-8FB4-5D4979A82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6680" y="64101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41016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29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8C13F5-30A7-4578-A2FE-F72EC50A809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88" t="-1196" r="0" b="-36839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DF89DC-6D75-495F-A885-59246BF6DDDA}" type="slidenum">
              <a: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197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                             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0066"/>
                </a:solidFill>
                <a:latin typeface="Times New Roman"/>
              </a:rPr>
              <a:t>Елена Ваенга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7531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00000" y="720720"/>
            <a:ext cx="7550280" cy="5737320"/>
            <a:chOff x="900000" y="720720"/>
            <a:chExt cx="7550280" cy="57373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900000" y="720720"/>
              <a:ext cx="7550280" cy="57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00000" y="720720"/>
              <a:ext cx="7550280" cy="57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90792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цертирует Елена Ваенга с 19 лет. Она — лауреат Санкт-Петербургского конкурса «Шлягер года 1998» с песней «Цыган», лауреат конкурса «Достойная песня 2002». Участник концертов-фестивалей «Весна романса» в БКЗ «Октябрьский», «Вольная песня над вольной Невой», «Невский бриз». Давала сольные концерты в ДК им. М. Горького, много гастролирует по стране. Ежегодно по случаю своего дня рождения в конце января дает концерты в БКЗ «Октябрьский»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9640" y="4140360"/>
            <a:ext cx="251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720720"/>
            <a:ext cx="81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лена Ваенга — тонкая, художественная, мечтательная и романтичная натура. Музыкальная одарённость, природный темперамент, трудолюбие, жизнерадостность — всё это составляющие её жизни и творчества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2852640"/>
            <a:ext cx="2960640" cy="386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254952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765000"/>
            <a:ext cx="518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есмотря на внешнюю хрупкость и молодость, за спиной у этой очаровательной девушки богатая творческая биография и не такая уж простая человеческая судьба. Жанр, в котором работает певица, с большим трудом определяет даже она сама: «На 50 процентов это фолк-рок, есть старинные баллады, городские романсы, шансон. Но границы между ними провести почти невозможно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6226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0360" y="179280"/>
            <a:ext cx="86407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В 2009 году получила свой первый приз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 Золотой граммофон »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за песню « Курю».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 В 2010 году во второй раз получила премию «Золотой граммофон» за песню «Аэропорт». В этом же году Елена Ваенга впервые стала лауреатом фестиваля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Песня года» , исполнив песню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Абсент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161928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Times New Roman"/>
              </a:rPr>
              <a:t>Дискографи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Портре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Флейта 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4 — Флейта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5 — Белая птиц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6 — Шопе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bsen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юн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 B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8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лавиш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10 — Принцесс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00720" y="3898800"/>
            <a:ext cx="3313080" cy="276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59280" y="1440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59280" y="1557360"/>
            <a:ext cx="60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аенга Елена (настоящая фамилия Хрулева) родилась 27 января 1977 года в Североморске. Прежде на месте города Североморска находились два поселка - Нижняя Ваенга и Верхняя Ваенга. Между ними протекала саамская река Ваенга. В дальнейшем Елена решила взять творческий псевдоним - Ваенга. Слово Ваенга на саамском языке означает самка олен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18572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720" y="720720"/>
            <a:ext cx="575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Елена закончила художественную, музыкальную и горно-лыжную спортивную школы. Впоследствии Елена Ваенга навсегда сохранила привязанность к горным лыжам. Свою первую песню «Голуби» написала в 9 лет, стала победителем Всесоюзного конкурса молодых композиторов на Кольском полуострове. Имеет классическое музыкальное образование. После школы приехала в Санкт-Петербург, где окончила музыкальное училище им. Н. А. Римского-Корсакова по классу фортепиано, получив диплом педагога-концертмейстера. Факультативно занималась вокало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692280"/>
            <a:ext cx="241920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16720" y="3716280"/>
            <a:ext cx="237636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29068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1341360"/>
            <a:ext cx="57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 детства мечтала стать актрисой, поэтому после музыкального училища поступила в Театральную академию   на курс Г. Тростянецкого, но проучилась лишь два месяца, так как её пригласили в Москву записывать первый альбом. Альбом был записан, песни Елены Ваенги стали петь Александр Маршал , Татьяна Тишинская , группы « Стрелки », « Божья коровка »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43640" y="3789360"/>
            <a:ext cx="23050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765000"/>
            <a:ext cx="4822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Московский творческий период продлился всего один год, после чего Елена вернулась обратно в Петербург. Здесь она узнала, что в Балтийском институте экономики, политики и права на кафедре театрального искусства набирает курс П. С. Вельяминов , и в 2000 году пошла учиться к нему. Закончив курс, получила диплом по специальности «драматическое искусство». Свой драматический талант певица проявляет в антрепризном спектакле «Свободная пара» в паре с однокурсником А. Родимовым 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0360" y="539640"/>
            <a:ext cx="8137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Часть вторая –</a:t>
            </a:r>
            <a:br>
              <a:rPr sz="4400"/>
            </a:b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 переговорная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5800" y="4500720"/>
            <a:ext cx="85838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Елена, вы производите приятное впечатление человека, долюбленного уже в детстве, в отличие от многих недолюбленных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48440" y="225360"/>
            <a:ext cx="3571560" cy="39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692280"/>
            <a:ext cx="8604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родилась 27 января 1977 года. Моя мама по образованию химик, папа – инженер. Они работали в поселке Вьюжный на заводе «Нерпа», который обслуживал атомные подводные лодки. Дедушка по линии матери, Василий Семенович Журавель, был контр-адмиралом Северного флота. Родители моего отца – коренные петербуржцы, блокадники: дедушка был зенитчиком, воевал под Ораниенбаумом, а бабушка – врачом в госпитал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739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179280"/>
            <a:ext cx="8443800" cy="66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думаю, что сила моих родителей заключается и в том, что они даже сейчас не видят во мне, скажем так, звезды. Они считают, что я еще только начала что-либо делать. Человек всю жизнь должен что-то делать. Как Ломоносов. Или Моцарт. Он же, умирая, в постели диктовал своей жене «Реквием». И умер с нотами в руках. Короче говоря, взялся за какое-то дело, делай его до конца жизни, потому что завершенное дело – это конец творческого пути. То есть ты должен быть постоянно в созидан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А что вы вкладываете в понятие всенародной певицы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360" y="2276640"/>
            <a:ext cx="651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бы хотела, чтобы не в кафе звучали мои песни, а чтобы люди, слушая их, получали удовольствие для ума и души. Я не хочу всенародного фанатизма. Я хочу всенародной любви. К моим песням, а не ко мн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2852640"/>
            <a:ext cx="1836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8:57:38Z</dcterms:created>
  <dc:creator>Сергей</dc:creator>
  <dc:description/>
  <dc:language>en-US</dc:language>
  <cp:lastModifiedBy>Елена</cp:lastModifiedBy>
  <dcterms:modified xsi:type="dcterms:W3CDTF">2011-03-30T08:16:29Z</dcterms:modified>
  <cp:revision>66</cp:revision>
  <dc:subject/>
  <dc:title>   Нам дан во владение самый богатый, меткий, могучий и поистине волшебный русский язык.                               К. Паустовский</dc:title>
</cp:coreProperties>
</file>