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456F94-6375-47E5-BBA9-940F99B2749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568529-5BA8-4F40-BCC4-4DB91100AFF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EB8E-D683-4F09-B44B-55E980EDB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FDA2-594B-44FC-9F8B-F72D188BD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54A5-5F7C-4065-A0B6-A239F0C69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1205-F64F-45DC-82CA-9C7C2612D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A442-5B03-47FB-9C95-903E5CA986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8DA4E-8A4B-4AEC-85F8-834E45FE53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2318-2DEB-451C-A38C-34BB7076E6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88B0-1C3F-4FA1-9CA4-0EC04F29F1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8F04-33E6-4B71-8BD2-7CE50E0EF3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89D5-7624-49D5-BF16-F98BB95410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ACF7-2E60-4DD2-AB2C-86642A336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5C28-8728-4B7D-8AE9-74BABD597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2059-7653-4B52-9334-9768757AE1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BF5B-4B8B-464B-A558-DAAFB7DEDD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BB6C-EA08-4589-99D8-AEEB255D8E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3410-839D-4390-A7C8-A404822F22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32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1600" y="21013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32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1600" y="43128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6AE3F-F894-43DE-AEB1-3CBAC004D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158B-D290-4130-B721-EBF16EAFC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CDB4-7B86-4CF0-BAB2-4D70C3FD4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252D-5A19-4A31-A41B-1642909D1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5461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C3D2-6B4D-45E9-99E2-813137791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6511-BEFB-427B-9450-E671904F8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8640" y="43128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A73B-D212-40CE-A6D6-630776030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8640" y="21013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3128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48D4-3D11-4FA5-B09C-DA8F501A9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66680" y="64101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429000" y="641016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ldNum" idx="1"/>
          </p:nvPr>
        </p:nvSpPr>
        <p:spPr>
          <a:xfrm>
            <a:off x="8229600" y="6409800"/>
            <a:ext cx="9129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453730-D621-4127-973F-CA2E3E73FDB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1066680" y="21013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88" t="-1196" r="0" b="-36839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A81498-3F0F-49CC-91C4-1AC6647A9732}" type="slidenum">
              <a:rPr b="0" lang="ru-RU" sz="1400" spc="-1" strike="noStrike">
                <a:solidFill>
                  <a:srgbClr val="2a3d7a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197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                       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c0066"/>
                </a:solidFill>
                <a:latin typeface="Times New Roman"/>
              </a:rPr>
              <a:t>Елена Ваенга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75316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00000" y="720720"/>
            <a:ext cx="7550280" cy="5737320"/>
            <a:chOff x="900000" y="720720"/>
            <a:chExt cx="7550280" cy="57373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900000" y="720720"/>
              <a:ext cx="7550280" cy="57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00000" y="720720"/>
              <a:ext cx="7550280" cy="57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90792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онцертирует Елена Ваенга с 19 лет. Она — лауреат Санкт-Петербургского конкурса «Шлягер года 1998» с песней «Цыган», лауреат конкурса «Достойная песня 2002». Участник концертов-фестивалей «Весна романса» в БКЗ «Октябрьский», «Вольная песня над вольной Невой», «Невский бриз». Давала сольные концерты в ДК им. М. Горького, много гастролирует по стране. Ежегодно по случаю своего дня рождения в конце января дает концерты в БКЗ «Октябрьский»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9640" y="4140360"/>
            <a:ext cx="251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20720" y="720720"/>
            <a:ext cx="81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Елена Ваенга — тонкая, художественная, мечтательная и романтичная натура. Музыкальная одарённость, природный темперамент, трудолюбие, жизнерадостность — всё это составляющие её жизни и творчества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2960640" cy="386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254952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00000" y="765000"/>
            <a:ext cx="518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есмотря на внешнюю хрупкость и молодость, за спиной у этой очаровательной девушки богатая творческая биография и не такая уж простая человеческая судьба. Жанр, в котором работает певица, с большим трудом определяет даже она сама: «На 50 процентов это фолк-рок, есть старинные баллады, городские романсы, шансон. Но границы между ними провести почти невозможно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6226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0360" y="179280"/>
            <a:ext cx="86407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В 2009 году получила свой первый приз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 Золотой граммофон »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за песню « Курю». </a:t>
            </a:r>
            <a:br>
              <a:rPr sz="3600"/>
            </a:b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 В 2010 году во второй раз получила премию «Золотой граммофон» за песню «Аэропорт». В этом же году Елена Ваенга впервые стала лауреатом фестиваля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Песня года» , исполнив песню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19385d"/>
                </a:solidFill>
                <a:latin typeface="Times New Roman"/>
              </a:rPr>
              <a:t>«Абсент»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161928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e00"/>
                </a:solidFill>
                <a:latin typeface="Times New Roman"/>
              </a:rPr>
              <a:t>Дискографи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Портре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3 — Флейта 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4 — Флейта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5 — Белая птиц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6 — Шопен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bsen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Дюн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07 —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 B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2008 —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Клавиш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2010 — Принцесс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00720" y="3898800"/>
            <a:ext cx="331308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59280" y="1440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59280" y="1557360"/>
            <a:ext cx="60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аенга Елена (настоящая фамилия Хрулева) родилась 27 января 1977 года в Североморске. Прежде на месте города Североморска находились два поселка - Нижняя Ваенга и Верхняя Ваенга. Между ними протекала саамская река Ваенга. В дальнейшем Елена решила взять творческий псевдоним - Ваенга. Слово Ваенга на саамском языке означает самка олен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0720" y="2340000"/>
            <a:ext cx="18572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720" y="720720"/>
            <a:ext cx="575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Елена закончила художественную, музыкальную и горно-лыжную спортивную школы. Впоследствии Елена Ваенга навсегда сохранила привязанность к горным лыжам. Свою первую песню «Голуби» написала в 9 лет, стала победителем Всесоюзного конкурса молодых композиторов на Кольском полуострове. Имеет классическое музыкальное образование. После школы приехала в Санкт-Петербург, где окончила музыкальное училище им. Н. А. Римского-Корсакова по классу фортепиано, получив диплом педагога-концертмейстера. Факультативно занималась вокало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692280"/>
            <a:ext cx="241920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16720" y="3716280"/>
            <a:ext cx="237636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907920"/>
            <a:ext cx="229068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1341360"/>
            <a:ext cx="57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 детства мечтала стать актрисой, поэтому после музыкального училища поступила в Театральную академию   на курс Г. Тростянецкого, но проучилась лишь два месяца, так как её пригласили в Москву записывать первый альбом. Альбом был записан, песни Елены Ваенги стали петь Александр Маршал , Татьяна Тишинская , группы « Стрелки », « Божья коровка »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443640" y="3789360"/>
            <a:ext cx="23050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765000"/>
            <a:ext cx="4822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Московский творческий период продлился всего один год, после чего Елена вернулась обратно в Петербург. Здесь она узнала, что в Балтийском институте экономики, политики и права на кафедре театрального искусства набирает курс П. С. Вельяминов , и в 2000 году пошла учиться к нему. Закончив курс, получила диплом по специальности «драматическое искусство». Свой драматический талант певица проявляет в антрепризном спектакле «Свободная пара» в паре с однокурсником А. Родимовым 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0360" y="539640"/>
            <a:ext cx="81374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Часть вторая –</a:t>
            </a:r>
            <a:br>
              <a:rPr sz="4400"/>
            </a:br>
            <a:r>
              <a:rPr b="1" i="1" lang="ru-RU" sz="4400" spc="-1" strike="noStrike">
                <a:solidFill>
                  <a:srgbClr val="355e00"/>
                </a:solidFill>
                <a:latin typeface="Times New Roman"/>
              </a:rPr>
              <a:t> переговорная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800" y="4500720"/>
            <a:ext cx="858384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Елена, вы производите приятное впечатление человека, долюбленного уже в детстве, в отличие от многих недолюбленны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48440" y="225360"/>
            <a:ext cx="3571560" cy="39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692280"/>
            <a:ext cx="8604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родилась 27 января 1977 года. Моя мама по образованию химик, папа – инженер. Они работали в поселке Вьюжный на заводе «Нерпа», который обслуживал атомные подводные лодки. Дедушка по линии матери, Василий Семенович Журавель, был контр-адмиралом Северного флота. Родители моего отца – коренные петербуржцы, блокадники: дедушка был зенитчиком, воевал под Ораниенбаумом, а бабушка – врачом в госпитал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739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200" y="179280"/>
            <a:ext cx="8443800" cy="66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думаю, что сила моих родителей заключается и в том, что они даже сейчас не видят во мне, скажем так, звезды. Они считают, что я еще только начала что-либо делать. Человек всю жизнь должен что-то делать. Как Ломоносов. Или Моцарт. Он же, умирая, в постели диктовал своей жене «Реквием». И умер с нотами в руках. Короче говоря, взялся за какое-то дело, делай его до конца жизни, потому что завершенное дело – это конец творческого пути. То есть ты должен быть постоянно в созидан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– 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А что вы вкладываете в понятие всенародной певицы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360" y="2276640"/>
            <a:ext cx="651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Я бы хотела, чтобы не в кафе звучали мои песни, а чтобы люди, слушая их, получали удовольствие для ума и души. Я не хочу всенародного фанатизма. Я хочу всенародной любви. К моим песням, а не ко м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2852640"/>
            <a:ext cx="1836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8:57:38Z</dcterms:created>
  <dc:creator>Сергей</dc:creator>
  <dc:description/>
  <dc:language>en-US</dc:language>
  <cp:lastModifiedBy>Елена</cp:lastModifiedBy>
  <dcterms:modified xsi:type="dcterms:W3CDTF">2011-03-30T08:16:29Z</dcterms:modified>
  <cp:revision>66</cp:revision>
  <dc:subject/>
  <dc:title>   Нам дан во владение самый богатый, меткий, могучий и поистине волшебный русский язык.                               К. Паустовский</dc:title>
</cp:coreProperties>
</file>