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19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dt" idx="3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4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BEAFB54-1502-46AA-8F0C-906757095C13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C07D5FD-9F62-4363-A364-8238D2809AA7}" type="slidenum">
              <a:rPr b="0" lang="ru-RU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50BAFB-2F5D-4FD3-B9F2-5E88FF64F1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54612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3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3128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772E23-C824-445C-83BA-D3F07CCF8B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54612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3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8640" y="21013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3128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8640" y="43128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39762B-4D61-4737-A040-4358989456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54612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3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320" y="21013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1600" y="21013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3128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320" y="43128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1600" y="43128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C24436-DBC0-4B14-8499-499180B7F46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B43B39-3EB5-4C64-AA62-E5E3970F8F7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54612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3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FE9EC7-9B91-413F-88F5-8CDA7EDA9AE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54612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3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086290-29D5-49D3-8DD9-4C01E89BEDD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54612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3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8640" y="21013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A5C95A-D934-4BBD-8D73-8C6E877EE5A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54612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C498E0-9133-40FE-9E09-3448DAA94D9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546120"/>
            <a:ext cx="77709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E8F3CA-FC81-4D20-8A5A-2FA7669D419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54612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3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8640" y="21013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3128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50066C-A4D7-4574-853D-111BD992879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54612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3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6AC05D-496F-445B-A144-3777FE0677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54612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3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8640" y="21013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8640" y="43128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DF7444-A9AA-4384-B21C-BA4E7B9D92D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54612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3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8640" y="21013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3128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6F42F6-F66C-40B7-A6AB-676939461CB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54612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3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3128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535CED-7A7F-49A9-955E-7D927EE92F7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54612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3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8640" y="21013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3128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8640" y="43128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CBE76F-4E1C-45B8-AA07-2DC1455030E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54612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3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320" y="21013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1600" y="21013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3128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320" y="43128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1600" y="43128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C9D2CF-DA62-4953-ACB7-4F0A13A8353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54612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3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0160FF-DA99-4D4B-BC65-9169221752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54612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3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8640" y="21013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51F508-592F-41A3-AEB8-3B470225F7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54612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CE937B-52F6-47A9-B6AF-193D93CB23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546120"/>
            <a:ext cx="77709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0B86DF-8985-48B5-BBFB-AA214B24C5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54612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3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8640" y="21013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3128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F79E86-A789-4228-808A-9CD67873F0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54612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3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8640" y="21013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8640" y="43128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5D264B-C050-467B-AE87-F2389C0CB1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54612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3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8640" y="21013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3128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E2F0A9-BF37-4951-8997-550F0AE6B2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54612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066680" y="6410160"/>
            <a:ext cx="19051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429000" y="6410160"/>
            <a:ext cx="2895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ldNum" idx="1"/>
          </p:nvPr>
        </p:nvSpPr>
        <p:spPr>
          <a:xfrm>
            <a:off x="8229600" y="6409800"/>
            <a:ext cx="91296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6E20A1F-8E92-4E3A-BEAE-576682FE35A4}" type="slidenum">
              <a:rPr b="0" lang="ru-RU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body"/>
          </p:nvPr>
        </p:nvSpPr>
        <p:spPr>
          <a:xfrm>
            <a:off x="1066680" y="21013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-888" t="-1196" r="0" b="-36839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54612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sldNum" idx="2"/>
          </p:nvPr>
        </p:nvSpPr>
        <p:spPr>
          <a:xfrm>
            <a:off x="6553080" y="6324480"/>
            <a:ext cx="19036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2a3d7a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7E275041-F79C-45F4-9482-FF90FCFFEA2F}" type="slidenum">
              <a:rPr b="0" lang="ru-RU" sz="1400" spc="-1" strike="noStrike">
                <a:solidFill>
                  <a:srgbClr val="2a3d7a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32004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971640" y="1197000"/>
            <a:ext cx="770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                                   </a:t>
            </a:r>
            <a:r>
              <a:rPr b="0" lang="ru-RU" sz="36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i="1" lang="ru-RU" sz="4400" spc="-1" strike="noStrike">
                <a:solidFill>
                  <a:srgbClr val="cc0066"/>
                </a:solidFill>
                <a:latin typeface="Times New Roman"/>
              </a:rPr>
              <a:t>Елена Ваенга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2627280" y="2133720"/>
            <a:ext cx="5753160" cy="441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066680" y="8366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900000" y="720720"/>
            <a:ext cx="7550280" cy="5737320"/>
            <a:chOff x="900000" y="720720"/>
            <a:chExt cx="7550280" cy="5737320"/>
          </a:xfrm>
        </p:grpSpPr>
        <p:pic>
          <p:nvPicPr>
            <p:cNvPr id="124" name="" descr=""/>
            <p:cNvPicPr/>
            <p:nvPr/>
          </p:nvPicPr>
          <p:blipFill>
            <a:blip r:embed="rId1"/>
            <a:stretch/>
          </p:blipFill>
          <p:spPr>
            <a:xfrm>
              <a:off x="900000" y="720720"/>
              <a:ext cx="7550280" cy="573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"/>
            <p:cNvSpPr/>
            <p:nvPr/>
          </p:nvSpPr>
          <p:spPr>
            <a:xfrm>
              <a:off x="900000" y="720720"/>
              <a:ext cx="7550280" cy="57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722160" y="2906640"/>
            <a:ext cx="7772400" cy="15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55640" y="907920"/>
            <a:ext cx="7777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Концертирует Елена Ваенга с 19 лет. Она — лауреат Санкт-Петербургского конкурса «Шлягер года 1998» с песней «Цыган», лауреат конкурса «Достойная песня 2002». Участник концертов-фестивалей «Весна романса» в БКЗ «Октябрьский», «Вольная песня над вольной Невой», «Невский бриз». Давала сольные концерты в ДК им. М. Горького, много гастролирует по стране. Ежегодно по случаю своего дня рождения в конце января дает концерты в БКЗ «Октябрьский»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6119640" y="4140360"/>
            <a:ext cx="2519640" cy="252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720720" y="720720"/>
            <a:ext cx="8172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5b5249"/>
                </a:solidFill>
                <a:latin typeface="Times New Roman"/>
              </a:rPr>
              <a:t>Елена Ваенга — тонкая, художественная, мечтательная и романтичная натура. Музыкальная одарённость, природный темперамент, трудолюбие, жизнерадостность — всё это составляющие её жизни и творчества…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5580000" y="2852640"/>
            <a:ext cx="2960640" cy="3861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395280" y="3141720"/>
            <a:ext cx="2549520" cy="340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900000" y="765000"/>
            <a:ext cx="518472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5b5249"/>
                </a:solidFill>
                <a:latin typeface="Times New Roman"/>
              </a:rPr>
              <a:t>Несмотря на внешнюю хрупкость и молодость, за спиной у этой очаровательной девушки богатая творческая биография и не такая уж простая человеческая судьба. Жанр, в котором работает певица, с большим трудом определяет даже она сама: «На 50 процентов это фолк-рок, есть старинные баллады, городские романсы, шансон. Но границы между ними провести почти невозможно»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227640" y="2781360"/>
            <a:ext cx="2622600" cy="273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360360" y="179280"/>
            <a:ext cx="8640720" cy="575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19385d"/>
                </a:solidFill>
                <a:latin typeface="Times New Roman"/>
              </a:rPr>
              <a:t>В 2009 году получила свой первый приз 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19385d"/>
                </a:solidFill>
                <a:latin typeface="Times New Roman"/>
              </a:rPr>
              <a:t>« Золотой граммофон » </a:t>
            </a:r>
            <a:br>
              <a:rPr sz="3600"/>
            </a:br>
            <a:r>
              <a:rPr b="0" lang="ru-RU" sz="3600" spc="-1" strike="noStrike">
                <a:solidFill>
                  <a:srgbClr val="19385d"/>
                </a:solidFill>
                <a:latin typeface="Times New Roman"/>
              </a:rPr>
              <a:t>за песню « Курю». </a:t>
            </a:r>
            <a:br>
              <a:rPr sz="3600"/>
            </a:br>
            <a:r>
              <a:rPr b="0" lang="ru-RU" sz="3600" spc="-1" strike="noStrike">
                <a:solidFill>
                  <a:srgbClr val="19385d"/>
                </a:solidFill>
                <a:latin typeface="Times New Roman"/>
              </a:rPr>
              <a:t>  В 2010 году во второй раз получила премию «Золотой граммофон» за песню «Аэропорт». В этом же году Елена Ваенга впервые стала лауреатом фестиваля 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19385d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19385d"/>
                </a:solidFill>
                <a:latin typeface="Times New Roman"/>
              </a:rPr>
              <a:t>«Песня года» , исполнив песню 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19385d"/>
                </a:solidFill>
                <a:latin typeface="Times New Roman"/>
              </a:rPr>
              <a:t>«Абсент».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971640" y="1619280"/>
            <a:ext cx="35290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355e00"/>
                </a:solidFill>
                <a:latin typeface="Times New Roman"/>
              </a:rPr>
              <a:t>Дискография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2003 — Портрет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2003 — Флейта 1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2004 — Флейта 2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2005 — Белая птица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2006 — Шопен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2007 — </a:t>
            </a: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Absenta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2007 — </a:t>
            </a: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Дюны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2007 — </a:t>
            </a: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The Best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2008 — </a:t>
            </a: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Клавиши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2010 — Принцесса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5400720" y="3898800"/>
            <a:ext cx="3313080" cy="276084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5759280" y="1440000"/>
            <a:ext cx="2160720" cy="216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3059280" y="1557360"/>
            <a:ext cx="60847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5b5249"/>
                </a:solidFill>
                <a:latin typeface="Times New Roman"/>
              </a:rPr>
              <a:t>Ваенга Елена (настоящая фамилия Хрулева) родилась 27 января 1977 года в Североморске. Прежде на месте города Североморска находились два поселка - Нижняя Ваенга и Верхняя Ваенга. Между ними протекала саамская река Ваенга. В дальнейшем Елена решила взять творческий псевдоним - Ваенга. Слово Ваенга на саамском языке означает самка оленя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720720" y="2340000"/>
            <a:ext cx="1857240" cy="28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720720" y="720720"/>
            <a:ext cx="57592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Елена закончила художественную, музыкальную и горно-лыжную спортивную школы. Впоследствии Елена Ваенга навсегда сохранила привязанность к горным лыжам. Свою первую песню «Голуби» написала в 9 лет, стала победителем Всесоюзного конкурса молодых композиторов на Кольском полуострове. Имеет классическое музыкальное образование. После школы приехала в Санкт-Петербург, где окончила музыкальное училище им. Н. А. Римского-Корсакова по классу фортепиано, получив диплом педагога-концертмейстера. Факультативно занималась вокалом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6443640" y="692280"/>
            <a:ext cx="2419200" cy="27525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6516720" y="3716280"/>
            <a:ext cx="2376360" cy="2838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6372360" y="907920"/>
            <a:ext cx="2290680" cy="26640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539640" y="1341360"/>
            <a:ext cx="57610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8000"/>
                </a:solidFill>
                <a:latin typeface="Times New Roman"/>
              </a:rPr>
              <a:t>С детства мечтала стать актрисой, поэтому после музыкального училища поступила в Театральную академию   на курс Г. Тростянецкого, но проучилась лишь два месяца, так как её пригласили в Москву записывать первый альбом. Альбом был записан, песни Елены Ваенги стали петь Александр Маршал , Татьяна Тишинская , группы « Стрелки », « Божья коровка ».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6443640" y="3789360"/>
            <a:ext cx="2305080" cy="306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826920" y="765000"/>
            <a:ext cx="482292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Times New Roman"/>
              </a:rPr>
              <a:t>Московский творческий период продлился всего один год, после чего Елена вернулась обратно в Петербург. Здесь она узнала, что в Балтийском институте экономики, политики и права на кафедре театрального искусства набирает курс П. С. Вельяминов , и в 2000 году пошла учиться к нему. Закончив курс, получила диплом по специальности «драматическое искусство». Свой драматический талант певица проявляет в антрепризном спектакле «Свободная пара» в паре с однокурсником А. Родимовым 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5724360" y="1557360"/>
            <a:ext cx="3200400" cy="335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360360" y="539640"/>
            <a:ext cx="813744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355e00"/>
                </a:solidFill>
                <a:latin typeface="Times New Roman"/>
              </a:rPr>
              <a:t>Часть вторая –</a:t>
            </a:r>
            <a:br>
              <a:rPr sz="4400"/>
            </a:br>
            <a:r>
              <a:rPr b="1" i="1" lang="ru-RU" sz="4400" spc="-1" strike="noStrike">
                <a:solidFill>
                  <a:srgbClr val="355e00"/>
                </a:solidFill>
                <a:latin typeface="Times New Roman"/>
              </a:rPr>
              <a:t> переговорная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15800" y="4500720"/>
            <a:ext cx="8583840" cy="168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– </a:t>
            </a: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Елена, вы производите приятное впечатление человека, долюбленного уже в детстве, в отличие от многих недолюбленных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5248440" y="225360"/>
            <a:ext cx="3571560" cy="39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066680" y="8366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0360" y="692280"/>
            <a:ext cx="8604360" cy="61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    </a:t>
            </a: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Я родилась 27 января 1977 года. Моя мама по образованию химик, папа – инженер. Они работали в поселке Вьюжный на заводе «Нерпа», который обслуживал атомные подводные лодки. Дедушка по линии матери, Василий Семенович Журавель, был контр-адмиралом Северного флота. Родители моего отца – коренные петербуржцы, блокадники: дедушка был зенитчиком, воевал под Ораниенбаумом, а бабушка – врачом в госпитале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066680" y="73980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76200" y="179280"/>
            <a:ext cx="8443800" cy="660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Я думаю, что сила моих родителей заключается и в том, что они даже сейчас не видят во мне, скажем так, звезды. Они считают, что я еще только начала что-либо делать. Человек всю жизнь должен что-то делать. Как Ломоносов. Или Моцарт. Он же, умирая, в постели диктовал своей жене «Реквием». И умер с нотами в руках. Короче говоря, взялся за какое-то дело, делай его до конца жизни, потому что завершенное дело – это конец творческого пути. То есть ты должен быть постоянно в созидании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066680" y="60948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2a3d7a"/>
                </a:solidFill>
                <a:latin typeface="Times New Roman"/>
              </a:rPr>
              <a:t>– </a:t>
            </a:r>
            <a:r>
              <a:rPr b="0" lang="ru-RU" sz="4000" spc="-1" strike="noStrike">
                <a:solidFill>
                  <a:srgbClr val="2a3d7a"/>
                </a:solidFill>
                <a:latin typeface="Times New Roman"/>
              </a:rPr>
              <a:t>А что вы вкладываете в понятие всенародной певицы?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60360" y="2276640"/>
            <a:ext cx="6516720" cy="458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Я бы хотела, чтобы не в кафе звучали мои песни, а чтобы люди, слушая их, получали удовольствие для ума и души. Я не хочу всенародного фанатизма. Я хочу всенародной любви. К моим песням, а не ко мне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7093080" y="2852640"/>
            <a:ext cx="1836720" cy="2448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7T08:57:38Z</dcterms:created>
  <dc:creator>Сергей</dc:creator>
  <dc:description/>
  <dc:language>en-US</dc:language>
  <cp:lastModifiedBy>Елена</cp:lastModifiedBy>
  <dcterms:modified xsi:type="dcterms:W3CDTF">2011-03-30T08:16:29Z</dcterms:modified>
  <cp:revision>66</cp:revision>
  <dc:subject/>
  <dc:title>   Нам дан во владение самый богатый, меткий, могучий и поистине волшебный русский язык.                               К. Паустовский</dc:title>
</cp:coreProperties>
</file>