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5D9-A71F-4A8F-B83F-B9B9C3C6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462-B95D-423C-8FA4-82C89B70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EE1-F619-4521-B43D-BAED983E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911-9DA1-4A40-883C-BD68BA7B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8B25-9F9F-424E-BBDC-12D370D4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29D4-37BB-425F-956F-D2C46FF6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D0BD-DB60-45F0-9D75-B32876BB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879F-6A70-4B7A-A621-436B4391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E02B-321D-4C32-9E15-A61B2760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11BF-2008-4090-BBC1-924B36E8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FAF7-D4AB-4226-A70A-5440DE04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3B9-1021-4782-AFA2-1917393E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DA28-A33C-4D4D-B5CD-7538EA9D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0630-B158-46F1-A9FE-D8FAB53C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B65E-62BE-412C-933D-E1859212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9F87-51E6-4AF4-BFCF-5597FBB3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A172-44D5-42B7-8393-B0845927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5C4-274D-44F4-8016-4A488B92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525-A490-4D84-852E-F4E49E06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AC2-2A10-48BC-BF39-CF459012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88C-F3DE-4E65-B4C5-3CD58B03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F70-E70B-417A-A861-825308E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385-1305-4DD4-B8DD-7699C3F8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390-9B10-4EFC-98D5-89095939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EB51-1D96-474C-94CF-233CB0C4343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1FD6-D208-4916-BC5B-73CCE8D7389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езентация первого урока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1 сентября 2011 года на тему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f1311"/>
                </a:solidFill>
                <a:latin typeface="Arial"/>
              </a:rPr>
              <a:t>«От цифирной школы к цифровой»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Презентацию подготовила учитель начальных классов ГОУ СОШ с углубленным изучением английского языка № 1383 г. Москвы Смирнова Елена Анатольевн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2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404280"/>
            <a:ext cx="738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Книги, будучи собственностью школы, составляли главную ее ценность. Отношение к книге внушалось трепетное и уважительное. Требовалось, чтобы ученики, "замкнув книгу", всегда клали ее печатью кверху и  не слишком разгибали и не листали попусту. Категорически запрещалось класть книги на лавку, а по окончании учения, книги надлежало отдать старосте, который складывал их в назначенное мест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247680" y="152280"/>
            <a:ext cx="9639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Так представляли школу будущего в 19 веке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7812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190440" y="-138240"/>
            <a:ext cx="9524880" cy="713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08720" y="1598760"/>
            <a:ext cx="21412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Френсис Бэко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английский философ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6 век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«Знание – сил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7386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В старину по обычаю детей начинали учить грамоте на Святого пророка Наума – грамотника 1 декабря, а не 1 сентября, как в наше время. Даже в те времена считалось, что «грамоте учиться – всегда пригодится», хотя и «корень учения горек, да плод сладок»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104760"/>
            <a:ext cx="7488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1374480"/>
            <a:ext cx="6965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4000" y="189000"/>
          <a:ext cx="7127640" cy="666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712764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Начинается день с прихода детей утром в специальный дом - училище. Ученик, вошедший в школу, кланялся иконам  и учителю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Учение начиналось с ответа урока, изучавшегося накануне. Когда же урок был всеми рассказан, весь класс совершал общую молитву: "Господи Иисусе Христе Боже наш, создателю всякой твари, вразуми меня и научи книжному писанию!"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Затем ученики подходили к старосте, выдававшему им книги, по которым предстояло учиться, и рассаживались за общим длинным ученическим столом. Каждый занимал место, указанное ему учителе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7:39:15Z</dcterms:created>
  <dc:creator>Customer</dc:creator>
  <dc:description/>
  <dc:language>en-US</dc:language>
  <cp:lastModifiedBy>КарМаН</cp:lastModifiedBy>
  <dcterms:modified xsi:type="dcterms:W3CDTF">2011-08-25T09:01:18Z</dcterms:modified>
  <cp:revision>4</cp:revision>
  <dc:subject/>
  <dc:title>Слайд 1</dc:title>
</cp:coreProperties>
</file>