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4D4-D3A1-4D3C-9317-7AD16977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DA9-1196-49E0-B0B4-4608B2A9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DBC-A721-444A-B471-289D493E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5EF-D81A-49A6-8F10-86CD15BD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F454-4F2C-4872-A6AC-94F51828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489E-2D22-4EFC-9DEF-0419133E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B463-00EF-4D7E-8F83-89174E8B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8A1A-5E5D-4CAE-AF09-E4E33416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7899-D0A6-4228-A83E-6FBA9101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6DD0-157B-4692-9249-6C42033F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7DED-9ECD-4422-944F-1D5F06F6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E407-A4ED-43EC-BAC5-596AEA1F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727B-D298-46BB-80FE-2E4B22C4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6513-EF36-4ABE-B975-B37319AA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ECB1-1F75-401E-B32E-8F519943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46EB-0FD1-4669-854B-001FE72C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E4E3-F5B8-4F72-BB43-DA6190A6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405-25BA-4F78-95C3-C70BF895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845-4716-4268-A259-AA7514DE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17F-910C-4CD5-9773-8B0BD084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3ADD-703C-4BA0-8E52-167D4E77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251-1001-4EC8-89EF-8C452DF5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F41-6830-4F49-8141-3C416EBC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B1F-7A2F-4A65-B02E-E9857BE4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67B1-3F85-4CBD-A119-EAF7A941443C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C438-C872-43A9-A50A-06A6E94E6B9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резентация первого урока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1 сентября 2011 года на тему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f1311"/>
                </a:solidFill>
                <a:latin typeface="Arial"/>
              </a:rPr>
              <a:t>«От цифирной школы к цифровой»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Презентацию подготовила учитель начальных классов ГОУ СОШ с углубленным изучением английского языка № 1383 г. Москвы Смирнова Елена Анатольевн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21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404280"/>
            <a:ext cx="7386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Книги, будучи собственностью школы, составляли главную ее ценность. Отношение к книге внушалось трепетное и уважительное. Требовалось, чтобы ученики, "замкнув книгу", всегда клали ее печатью кверху и  не слишком разгибали и не листали попусту. Категорически запрещалось класть книги на лавку, а по окончании учения, книги надлежало отдать старосте, который складывал их в назначенное мест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-247680" y="152280"/>
            <a:ext cx="96393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Так представляли школу будущего в 19 веке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7812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190440" y="-138240"/>
            <a:ext cx="9524880" cy="713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08720" y="1598760"/>
            <a:ext cx="21412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Френсис Бэко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английский философ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6 век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«Знание – сила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7386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В старину по обычаю детей начинали учить грамоте на Святого пророка Наума – грамотника 1 декабря, а не 1 сентября, как в наше время. Даже в те времена считалось, что «грамоте учиться – всегда пригодится», хотя и «корень учения горек, да плод сладок»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4360" y="104760"/>
            <a:ext cx="74880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000" y="1374480"/>
            <a:ext cx="6965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24000" y="189000"/>
          <a:ext cx="7127640" cy="666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712764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Начинается день с прихода детей утром в специальный дом - училище. Ученик, вошедший в школу, кланялся иконам  и учителю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Учение начиналось с ответа урока, изучавшегося накануне. Когда же урок был всеми рассказан, весь класс совершал общую молитву: "Господи Иисусе Христе Боже наш, создателю всякой твари, вразуми меня и научи книжному писанию!"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Затем ученики подходили к старосте, выдававшему им книги, по которым предстояло учиться, и рассаживались за общим длинным ученическим столом. Каждый занимал место, указанное ему учителе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17:39:15Z</dcterms:created>
  <dc:creator>Customer</dc:creator>
  <dc:description/>
  <dc:language>en-US</dc:language>
  <cp:lastModifiedBy>КарМаН</cp:lastModifiedBy>
  <dcterms:modified xsi:type="dcterms:W3CDTF">2011-08-25T09:01:18Z</dcterms:modified>
  <cp:revision>4</cp:revision>
  <dc:subject/>
  <dc:title>Слайд 1</dc:title>
</cp:coreProperties>
</file>