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C2F-568F-4256-A7B5-A6C704E2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C80-B8E4-4D2B-BCC0-8056DB88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14C-C9DA-46B2-B824-06EAEA71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9560-A44C-4980-A881-7CCC11F2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AB59-F7F3-4953-94FA-6C6617EF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7CDB-CD93-41DD-B5E3-5C138D83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87B8-D5ED-4884-BBD7-7D25BE68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DD84-913C-47EF-B1DD-7BE59CDF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422C-F639-4287-9A75-14947C22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6676-40A0-4397-88E3-78DE4683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C416-B160-4EE7-898B-DF7C7826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9930-3404-4553-89B2-55B83B80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2F4A-E219-4995-AA2A-43B4FEC6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1AC6-3046-4AE8-8448-F79A1567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633E-75E6-4A93-9C41-63ABE01F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963B-9DAB-4248-98A7-AA287F63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C26B-5E79-47B9-8CAB-F0E29111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85C2-53F7-4EB1-84B3-D5F2C34A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901-E2FA-439F-8BDA-340FE119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5ED-0CB8-4918-BD9C-6A19FF0A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DDC-B272-4870-8007-DA08FEC9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6EB-D8EA-458D-9175-28787D0C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2DB9-127C-4B91-AC8A-2E3B1356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D50-4CBF-4748-9A23-6B29D374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10D3-7F73-4B1E-9F2D-B16B2334E02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1B1B-1A55-4BBE-83EB-6187BE17227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резентация первого урока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1 сентября 2011 года на тему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f1311"/>
                </a:solidFill>
                <a:latin typeface="Arial"/>
              </a:rPr>
              <a:t>«От цифирной школы к цифровой»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Презентацию подготовила учитель начальных классов ГОУ СОШ с углубленным изучением английского языка № 1383 г. Москвы Смирнова Елена Анатольевн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2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404280"/>
            <a:ext cx="7386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Книги, будучи собственностью школы, составляли главную ее ценность. Отношение к книге внушалось трепетное и уважительное. Требовалось, чтобы ученики, "замкнув книгу", всегда клали ее печатью кверху и  не слишком разгибали и не листали попусту. Категорически запрещалось класть книги на лавку, а по окончании учения, книги надлежало отдать старосте, который складывал их в назначенное мест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247680" y="152280"/>
            <a:ext cx="9639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Так представляли школу будущего в 19 веке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7812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190440" y="-138240"/>
            <a:ext cx="9524880" cy="713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08720" y="1598760"/>
            <a:ext cx="21412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Френсис Бэко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английский философ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6 век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«Знание – сила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7386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В старину по обычаю детей начинали учить грамоте на Святого пророка Наума – грамотника 1 декабря, а не 1 сентября, как в наше время. Даже в те времена считалось, что «грамоте учиться – всегда пригодится», хотя и «корень учения горек, да плод сладок»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4360" y="104760"/>
            <a:ext cx="74880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000" y="1374480"/>
            <a:ext cx="6965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24000" y="189000"/>
          <a:ext cx="7127640" cy="666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712764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Начинается день с прихода детей утром в специальный дом - училище. Ученик, вошедший в школу, кланялся иконам  и учителю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Учение начиналось с ответа урока, изучавшегося накануне. Когда же урок был всеми рассказан, весь класс совершал общую молитву: "Господи Иисусе Христе Боже наш, создателю всякой твари, вразуми меня и научи книжному писанию!"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Затем ученики подходили к старосте, выдававшему им книги, по которым предстояло учиться, и рассаживались за общим длинным ученическим столом. Каждый занимал место, указанное ему учителе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17:39:15Z</dcterms:created>
  <dc:creator>Customer</dc:creator>
  <dc:description/>
  <dc:language>en-US</dc:language>
  <cp:lastModifiedBy>КарМаН</cp:lastModifiedBy>
  <dcterms:modified xsi:type="dcterms:W3CDTF">2011-08-25T09:01:18Z</dcterms:modified>
  <cp:revision>4</cp:revision>
  <dc:subject/>
  <dc:title>Слайд 1</dc:title>
</cp:coreProperties>
</file>