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E073-B8EF-49B4-B451-4CD2B1B719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73FF-9F3D-496E-B558-AF3D450B2047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работают с разрезными фигу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9225-E753-4389-830B-8D514559646F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 сво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65AE-CEBB-4C88-96C6-CEAF6673675F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закрывают глаза, в это время появляется выражение, учитель его зачитывает. Потом дети открывают глаза и показывают карточкой свой вариант от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колько 5 меньше 8? На сколько 8 больше 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веряется по числовому отре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BBCA-2A19-4E7C-A417-3B068DFDCBF0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самостоятельно записывают выражение в тетрадь, после – разбор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1727-B30C-4173-ADEE-A0C0A349BB9F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самостоятельно записывают выражение в тетрадь, после – разбор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390F-E4F1-493C-AAA4-E4E4C7C8E64B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части и целое в этих равен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йти целое? Как найти ча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бозначают первые два равенства? Последние два равен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еще части можно разбить число 9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E355-9137-4B70-98E6-BA4EC7DA4613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работают с разрезными фигурами, после  - прове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A13D-7CB5-466B-8680-3A6F7EA69303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34EE-88D8-4D36-9631-4A11798997F4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582-7214-4FB1-B7B9-6AB01CD8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CFD-75D1-4D64-B848-9F298FC2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677F-BE95-4116-8F8E-771BDC23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EBB-4129-4418-A133-8895A3EE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727A-FD59-47A0-AA10-0DC5C1F9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36C6-E533-4366-9F02-FA4D4C8D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4126-C968-4F43-915C-EFB04B6E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9E87-DE1C-42B1-A518-B8D459A3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43EB-4F09-414D-9BF5-C0C767EA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4773-DA9F-4C4D-864B-C1837888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8507-C480-4AD3-9F65-C538A38A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815-40FD-49C8-83F3-AC8A43E0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0235-C596-40DB-904B-523DAE42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5ABB-A5DB-4BB6-AF48-9E568C68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3491-DFF6-44CF-8FFE-893A7734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87A6-023D-4623-9745-6678A1AB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EA1F-8DE9-41F4-AFD9-8A69ADFA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B2DC8-0C49-4A40-818B-E918EBD3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20DDF-7E33-4BC0-B3C7-0A307D89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A88A2-0EC7-4B18-8992-F1118796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C904C-C999-446A-955C-AB70323E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037DC-2FB4-4398-A52E-5DFAE92F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E7F3-E902-4E88-AC6F-DFF6FAF5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E785-2403-4857-892B-4D7AEA51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CEFB1-D419-43D5-A0B9-F0A60D0C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F1C29-9C27-4A75-8C24-3F20013B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DF35C-1E02-4FAC-9F5C-F3867B8D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C5098-5E2F-4A0E-B782-D5E023FA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5D41-4278-46EE-9CBE-6FCC3C5A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77D13-4B73-4EF9-8029-7E233EDD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720FA-D189-4651-9081-B8D0F265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30FDB-6994-48B8-90E1-5F642B10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5B109-DE4E-4769-A595-81111CAD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B7B-202F-4D4A-94E5-114DF5D4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CC006-D641-41C1-BF42-0CD440C5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4D0A6-5748-47E7-B808-2273EBFF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3E3D0-42E1-4F5C-82F9-F4E23303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511B6-393D-4D17-BEAC-073AA57D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E2AED-EDA8-4DDA-9AB8-0D81C6C1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543D6-FDDA-4E3B-A18C-71AA0034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00485-075E-440A-9E9B-73D21962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921CC-E833-4510-B5C2-C7DB761E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B8C24-E2AC-4737-A073-D1039AB8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442B4-5136-46D1-8A47-1F1FF264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CE5-F088-4818-B784-52F46D34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F6645-5E3C-401C-907A-73B89CE2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75188-0613-4483-8586-BDE402DF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85B3F-D27E-4284-8F0D-595956CC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C79F4-6337-461D-86FE-12931CF3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899E4-624A-4190-A6EB-A8A5184E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9D5B1-5EBA-417F-A960-080AF224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6844-07D4-44F6-90FC-CD2895D5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B3D4B-DD35-4450-B005-24762CFC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293E1-4799-4EE8-8AF2-60A61175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4C4C0-A9BD-403C-BD29-5D9D5871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56BB-C22C-4B19-94B3-0A12969F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6A9F2-339A-42C5-952C-DE6F29AB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1BD67-E67B-4097-ABF7-738AF396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73E3B-CD8C-4F3F-B14D-09AF774C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8A5F8-D8FF-4289-A436-16803C3B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D6649-BB61-4A72-BDC4-1F476639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7D1BC-F0D2-4F6E-A080-271B7E06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24D8F-9302-4398-8D0E-6C55F00A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3A4E4-5A3E-4866-B321-5634564F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F1522-56E7-42FC-8C23-C082F585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6180A-9D6B-45A2-9B7D-915B2505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065-48E3-4867-9F93-6A0D68BA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384D2-0C9C-46BA-AEE3-0D3E268C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B7F9C-7454-4444-8A06-284885DF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B8DCA-2627-4C60-A83D-EBC4B31B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D31-0A43-4DAE-815D-62A9B556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30D-B703-47E1-AE29-268616B7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2432-E502-468A-889D-5B845FAF4764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CE5E-27BB-4163-8902-BAFB48221E9E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C0DF-850B-4A87-BD2D-B7BA98F80927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7CEF-F5B2-49B9-9B14-DF8F12544421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DF64-FFA9-46AB-A800-F80A36173B51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734F-2718-438F-BA77-D4B0DAF0A6EE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7669080" cy="2444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Части фигур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2"/>
          <a:stretch/>
        </p:blipFill>
        <p:spPr>
          <a:xfrm>
            <a:off x="1692360" y="2349360"/>
            <a:ext cx="1047600" cy="10573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1123920" cy="1171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"/>
          <p:cNvPicPr/>
          <p:nvPr/>
        </p:nvPicPr>
        <p:blipFill>
          <a:blip r:embed="rId4"/>
          <a:stretch/>
        </p:blipFill>
        <p:spPr>
          <a:xfrm>
            <a:off x="684360" y="2349360"/>
            <a:ext cx="1076040" cy="1123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"/>
          <p:cNvPicPr/>
          <p:nvPr/>
        </p:nvPicPr>
        <p:blipFill>
          <a:blip r:embed="rId5"/>
          <a:stretch/>
        </p:blipFill>
        <p:spPr>
          <a:xfrm>
            <a:off x="3348000" y="3716280"/>
            <a:ext cx="1076400" cy="1123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6"/>
          <a:stretch/>
        </p:blipFill>
        <p:spPr>
          <a:xfrm>
            <a:off x="4356000" y="479736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7"/>
          <a:stretch/>
        </p:blipFill>
        <p:spPr>
          <a:xfrm>
            <a:off x="4284720" y="3645000"/>
            <a:ext cx="1123920" cy="1171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8"/>
          <a:stretch/>
        </p:blipFill>
        <p:spPr>
          <a:xfrm>
            <a:off x="3348000" y="4797360"/>
            <a:ext cx="1047960" cy="1057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"/>
          <p:cNvPicPr/>
          <p:nvPr/>
        </p:nvPicPr>
        <p:blipFill>
          <a:blip r:embed="rId9"/>
          <a:stretch/>
        </p:blipFill>
        <p:spPr>
          <a:xfrm rot="18854400">
            <a:off x="4092480" y="2492280"/>
            <a:ext cx="1076400" cy="1123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10"/>
          <a:stretch/>
        </p:blipFill>
        <p:spPr>
          <a:xfrm rot="18854400">
            <a:off x="5532480" y="2492280"/>
            <a:ext cx="1076400" cy="112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11"/>
          <a:stretch/>
        </p:blipFill>
        <p:spPr>
          <a:xfrm rot="2803800">
            <a:off x="4820760" y="1638000"/>
            <a:ext cx="1123920" cy="1171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12"/>
          <a:stretch/>
        </p:blipFill>
        <p:spPr>
          <a:xfrm rot="2803800">
            <a:off x="6262200" y="1638000"/>
            <a:ext cx="1123920" cy="11718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16"/>
          <p:cNvSpPr/>
          <p:nvPr/>
        </p:nvSpPr>
        <p:spPr>
          <a:xfrm>
            <a:off x="395280" y="5877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32c16"/>
                </a:solidFill>
                <a:latin typeface="Arial"/>
              </a:rPr>
              <a:t>Сложите из частей круга две другие фигуры.</a:t>
            </a:r>
            <a:endParaRPr b="0" lang="en-US" sz="24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8920" y="5300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Задания подготовлены по книге  «Устные упражнения на уроках математики. 1 класс» (авт. Л.Г. Петерсон, И.Г. Липатникова)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Презентация выполнена Галановой Е.В., учителем начальных классов ГОУ школы №328 Санкт-Петербурга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b32c16"/>
                </a:solidFill>
                <a:latin typeface="Franklin Gothic Book"/>
              </a:rPr>
              <a:t>Вставьте знак «+» или «-»</a:t>
            </a:r>
            <a:endParaRPr b="0" lang="en-US" sz="41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826920" y="213372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 … 8 … 6 = 3</a:t>
            </a:r>
            <a:endParaRPr b="0" lang="en-US" sz="72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4" name="TextBox 27"/>
          <p:cNvSpPr/>
          <p:nvPr/>
        </p:nvSpPr>
        <p:spPr>
          <a:xfrm>
            <a:off x="900000" y="3860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9 … 7 … 3 = 5</a:t>
            </a:r>
            <a:endParaRPr b="0" lang="en-US" sz="7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b32c16"/>
                </a:solidFill>
                <a:latin typeface="Franklin Gothic Book"/>
              </a:rPr>
              <a:t>Заполните таблицу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95280" y="1397160"/>
          <a:ext cx="8497800" cy="4479840"/>
        </p:xfrm>
        <a:graphic>
          <a:graphicData uri="http://schemas.openxmlformats.org/drawingml/2006/table">
            <a:tbl>
              <a:tblPr/>
              <a:tblGrid>
                <a:gridCol w="3240000"/>
                <a:gridCol w="1513080"/>
                <a:gridCol w="1295280"/>
                <a:gridCol w="1224000"/>
                <a:gridCol w="1225440"/>
              </a:tblGrid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2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1872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1872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1872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1872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1872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</a:tr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ЫЧИТАЕМОЕ</a:t>
                      </a:r>
                      <a:endParaRPr b="0" lang="en-US" sz="2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1872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1872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1872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1872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1872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РАЗНОСТЬ</a:t>
                      </a:r>
                      <a:endParaRPr b="0" lang="en-US" sz="2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</a:tr>
            </a:tbl>
          </a:graphicData>
        </a:graphic>
      </p:graphicFrame>
      <p:sp>
        <p:nvSpPr>
          <p:cNvPr id="267" name="TextBox 3"/>
          <p:cNvSpPr/>
          <p:nvPr/>
        </p:nvSpPr>
        <p:spPr>
          <a:xfrm>
            <a:off x="4067280" y="140508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5508720" y="292428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6732720" y="141300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7885080" y="2924280"/>
            <a:ext cx="7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b32c16"/>
                </a:solidFill>
                <a:latin typeface="Franklin Gothic Book"/>
              </a:rPr>
              <a:t>Игра «День-ночь»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0" y="234936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- 4 +6- 4+3 - 1 + 3 - 7= 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8101080" y="234144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Составьте выражение к задаче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5" name="TextBox 2"/>
          <p:cNvSpPr/>
          <p:nvPr/>
        </p:nvSpPr>
        <p:spPr>
          <a:xfrm>
            <a:off x="250920" y="76500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шкафу стояло 9 чашек. Наташа взяла 2 чашки. Сколько чашек осталось?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1619280" y="4365720"/>
            <a:ext cx="266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9 - 2</a:t>
            </a:r>
            <a:endParaRPr b="0" lang="en-US" sz="8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3780000" y="436572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= 7</a:t>
            </a:r>
            <a:endParaRPr b="0" lang="en-US" sz="8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278" name="Picture 4" descr="Картинка 9 из 91223"/>
          <p:cNvPicPr/>
          <p:nvPr/>
        </p:nvPicPr>
        <p:blipFill>
          <a:blip r:embed="rId1"/>
          <a:stretch/>
        </p:blipFill>
        <p:spPr>
          <a:xfrm>
            <a:off x="4788000" y="234936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Картинка 11 из 91223"/>
          <p:cNvPicPr/>
          <p:nvPr/>
        </p:nvPicPr>
        <p:blipFill>
          <a:blip r:embed="rId2"/>
          <a:stretch/>
        </p:blipFill>
        <p:spPr>
          <a:xfrm>
            <a:off x="6372360" y="285264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Составьте выражение к задаче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250920" y="76500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ва снегиря и шесть синиц.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бята, сколько это птиц?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1619280" y="4365720"/>
            <a:ext cx="266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2 + 6</a:t>
            </a:r>
            <a:endParaRPr b="0" lang="en-US" sz="8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3995640" y="4365720"/>
            <a:ext cx="26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= 8</a:t>
            </a:r>
            <a:endParaRPr b="0" lang="en-US" sz="8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284" name="Picture 4" descr="Картинка 5 из 2996"/>
          <p:cNvPicPr/>
          <p:nvPr/>
        </p:nvPicPr>
        <p:blipFill>
          <a:blip r:embed="rId1"/>
          <a:stretch/>
        </p:blipFill>
        <p:spPr>
          <a:xfrm>
            <a:off x="0" y="2060640"/>
            <a:ext cx="3543480" cy="2660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Картинка 8 из 3291"/>
          <p:cNvPicPr/>
          <p:nvPr/>
        </p:nvPicPr>
        <p:blipFill>
          <a:blip r:embed="rId2"/>
          <a:stretch/>
        </p:blipFill>
        <p:spPr>
          <a:xfrm>
            <a:off x="5364000" y="1989000"/>
            <a:ext cx="278640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Составьте числовые выражения </a:t>
            </a:r>
            <a:br>
              <a:rPr sz="4000"/>
            </a:b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по рисунку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TextBox 78"/>
          <p:cNvSpPr/>
          <p:nvPr/>
        </p:nvSpPr>
        <p:spPr>
          <a:xfrm>
            <a:off x="250920" y="364500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8" name="TextBox 79"/>
          <p:cNvSpPr/>
          <p:nvPr/>
        </p:nvSpPr>
        <p:spPr>
          <a:xfrm>
            <a:off x="755640" y="364500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9" name="TextBox 80"/>
          <p:cNvSpPr/>
          <p:nvPr/>
        </p:nvSpPr>
        <p:spPr>
          <a:xfrm>
            <a:off x="1187280" y="36781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0" name="TextBox 81"/>
          <p:cNvSpPr/>
          <p:nvPr/>
        </p:nvSpPr>
        <p:spPr>
          <a:xfrm>
            <a:off x="1763640" y="371628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1" name="TextBox 84"/>
          <p:cNvSpPr/>
          <p:nvPr/>
        </p:nvSpPr>
        <p:spPr>
          <a:xfrm>
            <a:off x="755640" y="4292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2" name="TextBox 85"/>
          <p:cNvSpPr/>
          <p:nvPr/>
        </p:nvSpPr>
        <p:spPr>
          <a:xfrm>
            <a:off x="1763640" y="43657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3" name="Прямоугольник 86"/>
          <p:cNvSpPr/>
          <p:nvPr/>
        </p:nvSpPr>
        <p:spPr>
          <a:xfrm>
            <a:off x="2268360" y="4437000"/>
            <a:ext cx="64800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4" name="Прямоугольник 87"/>
          <p:cNvSpPr/>
          <p:nvPr/>
        </p:nvSpPr>
        <p:spPr>
          <a:xfrm>
            <a:off x="2268360" y="5229360"/>
            <a:ext cx="64800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5" name="TextBox 89"/>
          <p:cNvSpPr/>
          <p:nvPr/>
        </p:nvSpPr>
        <p:spPr>
          <a:xfrm>
            <a:off x="826920" y="5084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6" name="TextBox 91"/>
          <p:cNvSpPr/>
          <p:nvPr/>
        </p:nvSpPr>
        <p:spPr>
          <a:xfrm>
            <a:off x="1763640" y="5084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7" name="TextBox 94"/>
          <p:cNvSpPr/>
          <p:nvPr/>
        </p:nvSpPr>
        <p:spPr>
          <a:xfrm>
            <a:off x="755640" y="57657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8" name="Прямоугольник 95"/>
          <p:cNvSpPr/>
          <p:nvPr/>
        </p:nvSpPr>
        <p:spPr>
          <a:xfrm>
            <a:off x="1116000" y="5950080"/>
            <a:ext cx="64764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9" name="TextBox 97"/>
          <p:cNvSpPr/>
          <p:nvPr/>
        </p:nvSpPr>
        <p:spPr>
          <a:xfrm>
            <a:off x="1763640" y="5805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0" name="Прямоугольник 33"/>
          <p:cNvSpPr/>
          <p:nvPr/>
        </p:nvSpPr>
        <p:spPr>
          <a:xfrm>
            <a:off x="2268360" y="5950080"/>
            <a:ext cx="64800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1" name="Прямоугольник 60"/>
          <p:cNvSpPr/>
          <p:nvPr/>
        </p:nvSpPr>
        <p:spPr>
          <a:xfrm>
            <a:off x="179280" y="5950080"/>
            <a:ext cx="64764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grpSp>
        <p:nvGrpSpPr>
          <p:cNvPr id="302" name="Группа 70"/>
          <p:cNvGrpSpPr/>
          <p:nvPr/>
        </p:nvGrpSpPr>
        <p:grpSpPr>
          <a:xfrm>
            <a:off x="1619280" y="2205000"/>
            <a:ext cx="4608360" cy="287280"/>
            <a:chOff x="1619280" y="2205000"/>
            <a:chExt cx="4608360" cy="287280"/>
          </a:xfrm>
        </p:grpSpPr>
        <p:sp>
          <p:nvSpPr>
            <p:cNvPr id="303" name="Прямая соединительная линия 64"/>
            <p:cNvSpPr/>
            <p:nvPr/>
          </p:nvSpPr>
          <p:spPr>
            <a:xfrm>
              <a:off x="1619280" y="2205000"/>
              <a:ext cx="0" cy="287280"/>
            </a:xfrm>
            <a:prstGeom prst="line">
              <a:avLst/>
            </a:prstGeom>
            <a:ln w="316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75f6d"/>
                </a:solidFill>
                <a:latin typeface="Arial"/>
              </a:endParaRPr>
            </a:p>
          </p:txBody>
        </p:sp>
        <p:grpSp>
          <p:nvGrpSpPr>
            <p:cNvPr id="304" name="Группа 69"/>
            <p:cNvGrpSpPr/>
            <p:nvPr/>
          </p:nvGrpSpPr>
          <p:grpSpPr>
            <a:xfrm>
              <a:off x="1619280" y="2205000"/>
              <a:ext cx="4608360" cy="287280"/>
              <a:chOff x="1619280" y="2205000"/>
              <a:chExt cx="4608360" cy="287280"/>
            </a:xfrm>
          </p:grpSpPr>
          <p:sp>
            <p:nvSpPr>
              <p:cNvPr id="305" name="Прямая соединительная линия 58"/>
              <p:cNvSpPr/>
              <p:nvPr/>
            </p:nvSpPr>
            <p:spPr>
              <a:xfrm>
                <a:off x="1619280" y="2348640"/>
                <a:ext cx="4608360" cy="0"/>
              </a:xfrm>
              <a:prstGeom prst="line">
                <a:avLst/>
              </a:prstGeom>
              <a:ln w="31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75f6d"/>
                  </a:solidFill>
                  <a:latin typeface="Arial"/>
                </a:endParaRPr>
              </a:p>
            </p:txBody>
          </p:sp>
          <p:grpSp>
            <p:nvGrpSpPr>
              <p:cNvPr id="306" name="Группа 68"/>
              <p:cNvGrpSpPr/>
              <p:nvPr/>
            </p:nvGrpSpPr>
            <p:grpSpPr>
              <a:xfrm>
                <a:off x="3131280" y="2205000"/>
                <a:ext cx="3096360" cy="287280"/>
                <a:chOff x="3131280" y="2205000"/>
                <a:chExt cx="3096360" cy="287280"/>
              </a:xfrm>
            </p:grpSpPr>
            <p:sp>
              <p:nvSpPr>
                <p:cNvPr id="307" name="Прямая соединительная линия 66"/>
                <p:cNvSpPr/>
                <p:nvPr/>
              </p:nvSpPr>
              <p:spPr>
                <a:xfrm>
                  <a:off x="3131280" y="2205000"/>
                  <a:ext cx="0" cy="287280"/>
                </a:xfrm>
                <a:prstGeom prst="line">
                  <a:avLst/>
                </a:prstGeom>
                <a:ln w="3168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75f6d"/>
                    </a:solidFill>
                    <a:latin typeface="Arial"/>
                  </a:endParaRPr>
                </a:p>
              </p:txBody>
            </p:sp>
            <p:sp>
              <p:nvSpPr>
                <p:cNvPr id="308" name="Прямая соединительная линия 67"/>
                <p:cNvSpPr/>
                <p:nvPr/>
              </p:nvSpPr>
              <p:spPr>
                <a:xfrm>
                  <a:off x="6227640" y="2205000"/>
                  <a:ext cx="0" cy="287280"/>
                </a:xfrm>
                <a:prstGeom prst="line">
                  <a:avLst/>
                </a:prstGeom>
                <a:ln w="3168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75f6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9" name="Правая круглая скобка 72"/>
          <p:cNvSpPr/>
          <p:nvPr/>
        </p:nvSpPr>
        <p:spPr>
          <a:xfrm rot="16200000">
            <a:off x="3778920" y="-243360"/>
            <a:ext cx="288720" cy="4608360"/>
          </a:xfrm>
          <a:custGeom>
            <a:avLst/>
            <a:gdLst>
              <a:gd name="textAreaLeft" fmla="*/ 0 w 288720"/>
              <a:gd name="textAreaRight" fmla="*/ 202680 w 288720"/>
              <a:gd name="textAreaTop" fmla="*/ 231120 h 4608360"/>
              <a:gd name="textAreaBottom" fmla="*/ 437724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084"/>
                  <a:pt x="21600" y="2168"/>
                </a:cubicBezTo>
                <a:lnTo>
                  <a:pt x="21600" y="19432"/>
                </a:lnTo>
                <a:cubicBezTo>
                  <a:pt x="21600" y="20516"/>
                  <a:pt x="108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0" name="TextBox 73"/>
          <p:cNvSpPr/>
          <p:nvPr/>
        </p:nvSpPr>
        <p:spPr>
          <a:xfrm>
            <a:off x="3348000" y="1125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1" name="TextBox 74"/>
          <p:cNvSpPr/>
          <p:nvPr/>
        </p:nvSpPr>
        <p:spPr>
          <a:xfrm>
            <a:off x="1908000" y="2276640"/>
            <a:ext cx="9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2" name="TextBox 76"/>
          <p:cNvSpPr/>
          <p:nvPr/>
        </p:nvSpPr>
        <p:spPr>
          <a:xfrm>
            <a:off x="4211640" y="2276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3" name="Прямоугольник 34"/>
          <p:cNvSpPr/>
          <p:nvPr/>
        </p:nvSpPr>
        <p:spPr>
          <a:xfrm>
            <a:off x="2268360" y="3716280"/>
            <a:ext cx="648000" cy="64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4" name="Прямоугольник 35"/>
          <p:cNvSpPr/>
          <p:nvPr/>
        </p:nvSpPr>
        <p:spPr>
          <a:xfrm>
            <a:off x="108000" y="4437000"/>
            <a:ext cx="64764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5" name="Прямоугольник 36"/>
          <p:cNvSpPr/>
          <p:nvPr/>
        </p:nvSpPr>
        <p:spPr>
          <a:xfrm>
            <a:off x="1187280" y="4437000"/>
            <a:ext cx="64800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6" name="Прямоугольник 37"/>
          <p:cNvSpPr/>
          <p:nvPr/>
        </p:nvSpPr>
        <p:spPr>
          <a:xfrm>
            <a:off x="108000" y="5229360"/>
            <a:ext cx="64764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7" name="Прямоугольник 38"/>
          <p:cNvSpPr/>
          <p:nvPr/>
        </p:nvSpPr>
        <p:spPr>
          <a:xfrm>
            <a:off x="1187280" y="5229360"/>
            <a:ext cx="64800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Части фигур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9" name="Прямоугольный треугольник 20"/>
          <p:cNvSpPr/>
          <p:nvPr/>
        </p:nvSpPr>
        <p:spPr>
          <a:xfrm>
            <a:off x="900000" y="1989000"/>
            <a:ext cx="1871640" cy="1871640"/>
          </a:xfrm>
          <a:prstGeom prst="rtTriangle">
            <a:avLst/>
          </a:prstGeom>
          <a:solidFill>
            <a:srgbClr val="00b05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0" name="Прямоугольный треугольник 29"/>
          <p:cNvSpPr/>
          <p:nvPr/>
        </p:nvSpPr>
        <p:spPr>
          <a:xfrm flipH="1" rot="16200000">
            <a:off x="898920" y="1989000"/>
            <a:ext cx="1871640" cy="187164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1" name="Прямоугольный треугольник 8"/>
          <p:cNvSpPr/>
          <p:nvPr/>
        </p:nvSpPr>
        <p:spPr>
          <a:xfrm flipH="1" rot="5400000">
            <a:off x="6084000" y="1700280"/>
            <a:ext cx="1873080" cy="187200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2" name="Прямоугольный треугольник 9"/>
          <p:cNvSpPr/>
          <p:nvPr/>
        </p:nvSpPr>
        <p:spPr>
          <a:xfrm rot="16200000">
            <a:off x="4211640" y="1699920"/>
            <a:ext cx="1873080" cy="1873080"/>
          </a:xfrm>
          <a:prstGeom prst="rtTriangle">
            <a:avLst/>
          </a:prstGeom>
          <a:solidFill>
            <a:srgbClr val="00b05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468360" y="4941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32c16"/>
                </a:solidFill>
                <a:latin typeface="Arial"/>
              </a:rPr>
              <a:t>Составьте из квадрата большой треугольник.</a:t>
            </a:r>
            <a:endParaRPr b="0" lang="en-US" sz="24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Части фигур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5" name="Прямоугольный треугольник 16"/>
          <p:cNvSpPr/>
          <p:nvPr/>
        </p:nvSpPr>
        <p:spPr>
          <a:xfrm rot="18920400">
            <a:off x="1368000" y="874440"/>
            <a:ext cx="1225440" cy="122400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6" name="Прямоугольный треугольник 17"/>
          <p:cNvSpPr/>
          <p:nvPr/>
        </p:nvSpPr>
        <p:spPr>
          <a:xfrm flipH="1" flipV="1" rot="18920400">
            <a:off x="1368360" y="2601720"/>
            <a:ext cx="1225440" cy="122364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7" name="Прямоугольный треугольник 18"/>
          <p:cNvSpPr/>
          <p:nvPr/>
        </p:nvSpPr>
        <p:spPr>
          <a:xfrm flipV="1" rot="18879600">
            <a:off x="2233080" y="1737360"/>
            <a:ext cx="1224000" cy="122436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8" name="Прямоугольный треугольник 19"/>
          <p:cNvSpPr/>
          <p:nvPr/>
        </p:nvSpPr>
        <p:spPr>
          <a:xfrm flipH="1" flipV="1" rot="2720400">
            <a:off x="504360" y="1737360"/>
            <a:ext cx="1224000" cy="122436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9" name="TextBox 21"/>
          <p:cNvSpPr/>
          <p:nvPr/>
        </p:nvSpPr>
        <p:spPr>
          <a:xfrm>
            <a:off x="468360" y="494172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32c16"/>
                </a:solidFill>
                <a:latin typeface="Arial"/>
              </a:rPr>
              <a:t>Составьте из большого квадрата</a:t>
            </a:r>
            <a:endParaRPr b="0" lang="en-US" sz="2400" spc="-1" strike="noStrike">
              <a:solidFill>
                <a:srgbClr val="575f6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32c1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b32c16"/>
                </a:solidFill>
                <a:latin typeface="Arial"/>
              </a:rPr>
              <a:t>два маленьких.</a:t>
            </a:r>
            <a:endParaRPr b="0" lang="en-US" sz="2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0" name="Прямоугольный треугольник 22"/>
          <p:cNvSpPr/>
          <p:nvPr/>
        </p:nvSpPr>
        <p:spPr>
          <a:xfrm flipH="1" flipV="1" rot="16200000">
            <a:off x="4572000" y="1628640"/>
            <a:ext cx="1224000" cy="122400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1" name="Прямоугольный треугольник 23"/>
          <p:cNvSpPr/>
          <p:nvPr/>
        </p:nvSpPr>
        <p:spPr>
          <a:xfrm flipH="1" flipV="1" rot="5400000">
            <a:off x="4572000" y="1628640"/>
            <a:ext cx="1224000" cy="122400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2" name="Прямоугольный треугольник 24"/>
          <p:cNvSpPr/>
          <p:nvPr/>
        </p:nvSpPr>
        <p:spPr>
          <a:xfrm flipV="1" rot="16200000">
            <a:off x="6516720" y="2492280"/>
            <a:ext cx="1224000" cy="122400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3" name="Прямоугольный треугольник 25"/>
          <p:cNvSpPr/>
          <p:nvPr/>
        </p:nvSpPr>
        <p:spPr>
          <a:xfrm flipV="1" rot="5400000">
            <a:off x="6516720" y="2492280"/>
            <a:ext cx="1224000" cy="122400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4:35:01Z</dcterms:created>
  <dc:creator>Galanovi</dc:creator>
  <dc:description/>
  <dc:language>en-US</dc:language>
  <cp:lastModifiedBy>Galanovi</cp:lastModifiedBy>
  <dcterms:modified xsi:type="dcterms:W3CDTF">2011-12-09T18:40:03Z</dcterms:modified>
  <cp:revision>190</cp:revision>
  <dc:subject/>
  <dc:title>Сравнение групп предметов</dc:title>
</cp:coreProperties>
</file>