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F4BE-0B1A-4294-94A8-67B0C5DB3D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3915-7296-4321-BC35-E1CB68867835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работают с разрезными фигу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6C2F-61BA-475B-A66A-306CE06E34B5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 сво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9EA4-558B-4418-982C-6FCB4F6DCAF0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закрывают глаза, в это время появляется выражение, учитель его зачитывает. Потом дети открывают глаза и показывают карточкой свой вариант от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колько 5 меньше 8? На сколько 8 больше 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веряется по числовому отре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6EF4-0003-4E33-8997-B6605B901EE2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самостоятельно записывают выражение в тетрадь, после – разбор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8071-D5BE-49B8-A8D1-F5DA1A4FE0A2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самостоятельно записывают выражение в тетрадь, после – разбор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E65D-BD54-4298-B609-7C8B95456A49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части и целое в этих равен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йти целое? Как найти ча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бозначают первые два равенства? Последние два равен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еще части можно разбить число 9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14C3-4741-4722-8037-C2DCB1C13D22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работают с разрезными фигурами, после  - прове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943C-4F58-40A2-A4EB-827CD654CDF5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FE5B-B0E5-4A4A-A36F-31EBA08E1F92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CBA-9E85-45A6-A725-671C2530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0FDD-31DE-48E4-B206-1E73CD68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6434-0059-421B-B8F5-5B84111F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7C7-387D-46DA-A372-559F2FF9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CA65-96AA-45F8-A7A7-70536A87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B34A-B0B8-42B7-BEEA-D3A5125E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C086-05D2-41B1-B95F-EF6789EB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28D5-0877-453B-97FB-CDC29032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839F-99B1-4F7A-8113-BBE8D6CE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9F08-219B-43C0-9845-D2FBEF79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CCA7-402E-495B-BE70-BC1FAC73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023-DCEA-40C7-8317-2473DB97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80D5-6AAD-4B4B-828D-9EDCCD23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1F0A-44D6-4AE6-99F5-7A7CA9F3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70F0-18BA-487E-98B0-9F5111BE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D3D3-03AC-46D0-8E0A-5D9E9F90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C1E6-51CD-4365-ADFA-8100B7F0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4314B-4647-40F1-A61D-F8F6B48C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35DD-0116-4A93-9750-81C65AD2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ACA08-A215-4E65-BF4B-CE4EC58A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3DE79-7756-4E26-8136-C08D4580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1243B-F86B-4B8D-8099-18CC598E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C1D-7D3C-486C-B478-4F07B9E7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C1FB2-3C69-42DC-A598-DC334CAB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186F4-A021-4A02-A69A-7362F460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A2040-30CD-4D4F-8037-B2C208C6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72EC3-0CAB-423D-85F6-6F9D53C7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CA186-3E64-4810-ADAD-5708D393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75486-EBBE-4323-A8B3-D2526B9C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EA512-DC1A-44C8-82B3-F3F859BA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6BFD6-7FE8-4404-AAC2-B2D896B6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AAB4D-1957-47D4-86C5-0BC26A7D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725CA-396F-41DD-B93C-96E3084C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C76-D61E-4C46-B80B-D84E8D79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D7F71-BA63-430A-8B77-3226F668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7D29A-361C-4262-BF49-DFCB8C5B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6306C-2451-4DE7-9348-ABCE7E2D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65897-E542-42D8-9FFD-92E280AD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16C2A-5B2F-4038-86EC-A4988BBA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81E7D-5CE5-4BD0-8392-4B0DDCB2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107A-DAB1-4CA6-827A-67C66E64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E2F79-0E2C-46BC-925C-39FF1007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5541A-E93F-4183-B89F-13726304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C0913-4C24-4812-B451-0AD0A975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1B2-1C4A-4BF3-9162-60A7186D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C3729-8B3D-4FDA-9419-E7AAF069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12933-ABC9-4D08-A4E5-E9DFBD24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F79C1-288C-45A0-AF62-97322318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179EB-4F31-44A9-85FD-0A1ED938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FB86C-74B8-4E5E-B374-22DB14EC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87564-8859-4FAC-828C-B021F086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077FC-680D-4DA6-A122-C0EA401C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CBD68-E23A-42D0-8C1C-FD5D3A86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48B7D-702D-4231-89DE-412DD75C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0BC8D-4BBC-4C39-BA7C-AE19E62B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084-4FBB-486C-8CCB-B75168F4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FC26D-A57F-4B60-90B8-7BA4EE7D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AE99F-74A5-40CA-A139-CABB66F4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3546A-1EA9-47D8-B7FC-534513A0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00921-D7B6-49F4-8633-09F49FA9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76EC8-00E6-474B-9CCF-0EA13320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D6E86-AA50-45C6-BD75-30BE8A5E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21682-6443-45C3-B61A-F1B6B93D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D7AB7-074B-49E2-BA97-2FE1BBC8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40B98-B413-4865-9EB4-BF973D72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F98FC-F39F-42D0-AB3F-4D63FA93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903-90D3-45C2-9ED9-D0A3C517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2CDBC-AF10-4E19-ADBE-D3C8770F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89E0F-2723-425C-B3E3-3AB9A148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F8780-7BD3-4639-A2FF-D5DD73FA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5FB-4156-4643-A443-DA9930B6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482-2011-4847-8A08-4639EAAD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24C2-B68A-4697-95BF-A8908D61116D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EFDE-78DD-4BE9-896B-90B4E55AC571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FE40-C37A-4375-ABA6-095CE035A1D5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02A0-C264-4E48-824D-B27A3C6947FF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8BB4-B6F2-408F-93B0-1ED843C262E7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28E3-52B8-41F6-98F2-D71257BB11DC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7669080" cy="2444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Части фигур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2"/>
          <a:stretch/>
        </p:blipFill>
        <p:spPr>
          <a:xfrm>
            <a:off x="1692360" y="2349360"/>
            <a:ext cx="1047600" cy="10573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1123920" cy="1171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"/>
          <p:cNvPicPr/>
          <p:nvPr/>
        </p:nvPicPr>
        <p:blipFill>
          <a:blip r:embed="rId4"/>
          <a:stretch/>
        </p:blipFill>
        <p:spPr>
          <a:xfrm>
            <a:off x="684360" y="2349360"/>
            <a:ext cx="1076040" cy="1123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"/>
          <p:cNvPicPr/>
          <p:nvPr/>
        </p:nvPicPr>
        <p:blipFill>
          <a:blip r:embed="rId5"/>
          <a:stretch/>
        </p:blipFill>
        <p:spPr>
          <a:xfrm>
            <a:off x="3348000" y="3716280"/>
            <a:ext cx="1076400" cy="1123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6"/>
          <a:stretch/>
        </p:blipFill>
        <p:spPr>
          <a:xfrm>
            <a:off x="4356000" y="479736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7"/>
          <a:stretch/>
        </p:blipFill>
        <p:spPr>
          <a:xfrm>
            <a:off x="4284720" y="3645000"/>
            <a:ext cx="1123920" cy="1171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8"/>
          <a:stretch/>
        </p:blipFill>
        <p:spPr>
          <a:xfrm>
            <a:off x="3348000" y="4797360"/>
            <a:ext cx="1047960" cy="1057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"/>
          <p:cNvPicPr/>
          <p:nvPr/>
        </p:nvPicPr>
        <p:blipFill>
          <a:blip r:embed="rId9"/>
          <a:stretch/>
        </p:blipFill>
        <p:spPr>
          <a:xfrm rot="18854400">
            <a:off x="4092480" y="2492280"/>
            <a:ext cx="1076400" cy="1123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10"/>
          <a:stretch/>
        </p:blipFill>
        <p:spPr>
          <a:xfrm rot="18854400">
            <a:off x="5532480" y="2492280"/>
            <a:ext cx="1076400" cy="112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11"/>
          <a:stretch/>
        </p:blipFill>
        <p:spPr>
          <a:xfrm rot="2803800">
            <a:off x="4820760" y="1638000"/>
            <a:ext cx="1123920" cy="1171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12"/>
          <a:stretch/>
        </p:blipFill>
        <p:spPr>
          <a:xfrm rot="2803800">
            <a:off x="6262200" y="1638000"/>
            <a:ext cx="1123920" cy="11718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16"/>
          <p:cNvSpPr/>
          <p:nvPr/>
        </p:nvSpPr>
        <p:spPr>
          <a:xfrm>
            <a:off x="395280" y="5877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32c16"/>
                </a:solidFill>
                <a:latin typeface="Arial"/>
              </a:rPr>
              <a:t>Сложите из частей круга две другие фигуры.</a:t>
            </a:r>
            <a:endParaRPr b="0" lang="en-US" sz="24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8920" y="5300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Задания подготовлены по книге  «Устные упражнения на уроках математики. 1 класс» (авт. Л.Г. Петерсон, И.Г. Липатникова)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Презентация выполнена Галановой Е.В., учителем начальных классов ГОУ школы №328 Санкт-Петербурга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b32c16"/>
                </a:solidFill>
                <a:latin typeface="Franklin Gothic Book"/>
              </a:rPr>
              <a:t>Вставьте знак «+» или «-»</a:t>
            </a:r>
            <a:endParaRPr b="0" lang="en-US" sz="41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826920" y="213372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 … 8 … 6 = 3</a:t>
            </a:r>
            <a:endParaRPr b="0" lang="en-US" sz="72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4" name="TextBox 27"/>
          <p:cNvSpPr/>
          <p:nvPr/>
        </p:nvSpPr>
        <p:spPr>
          <a:xfrm>
            <a:off x="900000" y="3860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9 … 7 … 3 = 5</a:t>
            </a:r>
            <a:endParaRPr b="0" lang="en-US" sz="7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b32c16"/>
                </a:solidFill>
                <a:latin typeface="Franklin Gothic Book"/>
              </a:rPr>
              <a:t>Заполните таблицу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95280" y="1397160"/>
          <a:ext cx="8497800" cy="4479840"/>
        </p:xfrm>
        <a:graphic>
          <a:graphicData uri="http://schemas.openxmlformats.org/drawingml/2006/table">
            <a:tbl>
              <a:tblPr/>
              <a:tblGrid>
                <a:gridCol w="3240000"/>
                <a:gridCol w="1513080"/>
                <a:gridCol w="1295280"/>
                <a:gridCol w="1224000"/>
                <a:gridCol w="1225440"/>
              </a:tblGrid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2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1872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1872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1872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1872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1872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</a:tr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ЫЧИТАЕМОЕ</a:t>
                      </a:r>
                      <a:endParaRPr b="0" lang="en-US" sz="2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1872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1872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1872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1872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1872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РАЗНОСТЬ</a:t>
                      </a:r>
                      <a:endParaRPr b="0" lang="en-US" sz="2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</a:tr>
            </a:tbl>
          </a:graphicData>
        </a:graphic>
      </p:graphicFrame>
      <p:sp>
        <p:nvSpPr>
          <p:cNvPr id="267" name="TextBox 3"/>
          <p:cNvSpPr/>
          <p:nvPr/>
        </p:nvSpPr>
        <p:spPr>
          <a:xfrm>
            <a:off x="4067280" y="140508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5508720" y="292428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6732720" y="141300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7885080" y="2924280"/>
            <a:ext cx="7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b32c16"/>
                </a:solidFill>
                <a:latin typeface="Franklin Gothic Book"/>
              </a:rPr>
              <a:t>Игра «День-ночь»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0" y="234936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- 4 +6- 4+3 - 1 + 3 - 7= 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8101080" y="234144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Составьте выражение к задаче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5" name="TextBox 2"/>
          <p:cNvSpPr/>
          <p:nvPr/>
        </p:nvSpPr>
        <p:spPr>
          <a:xfrm>
            <a:off x="250920" y="76500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шкафу стояло 9 чашек. Наташа взяла 2 чашки. Сколько чашек осталось?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1619280" y="4365720"/>
            <a:ext cx="266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9 - 2</a:t>
            </a:r>
            <a:endParaRPr b="0" lang="en-US" sz="8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3780000" y="436572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= 7</a:t>
            </a:r>
            <a:endParaRPr b="0" lang="en-US" sz="8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278" name="Picture 4" descr="Картинка 9 из 91223"/>
          <p:cNvPicPr/>
          <p:nvPr/>
        </p:nvPicPr>
        <p:blipFill>
          <a:blip r:embed="rId1"/>
          <a:stretch/>
        </p:blipFill>
        <p:spPr>
          <a:xfrm>
            <a:off x="4788000" y="234936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Картинка 11 из 91223"/>
          <p:cNvPicPr/>
          <p:nvPr/>
        </p:nvPicPr>
        <p:blipFill>
          <a:blip r:embed="rId2"/>
          <a:stretch/>
        </p:blipFill>
        <p:spPr>
          <a:xfrm>
            <a:off x="6372360" y="285264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Составьте выражение к задаче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250920" y="76500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ва снегиря и шесть синиц.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бята, сколько это птиц?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1619280" y="4365720"/>
            <a:ext cx="266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2 + 6</a:t>
            </a:r>
            <a:endParaRPr b="0" lang="en-US" sz="8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3995640" y="4365720"/>
            <a:ext cx="26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= 8</a:t>
            </a:r>
            <a:endParaRPr b="0" lang="en-US" sz="8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284" name="Picture 4" descr="Картинка 5 из 2996"/>
          <p:cNvPicPr/>
          <p:nvPr/>
        </p:nvPicPr>
        <p:blipFill>
          <a:blip r:embed="rId1"/>
          <a:stretch/>
        </p:blipFill>
        <p:spPr>
          <a:xfrm>
            <a:off x="0" y="2060640"/>
            <a:ext cx="3543480" cy="2660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Картинка 8 из 3291"/>
          <p:cNvPicPr/>
          <p:nvPr/>
        </p:nvPicPr>
        <p:blipFill>
          <a:blip r:embed="rId2"/>
          <a:stretch/>
        </p:blipFill>
        <p:spPr>
          <a:xfrm>
            <a:off x="5364000" y="1989000"/>
            <a:ext cx="278640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Составьте числовые выражения </a:t>
            </a:r>
            <a:br>
              <a:rPr sz="4000"/>
            </a:b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по рисунку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TextBox 78"/>
          <p:cNvSpPr/>
          <p:nvPr/>
        </p:nvSpPr>
        <p:spPr>
          <a:xfrm>
            <a:off x="250920" y="364500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8" name="TextBox 79"/>
          <p:cNvSpPr/>
          <p:nvPr/>
        </p:nvSpPr>
        <p:spPr>
          <a:xfrm>
            <a:off x="755640" y="364500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9" name="TextBox 80"/>
          <p:cNvSpPr/>
          <p:nvPr/>
        </p:nvSpPr>
        <p:spPr>
          <a:xfrm>
            <a:off x="1187280" y="36781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0" name="TextBox 81"/>
          <p:cNvSpPr/>
          <p:nvPr/>
        </p:nvSpPr>
        <p:spPr>
          <a:xfrm>
            <a:off x="1763640" y="371628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1" name="TextBox 84"/>
          <p:cNvSpPr/>
          <p:nvPr/>
        </p:nvSpPr>
        <p:spPr>
          <a:xfrm>
            <a:off x="755640" y="4292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2" name="TextBox 85"/>
          <p:cNvSpPr/>
          <p:nvPr/>
        </p:nvSpPr>
        <p:spPr>
          <a:xfrm>
            <a:off x="1763640" y="43657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3" name="Прямоугольник 86"/>
          <p:cNvSpPr/>
          <p:nvPr/>
        </p:nvSpPr>
        <p:spPr>
          <a:xfrm>
            <a:off x="2268360" y="4437000"/>
            <a:ext cx="64800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4" name="Прямоугольник 87"/>
          <p:cNvSpPr/>
          <p:nvPr/>
        </p:nvSpPr>
        <p:spPr>
          <a:xfrm>
            <a:off x="2268360" y="5229360"/>
            <a:ext cx="64800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5" name="TextBox 89"/>
          <p:cNvSpPr/>
          <p:nvPr/>
        </p:nvSpPr>
        <p:spPr>
          <a:xfrm>
            <a:off x="826920" y="5084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6" name="TextBox 91"/>
          <p:cNvSpPr/>
          <p:nvPr/>
        </p:nvSpPr>
        <p:spPr>
          <a:xfrm>
            <a:off x="1763640" y="5084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7" name="TextBox 94"/>
          <p:cNvSpPr/>
          <p:nvPr/>
        </p:nvSpPr>
        <p:spPr>
          <a:xfrm>
            <a:off x="755640" y="57657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8" name="Прямоугольник 95"/>
          <p:cNvSpPr/>
          <p:nvPr/>
        </p:nvSpPr>
        <p:spPr>
          <a:xfrm>
            <a:off x="1116000" y="5950080"/>
            <a:ext cx="64764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9" name="TextBox 97"/>
          <p:cNvSpPr/>
          <p:nvPr/>
        </p:nvSpPr>
        <p:spPr>
          <a:xfrm>
            <a:off x="1763640" y="5805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0" name="Прямоугольник 33"/>
          <p:cNvSpPr/>
          <p:nvPr/>
        </p:nvSpPr>
        <p:spPr>
          <a:xfrm>
            <a:off x="2268360" y="5950080"/>
            <a:ext cx="64800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1" name="Прямоугольник 60"/>
          <p:cNvSpPr/>
          <p:nvPr/>
        </p:nvSpPr>
        <p:spPr>
          <a:xfrm>
            <a:off x="179280" y="5950080"/>
            <a:ext cx="64764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grpSp>
        <p:nvGrpSpPr>
          <p:cNvPr id="302" name="Группа 70"/>
          <p:cNvGrpSpPr/>
          <p:nvPr/>
        </p:nvGrpSpPr>
        <p:grpSpPr>
          <a:xfrm>
            <a:off x="1619280" y="2205000"/>
            <a:ext cx="4608360" cy="287280"/>
            <a:chOff x="1619280" y="2205000"/>
            <a:chExt cx="4608360" cy="287280"/>
          </a:xfrm>
        </p:grpSpPr>
        <p:sp>
          <p:nvSpPr>
            <p:cNvPr id="303" name="Прямая соединительная линия 64"/>
            <p:cNvSpPr/>
            <p:nvPr/>
          </p:nvSpPr>
          <p:spPr>
            <a:xfrm>
              <a:off x="1619280" y="2205000"/>
              <a:ext cx="0" cy="287280"/>
            </a:xfrm>
            <a:prstGeom prst="line">
              <a:avLst/>
            </a:prstGeom>
            <a:ln w="316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75f6d"/>
                </a:solidFill>
                <a:latin typeface="Arial"/>
              </a:endParaRPr>
            </a:p>
          </p:txBody>
        </p:sp>
        <p:grpSp>
          <p:nvGrpSpPr>
            <p:cNvPr id="304" name="Группа 69"/>
            <p:cNvGrpSpPr/>
            <p:nvPr/>
          </p:nvGrpSpPr>
          <p:grpSpPr>
            <a:xfrm>
              <a:off x="1619280" y="2205000"/>
              <a:ext cx="4608360" cy="287280"/>
              <a:chOff x="1619280" y="2205000"/>
              <a:chExt cx="4608360" cy="287280"/>
            </a:xfrm>
          </p:grpSpPr>
          <p:sp>
            <p:nvSpPr>
              <p:cNvPr id="305" name="Прямая соединительная линия 58"/>
              <p:cNvSpPr/>
              <p:nvPr/>
            </p:nvSpPr>
            <p:spPr>
              <a:xfrm>
                <a:off x="1619280" y="2348640"/>
                <a:ext cx="4608360" cy="0"/>
              </a:xfrm>
              <a:prstGeom prst="line">
                <a:avLst/>
              </a:prstGeom>
              <a:ln w="31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75f6d"/>
                  </a:solidFill>
                  <a:latin typeface="Arial"/>
                </a:endParaRPr>
              </a:p>
            </p:txBody>
          </p:sp>
          <p:grpSp>
            <p:nvGrpSpPr>
              <p:cNvPr id="306" name="Группа 68"/>
              <p:cNvGrpSpPr/>
              <p:nvPr/>
            </p:nvGrpSpPr>
            <p:grpSpPr>
              <a:xfrm>
                <a:off x="3131280" y="2205000"/>
                <a:ext cx="3096360" cy="287280"/>
                <a:chOff x="3131280" y="2205000"/>
                <a:chExt cx="3096360" cy="287280"/>
              </a:xfrm>
            </p:grpSpPr>
            <p:sp>
              <p:nvSpPr>
                <p:cNvPr id="307" name="Прямая соединительная линия 66"/>
                <p:cNvSpPr/>
                <p:nvPr/>
              </p:nvSpPr>
              <p:spPr>
                <a:xfrm>
                  <a:off x="3131280" y="2205000"/>
                  <a:ext cx="0" cy="287280"/>
                </a:xfrm>
                <a:prstGeom prst="line">
                  <a:avLst/>
                </a:prstGeom>
                <a:ln w="3168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75f6d"/>
                    </a:solidFill>
                    <a:latin typeface="Arial"/>
                  </a:endParaRPr>
                </a:p>
              </p:txBody>
            </p:sp>
            <p:sp>
              <p:nvSpPr>
                <p:cNvPr id="308" name="Прямая соединительная линия 67"/>
                <p:cNvSpPr/>
                <p:nvPr/>
              </p:nvSpPr>
              <p:spPr>
                <a:xfrm>
                  <a:off x="6227640" y="2205000"/>
                  <a:ext cx="0" cy="287280"/>
                </a:xfrm>
                <a:prstGeom prst="line">
                  <a:avLst/>
                </a:prstGeom>
                <a:ln w="3168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75f6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9" name="Правая круглая скобка 72"/>
          <p:cNvSpPr/>
          <p:nvPr/>
        </p:nvSpPr>
        <p:spPr>
          <a:xfrm rot="16200000">
            <a:off x="3778920" y="-243360"/>
            <a:ext cx="288720" cy="4608360"/>
          </a:xfrm>
          <a:custGeom>
            <a:avLst/>
            <a:gdLst>
              <a:gd name="textAreaLeft" fmla="*/ 0 w 288720"/>
              <a:gd name="textAreaRight" fmla="*/ 202680 w 288720"/>
              <a:gd name="textAreaTop" fmla="*/ 231120 h 4608360"/>
              <a:gd name="textAreaBottom" fmla="*/ 437724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084"/>
                  <a:pt x="21600" y="2168"/>
                </a:cubicBezTo>
                <a:lnTo>
                  <a:pt x="21600" y="19432"/>
                </a:lnTo>
                <a:cubicBezTo>
                  <a:pt x="21600" y="20516"/>
                  <a:pt x="108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0" name="TextBox 73"/>
          <p:cNvSpPr/>
          <p:nvPr/>
        </p:nvSpPr>
        <p:spPr>
          <a:xfrm>
            <a:off x="3348000" y="1125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1" name="TextBox 74"/>
          <p:cNvSpPr/>
          <p:nvPr/>
        </p:nvSpPr>
        <p:spPr>
          <a:xfrm>
            <a:off x="1908000" y="2276640"/>
            <a:ext cx="9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2" name="TextBox 76"/>
          <p:cNvSpPr/>
          <p:nvPr/>
        </p:nvSpPr>
        <p:spPr>
          <a:xfrm>
            <a:off x="4211640" y="2276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3" name="Прямоугольник 34"/>
          <p:cNvSpPr/>
          <p:nvPr/>
        </p:nvSpPr>
        <p:spPr>
          <a:xfrm>
            <a:off x="2268360" y="3716280"/>
            <a:ext cx="648000" cy="64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4" name="Прямоугольник 35"/>
          <p:cNvSpPr/>
          <p:nvPr/>
        </p:nvSpPr>
        <p:spPr>
          <a:xfrm>
            <a:off x="108000" y="4437000"/>
            <a:ext cx="64764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5" name="Прямоугольник 36"/>
          <p:cNvSpPr/>
          <p:nvPr/>
        </p:nvSpPr>
        <p:spPr>
          <a:xfrm>
            <a:off x="1187280" y="4437000"/>
            <a:ext cx="64800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6" name="Прямоугольник 37"/>
          <p:cNvSpPr/>
          <p:nvPr/>
        </p:nvSpPr>
        <p:spPr>
          <a:xfrm>
            <a:off x="108000" y="5229360"/>
            <a:ext cx="64764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7" name="Прямоугольник 38"/>
          <p:cNvSpPr/>
          <p:nvPr/>
        </p:nvSpPr>
        <p:spPr>
          <a:xfrm>
            <a:off x="1187280" y="5229360"/>
            <a:ext cx="64800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Части фигур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9" name="Прямоугольный треугольник 20"/>
          <p:cNvSpPr/>
          <p:nvPr/>
        </p:nvSpPr>
        <p:spPr>
          <a:xfrm>
            <a:off x="900000" y="1989000"/>
            <a:ext cx="1871640" cy="1871640"/>
          </a:xfrm>
          <a:prstGeom prst="rtTriangle">
            <a:avLst/>
          </a:prstGeom>
          <a:solidFill>
            <a:srgbClr val="00b05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0" name="Прямоугольный треугольник 29"/>
          <p:cNvSpPr/>
          <p:nvPr/>
        </p:nvSpPr>
        <p:spPr>
          <a:xfrm flipH="1" rot="16200000">
            <a:off x="898920" y="1989000"/>
            <a:ext cx="1871640" cy="187164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1" name="Прямоугольный треугольник 8"/>
          <p:cNvSpPr/>
          <p:nvPr/>
        </p:nvSpPr>
        <p:spPr>
          <a:xfrm flipH="1" rot="5400000">
            <a:off x="6084000" y="1700280"/>
            <a:ext cx="1873080" cy="187200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2" name="Прямоугольный треугольник 9"/>
          <p:cNvSpPr/>
          <p:nvPr/>
        </p:nvSpPr>
        <p:spPr>
          <a:xfrm rot="16200000">
            <a:off x="4211640" y="1699920"/>
            <a:ext cx="1873080" cy="1873080"/>
          </a:xfrm>
          <a:prstGeom prst="rtTriangle">
            <a:avLst/>
          </a:prstGeom>
          <a:solidFill>
            <a:srgbClr val="00b05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468360" y="4941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32c16"/>
                </a:solidFill>
                <a:latin typeface="Arial"/>
              </a:rPr>
              <a:t>Составьте из квадрата большой треугольник.</a:t>
            </a:r>
            <a:endParaRPr b="0" lang="en-US" sz="24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Части фигур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5" name="Прямоугольный треугольник 16"/>
          <p:cNvSpPr/>
          <p:nvPr/>
        </p:nvSpPr>
        <p:spPr>
          <a:xfrm rot="18920400">
            <a:off x="1368000" y="874440"/>
            <a:ext cx="1225440" cy="122400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6" name="Прямоугольный треугольник 17"/>
          <p:cNvSpPr/>
          <p:nvPr/>
        </p:nvSpPr>
        <p:spPr>
          <a:xfrm flipH="1" flipV="1" rot="18920400">
            <a:off x="1368360" y="2601720"/>
            <a:ext cx="1225440" cy="122364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7" name="Прямоугольный треугольник 18"/>
          <p:cNvSpPr/>
          <p:nvPr/>
        </p:nvSpPr>
        <p:spPr>
          <a:xfrm flipV="1" rot="18879600">
            <a:off x="2233080" y="1737360"/>
            <a:ext cx="1224000" cy="122436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8" name="Прямоугольный треугольник 19"/>
          <p:cNvSpPr/>
          <p:nvPr/>
        </p:nvSpPr>
        <p:spPr>
          <a:xfrm flipH="1" flipV="1" rot="2720400">
            <a:off x="504360" y="1737360"/>
            <a:ext cx="1224000" cy="122436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9" name="TextBox 21"/>
          <p:cNvSpPr/>
          <p:nvPr/>
        </p:nvSpPr>
        <p:spPr>
          <a:xfrm>
            <a:off x="468360" y="494172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32c16"/>
                </a:solidFill>
                <a:latin typeface="Arial"/>
              </a:rPr>
              <a:t>Составьте из большого квадрата</a:t>
            </a:r>
            <a:endParaRPr b="0" lang="en-US" sz="2400" spc="-1" strike="noStrike">
              <a:solidFill>
                <a:srgbClr val="575f6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32c1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b32c16"/>
                </a:solidFill>
                <a:latin typeface="Arial"/>
              </a:rPr>
              <a:t>два маленьких.</a:t>
            </a:r>
            <a:endParaRPr b="0" lang="en-US" sz="2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0" name="Прямоугольный треугольник 22"/>
          <p:cNvSpPr/>
          <p:nvPr/>
        </p:nvSpPr>
        <p:spPr>
          <a:xfrm flipH="1" flipV="1" rot="16200000">
            <a:off x="4572000" y="1628640"/>
            <a:ext cx="1224000" cy="122400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1" name="Прямоугольный треугольник 23"/>
          <p:cNvSpPr/>
          <p:nvPr/>
        </p:nvSpPr>
        <p:spPr>
          <a:xfrm flipH="1" flipV="1" rot="5400000">
            <a:off x="4572000" y="1628640"/>
            <a:ext cx="1224000" cy="122400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2" name="Прямоугольный треугольник 24"/>
          <p:cNvSpPr/>
          <p:nvPr/>
        </p:nvSpPr>
        <p:spPr>
          <a:xfrm flipV="1" rot="16200000">
            <a:off x="6516720" y="2492280"/>
            <a:ext cx="1224000" cy="122400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3" name="Прямоугольный треугольник 25"/>
          <p:cNvSpPr/>
          <p:nvPr/>
        </p:nvSpPr>
        <p:spPr>
          <a:xfrm flipV="1" rot="5400000">
            <a:off x="6516720" y="2492280"/>
            <a:ext cx="1224000" cy="122400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4:35:01Z</dcterms:created>
  <dc:creator>Galanovi</dc:creator>
  <dc:description/>
  <dc:language>en-US</dc:language>
  <cp:lastModifiedBy>Galanovi</cp:lastModifiedBy>
  <dcterms:modified xsi:type="dcterms:W3CDTF">2011-12-09T18:40:03Z</dcterms:modified>
  <cp:revision>190</cp:revision>
  <dc:subject/>
  <dc:title>Сравнение групп предметов</dc:title>
</cp:coreProperties>
</file>