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7F6B-6A74-4435-989F-1B1B55A8DC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9846-A452-4B10-80B8-94B0B1E730D5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1D58-B30D-4698-A18B-E33F2B4B4CA6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 сво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203-B79C-446B-8957-46FBA313234F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закрывают глаза, в это время появляется выражение, учитель его зачитывает. Потом дети открывают глаза и показывают карточкой свой вариант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колько 5 меньше 8? На сколько 8 больше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веряется по числовому отре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580-07F1-490B-A781-3A3F19068CAF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3C56-DAA7-42D5-9984-13FB786E38E5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самостоятельно записывают выражение в тетрадь, после – разбор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5F84-047C-4C48-8C08-213DFFBCF357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части и целое в этих равен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йти целое? Как найти ча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бозначают первые два равенства? Последние два равен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еще части можно разбить число 9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0D5-D268-4A6A-B125-3F1E2225DC29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работают с разрезными фигурами, после  - прове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34E3-986D-427A-9C2E-BDEE8003D222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67A2-F4C0-4B5F-A095-576C44A9898E}" type="slidenum">
              <a:rPr b="0" lang="ru-RU" sz="1200" spc="-1" strike="noStrike">
                <a:solidFill>
                  <a:srgbClr val="575f6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ECB-2677-49D2-83BB-3EC6F105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E47-F81D-480D-95CB-5EFCC6C3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E15-6814-499D-8CCF-D00575BF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D02-A919-484F-B069-9DA33CA6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C7F8-0319-4D3B-819E-FE9E612D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6175-E72B-4345-8773-FCBC7D26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73A0-CEC7-429F-AC26-ACB6F3A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474E-6D80-4C2B-8A52-98202C7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641B-8625-40B0-9DA7-CD87F8B8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C4F-53FB-46F9-8B84-5CF909F3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7CDF-ED52-43EB-96AD-4CCFE6CB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93D-841C-417A-8484-E1CC3896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4A3D-E5E7-4F7A-BC58-2BEA5289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EDE-9643-48F0-8581-7877422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47E-E3EE-4329-967A-D5807BE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B97-5D09-4BB4-BADF-039F7520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B8A-A8C3-4BDB-A8EA-482723DB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A2C7-D536-4B53-9AE6-85D5E598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7208-DA08-440F-9D52-F472D0F2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E8A1-6E92-4F47-811B-95B09621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F6563-B3B1-4211-BD5A-E414627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6B7DC-24AC-4C87-AB3F-0A2C1FC4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FAF-156A-4A46-A4B8-760B7B8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EA82-C33C-48D8-AAAD-A720A21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89D9-780D-4073-BBF7-8F64FD7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AAE0-655E-482C-AF46-08832976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C9F6-AD42-46F5-8239-4B1589D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25856-B37B-48E0-80FA-10984ABA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06CF-920F-4E95-8F2E-CE251D7B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A837-7717-403D-A1B6-1F39F4BF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F682-A013-4B3C-A7C6-1C914697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758A-CCD1-42AA-89FD-DD9B9E69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7636-6F40-4121-8DCE-534A5226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AE9-E1F0-4AEA-BDE3-DF61188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A160-99AD-4542-B239-2354DFB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CE05-5EE3-4072-827C-F0642BD3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8A48A-6424-4A87-841F-F97EB244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CB89-1DD7-434F-AC38-A21B963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0E5B6-8DAB-4BDD-8CC4-8DFF776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452E-CCBE-4C16-9B8B-75F5085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8D77F-F9E6-45AA-8216-6B89C1C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A5987-3224-43CF-89B3-9474755B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4914-451D-49D5-9730-14AB7A8B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D233-16C4-46FB-9D40-3DA5BCBE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F8D-CDA5-45B7-AFE9-E0E6655E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AB8D2-2ED6-4CBF-A07F-79F8E4A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5AB3-361D-48D7-B1F8-18832B2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FC944-A475-439E-991F-DC1811E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AAB4-E371-4376-8BA7-2DB898C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9415-818B-4522-B2F3-4DADD98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8D4D-577F-4EFC-8603-8B0CEF9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7484-10B2-4D6B-8349-2A853BE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272A-354C-4607-BFE6-F126DE3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9755-6C64-4811-B16E-EBC471C4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E3E5-8D73-4AA0-8340-8BA4ADCF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81E-8A92-4CEB-8D35-FCCA39D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8ABBD-102E-4C8D-B0D1-7C091132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CF07-F303-4E54-8770-B0DCCF32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D43C-2349-4F7D-84C4-1057CF6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5857A-1A4C-4755-BED9-9EE80C8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D1A5-8C22-49EA-8585-C419D1A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CBD1-E06F-446E-83FD-9F0D24D7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93985-C2FC-4D27-AB20-331BF965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4927-1C4A-4780-B583-10DE08F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FF495-34F0-49F5-81CB-16E2C7F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D639-7920-4A26-B7AB-373B4E4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272-BE7E-4CB0-A6A8-6EF33A1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18E82-B45D-453A-8DE8-5749B07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0051-462D-4C1F-BEF6-9573AFF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C54F9-A6A6-4616-85C6-B8420B50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DBB-E3A2-42A4-9E2B-157002A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BEF-8795-46E1-A5D2-D1CCD1E2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794A-3992-4293-90F6-10B66F1014A5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D486-10B9-422E-82D2-B5FFF25ADB90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FEC-9343-4B30-92A5-82E0D278FE2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C88-2ADE-4649-A822-82C9CB36CB98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9098-0EE4-4951-B1C2-6EF3490E2F31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575f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7830-C162-4588-9D75-1602BF87889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7669080" cy="244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1047600" cy="1057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1076040" cy="1123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5"/>
          <a:stretch/>
        </p:blipFill>
        <p:spPr>
          <a:xfrm>
            <a:off x="3348000" y="3716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6"/>
          <a:stretch/>
        </p:blipFill>
        <p:spPr>
          <a:xfrm>
            <a:off x="4356000" y="479736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7"/>
          <a:stretch/>
        </p:blipFill>
        <p:spPr>
          <a:xfrm>
            <a:off x="4284720" y="3645000"/>
            <a:ext cx="1123920" cy="117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8"/>
          <a:stretch/>
        </p:blipFill>
        <p:spPr>
          <a:xfrm>
            <a:off x="3348000" y="4797360"/>
            <a:ext cx="1047960" cy="1057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9"/>
          <a:stretch/>
        </p:blipFill>
        <p:spPr>
          <a:xfrm rot="18854400">
            <a:off x="409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"/>
          <p:cNvPicPr/>
          <p:nvPr/>
        </p:nvPicPr>
        <p:blipFill>
          <a:blip r:embed="rId10"/>
          <a:stretch/>
        </p:blipFill>
        <p:spPr>
          <a:xfrm rot="18854400">
            <a:off x="5532480" y="2492280"/>
            <a:ext cx="1076400" cy="112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11"/>
          <a:stretch/>
        </p:blipFill>
        <p:spPr>
          <a:xfrm rot="2803800">
            <a:off x="4820760" y="1638000"/>
            <a:ext cx="1123920" cy="1171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12"/>
          <a:stretch/>
        </p:blipFill>
        <p:spPr>
          <a:xfrm rot="2803800">
            <a:off x="6262200" y="1638000"/>
            <a:ext cx="1123920" cy="11718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6"/>
          <p:cNvSpPr/>
          <p:nvPr/>
        </p:nvSpPr>
        <p:spPr>
          <a:xfrm>
            <a:off x="395280" y="5877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ложите из частей круга две другие фигуры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Задания подготовлены по книге  «Устные упражнения на уроках математики. 1 класс» (авт. Л.Г. Петерсон, И.Г. Липатникова)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Презентация выполнена Галановой Е.В., учителем начальных классов ГОУ школы №328 Санкт-Петербурга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b32c16"/>
                </a:solidFill>
                <a:latin typeface="Franklin Gothic Book"/>
              </a:rPr>
              <a:t>Вставьте знак «+» или «-»</a:t>
            </a:r>
            <a:endParaRPr b="0" lang="en-US" sz="41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826920" y="213372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 … 8 … 6 = 3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900000" y="386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9 … 7 … 3 = 5</a:t>
            </a:r>
            <a:endParaRPr b="0" lang="en-US" sz="72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Заполните таблицу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95280" y="1397160"/>
          <a:ext cx="8497800" cy="4479840"/>
        </p:xfrm>
        <a:graphic>
          <a:graphicData uri="http://schemas.openxmlformats.org/drawingml/2006/table">
            <a:tbl>
              <a:tblPr/>
              <a:tblGrid>
                <a:gridCol w="3240000"/>
                <a:gridCol w="1513080"/>
                <a:gridCol w="1295280"/>
                <a:gridCol w="1224000"/>
                <a:gridCol w="122544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1872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1872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0" spc="-1" strike="noStrike">
                        <a:solidFill>
                          <a:srgbClr val="575f6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75f6d"/>
                      </a:solidFill>
                    </a:lnL>
                    <a:lnR w="5760">
                      <a:solidFill>
                        <a:srgbClr val="575f6d"/>
                      </a:solidFill>
                    </a:lnR>
                    <a:lnT w="5760">
                      <a:solidFill>
                        <a:srgbClr val="575f6d"/>
                      </a:solidFill>
                    </a:lnT>
                    <a:lnB w="5760">
                      <a:solidFill>
                        <a:srgbClr val="575f6d"/>
                      </a:solidFill>
                    </a:lnB>
                    <a:solidFill>
                      <a:srgbClr val="c9cbce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3"/>
          <p:cNvSpPr/>
          <p:nvPr/>
        </p:nvSpPr>
        <p:spPr>
          <a:xfrm>
            <a:off x="4067280" y="14050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5508720" y="292428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6732720" y="1413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7885080" y="292428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b32c16"/>
                </a:solidFill>
                <a:latin typeface="Franklin Gothic Book"/>
              </a:rPr>
              <a:t>Игра «День-ночь»</a:t>
            </a:r>
            <a:endParaRPr b="0" lang="en-US" sz="4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0" y="23493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5- 4 +6- 4+3 - 1 + 3 - 7= 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8101080" y="23414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250920" y="76500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шкафу стояло 9 чашек. Наташа взяла 2 чашки. Сколько чашек осталось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9 - 2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3780000" y="436572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7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78" name="Picture 4" descr="Картинка 9 из 91223"/>
          <p:cNvPicPr/>
          <p:nvPr/>
        </p:nvPicPr>
        <p:blipFill>
          <a:blip r:embed="rId1"/>
          <a:stretch/>
        </p:blipFill>
        <p:spPr>
          <a:xfrm>
            <a:off x="4788000" y="2349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Картинка 11 из 91223"/>
          <p:cNvPicPr/>
          <p:nvPr/>
        </p:nvPicPr>
        <p:blipFill>
          <a:blip r:embed="rId2"/>
          <a:stretch/>
        </p:blipFill>
        <p:spPr>
          <a:xfrm>
            <a:off x="6372360" y="285264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выражение к задаче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250920" y="76500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ва снегиря и шесть синиц.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бята, сколько это птиц?</a:t>
            </a: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1619280" y="4365720"/>
            <a:ext cx="26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2 + 6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3995640" y="436572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= 8</a:t>
            </a:r>
            <a:endParaRPr b="0" lang="en-US" sz="8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284" name="Picture 4" descr="Картинка 5 из 2996"/>
          <p:cNvPicPr/>
          <p:nvPr/>
        </p:nvPicPr>
        <p:blipFill>
          <a:blip r:embed="rId1"/>
          <a:stretch/>
        </p:blipFill>
        <p:spPr>
          <a:xfrm>
            <a:off x="0" y="2060640"/>
            <a:ext cx="3543480" cy="266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Картинка 8 из 3291"/>
          <p:cNvPicPr/>
          <p:nvPr/>
        </p:nvPicPr>
        <p:blipFill>
          <a:blip r:embed="rId2"/>
          <a:stretch/>
        </p:blipFill>
        <p:spPr>
          <a:xfrm>
            <a:off x="5364000" y="1989000"/>
            <a:ext cx="2786400" cy="26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Составьте числовые выражения </a:t>
            </a:r>
            <a:br>
              <a:rPr sz="4000"/>
            </a:b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по рисунку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TextBox 78"/>
          <p:cNvSpPr/>
          <p:nvPr/>
        </p:nvSpPr>
        <p:spPr>
          <a:xfrm>
            <a:off x="250920" y="364500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8" name="TextBox 79"/>
          <p:cNvSpPr/>
          <p:nvPr/>
        </p:nvSpPr>
        <p:spPr>
          <a:xfrm>
            <a:off x="755640" y="3645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9" name="TextBox 80"/>
          <p:cNvSpPr/>
          <p:nvPr/>
        </p:nvSpPr>
        <p:spPr>
          <a:xfrm>
            <a:off x="1187280" y="36781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0" name="TextBox 81"/>
          <p:cNvSpPr/>
          <p:nvPr/>
        </p:nvSpPr>
        <p:spPr>
          <a:xfrm>
            <a:off x="1763640" y="37162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1" name="TextBox 84"/>
          <p:cNvSpPr/>
          <p:nvPr/>
        </p:nvSpPr>
        <p:spPr>
          <a:xfrm>
            <a:off x="755640" y="4292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2" name="TextBox 85"/>
          <p:cNvSpPr/>
          <p:nvPr/>
        </p:nvSpPr>
        <p:spPr>
          <a:xfrm>
            <a:off x="1763640" y="4365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3" name="Прямоугольник 86"/>
          <p:cNvSpPr/>
          <p:nvPr/>
        </p:nvSpPr>
        <p:spPr>
          <a:xfrm>
            <a:off x="226836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4" name="Прямоугольник 87"/>
          <p:cNvSpPr/>
          <p:nvPr/>
        </p:nvSpPr>
        <p:spPr>
          <a:xfrm>
            <a:off x="226836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5" name="TextBox 89"/>
          <p:cNvSpPr/>
          <p:nvPr/>
        </p:nvSpPr>
        <p:spPr>
          <a:xfrm>
            <a:off x="82692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6" name="TextBox 91"/>
          <p:cNvSpPr/>
          <p:nvPr/>
        </p:nvSpPr>
        <p:spPr>
          <a:xfrm>
            <a:off x="1763640" y="5084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7" name="TextBox 94"/>
          <p:cNvSpPr/>
          <p:nvPr/>
        </p:nvSpPr>
        <p:spPr>
          <a:xfrm>
            <a:off x="755640" y="57657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8" name="Прямоугольник 95"/>
          <p:cNvSpPr/>
          <p:nvPr/>
        </p:nvSpPr>
        <p:spPr>
          <a:xfrm>
            <a:off x="111600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9" name="TextBox 97"/>
          <p:cNvSpPr/>
          <p:nvPr/>
        </p:nvSpPr>
        <p:spPr>
          <a:xfrm>
            <a:off x="1763640" y="580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0" name="Прямоугольник 33"/>
          <p:cNvSpPr/>
          <p:nvPr/>
        </p:nvSpPr>
        <p:spPr>
          <a:xfrm>
            <a:off x="2268360" y="595008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1" name="Прямоугольник 60"/>
          <p:cNvSpPr/>
          <p:nvPr/>
        </p:nvSpPr>
        <p:spPr>
          <a:xfrm>
            <a:off x="179280" y="595008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grpSp>
        <p:nvGrpSpPr>
          <p:cNvPr id="302" name="Группа 70"/>
          <p:cNvGrpSpPr/>
          <p:nvPr/>
        </p:nvGrpSpPr>
        <p:grpSpPr>
          <a:xfrm>
            <a:off x="1619280" y="2205000"/>
            <a:ext cx="4608360" cy="287280"/>
            <a:chOff x="1619280" y="2205000"/>
            <a:chExt cx="4608360" cy="287280"/>
          </a:xfrm>
        </p:grpSpPr>
        <p:sp>
          <p:nvSpPr>
            <p:cNvPr id="303" name="Прямая соединительная линия 64"/>
            <p:cNvSpPr/>
            <p:nvPr/>
          </p:nvSpPr>
          <p:spPr>
            <a:xfrm>
              <a:off x="1619280" y="2205000"/>
              <a:ext cx="0" cy="287280"/>
            </a:xfrm>
            <a:prstGeom prst="line">
              <a:avLst/>
            </a:prstGeom>
            <a:ln w="316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75f6d"/>
                </a:solidFill>
                <a:latin typeface="Arial"/>
              </a:endParaRPr>
            </a:p>
          </p:txBody>
        </p:sp>
        <p:grpSp>
          <p:nvGrpSpPr>
            <p:cNvPr id="304" name="Группа 69"/>
            <p:cNvGrpSpPr/>
            <p:nvPr/>
          </p:nvGrpSpPr>
          <p:grpSpPr>
            <a:xfrm>
              <a:off x="1619280" y="2205000"/>
              <a:ext cx="4608360" cy="287280"/>
              <a:chOff x="1619280" y="2205000"/>
              <a:chExt cx="4608360" cy="287280"/>
            </a:xfrm>
          </p:grpSpPr>
          <p:sp>
            <p:nvSpPr>
              <p:cNvPr id="305" name="Прямая соединительная линия 58"/>
              <p:cNvSpPr/>
              <p:nvPr/>
            </p:nvSpPr>
            <p:spPr>
              <a:xfrm>
                <a:off x="1619280" y="2348640"/>
                <a:ext cx="4608360" cy="0"/>
              </a:xfrm>
              <a:prstGeom prst="line">
                <a:avLst/>
              </a:prstGeom>
              <a:ln w="316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75f6d"/>
                  </a:solidFill>
                  <a:latin typeface="Arial"/>
                </a:endParaRPr>
              </a:p>
            </p:txBody>
          </p:sp>
          <p:grpSp>
            <p:nvGrpSpPr>
              <p:cNvPr id="306" name="Группа 68"/>
              <p:cNvGrpSpPr/>
              <p:nvPr/>
            </p:nvGrpSpPr>
            <p:grpSpPr>
              <a:xfrm>
                <a:off x="3131280" y="2205000"/>
                <a:ext cx="3096360" cy="287280"/>
                <a:chOff x="3131280" y="2205000"/>
                <a:chExt cx="3096360" cy="287280"/>
              </a:xfrm>
            </p:grpSpPr>
            <p:sp>
              <p:nvSpPr>
                <p:cNvPr id="307" name="Прямая соединительная линия 66"/>
                <p:cNvSpPr/>
                <p:nvPr/>
              </p:nvSpPr>
              <p:spPr>
                <a:xfrm>
                  <a:off x="313128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  <p:sp>
              <p:nvSpPr>
                <p:cNvPr id="308" name="Прямая соединительная линия 67"/>
                <p:cNvSpPr/>
                <p:nvPr/>
              </p:nvSpPr>
              <p:spPr>
                <a:xfrm>
                  <a:off x="6227640" y="2205000"/>
                  <a:ext cx="0" cy="287280"/>
                </a:xfrm>
                <a:prstGeom prst="line">
                  <a:avLst/>
                </a:prstGeom>
                <a:ln w="316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575f6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9" name="Правая круглая скобка 72"/>
          <p:cNvSpPr/>
          <p:nvPr/>
        </p:nvSpPr>
        <p:spPr>
          <a:xfrm rot="16200000">
            <a:off x="3778920" y="-243360"/>
            <a:ext cx="288720" cy="4608360"/>
          </a:xfrm>
          <a:custGeom>
            <a:avLst/>
            <a:gdLst>
              <a:gd name="textAreaLeft" fmla="*/ 0 w 288720"/>
              <a:gd name="textAreaRight" fmla="*/ 202680 w 288720"/>
              <a:gd name="textAreaTop" fmla="*/ 231120 h 4608360"/>
              <a:gd name="textAreaBottom" fmla="*/ 437724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084"/>
                  <a:pt x="21600" y="2168"/>
                </a:cubicBezTo>
                <a:lnTo>
                  <a:pt x="21600" y="19432"/>
                </a:lnTo>
                <a:cubicBezTo>
                  <a:pt x="21600" y="20516"/>
                  <a:pt x="10800" y="21600"/>
                  <a:pt x="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TextBox 73"/>
          <p:cNvSpPr/>
          <p:nvPr/>
        </p:nvSpPr>
        <p:spPr>
          <a:xfrm>
            <a:off x="3348000" y="1125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1" name="TextBox 74"/>
          <p:cNvSpPr/>
          <p:nvPr/>
        </p:nvSpPr>
        <p:spPr>
          <a:xfrm>
            <a:off x="1908000" y="227664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TextBox 76"/>
          <p:cNvSpPr/>
          <p:nvPr/>
        </p:nvSpPr>
        <p:spPr>
          <a:xfrm>
            <a:off x="4211640" y="2276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3" name="Прямоугольник 34"/>
          <p:cNvSpPr/>
          <p:nvPr/>
        </p:nvSpPr>
        <p:spPr>
          <a:xfrm>
            <a:off x="2268360" y="3716280"/>
            <a:ext cx="648000" cy="649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Прямоугольник 35"/>
          <p:cNvSpPr/>
          <p:nvPr/>
        </p:nvSpPr>
        <p:spPr>
          <a:xfrm>
            <a:off x="108000" y="443700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5" name="Прямоугольник 36"/>
          <p:cNvSpPr/>
          <p:nvPr/>
        </p:nvSpPr>
        <p:spPr>
          <a:xfrm>
            <a:off x="1187280" y="443700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6" name="Прямоугольник 37"/>
          <p:cNvSpPr/>
          <p:nvPr/>
        </p:nvSpPr>
        <p:spPr>
          <a:xfrm>
            <a:off x="108000" y="5229360"/>
            <a:ext cx="64764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7" name="Прямоугольник 38"/>
          <p:cNvSpPr/>
          <p:nvPr/>
        </p:nvSpPr>
        <p:spPr>
          <a:xfrm>
            <a:off x="1187280" y="5229360"/>
            <a:ext cx="64800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Прямоугольный треугольник 20"/>
          <p:cNvSpPr/>
          <p:nvPr/>
        </p:nvSpPr>
        <p:spPr>
          <a:xfrm>
            <a:off x="900000" y="1989000"/>
            <a:ext cx="1871640" cy="187164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0" name="Прямоугольный треугольник 29"/>
          <p:cNvSpPr/>
          <p:nvPr/>
        </p:nvSpPr>
        <p:spPr>
          <a:xfrm flipH="1" rot="16200000">
            <a:off x="898920" y="1989000"/>
            <a:ext cx="1871640" cy="187164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1" name="Прямоугольный треугольник 8"/>
          <p:cNvSpPr/>
          <p:nvPr/>
        </p:nvSpPr>
        <p:spPr>
          <a:xfrm flipH="1" rot="5400000">
            <a:off x="6084000" y="1700280"/>
            <a:ext cx="1873080" cy="1872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2" name="Прямоугольный треугольник 9"/>
          <p:cNvSpPr/>
          <p:nvPr/>
        </p:nvSpPr>
        <p:spPr>
          <a:xfrm rot="16200000">
            <a:off x="4211640" y="1699920"/>
            <a:ext cx="1873080" cy="1873080"/>
          </a:xfrm>
          <a:prstGeom prst="rtTriangle">
            <a:avLst/>
          </a:prstGeom>
          <a:solidFill>
            <a:srgbClr val="00b05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68360" y="4941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квадрата большой треугольник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Franklin Gothic Book"/>
              </a:rPr>
              <a:t>Части фигур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5" name="Прямоугольный треугольник 16"/>
          <p:cNvSpPr/>
          <p:nvPr/>
        </p:nvSpPr>
        <p:spPr>
          <a:xfrm rot="18920400">
            <a:off x="1368000" y="874440"/>
            <a:ext cx="122544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6" name="Прямоугольный треугольник 17"/>
          <p:cNvSpPr/>
          <p:nvPr/>
        </p:nvSpPr>
        <p:spPr>
          <a:xfrm flipH="1" flipV="1" rot="18920400">
            <a:off x="1368360" y="2601720"/>
            <a:ext cx="1225440" cy="122364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Прямоугольный треугольник 18"/>
          <p:cNvSpPr/>
          <p:nvPr/>
        </p:nvSpPr>
        <p:spPr>
          <a:xfrm flipV="1" rot="18879600">
            <a:off x="223308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8" name="Прямоугольный треугольник 19"/>
          <p:cNvSpPr/>
          <p:nvPr/>
        </p:nvSpPr>
        <p:spPr>
          <a:xfrm flipH="1" flipV="1" rot="2720400">
            <a:off x="504360" y="1737360"/>
            <a:ext cx="1224000" cy="122436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468360" y="494172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Составьте из большого квадрата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b32c16"/>
                </a:solidFill>
                <a:latin typeface="Arial"/>
              </a:rPr>
              <a:t>два маленьких.</a:t>
            </a: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0" name="Прямоугольный треугольник 22"/>
          <p:cNvSpPr/>
          <p:nvPr/>
        </p:nvSpPr>
        <p:spPr>
          <a:xfrm flipH="1" flipV="1" rot="162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1" name="Прямоугольный треугольник 23"/>
          <p:cNvSpPr/>
          <p:nvPr/>
        </p:nvSpPr>
        <p:spPr>
          <a:xfrm flipH="1" flipV="1" rot="5400000">
            <a:off x="4572000" y="1628640"/>
            <a:ext cx="1224000" cy="1224000"/>
          </a:xfrm>
          <a:prstGeom prst="rtTriangle">
            <a:avLst/>
          </a:prstGeom>
          <a:solidFill>
            <a:srgbClr val="ffff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2" name="Прямоугольный треугольник 24"/>
          <p:cNvSpPr/>
          <p:nvPr/>
        </p:nvSpPr>
        <p:spPr>
          <a:xfrm flipV="1" rot="162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3" name="Прямоугольный треугольник 25"/>
          <p:cNvSpPr/>
          <p:nvPr/>
        </p:nvSpPr>
        <p:spPr>
          <a:xfrm flipV="1" rot="5400000">
            <a:off x="6516720" y="2492280"/>
            <a:ext cx="1224000" cy="1224000"/>
          </a:xfrm>
          <a:prstGeom prst="rtTriangle">
            <a:avLst/>
          </a:prstGeom>
          <a:solidFill>
            <a:srgbClr val="ff0000"/>
          </a:solidFill>
          <a:ln w="1908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4:35:01Z</dcterms:created>
  <dc:creator>Galanovi</dc:creator>
  <dc:description/>
  <dc:language>en-US</dc:language>
  <cp:lastModifiedBy>Galanovi</cp:lastModifiedBy>
  <dcterms:modified xsi:type="dcterms:W3CDTF">2011-12-09T18:40:03Z</dcterms:modified>
  <cp:revision>190</cp:revision>
  <dc:subject/>
  <dc:title>Сравнение групп предметов</dc:title>
</cp:coreProperties>
</file>