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FEFC-BF21-40D9-BBE2-FE9CD932B3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AF96-4499-4128-9540-1EDEDC81A4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D71-5FD3-48DD-8B5F-65A5D96F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6D4-996B-420B-B4A3-BC6299F0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545-19D4-4BEB-9D49-5DDD3054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F96-8A99-408C-8BFD-44B23B82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AE0-77DA-49DF-AB89-92FE19B7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BBF-8C65-4943-ACF9-2411F03A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C6A-751F-42C1-A053-FD123222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6F0-2AFF-448B-91DB-F618B880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21A-36F1-496A-95B4-AA077220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F46-3058-4FB3-9ACD-29FEDFB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BD5-4D14-4F9A-A3E8-496ED5D8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2A6-87BA-4B21-BEE1-A59B18CE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FD6D-5883-4051-9208-1A8F855F8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nyavino-ed.ucoz.ru/emblema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reklama.com.ua/2009-05-30/182762/photos0-800x600.jpe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749160" y="3449520"/>
            <a:ext cx="7925040" cy="245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Картинка 1 из 347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04640"/>
            <a:ext cx="2590560" cy="2856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edu03.ru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0" t="0" r="5437" b="25640"/>
          <a:stretch/>
        </p:blipFill>
        <p:spPr>
          <a:xfrm>
            <a:off x="395280" y="98100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тевое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6000" y="148392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иСтар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rofistart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сийская сеть творческих учителе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it-n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бщество учителей искус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openclass.ru/node/27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евое сообщество КМ-Школы учителей биолог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iki.km-school.ru/wiki/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ические разработки уроков, видеоуроки, сетевые проекты, авторские программы и д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тевое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0" t="0" r="0" b="7894"/>
          <a:stretch/>
        </p:blipFill>
        <p:spPr>
          <a:xfrm>
            <a:off x="900000" y="1197000"/>
            <a:ext cx="72961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463680" y="1231920"/>
            <a:ext cx="8242200" cy="4632480"/>
          </a:xfrm>
          <a:prstGeom prst="rect">
            <a:avLst/>
          </a:prstGeom>
          <a:ln w="0">
            <a:noFill/>
          </a:ln>
        </p:spPr>
      </p:pic>
      <p:sp>
        <p:nvSpPr>
          <p:cNvPr id="72" name="Двойная стрелка вверх/вниз 2"/>
          <p:cNvSpPr/>
          <p:nvPr/>
        </p:nvSpPr>
        <p:spPr>
          <a:xfrm rot="2052600">
            <a:off x="2750760" y="2376000"/>
            <a:ext cx="357120" cy="1765440"/>
          </a:xfrm>
          <a:prstGeom prst="upDownArrow">
            <a:avLst>
              <a:gd name="adj1" fmla="val 57759"/>
              <a:gd name="adj2" fmla="val 38381"/>
            </a:avLst>
          </a:prstGeom>
          <a:solidFill>
            <a:srgbClr val="c00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войная стрелка вверх/вниз 4"/>
          <p:cNvSpPr/>
          <p:nvPr/>
        </p:nvSpPr>
        <p:spPr>
          <a:xfrm rot="5400000">
            <a:off x="4357800" y="5072040"/>
            <a:ext cx="357120" cy="1357200"/>
          </a:xfrm>
          <a:prstGeom prst="upDownArrow">
            <a:avLst>
              <a:gd name="adj1" fmla="val 57759"/>
              <a:gd name="adj2" fmla="val 38373"/>
            </a:avLst>
          </a:prstGeom>
          <a:solidFill>
            <a:srgbClr val="c00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войная стрелка вверх/вниз 5"/>
          <p:cNvSpPr/>
          <p:nvPr/>
        </p:nvSpPr>
        <p:spPr>
          <a:xfrm rot="19548000">
            <a:off x="6037200" y="2376360"/>
            <a:ext cx="357120" cy="1765440"/>
          </a:xfrm>
          <a:prstGeom prst="upDownArrow">
            <a:avLst>
              <a:gd name="adj1" fmla="val 57759"/>
              <a:gd name="adj2" fmla="val 38381"/>
            </a:avLst>
          </a:prstGeom>
          <a:solidFill>
            <a:srgbClr val="c00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4839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новление  технического оборудова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ключение к Интернету каждого учебного кабинета или создание школьных методкабинетов с подключением к Интернету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вести в планы работы ГМО по различным предметам участие педагогов в региональных, всероссийских и международных интернет конкурсах профмастерства, открытых педсоветах и т. д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здание единого городского банка проектов учителей с размещением на сайте Управления образования;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астие в сетевом взаимодействии, видеоконференциях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урсах повышения квалификации педагогов и руководи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32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владеет информацией, тот владеет мир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-32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тан и Якоб Ротшиль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Картинка 2 из 13644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7320" y="3713040"/>
            <a:ext cx="3578400" cy="2389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циальный заказ требует совершенствования информационной подготовки педагогов, овладения ими ИКТ технологиями. Педагогическое образование призвано вести подготовку учителей, способных обучить и воспитать человека информационного общества. Таким образом, задача сферы образования сегодня – это разработки новых технологий обучения и непрерывная профессиональная подготовка педагогов в области ИК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ым лицом – проводником информационной образовательной среды является учитель. Именно учитель решает, в каком качестве, в каком объеме и для каких целей могут быть использованы средства информатизации в учебном процессе. Но кто он, сегодняшний педагог? Что он умеет? Кто ему помогает? Есть ли инструментарий для осуществления инноваций? Какова мотивация обращения учителя к решению сложных и новых зада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екции по групп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895320" y="1238400"/>
            <a:ext cx="7510320" cy="4900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ышение квалифик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15640" y="980640"/>
            <a:ext cx="7713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Через прохождение кур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станционные курсы МГУ им.Ломоносова «Первое сентября» - физика, химия, математика, английский язык, биология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lin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рсы ГОУ ВПО «БГУ» «Менеджмент образовательного учреждения» – 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Через участия в конкурсах профмастер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спубликанский конкурс "Интернет в образовании", проводимый ФИО Р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российский конкурс, проводимый ФИО и Лабораторией ТСО Института содержания и методов обучения РАО в номинации «Развитие ИКТ в образовательном учрежден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ий фестиваль ИКТ-активных педагогических работников «PRO-движение», проводимый Майкрософт Рус и Академия повышения квалификации и профессиональной переподготовки работников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российский конкурс "Дистанционный учитель года" проводится по инициативе Центра дистанционного образования "Эйдос" и под эгидой Российской Академии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-line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Картинка 33 из 68398"/>
          <p:cNvPicPr/>
          <p:nvPr/>
        </p:nvPicPr>
        <p:blipFill>
          <a:blip r:embed="rId1"/>
          <a:stretch/>
        </p:blipFill>
        <p:spPr>
          <a:xfrm>
            <a:off x="1042920" y="1341360"/>
            <a:ext cx="689472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ормационная образовательная сре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Картинка 1 из 13763"/>
          <p:cNvPicPr/>
          <p:nvPr/>
        </p:nvPicPr>
        <p:blipFill>
          <a:blip r:embed="rId1"/>
          <a:srcRect l="0" t="0" r="50423" b="0"/>
          <a:stretch/>
        </p:blipFill>
        <p:spPr>
          <a:xfrm>
            <a:off x="1332000" y="1557360"/>
            <a:ext cx="61563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образование учител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42560" y="1125360"/>
            <a:ext cx="78915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обходимо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ть работать с информационными ресурсами по теме самообразования педагог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ть использовать готовые и  собственные мультимедийные объекты для встраивания в курс предмет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ть оценивать основные педагогические свойства электронных образовательных продуктов, определять педагогическую целесообразность их использования в учебном процесс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ть полное представление об имеющихся медиаресурсах и образовательных ресурсах в Интернет, рекомендованных для использования в образовательном процессе по предмету, уметь ими воспользоваться, осуществить заказ и подписк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ть представление об отраслевых  ресурсах в Интернет, включая нормативные документы, информационные образовательные порталы и сайты, системы мониторинга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0-08-25T00:36:01Z</dcterms:modified>
  <cp:revision>19</cp:revision>
  <dc:subject/>
  <dc:title>Муниципальное общеобразовательное учреждение  «Лицей № 6»  </dc:title>
</cp:coreProperties>
</file>