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0D6B-2669-4228-BF0A-E8DA71ACB6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C48B-42D9-4F7D-8DA2-5B397FD04F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A02-9793-43CC-8D8B-E651589D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AA3-071F-4D0E-B8AD-B9DDC759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FF9-1FD1-4843-9ECD-2ABDFB01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708-1333-4574-8788-6F7AF55D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532-F193-4E27-95B4-3C832020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880-1AB8-48EF-B699-075BCCE6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0A7-5972-49E0-8BBD-69B078A6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FAD-0B78-4286-ACE5-CBE4BF87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A13-A992-49A1-9FF0-DB96483C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E87-BF3E-4E99-B782-6FBCFECB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0E3-E84A-4AD2-BE12-90847D8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DEE-544E-450C-9B56-C2F4D77F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1CCD-8D0F-4A96-99F4-9BA73AB6CC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nyavino-ed.ucoz.ru/emblema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reklama.com.ua/2009-05-30/182762/photos0-800x600.jpe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749160" y="3449520"/>
            <a:ext cx="7925040" cy="245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Картинка 1 из 347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04640"/>
            <a:ext cx="2590560" cy="2856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edu03.ru/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0" t="0" r="5437" b="25640"/>
          <a:stretch/>
        </p:blipFill>
        <p:spPr>
          <a:xfrm>
            <a:off x="395280" y="981000"/>
            <a:ext cx="842472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тевое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6000" y="148392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фиСтар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profistart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ссийская сеть творческих учителе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it-n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бщество учителей искусст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openclass.ru/node/27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тевое сообщество КМ-Школы учителей биолог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iki.km-school.ru/wiki/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ические разработки уроков, видеоуроки, сетевые проекты, авторские программы и д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тевое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0" t="0" r="0" b="7894"/>
          <a:stretch/>
        </p:blipFill>
        <p:spPr>
          <a:xfrm>
            <a:off x="900000" y="1197000"/>
            <a:ext cx="72961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3" descr=""/>
          <p:cNvPicPr/>
          <p:nvPr/>
        </p:nvPicPr>
        <p:blipFill>
          <a:blip r:embed="rId1"/>
          <a:stretch/>
        </p:blipFill>
        <p:spPr>
          <a:xfrm>
            <a:off x="463680" y="1231920"/>
            <a:ext cx="8242200" cy="4632480"/>
          </a:xfrm>
          <a:prstGeom prst="rect">
            <a:avLst/>
          </a:prstGeom>
          <a:ln w="0">
            <a:noFill/>
          </a:ln>
        </p:spPr>
      </p:pic>
      <p:sp>
        <p:nvSpPr>
          <p:cNvPr id="72" name="Двойная стрелка вверх/вниз 2"/>
          <p:cNvSpPr/>
          <p:nvPr/>
        </p:nvSpPr>
        <p:spPr>
          <a:xfrm rot="2052600">
            <a:off x="2750760" y="2376000"/>
            <a:ext cx="357120" cy="1765440"/>
          </a:xfrm>
          <a:prstGeom prst="upDownArrow">
            <a:avLst>
              <a:gd name="adj1" fmla="val 57759"/>
              <a:gd name="adj2" fmla="val 38381"/>
            </a:avLst>
          </a:prstGeom>
          <a:solidFill>
            <a:srgbClr val="c00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Двойная стрелка вверх/вниз 4"/>
          <p:cNvSpPr/>
          <p:nvPr/>
        </p:nvSpPr>
        <p:spPr>
          <a:xfrm rot="5400000">
            <a:off x="4357800" y="5072040"/>
            <a:ext cx="357120" cy="1357200"/>
          </a:xfrm>
          <a:prstGeom prst="upDownArrow">
            <a:avLst>
              <a:gd name="adj1" fmla="val 57759"/>
              <a:gd name="adj2" fmla="val 38373"/>
            </a:avLst>
          </a:prstGeom>
          <a:solidFill>
            <a:srgbClr val="c00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войная стрелка вверх/вниз 5"/>
          <p:cNvSpPr/>
          <p:nvPr/>
        </p:nvSpPr>
        <p:spPr>
          <a:xfrm rot="19548000">
            <a:off x="6037200" y="2376360"/>
            <a:ext cx="357120" cy="1765440"/>
          </a:xfrm>
          <a:prstGeom prst="upDownArrow">
            <a:avLst>
              <a:gd name="adj1" fmla="val 57759"/>
              <a:gd name="adj2" fmla="val 38381"/>
            </a:avLst>
          </a:prstGeom>
          <a:solidFill>
            <a:srgbClr val="c0000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новление  технического оборудова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ключение к Интернету каждого учебного кабинета или создание школьных методкабинетов с подключением к Интернету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вести в планы работы ГМО по различным предметам участие педагогов в региональных, всероссийских и международных интернет конкурсах профмастерства, открытых педсоветах и т. д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здание единого городского банка проектов учителей с размещением на сайте Управления образования;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астие в сетевом взаимодействии, видеоконференциях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урсах повышения квалификации педагогов и руководи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32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владеет информацией, тот владеет мир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-32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тан и Якоб Ротшиль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Картинка 2 из 13644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7320" y="3713040"/>
            <a:ext cx="3578400" cy="2389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циальный заказ требует совершенствования информационной подготовки педагогов, овладения ими ИКТ технологиями. Педагогическое образование призвано вести подготовку учителей, способных обучить и воспитать человека информационного общества. Таким образом, задача сферы образования сегодня – это разработки новых технологий обучения и непрерывная профессиональная подготовка педагогов в области ИК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ым лицом – проводником информационной образовательной среды является учитель. Именно учитель решает, в каком качестве, в каком объеме и для каких целей могут быть использованы средства информатизации в учебном процессе. Но кто он, сегодняшний педагог? Что он умеет? Кто ему помогает? Есть ли инструментарий для осуществления инноваций? Какова мотивация обращения учителя к решению сложных и новых зада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екции по групп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895320" y="1238400"/>
            <a:ext cx="7510320" cy="490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ышение квалификаци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15640" y="980640"/>
            <a:ext cx="7713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Через прохождение кур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станционные курсы МГУ им.Ломоносова «Первое сентября» - физика, химия, математика, английский язык, биология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lin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рсы ГОУ ВПО «БГУ» «Менеджмент образовательного учреждения» – 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Через участия в конкурсах профмастер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спубликанский конкурс "Интернет в образовании", проводимый ФИО Р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российский конкурс, проводимый ФИО и Лабораторией ТСО Института содержания и методов обучения РАО в номинации «Развитие ИКТ в образовательном учрежден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й фестиваль ИКТ-активных педагогических работников «PRO-движение», проводимый Майкрософт Рус и Академия повышения квалификации и профессиональной переподготовки работников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российский конкурс "Дистанционный учитель года" проводится по инициативе Центра дистанционного образования "Эйдос" и под эгидой Российской Академии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-line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Картинка 33 из 68398"/>
          <p:cNvPicPr/>
          <p:nvPr/>
        </p:nvPicPr>
        <p:blipFill>
          <a:blip r:embed="rId1"/>
          <a:stretch/>
        </p:blipFill>
        <p:spPr>
          <a:xfrm>
            <a:off x="1042920" y="1341360"/>
            <a:ext cx="689472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ормационная образовательная сре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Картинка 1 из 13763"/>
          <p:cNvPicPr/>
          <p:nvPr/>
        </p:nvPicPr>
        <p:blipFill>
          <a:blip r:embed="rId1"/>
          <a:srcRect l="0" t="0" r="50423" b="0"/>
          <a:stretch/>
        </p:blipFill>
        <p:spPr>
          <a:xfrm>
            <a:off x="1332000" y="1557360"/>
            <a:ext cx="61563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образование учител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560" y="1125360"/>
            <a:ext cx="78915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обходимо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ть работать с информационными ресурсами по теме самообразования педагог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ть использовать готовые и  собственные мультимедийные объекты для встраивания в курс предмет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ть оценивать основные педагогические свойства электронных образовательных продуктов, определять педагогическую целесообразность их использования в учебном процесс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ть полное представление об имеющихся медиаресурсах и образовательных ресурсах в Интернет, рекомендованных для использования в образовательном процессе по предмету, уметь ими воспользоваться, осуществить заказ и подпис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ть представление об отраслевых  ресурсах в Интернет, включая нормативные документы, информационные образовательные порталы и сайты, системы мониторинга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0-08-25T00:36:01Z</dcterms:modified>
  <cp:revision>19</cp:revision>
  <dc:subject/>
  <dc:title>Муниципальное общеобразовательное учреждение  «Лицей № 6»  </dc:title>
</cp:coreProperties>
</file>