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8BD9-1A81-4243-9480-3E66D18FF0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9C32-9C81-4186-9DB3-20C7DF5EA6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B580-B334-430C-9A3A-5B6784626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F4D2-0917-4E8D-ADA0-DA7C3F1B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104A-A10F-4C4F-BB2C-72822B16A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A585-7664-4FB5-AB9F-267979DF7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8C0A-F15F-4367-9EF8-EB36C219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717E-4957-40AF-9C01-D71F0F1F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DA62-77AA-4634-BA7D-BBF0A17C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8F2B-816A-43CA-9EF4-E21C5111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5320-1430-419C-B54B-A4050B97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FDA2-1D52-44A2-8E99-F55D726F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7DBB-CDE3-4CA7-80C2-DE0F4713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F33B-C03F-4139-B31F-AF994C5B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8C97-A3AB-41EC-94D6-9DD2CE93E1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inyavino-ed.ucoz.ru/emblema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reklama.com.ua/2009-05-30/182762/photos0-800x600.jpeg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одзаголовок 2" descr=""/>
          <p:cNvPicPr/>
          <p:nvPr/>
        </p:nvPicPr>
        <p:blipFill>
          <a:blip r:embed="rId1"/>
          <a:stretch/>
        </p:blipFill>
        <p:spPr>
          <a:xfrm>
            <a:off x="749160" y="3449520"/>
            <a:ext cx="7925040" cy="2457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Картинка 1 из 3471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404640"/>
            <a:ext cx="2590560" cy="2856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tp://edu03.ru/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rcRect l="0" t="0" r="5437" b="25640"/>
          <a:stretch/>
        </p:blipFill>
        <p:spPr>
          <a:xfrm>
            <a:off x="395280" y="981000"/>
            <a:ext cx="8424720" cy="4969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тевое взаимодейств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16000" y="1483920"/>
            <a:ext cx="781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фиСтарт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profistart.ru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ссийская сеть творческих учителей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it-n.ru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общество учителей искусств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openclass.ru/node/27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тевое сообщество КМ-Школы учителей биолог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iki.km-school.ru/wiki/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одические разработки уроков, видеоуроки, сетевые проекты, авторские программы и др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тевое взаимодейств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rcRect l="0" t="0" r="0" b="7894"/>
          <a:stretch/>
        </p:blipFill>
        <p:spPr>
          <a:xfrm>
            <a:off x="900000" y="1197000"/>
            <a:ext cx="729612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Содержимое 3" descr=""/>
          <p:cNvPicPr/>
          <p:nvPr/>
        </p:nvPicPr>
        <p:blipFill>
          <a:blip r:embed="rId1"/>
          <a:stretch/>
        </p:blipFill>
        <p:spPr>
          <a:xfrm>
            <a:off x="463680" y="1231920"/>
            <a:ext cx="8242200" cy="4632480"/>
          </a:xfrm>
          <a:prstGeom prst="rect">
            <a:avLst/>
          </a:prstGeom>
          <a:ln w="0">
            <a:noFill/>
          </a:ln>
        </p:spPr>
      </p:pic>
      <p:sp>
        <p:nvSpPr>
          <p:cNvPr id="72" name="Двойная стрелка вверх/вниз 2"/>
          <p:cNvSpPr/>
          <p:nvPr/>
        </p:nvSpPr>
        <p:spPr>
          <a:xfrm rot="2052600">
            <a:off x="2750760" y="2376000"/>
            <a:ext cx="357120" cy="1765440"/>
          </a:xfrm>
          <a:prstGeom prst="upDownArrow">
            <a:avLst>
              <a:gd name="adj1" fmla="val 57759"/>
              <a:gd name="adj2" fmla="val 38381"/>
            </a:avLst>
          </a:prstGeom>
          <a:solidFill>
            <a:srgbClr val="c0000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Двойная стрелка вверх/вниз 4"/>
          <p:cNvSpPr/>
          <p:nvPr/>
        </p:nvSpPr>
        <p:spPr>
          <a:xfrm rot="5400000">
            <a:off x="4357800" y="5072040"/>
            <a:ext cx="357120" cy="1357200"/>
          </a:xfrm>
          <a:prstGeom prst="upDownArrow">
            <a:avLst>
              <a:gd name="adj1" fmla="val 57759"/>
              <a:gd name="adj2" fmla="val 38373"/>
            </a:avLst>
          </a:prstGeom>
          <a:solidFill>
            <a:srgbClr val="c0000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Двойная стрелка вверх/вниз 5"/>
          <p:cNvSpPr/>
          <p:nvPr/>
        </p:nvSpPr>
        <p:spPr>
          <a:xfrm rot="19548000">
            <a:off x="6037200" y="2376360"/>
            <a:ext cx="357120" cy="1765440"/>
          </a:xfrm>
          <a:prstGeom prst="upDownArrow">
            <a:avLst>
              <a:gd name="adj1" fmla="val 57759"/>
              <a:gd name="adj2" fmla="val 38381"/>
            </a:avLst>
          </a:prstGeom>
          <a:solidFill>
            <a:srgbClr val="c0000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ект реш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148392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бновление  технического оборудования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дключение к Интернету каждого учебного кабинета или создание школьных методкабинетов с подключением к Интернету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вести в планы работы ГМО по различным предметам участие педагогов в региональных, всероссийских и международных интернет конкурсах профмастерства, открытых педсоветах и т. д.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оздание единого городского банка проектов учителей с размещением на сайте Управления образования;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частие в сетевом взаимодействии, видеоконференциях,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n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ine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урсах повышения квалификации педагогов и руководителе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32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то владеет информацией, тот владеет миро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9280" indent="-32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тан и Якоб Ротшиль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Картинка 2 из 13644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7320" y="3713040"/>
            <a:ext cx="3578400" cy="2389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циальный заказ требует совершенствования информационной подготовки педагогов, овладения ими ИКТ технологиями. Педагогическое образование призвано вести подготовку учителей, способных обучить и воспитать человека информационного общества. Таким образом, задача сферы образования сегодня – это разработки новых технологий обучения и непрерывная профессиональная подготовка педагогов в области ИКТ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лавным лицом – проводником информационной образовательной среды является учитель. Именно учитель решает, в каком качестве, в каком объеме и для каких целей могут быть использованы средства информатизации в учебном процессе. Но кто он, сегодняшний педагог? Что он умеет? Кто ему помогает? Есть ли инструментарий для осуществления инноваций? Какова мотивация обращения учителя к решению сложных и новых задач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6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а секции по групп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"/>
          <p:cNvPicPr/>
          <p:nvPr/>
        </p:nvPicPr>
        <p:blipFill>
          <a:blip r:embed="rId1"/>
          <a:stretch/>
        </p:blipFill>
        <p:spPr>
          <a:xfrm>
            <a:off x="895320" y="1238400"/>
            <a:ext cx="7510320" cy="4900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вышение квалификаци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15640" y="980640"/>
            <a:ext cx="7713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) Через прохождение курсо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станционные курсы МГУ им.Ломоносова «Первое сентября» - физика, химия, математика, английский язык, биология и д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-line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курсы ГОУ ВПО «БГУ» «Менеджмент образовательного учреждения» – 2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) Через участия в конкурсах профмастерств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спубликанский конкурс "Интернет в образовании", проводимый ФИО Р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ероссийский конкурс, проводимый ФИО и Лабораторией ТСО Института содержания и методов обучения РАО в номинации «Развитие ИКТ в образовательном учреждени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ссийский фестиваль ИКТ-активных педагогических работников «PRO-движение», проводимый Майкрософт Рус и Академия повышения квалификации и профессиональной переподготовки работников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ероссийский конкурс "Дистанционный учитель года" проводится по инициативе Центра дистанционного образования "Эйдос" и под эгидой Российской Академии образо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-line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у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Картинка 33 из 68398"/>
          <p:cNvPicPr/>
          <p:nvPr/>
        </p:nvPicPr>
        <p:blipFill>
          <a:blip r:embed="rId1"/>
          <a:stretch/>
        </p:blipFill>
        <p:spPr>
          <a:xfrm>
            <a:off x="1042920" y="1341360"/>
            <a:ext cx="6894720" cy="4824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нформационная образовательная сре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Картинка 1 из 13763"/>
          <p:cNvPicPr/>
          <p:nvPr/>
        </p:nvPicPr>
        <p:blipFill>
          <a:blip r:embed="rId1"/>
          <a:srcRect l="0" t="0" r="50423" b="0"/>
          <a:stretch/>
        </p:blipFill>
        <p:spPr>
          <a:xfrm>
            <a:off x="1332000" y="1557360"/>
            <a:ext cx="6156360" cy="4751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ообразование учител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042560" y="1125360"/>
            <a:ext cx="78915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обходимо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меть работать с информационными ресурсами по теме самообразования педагог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меть использовать готовые и  собственные мультимедийные объекты для встраивания в курс предмета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меть оценивать основные педагогические свойства электронных образовательных продуктов, определять педагогическую целесообразность их использования в учебном процесс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меть полное представление об имеющихся медиаресурсах и образовательных ресурсах в Интернет, рекомендованных для использования в образовательном процессе по предмету, уметь ими воспользоваться, осуществить заказ и подписку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меть представление об отраслевых  ресурсах в Интернет, включая нормативные документы, информационные образовательные порталы и сайты, системы мониторинга образов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</cp:lastModifiedBy>
  <dcterms:modified xsi:type="dcterms:W3CDTF">2010-08-25T00:36:01Z</dcterms:modified>
  <cp:revision>19</cp:revision>
  <dc:subject/>
  <dc:title>Муниципальное общеобразовательное учреждение  «Лицей № 6»  </dc:title>
</cp:coreProperties>
</file>