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01EB-EE65-4750-9203-32A1BCCC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E17-22F8-43F5-9B23-F9B25D36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B2BB-31C3-48E4-AB4A-2A4151A9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9CD-0F19-4442-BAC2-C3AAD4E3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EC9-6D00-42D1-99BB-7C9646C5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FE5-4398-49CD-B047-C2364948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D46-E466-4ACC-AB3E-3C2487B7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F44F-9146-4757-8890-AB95EDFF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7312-CB44-47AA-A47D-9C56062E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A98-D10A-4373-A4A8-3989CB7F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336-E6CB-49DD-8001-B9A430A3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91AC-9F08-4B42-9784-B665F62B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80808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AE69-1CF8-41AF-8870-129CF437AB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images.picsearch.com/is?f5KGe6jrqQcenCogO0FG6_7Wr88UaYR-KURSyAOEBa8"/>
          <p:cNvPicPr/>
          <p:nvPr/>
        </p:nvPicPr>
        <p:blipFill>
          <a:blip r:embed="rId1"/>
          <a:stretch/>
        </p:blipFill>
        <p:spPr>
          <a:xfrm>
            <a:off x="324000" y="293760"/>
            <a:ext cx="8467560" cy="61783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42" name="WordArt 4"/>
          <p:cNvSpPr txBox="1"/>
          <p:nvPr/>
        </p:nvSpPr>
        <p:spPr>
          <a:xfrm>
            <a:off x="539640" y="896760"/>
            <a:ext cx="309564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ookman Old Style"/>
              </a:rPr>
              <a:t>ОБЖ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539640" y="2392200"/>
            <a:ext cx="8280360" cy="28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Аварии</a:t>
            </a:r>
            <a:endParaRPr b="1" i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i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на химиески опасных </a:t>
            </a:r>
            <a:endParaRPr b="1" i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i="1" lang="en-US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okman Old Style"/>
              </a:rPr>
              <a:t>объектах</a:t>
            </a:r>
            <a:endParaRPr b="1" i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http://images.picsearch.com/is?MIm2-neSOvoT8Bh6y0Du-Ivl1rwziCr4B_hMPTQPcH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Пла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Химически опасный объе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Химическая ава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лассификация химических авар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равила поведения в случае аварии на ХО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Заводы по производству серной кислоты как ХО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омощь при отравлении сернистым газом (современная и народная медици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Notebook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6048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 u="sng">
                <a:solidFill>
                  <a:srgbClr val="cc3300"/>
                </a:solidFill>
                <a:uFillTx/>
                <a:latin typeface="Bookman Old Style"/>
              </a:rPr>
              <a:t>Химически опасный объек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560" y="2491920"/>
            <a:ext cx="72709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cc3300"/>
                </a:solidFill>
                <a:latin typeface="Bookman Old Style"/>
              </a:rPr>
              <a:t>это объект, при аварии на котором или при его разрушении могут произойти массовые поражения людей, животных и растений опасными химическими веществ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http://images.picsearch.com/is?brM6WUZalqnlg0S49nrTU589rFZ0OzKOB5eFUsfOBHU"/>
          <p:cNvPicPr/>
          <p:nvPr/>
        </p:nvPicPr>
        <p:blipFill>
          <a:blip r:embed="rId2"/>
          <a:stretch/>
        </p:blipFill>
        <p:spPr>
          <a:xfrm>
            <a:off x="6948360" y="5013360"/>
            <a:ext cx="1024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Notebook"/>
          <p:cNvPicPr/>
          <p:nvPr/>
        </p:nvPicPr>
        <p:blipFill>
          <a:blip r:embed="rId1"/>
          <a:stretch/>
        </p:blipFill>
        <p:spPr>
          <a:xfrm>
            <a:off x="250920" y="333360"/>
            <a:ext cx="8713800" cy="6264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3300"/>
                </a:solidFill>
                <a:uFillTx/>
                <a:latin typeface="Bookman Old Style"/>
              </a:rPr>
              <a:t> </a:t>
            </a:r>
            <a:r>
              <a:rPr b="1" lang="ru-RU" sz="4400" spc="-1" strike="noStrike" u="sng">
                <a:solidFill>
                  <a:srgbClr val="cc3300"/>
                </a:solidFill>
                <a:uFillTx/>
                <a:latin typeface="Bookman Old Style"/>
              </a:rPr>
              <a:t>ХИМИЧЕСКАЯ АВАР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cc3300"/>
                </a:solidFill>
                <a:latin typeface="Bookman Old Style"/>
              </a:rPr>
              <a:t>это нарушение технологических процессов на производстве, повреждение трубопроводов, емкостей, хранилищ, транспортных средств, приводящее к выбросу аварийных химически опасных веществ  в атмосферу в количествах, представляющих опасность для жизни и здоровья людей, функционирования биосферы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http://images.picsearch.com/is?brM6WUZalqnlg0S49nrTU589rFZ0OzKOB5eFUsfOBHU"/>
          <p:cNvPicPr/>
          <p:nvPr/>
        </p:nvPicPr>
        <p:blipFill>
          <a:blip r:embed="rId2"/>
          <a:stretch/>
        </p:blipFill>
        <p:spPr>
          <a:xfrm>
            <a:off x="6804000" y="5084640"/>
            <a:ext cx="118260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Notebook"/>
          <p:cNvPicPr/>
          <p:nvPr/>
        </p:nvPicPr>
        <p:blipFill>
          <a:blip r:embed="rId1"/>
          <a:stretch/>
        </p:blipFill>
        <p:spPr>
          <a:xfrm>
            <a:off x="539640" y="692280"/>
            <a:ext cx="8136000" cy="5400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1125000"/>
            <a:ext cx="7126200" cy="44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Аварии на химических  объектах способны привести к массовым поражениям людей, а также животных и растений и заражению окружающей среды ядовитыми вещества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Untitled-13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41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Untitled-1"/>
          <p:cNvPicPr/>
          <p:nvPr/>
        </p:nvPicPr>
        <p:blipFill>
          <a:blip r:embed="rId2"/>
          <a:stretch/>
        </p:blipFill>
        <p:spPr>
          <a:xfrm>
            <a:off x="5796000" y="-171360"/>
            <a:ext cx="3348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1" descr="Notebook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5711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Bookman Old Style"/>
              </a:rPr>
              <a:t>Первая помощь при отравлении сернистым газо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1042920" y="2678040"/>
            <a:ext cx="720108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Bookman Old Style"/>
              </a:rPr>
              <a:t>полный покой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Bookman Old Style"/>
              </a:rPr>
              <a:t>тепло 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Bookman Old Style"/>
              </a:rPr>
              <a:t>кислородное дыхание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0-28T11:12:19Z</dcterms:modified>
  <cp:revision>7</cp:revision>
  <dc:subject/>
  <dc:title>PowerPoint Presentation</dc:title>
</cp:coreProperties>
</file>