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48E-840F-4879-9C8C-F9417AC3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24A-BC49-4C74-BE14-3D9A5A55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3AE-8D88-44CC-A4F7-E8CDA143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3B0-2939-4FE9-B5D3-F804DF35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F53-9121-492F-8C32-ACE23CA8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5A6-57F6-4857-95FD-579D4247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165-17CA-42A6-B7AA-640281EC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A2A-BB48-417F-9C64-F3B0DF3D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4E9-FB12-47C2-9C8A-E08DD56C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086-AFDE-417E-B835-2999899C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8C1-F5EF-4140-9B15-EF8DE631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C2E-12EB-4253-BA12-DBBEEB38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80808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C146-2531-45F5-88B3-DC3D3AA294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images.picsearch.com/is?f5KGe6jrqQcenCogO0FG6_7Wr88UaYR-KURSyAOEBa8"/>
          <p:cNvPicPr/>
          <p:nvPr/>
        </p:nvPicPr>
        <p:blipFill>
          <a:blip r:embed="rId1"/>
          <a:stretch/>
        </p:blipFill>
        <p:spPr>
          <a:xfrm>
            <a:off x="324000" y="293760"/>
            <a:ext cx="8467560" cy="61783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42" name="WordArt 4"/>
          <p:cNvSpPr txBox="1"/>
          <p:nvPr/>
        </p:nvSpPr>
        <p:spPr>
          <a:xfrm>
            <a:off x="539640" y="896760"/>
            <a:ext cx="309564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ookman Old Style"/>
              </a:rPr>
              <a:t>ОБЖ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539640" y="2392200"/>
            <a:ext cx="8280360" cy="28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Аварии</a:t>
            </a:r>
            <a:endParaRPr b="1" i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i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на химиески опасных </a:t>
            </a:r>
            <a:endParaRPr b="1" i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i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объектах</a:t>
            </a:r>
            <a:endParaRPr b="1" i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http://images.picsearch.com/is?MIm2-neSOvoT8Bh6y0Du-Ivl1rwziCr4B_hMPTQPcH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Пла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Химически опасный объ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Химическая ава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лассификация химических авар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равила поведения в случае аварии на ХО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аводы по производству серной кислоты как ХО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мощь при отравлении сернистым газом (современная и народная медици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Notebook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604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cc3300"/>
                </a:solidFill>
                <a:uFillTx/>
                <a:latin typeface="Bookman Old Style"/>
              </a:rPr>
              <a:t>Химически опасный объек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560" y="2491920"/>
            <a:ext cx="72709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cc3300"/>
                </a:solidFill>
                <a:latin typeface="Bookman Old Style"/>
              </a:rPr>
              <a:t>это объект, при аварии на котором или при его разрушении могут произойти массовые поражения людей, животных и растений опасными химическими веществ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http://images.picsearch.com/is?brM6WUZalqnlg0S49nrTU589rFZ0OzKOB5eFUsfOBHU"/>
          <p:cNvPicPr/>
          <p:nvPr/>
        </p:nvPicPr>
        <p:blipFill>
          <a:blip r:embed="rId2"/>
          <a:stretch/>
        </p:blipFill>
        <p:spPr>
          <a:xfrm>
            <a:off x="6948360" y="5013360"/>
            <a:ext cx="1024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Notebook"/>
          <p:cNvPicPr/>
          <p:nvPr/>
        </p:nvPicPr>
        <p:blipFill>
          <a:blip r:embed="rId1"/>
          <a:stretch/>
        </p:blipFill>
        <p:spPr>
          <a:xfrm>
            <a:off x="250920" y="333360"/>
            <a:ext cx="8713800" cy="6264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3300"/>
                </a:solidFill>
                <a:uFillTx/>
                <a:latin typeface="Bookman Old Style"/>
              </a:rPr>
              <a:t> </a:t>
            </a:r>
            <a:r>
              <a:rPr b="1" lang="ru-RU" sz="4400" spc="-1" strike="noStrike" u="sng">
                <a:solidFill>
                  <a:srgbClr val="cc3300"/>
                </a:solidFill>
                <a:uFillTx/>
                <a:latin typeface="Bookman Old Style"/>
              </a:rPr>
              <a:t>ХИМИЧЕСКАЯ АВАР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cc3300"/>
                </a:solidFill>
                <a:latin typeface="Bookman Old Style"/>
              </a:rPr>
              <a:t>это нарушение технологических процессов на производстве, повреждение трубопроводов, емкостей, хранилищ, транспортных средств, приводящее к выбросу аварийных химически опасных веществ  в атмосферу в количествах, представляющих опасность для жизни и здоровья людей, функционирования биосферы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http://images.picsearch.com/is?brM6WUZalqnlg0S49nrTU589rFZ0OzKOB5eFUsfOBHU"/>
          <p:cNvPicPr/>
          <p:nvPr/>
        </p:nvPicPr>
        <p:blipFill>
          <a:blip r:embed="rId2"/>
          <a:stretch/>
        </p:blipFill>
        <p:spPr>
          <a:xfrm>
            <a:off x="6804000" y="5084640"/>
            <a:ext cx="11826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Notebook"/>
          <p:cNvPicPr/>
          <p:nvPr/>
        </p:nvPicPr>
        <p:blipFill>
          <a:blip r:embed="rId1"/>
          <a:stretch/>
        </p:blipFill>
        <p:spPr>
          <a:xfrm>
            <a:off x="539640" y="692280"/>
            <a:ext cx="813600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125000"/>
            <a:ext cx="712620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Аварии на химических  объектах способны привести к массовым поражениям людей, а также животных и растений и заражению окружающей среды ядовитыми вещества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Untitled-13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41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Untitled-1"/>
          <p:cNvPicPr/>
          <p:nvPr/>
        </p:nvPicPr>
        <p:blipFill>
          <a:blip r:embed="rId2"/>
          <a:stretch/>
        </p:blipFill>
        <p:spPr>
          <a:xfrm>
            <a:off x="5796000" y="-171360"/>
            <a:ext cx="33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1" descr="Notebook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5711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Bookman Old Style"/>
              </a:rPr>
              <a:t>Первая помощь при отравлении сернистым газ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1042920" y="2678040"/>
            <a:ext cx="72010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Bookman Old Style"/>
              </a:rPr>
              <a:t>полный покой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Bookman Old Style"/>
              </a:rPr>
              <a:t>тепло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Bookman Old Style"/>
              </a:rPr>
              <a:t>кислородное дыхание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0-28T11:12:19Z</dcterms:modified>
  <cp:revision>7</cp:revision>
  <dc:subject/>
  <dc:title>PowerPoint Presentation</dc:title>
</cp:coreProperties>
</file>