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444-2251-435D-A080-3A879C4B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ABD-AC77-4970-95DF-A8B0E12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28B-66CE-4FE8-8535-F5ABF84B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587-EE00-4AF3-A3D3-CED8E47F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E33-A29B-4612-9719-BC286F1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E4A-FDAF-4E45-8C7B-B3D3D378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B23-6EEE-4D66-8CE7-B03F031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1E7-585D-4D7E-9EAC-D737897E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BAA-C38C-4320-86AF-A7105F9C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D2D-21EB-420E-ADF7-2952002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B04-8A2F-47AE-A996-FDE798E1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E1E-33A8-4416-962B-DE88AFF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577-05C0-4105-8EB4-186C0EE8D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stu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34C-58FF-4947-93E8-675122FE2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321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Англия во второй половине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в.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08560v.jpg"/>
          <p:cNvPicPr/>
          <p:nvPr/>
        </p:nvPicPr>
        <p:blipFill>
          <a:blip r:embed="rId1"/>
          <a:stretch/>
        </p:blipFill>
        <p:spPr>
          <a:xfrm>
            <a:off x="785880" y="2928960"/>
            <a:ext cx="768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154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литические лид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0" y="6000840"/>
            <a:ext cx="45720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. Дизраэ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ABB2-1D06-4B9D-A972-27DAAD9B7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_45526408_gladstonedisraeli22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928800"/>
            <a:ext cx="7715520" cy="4857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607212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ильям Глад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B1F3-AF6C-492C-A14D-82E0E3D7F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bb_glad_dis.JPG"/>
          <p:cNvPicPr/>
          <p:nvPr/>
        </p:nvPicPr>
        <p:blipFill>
          <a:blip r:embed="rId1"/>
          <a:stretch/>
        </p:blipFill>
        <p:spPr>
          <a:xfrm>
            <a:off x="1500120" y="214200"/>
            <a:ext cx="59295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F9F-6AE8-40FD-BF9C-3CB83420A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Характер внешней политики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643120" y="1489320"/>
            <a:ext cx="60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Британии нет постоянных союзн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неё есть только постоянные интере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мьер-министр Англии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85840" y="2944080"/>
            <a:ext cx="752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ное участие в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рымской вой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3-1856г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ванной желанием ослаб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авторитет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-Вторая “опиумная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йн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6-1860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 Китая и навязывание 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вноправных торговых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-Поддержка рабовладельческого 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Ш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1-1865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A77F-2884-4C02-92D4-614397D25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Характер внешней политики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04480" y="1195920"/>
            <a:ext cx="333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вв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а последо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лониальную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экспа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ширение влия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се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1280" y="242100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ло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756480" y="227664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жней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он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6"/>
          <p:cNvCxnSpPr>
            <a:stCxn id="101" idx="1"/>
            <a:endCxn id="102" idx="0"/>
          </p:cNvCxnSpPr>
          <p:nvPr/>
        </p:nvCxnSpPr>
        <p:spPr>
          <a:xfrm flipH="1">
            <a:off x="1382040" y="2157480"/>
            <a:ext cx="152460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7"/>
          <p:cNvCxnSpPr>
            <a:stCxn id="101" idx="3"/>
            <a:endCxn id="103" idx="0"/>
          </p:cNvCxnSpPr>
          <p:nvPr/>
        </p:nvCxnSpPr>
        <p:spPr>
          <a:xfrm>
            <a:off x="6237360" y="2157120"/>
            <a:ext cx="145656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8"/>
          <p:cNvSpPr/>
          <p:nvPr/>
        </p:nvSpPr>
        <p:spPr>
          <a:xfrm>
            <a:off x="193320" y="3645000"/>
            <a:ext cx="3736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Гибрал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троль над вы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Средиземн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Атлантиче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Ад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ход из Красн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Индий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ейпта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ь вокруг Аф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Атлантического в Индий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ингап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ь из Индии в Кит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Гонко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ступы к Кит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9"/>
          <p:cNvCxnSpPr>
            <a:stCxn id="102" idx="2"/>
            <a:endCxn id="106" idx="0"/>
          </p:cNvCxnSpPr>
          <p:nvPr/>
        </p:nvCxnSpPr>
        <p:spPr>
          <a:xfrm>
            <a:off x="1381680" y="3336840"/>
            <a:ext cx="67860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10"/>
          <p:cNvSpPr/>
          <p:nvPr/>
        </p:nvSpPr>
        <p:spPr>
          <a:xfrm>
            <a:off x="3715920" y="3429000"/>
            <a:ext cx="5232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Инд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ромная территория с населением пример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0 раз превышающим население Великобрит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Австра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. н. «белая» переселенческая колония в чистом вид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к как местное население почти уничтож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868г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ужило местом ссылки каторж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ан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рупная переселенческая коло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867г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учившая прав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мини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Новая Зеланд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апская кол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Южной Афри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ритории в Западной Афри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Южная Бир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1"/>
          <p:cNvCxnSpPr>
            <a:stCxn id="103" idx="2"/>
            <a:endCxn id="108" idx="0"/>
          </p:cNvCxnSpPr>
          <p:nvPr/>
        </p:nvCxnSpPr>
        <p:spPr>
          <a:xfrm flipH="1">
            <a:off x="6332400" y="3192120"/>
            <a:ext cx="1361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F5AC-4CD0-4918-A1AC-788B3155F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новы колониально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5105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реб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притеснение мест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Разделяй и властву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кспансия английских товаров и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ксплуатация природных ресурсов коло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щение их в источник сырья для английской промыш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01440" y="4689360"/>
            <a:ext cx="637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итанский под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любой стране мира может быть увере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бдительное око и сильная рука 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щитит его от несправедливости и обид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мьер-министр 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302-52FB-4C5F-B127-8C72134CB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спользованы материа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ы В.Николаев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t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31_07_67---The-Houses-of-Parliament--London--England_web.jpg"/>
          <p:cNvPicPr/>
          <p:nvPr/>
        </p:nvPicPr>
        <p:blipFill>
          <a:blip r:embed="rId2"/>
          <a:stretch/>
        </p:blipFill>
        <p:spPr>
          <a:xfrm>
            <a:off x="4214880" y="2357280"/>
            <a:ext cx="3857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6E4B-DC06-4606-BC73-225CAB351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29080" y="1785960"/>
            <a:ext cx="459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верш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мышленной револю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гром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лониальными владениям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имела в мире сопе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изводства и сбыт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europe1814"/>
          <p:cNvPicPr/>
          <p:nvPr/>
        </p:nvPicPr>
        <p:blipFill>
          <a:blip r:embed="rId1"/>
          <a:srcRect l="10970" t="11788" r="67388" b="60596"/>
          <a:stretch/>
        </p:blipFill>
        <p:spPr>
          <a:xfrm>
            <a:off x="468360" y="1782720"/>
            <a:ext cx="3573360" cy="4176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51B5-49DB-494E-A21F-7B8B3EE75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4200" y="1428840"/>
            <a:ext cx="8585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Мировой извоз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ела самый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мире торговый ф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. 60-х гг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ё долю приход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5% мировой внешней торгов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size1.jpg"/>
          <p:cNvPicPr/>
          <p:nvPr/>
        </p:nvPicPr>
        <p:blipFill>
          <a:blip r:embed="rId1"/>
          <a:stretch/>
        </p:blipFill>
        <p:spPr>
          <a:xfrm>
            <a:off x="11563200" y="6143760"/>
            <a:ext cx="143856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217840734_14b.jpg"/>
          <p:cNvPicPr/>
          <p:nvPr/>
        </p:nvPicPr>
        <p:blipFill>
          <a:blip r:embed="rId2"/>
          <a:stretch/>
        </p:blipFill>
        <p:spPr>
          <a:xfrm>
            <a:off x="357120" y="3357720"/>
            <a:ext cx="8643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1357200"/>
            <a:ext cx="914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Мировой банк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у стек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громные финансовые сре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внешней 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ограбления коло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870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циональный 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ыси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 млрд. фунтов стерлин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10 раз больше, чем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 конце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XVIII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big149131241783512.jpg"/>
          <p:cNvPicPr/>
          <p:nvPr/>
        </p:nvPicPr>
        <p:blipFill>
          <a:blip r:embed="rId1"/>
          <a:stretch/>
        </p:blipFill>
        <p:spPr>
          <a:xfrm>
            <a:off x="0" y="3714840"/>
            <a:ext cx="3429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F2B6-D58B-4EEB-900C-9E9E1F800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9"/>
          <p:cNvGraphicFramePr/>
          <p:nvPr/>
        </p:nvGraphicFramePr>
        <p:xfrm>
          <a:off x="357120" y="1714680"/>
          <a:ext cx="83520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14680"/>
                    <a:ext cx="8352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C6F-F661-438C-A888-59B83EFDD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1042920" y="2633760"/>
          <a:ext cx="7058160" cy="33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3760"/>
                    <a:ext cx="705816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7"/>
          <p:cNvSpPr/>
          <p:nvPr/>
        </p:nvSpPr>
        <p:spPr>
          <a:xfrm>
            <a:off x="3151800" y="189864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ЫЧА УГ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8996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049000" y="595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08E5-BD51-4D6A-B6BB-85245629E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58760" y="1898640"/>
            <a:ext cx="70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ЯЖЁННОСТЬ ЖЕЛЕЗНЫХ Д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С М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189960" y="6194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049000" y="6200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8"/>
          <p:cNvGraphicFramePr/>
          <p:nvPr/>
        </p:nvGraphicFramePr>
        <p:xfrm>
          <a:off x="684360" y="2644920"/>
          <a:ext cx="7632720" cy="36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4920"/>
                    <a:ext cx="763272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852-DBA6-4884-BAA3-7CAA9AB8C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литические преобразования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беда свободной торго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813040" y="1935720"/>
            <a:ext cx="35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0-х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ятся новые на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тических пар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032120" y="3635280"/>
            <a:ext cx="2009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о 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онсерв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206680" y="3635280"/>
            <a:ext cx="3189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и г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либер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адстон, 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9"/>
          <p:cNvCxnSpPr>
            <a:stCxn id="76" idx="1"/>
            <a:endCxn id="77" idx="0"/>
          </p:cNvCxnSpPr>
          <p:nvPr/>
        </p:nvCxnSpPr>
        <p:spPr>
          <a:xfrm flipH="1">
            <a:off x="2036160" y="2439000"/>
            <a:ext cx="780120" cy="11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0"/>
          <p:cNvCxnSpPr>
            <a:stCxn id="76" idx="3"/>
            <a:endCxn id="78" idx="0"/>
          </p:cNvCxnSpPr>
          <p:nvPr/>
        </p:nvCxnSpPr>
        <p:spPr>
          <a:xfrm>
            <a:off x="6329520" y="2439720"/>
            <a:ext cx="473760" cy="11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ectangle 12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689760" y="5172120"/>
            <a:ext cx="78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46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кончательно отменены т.н.“хлебные закон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беда торгово-промышленной буржу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 земельной аристократие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тверждение принципа свободной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C4D1-12C0-4C20-ACA7-39D9DBA73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литические пре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71720" y="1766520"/>
            <a:ext cx="6676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6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ская ре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301356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аво голоса получ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орож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еющие недвижимостью и квартиросъемщ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ендующие жильё не менее чем за 10 фунтов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ение числа городских избир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600 тыс. до 1400 тыс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бирательное право получ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оквалифицированны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8:09:10Z</dcterms:created>
  <dc:creator>Freeman</dc:creator>
  <dc:description/>
  <dc:language>en-US</dc:language>
  <cp:lastModifiedBy>Aleks</cp:lastModifiedBy>
  <dcterms:modified xsi:type="dcterms:W3CDTF">2011-09-28T14:46:52Z</dcterms:modified>
  <cp:revision>24</cp:revision>
  <dc:subject/>
  <dc:title>Англия в 50-60-х гг. XIXв. </dc:title>
</cp:coreProperties>
</file>