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63D-DF46-417A-8C07-77FF5DFC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4D7-6CF0-4A86-9963-6AE45D6A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57B-957D-4968-9433-0414459D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F6F-3C1C-46DE-8F9C-3A4555D0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499-D1F8-4868-A725-4BC033ED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3C9-03D7-42B9-AA39-00F518FA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43D-E7C4-4AD8-9C51-7172A684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8ED-3782-464C-B2AB-F360E17C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B8F-7CA4-4EAE-9AA2-CBBD8566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A17-9831-4293-B50F-C2000A70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C85-67B8-4116-A7D6-26B73720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8E5-32CE-4B30-AF3D-9F0B7EAC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8E93-9A4F-46FA-BCC2-1481BC04B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stu.ru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235A-3E57-47FA-811D-BA146D9BE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3214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Англия во второй половине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в.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08560v.jpg"/>
          <p:cNvPicPr/>
          <p:nvPr/>
        </p:nvPicPr>
        <p:blipFill>
          <a:blip r:embed="rId1"/>
          <a:stretch/>
        </p:blipFill>
        <p:spPr>
          <a:xfrm>
            <a:off x="785880" y="2928960"/>
            <a:ext cx="7688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154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литические лид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0" y="6000840"/>
            <a:ext cx="45720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. Дизраэ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6D65-B42A-41B2-81D7-280E34662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_45526408_gladstonedisraeli22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14240" y="928800"/>
            <a:ext cx="7715520" cy="4857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560" y="6072120"/>
            <a:ext cx="4071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ильям Гладс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180E-3550-4A9A-8225-1D6F96160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" descr="bb_glad_dis.JPG"/>
          <p:cNvPicPr/>
          <p:nvPr/>
        </p:nvPicPr>
        <p:blipFill>
          <a:blip r:embed="rId1"/>
          <a:stretch/>
        </p:blipFill>
        <p:spPr>
          <a:xfrm>
            <a:off x="1500120" y="214200"/>
            <a:ext cx="59295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404B-5041-4C8F-95D4-B19565C54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Характер внешней политики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Анг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643120" y="1489320"/>
            <a:ext cx="600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Британии нет постоянных союзни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неё есть только постоянные интере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альмерс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емьер-министр Англии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85840" y="2944080"/>
            <a:ext cx="752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ктивное участие в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рымской вой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3-1856гг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ванной желанием ослаб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народный авторитет Российской имп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-Вторая “опиумная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йна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6-1860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ив Китая и навязывание 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вноправных торговых до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-Поддержка рабовладельческого Ю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гражданск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ША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61-1865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74C-BBFF-4953-8AE1-8095301D8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Характер внешней политики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Анг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904480" y="1195920"/>
            <a:ext cx="333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VIII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вв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а последовате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лониальную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экспа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асширение влия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сем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1280" y="242100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о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н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ло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756480" y="2276640"/>
            <a:ext cx="18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жней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он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6"/>
          <p:cNvCxnSpPr>
            <a:stCxn id="101" idx="1"/>
            <a:endCxn id="102" idx="0"/>
          </p:cNvCxnSpPr>
          <p:nvPr/>
        </p:nvCxnSpPr>
        <p:spPr>
          <a:xfrm flipH="1">
            <a:off x="1382040" y="2157480"/>
            <a:ext cx="152460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7"/>
          <p:cNvCxnSpPr>
            <a:stCxn id="101" idx="3"/>
            <a:endCxn id="103" idx="0"/>
          </p:cNvCxnSpPr>
          <p:nvPr/>
        </p:nvCxnSpPr>
        <p:spPr>
          <a:xfrm>
            <a:off x="6237360" y="2157120"/>
            <a:ext cx="1456560" cy="1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8"/>
          <p:cNvSpPr/>
          <p:nvPr/>
        </p:nvSpPr>
        <p:spPr>
          <a:xfrm>
            <a:off x="193320" y="3645000"/>
            <a:ext cx="3736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Гибрал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троль над вых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 Средиземн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Атлантический оке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Ад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ход из Красного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Индийский оке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Кейпта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уть вокруг Афр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 Атлантического в Индийский оке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Сингап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уть из Индии в Кит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Гонко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ступы к Кит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9"/>
          <p:cNvCxnSpPr>
            <a:stCxn id="102" idx="2"/>
            <a:endCxn id="106" idx="0"/>
          </p:cNvCxnSpPr>
          <p:nvPr/>
        </p:nvCxnSpPr>
        <p:spPr>
          <a:xfrm>
            <a:off x="1381680" y="3336840"/>
            <a:ext cx="67860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Text Box 10"/>
          <p:cNvSpPr/>
          <p:nvPr/>
        </p:nvSpPr>
        <p:spPr>
          <a:xfrm>
            <a:off x="3715920" y="3429000"/>
            <a:ext cx="5232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Инд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громная территория с населением пример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10 раз превышающим население Великобрит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Австра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. н. «белая» переселенческая колония в чистом вид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ак как местное население почти уничтоже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1868г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ужило местом ссылки каторж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Кан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рупная переселенческая коло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1867г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учившая прав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омини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Новая Зеланд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Капская кол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Южной Афри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рритории в Западной Афри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Южная Бирм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1"/>
          <p:cNvCxnSpPr>
            <a:stCxn id="103" idx="2"/>
            <a:endCxn id="108" idx="0"/>
          </p:cNvCxnSpPr>
          <p:nvPr/>
        </p:nvCxnSpPr>
        <p:spPr>
          <a:xfrm flipH="1">
            <a:off x="6332400" y="3192120"/>
            <a:ext cx="13611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5DA2-BADF-44DE-ADAD-F5D2976085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сновы колониальной поли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51056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ребл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притеснение местн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Разделяй и властву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кспансия английских товаров и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ксплуатация природных ресурсов коло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вращение их в источник сырья для английской промыш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801440" y="4689360"/>
            <a:ext cx="637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итанский подд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любой стране мира может быть уверен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бдительное око и сильная рука Анг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щитит его от несправедливости и обид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альмерс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емьер-министр Анг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E358-D6DE-486F-9BE1-DD721C74C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Использованы материа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ы В.Николаев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t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йд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4" descr="31_07_67---The-Houses-of-Parliament--London--England_web.jpg"/>
          <p:cNvPicPr/>
          <p:nvPr/>
        </p:nvPicPr>
        <p:blipFill>
          <a:blip r:embed="rId2"/>
          <a:stretch/>
        </p:blipFill>
        <p:spPr>
          <a:xfrm>
            <a:off x="4214880" y="2357280"/>
            <a:ext cx="38574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27EC-3FBC-4658-A58E-E6264A414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429080" y="1785960"/>
            <a:ext cx="459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аверш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мышленной револю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гром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олониальными владениям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имела в мире сопе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оизводства и сбыт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europe1814"/>
          <p:cNvPicPr/>
          <p:nvPr/>
        </p:nvPicPr>
        <p:blipFill>
          <a:blip r:embed="rId1"/>
          <a:srcRect l="10970" t="11788" r="67388" b="60596"/>
          <a:stretch/>
        </p:blipFill>
        <p:spPr>
          <a:xfrm>
            <a:off x="468360" y="1782720"/>
            <a:ext cx="3573360" cy="4176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DB37-5D32-4B30-9A2D-8ADA1C5BE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4200" y="1428840"/>
            <a:ext cx="8585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Мировой извоз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мела самый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 мире торговый ф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. 60-х гг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её долю приход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5% мировой внешней торгов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size1.jpg"/>
          <p:cNvPicPr/>
          <p:nvPr/>
        </p:nvPicPr>
        <p:blipFill>
          <a:blip r:embed="rId1"/>
          <a:stretch/>
        </p:blipFill>
        <p:spPr>
          <a:xfrm>
            <a:off x="11563200" y="6143760"/>
            <a:ext cx="143856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1217840734_14b.jpg"/>
          <p:cNvPicPr/>
          <p:nvPr/>
        </p:nvPicPr>
        <p:blipFill>
          <a:blip r:embed="rId2"/>
          <a:stretch/>
        </p:blipFill>
        <p:spPr>
          <a:xfrm>
            <a:off x="357120" y="3357720"/>
            <a:ext cx="8643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1357200"/>
            <a:ext cx="9144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«Мировой банк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рану стек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громные финансовые сре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внешней торгов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ограбления коло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 вывоз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870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циональный 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ыси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 млрд. фунтов стерлин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10 раз больше, чем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 конце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XVIII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big149131241783512.jpg"/>
          <p:cNvPicPr/>
          <p:nvPr/>
        </p:nvPicPr>
        <p:blipFill>
          <a:blip r:embed="rId1"/>
          <a:stretch/>
        </p:blipFill>
        <p:spPr>
          <a:xfrm>
            <a:off x="0" y="3714840"/>
            <a:ext cx="3429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C0F4-EF8F-4E6B-AD26-CEEAAFC93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29"/>
          <p:cNvGraphicFramePr/>
          <p:nvPr/>
        </p:nvGraphicFramePr>
        <p:xfrm>
          <a:off x="357120" y="1714680"/>
          <a:ext cx="83520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714680"/>
                    <a:ext cx="8352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107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96E1-3148-4403-A3D8-959A251FD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1042920" y="2633760"/>
          <a:ext cx="7058160" cy="338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33760"/>
                    <a:ext cx="705816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7"/>
          <p:cNvSpPr/>
          <p:nvPr/>
        </p:nvSpPr>
        <p:spPr>
          <a:xfrm>
            <a:off x="3151800" y="189864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ЫЧА УГ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18996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049000" y="5950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37AF-BD24-4E5B-A65E-BD09C476B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стижения промышленност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мировое первенство Анг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058760" y="1898640"/>
            <a:ext cx="70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ЯЖЁННОСТЬ ЖЕЛЕЗНЫХ Д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С М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189960" y="6194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049000" y="62006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8"/>
          <p:cNvGraphicFramePr/>
          <p:nvPr/>
        </p:nvGraphicFramePr>
        <p:xfrm>
          <a:off x="684360" y="2644920"/>
          <a:ext cx="7632720" cy="36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44920"/>
                    <a:ext cx="763272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F39D-496C-4939-B5BB-8AC6D3E1F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литические преобразования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беда свободной торгов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813040" y="1935720"/>
            <a:ext cx="35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0-х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ятся новые на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тических пар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032120" y="3635280"/>
            <a:ext cx="2009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 о 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онсерва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206680" y="3635280"/>
            <a:ext cx="3189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и г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либер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адстон, Пальмерс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9"/>
          <p:cNvCxnSpPr>
            <a:stCxn id="76" idx="1"/>
            <a:endCxn id="77" idx="0"/>
          </p:cNvCxnSpPr>
          <p:nvPr/>
        </p:nvCxnSpPr>
        <p:spPr>
          <a:xfrm flipH="1">
            <a:off x="2036160" y="2439000"/>
            <a:ext cx="780120" cy="119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10"/>
          <p:cNvCxnSpPr>
            <a:stCxn id="76" idx="3"/>
            <a:endCxn id="78" idx="0"/>
          </p:cNvCxnSpPr>
          <p:nvPr/>
        </p:nvCxnSpPr>
        <p:spPr>
          <a:xfrm>
            <a:off x="6329520" y="2439720"/>
            <a:ext cx="473760" cy="119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Rectangle 12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689760" y="5172120"/>
            <a:ext cx="780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846г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кончательно отменены т.н.“хлебные законы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беда торгово-промышленной буржуа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д земельной аристократие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тверждение принципа свободной торго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E214-F3AF-441B-A2CE-0BEDA01017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олитические пре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071720" y="1766520"/>
            <a:ext cx="6676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86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ламентская ре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301356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аво голоса получ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орожа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еющие недвижимостью и квартиросъемщ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ендующие жильё не менее чем за 10 фунтов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ение числа городских избир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600 тыс. до 1400 тыс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бирательное право получ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сококвалифицированные 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18:09:10Z</dcterms:created>
  <dc:creator>Freeman</dc:creator>
  <dc:description/>
  <dc:language>en-US</dc:language>
  <cp:lastModifiedBy>Aleks</cp:lastModifiedBy>
  <dcterms:modified xsi:type="dcterms:W3CDTF">2011-09-28T14:46:52Z</dcterms:modified>
  <cp:revision>24</cp:revision>
  <dc:subject/>
  <dc:title>Англия в 50-60-х гг. XIXв. </dc:title>
</cp:coreProperties>
</file>