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B972-3EAE-4155-B5F9-81791220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B240-35FC-40B7-8BF8-132B867B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55A4-E24C-4422-A8DA-3F94C220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2C42-707E-4924-A1E1-DDC76FFE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46C-CEBC-476A-AC3B-55881266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9D83-CF7E-47CC-BA8B-05036901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F0B9-F21F-4233-9513-B6DD7A80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3EA-742E-42F6-8B0A-C99DD4FB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CC0E-BB68-4BF5-9B0A-D2AC54C5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CD73-A0A6-4BB6-AC1F-C599683C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FF1D-3BF2-47AC-A99D-B7C82ABD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256-E4B5-4A93-BF62-C07AFA69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88D5-9155-4A9E-9112-87C184E118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stu.ru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F23E-A416-4869-9EB8-94B840A8D2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3214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Англия во второй половине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XIX</a:t>
            </a: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в.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08560v.jpg"/>
          <p:cNvPicPr/>
          <p:nvPr/>
        </p:nvPicPr>
        <p:blipFill>
          <a:blip r:embed="rId1"/>
          <a:stretch/>
        </p:blipFill>
        <p:spPr>
          <a:xfrm>
            <a:off x="785880" y="2928960"/>
            <a:ext cx="76881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1154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олитические лид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0" y="6000840"/>
            <a:ext cx="45720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. Дизраэ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9827-9FFE-434F-A0EB-E4C828C6CE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_45526408_gladstonedisraeli226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714240" y="928800"/>
            <a:ext cx="7715520" cy="4857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560" y="6072120"/>
            <a:ext cx="40719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ильям Гладс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C540-AB42-4444-B3F7-C3ADA81A6E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2" descr="bb_glad_dis.JPG"/>
          <p:cNvPicPr/>
          <p:nvPr/>
        </p:nvPicPr>
        <p:blipFill>
          <a:blip r:embed="rId1"/>
          <a:stretch/>
        </p:blipFill>
        <p:spPr>
          <a:xfrm>
            <a:off x="1500120" y="214200"/>
            <a:ext cx="59295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BE2A-85FF-429D-B183-F640B1454A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Характер внешней политики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Англ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643120" y="1489320"/>
            <a:ext cx="6000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Британии нет постоянных союзник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неё есть только постоянные интере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альмерс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ремьер-министр Англии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85840" y="2944080"/>
            <a:ext cx="7527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Активное участие в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рымской войн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853-1856гг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званной желанием ослаб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дународный авторитет Российской имп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-Вторая “опиумная”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ойна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856-1860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ив Китая и навязывание 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авноправных торговых дого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-Поддержка рабовладельческого Ю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ремя гражданской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ША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861-1865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E786-9094-417C-86F0-9CD968FDD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Характер внешней политики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Англ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904480" y="1195920"/>
            <a:ext cx="3335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VIII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вв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а последователь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олониальную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экспан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расширение влия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сем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11280" y="242100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о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н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коло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756480" y="2276640"/>
            <a:ext cx="187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ажнейш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он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а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AutoShape 6"/>
          <p:cNvCxnSpPr>
            <a:stCxn id="101" idx="1"/>
            <a:endCxn id="102" idx="0"/>
          </p:cNvCxnSpPr>
          <p:nvPr/>
        </p:nvCxnSpPr>
        <p:spPr>
          <a:xfrm flipH="1">
            <a:off x="1382040" y="2157480"/>
            <a:ext cx="152460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7"/>
          <p:cNvCxnSpPr>
            <a:stCxn id="101" idx="3"/>
            <a:endCxn id="103" idx="0"/>
          </p:cNvCxnSpPr>
          <p:nvPr/>
        </p:nvCxnSpPr>
        <p:spPr>
          <a:xfrm>
            <a:off x="6237360" y="2157120"/>
            <a:ext cx="1456560" cy="11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8"/>
          <p:cNvSpPr/>
          <p:nvPr/>
        </p:nvSpPr>
        <p:spPr>
          <a:xfrm>
            <a:off x="193320" y="3645000"/>
            <a:ext cx="37360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Гибралт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троль над вых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з Средиземного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Атлантический оке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Ад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ход из Красного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Индийский оке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Кейптау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уть вокруг Афр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з Атлантического в Индийский оке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Сингап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уть из Индии в Кит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Гонкон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дступы к Кит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9"/>
          <p:cNvCxnSpPr>
            <a:stCxn id="102" idx="2"/>
            <a:endCxn id="106" idx="0"/>
          </p:cNvCxnSpPr>
          <p:nvPr/>
        </p:nvCxnSpPr>
        <p:spPr>
          <a:xfrm>
            <a:off x="1381680" y="3336840"/>
            <a:ext cx="678600" cy="30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Text Box 10"/>
          <p:cNvSpPr/>
          <p:nvPr/>
        </p:nvSpPr>
        <p:spPr>
          <a:xfrm>
            <a:off x="3715920" y="3429000"/>
            <a:ext cx="52329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Инд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громная территория с населением пример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10 раз превышающим население Великобрит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Австра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. н. «белая» переселенческая колония в чистом вид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ак как местное население почти уничтоже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1868г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ужило местом ссылки каторж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Кан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рупная переселенческая коло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1867г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лучившая прав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омини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Новая Зеланд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Капская коло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Южной Афри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рритории в Западной Афри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Южная Бирм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1"/>
          <p:cNvCxnSpPr>
            <a:stCxn id="103" idx="2"/>
            <a:endCxn id="108" idx="0"/>
          </p:cNvCxnSpPr>
          <p:nvPr/>
        </p:nvCxnSpPr>
        <p:spPr>
          <a:xfrm flipH="1">
            <a:off x="6332400" y="3192120"/>
            <a:ext cx="136116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1DD7-06EA-4BFD-B1F3-4470E71A05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сновы колониальной поли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151056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требл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ли притеснение местного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цип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Разделяй и властву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кспансия английских товаров и капит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ксплуатация природных ресурсов коло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вращение их в источник сырья для английской промыш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801440" y="4689360"/>
            <a:ext cx="637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ританский подд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любой стране мира может быть уверен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то бдительное око и сильная рука Англ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щитит его от несправедливости и обид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альмерс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ремьер-министр Англ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E844-B22B-41AC-986B-4E34216C1A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Использованы материал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ы В.Николаев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tu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йд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4" descr="31_07_67---The-Houses-of-Parliament--London--England_web.jpg"/>
          <p:cNvPicPr/>
          <p:nvPr/>
        </p:nvPicPr>
        <p:blipFill>
          <a:blip r:embed="rId2"/>
          <a:stretch/>
        </p:blipFill>
        <p:spPr>
          <a:xfrm>
            <a:off x="4214880" y="2357280"/>
            <a:ext cx="38574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8A5A-8CE3-42DA-836D-05CD9B25C2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стижения промышленности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 мировое первенство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429080" y="1785960"/>
            <a:ext cx="4597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заверш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омышленной револю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гром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олониальными владениями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имела в мире сопер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оизводства и сбыта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europe1814"/>
          <p:cNvPicPr/>
          <p:nvPr/>
        </p:nvPicPr>
        <p:blipFill>
          <a:blip r:embed="rId1"/>
          <a:srcRect l="10970" t="11788" r="67388" b="60596"/>
          <a:stretch/>
        </p:blipFill>
        <p:spPr>
          <a:xfrm>
            <a:off x="468360" y="1782720"/>
            <a:ext cx="3573360" cy="41767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5E87-CA1E-4418-B608-2808041E5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92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стижения промышленности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 мировое первенство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4200" y="1428840"/>
            <a:ext cx="8585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«Мировой извозч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мела самый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мире торговый фл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. 60-х гг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её долю приходи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5% мировой внешней торгов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4" descr="size1.jpg"/>
          <p:cNvPicPr/>
          <p:nvPr/>
        </p:nvPicPr>
        <p:blipFill>
          <a:blip r:embed="rId1"/>
          <a:stretch/>
        </p:blipFill>
        <p:spPr>
          <a:xfrm>
            <a:off x="11563200" y="6143760"/>
            <a:ext cx="1438560" cy="1214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1217840734_14b.jpg"/>
          <p:cNvPicPr/>
          <p:nvPr/>
        </p:nvPicPr>
        <p:blipFill>
          <a:blip r:embed="rId2"/>
          <a:stretch/>
        </p:blipFill>
        <p:spPr>
          <a:xfrm>
            <a:off x="357120" y="3357720"/>
            <a:ext cx="8643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92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стижения промышленности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 мировое первенство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0" y="1357200"/>
            <a:ext cx="91440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«Мировой банки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рану стек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громные финансовые сред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 внешней торгов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 ограбления коло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 вывоза капи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870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циональный д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высил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 млрд. фунтов стерлин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 10 раз больше, чем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в конце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XVIII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big149131241783512.jpg"/>
          <p:cNvPicPr/>
          <p:nvPr/>
        </p:nvPicPr>
        <p:blipFill>
          <a:blip r:embed="rId1"/>
          <a:stretch/>
        </p:blipFill>
        <p:spPr>
          <a:xfrm>
            <a:off x="0" y="3714840"/>
            <a:ext cx="3429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E27A-DBF3-4B8A-A68F-0A4E3086AA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стижения промышленности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 мировое первенство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29"/>
          <p:cNvGraphicFramePr/>
          <p:nvPr/>
        </p:nvGraphicFramePr>
        <p:xfrm>
          <a:off x="357120" y="1714680"/>
          <a:ext cx="8352000" cy="414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714680"/>
                    <a:ext cx="83520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verb" presetID="0">
                                  <p:stCondLst>
                                    <p:cond delay="500"/>
                                  </p:stCondLst>
                                  <p:childTnLst>
                                    <p:cmd type="call" cmd="">
                                      <p:cBhvr>
                                        <p:cTn id="107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83BE-090E-4318-A2A7-D2F98E12C1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стижения промышленности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 мировое первенство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1042920" y="2633760"/>
          <a:ext cx="7058160" cy="338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633760"/>
                    <a:ext cx="705816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7"/>
          <p:cNvSpPr/>
          <p:nvPr/>
        </p:nvSpPr>
        <p:spPr>
          <a:xfrm>
            <a:off x="3151800" y="1898640"/>
            <a:ext cx="28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ЫЧА УГ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189960" y="5943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8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5049000" y="5950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8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D6DF-0440-46B0-ABB3-3F94FFFFBB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стижения промышленности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 мировое первенство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058760" y="1898640"/>
            <a:ext cx="703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ЯЖЁННОСТЬ ЖЕЛЕЗНЫХ ДОР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С МИ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189960" y="61945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8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049000" y="62006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8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8"/>
          <p:cNvGraphicFramePr/>
          <p:nvPr/>
        </p:nvGraphicFramePr>
        <p:xfrm>
          <a:off x="684360" y="2644920"/>
          <a:ext cx="7632720" cy="366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44920"/>
                    <a:ext cx="763272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DA66-DDB9-43D1-8DC7-F3C7CDDACE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литические преобразования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беда свободной торгов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813040" y="1935720"/>
            <a:ext cx="351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50-х гг.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ятся новые наз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тических пар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032120" y="3635280"/>
            <a:ext cx="20095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 о р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онсерва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израэ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5206680" y="3635280"/>
            <a:ext cx="3189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и г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либер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адстон, Пальмерс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9"/>
          <p:cNvCxnSpPr>
            <a:stCxn id="76" idx="1"/>
            <a:endCxn id="77" idx="0"/>
          </p:cNvCxnSpPr>
          <p:nvPr/>
        </p:nvCxnSpPr>
        <p:spPr>
          <a:xfrm flipH="1">
            <a:off x="2036160" y="2439000"/>
            <a:ext cx="780120" cy="1191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10"/>
          <p:cNvCxnSpPr>
            <a:stCxn id="76" idx="3"/>
            <a:endCxn id="78" idx="0"/>
          </p:cNvCxnSpPr>
          <p:nvPr/>
        </p:nvCxnSpPr>
        <p:spPr>
          <a:xfrm>
            <a:off x="6329520" y="2439720"/>
            <a:ext cx="473760" cy="1191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Rectangle 12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689760" y="5172120"/>
            <a:ext cx="780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846г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кончательно отменены т.н.“хлебные законы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беда торгово-промышленной буржуа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д земельной аристократие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тверждение принципа свободной торгов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6F5C-824E-4DCE-B0F9-7368F67F72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олитические пре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30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071720" y="1766520"/>
            <a:ext cx="6676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867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ламентская рефор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3013560"/>
            <a:ext cx="8501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аво голоса получ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горожа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адеющие недвижимостью и квартиросъемщи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рендующие жильё не менее чем за 10 фунтов в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еличение числа городских избир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600 тыс. до 1400 тыс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бирательное право получ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сококвалифицированные рабо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18:09:10Z</dcterms:created>
  <dc:creator>Freeman</dc:creator>
  <dc:description/>
  <dc:language>en-US</dc:language>
  <cp:lastModifiedBy>Aleks</cp:lastModifiedBy>
  <dcterms:modified xsi:type="dcterms:W3CDTF">2011-09-28T14:46:52Z</dcterms:modified>
  <cp:revision>24</cp:revision>
  <dc:subject/>
  <dc:title>Англия в 50-60-х гг. XIXв. </dc:title>
</cp:coreProperties>
</file>