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D5D7-1C21-4763-8A1D-B4761B16E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6A6D-71D3-45D9-8EF1-BA8597EB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0D86-4218-4089-BE44-9CF765D7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B291-F792-4685-B7F6-70949FF6C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C7A8-3F8E-4CDF-9CA4-FEC70CD64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DB1F-9059-403F-B6F3-2C89DF78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7771-324F-4F01-85EB-3A55AADE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68D7-2F28-4938-9C80-6961B696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9502-A817-42B0-B63E-720CE9AB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237F-864B-4E2B-BE75-92900087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31AB-F461-44F8-886F-A2C5F30B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1331-DAAA-4C02-972D-FF326F36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FAA9-6C01-4C67-8D8B-6F6EDD69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040F-8104-498B-BFAE-C6B42168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3033-7249-400C-90E1-A0F1EFD6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C0EC-B8EA-4F62-B5AA-170FDAD5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B906-E09E-45BE-B7FB-95252CFE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6DF3-38D5-437D-AA6A-8D5665D5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CE86-B65E-451B-9BB7-9AD0C4F0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810A-C30E-4FA7-9DA8-D045C733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8BDE-B6A6-4BC2-8D66-563B3F29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5328-1190-4419-A38B-964618B2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72B7-FFD8-4D40-82ED-6A42887D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EE5D-B0A1-43C8-A136-6356A000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62B4-FDCB-4040-980D-97616F39BCA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40E9-007D-4644-A57D-EB9EA466E97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91592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Англия накануне Столетней</a:t>
            </a:r>
            <a:br>
              <a:rPr sz="5400"/>
            </a:b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 войны. 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32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Борьба короля с крупными феодалами.</a:t>
            </a:r>
            <a:br>
              <a:rPr sz="3800"/>
            </a:br>
            <a:r>
              <a:rPr b="0" lang="en-US" sz="1900" spc="-1" strike="noStrike">
                <a:solidFill>
                  <a:srgbClr val="006633"/>
                </a:solidFill>
                <a:latin typeface="Garamond"/>
              </a:rPr>
              <a:t>1. Все феодалы – вассалы короля.</a:t>
            </a:r>
            <a:br>
              <a:rPr sz="1900"/>
            </a:br>
            <a:r>
              <a:rPr b="0" lang="en-US" sz="1900" spc="-1" strike="noStrike">
                <a:solidFill>
                  <a:srgbClr val="006633"/>
                </a:solidFill>
                <a:latin typeface="Garamond"/>
              </a:rPr>
              <a:t>2.Рост феодальных повинностей.</a:t>
            </a:r>
            <a:br>
              <a:rPr sz="1900"/>
            </a:br>
            <a:r>
              <a:rPr b="0" lang="en-US" sz="1900" spc="-1" strike="noStrike">
                <a:solidFill>
                  <a:srgbClr val="006633"/>
                </a:solidFill>
                <a:latin typeface="Garamond"/>
              </a:rPr>
              <a:t>       3.Крупные земельные владения короля. </a:t>
            </a:r>
            <a:br>
              <a:rPr sz="1900"/>
            </a:br>
            <a:r>
              <a:rPr b="0" lang="en-US" sz="1900" spc="-1" strike="noStrike">
                <a:solidFill>
                  <a:srgbClr val="006633"/>
                </a:solidFill>
                <a:latin typeface="Garamond"/>
              </a:rPr>
              <a:t>                          4. Закрепощение свободных и зависимых крестьян.</a:t>
            </a:r>
            <a:br>
              <a:rPr sz="1900"/>
            </a:br>
            <a:r>
              <a:rPr b="0" lang="en-US" sz="1900" spc="-1" strike="noStrike">
                <a:solidFill>
                  <a:srgbClr val="006633"/>
                </a:solidFill>
                <a:latin typeface="Garamond"/>
              </a:rPr>
              <a:t>5. Борьба с крупными феодалами.</a:t>
            </a:r>
            <a:br>
              <a:rPr sz="1900"/>
            </a:br>
            <a:r>
              <a:rPr b="0" lang="en-US" sz="1900" spc="-1" strike="noStrike">
                <a:solidFill>
                  <a:srgbClr val="006633"/>
                </a:solidFill>
                <a:latin typeface="Garamond"/>
              </a:rPr>
              <a:t>                            6. Борьба крестьян против феодалов – « вольные стрелки» в королевских лесах.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46080"/>
            <a:ext cx="403848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ддержка короля горожанами в это борьб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3646080"/>
            <a:ext cx="403848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ддержка короля мелкими и средними феодала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908000" y="321300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77080" y="3357720"/>
            <a:ext cx="21600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Реформы Генриха 2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50920" y="1052640"/>
          <a:ext cx="8893080" cy="5589360"/>
        </p:xfrm>
        <a:graphic>
          <a:graphicData uri="http://schemas.openxmlformats.org/drawingml/2006/table">
            <a:tbl>
              <a:tblPr/>
              <a:tblGrid>
                <a:gridCol w="2665440"/>
                <a:gridCol w="2808000"/>
                <a:gridCol w="341964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ебная реформ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енная реформ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иление власти шериф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королевского суда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buClr>
                          <a:srgbClr val="cc9900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уд общего права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buClr>
                          <a:srgbClr val="cc9900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Суд 12 присяжных( для свободных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buClr>
                          <a:srgbClr val="cc9900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 феодала ( для лично зависящих крестьян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место военного похода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плата королю, «щитовые деньги». На них содержались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народное ополчение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постоянное наемное войско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местах была образована власть шерифов – королевских чиновников, которые управляли 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шериф собирал налоги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реследовал нарушение порядка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Чем Иоанн Безземельный возбудил против себя всеобще недовольство в стране? </a:t>
            </a:r>
            <a:br>
              <a:rPr sz="4200"/>
            </a:br>
            <a:br>
              <a:rPr sz="4200"/>
            </a:b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.3 стр. 157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Основные положения Великой Хартии Вольностей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ороль не мог вмешиваться в церковные выбор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Без согласия Общего Совета королевства король не мог взимать ни « щитовые деньги», ни другие налог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сновные законы могли издаваться лишь с одобрения Общего Совета королевств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Ни один свободный человек не мог быть заключен в тюрьму, лишен имения, изгнан из страны иначе как по законному приговору, вынесенному равными по положению судьями и «по закону страны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одтверждение вольностей город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Английский парламент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алата лорд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уховенство, дворянство ( назначались монархом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алата общ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горожане, рыцари ( избирались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908000" y="1125360"/>
            <a:ext cx="43200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51640" y="1125360"/>
            <a:ext cx="504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Функции парламент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участие в создании закон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Разрешение налог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Контроль за использованием налог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Общие черты в развитии Англии и Франции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ост городов и торговли как предпосылка централизации государст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ддержка власти короля горожанами и рыцаря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бострение борьбы крестьян с феодалами, что вынудило господствующие классы укрепить центральную влас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личие представительного учреждения при корол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10:15:35Z</dcterms:created>
  <dc:creator>User</dc:creator>
  <dc:description/>
  <dc:language>en-US</dc:language>
  <cp:lastModifiedBy>User</cp:lastModifiedBy>
  <dcterms:modified xsi:type="dcterms:W3CDTF">2006-10-29T10:36:22Z</dcterms:modified>
  <cp:revision>2</cp:revision>
  <dc:subject/>
  <dc:title>Борьба короля с крупными феодалами. 1. Все феодалы – вассалы короля. 2.Рост феодальных повинностей.        3.Крупные земельные владения короля.                            4. Закрепощение свободных и зависимых крестьян. 5. Борьба с крупными феодалами.                             6. Борьба крестьян против феодалов – « вольные стрелки» в королевских лесах.</dc:title>
</cp:coreProperties>
</file>