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46BA-7BA2-47DB-9005-3218559D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FF6-734C-4039-AAA6-FC33E4B9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8E1-6DB9-4021-A59C-A3826171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433-145F-4DA1-8A92-2FD20DA8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081A-2FF3-4674-A6C7-DF422C98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4961-5245-4049-938C-71C13B70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BE76-0EE0-470F-8ECB-AE3D9E3D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27CA-B12C-4769-82B2-97E505F2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E5B7-61FE-4DBD-A65E-4E75EA7F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98FA-BBDE-43FE-96FA-ED620E3A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BD6D-EEB8-41FD-A5DF-939C834E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946-0EF3-48D1-BA6F-DF49875E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67EF-A262-4469-AAE3-A3EFC9F8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A79D-79CF-4429-BC7F-7C153CF3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2294-E70E-4B19-AE04-46B650F8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200F-C8DF-4CD9-80D7-BA9F905A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D26A-4B71-4BC4-88C3-2FD5D945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6B83-F932-4219-B0FC-B389BD99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2F0-9BDF-4215-80D5-259233F7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3B1F-B923-4152-9D17-11E55F6D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869A-C72B-452C-BFF9-BE9A563B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5BE-345D-49FB-9511-11B0F306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48B3-4E81-4505-B9BA-2A969AE7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77B4-E21D-44A3-9C61-F49CD30C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2F20-7C40-44D6-98D8-0B1F3B1615E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46A7-88B0-4393-AA37-8A1E64F6D70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91592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Англия накануне Столетней</a:t>
            </a: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 войны. 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Борьба короля с крупными феодалами.</a:t>
            </a:r>
            <a:br>
              <a:rPr sz="3800"/>
            </a:b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1. Все феодалы – вассалы короля.</a:t>
            </a:r>
            <a:br>
              <a:rPr sz="1900"/>
            </a:b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2.Рост феодальных повинностей.</a:t>
            </a:r>
            <a:br>
              <a:rPr sz="1900"/>
            </a:b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       3.Крупные земельные владения короля. </a:t>
            </a:r>
            <a:br>
              <a:rPr sz="1900"/>
            </a:b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                          4. Закрепощение свободных и зависимых крестьян.</a:t>
            </a:r>
            <a:br>
              <a:rPr sz="1900"/>
            </a:b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5. Борьба с крупными феодалами.</a:t>
            </a:r>
            <a:br>
              <a:rPr sz="1900"/>
            </a:b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                            6. Борьба крестьян против феодалов – « вольные стрелки» в королевских лесах.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46080"/>
            <a:ext cx="4038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ддержка короля горожанами в это борьб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3646080"/>
            <a:ext cx="4038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ддержка короля мелкими и средними феодал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908000" y="321300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7080" y="3357720"/>
            <a:ext cx="216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Реформы Генриха 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1052640"/>
          <a:ext cx="8893080" cy="5589360"/>
        </p:xfrm>
        <a:graphic>
          <a:graphicData uri="http://schemas.openxmlformats.org/drawingml/2006/table">
            <a:tbl>
              <a:tblPr/>
              <a:tblGrid>
                <a:gridCol w="2665440"/>
                <a:gridCol w="2808000"/>
                <a:gridCol w="341964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ебная рефор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рефор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иление власти шериф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королевского суда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уд общего права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уд 12 присяжных( для свободных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 феодала ( для лично зависящих крестьян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место военного поход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плата королю, «щитовые деньги». На них содержались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ародное ополчение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постоянное наемное войско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местах была образована власть шерифов – королевских чиновников, которые управляли 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шериф собирал налоги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реследовал нарушение порядк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Чем Иоанн Безземельный возбудил против себя всеобще недовольство в стране? 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.3 стр. 15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сновные положения Великой Хартии Вольносте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ороль не мог вмешиваться в церковные выбор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ез согласия Общего Совета королевства король не мог взимать ни « щитовые деньги», ни другие налог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сновные законы могли издаваться лишь с одобрения Общего Совета королевст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и один свободный человек не мог быть заключен в тюрьму, лишен имения, изгнан из страны иначе как по законному приговору, вынесенному равными по положению судьями и «по закону страны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дтверждение вольностей город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Английский парламент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алата лорд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уховенство, дворянство ( назначались монархо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алата общ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орожане, рыцари ( избиралис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08000" y="1125360"/>
            <a:ext cx="432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1125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Функции парламен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участие в создании закон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Разрешение налог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Контроль за использованием налог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бщие черты в развитии Англии и Франци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ст городов и торговли как предпосылка централизации государ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держка власти короля горожанами и рыцаря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острение борьбы крестьян с феодалами, что вынудило господствующие классы укрепить центральную вла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личие представительного учреждения при корол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0:15:35Z</dcterms:created>
  <dc:creator>User</dc:creator>
  <dc:description/>
  <dc:language>en-US</dc:language>
  <cp:lastModifiedBy>User</cp:lastModifiedBy>
  <dcterms:modified xsi:type="dcterms:W3CDTF">2006-10-29T10:36:22Z</dcterms:modified>
  <cp:revision>2</cp:revision>
  <dc:subject/>
  <dc:title>Борьба короля с крупными феодалами. 1. Все феодалы – вассалы короля. 2.Рост феодальных повинностей.        3.Крупные земельные владения короля.                            4. Закрепощение свободных и зависимых крестьян. 5. Борьба с крупными феодалами.                             6. Борьба крестьян против феодалов – « вольные стрелки» в королевских лесах.</dc:title>
</cp:coreProperties>
</file>