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68A-FC10-4392-B0F6-3DCC523F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9E1-7AB4-47EA-8CCC-1ACE2E72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8F6-F6E3-4545-80D8-B0D4D574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AC9-F12F-4E70-8A93-3874BFC4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D9D1-4115-4C79-AD9B-186FA0DB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6443-85CD-4266-991B-F31D0907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9C1C-CCE4-4BEE-B94A-5684C55D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C9CC-A92C-460E-86E6-7F8DABE8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6503-2115-4DDD-9461-5AAA3DA0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880A-6D7F-4398-BA0D-B82F9C8E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9363-980C-401F-AF27-546AE0F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6B4-E44A-4825-8A07-413B5B61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ECE9-3F3F-46FD-A509-565B38FC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8EC9-6483-4FAC-B106-D2F4BA99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E3FF-52F3-4107-9899-0B60FB78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7F8F-F126-450F-A1E5-2D97156B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E8F7-771D-45F5-9236-DEEDAEEC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3CF-E57A-41FA-80BA-0DBFCE7A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EB1-A59F-4068-97D6-FCC212CF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4CD-1DC3-46FE-BB82-518A60A3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217-D0F5-4277-A812-61525103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8F6-CCF7-458F-9213-9458E420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9D2-52B5-4CA5-B72B-626B4C63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C56-4875-4E57-9D62-0C91D0E8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A597-A225-4B27-88F2-938BB5AC3E1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A8B0-F0BC-4E60-9F98-4E776B71E6E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915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Англия накануне Столетней</a:t>
            </a:r>
            <a:br>
              <a:rPr sz="5400"/>
            </a:b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 войны. 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Борьба короля с крупными феодалами.</a:t>
            </a:r>
            <a:br>
              <a:rPr sz="38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1. Все феодалы – вассалы короля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2.Рост феодальных повинностей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       3.Крупные земельные владения короля. 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                          4. Закрепощение свободных и зависимых крестьян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5. Борьба с крупными феодалами.</a:t>
            </a:r>
            <a:br>
              <a:rPr sz="1900"/>
            </a:br>
            <a:r>
              <a:rPr b="0" lang="en-US" sz="1900" spc="-1" strike="noStrike">
                <a:solidFill>
                  <a:srgbClr val="006633"/>
                </a:solidFill>
                <a:latin typeface="Garamond"/>
              </a:rPr>
              <a:t>                            6. Борьба крестьян против феодалов – « вольные стрелки» в королевских лесах.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46080"/>
            <a:ext cx="4038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держка короля горожанами в это борь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3646080"/>
            <a:ext cx="4038480" cy="24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держка короля мелкими и средними феодал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908000" y="321300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7080" y="3357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Реформы Генриха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052640"/>
          <a:ext cx="8893080" cy="5589360"/>
        </p:xfrm>
        <a:graphic>
          <a:graphicData uri="http://schemas.openxmlformats.org/drawingml/2006/table">
            <a:tbl>
              <a:tblPr/>
              <a:tblGrid>
                <a:gridCol w="2665440"/>
                <a:gridCol w="2808000"/>
                <a:gridCol w="341964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ая рефор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рефор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ение власти шериф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королевского суда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уд общего права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уд 12 присяжных( для свободных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cc9900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 феодала ( для лично зависящих крестьян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о военного поход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лата королю, «щитовые деньги». На них содержались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ародное ополчение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остоянное наемное войско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местах была образована власть шерифов – королевских чиновников, которые управляли 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шериф собирал налоги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еследовал нарушение порядк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ем Иоанн Безземельный возбудил против себя всеобще недовольство в стране? 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.3 стр. 157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сновные положения Великой Хартии Вольносте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роль не мог вмешиваться в церковные выбор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ез согласия Общего Совета королевства король не мог взимать ни « щитовые деньги», ни другие нало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сновные законы могли издаваться лишь с одобрения Общего Совета королевст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и один свободный человек не мог быть заключен в тюрьму, лишен имения, изгнан из страны иначе как по законному приговору, вынесенному равными по положению судьями и «по закону страны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тверждение вольностей город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нглийский парламент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лата лор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уховенство, дворянство ( назначались монархо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лата общ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рожане, рыцари ( избиралис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08000" y="1125360"/>
            <a:ext cx="432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1125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Функции парламен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участие в создании закон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зрешение нало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онтроль за использованием налог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бщие черты в развитии Англии и Франци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ст городов и торговли как предпосылка централизации государ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держка власти короля горожанами и рыцаря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острение борьбы крестьян с феодалами, что вынудило господствующие классы укрепить центральную вла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личие представительного учреждения при корол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0:15:35Z</dcterms:created>
  <dc:creator>User</dc:creator>
  <dc:description/>
  <dc:language>en-US</dc:language>
  <cp:lastModifiedBy>User</cp:lastModifiedBy>
  <dcterms:modified xsi:type="dcterms:W3CDTF">2006-10-29T10:36:22Z</dcterms:modified>
  <cp:revision>2</cp:revision>
  <dc:subject/>
  <dc:title>Борьба короля с крупными феодалами. 1. Все феодалы – вассалы короля. 2.Рост феодальных повинностей.        3.Крупные земельные владения короля.                            4. Закрепощение свободных и зависимых крестьян. 5. Борьба с крупными феодалами.                             6. Борьба крестьян против феодалов – « вольные стрелки» в королевских лесах.</dc:title>
</cp:coreProperties>
</file>