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ED8-64F8-4BC3-849F-E12794E9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19A-6C1F-42F6-B011-2CF8B57A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657-F8C8-4E9B-8C02-DCEB440F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296-7CC5-474D-B83B-A62C27A4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766-4034-4B5C-AC5C-6F880CE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83F-F75A-4803-9FD7-B1A84ED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B1A-A478-4DFB-AF5D-EF67EBC3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31C-5E03-4163-B990-53F2372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AD5-1EBE-4CFB-BE4F-23B00C8D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630-B5D7-4EAA-8E39-20E7B9C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CE0-5F35-42FA-B637-5CDDD16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AC0-4E2A-4168-BB4C-452F6B4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7B28-F29D-4D10-9C35-81DF858D1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е народ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364284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Работу выполнила учен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3 «В» класса Алия  Али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51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8440" y="1785960"/>
            <a:ext cx="25794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928800" y="1000080"/>
            <a:ext cx="265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4880" y="1785960"/>
            <a:ext cx="3000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2643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мбр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2214360"/>
            <a:ext cx="26082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б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143240" y="1714680"/>
            <a:ext cx="2857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071440"/>
            <a:ext cx="722952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43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2643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2643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6800" y="2143080"/>
            <a:ext cx="72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схо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усли - древнейший музыкальный инструмент. Тысячелетия истории человечества скрыли от нас и возраст и место их рождения. В разных странах и у разных народов этот инструмент назывался по-разному. У славян же, название этого инструмента, как мне думается, связан со звучанием тетивы. Той самой тетивы, которая натягивалась на л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бокой древности упругая струна лука называлась иначе - "гусла". Вот Вам одна из гипотез возникновения названия инструмен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1000080"/>
            <a:ext cx="2643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дохнё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285640"/>
            <a:ext cx="2608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ери  русские народные инстру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786120" y="114300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72080" y="100008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3714840" y="264312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500280" y="3929040"/>
            <a:ext cx="1928880" cy="23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5572080" y="271476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5715000" y="4357800"/>
            <a:ext cx="1190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8800" y="3000240"/>
            <a:ext cx="7286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0080" y="2143080"/>
            <a:ext cx="7686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классификацию русских народных инструмен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1071720"/>
            <a:ext cx="7286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999800"/>
            <a:ext cx="730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специализирован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с учителем муз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лушивание старинных записей игры на музыкальных инструмен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500120" y="2928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стковые,   язычковые    и мундшт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260820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8800" y="1500120"/>
            <a:ext cx="25365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истк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2500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53656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800" y="1428840"/>
            <a:ext cx="2536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ч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29286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2714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2643120" cy="44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ндштуч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000680" y="1500120"/>
            <a:ext cx="3257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8800" y="10713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936520" y="3143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ип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5366520" y="31431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643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6800" y="2071440"/>
            <a:ext cx="2714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ип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т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786120" y="2000160"/>
            <a:ext cx="3214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12-02-10T05:27:30Z</dcterms:modified>
  <cp:revision>88</cp:revision>
  <dc:subject/>
  <dc:title>Слайд 1</dc:title>
</cp:coreProperties>
</file>