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E08-5DD0-42DD-B227-88B7B9D1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7AE6-9C26-45CE-890C-16F1C6CC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A76-983D-43D7-8699-899F3ECD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CEB-7617-44D1-B6BE-11FB03FB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03BD-66FB-4ACF-9826-C3167C46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A4E-555E-4DB0-BE7A-AE11DF9F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4C7F-2A4C-4609-AAD5-F2968519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092-7891-4447-BF9F-71DD57B6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ED41-75C0-44DA-BDBF-ACEE4FE8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3AC-5152-48A2-95B7-FF3C6683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B37-1BC1-4482-92B7-12855EDA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39FA-652C-4B17-9293-894F7A65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C6EC-192C-4C27-A65B-B8BDC603DA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999720"/>
            <a:ext cx="450072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усские народные инстр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5520" y="364284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Работу выполнила учениц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3 «В» класса Алия  Алие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28800" y="999720"/>
            <a:ext cx="26510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28440" y="1785960"/>
            <a:ext cx="257940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мычков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928800" y="1000080"/>
            <a:ext cx="2651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ру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214880" y="1785960"/>
            <a:ext cx="30002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57160" y="928800"/>
            <a:ext cx="26431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мбр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6800" y="2214360"/>
            <a:ext cx="26082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уб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143240" y="1714680"/>
            <a:ext cx="28576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9720" y="92844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звуча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14400" y="2071440"/>
            <a:ext cx="722952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дар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28800" y="999720"/>
            <a:ext cx="264312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озвучащ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8800" y="1785960"/>
            <a:ext cx="26431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дар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26431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6800" y="99972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56800" y="2143080"/>
            <a:ext cx="72867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схож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ус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усли - древнейший музыкальный инструмент. Тысячелетия истории человечества скрыли от нас и возраст и место их рождения. В разных странах и у разных народов этот инструмент назывался по-разному. У славян же, название этого инструмента, как мне думается, связан со звучанием тетивы. Той самой тетивы, которая натягивалась на лу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лубокой древности упругая струна лука называлась иначе - "гусла". Вот Вам одна из гипотез возникновения названия инструмен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1000080"/>
            <a:ext cx="264312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дохнём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285640"/>
            <a:ext cx="2608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бери  русские народные инстру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3786120" y="1143000"/>
            <a:ext cx="1714680" cy="1571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5572080" y="100008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3714840" y="2643120"/>
            <a:ext cx="178596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3500280" y="3929040"/>
            <a:ext cx="1928880" cy="235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5572080" y="2714760"/>
            <a:ext cx="1643040" cy="1571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5715000" y="4357800"/>
            <a:ext cx="1190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28800" y="3000240"/>
            <a:ext cx="72864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0" lang="ru-RU" sz="4400" spc="-1" strike="noStrike">
                <a:solidFill>
                  <a:srgbClr val="898989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00080" y="2143080"/>
            <a:ext cx="76867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классификацию русских народных инструмент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28800" y="1071720"/>
            <a:ext cx="7286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1999800"/>
            <a:ext cx="73008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ение специализированной литера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еда с учителем музы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лушивание старинных записей игры на музыкальных инструмента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28800" y="92844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ухов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1500120" y="292896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истковые,   язычковые    и мундшту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6800" y="1000080"/>
            <a:ext cx="2608200" cy="43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УХОВ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8800" y="1500120"/>
            <a:ext cx="25365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вистков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643280" y="1785960"/>
            <a:ext cx="2500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2536560" cy="43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УХОВ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28800" y="1428840"/>
            <a:ext cx="25365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зычков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000680" y="1714680"/>
            <a:ext cx="292860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6800" y="928440"/>
            <a:ext cx="27147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ухов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2643120" cy="44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ндштуч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000680" y="1500120"/>
            <a:ext cx="3257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28800" y="107136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у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2936520" y="314316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ип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5366520" y="314316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ыч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2643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у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6800" y="2071440"/>
            <a:ext cx="27147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Щипков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ют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786120" y="2000160"/>
            <a:ext cx="32148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0:47:32Z</dcterms:created>
  <dc:creator>валя</dc:creator>
  <dc:description/>
  <dc:language>en-US</dc:language>
  <cp:lastModifiedBy>User</cp:lastModifiedBy>
  <dcterms:modified xsi:type="dcterms:W3CDTF">2012-02-10T05:27:30Z</dcterms:modified>
  <cp:revision>88</cp:revision>
  <dc:subject/>
  <dc:title>Слайд 1</dc:title>
</cp:coreProperties>
</file>