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C51-F220-436A-915F-A1D502A2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65B-5C82-4D2C-BBDF-B00BBA0A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36A-0F24-411A-BD7B-B62D82FB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4BA-390A-42F3-B88F-5F9B4B9A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589-C4B9-4102-82F3-A21F1CC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0E4-CF18-4672-A37E-CF698FE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1BB-A42A-4F92-9A91-87EEB06D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053-422C-4FDE-8E44-B6539D62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72B-3F3C-4435-A6A3-7F5968B8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8D4-3239-409A-B41E-8E2026D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C0F-8677-4CF3-A0A8-09E3145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0BC-B59D-40B4-B86B-BC25363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74B7-003C-4DCC-A8C2-AEAABE9F8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2 - PIX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9" descr=""/>
          <p:cNvPicPr/>
          <p:nvPr/>
        </p:nvPicPr>
        <p:blipFill>
          <a:blip r:embed="rId2"/>
          <a:stretch/>
        </p:blipFill>
        <p:spPr>
          <a:xfrm>
            <a:off x="590400" y="1279440"/>
            <a:ext cx="81820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цо, в отношении которого ведется производство по делу об административной ответств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дья, орган, должностное лицо, которые рассматривают д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терпевш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вок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де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кспе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татья 25.1. Лицо, в отношении которого ведется производство по делу об административном правонарушен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[Кодекс РФ об административных правонарушениях] [Глава 25] [Статья 25.1]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Лицо, в отношении которого ведется производство по делу об административном правонарушении, вправе знакомиться со всеми материалами дела, давать объяснения, представлять доказательства, заявлять ходатайства и отводы, пользоваться юридической помощью защитника, а также иными процессуальными правами в соответствии с настоящим Кодекс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Дело об административном правонарушении рассматривается с участием лица, в отношении которого ведется производство по делу об административном правонарушении. В отсутствие указанного лица дело может быть рассмотрено лишь в случаях, предусмотренных частью 3 статьи 28.6 настоящего Кодекса, либо если имеются данные о надлежащем извещении лица о месте и времени рассмотрения дела и если от лица не поступило ходатайство об отложении рассмотрения дела либо если такое ходатайство оставлено без удовлетво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Судья, орган, должностное лицо, рассматривающие дело об административном правонарушении, вправе признать обязательным присутствие при рассмотрении дела лица, в отношении которого ведется производство по де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рассмотрении дела об административном правонарушении, влекущем административный арест или административное выдворение за пределы Российской Федерации иностранного гражданина либо лица без гражданства, присутствие лица, в отношении которого ведется производство по делу, является обязатель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Несовершеннолетнее лицо, в отношении которого ведется производство по делу об административном правонарушении, может быть удалено на время рассмотрения обстоятельств дела, обсуждение которых может оказать отрицательное влияние на указанное лиц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285480"/>
            <a:ext cx="8472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дминистративный процесс основан на принципа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нос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ивности (материальной истины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енства человека и гражданина перед законом и органом, разрешающим де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сности административного процесс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ственности за нарушение правил процесса и за принятый акт (решение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8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Субъекты административных право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Виды административной ответ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Участники производства по делам об административных правонару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- вид юридической ответственности, которая выражается в применении уполномоченным органом или должностным лицом административного взыскания к лицу, совершившему правонару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 устанавливается как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кон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так 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дзаконными акт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х норм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об административной ответ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Мое\Работа\почта\апрель\88ccea9a8116d42c-main.jpg"/>
          <p:cNvPicPr/>
          <p:nvPr/>
        </p:nvPicPr>
        <p:blipFill>
          <a:blip r:embed="rId2"/>
          <a:stretch/>
        </p:blipFill>
        <p:spPr>
          <a:xfrm>
            <a:off x="2023920" y="0"/>
            <a:ext cx="50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тра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ение специального пр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министративный ар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квалиф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равительны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429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озмездное изъятие орудия совершения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нфискация орудия совершения или предмета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дворение за пределы РФ иностранцев или лиц без гражданства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2514240" y="1143000"/>
            <a:ext cx="2057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572000" y="11430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е\Работа\почта\апрель\products_cat100142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8940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1768320" y="3144960"/>
            <a:ext cx="60343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13840"/>
            <a:ext cx="4000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смотря на закрытый шлагбаум, железнодорожный переезд переехал гражданин Н. Согласно КоАП РФ он может быть лишен права на управление транспортным средством от 3 до 6 месяц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360" y="214200"/>
            <a:ext cx="4500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е документы необходимы для рассмотрения дела в суд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овы стадии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то будет участником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зовите права, которые есть у обвиняемого лиц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каких принципах должно строиться судебное разбирательств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Мое\Работа\почта\апрель\7141309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отокол об административном правонарушении, который составлен на месте совершения административного правонаруш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бъяснение лица, обвиняемого в административном правонарушени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потерпевшег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видетеле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Заключение экспе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пециальных технических средст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ещественные доказательств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6760" y="35712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стадия – возбужд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стадия – рассмотр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стадия – вынесение постановления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стадия – исполнение постановления по делу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8:08Z</dcterms:created>
  <dc:creator>Воробьева</dc:creator>
  <dc:description/>
  <dc:language>en-US</dc:language>
  <cp:lastModifiedBy>Воробьева</cp:lastModifiedBy>
  <dcterms:modified xsi:type="dcterms:W3CDTF">2011-04-12T18:42:29Z</dcterms:modified>
  <cp:revision>12</cp:revision>
  <dc:subject/>
  <dc:title>Слайд 1</dc:title>
</cp:coreProperties>
</file>