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7688-7BE1-47A4-BE31-12FC3893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E668-8932-4D03-9B71-583D0DE6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C402-D36E-4C43-9018-35268A6C6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CD4E-D257-4B02-98AE-F51DFA1A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22AF-F06B-44B5-8D6A-84952F52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D429-4C05-489F-B181-DD0E74D7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57B6-E148-4985-86D8-9F74AB27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C115-59C7-43D8-9834-BC49CD20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11BB-D79D-49D2-80C9-E325C090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2A18-51CD-4519-9478-3F462A86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CC06-CA24-45C7-8CAF-55E6CEE7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F6F7-32C3-4561-8FC5-F628D743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4AC5-A649-4E5A-A9CB-5B80AE7476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2 - PIX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9" descr=""/>
          <p:cNvPicPr/>
          <p:nvPr/>
        </p:nvPicPr>
        <p:blipFill>
          <a:blip r:embed="rId2"/>
          <a:stretch/>
        </p:blipFill>
        <p:spPr>
          <a:xfrm>
            <a:off x="590400" y="1279440"/>
            <a:ext cx="818208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28760" y="214200"/>
            <a:ext cx="85010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ицо, в отношении которого ведется производство по делу об административной ответствен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удья, орган, должностное лицо, которые рассматривают дел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терпевши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двока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видете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кспер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татья 25.1. Лицо, в отношении которого ведется производство по делу об административном правонарушени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[Кодекс РФ об административных правонарушениях] [Глава 25] [Статья 25.1]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. Лицо, в отношении которого ведется производство по делу об административном правонарушении, вправе знакомиться со всеми материалами дела, давать объяснения, представлять доказательства, заявлять ходатайства и отводы, пользоваться юридической помощью защитника, а также иными процессуальными правами в соответствии с настоящим Кодексо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. Дело об административном правонарушении рассматривается с участием лица, в отношении которого ведется производство по делу об административном правонарушении. В отсутствие указанного лица дело может быть рассмотрено лишь в случаях, предусмотренных частью 3 статьи 28.6 настоящего Кодекса, либо если имеются данные о надлежащем извещении лица о месте и времени рассмотрения дела и если от лица не поступило ходатайство об отложении рассмотрения дела либо если такое ходатайство оставлено без удовлетвор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. Судья, орган, должностное лицо, рассматривающие дело об административном правонарушении, вправе признать обязательным присутствие при рассмотрении дела лица, в отношении которого ведется производство по дел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 рассмотрении дела об административном правонарушении, влекущем административный арест или административное выдворение за пределы Российской Федерации иностранного гражданина либо лица без гражданства, присутствие лица, в отношении которого ведется производство по делу, является обязательны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. Несовершеннолетнее лицо, в отношении которого ведется производство по делу об административном правонарушении, может быть удалено на время рассмотрения обстоятельств дела, обсуждение которых может оказать отрицательное влияние на указанное лиц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6840" y="285480"/>
            <a:ext cx="8472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дминистративный процесс основан на принципах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конности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бъективности (материальной истины)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венства человека и гражданина перед законом и органом, разрешающим дело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ласности административного процесса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тветственности за нарушение правил процесса и за принятый акт (решение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80"/>
                </a:solidFill>
                <a:latin typeface="Calibri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5f5f5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5f5f"/>
                </a:solidFill>
                <a:latin typeface="Calibri"/>
              </a:rPr>
              <a:t>Субъекты административных правоотнош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5f5f5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5f5f"/>
                </a:solidFill>
                <a:latin typeface="Calibri"/>
              </a:rPr>
              <a:t>Виды административной ответств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5f5f5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5f5f"/>
                </a:solidFill>
                <a:latin typeface="Calibri"/>
              </a:rPr>
              <a:t>Участники производства по делам об административных правонаруш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одержимое 5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5f5f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5f5f5f"/>
                </a:solidFill>
                <a:latin typeface="Calibri"/>
              </a:rPr>
              <a:t>- вид юридической ответственности, которая выражается в применении уполномоченным органом или должностным лицом административного взыскания к лицу, совершившему правонаруш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Административная ответственность устанавливается как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законами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, так и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дзаконными актами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х нормами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об административной ответствен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Rectangle 4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7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D:\Мое\Работа\почта\апрель\88ccea9a8116d42c-main.jpg"/>
          <p:cNvPicPr/>
          <p:nvPr/>
        </p:nvPicPr>
        <p:blipFill>
          <a:blip r:embed="rId2"/>
          <a:stretch/>
        </p:blipFill>
        <p:spPr>
          <a:xfrm>
            <a:off x="2023920" y="0"/>
            <a:ext cx="509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2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976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снов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дупреж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тра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ишение специального пра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дминистративный аре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сквалифик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правительные работ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00360" y="1600200"/>
            <a:ext cx="44290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ы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озмездное изъятие орудия совершения правонаруше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Конфискация орудия совершения или предмета правонаруше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ыдворение за пределы РФ иностранцев или лиц без гражданства Р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6"/>
          <p:cNvSpPr/>
          <p:nvPr/>
        </p:nvSpPr>
        <p:spPr>
          <a:xfrm flipH="1">
            <a:off x="2514240" y="1143000"/>
            <a:ext cx="2057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4572000" y="1143000"/>
            <a:ext cx="18288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Мое\Работа\почта\апрель\products_cat1001420.jpg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6089400"/>
          </a:xfrm>
          <a:prstGeom prst="rect">
            <a:avLst/>
          </a:prstGeom>
          <a:ln w="0">
            <a:noFill/>
          </a:ln>
        </p:spPr>
      </p:pic>
      <p:pic>
        <p:nvPicPr>
          <p:cNvPr id="55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1768320" y="3144960"/>
            <a:ext cx="6034320" cy="22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13840" y="213840"/>
            <a:ext cx="40006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есмотря на закрытый шлагбаум, железнодорожный переезд переехал гражданин Н. Согласно КоАП РФ он может быть лишен права на управление транспортным средством от 3 до 6 месяце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00360" y="214200"/>
            <a:ext cx="45003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Какие документы необходимы для рассмотрения дела в суде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Каковы стадии судебного разбирательства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Кто будет участником судебного разбирательства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азовите права, которые есть у обвиняемого лица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а каких принципах должно строиться судебное разбирательство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D:\Мое\Работа\почта\апрель\7141309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Протокол об административном правонарушении, который составлен на месте совершения административного правонарушени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Объяснение лица, обвиняемого в административном правонарушении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Показания потерпевшего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Показания свидетелей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Заключение эксперт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Показания специальных технических средств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Вещественные доказательств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56760" y="357120"/>
            <a:ext cx="85726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 стадия – возбуждение дела об административном правонарушен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 стадия – рассмотрение дела об административном правонарушен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 стадия – вынесение постановления об административном правонарушен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 стадия – исполнение постановления по делу об административном правонарушен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6:38:08Z</dcterms:created>
  <dc:creator>Воробьева</dc:creator>
  <dc:description/>
  <dc:language>en-US</dc:language>
  <cp:lastModifiedBy>Воробьева</cp:lastModifiedBy>
  <dcterms:modified xsi:type="dcterms:W3CDTF">2011-04-12T18:42:29Z</dcterms:modified>
  <cp:revision>12</cp:revision>
  <dc:subject/>
  <dc:title>Слайд 1</dc:title>
</cp:coreProperties>
</file>