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451-4DCA-4288-B6C4-8BFCE3B2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EE5-9C6E-479A-A953-8541B4DB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201-05F8-4EB8-B029-C4BA1C91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7C5-FAF3-4C5F-A01E-1B380096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4AB-8281-46EA-A98A-8631915F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7F5-ADDC-43BF-A45E-FB03C85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FA8-CDA4-4489-BAD9-C889FBC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BB0-6730-4AB7-865B-F6BFAFE5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81E-FC24-4312-BD3F-CCC1302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3F8-BD1B-4560-A694-59A8898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4A0-D83B-4D8F-AA20-F07B7FD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614-1DB0-4B6A-B420-0E43E18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E13-CA18-49DE-8E10-7C8F66233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2 - PIX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9" descr=""/>
          <p:cNvPicPr/>
          <p:nvPr/>
        </p:nvPicPr>
        <p:blipFill>
          <a:blip r:embed="rId2"/>
          <a:stretch/>
        </p:blipFill>
        <p:spPr>
          <a:xfrm>
            <a:off x="590400" y="1279440"/>
            <a:ext cx="81820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цо, в отношении которого ведется производство по делу об административной ответств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дья, орган, должностное лицо, которые рассматривают д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терпевш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двок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де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кспер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татья 25.1. Лицо, в отношении которого ведется производство по делу об административном правонарушен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[Кодекс РФ об административных правонарушениях] [Глава 25] [Статья 25.1]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Лицо, в отношении которого ведется производство по делу об административном правонарушении, вправе знакомиться со всеми материалами дела, давать объяснения, представлять доказательства, заявлять ходатайства и отводы, пользоваться юридической помощью защитника, а также иными процессуальными правами в соответствии с настоящим Кодекс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Дело об административном правонарушении рассматривается с участием лица, в отношении которого ведется производство по делу об административном правонарушении. В отсутствие указанного лица дело может быть рассмотрено лишь в случаях, предусмотренных частью 3 статьи 28.6 настоящего Кодекса, либо если имеются данные о надлежащем извещении лица о месте и времени рассмотрения дела и если от лица не поступило ходатайство об отложении рассмотрения дела либо если такое ходатайство оставлено без удовлетво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 Судья, орган, должностное лицо, рассматривающие дело об административном правонарушении, вправе признать обязательным присутствие при рассмотрении дела лица, в отношении которого ведется производство по дел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 рассмотрении дела об административном правонарушении, влекущем административный арест или административное выдворение за пределы Российской Федерации иностранного гражданина либо лица без гражданства, присутствие лица, в отношении которого ведется производство по делу, является обязатель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Несовершеннолетнее лицо, в отношении которого ведется производство по делу об административном правонарушении, может быть удалено на время рассмотрения обстоятельств дела, обсуждение которых может оказать отрицательное влияние на указанное лиц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285480"/>
            <a:ext cx="8472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дминистративный процесс основан на принципах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нос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ивности (материальной истины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енства человека и гражданина перед законом и органом, разрешающим де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сности административного процесс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ственности за нарушение правил процесса и за принятый акт (решение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80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Субъекты административных право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Виды административной ответ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5f5f5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Участники производства по делам об административных правонару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5f5f5f"/>
                </a:solidFill>
                <a:latin typeface="Calibri"/>
              </a:rPr>
              <a:t>- вид юридической ответственности, которая выражается в применении уполномоченным органом или должностным лицом административного взыскания к лицу, совершившему правонару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 устанавливается как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кон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так 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дзаконными акт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х норма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об административной ответств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Мое\Работа\почта\апрель\88ccea9a8116d42c-main.jpg"/>
          <p:cNvPicPr/>
          <p:nvPr/>
        </p:nvPicPr>
        <p:blipFill>
          <a:blip r:embed="rId2"/>
          <a:stretch/>
        </p:blipFill>
        <p:spPr>
          <a:xfrm>
            <a:off x="2023920" y="0"/>
            <a:ext cx="50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тра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шение специального пр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министративный ар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сквалиф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равительны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429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озмездное изъятие орудия совершения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нфискация орудия совершения или предмета правонару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ыдворение за пределы РФ иностранцев или лиц без гражданства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2514240" y="1143000"/>
            <a:ext cx="2057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572000" y="11430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Мое\Работа\почта\апрель\products_cat100142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8940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1768320" y="3144960"/>
            <a:ext cx="60343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3840" y="213840"/>
            <a:ext cx="4000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есмотря на закрытый шлагбаум, железнодорожный переезд переехал гражданин Н. Согласно КоАП РФ он может быть лишен права на управление транспортным средством от 3 до 6 месяце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360" y="214200"/>
            <a:ext cx="4500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ие документы необходимы для рассмотрения дела в суд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аковы стадии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то будет участником судебного разбиратель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зовите права, которые есть у обвиняемого лиц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каких принципах должно строиться судебное разбирательств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Мое\Работа\почта\апрель\7141309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ротокол об административном правонарушении, который составлен на месте совершения административного правонаруше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бъяснение лица, обвиняемого в административном правонарушени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потерпевшег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видетеле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Заключение экспе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Показания специальных технических средств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Вещественные доказательств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6760" y="35712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стадия – возбужд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стадия – рассмотрение дела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стадия – вынесение постановления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стадия – исполнение постановления по делу об административном правонаруше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8:08Z</dcterms:created>
  <dc:creator>Воробьева</dc:creator>
  <dc:description/>
  <dc:language>en-US</dc:language>
  <cp:lastModifiedBy>Воробьева</cp:lastModifiedBy>
  <dcterms:modified xsi:type="dcterms:W3CDTF">2011-04-12T18:42:29Z</dcterms:modified>
  <cp:revision>12</cp:revision>
  <dc:subject/>
  <dc:title>Слайд 1</dc:title>
</cp:coreProperties>
</file>