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9CB-5324-4CCC-94FC-FE2C0D76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F46-E7CF-4890-9368-C491D5E8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331-12C1-4468-ADFE-B4F5854B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670-265C-4271-866E-E2335FD1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D91B-1150-4A77-863A-254DCFE0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8D1C-0CF5-4539-A356-171295F8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3823-B7D7-4CC9-B310-AFC19B74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0457-B21B-494D-BA2F-6542192C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5494-52A4-419B-910A-2F725DC8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8656-29C3-457E-8D75-88C287C7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3A50-C7AC-46EE-8A4A-BD634147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EF4-B017-467E-AF4D-15CB830D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6818-3769-420E-9FF6-E714EC2D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25ED-3764-4FE8-8EC1-22FB1BA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BAC2-AD97-4D87-B05A-CADA8F90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95EC-5C6D-4B78-90FB-4346B2A4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26E2-42FF-4E3E-96AD-30FAD927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B5D-9E9C-4254-BD9F-3686732D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ADA-C1C8-425E-B775-2368D922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55A-691C-4A83-877C-58720FBC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2FC-0F38-4E18-AC80-C5FD2045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1C0-599B-4C45-97B6-330C94DF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52AA-5131-4296-83B2-0622484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3C7-C1CC-4663-AD97-BCDC307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47B9-1A0C-498C-9640-EF7126DB6F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C24B-E2E1-4EC9-BD42-C105158EF8A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1357200"/>
            <a:ext cx="678168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Скрещивающиеся прямые.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920" y="3049560"/>
            <a:ext cx="712944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глы с сонаправленными сторонами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гол между прямыми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№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79640" y="2017800"/>
            <a:ext cx="5175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A,C,D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аксиоме А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ак к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определению скрещивающихся прям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признаку скр.прям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1"/>
          <a:stretch/>
        </p:blipFill>
        <p:spPr>
          <a:xfrm>
            <a:off x="0" y="2373480"/>
            <a:ext cx="3780000" cy="2896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Object 18"/>
              <p:cNvSpPr txBox="1"/>
              <p:nvPr/>
            </p:nvSpPr>
            <p:spPr>
              <a:xfrm>
                <a:off x="4572000" y="5373720"/>
                <a:ext cx="3809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;</m:t>
                    </m:r>
                    <m:r>
                      <m:t xml:space="preserve">C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9" name="Группа 7"/>
          <p:cNvGrpSpPr/>
          <p:nvPr/>
        </p:nvGrpSpPr>
        <p:grpSpPr>
          <a:xfrm>
            <a:off x="5148000" y="1928880"/>
            <a:ext cx="1656360" cy="520560"/>
            <a:chOff x="5148000" y="1928880"/>
            <a:chExt cx="1656360" cy="520560"/>
          </a:xfrm>
        </p:grpSpPr>
        <p:grpSp>
          <p:nvGrpSpPr>
            <p:cNvPr id="210" name="Группа 16"/>
            <p:cNvGrpSpPr/>
            <p:nvPr/>
          </p:nvGrpSpPr>
          <p:grpSpPr>
            <a:xfrm>
              <a:off x="5786640" y="2071800"/>
              <a:ext cx="360000" cy="144720"/>
              <a:chOff x="5786640" y="2071800"/>
              <a:chExt cx="360000" cy="144720"/>
            </a:xfrm>
          </p:grpSpPr>
          <p:sp>
            <p:nvSpPr>
              <p:cNvPr id="211" name="Прямая соединительная линия 11"/>
              <p:cNvSpPr/>
              <p:nvPr/>
            </p:nvSpPr>
            <p:spPr>
              <a:xfrm>
                <a:off x="5786640" y="221508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Овал 12"/>
              <p:cNvSpPr/>
              <p:nvPr/>
            </p:nvSpPr>
            <p:spPr>
              <a:xfrm>
                <a:off x="5929200" y="207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3" name="TextBox 9"/>
            <p:cNvSpPr/>
            <p:nvPr/>
          </p:nvSpPr>
          <p:spPr>
            <a:xfrm>
              <a:off x="5148000" y="192888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6219720" y="192888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Группа 13"/>
          <p:cNvGrpSpPr/>
          <p:nvPr/>
        </p:nvGrpSpPr>
        <p:grpSpPr>
          <a:xfrm>
            <a:off x="5590440" y="2428920"/>
            <a:ext cx="1676880" cy="520560"/>
            <a:chOff x="5590440" y="2428920"/>
            <a:chExt cx="1676880" cy="520560"/>
          </a:xfrm>
        </p:grpSpPr>
        <p:grpSp>
          <p:nvGrpSpPr>
            <p:cNvPr id="216" name="Группа 16"/>
            <p:cNvGrpSpPr/>
            <p:nvPr/>
          </p:nvGrpSpPr>
          <p:grpSpPr>
            <a:xfrm>
              <a:off x="6243120" y="2571840"/>
              <a:ext cx="375840" cy="144720"/>
              <a:chOff x="6243120" y="2571840"/>
              <a:chExt cx="375840" cy="144720"/>
            </a:xfrm>
          </p:grpSpPr>
          <p:sp>
            <p:nvSpPr>
              <p:cNvPr id="217" name="Прямая соединительная линия 17"/>
              <p:cNvSpPr/>
              <p:nvPr/>
            </p:nvSpPr>
            <p:spPr>
              <a:xfrm>
                <a:off x="6243120" y="2715120"/>
                <a:ext cx="37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Овал 18"/>
              <p:cNvSpPr/>
              <p:nvPr/>
            </p:nvSpPr>
            <p:spPr>
              <a:xfrm>
                <a:off x="6392160" y="2571840"/>
                <a:ext cx="3780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9" name="TextBox 15"/>
            <p:cNvSpPr/>
            <p:nvPr/>
          </p:nvSpPr>
          <p:spPr>
            <a:xfrm>
              <a:off x="5590440" y="24289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16"/>
            <p:cNvSpPr/>
            <p:nvPr/>
          </p:nvSpPr>
          <p:spPr>
            <a:xfrm>
              <a:off x="6707160" y="2428920"/>
              <a:ext cx="56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Группа 19"/>
          <p:cNvGrpSpPr/>
          <p:nvPr/>
        </p:nvGrpSpPr>
        <p:grpSpPr>
          <a:xfrm>
            <a:off x="6362280" y="4143240"/>
            <a:ext cx="1656360" cy="520560"/>
            <a:chOff x="6362280" y="4143240"/>
            <a:chExt cx="1656360" cy="520560"/>
          </a:xfrm>
        </p:grpSpPr>
        <p:grpSp>
          <p:nvGrpSpPr>
            <p:cNvPr id="222" name="Группа 16"/>
            <p:cNvGrpSpPr/>
            <p:nvPr/>
          </p:nvGrpSpPr>
          <p:grpSpPr>
            <a:xfrm>
              <a:off x="7000920" y="4286160"/>
              <a:ext cx="360000" cy="144720"/>
              <a:chOff x="7000920" y="4286160"/>
              <a:chExt cx="360000" cy="144720"/>
            </a:xfrm>
          </p:grpSpPr>
          <p:sp>
            <p:nvSpPr>
              <p:cNvPr id="223" name="Прямая соединительная линия 23"/>
              <p:cNvSpPr/>
              <p:nvPr/>
            </p:nvSpPr>
            <p:spPr>
              <a:xfrm>
                <a:off x="7000920" y="4429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Овал 24"/>
              <p:cNvSpPr/>
              <p:nvPr/>
            </p:nvSpPr>
            <p:spPr>
              <a:xfrm>
                <a:off x="7143480" y="4286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5" name="TextBox 21"/>
            <p:cNvSpPr/>
            <p:nvPr/>
          </p:nvSpPr>
          <p:spPr>
            <a:xfrm>
              <a:off x="6362280" y="414324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Box 22"/>
            <p:cNvSpPr/>
            <p:nvPr/>
          </p:nvSpPr>
          <p:spPr>
            <a:xfrm>
              <a:off x="7434000" y="414324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Группа 25"/>
          <p:cNvGrpSpPr/>
          <p:nvPr/>
        </p:nvGrpSpPr>
        <p:grpSpPr>
          <a:xfrm>
            <a:off x="4661640" y="5786280"/>
            <a:ext cx="1676880" cy="520560"/>
            <a:chOff x="4661640" y="5786280"/>
            <a:chExt cx="1676880" cy="520560"/>
          </a:xfrm>
        </p:grpSpPr>
        <p:grpSp>
          <p:nvGrpSpPr>
            <p:cNvPr id="228" name="Группа 16"/>
            <p:cNvGrpSpPr/>
            <p:nvPr/>
          </p:nvGrpSpPr>
          <p:grpSpPr>
            <a:xfrm>
              <a:off x="5314320" y="5929200"/>
              <a:ext cx="375840" cy="144720"/>
              <a:chOff x="5314320" y="5929200"/>
              <a:chExt cx="375840" cy="144720"/>
            </a:xfrm>
          </p:grpSpPr>
          <p:sp>
            <p:nvSpPr>
              <p:cNvPr id="229" name="Прямая соединительная линия 29"/>
              <p:cNvSpPr/>
              <p:nvPr/>
            </p:nvSpPr>
            <p:spPr>
              <a:xfrm>
                <a:off x="5314320" y="6072480"/>
                <a:ext cx="37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Овал 30"/>
              <p:cNvSpPr/>
              <p:nvPr/>
            </p:nvSpPr>
            <p:spPr>
              <a:xfrm>
                <a:off x="5463360" y="5929200"/>
                <a:ext cx="3780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" name="TextBox 27"/>
            <p:cNvSpPr/>
            <p:nvPr/>
          </p:nvSpPr>
          <p:spPr>
            <a:xfrm>
              <a:off x="4661640" y="578628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TextBox 28"/>
            <p:cNvSpPr/>
            <p:nvPr/>
          </p:nvSpPr>
          <p:spPr>
            <a:xfrm>
              <a:off x="5778360" y="5786280"/>
              <a:ext cx="56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4033800" cy="424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направленные лу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80000" y="1844280"/>
            <a:ext cx="504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ва луча ОА и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не лежащие на одной прямой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зываются сонаправленными, если они параллельны и лежат в одной плоскости с границей О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ва луча ОА и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лежащие на одной прямой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зываются сонаправленными, если они совпадают или один из них содержит другой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орема об углах с сонаправленными сторон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381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тороны двух углов соответственно сонаправлены, то такие углы рав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64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гол между скрещивающимися прямы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06436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гол между прямыми – это градусная мера, а не геометрическая фигур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гол между скрещивающимися прямыми АВ и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определяется как угол между пересекающимися прямыми 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В и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от выбора точки М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или М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еличина угла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  <a:ea typeface="Tahoma"/>
              </a:rPr>
              <a:t>φ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не зависит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8137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ы по чертеж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67280" y="1916280"/>
            <a:ext cx="475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йдите угол между прямы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 и СС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С и В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В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А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274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№ 4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4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ОВ=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ОВ=13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ОВ=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  <a:ea typeface="Tahoma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гол между ОА 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816360" cy="4032360"/>
          </a:xfrm>
          <a:prstGeom prst="rect">
            <a:avLst/>
          </a:prstGeom>
          <a:ln w="0">
            <a:noFill/>
          </a:ln>
        </p:spPr>
      </p:pic>
      <p:grpSp>
        <p:nvGrpSpPr>
          <p:cNvPr id="248" name="Группа 6"/>
          <p:cNvGrpSpPr/>
          <p:nvPr/>
        </p:nvGrpSpPr>
        <p:grpSpPr>
          <a:xfrm>
            <a:off x="6291360" y="2214720"/>
            <a:ext cx="1772640" cy="642600"/>
            <a:chOff x="6291360" y="2214720"/>
            <a:chExt cx="1772640" cy="642600"/>
          </a:xfrm>
        </p:grpSpPr>
        <p:grpSp>
          <p:nvGrpSpPr>
            <p:cNvPr id="249" name="Группа 16"/>
            <p:cNvGrpSpPr/>
            <p:nvPr/>
          </p:nvGrpSpPr>
          <p:grpSpPr>
            <a:xfrm>
              <a:off x="6929640" y="2372400"/>
              <a:ext cx="360000" cy="159480"/>
              <a:chOff x="6929640" y="2372400"/>
              <a:chExt cx="360000" cy="159480"/>
            </a:xfrm>
          </p:grpSpPr>
          <p:sp>
            <p:nvSpPr>
              <p:cNvPr id="250" name="Прямая соединительная линия 10"/>
              <p:cNvSpPr/>
              <p:nvPr/>
            </p:nvSpPr>
            <p:spPr>
              <a:xfrm>
                <a:off x="6929640" y="2530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Овал 11"/>
              <p:cNvSpPr/>
              <p:nvPr/>
            </p:nvSpPr>
            <p:spPr>
              <a:xfrm>
                <a:off x="7072200" y="2372400"/>
                <a:ext cx="36360" cy="392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" name="TextBox 8"/>
            <p:cNvSpPr/>
            <p:nvPr/>
          </p:nvSpPr>
          <p:spPr>
            <a:xfrm>
              <a:off x="6291360" y="2214720"/>
              <a:ext cx="69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Box 9"/>
            <p:cNvSpPr/>
            <p:nvPr/>
          </p:nvSpPr>
          <p:spPr>
            <a:xfrm>
              <a:off x="7362000" y="221472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.7-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9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положение 2-х прямых на плоск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6868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секаются             параллель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3"/>
              <p:cNvSpPr txBox="1"/>
              <p:nvPr/>
            </p:nvSpPr>
            <p:spPr>
              <a:xfrm>
                <a:off x="1042920" y="5229360"/>
                <a:ext cx="1360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Line 24"/>
          <p:cNvSpPr/>
          <p:nvPr/>
        </p:nvSpPr>
        <p:spPr>
          <a:xfrm>
            <a:off x="900000" y="2422440"/>
            <a:ext cx="172908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25"/>
          <p:cNvSpPr/>
          <p:nvPr/>
        </p:nvSpPr>
        <p:spPr>
          <a:xfrm flipH="1">
            <a:off x="1116000" y="2349360"/>
            <a:ext cx="9367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26"/>
          <p:cNvSpPr/>
          <p:nvPr/>
        </p:nvSpPr>
        <p:spPr>
          <a:xfrm>
            <a:off x="4140360" y="2494080"/>
            <a:ext cx="187308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27"/>
          <p:cNvSpPr/>
          <p:nvPr/>
        </p:nvSpPr>
        <p:spPr>
          <a:xfrm>
            <a:off x="3708360" y="3286080"/>
            <a:ext cx="187344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68616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1979640" y="234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4140360" y="222552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616200" y="32860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ы по чертеж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95280" y="2060640"/>
            <a:ext cx="49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ляются ли параллельными прямые А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и почем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во взаимное расположение прямы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745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крещивающиеся прямы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крещивающиес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3300"/>
                </a:solidFill>
                <a:uFillTx/>
                <a:latin typeface="Tahoma"/>
              </a:rPr>
              <a:t>Определение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Две прямые называются скрещивающимися, если они не лежат в одной плоскости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(т.е. не существует плоскости, содержащей эти прямые)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712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2124000" y="227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1692360" y="2852640"/>
            <a:ext cx="3097080" cy="1297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0"/>
              <p:cNvSpPr txBox="1"/>
              <p:nvPr/>
            </p:nvSpPr>
            <p:spPr>
              <a:xfrm>
                <a:off x="1835280" y="3860640"/>
                <a:ext cx="341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Line 32"/>
          <p:cNvSpPr/>
          <p:nvPr/>
        </p:nvSpPr>
        <p:spPr>
          <a:xfrm flipV="1">
            <a:off x="2268360" y="2997000"/>
            <a:ext cx="23050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12616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4141800" y="31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Группа 24"/>
          <p:cNvGrpSpPr/>
          <p:nvPr/>
        </p:nvGrpSpPr>
        <p:grpSpPr>
          <a:xfrm>
            <a:off x="645480" y="4143240"/>
            <a:ext cx="1194840" cy="459720"/>
            <a:chOff x="645480" y="4143240"/>
            <a:chExt cx="1194840" cy="459720"/>
          </a:xfrm>
        </p:grpSpPr>
        <p:grpSp>
          <p:nvGrpSpPr>
            <p:cNvPr id="125" name="Группа 16"/>
            <p:cNvGrpSpPr/>
            <p:nvPr/>
          </p:nvGrpSpPr>
          <p:grpSpPr>
            <a:xfrm>
              <a:off x="1071360" y="4286160"/>
              <a:ext cx="359640" cy="144720"/>
              <a:chOff x="1071360" y="4286160"/>
              <a:chExt cx="359640" cy="144720"/>
            </a:xfrm>
          </p:grpSpPr>
          <p:sp>
            <p:nvSpPr>
              <p:cNvPr id="126" name="Прямая соединительная линия 13"/>
              <p:cNvSpPr/>
              <p:nvPr/>
            </p:nvSpPr>
            <p:spPr>
              <a:xfrm>
                <a:off x="1071360" y="4429440"/>
                <a:ext cx="359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Овал 15"/>
              <p:cNvSpPr/>
              <p:nvPr/>
            </p:nvSpPr>
            <p:spPr>
              <a:xfrm>
                <a:off x="1213920" y="4286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" name="TextBox 17"/>
            <p:cNvSpPr/>
            <p:nvPr/>
          </p:nvSpPr>
          <p:spPr>
            <a:xfrm>
              <a:off x="645480" y="41432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Box 18"/>
            <p:cNvSpPr/>
            <p:nvPr/>
          </p:nvSpPr>
          <p:spPr>
            <a:xfrm>
              <a:off x="1502640" y="41432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знак скрещивающихся прям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03236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Если одна из двух прямых лежит в некоторой плоскости, а другая прямая пересекает эту плоскость в точке, не лежащей на первой прямой, эти прямые скрещивающиеся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36840" y="2017800"/>
            <a:ext cx="3817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оказать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4500720" y="2509920"/>
                <a:ext cx="43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⊂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Freeform 13"/>
          <p:cNvSpPr/>
          <p:nvPr/>
        </p:nvSpPr>
        <p:spPr>
          <a:xfrm>
            <a:off x="4067280" y="4365720"/>
            <a:ext cx="4752720" cy="215892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6516720" y="4581360"/>
            <a:ext cx="165564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6"/>
              <p:cNvSpPr txBox="1"/>
              <p:nvPr/>
            </p:nvSpPr>
            <p:spPr>
              <a:xfrm>
                <a:off x="4356000" y="6165720"/>
                <a:ext cx="360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Oval 18"/>
          <p:cNvSpPr/>
          <p:nvPr/>
        </p:nvSpPr>
        <p:spPr>
          <a:xfrm>
            <a:off x="6877080" y="5877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22"/>
          <p:cNvSpPr/>
          <p:nvPr/>
        </p:nvSpPr>
        <p:spPr>
          <a:xfrm>
            <a:off x="7740720" y="49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948360" y="58770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4"/>
          <p:cNvSpPr/>
          <p:nvPr/>
        </p:nvSpPr>
        <p:spPr>
          <a:xfrm flipH="1">
            <a:off x="7811280" y="501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6084720" y="364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Oval 26"/>
          <p:cNvSpPr/>
          <p:nvPr/>
        </p:nvSpPr>
        <p:spPr>
          <a:xfrm>
            <a:off x="6012000" y="5157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27"/>
          <p:cNvSpPr/>
          <p:nvPr/>
        </p:nvSpPr>
        <p:spPr>
          <a:xfrm>
            <a:off x="6012000" y="4076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6084720" y="522936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084720" y="386064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6156360" y="501336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Группа 20"/>
          <p:cNvGrpSpPr/>
          <p:nvPr/>
        </p:nvGrpSpPr>
        <p:grpSpPr>
          <a:xfrm>
            <a:off x="6719400" y="3000240"/>
            <a:ext cx="1656360" cy="520560"/>
            <a:chOff x="6719400" y="3000240"/>
            <a:chExt cx="1656360" cy="520560"/>
          </a:xfrm>
        </p:grpSpPr>
        <p:grpSp>
          <p:nvGrpSpPr>
            <p:cNvPr id="148" name="Группа 16"/>
            <p:cNvGrpSpPr/>
            <p:nvPr/>
          </p:nvGrpSpPr>
          <p:grpSpPr>
            <a:xfrm>
              <a:off x="7358040" y="3143160"/>
              <a:ext cx="360000" cy="144720"/>
              <a:chOff x="7358040" y="3143160"/>
              <a:chExt cx="360000" cy="144720"/>
            </a:xfrm>
          </p:grpSpPr>
          <p:sp>
            <p:nvSpPr>
              <p:cNvPr id="149" name="Прямая соединительная линия 24"/>
              <p:cNvSpPr/>
              <p:nvPr/>
            </p:nvSpPr>
            <p:spPr>
              <a:xfrm>
                <a:off x="7358040" y="3286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Овал 25"/>
              <p:cNvSpPr/>
              <p:nvPr/>
            </p:nvSpPr>
            <p:spPr>
              <a:xfrm>
                <a:off x="7500600" y="3143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Box 22"/>
            <p:cNvSpPr/>
            <p:nvPr/>
          </p:nvSpPr>
          <p:spPr>
            <a:xfrm>
              <a:off x="6719400" y="300024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Box 23"/>
            <p:cNvSpPr/>
            <p:nvPr/>
          </p:nvSpPr>
          <p:spPr>
            <a:xfrm>
              <a:off x="7791120" y="300024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знак скрещивающихся прям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4427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Доказательство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АВ лежат в одной плоскости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 Тог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лоскости совпадают, но по условию пряма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пересекает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ледовательно, плоскости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не существует и прямы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скрещиваю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136840" y="2017800"/>
            <a:ext cx="3817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оказать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4500720" y="2509920"/>
                <a:ext cx="43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⊂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Freeform 6"/>
          <p:cNvSpPr/>
          <p:nvPr/>
        </p:nvSpPr>
        <p:spPr>
          <a:xfrm>
            <a:off x="4067280" y="4365720"/>
            <a:ext cx="4752720" cy="215892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 flipV="1">
            <a:off x="6516720" y="4581360"/>
            <a:ext cx="165564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4356000" y="6165720"/>
                <a:ext cx="360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Oval 9"/>
          <p:cNvSpPr/>
          <p:nvPr/>
        </p:nvSpPr>
        <p:spPr>
          <a:xfrm>
            <a:off x="6877080" y="5877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7740720" y="49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948360" y="58770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 flipH="1">
            <a:off x="8169120" y="5157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6084720" y="364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6012000" y="5157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Oval 15"/>
          <p:cNvSpPr/>
          <p:nvPr/>
        </p:nvSpPr>
        <p:spPr>
          <a:xfrm>
            <a:off x="6012000" y="4076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6084720" y="522936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7812000" y="494172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6084720" y="386064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156360" y="501336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0"/>
              <p:cNvSpPr txBox="1"/>
              <p:nvPr/>
            </p:nvSpPr>
            <p:spPr>
              <a:xfrm>
                <a:off x="468360" y="3357720"/>
                <a:ext cx="3382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β</m:t>
                        </m:r>
                      </m:e>
                      <m:e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</m:e>
                      <m:e/>
                    </m:eqArr>
                    <m:r>
                      <m:t xml:space="preserve">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≡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Группа 22"/>
          <p:cNvGrpSpPr/>
          <p:nvPr/>
        </p:nvGrpSpPr>
        <p:grpSpPr>
          <a:xfrm>
            <a:off x="6791040" y="3000240"/>
            <a:ext cx="1585080" cy="520560"/>
            <a:chOff x="6791040" y="3000240"/>
            <a:chExt cx="1585080" cy="520560"/>
          </a:xfrm>
        </p:grpSpPr>
        <p:grpSp>
          <p:nvGrpSpPr>
            <p:cNvPr id="173" name="Группа 16"/>
            <p:cNvGrpSpPr/>
            <p:nvPr/>
          </p:nvGrpSpPr>
          <p:grpSpPr>
            <a:xfrm>
              <a:off x="7358400" y="3143160"/>
              <a:ext cx="360000" cy="144720"/>
              <a:chOff x="7358400" y="3143160"/>
              <a:chExt cx="360000" cy="144720"/>
            </a:xfrm>
          </p:grpSpPr>
          <p:sp>
            <p:nvSpPr>
              <p:cNvPr id="174" name="Прямая соединительная линия 26"/>
              <p:cNvSpPr/>
              <p:nvPr/>
            </p:nvSpPr>
            <p:spPr>
              <a:xfrm>
                <a:off x="7358400" y="3286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Овал 27"/>
              <p:cNvSpPr/>
              <p:nvPr/>
            </p:nvSpPr>
            <p:spPr>
              <a:xfrm>
                <a:off x="7500960" y="3143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6" name="TextBox 24"/>
            <p:cNvSpPr/>
            <p:nvPr/>
          </p:nvSpPr>
          <p:spPr>
            <a:xfrm>
              <a:off x="6791040" y="300024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Box 25"/>
            <p:cNvSpPr/>
            <p:nvPr/>
          </p:nvSpPr>
          <p:spPr>
            <a:xfrm>
              <a:off x="7791480" y="300024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ы по чертеж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95280" y="2060640"/>
            <a:ext cx="49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аково взаимное располож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ы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й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и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й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745080" cy="364968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 flipH="1">
            <a:off x="899640" y="3068640"/>
            <a:ext cx="647640" cy="2665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орема о плоскостях, проходящих через скрещивающиеся прямы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3888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Через каждую  из двух скрещивающихся  прямых проходит плоскость, параллельная другой плоскости, и притом только одна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140360" y="2017800"/>
            <a:ext cx="4814640" cy="19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  <a:ea typeface="Arial"/>
              </a:rPr>
              <a:t>Построи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║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оказать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динствен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5"/>
              <p:cNvSpPr txBox="1"/>
              <p:nvPr/>
            </p:nvSpPr>
            <p:spPr>
              <a:xfrm>
                <a:off x="4211640" y="3068640"/>
                <a:ext cx="18003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⊂</m:t>
                    </m:r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Freeform 26"/>
          <p:cNvSpPr/>
          <p:nvPr/>
        </p:nvSpPr>
        <p:spPr>
          <a:xfrm>
            <a:off x="4859280" y="4149720"/>
            <a:ext cx="1657440" cy="25210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5003640" y="4941360"/>
            <a:ext cx="1297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7308720" y="414972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4835520" y="6251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7305840" y="4437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5932800" y="5013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7308720" y="57340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5123160" y="5168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5651640" y="472428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" name="Группа 17"/>
          <p:cNvGrpSpPr/>
          <p:nvPr/>
        </p:nvGrpSpPr>
        <p:grpSpPr>
          <a:xfrm>
            <a:off x="5290560" y="2000160"/>
            <a:ext cx="1656360" cy="520560"/>
            <a:chOff x="5290560" y="2000160"/>
            <a:chExt cx="1656360" cy="520560"/>
          </a:xfrm>
        </p:grpSpPr>
        <p:grpSp>
          <p:nvGrpSpPr>
            <p:cNvPr id="197" name="Группа 16"/>
            <p:cNvGrpSpPr/>
            <p:nvPr/>
          </p:nvGrpSpPr>
          <p:grpSpPr>
            <a:xfrm>
              <a:off x="5929200" y="2143080"/>
              <a:ext cx="360000" cy="144720"/>
              <a:chOff x="5929200" y="2143080"/>
              <a:chExt cx="360000" cy="144720"/>
            </a:xfrm>
          </p:grpSpPr>
          <p:sp>
            <p:nvSpPr>
              <p:cNvPr id="198" name="Прямая соединительная линия 21"/>
              <p:cNvSpPr/>
              <p:nvPr/>
            </p:nvSpPr>
            <p:spPr>
              <a:xfrm>
                <a:off x="5929200" y="228636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Овал 22"/>
              <p:cNvSpPr/>
              <p:nvPr/>
            </p:nvSpPr>
            <p:spPr>
              <a:xfrm>
                <a:off x="6071760" y="2143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0" name="TextBox 19"/>
            <p:cNvSpPr/>
            <p:nvPr/>
          </p:nvSpPr>
          <p:spPr>
            <a:xfrm>
              <a:off x="5290560" y="200016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Box 20"/>
            <p:cNvSpPr/>
            <p:nvPr/>
          </p:nvSpPr>
          <p:spPr>
            <a:xfrm>
              <a:off x="6362280" y="200016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№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(АВС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=NB, DP=PC, 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ahoma"/>
              </a:rPr>
              <a:t>Определить взаимное расположение прям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D ?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K ?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N ?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 ? 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 ? 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 MD ?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25" descr=""/>
          <p:cNvPicPr/>
          <p:nvPr/>
        </p:nvPicPr>
        <p:blipFill>
          <a:blip r:embed="rId1"/>
          <a:stretch/>
        </p:blipFill>
        <p:spPr>
          <a:xfrm>
            <a:off x="0" y="2039760"/>
            <a:ext cx="4140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4:08:29Z</dcterms:created>
  <dc:creator>Коблова</dc:creator>
  <dc:description/>
  <dc:language>en-US</dc:language>
  <cp:lastModifiedBy>Коблова</cp:lastModifiedBy>
  <dcterms:modified xsi:type="dcterms:W3CDTF">2011-12-26T05:19:27Z</dcterms:modified>
  <cp:revision>23</cp:revision>
  <dc:subject/>
  <dc:title>Параллельность прямых,  прямой и плоскости</dc:title>
</cp:coreProperties>
</file>