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962B-0BA9-4900-BD7F-2D663E56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8892-475D-40A3-B23F-C4A084EA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A7D3-F1C8-4BCF-AA54-4E3405B4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B8F2-7C9B-4EA9-935C-5AB21B16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19BF-7B38-4313-8445-573B977D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7E47-FF96-444E-AE21-89ACC59E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BAA6-32E0-4DB4-9387-50FF625D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24C0-19DD-42DB-926E-5CC468A3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72EC-0CE9-4C9D-9F64-09864E82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EEC8-5414-406E-A73B-B884A903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7C80-C963-4E7E-8A29-2D91C487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28B0-C084-42A0-A2A9-379F5F32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584C-9C64-4FA9-A707-F48EFBD4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6930-47B7-4973-86CB-FCB55DC5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CEE8-0FE6-430E-AE0E-BF5DA967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0160-7509-4328-BC55-1213F908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C09C-B0D4-47B3-B1F1-CB949E33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EB42-98AF-40F3-B2FE-4CB155C2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9387-4157-464F-BA5B-F312F0B1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EBB5-96B3-4EB5-9320-EDC8F65A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390D-530E-4D81-A724-838C1A5A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05E9-BEBB-458E-85A0-0A11E6BB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4D1E-5B20-4592-84E3-DB7F8AF3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DCA1-9C48-4EBD-99E8-B2A1D081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4279-42AC-48C3-90CE-B7CA2DB31C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A3E6-660E-41FE-8930-BC3AA9E2D1B1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6080" y="1357200"/>
            <a:ext cx="6781680" cy="25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ahoma"/>
              </a:rPr>
              <a:t>Скрещивающиеся прямые.</a:t>
            </a:r>
            <a:br>
              <a:rPr sz="4800"/>
            </a:b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50920" y="3049560"/>
            <a:ext cx="7129440" cy="31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глы с сонаправленными сторонами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гол между прямыми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а №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779640" y="2017800"/>
            <a:ext cx="51750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Доказать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{A,C,D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 аксиоме А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) 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¢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так ка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 определению скрещивающихся прямы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 признаку скр.прямы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17" descr=""/>
          <p:cNvPicPr/>
          <p:nvPr/>
        </p:nvPicPr>
        <p:blipFill>
          <a:blip r:embed="rId1"/>
          <a:stretch/>
        </p:blipFill>
        <p:spPr>
          <a:xfrm>
            <a:off x="0" y="2373480"/>
            <a:ext cx="3780000" cy="2896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8" name="Object 18"/>
              <p:cNvSpPr txBox="1"/>
              <p:nvPr/>
            </p:nvSpPr>
            <p:spPr>
              <a:xfrm>
                <a:off x="4572000" y="5373720"/>
                <a:ext cx="38098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∩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;</m:t>
                    </m:r>
                    <m:r>
                      <m:t xml:space="preserve">C</m:t>
                    </m:r>
                    <m:r>
                      <m:t xml:space="preserve">∉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9" name="Группа 7"/>
          <p:cNvGrpSpPr/>
          <p:nvPr/>
        </p:nvGrpSpPr>
        <p:grpSpPr>
          <a:xfrm>
            <a:off x="5148000" y="1928880"/>
            <a:ext cx="1656360" cy="520560"/>
            <a:chOff x="5148000" y="1928880"/>
            <a:chExt cx="1656360" cy="520560"/>
          </a:xfrm>
        </p:grpSpPr>
        <p:grpSp>
          <p:nvGrpSpPr>
            <p:cNvPr id="210" name="Группа 16"/>
            <p:cNvGrpSpPr/>
            <p:nvPr/>
          </p:nvGrpSpPr>
          <p:grpSpPr>
            <a:xfrm>
              <a:off x="5786640" y="2071800"/>
              <a:ext cx="360000" cy="144720"/>
              <a:chOff x="5786640" y="2071800"/>
              <a:chExt cx="360000" cy="144720"/>
            </a:xfrm>
          </p:grpSpPr>
          <p:sp>
            <p:nvSpPr>
              <p:cNvPr id="211" name="Прямая соединительная линия 11"/>
              <p:cNvSpPr/>
              <p:nvPr/>
            </p:nvSpPr>
            <p:spPr>
              <a:xfrm>
                <a:off x="5786640" y="2215080"/>
                <a:ext cx="360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Овал 12"/>
              <p:cNvSpPr/>
              <p:nvPr/>
            </p:nvSpPr>
            <p:spPr>
              <a:xfrm>
                <a:off x="5929200" y="20718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3" name="TextBox 9"/>
            <p:cNvSpPr/>
            <p:nvPr/>
          </p:nvSpPr>
          <p:spPr>
            <a:xfrm>
              <a:off x="5148000" y="1928880"/>
              <a:ext cx="5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TextBox 10"/>
            <p:cNvSpPr/>
            <p:nvPr/>
          </p:nvSpPr>
          <p:spPr>
            <a:xfrm>
              <a:off x="6219720" y="1928880"/>
              <a:ext cx="58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C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" name="Группа 13"/>
          <p:cNvGrpSpPr/>
          <p:nvPr/>
        </p:nvGrpSpPr>
        <p:grpSpPr>
          <a:xfrm>
            <a:off x="5590440" y="2428920"/>
            <a:ext cx="1676880" cy="520560"/>
            <a:chOff x="5590440" y="2428920"/>
            <a:chExt cx="1676880" cy="520560"/>
          </a:xfrm>
        </p:grpSpPr>
        <p:grpSp>
          <p:nvGrpSpPr>
            <p:cNvPr id="216" name="Группа 16"/>
            <p:cNvGrpSpPr/>
            <p:nvPr/>
          </p:nvGrpSpPr>
          <p:grpSpPr>
            <a:xfrm>
              <a:off x="6243120" y="2571840"/>
              <a:ext cx="375840" cy="144720"/>
              <a:chOff x="6243120" y="2571840"/>
              <a:chExt cx="375840" cy="144720"/>
            </a:xfrm>
          </p:grpSpPr>
          <p:sp>
            <p:nvSpPr>
              <p:cNvPr id="217" name="Прямая соединительная линия 17"/>
              <p:cNvSpPr/>
              <p:nvPr/>
            </p:nvSpPr>
            <p:spPr>
              <a:xfrm>
                <a:off x="6243120" y="2715120"/>
                <a:ext cx="3758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Овал 18"/>
              <p:cNvSpPr/>
              <p:nvPr/>
            </p:nvSpPr>
            <p:spPr>
              <a:xfrm>
                <a:off x="6392160" y="2571840"/>
                <a:ext cx="37800" cy="36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9" name="TextBox 15"/>
            <p:cNvSpPr/>
            <p:nvPr/>
          </p:nvSpPr>
          <p:spPr>
            <a:xfrm>
              <a:off x="5590440" y="242892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A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TextBox 16"/>
            <p:cNvSpPr/>
            <p:nvPr/>
          </p:nvSpPr>
          <p:spPr>
            <a:xfrm>
              <a:off x="6707160" y="2428920"/>
              <a:ext cx="56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B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1" name="Группа 19"/>
          <p:cNvGrpSpPr/>
          <p:nvPr/>
        </p:nvGrpSpPr>
        <p:grpSpPr>
          <a:xfrm>
            <a:off x="6362280" y="4143240"/>
            <a:ext cx="1656360" cy="520560"/>
            <a:chOff x="6362280" y="4143240"/>
            <a:chExt cx="1656360" cy="520560"/>
          </a:xfrm>
        </p:grpSpPr>
        <p:grpSp>
          <p:nvGrpSpPr>
            <p:cNvPr id="222" name="Группа 16"/>
            <p:cNvGrpSpPr/>
            <p:nvPr/>
          </p:nvGrpSpPr>
          <p:grpSpPr>
            <a:xfrm>
              <a:off x="7000920" y="4286160"/>
              <a:ext cx="360000" cy="144720"/>
              <a:chOff x="7000920" y="4286160"/>
              <a:chExt cx="360000" cy="144720"/>
            </a:xfrm>
          </p:grpSpPr>
          <p:sp>
            <p:nvSpPr>
              <p:cNvPr id="223" name="Прямая соединительная линия 23"/>
              <p:cNvSpPr/>
              <p:nvPr/>
            </p:nvSpPr>
            <p:spPr>
              <a:xfrm>
                <a:off x="7000920" y="4429440"/>
                <a:ext cx="360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Овал 24"/>
              <p:cNvSpPr/>
              <p:nvPr/>
            </p:nvSpPr>
            <p:spPr>
              <a:xfrm>
                <a:off x="7143480" y="4286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5" name="TextBox 21"/>
            <p:cNvSpPr/>
            <p:nvPr/>
          </p:nvSpPr>
          <p:spPr>
            <a:xfrm>
              <a:off x="6362280" y="4143240"/>
              <a:ext cx="5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TextBox 22"/>
            <p:cNvSpPr/>
            <p:nvPr/>
          </p:nvSpPr>
          <p:spPr>
            <a:xfrm>
              <a:off x="7434000" y="4143240"/>
              <a:ext cx="58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C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7" name="Группа 25"/>
          <p:cNvGrpSpPr/>
          <p:nvPr/>
        </p:nvGrpSpPr>
        <p:grpSpPr>
          <a:xfrm>
            <a:off x="4661640" y="5786280"/>
            <a:ext cx="1676880" cy="520560"/>
            <a:chOff x="4661640" y="5786280"/>
            <a:chExt cx="1676880" cy="520560"/>
          </a:xfrm>
        </p:grpSpPr>
        <p:grpSp>
          <p:nvGrpSpPr>
            <p:cNvPr id="228" name="Группа 16"/>
            <p:cNvGrpSpPr/>
            <p:nvPr/>
          </p:nvGrpSpPr>
          <p:grpSpPr>
            <a:xfrm>
              <a:off x="5314320" y="5929200"/>
              <a:ext cx="375840" cy="144720"/>
              <a:chOff x="5314320" y="5929200"/>
              <a:chExt cx="375840" cy="144720"/>
            </a:xfrm>
          </p:grpSpPr>
          <p:sp>
            <p:nvSpPr>
              <p:cNvPr id="229" name="Прямая соединительная линия 29"/>
              <p:cNvSpPr/>
              <p:nvPr/>
            </p:nvSpPr>
            <p:spPr>
              <a:xfrm>
                <a:off x="5314320" y="6072480"/>
                <a:ext cx="3758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Овал 30"/>
              <p:cNvSpPr/>
              <p:nvPr/>
            </p:nvSpPr>
            <p:spPr>
              <a:xfrm>
                <a:off x="5463360" y="5929200"/>
                <a:ext cx="37800" cy="36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1" name="TextBox 27"/>
            <p:cNvSpPr/>
            <p:nvPr/>
          </p:nvSpPr>
          <p:spPr>
            <a:xfrm>
              <a:off x="4661640" y="578628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A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TextBox 28"/>
            <p:cNvSpPr/>
            <p:nvPr/>
          </p:nvSpPr>
          <p:spPr>
            <a:xfrm>
              <a:off x="5778360" y="5786280"/>
              <a:ext cx="56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B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0" y="2133720"/>
            <a:ext cx="4033800" cy="42480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направленные луч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780000" y="1844280"/>
            <a:ext cx="5046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Два луча ОА иО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600" spc="-1" strike="noStrike">
                <a:solidFill>
                  <a:srgbClr val="333399"/>
                </a:solidFill>
                <a:latin typeface="Tahoma"/>
              </a:rPr>
              <a:t>не лежащие на одной прямой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 называются сонаправленными, если они параллельны и лежат в одной плоскости с границей ОО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Два луча ОА иО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ru-RU" sz="2600" spc="-1" strike="noStrike">
                <a:solidFill>
                  <a:srgbClr val="333399"/>
                </a:solidFill>
                <a:latin typeface="Tahoma"/>
              </a:rPr>
              <a:t>лежащие на одной прямой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 называются сонаправленными, если они совпадают или один из них содержит другой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орема об углах с сонаправленными сторона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381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тороны двух углов соответственно сонаправлены, то такие углы рав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4500720" y="2060640"/>
            <a:ext cx="4643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гол между скрещивающимися прямы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806436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Угол между прямыми – это градусная мера, а не геометрическая фигура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Угол между скрещивающимися прямыми АВ и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D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определяется как угол между пересекающимися прямыми 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АВ и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║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от выбора точки М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или М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величина угла </a:t>
            </a:r>
            <a:r>
              <a:rPr b="0" lang="el-GR" sz="2600" spc="-1" strike="noStrike">
                <a:solidFill>
                  <a:srgbClr val="000000"/>
                </a:solidFill>
                <a:latin typeface="Tahoma"/>
                <a:ea typeface="Tahoma"/>
              </a:rPr>
              <a:t>φ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 не зависит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81374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7500"/>
                            </p:stCondLst>
                            <p:childTnLst>
                              <p:par>
                                <p:cTn id="4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ьте на вопросы по чертежу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067280" y="1916280"/>
            <a:ext cx="4752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йдите угол между прямым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С и СС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АС и ВС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 ВС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и АС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32749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а № 4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48320" y="1719000"/>
            <a:ext cx="403848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ahoma"/>
              </a:rPr>
              <a:t>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ahoma"/>
              </a:rPr>
              <a:t>C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ahoma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)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ﮮ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ОВ=4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)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ﮮ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ОВ=13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)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ﮮ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ОВ=9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  <a:ea typeface="Tahoma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гол между ОА 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3816360" cy="4032360"/>
          </a:xfrm>
          <a:prstGeom prst="rect">
            <a:avLst/>
          </a:prstGeom>
          <a:ln w="0">
            <a:noFill/>
          </a:ln>
        </p:spPr>
      </p:pic>
      <p:grpSp>
        <p:nvGrpSpPr>
          <p:cNvPr id="248" name="Группа 6"/>
          <p:cNvGrpSpPr/>
          <p:nvPr/>
        </p:nvGrpSpPr>
        <p:grpSpPr>
          <a:xfrm>
            <a:off x="6291360" y="2214720"/>
            <a:ext cx="1772640" cy="642600"/>
            <a:chOff x="6291360" y="2214720"/>
            <a:chExt cx="1772640" cy="642600"/>
          </a:xfrm>
        </p:grpSpPr>
        <p:grpSp>
          <p:nvGrpSpPr>
            <p:cNvPr id="249" name="Группа 16"/>
            <p:cNvGrpSpPr/>
            <p:nvPr/>
          </p:nvGrpSpPr>
          <p:grpSpPr>
            <a:xfrm>
              <a:off x="6929640" y="2372400"/>
              <a:ext cx="360000" cy="159480"/>
              <a:chOff x="6929640" y="2372400"/>
              <a:chExt cx="360000" cy="159480"/>
            </a:xfrm>
          </p:grpSpPr>
          <p:sp>
            <p:nvSpPr>
              <p:cNvPr id="250" name="Прямая соединительная линия 10"/>
              <p:cNvSpPr/>
              <p:nvPr/>
            </p:nvSpPr>
            <p:spPr>
              <a:xfrm>
                <a:off x="6929640" y="2530440"/>
                <a:ext cx="360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Овал 11"/>
              <p:cNvSpPr/>
              <p:nvPr/>
            </p:nvSpPr>
            <p:spPr>
              <a:xfrm>
                <a:off x="7072200" y="2372400"/>
                <a:ext cx="36360" cy="392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2" name="TextBox 8"/>
            <p:cNvSpPr/>
            <p:nvPr/>
          </p:nvSpPr>
          <p:spPr>
            <a:xfrm>
              <a:off x="6291360" y="2214720"/>
              <a:ext cx="69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Calibri"/>
                </a:rPr>
                <a:t>AB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TextBox 9"/>
            <p:cNvSpPr/>
            <p:nvPr/>
          </p:nvSpPr>
          <p:spPr>
            <a:xfrm>
              <a:off x="7362000" y="2214720"/>
              <a:ext cx="70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Calibri"/>
                </a:rPr>
                <a:t>CD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.7-9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9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сположение 2-х прямых на плоск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686800" cy="14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секаются             параллельн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33"/>
              <p:cNvSpPr txBox="1"/>
              <p:nvPr/>
            </p:nvSpPr>
            <p:spPr>
              <a:xfrm>
                <a:off x="1042920" y="5229360"/>
                <a:ext cx="1360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Line 24"/>
          <p:cNvSpPr/>
          <p:nvPr/>
        </p:nvSpPr>
        <p:spPr>
          <a:xfrm>
            <a:off x="900000" y="2422440"/>
            <a:ext cx="1729080" cy="194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Line 25"/>
          <p:cNvSpPr/>
          <p:nvPr/>
        </p:nvSpPr>
        <p:spPr>
          <a:xfrm flipH="1">
            <a:off x="1116000" y="2349360"/>
            <a:ext cx="93672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Line 26"/>
          <p:cNvSpPr/>
          <p:nvPr/>
        </p:nvSpPr>
        <p:spPr>
          <a:xfrm>
            <a:off x="4140360" y="2494080"/>
            <a:ext cx="187308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Line 27"/>
          <p:cNvSpPr/>
          <p:nvPr/>
        </p:nvSpPr>
        <p:spPr>
          <a:xfrm>
            <a:off x="3708360" y="3286080"/>
            <a:ext cx="187344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686160" y="23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40"/>
          <p:cNvSpPr/>
          <p:nvPr/>
        </p:nvSpPr>
        <p:spPr>
          <a:xfrm>
            <a:off x="1979640" y="2349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41"/>
          <p:cNvSpPr/>
          <p:nvPr/>
        </p:nvSpPr>
        <p:spPr>
          <a:xfrm>
            <a:off x="4140360" y="222552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42"/>
          <p:cNvSpPr/>
          <p:nvPr/>
        </p:nvSpPr>
        <p:spPr>
          <a:xfrm>
            <a:off x="3616200" y="32860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ьте на вопросы по чертежу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95280" y="2060640"/>
            <a:ext cx="4969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вляются ли параллельными прямые АА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D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А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и почему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ово взаимное расположение прямых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7450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крещивающиеся прямы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221000"/>
            <a:ext cx="8686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185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скрещивающиеся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185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85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3300"/>
                </a:solidFill>
                <a:uFillTx/>
                <a:latin typeface="Tahoma"/>
              </a:rPr>
              <a:t>Определение</a:t>
            </a:r>
            <a:r>
              <a:rPr b="0" lang="ru-RU" sz="30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Tahoma"/>
              </a:rPr>
              <a:t>Две прямые называются скрещивающимися, если они не лежат в одной плоскости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(т.е. не существует плоскости, содержащей эти прямые)</a:t>
            </a:r>
            <a:r>
              <a:rPr b="0" lang="ru-RU" sz="3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527120" y="416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Line 22"/>
          <p:cNvSpPr/>
          <p:nvPr/>
        </p:nvSpPr>
        <p:spPr>
          <a:xfrm>
            <a:off x="2124000" y="227664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1692360" y="2852640"/>
            <a:ext cx="3097080" cy="1297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30"/>
              <p:cNvSpPr txBox="1"/>
              <p:nvPr/>
            </p:nvSpPr>
            <p:spPr>
              <a:xfrm>
                <a:off x="1835280" y="3860640"/>
                <a:ext cx="34128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Line 32"/>
          <p:cNvSpPr/>
          <p:nvPr/>
        </p:nvSpPr>
        <p:spPr>
          <a:xfrm flipV="1">
            <a:off x="2268360" y="2997000"/>
            <a:ext cx="230508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33"/>
          <p:cNvSpPr/>
          <p:nvPr/>
        </p:nvSpPr>
        <p:spPr>
          <a:xfrm>
            <a:off x="212616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34"/>
          <p:cNvSpPr/>
          <p:nvPr/>
        </p:nvSpPr>
        <p:spPr>
          <a:xfrm>
            <a:off x="4141800" y="3141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" name="Группа 24"/>
          <p:cNvGrpSpPr/>
          <p:nvPr/>
        </p:nvGrpSpPr>
        <p:grpSpPr>
          <a:xfrm>
            <a:off x="645480" y="4143240"/>
            <a:ext cx="1194840" cy="459720"/>
            <a:chOff x="645480" y="4143240"/>
            <a:chExt cx="1194840" cy="459720"/>
          </a:xfrm>
        </p:grpSpPr>
        <p:grpSp>
          <p:nvGrpSpPr>
            <p:cNvPr id="125" name="Группа 16"/>
            <p:cNvGrpSpPr/>
            <p:nvPr/>
          </p:nvGrpSpPr>
          <p:grpSpPr>
            <a:xfrm>
              <a:off x="1071360" y="4286160"/>
              <a:ext cx="359640" cy="144720"/>
              <a:chOff x="1071360" y="4286160"/>
              <a:chExt cx="359640" cy="144720"/>
            </a:xfrm>
          </p:grpSpPr>
          <p:sp>
            <p:nvSpPr>
              <p:cNvPr id="126" name="Прямая соединительная линия 13"/>
              <p:cNvSpPr/>
              <p:nvPr/>
            </p:nvSpPr>
            <p:spPr>
              <a:xfrm>
                <a:off x="1071360" y="4429440"/>
                <a:ext cx="3596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Овал 15"/>
              <p:cNvSpPr/>
              <p:nvPr/>
            </p:nvSpPr>
            <p:spPr>
              <a:xfrm>
                <a:off x="1213920" y="4286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8" name="TextBox 17"/>
            <p:cNvSpPr/>
            <p:nvPr/>
          </p:nvSpPr>
          <p:spPr>
            <a:xfrm>
              <a:off x="645480" y="414324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TextBox 18"/>
            <p:cNvSpPr/>
            <p:nvPr/>
          </p:nvSpPr>
          <p:spPr>
            <a:xfrm>
              <a:off x="1502640" y="414324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знак скрещивающихся прямы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03236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Если одна из двух прямых лежит в некоторой плоскости, а другая прямая пересекает эту плоскость в точке, не лежащей на первой прямой, эти прямые скрещивающиеся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136840" y="2017800"/>
            <a:ext cx="381780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Tahoma"/>
              </a:rPr>
              <a:t>Дано</a:t>
            </a: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Tahoma"/>
              </a:rPr>
              <a:t>Доказать</a:t>
            </a: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9"/>
              <p:cNvSpPr txBox="1"/>
              <p:nvPr/>
            </p:nvSpPr>
            <p:spPr>
              <a:xfrm>
                <a:off x="4500720" y="2509920"/>
                <a:ext cx="4392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⊂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∩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∉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Freeform 13"/>
          <p:cNvSpPr/>
          <p:nvPr/>
        </p:nvSpPr>
        <p:spPr>
          <a:xfrm>
            <a:off x="4067280" y="4365720"/>
            <a:ext cx="4752720" cy="215892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15"/>
          <p:cNvSpPr/>
          <p:nvPr/>
        </p:nvSpPr>
        <p:spPr>
          <a:xfrm flipV="1">
            <a:off x="6516720" y="4581360"/>
            <a:ext cx="165564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6"/>
              <p:cNvSpPr txBox="1"/>
              <p:nvPr/>
            </p:nvSpPr>
            <p:spPr>
              <a:xfrm>
                <a:off x="4356000" y="6165720"/>
                <a:ext cx="360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Oval 18"/>
          <p:cNvSpPr/>
          <p:nvPr/>
        </p:nvSpPr>
        <p:spPr>
          <a:xfrm>
            <a:off x="6877080" y="5877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Oval 22"/>
          <p:cNvSpPr/>
          <p:nvPr/>
        </p:nvSpPr>
        <p:spPr>
          <a:xfrm>
            <a:off x="7740720" y="4941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6948360" y="5877000"/>
            <a:ext cx="4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24"/>
          <p:cNvSpPr/>
          <p:nvPr/>
        </p:nvSpPr>
        <p:spPr>
          <a:xfrm flipH="1">
            <a:off x="7811280" y="5013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25"/>
          <p:cNvSpPr/>
          <p:nvPr/>
        </p:nvSpPr>
        <p:spPr>
          <a:xfrm>
            <a:off x="6084720" y="364500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Oval 26"/>
          <p:cNvSpPr/>
          <p:nvPr/>
        </p:nvSpPr>
        <p:spPr>
          <a:xfrm>
            <a:off x="6012000" y="515772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Oval 27"/>
          <p:cNvSpPr/>
          <p:nvPr/>
        </p:nvSpPr>
        <p:spPr>
          <a:xfrm>
            <a:off x="6012000" y="4076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Line 28"/>
          <p:cNvSpPr/>
          <p:nvPr/>
        </p:nvSpPr>
        <p:spPr>
          <a:xfrm>
            <a:off x="6084720" y="5229360"/>
            <a:ext cx="0" cy="143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6084720" y="3860640"/>
            <a:ext cx="4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31"/>
          <p:cNvSpPr/>
          <p:nvPr/>
        </p:nvSpPr>
        <p:spPr>
          <a:xfrm>
            <a:off x="6156360" y="5013360"/>
            <a:ext cx="4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Группа 20"/>
          <p:cNvGrpSpPr/>
          <p:nvPr/>
        </p:nvGrpSpPr>
        <p:grpSpPr>
          <a:xfrm>
            <a:off x="6719400" y="3000240"/>
            <a:ext cx="1656360" cy="520560"/>
            <a:chOff x="6719400" y="3000240"/>
            <a:chExt cx="1656360" cy="520560"/>
          </a:xfrm>
        </p:grpSpPr>
        <p:grpSp>
          <p:nvGrpSpPr>
            <p:cNvPr id="148" name="Группа 16"/>
            <p:cNvGrpSpPr/>
            <p:nvPr/>
          </p:nvGrpSpPr>
          <p:grpSpPr>
            <a:xfrm>
              <a:off x="7358040" y="3143160"/>
              <a:ext cx="360000" cy="144720"/>
              <a:chOff x="7358040" y="3143160"/>
              <a:chExt cx="360000" cy="144720"/>
            </a:xfrm>
          </p:grpSpPr>
          <p:sp>
            <p:nvSpPr>
              <p:cNvPr id="149" name="Прямая соединительная линия 24"/>
              <p:cNvSpPr/>
              <p:nvPr/>
            </p:nvSpPr>
            <p:spPr>
              <a:xfrm>
                <a:off x="7358040" y="3286440"/>
                <a:ext cx="360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Овал 25"/>
              <p:cNvSpPr/>
              <p:nvPr/>
            </p:nvSpPr>
            <p:spPr>
              <a:xfrm>
                <a:off x="7500600" y="3143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1" name="TextBox 22"/>
            <p:cNvSpPr/>
            <p:nvPr/>
          </p:nvSpPr>
          <p:spPr>
            <a:xfrm>
              <a:off x="6719400" y="3000240"/>
              <a:ext cx="5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TextBox 23"/>
            <p:cNvSpPr/>
            <p:nvPr/>
          </p:nvSpPr>
          <p:spPr>
            <a:xfrm>
              <a:off x="7791120" y="3000240"/>
              <a:ext cx="58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C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знак скрещивающихся прямы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844280"/>
            <a:ext cx="442764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Tahoma"/>
              </a:rPr>
              <a:t>Доказательство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D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АВ лежат в одной плоскости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. Тог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лоскости совпадают, но по условию пряма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пересекает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Следовательно, плоскости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не существует и прямые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скрещиваю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136840" y="2017800"/>
            <a:ext cx="381780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Tahoma"/>
              </a:rPr>
              <a:t>Дано</a:t>
            </a: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Tahoma"/>
              </a:rPr>
              <a:t>Доказать</a:t>
            </a: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5"/>
              <p:cNvSpPr txBox="1"/>
              <p:nvPr/>
            </p:nvSpPr>
            <p:spPr>
              <a:xfrm>
                <a:off x="4500720" y="2509920"/>
                <a:ext cx="4392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⊂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∩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∉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Freeform 6"/>
          <p:cNvSpPr/>
          <p:nvPr/>
        </p:nvSpPr>
        <p:spPr>
          <a:xfrm>
            <a:off x="4067280" y="4365720"/>
            <a:ext cx="4752720" cy="215892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Line 7"/>
          <p:cNvSpPr/>
          <p:nvPr/>
        </p:nvSpPr>
        <p:spPr>
          <a:xfrm flipV="1">
            <a:off x="6516720" y="4581360"/>
            <a:ext cx="165564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8"/>
              <p:cNvSpPr txBox="1"/>
              <p:nvPr/>
            </p:nvSpPr>
            <p:spPr>
              <a:xfrm>
                <a:off x="4356000" y="6165720"/>
                <a:ext cx="360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Oval 9"/>
          <p:cNvSpPr/>
          <p:nvPr/>
        </p:nvSpPr>
        <p:spPr>
          <a:xfrm>
            <a:off x="6877080" y="5877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7740720" y="4941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6948360" y="5877000"/>
            <a:ext cx="4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12"/>
          <p:cNvSpPr/>
          <p:nvPr/>
        </p:nvSpPr>
        <p:spPr>
          <a:xfrm flipH="1">
            <a:off x="8169120" y="5157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6084720" y="364500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Oval 14"/>
          <p:cNvSpPr/>
          <p:nvPr/>
        </p:nvSpPr>
        <p:spPr>
          <a:xfrm>
            <a:off x="6012000" y="515772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Oval 15"/>
          <p:cNvSpPr/>
          <p:nvPr/>
        </p:nvSpPr>
        <p:spPr>
          <a:xfrm>
            <a:off x="6012000" y="407664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16"/>
          <p:cNvSpPr/>
          <p:nvPr/>
        </p:nvSpPr>
        <p:spPr>
          <a:xfrm>
            <a:off x="6084720" y="5229360"/>
            <a:ext cx="0" cy="143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7812000" y="4941720"/>
            <a:ext cx="4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6084720" y="3860640"/>
            <a:ext cx="4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6156360" y="5013360"/>
            <a:ext cx="4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0"/>
              <p:cNvSpPr txBox="1"/>
              <p:nvPr/>
            </p:nvSpPr>
            <p:spPr>
              <a:xfrm>
                <a:off x="468360" y="3357720"/>
                <a:ext cx="33829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β</m:t>
                        </m:r>
                      </m:e>
                      <m:e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⊂</m:t>
                        </m:r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⊂</m:t>
                        </m:r>
                        <m:r>
                          <m:t xml:space="preserve">β</m:t>
                        </m:r>
                      </m:e>
                      <m:e/>
                    </m:eqArr>
                    <m:r>
                      <m:t xml:space="preserve"></m:t>
                    </m:r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≡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2" name="Группа 22"/>
          <p:cNvGrpSpPr/>
          <p:nvPr/>
        </p:nvGrpSpPr>
        <p:grpSpPr>
          <a:xfrm>
            <a:off x="6791040" y="3000240"/>
            <a:ext cx="1585080" cy="520560"/>
            <a:chOff x="6791040" y="3000240"/>
            <a:chExt cx="1585080" cy="520560"/>
          </a:xfrm>
        </p:grpSpPr>
        <p:grpSp>
          <p:nvGrpSpPr>
            <p:cNvPr id="173" name="Группа 16"/>
            <p:cNvGrpSpPr/>
            <p:nvPr/>
          </p:nvGrpSpPr>
          <p:grpSpPr>
            <a:xfrm>
              <a:off x="7358400" y="3143160"/>
              <a:ext cx="360000" cy="144720"/>
              <a:chOff x="7358400" y="3143160"/>
              <a:chExt cx="360000" cy="144720"/>
            </a:xfrm>
          </p:grpSpPr>
          <p:sp>
            <p:nvSpPr>
              <p:cNvPr id="174" name="Прямая соединительная линия 26"/>
              <p:cNvSpPr/>
              <p:nvPr/>
            </p:nvSpPr>
            <p:spPr>
              <a:xfrm>
                <a:off x="7358400" y="3286440"/>
                <a:ext cx="360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" name="Овал 27"/>
              <p:cNvSpPr/>
              <p:nvPr/>
            </p:nvSpPr>
            <p:spPr>
              <a:xfrm>
                <a:off x="7500960" y="3143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6" name="TextBox 24"/>
            <p:cNvSpPr/>
            <p:nvPr/>
          </p:nvSpPr>
          <p:spPr>
            <a:xfrm>
              <a:off x="6791040" y="3000240"/>
              <a:ext cx="5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TextBox 25"/>
            <p:cNvSpPr/>
            <p:nvPr/>
          </p:nvSpPr>
          <p:spPr>
            <a:xfrm>
              <a:off x="7791480" y="3000240"/>
              <a:ext cx="58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C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ьте на вопросы по чертежу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95280" y="2060640"/>
            <a:ext cx="4969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аково взаимное располож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ямых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ямой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и плоскост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ямой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плоскост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745080" cy="3649680"/>
          </a:xfrm>
          <a:prstGeom prst="rect">
            <a:avLst/>
          </a:prstGeom>
          <a:ln w="0">
            <a:noFill/>
          </a:ln>
        </p:spPr>
      </p:pic>
      <p:sp>
        <p:nvSpPr>
          <p:cNvPr id="181" name="Line 5"/>
          <p:cNvSpPr/>
          <p:nvPr/>
        </p:nvSpPr>
        <p:spPr>
          <a:xfrm flipH="1">
            <a:off x="899640" y="3068640"/>
            <a:ext cx="647640" cy="2665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Теорема о плоскостях, проходящих через скрещивающиеся прямы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3888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Через каждую  из двух скрещивающихся  прямых проходит плоскость, параллельная другой плоскости, и притом только одна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140360" y="2017800"/>
            <a:ext cx="4814640" cy="198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Tahoma"/>
              </a:rPr>
              <a:t>Дано</a:t>
            </a: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  <a:ea typeface="Arial"/>
              </a:rPr>
              <a:t>Построить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D║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3399"/>
                </a:solidFill>
                <a:latin typeface="Tahoma"/>
              </a:rPr>
              <a:t>Доказать</a:t>
            </a:r>
            <a:r>
              <a:rPr b="0" lang="ru-RU" sz="27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динствен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5"/>
              <p:cNvSpPr txBox="1"/>
              <p:nvPr/>
            </p:nvSpPr>
            <p:spPr>
              <a:xfrm>
                <a:off x="4211640" y="3068640"/>
                <a:ext cx="18003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⊂</m:t>
                    </m:r>
                    <m:r>
                      <m:t xml:space="preserve">α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7" name="Freeform 26"/>
          <p:cNvSpPr/>
          <p:nvPr/>
        </p:nvSpPr>
        <p:spPr>
          <a:xfrm>
            <a:off x="4859280" y="4149720"/>
            <a:ext cx="1657440" cy="2521080"/>
          </a:xfrm>
          <a:prstGeom prst="pie">
            <a:avLst/>
          </a:prstGeom>
          <a:solidFill>
            <a:srgbClr val="00e4a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 flipV="1">
            <a:off x="5003640" y="4941360"/>
            <a:ext cx="12970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7308720" y="414972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4835520" y="6251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33"/>
          <p:cNvSpPr/>
          <p:nvPr/>
        </p:nvSpPr>
        <p:spPr>
          <a:xfrm>
            <a:off x="7305840" y="4437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35"/>
          <p:cNvSpPr/>
          <p:nvPr/>
        </p:nvSpPr>
        <p:spPr>
          <a:xfrm>
            <a:off x="5932800" y="50133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36"/>
          <p:cNvSpPr/>
          <p:nvPr/>
        </p:nvSpPr>
        <p:spPr>
          <a:xfrm>
            <a:off x="7308720" y="57340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37"/>
          <p:cNvSpPr/>
          <p:nvPr/>
        </p:nvSpPr>
        <p:spPr>
          <a:xfrm>
            <a:off x="5123160" y="51688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39"/>
          <p:cNvSpPr/>
          <p:nvPr/>
        </p:nvSpPr>
        <p:spPr>
          <a:xfrm>
            <a:off x="5651640" y="4724280"/>
            <a:ext cx="0" cy="1511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" name="Группа 17"/>
          <p:cNvGrpSpPr/>
          <p:nvPr/>
        </p:nvGrpSpPr>
        <p:grpSpPr>
          <a:xfrm>
            <a:off x="5290560" y="2000160"/>
            <a:ext cx="1656360" cy="520560"/>
            <a:chOff x="5290560" y="2000160"/>
            <a:chExt cx="1656360" cy="520560"/>
          </a:xfrm>
        </p:grpSpPr>
        <p:grpSp>
          <p:nvGrpSpPr>
            <p:cNvPr id="197" name="Группа 16"/>
            <p:cNvGrpSpPr/>
            <p:nvPr/>
          </p:nvGrpSpPr>
          <p:grpSpPr>
            <a:xfrm>
              <a:off x="5929200" y="2143080"/>
              <a:ext cx="360000" cy="144720"/>
              <a:chOff x="5929200" y="2143080"/>
              <a:chExt cx="360000" cy="144720"/>
            </a:xfrm>
          </p:grpSpPr>
          <p:sp>
            <p:nvSpPr>
              <p:cNvPr id="198" name="Прямая соединительная линия 21"/>
              <p:cNvSpPr/>
              <p:nvPr/>
            </p:nvSpPr>
            <p:spPr>
              <a:xfrm>
                <a:off x="5929200" y="2286360"/>
                <a:ext cx="3600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Овал 22"/>
              <p:cNvSpPr/>
              <p:nvPr/>
            </p:nvSpPr>
            <p:spPr>
              <a:xfrm>
                <a:off x="6071760" y="214308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0" name="TextBox 19"/>
            <p:cNvSpPr/>
            <p:nvPr/>
          </p:nvSpPr>
          <p:spPr>
            <a:xfrm>
              <a:off x="5290560" y="2000160"/>
              <a:ext cx="5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TextBox 20"/>
            <p:cNvSpPr/>
            <p:nvPr/>
          </p:nvSpPr>
          <p:spPr>
            <a:xfrm>
              <a:off x="6362280" y="2000160"/>
              <a:ext cx="58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alibri"/>
                </a:rPr>
                <a:t>C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а №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Є(АВС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N=NB, DP=PC, K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Є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B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  <a:ea typeface="Tahoma"/>
              </a:rPr>
              <a:t>Определить взаимное расположение прямы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D ? A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K ?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N ? A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P ? A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 ? A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) MD ?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25" descr=""/>
          <p:cNvPicPr/>
          <p:nvPr/>
        </p:nvPicPr>
        <p:blipFill>
          <a:blip r:embed="rId1"/>
          <a:stretch/>
        </p:blipFill>
        <p:spPr>
          <a:xfrm>
            <a:off x="0" y="2039760"/>
            <a:ext cx="41403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4:08:29Z</dcterms:created>
  <dc:creator>Коблова</dc:creator>
  <dc:description/>
  <dc:language>en-US</dc:language>
  <cp:lastModifiedBy>Коблова</cp:lastModifiedBy>
  <dcterms:modified xsi:type="dcterms:W3CDTF">2011-12-26T05:19:27Z</dcterms:modified>
  <cp:revision>23</cp:revision>
  <dc:subject/>
  <dc:title>Параллельность прямых,  прямой и плоскости</dc:title>
</cp:coreProperties>
</file>