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AC50-9F40-4D8A-A351-6389C7843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D1A4-7048-4C8E-B4F0-F2027093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5E8-F0B8-40C5-B9E8-BA77C58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BA8-85E1-4B89-B08C-2F66DD1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9C0-64CF-4F70-947D-EF654B53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950-4413-45CD-9664-E0AB68E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FF5-A1DF-4804-B7AE-73F61076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E28-DD24-4C80-A7D0-0966CBF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094-8B62-454F-8609-34833C22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66A-2A8B-49E8-B77D-E421AF12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775-05CA-4366-8E1F-41E9F22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98F-02FE-4B17-850A-558B12B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1D9-3A36-437F-AD31-86E9542D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057-1F86-457F-96B1-7301B3B35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burevestnik.ru/?p=38" TargetMode="External"/><Relationship Id="rId3" Type="http://schemas.openxmlformats.org/officeDocument/2006/relationships/hyperlink" Target="http://fcburevestnik.ru/?p=38" TargetMode="External"/><Relationship Id="rId4" Type="http://schemas.openxmlformats.org/officeDocument/2006/relationships/hyperlink" Target="http://fcburevestnik.ru/?p=38" TargetMode="External"/><Relationship Id="rId5" Type="http://schemas.openxmlformats.org/officeDocument/2006/relationships/hyperlink" Target="http://fcburevestnik.ru/?p=38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, с места в 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3429000"/>
            <a:ext cx="6095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ихайлин Антон Геннад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АОУ СОШ №4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274680"/>
          <a:ext cx="8229600" cy="644832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35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вытянуты вперёд на уровне гру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мах правой ногой, стопой достать ле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мах левой ногой, стопой достать правую кисть ру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мах интенсивный, рук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исесть руки в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ед полны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57200" y="274680"/>
          <a:ext cx="8229600" cy="6616800"/>
        </p:xfrm>
        <a:graphic>
          <a:graphicData uri="http://schemas.openxmlformats.org/drawingml/2006/table">
            <a:tbl>
              <a:tblPr/>
              <a:tblGrid>
                <a:gridCol w="4876920"/>
                <a:gridCol w="1523880"/>
                <a:gridCol w="1828800"/>
              </a:tblGrid>
              <a:tr h="33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на пояс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огнуться назад руки  верх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наклониться вперёд руки вниз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исесть руки вперё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нуться сильне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 большие пальцы вперёд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 вращаем тазом вправ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8 вращаем тазом вле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, вращать только таз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274680"/>
          <a:ext cx="8229600" cy="5322960"/>
        </p:xfrm>
        <a:graphic>
          <a:graphicData uri="http://schemas.openxmlformats.org/drawingml/2006/table">
            <a:tbl>
              <a:tblPr/>
              <a:tblGrid>
                <a:gridCol w="4343400"/>
                <a:gridCol w="2209680"/>
                <a:gridCol w="1676520"/>
              </a:tblGrid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агой, руки на коле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мена положения но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на колено не опускать. Выпад глубоки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выпад правой ногой, руки на колен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 покачивание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разворот на 180* покачивание на левой ног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ть по команде учител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1905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74680"/>
          <a:ext cx="8229600" cy="628812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30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руки на поясе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ыпад правой ногой, руки на колено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выпад левой ногой, руки на колено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ус прям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сед на левой ноге правая прямая в сторон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перекатиться на правую ногу, левая прямая в сторону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ягивать мышцы б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2133720"/>
                <a:gridCol w="20574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рыжок ноги на ширине плеч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.п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. Прыжки из полного присед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рыгивание вверх и подтягивание коленей к груд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жки выполнять на передней части сто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 мягко, как можно вы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емление мяг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000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458200" cy="4836960"/>
        </p:xfrm>
        <a:graphic>
          <a:graphicData uri="http://schemas.openxmlformats.org/drawingml/2006/table">
            <a:tbl>
              <a:tblPr/>
              <a:tblGrid>
                <a:gridCol w="3681360"/>
                <a:gridCol w="1652760"/>
                <a:gridCol w="3124080"/>
              </a:tblGrid>
              <a:tr h="48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беговые упражн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ое бедр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хлёст голен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аге, прыжки с ноги на но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линг (шаг, прыжок в вер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коки (продвижение на передней части стопы вперёд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 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ждый шаг высоко поднимать колено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работают как при беге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г выполняется колено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выполнении помогаем ру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па к стопе и в верх с продвижением вперёд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495680"/>
                <a:gridCol w="1524240"/>
                <a:gridCol w="220968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м боком приставными шага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ен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.    20-30 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0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е выполняется бок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быстр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6324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ание гранаты с разбега на дальность; с места в ц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49816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274320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четырех бросковых ша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на технику с медленного разбега до контрольной отм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скручиванием туловища вправо, не опускать вниз кисть с мячом; ритм бросковых шагов задает учит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267080"/>
                <a:gridCol w="12193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бросковых шагов с разбега с акцентированием внимания на быстрое выполнение крестного шага («обгон снаряда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 крестным шагом левым боком впере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ично выносить правую ногу вперед, туловище и плечевой пояс отстают от движения ног и та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76201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038480"/>
                <a:gridCol w="1447920"/>
                <a:gridCol w="27432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 на дальность с полного разбег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ние гранаты с места в ц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ть внимание на скручивание туловища впра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5410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Развитие силы, быстроты, лов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одействовать развитию: внимания, памяти мышления в ходе двиг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оспитание у учащихся навыков сознательного и активного отношения к учебному процес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87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сить уровень физического развития и подготовленности учащихся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лючительная часть уро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457840" cy="4959360"/>
        </p:xfrm>
        <a:graphic>
          <a:graphicData uri="http://schemas.openxmlformats.org/drawingml/2006/table">
            <a:tbl>
              <a:tblPr/>
              <a:tblGrid>
                <a:gridCol w="4228920"/>
                <a:gridCol w="1488240"/>
                <a:gridCol w="2740680"/>
              </a:tblGrid>
              <a:tr h="49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жнения на восстановления дых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едение итогов уро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ее задание задавать индивидуально каждому учащемус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р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ки вверх – вдох, руки вниз – выдо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ть ошибки, отметить лучши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ить на вопросы учащихс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cburevestni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?p=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ьно бросать гара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rosatletika.ru/cont…Полусогнутая рука с гранатой- свободной двигается вперед-назад в т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lib.rushkolnik.ru/text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метания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voytrener.ru/foru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ги расставлены на ширину ст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o-nei.ru/effektivnye-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пражнение в... на вдохе правой ногой делаете резкий вы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msi.ru/doc/e2c21d25-df…Метание мяча на д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 урока:  практическое заня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проведения: словесный, наглядный, игр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сто проведения: спортивная площадка  школы № 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оведения: по распис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часов: 45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вентарь: свисток, секундомер,  мел, рул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готовительная част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-13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676520"/>
          <a:ext cx="8763120" cy="5079960"/>
        </p:xfrm>
        <a:graphic>
          <a:graphicData uri="http://schemas.openxmlformats.org/drawingml/2006/table">
            <a:tbl>
              <a:tblPr/>
              <a:tblGrid>
                <a:gridCol w="3589560"/>
                <a:gridCol w="2252520"/>
                <a:gridCol w="29210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р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, приветствие,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 задач урок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: на носках, на пятках, на внешней и внутренней сторонах стопы, в полу приседе, в полном присед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ленный бег по стадиону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ить стойку, наличие спортивной форм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ить за осанкой, спина прям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жать легко, свобод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1920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 (ОРУ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691160"/>
        </p:xfrm>
        <a:graphic>
          <a:graphicData uri="http://schemas.openxmlformats.org/drawingml/2006/table">
            <a:tbl>
              <a:tblPr/>
              <a:tblGrid>
                <a:gridCol w="4191120"/>
                <a:gridCol w="1295280"/>
                <a:gridCol w="2743200"/>
              </a:tblGrid>
              <a:tr h="22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, руки на поясе, разминаем мышцы шеи (наклоны, вращения головы)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литуда вращения полн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п. ноги на ширине плеч, руки перед груд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перед грудью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рывки прямыми руками в сторон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а прямая, локти не опуска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1676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74680"/>
          <a:ext cx="8229600" cy="6470640"/>
        </p:xfrm>
        <a:graphic>
          <a:graphicData uri="http://schemas.openxmlformats.org/drawingml/2006/table">
            <a:tbl>
              <a:tblPr/>
              <a:tblGrid>
                <a:gridCol w="3809880"/>
                <a:gridCol w="1676520"/>
                <a:gridCol w="2743200"/>
              </a:tblGrid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правая рука вверху, левая в низу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рывки руками назад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смена положения ру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к плечам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круговые вращения руками вперёд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круговые вращения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щения выполнять по полной амплитуд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 flipH="1">
            <a:off x="5866560" y="60804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ки прямые, рывки интенси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1628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74680"/>
          <a:ext cx="8229600" cy="5648400"/>
        </p:xfrm>
        <a:graphic>
          <a:graphicData uri="http://schemas.openxmlformats.org/drawingml/2006/table">
            <a:tbl>
              <a:tblPr/>
              <a:tblGrid>
                <a:gridCol w="4419720"/>
                <a:gridCol w="1981080"/>
                <a:gridCol w="1828800"/>
              </a:tblGrid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, руки опущены вдоль тулов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-4 вращение прямыми руками в перёд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-7-8 вращение руками наза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дарьте друг друга. Руки прям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ноги на ширине плеч руки на пояс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-3 наклон вперёд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и.п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ни не сгиб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952880" y="1143000"/>
            <a:ext cx="1905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9600" cy="6002280"/>
        </p:xfrm>
        <a:graphic>
          <a:graphicData uri="http://schemas.openxmlformats.org/drawingml/2006/table">
            <a:tbl>
              <a:tblPr/>
              <a:tblGrid>
                <a:gridCol w="5029200"/>
                <a:gridCol w="1143000"/>
                <a:gridCol w="205740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основная стойка ноги вместе наклоны вперёд.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на ширине плеч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ак можно шире, наклоны вперё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цами рук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донями дотянуться до п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тями дотянуться до пол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 широкая стойка ноги врозь,      на каждый счёт касание кистью правой руки левой стопы и наоборот. «Мельниц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ну согнуть в пояснице. Руки прямы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7:06:12Z</dcterms:created>
  <dc:creator>user</dc:creator>
  <dc:description/>
  <dc:language>en-US</dc:language>
  <cp:lastModifiedBy>user</cp:lastModifiedBy>
  <dcterms:modified xsi:type="dcterms:W3CDTF">2014-03-01T17:25:5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