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A0D9-823D-481B-8DC8-0846897C4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957-3FD2-4C9E-9F02-CA948C56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288-004A-41EC-AC61-A62B42EB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460-3C0A-4AB0-9228-E11DB169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FDD-48D6-452F-903C-4A78C502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37C-12BF-42F3-B421-064A33E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FA8-E29F-4443-B20B-23A7E030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45B-E7F3-4386-B221-B9165559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E24-817E-44A1-A7D0-513D6A9A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84C-B5BC-4064-A5DA-48CC499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DB8-048C-466C-B5B9-D114FF2A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EE8-4A46-4596-AA0C-A2AD5A8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06F-9632-4D70-BAFB-CEFA04E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5F2D-3BB1-4FCC-902E-3A3AF0A5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burevestnik.ru/?p=38" TargetMode="External"/><Relationship Id="rId3" Type="http://schemas.openxmlformats.org/officeDocument/2006/relationships/hyperlink" Target="http://fcburevestnik.ru/?p=38" TargetMode="External"/><Relationship Id="rId4" Type="http://schemas.openxmlformats.org/officeDocument/2006/relationships/hyperlink" Target="http://fcburevestnik.ru/?p=38" TargetMode="External"/><Relationship Id="rId5" Type="http://schemas.openxmlformats.org/officeDocument/2006/relationships/hyperlink" Target="http://fcburevestnik.ru/?p=38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, с места в 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4290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йлин Антон Геннад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ОУ СОШ №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644832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вытянуты вперёд на уровне гру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мах правой ногой, стопой достать ле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мах левой ногой, стопой достать пра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мах интенсивный, рук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сесть руки в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274680"/>
          <a:ext cx="8229600" cy="6616800"/>
        </p:xfrm>
        <a:graphic>
          <a:graphicData uri="http://schemas.openxmlformats.org/drawingml/2006/table">
            <a:tbl>
              <a:tblPr/>
              <a:tblGrid>
                <a:gridCol w="4876920"/>
                <a:gridCol w="1523880"/>
                <a:gridCol w="1828800"/>
              </a:tblGrid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на пояс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 руки  верх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 руки вниз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 руки вперё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 большие пальцы вперёд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322960"/>
        </p:xfrm>
        <a:graphic>
          <a:graphicData uri="http://schemas.openxmlformats.org/drawingml/2006/table">
            <a:tbl>
              <a:tblPr/>
              <a:tblGrid>
                <a:gridCol w="4343400"/>
                <a:gridCol w="2209680"/>
                <a:gridCol w="167652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агой, руки на коле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ена положения но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огой, руки на коле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разворот на 180* покачивание на левой ног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ть по команде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8812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сед на левой ноге правая прямая в стор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 ноги на ширине плеч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. Прыжки из полного присед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ыгивание вверх и подтягивание коленей к груд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00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58200" cy="4836960"/>
        </p:xfrm>
        <a:graphic>
          <a:graphicData uri="http://schemas.openxmlformats.org/drawingml/2006/table">
            <a:tbl>
              <a:tblPr/>
              <a:tblGrid>
                <a:gridCol w="3681360"/>
                <a:gridCol w="1652760"/>
                <a:gridCol w="3124080"/>
              </a:tblGrid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беговые упраж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бе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лёст гол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аге, прыжки с ноги на но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линг (шаг, прыжок в вер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коки (продвижение на передней части стопы вперё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работают как при беге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выполняется колено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полнении помогаем ру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па к стопе и в верх с продвижение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495680"/>
                <a:gridCol w="1524240"/>
                <a:gridCol w="220968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0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ется бо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6324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; с места в 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9816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27432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четырех бросковых ша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на технику с медленного разбега до контрольной отм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скручиванием туловища вправо, не опускать вниз кисть с мячом; ритм бросковых шагов задает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бросковых шагов с разбега с акцентированием внимания на быстрое выполнение крестного шага («обгон снаряда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крестным шагом левым боком впере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чно выносить правую ногу вперед, туловище и плечевой пояс отстают от движения ног и та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620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 на дальность с полного разбег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места в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 внимание на скручивание туловища впра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7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лючительная часть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457840" cy="4959360"/>
        </p:xfrm>
        <a:graphic>
          <a:graphicData uri="http://schemas.openxmlformats.org/drawingml/2006/table">
            <a:tbl>
              <a:tblPr/>
              <a:tblGrid>
                <a:gridCol w="4228920"/>
                <a:gridCol w="1488240"/>
                <a:gridCol w="274068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 на восстановления дых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 задавать индивидуально каждому учащему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ошибки, отметить лучши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на вопросы учащихс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cburevestni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p=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бросать гара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satletika.ru/cont…Полусогнутая рука с гранатой- свободной двигается вперед-назад в т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ib.rushkolnik.ru/text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метания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voytrener.ru/foru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и расставлены на ширину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-nei.ru/effektivnye-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ажнение в... на вдохе правой ногой делаете резкий вы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msi.ru/doc/e2c21d25-df…Метание мяча на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урока:  практическое за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ведения: словесный, наглядны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проведения: спортивная площадка  школы №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оведения: по рас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, 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готовительная час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3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763120" cy="5079960"/>
        </p:xfrm>
        <a:graphic>
          <a:graphicData uri="http://schemas.openxmlformats.org/drawingml/2006/table">
            <a:tbl>
              <a:tblPr/>
              <a:tblGrid>
                <a:gridCol w="3589560"/>
                <a:gridCol w="2252520"/>
                <a:gridCol w="29210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 приветствие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задач урок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: на носках, на пятках, на внешней и внутренней сторонах стопы, в полу приседе, в полном присед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спортивной фор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осанкой, спина прям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92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 (ОР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4191120"/>
                <a:gridCol w="1295280"/>
                <a:gridCol w="2743200"/>
              </a:tblGrid>
              <a:tr h="22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, разминаем мышцы шеи (наклоны, вращения головы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 вращения полн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п. ноги на ширине плеч, руки перед груд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перед грудью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ывки прямыми руками в сторо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локт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1676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600" cy="6470640"/>
        </p:xfrm>
        <a:graphic>
          <a:graphicData uri="http://schemas.openxmlformats.org/drawingml/2006/table">
            <a:tbl>
              <a:tblPr/>
              <a:tblGrid>
                <a:gridCol w="3809880"/>
                <a:gridCol w="1676520"/>
                <a:gridCol w="2743200"/>
              </a:tblGrid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правая рука вверху, левая в низ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наза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смена положения ру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к плечам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круговые вращения руками вперёд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круговые вращения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ения выполнять по полной амплиту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5866560" y="60804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и прямые, рывки интенс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5648400"/>
        </p:xfrm>
        <a:graphic>
          <a:graphicData uri="http://schemas.openxmlformats.org/drawingml/2006/table">
            <a:tbl>
              <a:tblPr/>
              <a:tblGrid>
                <a:gridCol w="4419720"/>
                <a:gridCol w="1981080"/>
                <a:gridCol w="182880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опущены вдоль тулов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вращение прямыми руками в 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вращение руками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дарьте друг друга. Руки прям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 наклон вперёд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ни не сгиб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600" cy="60022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205740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ноги вместе наклоны вперёд.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на ширине плеч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ак можно шире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ами рук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нями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тями дотянуться до пол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широкая стойка ноги врозь,      на каждый счёт касание кистью правой руки левой стопы и наоборот. «Мельни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у согнуть в пояснице. Руки прям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06:12Z</dcterms:created>
  <dc:creator>user</dc:creator>
  <dc:description/>
  <dc:language>en-US</dc:language>
  <cp:lastModifiedBy>user</cp:lastModifiedBy>
  <dcterms:modified xsi:type="dcterms:W3CDTF">2014-03-01T17:25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