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629E-1472-4A70-B87A-8E25AC6B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4576-87AE-42BB-98F7-AF414731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DE4-62F8-4ED9-AF4A-970F32ED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BA9-564F-4A2C-9D50-4E8E7D69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08AA-BA34-4378-BFE5-42217B70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FCD7-A700-44CB-AF7A-BF105CBC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90D-1085-409C-ADC4-0CF27E31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73AA-E66C-477C-A65A-6531E8DF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DBAC-9FEE-40DB-972B-81209A93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18AB-411E-49FD-9323-5AFDE78B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9A6-4F37-4C30-80BE-B8DC4B05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5A57-3761-4C89-BBDA-CEAA6A63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4A4A-1492-4770-ABF6-94CDF9C193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43040" y="357120"/>
            <a:ext cx="5929200" cy="2000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Смежные углы </a:t>
            </a:r>
            <a:br>
              <a:rPr sz="4400"/>
            </a:b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и </a:t>
            </a:r>
            <a:br>
              <a:rPr sz="4400"/>
            </a:b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вертикальные уг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2500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колько углов изображено на рисунке? Какие это углы? Существует ли взаимосвязь между этими углам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ая соединительная линия 4"/>
          <p:cNvSpPr/>
          <p:nvPr/>
        </p:nvSpPr>
        <p:spPr>
          <a:xfrm>
            <a:off x="857160" y="5643720"/>
            <a:ext cx="7215120" cy="14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6"/>
          <p:cNvSpPr/>
          <p:nvPr/>
        </p:nvSpPr>
        <p:spPr>
          <a:xfrm flipV="1">
            <a:off x="3785400" y="2999880"/>
            <a:ext cx="2357640" cy="26434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642960" y="47862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6215040" y="264312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7929720" y="47149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3571920" y="57862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2143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ля всякой ли пары смежных углов выполняется равенство: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АОС+</a:t>
            </a:r>
            <a:r>
              <a:rPr b="0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ВОС=180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4"/>
          <p:cNvSpPr/>
          <p:nvPr/>
        </p:nvSpPr>
        <p:spPr>
          <a:xfrm>
            <a:off x="857160" y="5643720"/>
            <a:ext cx="7215120" cy="14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6"/>
          <p:cNvSpPr/>
          <p:nvPr/>
        </p:nvSpPr>
        <p:spPr>
          <a:xfrm flipV="1">
            <a:off x="3785400" y="2999880"/>
            <a:ext cx="2357640" cy="26434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642960" y="47862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6215040" y="264312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7929720" y="47149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3571920" y="57862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803600" y="874800"/>
            <a:ext cx="5608080" cy="893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войство смежных углов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1428840" y="3571920"/>
            <a:ext cx="6643440" cy="1068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мма смежных углов равн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80 град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5960" y="274320"/>
            <a:ext cx="59292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ртикальные уг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4"/>
          <p:cNvSpPr/>
          <p:nvPr/>
        </p:nvSpPr>
        <p:spPr>
          <a:xfrm>
            <a:off x="1143000" y="1571760"/>
            <a:ext cx="6357960" cy="35002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5"/>
          <p:cNvSpPr/>
          <p:nvPr/>
        </p:nvSpPr>
        <p:spPr>
          <a:xfrm flipV="1">
            <a:off x="1143000" y="3357360"/>
            <a:ext cx="6858000" cy="2854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928800" y="38577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4071960" y="37861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7715160" y="250020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7715160" y="50007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428760" y="7142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Дуга 12"/>
          <p:cNvSpPr/>
          <p:nvPr/>
        </p:nvSpPr>
        <p:spPr>
          <a:xfrm rot="14265600">
            <a:off x="3275640" y="2893320"/>
            <a:ext cx="857160" cy="7855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Дуга 13"/>
          <p:cNvSpPr/>
          <p:nvPr/>
        </p:nvSpPr>
        <p:spPr>
          <a:xfrm rot="3129000">
            <a:off x="5074200" y="3329640"/>
            <a:ext cx="857160" cy="78588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ртикальные углы рав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ая соединительная линия 4"/>
          <p:cNvSpPr/>
          <p:nvPr/>
        </p:nvSpPr>
        <p:spPr>
          <a:xfrm>
            <a:off x="1143000" y="1571760"/>
            <a:ext cx="6357960" cy="35002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5"/>
          <p:cNvSpPr/>
          <p:nvPr/>
        </p:nvSpPr>
        <p:spPr>
          <a:xfrm flipV="1">
            <a:off x="1143000" y="3357360"/>
            <a:ext cx="6858000" cy="2854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928800" y="38577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4071960" y="37861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7715160" y="250020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7715160" y="500076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428760" y="7142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Дуга 12"/>
          <p:cNvSpPr/>
          <p:nvPr/>
        </p:nvSpPr>
        <p:spPr>
          <a:xfrm rot="14265600">
            <a:off x="3275640" y="2893320"/>
            <a:ext cx="857160" cy="7855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Дуга 13"/>
          <p:cNvSpPr/>
          <p:nvPr/>
        </p:nvSpPr>
        <p:spPr>
          <a:xfrm rot="3129000">
            <a:off x="5074200" y="3329640"/>
            <a:ext cx="857160" cy="78588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Дуга 14"/>
          <p:cNvSpPr/>
          <p:nvPr/>
        </p:nvSpPr>
        <p:spPr>
          <a:xfrm rot="20479200">
            <a:off x="4246200" y="2973240"/>
            <a:ext cx="857160" cy="785880"/>
          </a:xfrm>
          <a:prstGeom prst="pi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Дуга 15"/>
          <p:cNvSpPr/>
          <p:nvPr/>
        </p:nvSpPr>
        <p:spPr>
          <a:xfrm rot="9499200">
            <a:off x="4257000" y="3201480"/>
            <a:ext cx="857160" cy="785880"/>
          </a:xfrm>
          <a:prstGeom prst="pi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2-08T20:33:29Z</dcterms:modified>
  <cp:revision>10</cp:revision>
  <dc:subject/>
  <dc:title>Смежные углы и вертикальные углы</dc:title>
</cp:coreProperties>
</file>