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9C3-8AAF-4F57-B09C-D244EF01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C60-6612-4256-BA02-DE701CA2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740-4DA8-4D2E-87C6-31C200EC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84B-3D20-48EF-9062-5801E493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D08-554D-4C32-A9B5-87874614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230-5503-419E-87D1-955174B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461-A2BC-44F3-B866-D2C4F4E2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DE7-7034-473B-93B0-7395FC88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879-1B82-4E37-A277-BA321CF3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A43-5E29-4CF7-94E2-86CD43D0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B44-FE88-40CC-8907-77D119D5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94E-4DC7-4A99-9C48-8520F15B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3EEC-AA55-4600-94FC-91CB367DE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5929200" cy="2000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Смежные углы </a:t>
            </a:r>
            <a:br>
              <a:rPr sz="4400"/>
            </a:b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2500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лько углов изображено на рисунке? Какие это углы? Существует ли взаимосвязь между этими угл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4"/>
          <p:cNvSpPr/>
          <p:nvPr/>
        </p:nvSpPr>
        <p:spPr>
          <a:xfrm>
            <a:off x="857160" y="5643720"/>
            <a:ext cx="721512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 flipV="1">
            <a:off x="3785400" y="2999880"/>
            <a:ext cx="2357640" cy="2643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42960" y="47862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6215040" y="26431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7929720" y="4714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3571920" y="5786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214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всякой ли пары смежных углов выполняется равенство: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ОС+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ВОС=180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857160" y="5643720"/>
            <a:ext cx="721512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 flipV="1">
            <a:off x="3785400" y="2999880"/>
            <a:ext cx="2357640" cy="2643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42960" y="47862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6215040" y="26431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7929720" y="4714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571920" y="5786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803600" y="874800"/>
            <a:ext cx="5608080" cy="89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ойство смежных углов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428840" y="3571920"/>
            <a:ext cx="664344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а смежных углов равн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80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59292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4"/>
          <p:cNvSpPr/>
          <p:nvPr/>
        </p:nvSpPr>
        <p:spPr>
          <a:xfrm>
            <a:off x="1143000" y="1571760"/>
            <a:ext cx="6357960" cy="35002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 flipV="1">
            <a:off x="1143000" y="3357360"/>
            <a:ext cx="6858000" cy="285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928800" y="3857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071960" y="3786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7715160" y="2500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7715160" y="5000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28760" y="714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Дуга 12"/>
          <p:cNvSpPr/>
          <p:nvPr/>
        </p:nvSpPr>
        <p:spPr>
          <a:xfrm rot="14265600">
            <a:off x="3275640" y="2893320"/>
            <a:ext cx="857160" cy="785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Дуга 13"/>
          <p:cNvSpPr/>
          <p:nvPr/>
        </p:nvSpPr>
        <p:spPr>
          <a:xfrm rot="3129000">
            <a:off x="5074200" y="332964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икальные углы рав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4"/>
          <p:cNvSpPr/>
          <p:nvPr/>
        </p:nvSpPr>
        <p:spPr>
          <a:xfrm>
            <a:off x="1143000" y="1571760"/>
            <a:ext cx="6357960" cy="35002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 flipV="1">
            <a:off x="1143000" y="3357360"/>
            <a:ext cx="6858000" cy="285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928800" y="3857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071960" y="3786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715160" y="2500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7715160" y="5000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428760" y="714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уга 12"/>
          <p:cNvSpPr/>
          <p:nvPr/>
        </p:nvSpPr>
        <p:spPr>
          <a:xfrm rot="14265600">
            <a:off x="3275640" y="2893320"/>
            <a:ext cx="857160" cy="785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13"/>
          <p:cNvSpPr/>
          <p:nvPr/>
        </p:nvSpPr>
        <p:spPr>
          <a:xfrm rot="3129000">
            <a:off x="5074200" y="332964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14"/>
          <p:cNvSpPr/>
          <p:nvPr/>
        </p:nvSpPr>
        <p:spPr>
          <a:xfrm rot="20479200">
            <a:off x="4246200" y="2973240"/>
            <a:ext cx="857160" cy="78588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15"/>
          <p:cNvSpPr/>
          <p:nvPr/>
        </p:nvSpPr>
        <p:spPr>
          <a:xfrm rot="9499200">
            <a:off x="4257000" y="3201480"/>
            <a:ext cx="857160" cy="78588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2-08T20:33:29Z</dcterms:modified>
  <cp:revision>10</cp:revision>
  <dc:subject/>
  <dc:title>Смежные углы и вертикальные углы</dc:title>
</cp:coreProperties>
</file>